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262-42DB-4915-A987-365B94D7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B19-BC56-424D-83E5-2859B0CC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CBD-6075-455D-84C8-A876D071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021-609C-48EA-8597-D9803949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5880-E59D-4924-8E69-15A11CE6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5BBD-76FA-4BFF-A0EC-755D5F78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962E-C1A2-4224-8121-AD22BE6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8F8D-43C2-457F-98EE-C2EFBFF0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A000-29B7-4561-B758-212A121E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44B7-AB96-48DD-A1C2-9C95D644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92D1-CC4F-425F-847D-8A2ED71C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CDA-563F-4D4E-9611-02B2D7D7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473-C27E-40F9-B0DD-BDAA5A99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5870-B020-44C5-9E0E-FDD8C72B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F022-B381-4ED8-AFC0-F6E7A317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7563-456B-45C9-BD53-9B2DF736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857B-9E45-4035-BFC7-1BD518FB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BF2-4D6D-4150-A05C-0DF0DFC1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49C-FB12-4EE8-858B-3355D5CF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375-8DC2-4AAA-B0A2-2DD0CD89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832-9C07-45A1-8144-6CA87251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398-64B1-43CD-8906-4E1FBE0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4F3-AD55-4855-9587-20B4072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2FE-E7AC-4B4C-9BB1-48871DD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4B64-14E4-4A4D-912A-115B3B7AAB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91F2-D060-4D20-A7B5-EBD04C9AB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ctober 2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PS did not meet in Septemb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– Sept. 2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 rescheduled for Oct.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WG / SDAWG Joint meeting Sept.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ce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poned reports and updates on Nodal, awaiting the Nodal Calendar Update and a new timeline for EDS4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WG – Sept.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mmended LPGRR031 – “Profile Decision Tree Changes for Distributed Renewable Generation” for COPS consi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Advanced Metering Draft LPGRR – Interim Solution 15 minute Settle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PS Oct. 1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eeting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and consider a Load Profile Guide revision to “Decision Tree Changes for Distributed Generation” – LPGRR0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Participant Survey – TAC assigned performance 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pute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rmat of Settlement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ata Extracts &amp;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assessment of EILS Contract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starr</cp:lastModifiedBy>
  <dcterms:modified xsi:type="dcterms:W3CDTF">2008-09-22T18:58:38Z</dcterms:modified>
  <cp:revision>30</cp:revision>
  <dc:subject/>
  <dc:title>Slide 1</dc:title>
</cp:coreProperties>
</file>