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AB85C58-CAD2-4374-A1EF-503E191C3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85840" y="698400"/>
            <a:ext cx="4656240" cy="3492720"/>
          </a:xfrm>
          <a:prstGeom prst="rect">
            <a:avLst/>
          </a:prstGeom>
          <a:ln w="0">
            <a:noFill/>
          </a:ln>
        </p:spPr>
      </p:sp>
      <p:sp>
        <p:nvSpPr>
          <p:cNvPr id="10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heard reports from the </a:t>
            </a:r>
            <a:r>
              <a:rPr b="0" lang="en-US" sz="1200" spc="-1" strike="noStrike">
                <a:solidFill>
                  <a:srgbClr val="000000"/>
                </a:solidFill>
                <a:latin typeface="Arial"/>
              </a:rPr>
              <a:t>Verifiable Cost Working Group and the Congestion Management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ere supposed to hear a report from the DSWG, but financial and tropical storms came together and prevented the Chair from showing up.</a:t>
            </a:r>
            <a:endParaRPr b="0" lang="en-US" sz="1200" spc="-1" strike="noStrike">
              <a:solidFill>
                <a:srgbClr val="000000"/>
              </a:solidFill>
              <a:latin typeface="Arial"/>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postponed a discussion of the Credit Working group due to extra activity generated by Ike and will take that up next month.</a:t>
            </a:r>
            <a:endParaRPr b="0" lang="en-US" sz="700" spc="-1" strike="noStrike">
              <a:solidFill>
                <a:srgbClr val="000000"/>
              </a:solidFill>
              <a:latin typeface="Arial"/>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heard a brief discussion from the Credit Policy work group.</a:t>
            </a:r>
            <a:endParaRPr b="0" lang="en-US" sz="7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5840" y="698400"/>
            <a:ext cx="4656240" cy="3492720"/>
          </a:xfrm>
          <a:prstGeom prst="rect">
            <a:avLst/>
          </a:prstGeom>
          <a:ln w="0">
            <a:noFill/>
          </a:ln>
        </p:spPr>
      </p:sp>
      <p:sp>
        <p:nvSpPr>
          <p:cNvPr id="111"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NPRR145 – sent to PRS – LS Power comments – remanded to VCTF(should have been WMS) – they commented so WMS endorsed) – did not cover all LS Power comments, but did resolve the single biggest by making it clear that there was a path for VC through the operating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MS endor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c for wind set to zero – reformed so that “unnamed” resources are zero rather than lumping “renewables” with any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endors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5840" y="698400"/>
            <a:ext cx="4656240" cy="3492720"/>
          </a:xfrm>
          <a:prstGeom prst="rect">
            <a:avLst/>
          </a:prstGeom>
          <a:ln w="0">
            <a:noFill/>
          </a:ln>
        </p:spPr>
      </p:sp>
      <p:sp>
        <p:nvSpPr>
          <p:cNvPr id="113"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WG will bring back the study capability issue.  LaaR study is late, LVRT is being challeng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gner – need specific direction, reach limit without more technical specifics of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our market revolves around load flow analysis, we are seeing stability issues become market drivers, do we need to expand ERCOT capability to know understand and analyze these things – currently convert to flows to understand and manage a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za – from a VS point, have online tools eval that situation today, VSAT Tool, up and running.  Have designs for additional online tool – TSAT – harder to get up and operational, both tools that transfer into the nodal world. PJM in process of implementing online TSAT tool, 3 year project, limited number of resources in the world.  Until all of us in the industry figure out the real-time, left with offline studies to apply to real tim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za – part of our process, offline studies need to be updated periodically, expect not seen as timely by many in this room, but has to fit into work f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the physical world is changing faster than these studies, forces ERCOT to operate conserva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za – the current stability study evaluates the system under 500 different scenarios, what it doesn’t do is up date major changes to topology, so make conservative assumption.  More study does not necessarily mean higher limit.  Input from WMS to TAC would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is working with staff and MPs to do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will include in message to TAC that Transient analysis is very difficult and is becoming a controlling factor, standby with budgets as we need to figure this out, we are building wires faster than we can do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o come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age Coord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al Shadow Price C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ve Constrain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Cs &amp; CR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5840" y="698400"/>
            <a:ext cx="4656240" cy="3492720"/>
          </a:xfrm>
          <a:prstGeom prst="rect">
            <a:avLst/>
          </a:prstGeom>
          <a:ln w="0">
            <a:noFill/>
          </a:ln>
        </p:spPr>
      </p:sp>
      <p:sp>
        <p:nvSpPr>
          <p:cNvPr id="115"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R Credit Policy TF</a:t>
            </a:r>
            <a:r>
              <a:rPr b="0" lang="en-US" sz="1200" spc="-1" strike="noStrike">
                <a:solidFill>
                  <a:srgbClr val="000000"/>
                </a:solidFill>
                <a:latin typeface="Arial"/>
              </a:rPr>
              <a:t>Greer – request to defer to next month, Sadao cannot be here today and he has an excellent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r did present on CRR Obligation Margin 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TPTF is looking at this and is ok-ing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r – but will not comment on values, which is policy issue, and under WMS pu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r – would like to hold off selecting value of “x” for another mon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ubert – would you consider higher numbers tha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r – volatility should be taken into account, may have less volatile market than NY, worth looking at Sadeo’s presentation next month.  Our SPC is based on our offer c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r presented proposal, but requested that vote be delayed for one month.Brittney send Sadeo’s presentation to Credit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this will come back next month with explanation of x and y and a and t; TPTF is properly sending the value designation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Discussion on Revisions to CRR Margin MechanicsNPRR140, Revision to CRR Obligation Margin Adder (Possible Vote)No vote was tak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5840" y="698400"/>
            <a:ext cx="4656240" cy="3492720"/>
          </a:xfrm>
          <a:prstGeom prst="rect">
            <a:avLst/>
          </a:prstGeom>
          <a:ln w="0">
            <a:noFill/>
          </a:ln>
        </p:spPr>
      </p:sp>
      <p:sp>
        <p:nvSpPr>
          <p:cNvPr id="11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had a very lengthy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tion was give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 Only Metrics – issue assigned to QM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new A/S levels and who should pay for them -  issue assigned to QM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cy – See mo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5840" y="698400"/>
            <a:ext cx="4656240" cy="3492720"/>
          </a:xfrm>
          <a:prstGeom prst="rect">
            <a:avLst/>
          </a:prstGeom>
          <a:ln w="0">
            <a:noFill/>
          </a:ln>
        </p:spPr>
      </p:sp>
      <p:sp>
        <p:nvSpPr>
          <p:cNvPr id="11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otion carried with one objection and one abstention each from the IPM Market Segmen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5840" y="698400"/>
            <a:ext cx="4656240" cy="3492720"/>
          </a:xfrm>
          <a:prstGeom prst="rect">
            <a:avLst/>
          </a:prstGeom>
          <a:ln w="0">
            <a:noFill/>
          </a:ln>
        </p:spPr>
      </p:sp>
      <p:sp>
        <p:nvSpPr>
          <p:cNvPr id="121"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scussed the objective and will commit 30 minutes at our next meeting to reviewing th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522E8-DEC8-4E34-8F19-40A984813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70EC8-6C02-4D5A-8F57-9558F54F3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D1591-FB3F-4ECD-BB2D-044B4D9EC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7F720-4A06-45CF-B91A-F82A98C34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EBA666-0F8E-4A18-980B-D8F1F81638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D432B-6874-478F-8A47-E10C56813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DAB71-0EF8-4D28-91A1-F0AEDF286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85D46-4149-4846-8B6C-D449FF44B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9F61D-C4A5-417D-BD1F-4083D0F85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985D9-F820-46EA-9777-50C31E16D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DCC94-9030-4181-A46F-375524FAB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C793A-DCA2-4A17-B812-790300C10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3E3E8-C8E8-4216-8E0F-AFF0E5089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4469F-A3C6-4A86-BD63-128AD01A2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A36F3-3259-4D44-9F23-53F290460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5D244-F492-4F40-80A7-54A9946AC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B62C0-BE9B-4853-B148-C1790A76A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B12DD-6D94-40A4-B986-AB1D67864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ADB77-634D-4F6C-886F-DA8507F50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7A98E-4440-4EE1-9F8D-38E9D7E46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10707-06D7-4E69-8CB1-556054ECF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6A58E-1286-4DC0-8701-0CF9DA983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3F2D0-AFAA-4503-9F79-1861B62E5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887D8-C90F-435B-A75B-B32C62744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2EB8-8E30-47F1-9118-55D8D273ED5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CE20-01CC-4B48-85D2-B84BD8F0FF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ctober 2008</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2CD1C72F-591A-4CDB-A22D-54C70B42CD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E9B1705F-5DEB-491A-91CD-4F03F5E65F91}"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Task Force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Staff repor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2CD5BB10-D966-4644-BC39-D16AFEDC77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Request</a:t>
            </a: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akeholders asked to be involved in the Nodal CBA process and would like to participate in scope setting and results analysis</a:t>
            </a:r>
            <a:r>
              <a:rPr b="0" lang="en-US" sz="3200" spc="-1" strike="noStrike">
                <a:solidFill>
                  <a:srgbClr val="ffffff"/>
                </a:solidFill>
                <a:latin typeface="Tahoma"/>
              </a:rPr>
              <a:t>.</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39BA775-A8AC-4892-990C-004F08876F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VCWG</a:t>
            </a:r>
            <a:endParaRPr b="0" lang="en-US" sz="4000" spc="-1" strike="noStrike">
              <a:solidFill>
                <a:srgbClr val="e5ffff"/>
              </a:solidFill>
              <a:latin typeface="Tahoma"/>
            </a:endParaRPr>
          </a:p>
        </p:txBody>
      </p:sp>
      <p:sp>
        <p:nvSpPr>
          <p:cNvPr id="96"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ission cost to be monthly average of the Houston/Galveston CP</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P discussion to be elevate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PRR145 (PPAs as Verifiable Cos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eneric VC for wind set to zero</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729B1FCD-DDD2-4BD5-9763-8887E26170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CMWG</a:t>
            </a:r>
            <a:endParaRPr b="0" lang="en-US" sz="4000" spc="-1" strike="noStrike">
              <a:solidFill>
                <a:srgbClr val="e5ffff"/>
              </a:solidFill>
              <a:latin typeface="Tahoma"/>
            </a:endParaRPr>
          </a:p>
        </p:txBody>
      </p:sp>
      <p:sp>
        <p:nvSpPr>
          <p:cNvPr id="98"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P support in producing PTDF</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ind as a boundary generator</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RCOT’s voltage/stability analysis capability (more is needed)</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utage Coordina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dal Shadow Price Cap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etitive Constraint Tes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SCs &amp; CR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0F7468C-B476-4802-BFA8-171FDBADAE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CRR Credit Policy</a:t>
            </a:r>
            <a:endParaRPr b="0" lang="en-US" sz="4000" spc="-1" strike="noStrike">
              <a:solidFill>
                <a:srgbClr val="e5ffff"/>
              </a:solidFill>
              <a:latin typeface="Tahoma"/>
            </a:endParaRPr>
          </a:p>
        </p:txBody>
      </p:sp>
      <p:sp>
        <p:nvSpPr>
          <p:cNvPr id="100"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RR Obligation Margin/Add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echanics approved by TPTF</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MS to set values (possibly October)</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707A46C-60AF-4A43-B4C5-0A1C5A7555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RCOT Staff Reports</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RCOT Methodologies for Determining Ancillary Service Requiremen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iscussion on Metric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iscussion on Cost Alloc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iscussion on Efficienc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2416AFA3-3CCF-467D-B59C-C6A4C134D7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762120" y="228600"/>
            <a:ext cx="7848360" cy="62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WMS agrees the 2008-2009 Ancillary Services Procurement Methodology document as amended by ROS meets ERCOT’s system reliability needs.  WMS expresses concern that this methodology may have unintended market consequences including:</a:t>
            </a:r>
            <a:endParaRPr b="0" lang="en-US" sz="22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Inefficient procurement of Ancillary Services</a:t>
            </a:r>
            <a:endParaRPr b="0" lang="en-US" sz="22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Inefficient system dispatch</a:t>
            </a:r>
            <a:endParaRPr b="0" lang="en-US" sz="22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ack of market transparency in Ancillary Services procurement decision</a:t>
            </a:r>
            <a:endParaRPr b="0" lang="en-US" sz="22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ack of effective opportunity for market solutions to system reliability need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WMS commits to explore these issues in greater depth in coming months and issue a recommendation to TAC.</a:t>
            </a:r>
            <a:endParaRPr b="0" lang="en-US" sz="2200" spc="-1" strike="noStrike">
              <a:solidFill>
                <a:srgbClr val="ffffff"/>
              </a:solidFill>
              <a:latin typeface="Arial"/>
            </a:endParaRPr>
          </a:p>
        </p:txBody>
      </p:sp>
      <p:sp>
        <p:nvSpPr>
          <p:cNvPr id="2" name="PlaceHolder 1"/>
          <p:cNvSpPr>
            <a:spLocks noGrp="1"/>
          </p:cNvSpPr>
          <p:nvPr>
            <p:ph type="sldNum" idx="3"/>
          </p:nvPr>
        </p:nvSpPr>
        <p:spPr/>
        <p:txBody>
          <a:bodyPr/>
          <a:p>
            <a:fld id="{B19F13D6-EBAB-4EDC-BC05-992C681940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ther WMS activity</a:t>
            </a: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AC Assignment on Market Participant Survey</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D181652-79B7-4837-8549-046039C9D5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8-10-01T20:09:14Z</dcterms:modified>
  <cp:revision>125</cp:revision>
  <dc:subject/>
  <dc:title>WMS Report TO TAC</dc:title>
</cp:coreProperties>
</file>