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EEA2A-9612-41B3-9306-1123217037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9250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olo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7925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ol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73480"/>
            <a:ext cx="7925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ol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F1355-0B75-4751-B6E5-C388799265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9250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olo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olo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90476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olo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7348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olo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7348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ol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89533-F2B5-4A8D-B055-3E51AEEB34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9250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olo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olo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190476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olo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190476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olo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7348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olo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7348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olo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7348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ol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7D7FE-1201-4179-A9D4-EB3711478B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9250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olo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90476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Polo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9250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olo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ol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9250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olo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olo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90476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olo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9250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olo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1143000"/>
            <a:ext cx="79250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Pol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9250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olo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olo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90476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olo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417348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ol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9250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olo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90476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Pol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2E3F3-16DA-4B1F-8755-11EFF51E81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9250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ol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olo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90476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olo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17348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olo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9250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olo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olo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90476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olo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4173480"/>
            <a:ext cx="7925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ol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9250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olo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7925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olo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4173480"/>
            <a:ext cx="7925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olo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9250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olo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olo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90476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olo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417348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olo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17348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ol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9250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olo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olo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88960" y="190476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olo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8800" y="190476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olo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417348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olo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88960" y="417348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olo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8800" y="417348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olo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9250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olo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ol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8451D-A65A-4260-95B7-CB2CB98C84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9250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olo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olo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90476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ol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8206A-3C5B-456B-B0EB-9DFA1F32C5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9250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ol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FAA9D-E55D-41EB-8EF4-F0867E489B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1143000"/>
            <a:ext cx="79250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Pol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CC140-38C4-4618-ABCF-AF20B0A917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9250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olo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olo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90476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olo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7348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ol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BCE73-8D0D-44B4-B232-1B8835EEAB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9250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olo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ol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90476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ol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7348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ol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FBB5E-5C37-4F92-BF09-B421AB38C7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9250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olo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ol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90476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ol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73480"/>
            <a:ext cx="7925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ol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9D6E7-D750-438F-941A-8740300F6E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f21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157320" y="343080"/>
            <a:ext cx="2582640" cy="501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9250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olo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Pol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09480" y="190476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olo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Polo"/>
            </a:endParaRPr>
          </a:p>
          <a:p>
            <a:pPr lvl="1" marL="208080" indent="-206640">
              <a:lnSpc>
                <a:spcPts val="2599"/>
              </a:lnSpc>
              <a:buClr>
                <a:srgbClr val="f21c0a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olo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Polo"/>
            </a:endParaRPr>
          </a:p>
          <a:p>
            <a:pPr lvl="2" marL="209520">
              <a:lnSpc>
                <a:spcPts val="2599"/>
              </a:lnSpc>
              <a:buClr>
                <a:srgbClr val="f21c0a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olo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Polo"/>
            </a:endParaRPr>
          </a:p>
          <a:p>
            <a:pPr lvl="3" marL="412920" indent="-201960">
              <a:lnSpc>
                <a:spcPts val="2599"/>
              </a:lnSpc>
              <a:buClr>
                <a:srgbClr val="f31c0a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ol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olo"/>
            </a:endParaRPr>
          </a:p>
          <a:p>
            <a:pPr lvl="4" marL="414360">
              <a:lnSpc>
                <a:spcPts val="2599"/>
              </a:lnSpc>
              <a:buClr>
                <a:srgbClr val="f21c0a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ol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olo"/>
            </a:endParaRPr>
          </a:p>
          <a:p>
            <a:pPr lvl="5" marL="414360">
              <a:lnSpc>
                <a:spcPts val="2599"/>
              </a:lnSpc>
              <a:buClr>
                <a:srgbClr val="000000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ol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olo"/>
            </a:endParaRPr>
          </a:p>
          <a:p>
            <a:pPr lvl="6" marL="414360">
              <a:lnSpc>
                <a:spcPts val="2599"/>
              </a:lnSpc>
              <a:buClr>
                <a:srgbClr val="000000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ol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ol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001000" y="6553080"/>
            <a:ext cx="53352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ts val="8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Polo"/>
              </a:defRPr>
            </a:lvl1pPr>
          </a:lstStyle>
          <a:p>
            <a:pPr indent="0" algn="r">
              <a:lnSpc>
                <a:spcPts val="8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Polo"/>
              </a:rPr>
              <a:t>Slide</a:t>
            </a:r>
            <a:r>
              <a:rPr b="0" sz="700" spc="-1" strike="noStrike">
                <a:solidFill>
                  <a:srgbClr val="000000"/>
                </a:solidFill>
                <a:latin typeface="Polo"/>
              </a:rPr>
              <a:t> </a:t>
            </a:r>
            <a:fld id="{D71366C6-236F-4D92-87E5-4F4A671BFB32}" type="slidenum">
              <a:rPr b="0" sz="700" spc="-1" strike="noStrike">
                <a:solidFill>
                  <a:srgbClr val="000000"/>
                </a:solidFill>
                <a:latin typeface="Polo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553080"/>
            <a:ext cx="510516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ts val="8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700" spc="-1" strike="noStrike">
                <a:solidFill>
                  <a:srgbClr val="000000"/>
                </a:solidFill>
                <a:latin typeface="Polo"/>
              </a:defRPr>
            </a:lvl1pPr>
          </a:lstStyle>
          <a:p>
            <a:pPr indent="0" algn="r">
              <a:lnSpc>
                <a:spcPts val="8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700" spc="-1" strike="noStrike">
                <a:solidFill>
                  <a:srgbClr val="000000"/>
                </a:solidFill>
                <a:latin typeface="Polo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1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03360" y="907920"/>
            <a:ext cx="5113080" cy="9939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6320" y="4267080"/>
            <a:ext cx="51069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olo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Polo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rcRect l="0" t="0" r="10469" b="0"/>
          <a:stretch/>
        </p:blipFill>
        <p:spPr>
          <a:xfrm>
            <a:off x="6469200" y="1292400"/>
            <a:ext cx="2674800" cy="3019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olo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Polo"/>
            </a:endParaRPr>
          </a:p>
          <a:p>
            <a:pPr lvl="1" marL="208080" indent="-206640" algn="ctr">
              <a:lnSpc>
                <a:spcPts val="2599"/>
              </a:lnSpc>
              <a:buClr>
                <a:srgbClr val="f21c0a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olo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Polo"/>
            </a:endParaRPr>
          </a:p>
          <a:p>
            <a:pPr lvl="2" marL="209520" algn="ctr">
              <a:lnSpc>
                <a:spcPts val="2599"/>
              </a:lnSpc>
              <a:buClr>
                <a:srgbClr val="f21c0a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olo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Polo"/>
            </a:endParaRPr>
          </a:p>
          <a:p>
            <a:pPr lvl="3" marL="412920" indent="-201960" algn="ctr">
              <a:lnSpc>
                <a:spcPts val="2599"/>
              </a:lnSpc>
              <a:buClr>
                <a:srgbClr val="f31c0a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ol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olo"/>
            </a:endParaRPr>
          </a:p>
          <a:p>
            <a:pPr lvl="4" marL="414360" algn="ctr">
              <a:lnSpc>
                <a:spcPts val="2599"/>
              </a:lnSpc>
              <a:buClr>
                <a:srgbClr val="f21c0a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ol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olo"/>
            </a:endParaRPr>
          </a:p>
          <a:p>
            <a:pPr lvl="5" marL="41436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ol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olo"/>
            </a:endParaRPr>
          </a:p>
          <a:p>
            <a:pPr lvl="6" marL="41436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ol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ol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1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6320" y="4267080"/>
            <a:ext cx="510696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Polo"/>
              </a:rPr>
              <a:t>OGRR208-VOLTAGE RIDE THROUGH REQUIREMENT</a:t>
            </a:r>
            <a:endParaRPr b="0" lang="en-US" sz="2600" spc="-1" strike="noStrike">
              <a:solidFill>
                <a:srgbClr val="ffffff"/>
              </a:solidFill>
              <a:latin typeface="Pol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0808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olo"/>
            </a:endParaRPr>
          </a:p>
          <a:p>
            <a:pPr lvl="1" marL="20808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olo"/>
            </a:endParaRPr>
          </a:p>
          <a:p>
            <a:pPr lvl="1" marL="208080" indent="-206640">
              <a:lnSpc>
                <a:spcPts val="2599"/>
              </a:lnSpc>
              <a:buClr>
                <a:srgbClr val="f21c0a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olo"/>
              </a:rPr>
              <a:t>Wind generators support the new VRT requirement</a:t>
            </a:r>
            <a:endParaRPr b="0" lang="en-US" sz="3200" spc="-1" strike="noStrike">
              <a:solidFill>
                <a:srgbClr val="000000"/>
              </a:solidFill>
              <a:latin typeface="Polo"/>
            </a:endParaRPr>
          </a:p>
          <a:p>
            <a:pPr lvl="1" marL="20808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olo"/>
            </a:endParaRPr>
          </a:p>
          <a:p>
            <a:pPr lvl="1" marL="20808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olo"/>
            </a:endParaRPr>
          </a:p>
          <a:p>
            <a:pPr lvl="1" marL="20808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olo"/>
            </a:endParaRPr>
          </a:p>
          <a:p>
            <a:pPr lvl="1" marL="208080" indent="-206640">
              <a:lnSpc>
                <a:spcPts val="2599"/>
              </a:lnSpc>
              <a:buClr>
                <a:srgbClr val="f21c0a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olo"/>
              </a:rPr>
              <a:t>Wind generators do not support the retroactive application of the requirement</a:t>
            </a:r>
            <a:endParaRPr b="0" lang="en-US" sz="3200" spc="-1" strike="noStrike">
              <a:solidFill>
                <a:srgbClr val="000000"/>
              </a:solidFill>
              <a:latin typeface="Polo"/>
            </a:endParaRPr>
          </a:p>
          <a:p>
            <a:pPr lvl="4" marL="41436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ol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C29E2-46B7-480B-9DE8-415B35BF69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0808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olo"/>
            </a:endParaRPr>
          </a:p>
          <a:p>
            <a:pPr lvl="1" marL="208080" indent="-206640">
              <a:lnSpc>
                <a:spcPts val="2599"/>
              </a:lnSpc>
              <a:buClr>
                <a:srgbClr val="f21c0a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olo"/>
              </a:rPr>
              <a:t>Retroactive application is bad policy</a:t>
            </a:r>
            <a:endParaRPr b="0" lang="en-US" sz="3200" spc="-1" strike="noStrike">
              <a:solidFill>
                <a:srgbClr val="000000"/>
              </a:solidFill>
              <a:latin typeface="Polo"/>
            </a:endParaRPr>
          </a:p>
          <a:p>
            <a:pPr lvl="1" marL="20808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olo"/>
            </a:endParaRPr>
          </a:p>
          <a:p>
            <a:pPr lvl="1" marL="20808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olo"/>
            </a:endParaRPr>
          </a:p>
          <a:p>
            <a:pPr lvl="1" marL="208080" indent="-206640">
              <a:lnSpc>
                <a:spcPts val="2599"/>
              </a:lnSpc>
              <a:buClr>
                <a:srgbClr val="f21c0a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olo"/>
              </a:rPr>
              <a:t>Retroactive application that will require expenditure of many millions of dollars is very bad policy</a:t>
            </a:r>
            <a:endParaRPr b="0" lang="en-US" sz="3200" spc="-1" strike="noStrike">
              <a:solidFill>
                <a:srgbClr val="000000"/>
              </a:solidFill>
              <a:latin typeface="Polo"/>
            </a:endParaRPr>
          </a:p>
          <a:p>
            <a:pPr lvl="1" marL="20808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olo"/>
            </a:endParaRPr>
          </a:p>
          <a:p>
            <a:pPr lvl="1" marL="20808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olo"/>
            </a:endParaRPr>
          </a:p>
          <a:p>
            <a:pPr lvl="1" marL="208080" indent="-206640">
              <a:lnSpc>
                <a:spcPts val="2599"/>
              </a:lnSpc>
              <a:buClr>
                <a:srgbClr val="f21c0a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olo"/>
              </a:rPr>
              <a:t>Retroactive application that will require expenditure of many millions of dollars without supporting analysis and study is extremely bad policy</a:t>
            </a:r>
            <a:endParaRPr b="0" lang="en-US" sz="3200" spc="-1" strike="noStrike">
              <a:solidFill>
                <a:srgbClr val="000000"/>
              </a:solidFill>
              <a:latin typeface="Polo"/>
            </a:endParaRPr>
          </a:p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ol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39F77-CBCF-4810-B026-48C35E11BEB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0808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olo"/>
            </a:endParaRPr>
          </a:p>
          <a:p>
            <a:pPr lvl="1" marL="208080" indent="-206640">
              <a:lnSpc>
                <a:spcPts val="2599"/>
              </a:lnSpc>
              <a:buClr>
                <a:srgbClr val="f21c0a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olo"/>
              </a:rPr>
              <a:t>Retroactive application should only occur for dire and urgent situations</a:t>
            </a:r>
            <a:endParaRPr b="0" lang="en-US" sz="3200" spc="-1" strike="noStrike">
              <a:solidFill>
                <a:srgbClr val="000000"/>
              </a:solidFill>
              <a:latin typeface="Polo"/>
            </a:endParaRPr>
          </a:p>
          <a:p>
            <a:pPr lvl="1" marL="20808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olo"/>
            </a:endParaRPr>
          </a:p>
          <a:p>
            <a:pPr lvl="1" marL="20808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olo"/>
            </a:endParaRPr>
          </a:p>
          <a:p>
            <a:pPr lvl="1" marL="208080" indent="-206640">
              <a:lnSpc>
                <a:spcPts val="2599"/>
              </a:lnSpc>
              <a:buClr>
                <a:srgbClr val="f21c0a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olo"/>
              </a:rPr>
              <a:t>There is no dire or urgent situation since OGRR208 will not apply until 2015</a:t>
            </a:r>
            <a:endParaRPr b="0" lang="en-US" sz="3200" spc="-1" strike="noStrike">
              <a:solidFill>
                <a:srgbClr val="000000"/>
              </a:solidFill>
              <a:latin typeface="Polo"/>
            </a:endParaRPr>
          </a:p>
          <a:p>
            <a:pPr lvl="1" marL="20808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olo"/>
            </a:endParaRPr>
          </a:p>
          <a:p>
            <a:pPr lvl="1" marL="208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olo"/>
            </a:endParaRPr>
          </a:p>
          <a:p>
            <a:pPr lvl="1" marL="208080" indent="-206640">
              <a:lnSpc>
                <a:spcPts val="2599"/>
              </a:lnSpc>
              <a:buClr>
                <a:srgbClr val="f21c0a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olo"/>
              </a:rPr>
              <a:t>Retroactive application adds a troublesome element of business risk that has never been present in ERCOT</a:t>
            </a:r>
            <a:endParaRPr b="0" lang="en-US" sz="3200" spc="-1" strike="noStrike">
              <a:solidFill>
                <a:srgbClr val="000000"/>
              </a:solidFill>
              <a:latin typeface="Polo"/>
            </a:endParaRPr>
          </a:p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ol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E3BA7-2EDC-4563-8957-092CE72BBB6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olo"/>
            </a:endParaRPr>
          </a:p>
          <a:p>
            <a:pPr lvl="1" marL="208080" indent="-206640">
              <a:lnSpc>
                <a:spcPts val="2599"/>
              </a:lnSpc>
              <a:buClr>
                <a:srgbClr val="f21c0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olo"/>
              </a:rPr>
              <a:t>If retroactive application is to be done, it should be applied to all wind generators, with no exclusions for signed IAs before Jan I, 2003</a:t>
            </a:r>
            <a:endParaRPr b="0" lang="en-US" sz="3200" spc="-1" strike="noStrike">
              <a:solidFill>
                <a:srgbClr val="000000"/>
              </a:solidFill>
              <a:latin typeface="Polo"/>
            </a:endParaRPr>
          </a:p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olo"/>
            </a:endParaRPr>
          </a:p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olo"/>
            </a:endParaRPr>
          </a:p>
          <a:p>
            <a:pPr>
              <a:lnSpc>
                <a:spcPts val="2599"/>
              </a:lnSpc>
              <a:buClr>
                <a:srgbClr val="f21c0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olo"/>
              </a:rPr>
              <a:t>FERC 661-A was not applied retroactively</a:t>
            </a:r>
            <a:endParaRPr b="0" lang="en-US" sz="3200" spc="-1" strike="noStrike">
              <a:solidFill>
                <a:srgbClr val="000000"/>
              </a:solidFill>
              <a:latin typeface="Polo"/>
            </a:endParaRPr>
          </a:p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olo"/>
            </a:endParaRPr>
          </a:p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olo"/>
            </a:endParaRPr>
          </a:p>
          <a:p>
            <a:pPr lvl="1" marL="208080" indent="-206640">
              <a:lnSpc>
                <a:spcPts val="2599"/>
              </a:lnSpc>
              <a:buClr>
                <a:srgbClr val="f21c0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olo"/>
              </a:rPr>
              <a:t>There is some level of VRT for many of the wind turbines now operating or recently procured </a:t>
            </a:r>
            <a:endParaRPr b="0" lang="en-US" sz="3200" spc="-1" strike="noStrike">
              <a:solidFill>
                <a:srgbClr val="000000"/>
              </a:solidFill>
              <a:latin typeface="Polo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ol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AD4B6-7111-4045-AEF3-354DD9656F7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6T21:33:59Z</dcterms:created>
  <dc:creator>youngb</dc:creator>
  <dc:description/>
  <dc:language>en-US</dc:language>
  <cp:lastModifiedBy>template</cp:lastModifiedBy>
  <dcterms:modified xsi:type="dcterms:W3CDTF">2008-09-29T19:57:07Z</dcterms:modified>
  <cp:revision>9</cp:revision>
  <dc:subject/>
  <dc:title>Slide 1</dc:title>
</cp:coreProperties>
</file>