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BBBE-B14C-49AD-A805-F580B19BB1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3D9D-E9DC-4596-B033-F71DE052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0EA4-22B5-4535-A0B2-D2CF1250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E1C4-C830-4A47-9471-E901D925A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ECD2-CDBB-46B8-88FF-D1FE5DB3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E06B-4B67-438A-ABF6-6ED9A4B9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46CD-B5A5-4422-93C2-117D84AA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35DE-46F4-467A-8764-97A3F27B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72FF-210F-4229-B2FF-EAE1BB8F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300E-9311-4903-B83A-20AE650E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E1B8-B232-4BB6-9572-AB2F6F70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0360-F196-4FFB-A0D3-DA0A13DD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A329-8CCC-4DF9-8E6B-9E4C7D0BF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4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C329-E54B-46FE-BA16-ABAE94FD5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day@erco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981080"/>
            <a:ext cx="7696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ID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John Ad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irector, Grid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dams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@ercot.co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12-248-3130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ff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12-694-3364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ce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rganizational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9375840" y="411012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18160" y="2236680"/>
            <a:ext cx="1086120" cy="54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8160" y="2236680"/>
            <a:ext cx="1086120" cy="54288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37240" y="2255760"/>
            <a:ext cx="1049400" cy="5065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90240" y="2263680"/>
            <a:ext cx="76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66120" y="2567160"/>
            <a:ext cx="82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05160" y="2057400"/>
            <a:ext cx="3755880" cy="179280"/>
          </a:xfrm>
          <a:custGeom>
            <a:avLst/>
            <a:gdLst/>
            <a:ahLst/>
            <a:rect l="l" t="t" r="r" b="b"/>
            <a:pathLst>
              <a:path w="2366" h="113">
                <a:moveTo>
                  <a:pt x="0" y="0"/>
                </a:moveTo>
                <a:lnTo>
                  <a:pt x="0" y="60"/>
                </a:lnTo>
                <a:lnTo>
                  <a:pt x="2366" y="60"/>
                </a:lnTo>
                <a:lnTo>
                  <a:pt x="2366" y="113"/>
                </a:lnTo>
              </a:path>
            </a:pathLst>
          </a:custGeom>
          <a:noFill/>
          <a:ln cap="rnd" w="6480">
            <a:solidFill>
              <a:srgbClr val="4677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77040" y="2901960"/>
            <a:ext cx="1644480" cy="54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7040" y="2901960"/>
            <a:ext cx="1644480" cy="54288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7040" y="2894040"/>
            <a:ext cx="1644480" cy="55728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4720" y="3090960"/>
            <a:ext cx="87300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55400" y="2900520"/>
            <a:ext cx="76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nt Saath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37600" y="3090960"/>
            <a:ext cx="130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P System Planning 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7960" y="3243240"/>
            <a:ext cx="6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61040" y="2779560"/>
            <a:ext cx="0" cy="122400"/>
          </a:xfrm>
          <a:prstGeom prst="line">
            <a:avLst/>
          </a:prstGeom>
          <a:ln cap="rnd" w="6480">
            <a:solidFill>
              <a:srgbClr val="467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34240" y="3629160"/>
            <a:ext cx="996840" cy="500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4240" y="3629160"/>
            <a:ext cx="996840" cy="50004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70600" y="3832200"/>
            <a:ext cx="92376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31880" y="3649680"/>
            <a:ext cx="7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hn Ad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846600"/>
            <a:ext cx="88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.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7800" y="3998880"/>
            <a:ext cx="44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32480" y="3375000"/>
            <a:ext cx="628560" cy="254160"/>
          </a:xfrm>
          <a:custGeom>
            <a:avLst/>
            <a:gdLst/>
            <a:ahLst/>
            <a:rect l="l" t="t" r="r" b="b"/>
            <a:pathLst>
              <a:path w="396" h="160">
                <a:moveTo>
                  <a:pt x="396" y="0"/>
                </a:moveTo>
                <a:lnTo>
                  <a:pt x="396" y="76"/>
                </a:lnTo>
                <a:lnTo>
                  <a:pt x="0" y="76"/>
                </a:lnTo>
                <a:lnTo>
                  <a:pt x="0" y="160"/>
                </a:lnTo>
              </a:path>
            </a:pathLst>
          </a:custGeom>
          <a:noFill/>
          <a:ln cap="rnd" w="6480">
            <a:solidFill>
              <a:srgbClr val="4677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02440" y="3629160"/>
            <a:ext cx="996840" cy="500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02440" y="3629160"/>
            <a:ext cx="996840" cy="50004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37360" y="3832200"/>
            <a:ext cx="92556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75880" y="3654360"/>
            <a:ext cx="72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n Wood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37360" y="3832200"/>
            <a:ext cx="93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ctor Syst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61040" y="3375000"/>
            <a:ext cx="540000" cy="254160"/>
          </a:xfrm>
          <a:custGeom>
            <a:avLst/>
            <a:gdLst/>
            <a:ahLst/>
            <a:rect l="l" t="t" r="r" b="b"/>
            <a:pathLst>
              <a:path w="340" h="160">
                <a:moveTo>
                  <a:pt x="0" y="0"/>
                </a:moveTo>
                <a:lnTo>
                  <a:pt x="0" y="76"/>
                </a:lnTo>
                <a:lnTo>
                  <a:pt x="340" y="76"/>
                </a:lnTo>
                <a:lnTo>
                  <a:pt x="340" y="160"/>
                </a:lnTo>
              </a:path>
            </a:pathLst>
          </a:custGeom>
          <a:noFill/>
          <a:ln cap="rnd" w="6480">
            <a:solidFill>
              <a:srgbClr val="4677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15200" y="3660840"/>
            <a:ext cx="893880" cy="490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15200" y="3660840"/>
            <a:ext cx="878040" cy="4903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15200" y="3801960"/>
            <a:ext cx="852480" cy="50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31040" y="3654360"/>
            <a:ext cx="851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een Fro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83600" y="3832200"/>
            <a:ext cx="74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gr. Syst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20680" y="3998880"/>
            <a:ext cx="6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55880" y="1608120"/>
            <a:ext cx="1077840" cy="5396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55880" y="1608120"/>
            <a:ext cx="1077840" cy="539640"/>
          </a:xfrm>
          <a:prstGeom prst="rect">
            <a:avLst/>
          </a:prstGeom>
          <a:noFill/>
          <a:ln cap="rnd" w="6480">
            <a:solidFill>
              <a:srgbClr val="cdcd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73520" y="1627200"/>
            <a:ext cx="1042920" cy="501480"/>
          </a:xfrm>
          <a:prstGeom prst="rect">
            <a:avLst/>
          </a:prstGeom>
          <a:noFill/>
          <a:ln cap="rnd" w="6480">
            <a:solidFill>
              <a:srgbClr val="cdcd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66960" y="1517760"/>
            <a:ext cx="1077840" cy="53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66960" y="1517760"/>
            <a:ext cx="1077840" cy="53964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84600" y="1536840"/>
            <a:ext cx="1041120" cy="5029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0360" y="1614600"/>
            <a:ext cx="69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ip Dogge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24280" y="1787400"/>
            <a:ext cx="12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41360" y="1787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11480" y="1787400"/>
            <a:ext cx="32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P &amp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82640" y="1787400"/>
            <a:ext cx="29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6680" y="2246400"/>
            <a:ext cx="982800" cy="490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6680" y="2246400"/>
            <a:ext cx="982800" cy="4903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5760" y="2263680"/>
            <a:ext cx="944640" cy="455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9040" y="2401920"/>
            <a:ext cx="83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7360" y="2057400"/>
            <a:ext cx="2647800" cy="189000"/>
          </a:xfrm>
          <a:custGeom>
            <a:avLst/>
            <a:gdLst/>
            <a:ahLst/>
            <a:rect l="l" t="t" r="r" b="b"/>
            <a:pathLst>
              <a:path w="1668" h="119">
                <a:moveTo>
                  <a:pt x="1668" y="0"/>
                </a:moveTo>
                <a:lnTo>
                  <a:pt x="1668" y="60"/>
                </a:lnTo>
                <a:lnTo>
                  <a:pt x="0" y="60"/>
                </a:lnTo>
                <a:lnTo>
                  <a:pt x="0" y="119"/>
                </a:lnTo>
              </a:path>
            </a:pathLst>
          </a:custGeom>
          <a:noFill/>
          <a:ln cap="rnd" w="6480">
            <a:solidFill>
              <a:srgbClr val="4677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81400" y="2884320"/>
            <a:ext cx="1101600" cy="49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81400" y="2884320"/>
            <a:ext cx="1101600" cy="49068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317760" y="3129120"/>
            <a:ext cx="106524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00560" y="291924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e Good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87160" y="3181320"/>
            <a:ext cx="107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, Cli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65360" y="2895480"/>
            <a:ext cx="981000" cy="49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65360" y="2895480"/>
            <a:ext cx="981000" cy="49068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00280" y="3139920"/>
            <a:ext cx="90972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80640" y="2938320"/>
            <a:ext cx="54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ty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81200" y="3146400"/>
            <a:ext cx="96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ctor,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24560" y="2238480"/>
            <a:ext cx="1035000" cy="51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24560" y="2238480"/>
            <a:ext cx="1035000" cy="5191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2257560"/>
            <a:ext cx="998640" cy="4809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7440" y="2349360"/>
            <a:ext cx="82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/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69360" y="25304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54440" y="2879640"/>
            <a:ext cx="1279800" cy="48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54440" y="2881440"/>
            <a:ext cx="1279800" cy="48708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91160" y="3078000"/>
            <a:ext cx="124308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79880" y="2900520"/>
            <a:ext cx="66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el Mic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5280" y="3070080"/>
            <a:ext cx="1096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,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s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1880" y="2757600"/>
            <a:ext cx="0" cy="122040"/>
          </a:xfrm>
          <a:prstGeom prst="line">
            <a:avLst/>
          </a:prstGeom>
          <a:ln cap="rnd" w="6480">
            <a:solidFill>
              <a:srgbClr val="467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36560" y="2236680"/>
            <a:ext cx="1036800" cy="517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36560" y="2236680"/>
            <a:ext cx="1036800" cy="51768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55640" y="2255760"/>
            <a:ext cx="998640" cy="4809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10800" y="240192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55680" y="2057400"/>
            <a:ext cx="1149480" cy="179280"/>
          </a:xfrm>
          <a:custGeom>
            <a:avLst/>
            <a:gdLst/>
            <a:ahLst/>
            <a:rect l="l" t="t" r="r" b="b"/>
            <a:pathLst>
              <a:path w="724" h="113">
                <a:moveTo>
                  <a:pt x="724" y="0"/>
                </a:moveTo>
                <a:lnTo>
                  <a:pt x="724" y="60"/>
                </a:lnTo>
                <a:lnTo>
                  <a:pt x="0" y="60"/>
                </a:lnTo>
                <a:lnTo>
                  <a:pt x="0" y="113"/>
                </a:lnTo>
              </a:path>
            </a:pathLst>
          </a:custGeom>
          <a:noFill/>
          <a:ln cap="rnd" w="6480">
            <a:solidFill>
              <a:srgbClr val="4677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55680" y="2754360"/>
            <a:ext cx="0" cy="141120"/>
          </a:xfrm>
          <a:prstGeom prst="line">
            <a:avLst/>
          </a:prstGeom>
          <a:ln cap="rnd" w="6480">
            <a:solidFill>
              <a:srgbClr val="467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000" y="2895480"/>
            <a:ext cx="1406520" cy="462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00" y="2901960"/>
            <a:ext cx="1406520" cy="48420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000" y="2911320"/>
            <a:ext cx="1406520" cy="46368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6280" y="3137040"/>
            <a:ext cx="90324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7360" y="29192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080" y="3139920"/>
            <a:ext cx="140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ef Compliance Offi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7360" y="2736720"/>
            <a:ext cx="0" cy="157320"/>
          </a:xfrm>
          <a:prstGeom prst="line">
            <a:avLst/>
          </a:prstGeom>
          <a:ln cap="rnd" w="6480">
            <a:solidFill>
              <a:srgbClr val="467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3240" y="2236680"/>
            <a:ext cx="1058760" cy="528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3240" y="2236680"/>
            <a:ext cx="1058760" cy="52884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62320" y="2255760"/>
            <a:ext cx="1020600" cy="4921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86880" y="2349360"/>
            <a:ext cx="63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05160" y="2057400"/>
            <a:ext cx="466920" cy="179280"/>
          </a:xfrm>
          <a:custGeom>
            <a:avLst/>
            <a:gdLst/>
            <a:ahLst/>
            <a:rect l="l" t="t" r="r" b="b"/>
            <a:pathLst>
              <a:path w="294" h="113">
                <a:moveTo>
                  <a:pt x="0" y="0"/>
                </a:moveTo>
                <a:lnTo>
                  <a:pt x="0" y="60"/>
                </a:lnTo>
                <a:lnTo>
                  <a:pt x="294" y="60"/>
                </a:lnTo>
                <a:lnTo>
                  <a:pt x="294" y="113"/>
                </a:lnTo>
              </a:path>
            </a:pathLst>
          </a:custGeom>
          <a:noFill/>
          <a:ln cap="rnd" w="6480">
            <a:solidFill>
              <a:srgbClr val="4677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05160" y="2057400"/>
            <a:ext cx="1836720" cy="181080"/>
          </a:xfrm>
          <a:custGeom>
            <a:avLst/>
            <a:gdLst/>
            <a:ahLst/>
            <a:rect l="l" t="t" r="r" b="b"/>
            <a:pathLst>
              <a:path w="1157" h="114">
                <a:moveTo>
                  <a:pt x="0" y="0"/>
                </a:moveTo>
                <a:lnTo>
                  <a:pt x="0" y="60"/>
                </a:lnTo>
                <a:lnTo>
                  <a:pt x="1157" y="60"/>
                </a:lnTo>
                <a:lnTo>
                  <a:pt x="1157" y="114"/>
                </a:lnTo>
              </a:path>
            </a:pathLst>
          </a:custGeom>
          <a:noFill/>
          <a:ln cap="rnd" w="6480">
            <a:solidFill>
              <a:srgbClr val="4677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61040" y="3375000"/>
            <a:ext cx="1273320" cy="479520"/>
          </a:xfrm>
          <a:custGeom>
            <a:avLst/>
            <a:gdLst/>
            <a:ahLst/>
            <a:rect l="l" t="t" r="r" b="b"/>
            <a:pathLst>
              <a:path w="797" h="302">
                <a:moveTo>
                  <a:pt x="0" y="0"/>
                </a:moveTo>
                <a:lnTo>
                  <a:pt x="0" y="76"/>
                </a:lnTo>
                <a:lnTo>
                  <a:pt x="712" y="76"/>
                </a:lnTo>
                <a:lnTo>
                  <a:pt x="712" y="302"/>
                </a:lnTo>
                <a:lnTo>
                  <a:pt x="797" y="302"/>
                </a:lnTo>
              </a:path>
            </a:pathLst>
          </a:custGeom>
          <a:noFill/>
          <a:ln cap="rnd" w="6480">
            <a:solidFill>
              <a:srgbClr val="4677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57960" y="4925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93240" y="4925880"/>
            <a:ext cx="12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80000" y="49258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12160" y="3375000"/>
            <a:ext cx="1222200" cy="1092240"/>
          </a:xfrm>
          <a:custGeom>
            <a:avLst/>
            <a:gdLst/>
            <a:ahLst/>
            <a:rect l="l" t="t" r="r" b="b"/>
            <a:pathLst>
              <a:path w="802" h="688">
                <a:moveTo>
                  <a:pt x="0" y="0"/>
                </a:moveTo>
                <a:lnTo>
                  <a:pt x="0" y="76"/>
                </a:lnTo>
                <a:lnTo>
                  <a:pt x="712" y="76"/>
                </a:lnTo>
                <a:lnTo>
                  <a:pt x="712" y="688"/>
                </a:lnTo>
                <a:lnTo>
                  <a:pt x="802" y="688"/>
                </a:lnTo>
              </a:path>
            </a:pathLst>
          </a:custGeom>
          <a:noFill/>
          <a:ln cap="rnd" w="6480">
            <a:solidFill>
              <a:srgbClr val="4677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250120" y="4338720"/>
            <a:ext cx="878400" cy="490320"/>
            <a:chOff x="8250120" y="4338720"/>
            <a:chExt cx="878400" cy="490320"/>
          </a:xfrm>
        </p:grpSpPr>
        <p:sp>
          <p:nvSpPr>
            <p:cNvPr id="186" name=""/>
            <p:cNvSpPr/>
            <p:nvPr/>
          </p:nvSpPr>
          <p:spPr>
            <a:xfrm>
              <a:off x="8250120" y="4338720"/>
              <a:ext cx="878040" cy="490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50120" y="4338720"/>
              <a:ext cx="868320" cy="490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28960" y="4338720"/>
              <a:ext cx="70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eve My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9680" y="4491000"/>
              <a:ext cx="68256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50120" y="4491000"/>
              <a:ext cx="878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gr., Opera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ndar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rganizational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9375840" y="40496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13320" y="2394000"/>
            <a:ext cx="137772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hn Ad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ctor Grid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13320" y="2394000"/>
            <a:ext cx="1358640" cy="6699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2040" y="2409840"/>
            <a:ext cx="1339920" cy="6541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7600" y="2627280"/>
            <a:ext cx="1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32640" y="3589200"/>
            <a:ext cx="138096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 Blev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 Operations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54960" y="3622680"/>
            <a:ext cx="1380960" cy="46044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255920" y="3592440"/>
            <a:ext cx="1378080" cy="547920"/>
            <a:chOff x="4255920" y="3592440"/>
            <a:chExt cx="1378080" cy="547920"/>
          </a:xfrm>
        </p:grpSpPr>
        <p:sp>
          <p:nvSpPr>
            <p:cNvPr id="200" name=""/>
            <p:cNvSpPr/>
            <p:nvPr/>
          </p:nvSpPr>
          <p:spPr>
            <a:xfrm>
              <a:off x="4255920" y="3592440"/>
              <a:ext cx="1378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ohn Dum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ager Operations Pla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97320" y="3614760"/>
              <a:ext cx="1336680" cy="5032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V="1">
            <a:off x="1089000" y="324612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89000" y="3246480"/>
            <a:ext cx="624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45440" y="324648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971960" y="32461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035160" y="324648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381400" y="3625920"/>
            <a:ext cx="1377720" cy="547560"/>
            <a:chOff x="2381400" y="3625920"/>
            <a:chExt cx="1377720" cy="547560"/>
          </a:xfrm>
        </p:grpSpPr>
        <p:sp>
          <p:nvSpPr>
            <p:cNvPr id="208" name=""/>
            <p:cNvSpPr/>
            <p:nvPr/>
          </p:nvSpPr>
          <p:spPr>
            <a:xfrm>
              <a:off x="2381400" y="3625920"/>
              <a:ext cx="137772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gle Low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ager SO Division Project Org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22440" y="3648240"/>
              <a:ext cx="1336680" cy="5029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99960" y="3625920"/>
            <a:ext cx="1377720" cy="547560"/>
            <a:chOff x="399960" y="3625920"/>
            <a:chExt cx="1377720" cy="547560"/>
          </a:xfrm>
        </p:grpSpPr>
        <p:sp>
          <p:nvSpPr>
            <p:cNvPr id="211" name=""/>
            <p:cNvSpPr/>
            <p:nvPr/>
          </p:nvSpPr>
          <p:spPr>
            <a:xfrm>
              <a:off x="399960" y="3625920"/>
              <a:ext cx="137772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rtis Crew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ager Network Mode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1000" y="3648240"/>
              <a:ext cx="1336680" cy="5029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297320" y="30639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rid Operations – Departments &amp; Core Func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Line 135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32"/>
          <p:cNvSpPr/>
          <p:nvPr/>
        </p:nvSpPr>
        <p:spPr>
          <a:xfrm>
            <a:off x="9144000" y="685800"/>
            <a:ext cx="0" cy="5562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5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0"/>
          <p:cNvSpPr/>
          <p:nvPr/>
        </p:nvSpPr>
        <p:spPr>
          <a:xfrm>
            <a:off x="6831000" y="685800"/>
            <a:ext cx="2203560" cy="71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Management &amp;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agle Low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8"/>
          <p:cNvSpPr/>
          <p:nvPr/>
        </p:nvSpPr>
        <p:spPr>
          <a:xfrm>
            <a:off x="4516560" y="685800"/>
            <a:ext cx="2314440" cy="71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Support &amp; Nodal Tran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Bill Blevi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6"/>
          <p:cNvSpPr/>
          <p:nvPr/>
        </p:nvSpPr>
        <p:spPr>
          <a:xfrm>
            <a:off x="2203560" y="685800"/>
            <a:ext cx="2313000" cy="71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John Dum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4"/>
          <p:cNvSpPr/>
          <p:nvPr/>
        </p:nvSpPr>
        <p:spPr>
          <a:xfrm>
            <a:off x="0" y="685800"/>
            <a:ext cx="2203560" cy="71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urtis Crew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3"/>
          <p:cNvSpPr/>
          <p:nvPr/>
        </p:nvSpPr>
        <p:spPr>
          <a:xfrm>
            <a:off x="6831000" y="1397160"/>
            <a:ext cx="231300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perations &amp; Market projects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elop and maintain the system operator training pro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elop and deliver Operator Training Simulator (OTS) Sce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elop and deliver Operator Instructor-led tr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age Operator Continuing Education Hours (CE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elop and implement annual Blackstart Seminars (ERCOT-w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elop and Facilitate ERCOT-wide Storm Dr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elop and maintain System Operations operating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resent ERCOT on NERC subcommittees and standard drafting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2"/>
          <p:cNvSpPr/>
          <p:nvPr/>
        </p:nvSpPr>
        <p:spPr>
          <a:xfrm>
            <a:off x="4627440" y="1397160"/>
            <a:ext cx="220356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 or reject planned outages to maintain re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operational limits for gri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perations performance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engineering studies and provide expert advise to support real-time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remedial action plans as needed to support efficient/reliable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 and implement improvements to real-time operations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of Nodal 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1"/>
          <p:cNvSpPr/>
          <p:nvPr/>
        </p:nvSpPr>
        <p:spPr>
          <a:xfrm>
            <a:off x="2203560" y="1397160"/>
            <a:ext cx="231300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Estim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Time contingency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bility Analysis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al transient stability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tart 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 planning tool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ment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esting and Ancillary Service 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llary Service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Forec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Forec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operations plann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with market participants regarding operation planning issues including representing ERCOT on the Reliability and Operations Sub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0"/>
          <p:cNvSpPr/>
          <p:nvPr/>
        </p:nvSpPr>
        <p:spPr>
          <a:xfrm>
            <a:off x="0" y="1397160"/>
            <a:ext cx="220356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eling of Electric Power system for Zonal Energy 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rocesses and procedures for nodal market modeling suppor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utage Scheduling &amp;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ervision of Modeling pers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 of quality assurance processes for market and TSP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ion with market participants regarding modeling issues; including representation on the Network Modeling Task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7"/>
          <p:cNvSpPr/>
          <p:nvPr/>
        </p:nvSpPr>
        <p:spPr>
          <a:xfrm>
            <a:off x="0" y="685800"/>
            <a:ext cx="0" cy="5562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28"/>
          <p:cNvSpPr/>
          <p:nvPr/>
        </p:nvSpPr>
        <p:spPr>
          <a:xfrm>
            <a:off x="2203560" y="68580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9"/>
          <p:cNvSpPr/>
          <p:nvPr/>
        </p:nvSpPr>
        <p:spPr>
          <a:xfrm>
            <a:off x="4516560" y="68580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0"/>
          <p:cNvSpPr/>
          <p:nvPr/>
        </p:nvSpPr>
        <p:spPr>
          <a:xfrm>
            <a:off x="6831000" y="68580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1"/>
          <p:cNvSpPr/>
          <p:nvPr/>
        </p:nvSpPr>
        <p:spPr>
          <a:xfrm>
            <a:off x="9034560" y="68580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35"/>
          <p:cNvSpPr/>
          <p:nvPr/>
        </p:nvSpPr>
        <p:spPr>
          <a:xfrm flipV="1">
            <a:off x="0" y="1371240"/>
            <a:ext cx="9034560" cy="2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rid Operations – Strategic Focu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Reli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Wind energy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Implementation – wholesale market trans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compliance with NERC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tasks as cost effectively as 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352680" y="2286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seline 1&amp;2 final review pre-TPTF</cp:lastModifiedBy>
  <dcterms:modified xsi:type="dcterms:W3CDTF">2008-10-01T16:05:00Z</dcterms:modified>
  <cp:revision>58</cp:revision>
  <dc:subject/>
  <dc:title>Instructions</dc:title>
</cp:coreProperties>
</file>