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606D-E774-4D7B-9BCA-7697B65E8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8E7C-34E7-469F-894F-3D8733718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A955-5A43-40CD-B548-1649E94F9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FC64-E830-4820-AD24-4B2C83136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8ED9-6E08-44F6-B7C7-86BCFC39A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7FB0-7378-4803-AA08-7B28DE018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F09C-3DBB-4883-8ADF-B583A3A7C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A60F-C421-445E-A863-0FE16BBC2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BC27-E8C1-4D18-82F1-14CC78EA7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41D8-47EA-4D9E-BA74-0CD926517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9C8F-A8F6-4D5E-87AE-DE6617C79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2E8B-72F8-434A-95AE-C7FD5552A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9031-610E-4FBC-A8B8-9939129EB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73B7-70E8-46A0-967E-19278623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7286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vanced Meter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C Update of ERCOT Activi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/2/08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T Project 34610 – Implementation of Advanced Met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0720" y="1676520"/>
          <a:ext cx="6933960" cy="3265200"/>
        </p:xfrm>
        <a:graphic>
          <a:graphicData uri="http://schemas.openxmlformats.org/drawingml/2006/table">
            <a:tbl>
              <a:tblPr/>
              <a:tblGrid>
                <a:gridCol w="2971800"/>
                <a:gridCol w="39621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34610 Sub-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sponding ERCOT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nterim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Web Portal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RCOT Settlement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70057_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MIT Study for Long Term Settlement 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80027_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dvanced Metering - Market Changes for PUCT 34610 (Interim settlement 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ome Area Network (H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Retail Interface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Custom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8164-4815-410B-99A8-659CEC91A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70057_01 AMIT Study for Long Term Settlement Solu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ka ERCOT System Throughput for ID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volume of IDR data that ERCOT systems could support with enhancements to the current systems and without system degradation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MPLETED 05/19 – results on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or modify existing ERCOT systems to increase capacity for IDR dat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moved from scope at Market’s reque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a design document (“blueprint”) that provides the future vision for ERCOT systems necessary to support up to 7 million IDR ESI IDs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S in partnership with Black &amp; Veatch were selected to deliver this “blueprint” – i.e., the “AMIT Study for Long Term Settlement Solution”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 Overvie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PPL 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 – 250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*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50 – 500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dget revised as a result of scope changes noted above and addition of outside vend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D6D4-7BEF-4826-A7C4-9606F04144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81200"/>
          <a:ext cx="8182080" cy="52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81200"/>
                    <a:ext cx="818208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762120"/>
            <a:ext cx="8076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70057_01 AMIT Study for Long Term Settlemen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DR Threshold – Preliminary Estimates (scope item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D9E8-3FFB-4DC7-9AA2-D8251EA3CD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70057_01 AMIT Study for Long Term Settlement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CT Advanced Metering Implementation Team (AMIT) requested that ERCOT procure a  third party vendor to conduct a “stud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 of the stud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nd provide possible long-term solutions for ERCOT systems to accommodate full settlement of the Texas electric market using 15-minute interval data from Advanced Metering Systems (AM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Outpu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and benefits associated with possible long-term solutions as well as the associated timelines for imple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751A-4A93-48D3-8CE9-436662BDDF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70057_01 AMIT Study for Long Term Settlement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Level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09320" y="46641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24844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ckoff 09/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17683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/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17683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/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768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527364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T Study Kickof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/29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T Study 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/2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27120" y="2019240"/>
            <a:ext cx="6107400" cy="27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28600" y="2362320"/>
          <a:ext cx="2209680" cy="227628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832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urrent S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Tech 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Long Term Sol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Ongoing Support Pl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mplementation/Migration Pl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AMIT Pres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D6EE-929F-486E-92F6-74D83EC590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80027_01 Advanced Metering_ Market Changes for PUCT 346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erim Settlement Sol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 ERCOT systems to provide for the settlement of 15-min data received from advanced meters including small distributed renewable generators.   Source: PRR766, PRR7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3520" y="3276720"/>
          <a:ext cx="6400800" cy="1761840"/>
        </p:xfrm>
        <a:graphic>
          <a:graphicData uri="http://schemas.openxmlformats.org/drawingml/2006/table">
            <a:tbl>
              <a:tblPr/>
              <a:tblGrid>
                <a:gridCol w="4037040"/>
                <a:gridCol w="23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Phase Beg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9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Requirements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2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 Design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07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s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9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20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533520" y="5181480"/>
            <a:ext cx="47242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PPL Budget   $500k - $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8D03-7082-4911-B2C1-A757FB31FB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68FD-0F37-4CF0-B314-7B606F8E18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etty Day</cp:lastModifiedBy>
  <dcterms:modified xsi:type="dcterms:W3CDTF">2008-09-25T17:23:46Z</dcterms:modified>
  <cp:revision>37</cp:revision>
  <dc:subject/>
  <dc:title>Instructions</dc:title>
</cp:coreProperties>
</file>