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85847-32B4-4E2C-934F-452082BD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2AB01-584F-4C96-A6FC-26C9E67D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AE2D4-D664-4883-8C9B-03631D4E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EE8A0-93C6-4CC8-898A-67A9843D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F5FD-E333-42CB-BD9B-B49940AE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1C41-4A1A-484A-B142-343BF109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2894-9FD8-4DFA-AE05-EACECA1A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D866-CEA9-4762-A84E-17D69668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DF92-F792-4F6E-9B1C-9A75DB9E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1A1C-D25E-48F4-B365-FB44E83F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B63D-CF02-4935-8040-62A8A241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5EA8B-BF54-448B-8E3A-FC887800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26C4-892D-4161-8584-F60622AB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423B-ABAA-4793-A5C1-3489711B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AEB4-E260-4554-842D-D6CD7134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F149-DA47-4192-ADC4-0FC725E1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7EBB-58EC-4947-BBEE-3B4DD28F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6339-27E5-4010-8969-25210E26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CED9B-A042-4BEB-BAA7-736143B0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AD410-19CF-4324-8F40-6789DF60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FE7FA-A83E-43DD-9F7E-8A8365F1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1E27-E506-40C6-8FBC-EF5A9D1A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DB28E-E222-43A0-A296-A806FF7B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52D5A-5709-4833-AF83-7536B8D4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EE57-05E6-41E4-ABC5-9E220646C0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477E-8BA7-4ECF-BB06-E5F997CDC4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81280"/>
            <a:ext cx="77724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Protocol Revision Subcommitte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tober 2,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124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Resource Node Updated Definitio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25909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36576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s to M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25909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$100k-$150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129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Section 15, Synchronization of Zonal Protocol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0200"/>
          <a:ext cx="8229600" cy="39495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nchronizes Section 15, Customer Registration, in nodal protocol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letes nodal protocol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with one abstention from the Consumer Market Segment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ncremental impact to nodal budget or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144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Five RUC Deployments Needed Before Requiring Verifiable Cost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600200"/>
          <a:ext cx="8229600" cy="39495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Verifiable Costs Working Group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creases the time QSEs have to prepare verifiable cost submissions for units unlikely to be struck in RUC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duces ERCOT cost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with one abstention from the Consumer Market Segment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ncremental impact to nodal budget or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R/NPRR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vision Requests Recommended for Approv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RR 769 – EECP Media Appeal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NPRR 102 – Implementation of PUC Subst. R. 25.505(f), Publication of Resource and Load Inform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NPRR 113 – Load Resource Type Indicator for A/S Trades and Self-Arranged A/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NPRR 124 – Resource Node Updated Defini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NPRR 129 – Section 15, Synchronization of Zonal Protoco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NPRR 144 – Five RUC Deployments Needed Before Requiring Verifiable Co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S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1120" y="1985760"/>
            <a:ext cx="792936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 PRRs for Approv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 NPRRs for Approv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 PRR Rejec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R 754 – Resource Settlement Due to Forced Transmission Out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09 PPL Upd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RCOT to review 2009 PPL and communicate back with subcommitte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69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EECP Media Appeal Chang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1752480"/>
          <a:ext cx="8076960" cy="3970440"/>
        </p:xfrm>
        <a:graphic>
          <a:graphicData uri="http://schemas.openxmlformats.org/drawingml/2006/table">
            <a:tbl>
              <a:tblPr/>
              <a:tblGrid>
                <a:gridCol w="3047760"/>
                <a:gridCol w="639720"/>
                <a:gridCol w="438948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Operations Working Group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moves the required energy conservation media appeal from EECP Step 2 and allows ERCOT to issue a media appeal for energy conservation at management’s discretion without CEO authoriz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lows ERCOT to use operational judgment in issuing energy conservation media appeal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vember 1, 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69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EECP Media Appeal Chang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PRR 102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– Implementation of PUC Subst. R. 25.505(f), Publication of Resource and Load Information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39495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 for TPTF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corporates disclosure requirements from PUC Rul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liance with PUC Rul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mpacts EMS, MMS, COMS, EIS and M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with one abstention from the Consumer Market Segment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ncremental impact to nodal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PRR 102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– Implementation of PUC Subst. R. 25.505(f), Publication of Resource and Load Information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25909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31240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36576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41911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25909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$1.5M-$2.0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31240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0.25 FTE impact to E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358128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s to EMS, MMS, COMS, EI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and M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411480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49 reports delivered at Go-Live, 24 post-Go-L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113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Load Resource Type Indicator for A/S Trades and Self-Arranged A/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s indicator to self-arranged A/S and A/S trades to show if Responsive Reserve services are being provid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creases transparency of which RRS type is being provid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mpacts MMS, EMS, and E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ncremental impact to nodal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113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Load Resource Type Indicator for A/S Trades and Self-Arranged A/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5909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36576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25909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$500k-$1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s to MMS, EMS, and E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124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– Resource Node Updated Definitio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600200"/>
          <a:ext cx="8229600" cy="38210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rifies definition of Resource Node and specifies the different Resource Node types that meet nodal requirement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commodates full range of intended capability in nodal marke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mpacts M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ncremental impact to nodal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Reliant</cp:lastModifiedBy>
  <dcterms:modified xsi:type="dcterms:W3CDTF">2008-10-01T20:47:55Z</dcterms:modified>
  <cp:revision>253</cp:revision>
  <dc:subject/>
  <dc:title>Protocol Revision Subcommittee</dc:title>
</cp:coreProperties>
</file>