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770-E6EC-434E-86AC-9B0B63D7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56A-718C-4231-9376-4B48BDF2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BCF-783B-4D3F-B1F9-913436CF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A45-B0DB-4FC9-9A10-B4451C13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5CB5-A940-4D37-B226-84C913F1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35B-D45C-4E37-9949-12C60D0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23BE-49D8-4F65-8C9C-8695B16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D45F-63A6-4245-A538-980B4DE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CDA-6D3C-4914-983A-CD56521A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4754-C621-4263-A7EC-624AFC71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4D2D-F6B6-4D12-9C22-E245807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A07-8813-4CB2-857D-659FE4A0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9D6-AF99-4BF4-B9C3-8606A9E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3EE-ACF3-4C91-AA2F-251A3B8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6EA9-02FE-449F-B466-1379572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AD0-5D64-4E0E-A980-794936C0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B67-E79F-4D4E-AB41-983905CB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6A6-BC5A-4C19-B6CD-FDB2422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686-D6E7-474A-AF5B-9DEB032F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BF3-432A-4C15-8C0D-301B899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112-F19F-4D00-8B79-05FE13B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A5A-CB20-46B4-91A4-7AB029D6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6EF-7503-479C-85DA-C798838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EC0-79E0-4313-A92E-221D353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A6EE-1CDD-4A29-9053-643D23AD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E84-ECDA-48C7-AC32-BA6E5399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October 2, 2008 TAC Meeting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(approved at ROS September meeting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GRR2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ltage Ride-Through (VRT) Requi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GRR208 - Background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s Working Group (OWG) could not come to consensus on several issues regarding OGRR208.  These issues were brought to the August 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S meeting for consideration.  ROS resolved the majority issues with the exception of compliance and grandfathering of Wind-power Generation Resources (WGR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 remanded OGRR208 to OWG for further vetting of this iss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WG brought their recommendation back to the September 1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S meet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9/11/08 ROS Vote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0712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voted to recommend approval of OGRR208 as recommended by OWG and as revised by ROS.   The motion passed unanimous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1911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71 (Wind Ramp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-sponsored PRR, did not address ramp rate when responding to changes in wind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TF had been directed to study this matter further; WOTF recommended PRR 771 proceed as written – ROS 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TF identified various other ways to address changes in wind speed, which WOTF will explore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d PRR language to change Black Start selection cycle from one year to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rsed ERCOT proposed Ancillary Servic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rsed EECP Event Investiga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CWG completed Wind Workshop Assignment relating to 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AR Study Update – Refer to DWG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A. Boren</cp:lastModifiedBy>
  <dcterms:modified xsi:type="dcterms:W3CDTF">2008-09-18T18:57:53Z</dcterms:modified>
  <cp:revision>76</cp:revision>
  <dc:subject/>
  <dc:title>ROS’ Action Plan – Following Up on 2/26 EECP &amp; Wind Workshop Issues</dc:title>
</cp:coreProperties>
</file>