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EB95-890F-45E8-865C-EF7C3095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FBD9-F74A-4849-850A-90BB846A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1C0E-963B-4047-864B-8BFB35F2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FF39-8E17-49E1-B2AE-EBE23307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D452-5638-4885-958C-2098E397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8E7A-E14B-4292-9F4F-FCCE5708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7711-F0A1-47A3-A071-FE35C750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B21E-D2C8-45AB-84B4-549708BE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19A8-81AF-4B82-98D4-4E7A58E4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9E47-9CB3-4405-9612-D7C074A2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5C8A-90D6-4164-A80E-297B48F3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1913-9C99-42F6-A74E-010C9B0A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C567-34BA-449D-9FCB-996748680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21B6-EDE8-4E4F-B611-7D8184742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ptember 24, 200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RR Impact Analysi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 Project Re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Project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D40F-47C3-4E7F-BB2E-47C4788904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NPRR Impact Analysi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RR Impact Analysis is now procee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the Board’s desire to bring a heightened awareness of changes to the Nodal project, we have added two ERCOT executive approval steps to the Impact Analysis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PTF declares an NPRR “Needed for Go-Live”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is required by the Nodal Program Director before Nodal resources can be applied to the Impact Analysis eff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ERCOT disagrees with TPTF’s determination of “Needed for Go-Live”, immediate communication will be provided to TPTF and P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approval required by CEO before Impact Analysis is posted for P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 approval steps are being applied to all NPRRs from this point forw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176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176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829C-96C9-4147-AD6C-A8347D8E19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2009 Project List Reassessme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is beginning a review of the 2009 project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ing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al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drawal of ERCOT fee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considerations in the reassessment of 2009 project nee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wha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on’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required due to the Nodal de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wha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needed to keep Zonal systems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 funding for key market projects (such as Advanced Met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carryover funding needed by activ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ppropriate market subcommittees will be involv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ing of reforecast isn’t definitive but if the process goes well we will bring a draft 2009 project list to PRS in Octo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5705-7494-48B6-AD96-4A478E560A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8 Project Implemen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uary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50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ETL Tool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ebru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44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 Center Facility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05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SAS70 Procedures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12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ber Security Project #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37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-3 Microwave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35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 REC Program Mod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60055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Servi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60013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igital Certificate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38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.com Infrastructure Enhanc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llage Infrastructure Redesig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13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porate Documen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41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ylor Control Room Display System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pr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6EC59-8E91-40EF-967A-66F36E45B1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8 Project Implementations (cont’d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48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V90xi System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53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deo Teleconfer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55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roduction SAN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60077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RCOT.com Registered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70030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llabs DCCS System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80022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ditional SAN Capacity for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July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60008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rms and Conditions &amp; Performance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70023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yberSecurity Project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70047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rporate Application Environment True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80010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uby Standard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60073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Recru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AD25-A281-4C49-A26E-607669D1BF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990720"/>
            <a:ext cx="8305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8 Project Implementations (cont’d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60015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Data Model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80035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net Assessment HR &amp;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54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de Re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ED95-BBB8-472B-A025-05BADFABF0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8-09-22T01:25:28Z</dcterms:modified>
  <cp:revision>290</cp:revision>
  <dc:subject/>
  <dc:title>Instructions</dc:title>
</cp:coreProperties>
</file>