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7B9DBB7-ECC8-4B6C-8DBA-BA1A5160A3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933392C-DF82-4666-A783-ABC7638E4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2C75EDD-CB78-482F-B284-92E8677491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F6CCDA1-864C-4DEA-A0AE-37E9229BC6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805424B-0053-4304-882E-249FEA2C08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65F05D9-6FAA-4998-9545-A9DA5BA1ED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35CB310-C4B4-41AD-B3FB-42E4E0F3D8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86A77C3-2DAB-44B2-BF95-282B93DFEF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1403082-1751-4A83-A8A1-02DE1EFCFB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040B929-E5AD-4CB2-95AD-846760AC83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560F70B-0163-4C7E-8865-2B782FBB6D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BB08C7F-2917-4098-8796-73E53329748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4613-ED7B-4F5D-995B-67E8260F2D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DDCE-B4B4-4A34-84E1-BF074D798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2008 Market Participant Survey Action Plan</a:t>
            </a:r>
            <a:br>
              <a:rPr sz="2400"/>
            </a:br>
            <a:endParaRPr b="0" lang="en-US" sz="2400" spc="-1" strike="noStrike">
              <a:solidFill>
                <a:srgbClr val="ffffff"/>
              </a:solidFill>
              <a:latin typeface="Arial Black"/>
            </a:endParaRPr>
          </a:p>
        </p:txBody>
      </p:sp>
      <p:sp>
        <p:nvSpPr>
          <p:cNvPr id="90"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le Goodman</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rector, Market Services</a:t>
            </a:r>
            <a:endParaRPr b="0" lang="en-US" sz="2000" spc="-1" strike="noStrike">
              <a:solidFill>
                <a:srgbClr val="ffffff"/>
              </a:solidFill>
              <a:latin typeface="Arial Black"/>
            </a:endParaRPr>
          </a:p>
        </p:txBody>
      </p:sp>
      <p:sp>
        <p:nvSpPr>
          <p:cNvPr id="4" name="PlaceHolder 3"/>
          <p:cNvSpPr>
            <a:spLocks noGrp="1"/>
          </p:cNvSpPr>
          <p:nvPr>
            <p:ph type="dt" idx="4"/>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08"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R and SCR Process</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tands to benefit from efforts to educate the market on the importance of the process involving the committee structure in developing and revising market rules</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olicit feedback from market to clarify this issue to gain definition of the Market Participant issu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address the process in education module improvements in training courses</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to assign to subcommittee or task force to determine if the survey segment of Market Participant staff members who raised issue has knowledge of process or if knowledge is required.</a:t>
            </a:r>
            <a:endParaRPr b="0" lang="en-US" sz="1600" spc="-1" strike="noStrike">
              <a:solidFill>
                <a:srgbClr val="000000"/>
              </a:solidFill>
              <a:latin typeface="Arial"/>
            </a:endParaRPr>
          </a:p>
          <a:p>
            <a:pPr lvl="4" marL="2057400" indent="-228600">
              <a:lnSpc>
                <a:spcPct val="9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gree of Issue</a:t>
            </a:r>
            <a:endParaRPr b="0" lang="en-US" sz="1600" spc="-1" strike="noStrike">
              <a:solidFill>
                <a:srgbClr val="000000"/>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10"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tracts and Reports Expectation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 in application of data extract Protocols and/or market guides and should ERCOT investigate expectations compared to actual delivery </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believes it understands the issue and has been working to improve delivery by developing SLAs in the market proces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to solicit COPS to define expectations and define substance of extract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and Define Introduction of new Protocol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also requests TAC to assign any non-COPS type issues to the TASOR Task Force for placement </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12" name="PlaceHolder 2"/>
          <p:cNvSpPr>
            <a:spLocks noGrp="1"/>
          </p:cNvSpPr>
          <p:nvPr>
            <p:ph/>
          </p:nvPr>
        </p:nvSpPr>
        <p:spPr>
          <a:xfrm>
            <a:off x="457200" y="837720"/>
            <a:ext cx="82296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Training and Seminars</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may wish to increase outreach to Market Participant staff members regarding availability and benefits of ERCOT training</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plans to enhance and improve LM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explore webinar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review communication of training session announcements and opportunitie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continue current level of on-site train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re-examine requirements post-Nodal</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begin to share “end-of-class” survey results on training</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solicit input from subcommittees on future training and education outreaches and assist in defining future scop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solicit input from subcommittees on what we are doing well and suggest any changes that would enhance service</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Next Steps</a:t>
            </a:r>
            <a:endParaRPr b="0" lang="en-US" sz="2000" spc="-1" strike="noStrike">
              <a:solidFill>
                <a:srgbClr val="ffffff"/>
              </a:solidFill>
              <a:latin typeface="Arial Black"/>
            </a:endParaRPr>
          </a:p>
        </p:txBody>
      </p:sp>
      <p:sp>
        <p:nvSpPr>
          <p:cNvPr id="114" name="PlaceHolder 2"/>
          <p:cNvSpPr>
            <a:spLocks noGrp="1"/>
          </p:cNvSpPr>
          <p:nvPr>
            <p:ph/>
          </p:nvPr>
        </p:nvSpPr>
        <p:spPr>
          <a:xfrm>
            <a:off x="457200" y="837720"/>
            <a:ext cx="82296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will:</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 requests for assistance from TAC as requi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upport to areas TAC makes assignments as requir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address improvement areas internal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all recommendations/feedback from TAC and begin to develop improvement effort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BOD on Action Planning effort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3200400" y="2590920"/>
            <a:ext cx="2362320" cy="2361960"/>
          </a:xfrm>
          <a:prstGeom prst="rect">
            <a:avLst/>
          </a:prstGeom>
          <a:ln w="0">
            <a:noFill/>
          </a:ln>
        </p:spPr>
      </p:pic>
      <p:sp>
        <p:nvSpPr>
          <p:cNvPr id="116" name=""/>
          <p:cNvSpPr/>
          <p:nvPr/>
        </p:nvSpPr>
        <p:spPr>
          <a:xfrm>
            <a:off x="2666880" y="1752480"/>
            <a:ext cx="3353040" cy="4273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Black"/>
              </a:rPr>
              <a:t>Question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MP Survey Action Plan</a:t>
            </a:r>
          </a:p>
        </p:txBody>
      </p:sp>
      <p:sp>
        <p:nvSpPr>
          <p:cNvPr id="3" name="PlaceHolder 2"/>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Direction</a:t>
            </a:r>
            <a:endParaRPr b="0" lang="en-US" sz="2000" spc="-1" strike="noStrike">
              <a:solidFill>
                <a:srgbClr val="ffffff"/>
              </a:solidFill>
              <a:latin typeface="Arial Black"/>
            </a:endParaRPr>
          </a:p>
        </p:txBody>
      </p:sp>
      <p:sp>
        <p:nvSpPr>
          <p:cNvPr id="9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conducted a Market Participant Survey to gain a perspective from the market as to the level in which ERCOT was meeting its responsibilities.</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ults indicated several areas where ERCOT could improve.</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June 17, 2008 ERCOT Board of Directors meeting, the Directors instructed ERCOT to develop an action plan to address areas of performance identified in the survey.</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development of the action plan to meet the Board’s directive, ERCOT is requesting the TAC to assist in several areas in order to gain a greater clarity and perspective of the Market Participant concerns identified in the survey.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94" name="PlaceHolder 2"/>
          <p:cNvSpPr>
            <a:spLocks noGrp="1"/>
          </p:cNvSpPr>
          <p:nvPr>
            <p:ph/>
          </p:nvPr>
        </p:nvSpPr>
        <p:spPr>
          <a:xfrm>
            <a:off x="457200" y="838080"/>
            <a:ext cx="82296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nding Prioritie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dents concerned with equity, cost effectiveness, and focus of ERCOT spending practic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the communication process when seeking the market’s input on the PP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a better job in educating the market on spending priorities and the process used to reallocate funding via the SR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e to the market earlier in decisions affecting market projects </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provide more clarification on issue to meet stakeholders need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 ERCOT in determining which market groups require greater levels of education and communication as a focu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96" name="PlaceHolder 2"/>
          <p:cNvSpPr>
            <a:spLocks noGrp="1"/>
          </p:cNvSpPr>
          <p:nvPr>
            <p:ph/>
          </p:nvPr>
        </p:nvSpPr>
        <p:spPr>
          <a:xfrm>
            <a:off x="457200" y="837720"/>
            <a:ext cx="8229600" cy="53341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site Satisfaction</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dents less satisfied with look, search functionality, ease of finding document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value of resource to Market Participants</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odal Market redesign should address many of the issues sited in the survey</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 what stakeholders want and need as compared to their use of the sit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s begun plans to replace the tool used to post to the websit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s rolled out Registered Access which should be an improvement</a:t>
            </a:r>
            <a:endParaRPr b="0" lang="en-US" sz="16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assign the TASOR Task Force to be involved in order to solicit and gain input on the appropriate stakeholder forum to gain consensus on needed website improvements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if the issues are business or technical regarding improvements</a:t>
            </a:r>
            <a:endParaRPr b="0" lang="en-US" sz="1600" spc="-1" strike="noStrike">
              <a:solidFill>
                <a:srgbClr val="000000"/>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98" name="PlaceHolder 2"/>
          <p:cNvSpPr>
            <a:spLocks noGrp="1"/>
          </p:cNvSpPr>
          <p:nvPr>
            <p:ph/>
          </p:nvPr>
        </p:nvSpPr>
        <p:spPr>
          <a:xfrm>
            <a:off x="457200" y="837720"/>
            <a:ext cx="8229600" cy="5334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Technical HelpDesk</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desk perceived as not being knowledgeable and simply an answering servic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conduct a user survey based on users filing tickets and solicit direct feedback</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tudy ways to implement improved Helpdesk procedures and processes for assisting stakeholders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cit Helpdesk employee suggestions for handling day to day stakeholder concer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SLA for Helpdesk</a:t>
            </a: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ssign to subcommittee to gain clarity on issues for user requirements and needs assessmen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00"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ute Resolution</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dents want more consistency in resolution response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satisfied with Timeliness in processing dispute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pull data on similar disputes and compare consistency of responses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tracks Timeliness of dispute responses and is within protocols 99.5%</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to spot survey ADRs vs. initial dispute responses</a:t>
            </a:r>
            <a:endParaRPr b="0" lang="en-US" sz="16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ssign to COPS to gain clarity on issues</a:t>
            </a:r>
            <a:endParaRPr b="0" lang="en-US" sz="16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r>
              <a:rPr b="1" lang="en-US" sz="1800" spc="-1" strike="noStrike">
                <a:solidFill>
                  <a:srgbClr val="ffffff"/>
                </a:solidFill>
                <a:latin typeface="Arial Black"/>
              </a:rPr>
              <a:t> </a:t>
            </a:r>
            <a:br>
              <a:rPr sz="1800"/>
            </a:br>
            <a:endParaRPr b="0" lang="en-US" sz="1800" spc="-1" strike="noStrike">
              <a:solidFill>
                <a:srgbClr val="ffffff"/>
              </a:solidFill>
              <a:latin typeface="Arial Black"/>
            </a:endParaRPr>
          </a:p>
        </p:txBody>
      </p:sp>
      <p:sp>
        <p:nvSpPr>
          <p:cNvPr id="102" name="PlaceHolder 2"/>
          <p:cNvSpPr>
            <a:spLocks noGrp="1"/>
          </p:cNvSpPr>
          <p:nvPr>
            <p:ph/>
          </p:nvPr>
        </p:nvSpPr>
        <p:spPr>
          <a:xfrm>
            <a:off x="457200" y="837720"/>
            <a:ext cx="8229600" cy="5410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Staff Communication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taff messages are negatively perceived due to lack of guidance or instructions contained within communications</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perform outreach to stakeholders to clarify the issu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focus on the instructional and guidance aspect of communications as part of the checklist in communication prepara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expand SLA’s over wide range of topic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ssign to subcommittees to gain clarity on issue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04" name="PlaceHolder 2"/>
          <p:cNvSpPr>
            <a:spLocks noGrp="1"/>
          </p:cNvSpPr>
          <p:nvPr>
            <p:ph/>
          </p:nvPr>
        </p:nvSpPr>
        <p:spPr>
          <a:xfrm>
            <a:off x="457200" y="685440"/>
            <a:ext cx="8229600" cy="472428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 Managers</a:t>
            </a:r>
            <a:endParaRPr b="1" lang="en-US" sz="2000" spc="-1" strike="noStrike">
              <a:solidFill>
                <a:srgbClr val="000000"/>
              </a:solidFill>
              <a:latin typeface="Arial"/>
            </a:endParaRPr>
          </a:p>
          <a:p>
            <a:pPr lvl="1" marL="668520" indent="-257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articipant Staff members audience of the survey are not familiar with assigned Account Manager and the assistance structure available</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ine in survey ranking due to perceived reduction in attitude/willingness, accuracy and timeliness of response, industry knowledge, and overall expectations</a:t>
            </a:r>
            <a:endParaRPr b="0" lang="en-US" sz="1600" spc="-1" strike="noStrike">
              <a:solidFill>
                <a:srgbClr val="000000"/>
              </a:solidFill>
              <a:latin typeface="Arial"/>
            </a:endParaRPr>
          </a:p>
          <a:p>
            <a:pPr lvl="2" marL="1028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257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target primary and secondary contacts to promote awareness of Account Manager assignments to stakeholder staff level</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s increased site-visits to introduce account management team</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CEO/COO will stress importance of stakeholder awareness at new employee orientation</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focus on industry knowledge and expertise in hiring/development</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tress importance of timely interaction and response</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d a significant turnover in 2007 Account Manager assignments and has brought on board several new Account Managers with high skill and industry expertise levels</a:t>
            </a:r>
            <a:endParaRPr b="0" lang="en-US" sz="1600" spc="-1" strike="noStrike">
              <a:solidFill>
                <a:srgbClr val="000000"/>
              </a:solidFill>
              <a:latin typeface="Arial"/>
            </a:endParaRPr>
          </a:p>
          <a:p>
            <a:pPr lvl="2" marL="1028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257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feedback from subcommittees on issue and will ask for quarterly survey responses on account management staff</a:t>
            </a:r>
            <a:endParaRPr b="0" lang="en-US" sz="1600" spc="-1" strike="noStrike">
              <a:solidFill>
                <a:srgbClr val="000000"/>
              </a:solidFill>
              <a:latin typeface="Arial"/>
            </a:endParaRPr>
          </a:p>
          <a:p>
            <a:pPr lvl="2" marL="10285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8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 </a:t>
            </a:r>
            <a:br>
              <a:rPr sz="2000"/>
            </a:br>
            <a:endParaRPr b="0" lang="en-US" sz="2000" spc="-1" strike="noStrike">
              <a:solidFill>
                <a:srgbClr val="ffffff"/>
              </a:solidFill>
              <a:latin typeface="Arial Black"/>
            </a:endParaRPr>
          </a:p>
        </p:txBody>
      </p:sp>
      <p:sp>
        <p:nvSpPr>
          <p:cNvPr id="106"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of Settlement Statement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 of settlement statements received a very poor rating and should be explored to increase valu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believes the Nodal Project changes to format will address concerns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olicit the market to gain clarity on current statement format</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vs. Detail of Statement</a:t>
            </a:r>
            <a:endParaRPr b="0" lang="en-US" sz="16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assign COPS to give feedback on the current format and any comments on the Nodal design</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dgoodman</cp:lastModifiedBy>
  <dcterms:modified xsi:type="dcterms:W3CDTF">2008-07-30T13:03:12Z</dcterms:modified>
  <cp:revision>90</cp:revision>
  <dc:subject/>
  <dc:title>Instructions</dc:title>
</cp:coreProperties>
</file>