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FE282-037D-441B-9A23-AE043C452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67A34-FCD7-4AA3-BB69-C45289DB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8768A-A565-46C1-9056-079553CF0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37E62-5BB8-4A85-88A9-C82386E39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7E157-5585-47DC-B2E5-50591358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08E39-BB76-43A3-A89A-A63CD0E4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D2DFC-3B05-4ACF-B65A-18311126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152AF-179E-4C65-894F-2E781FFF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FB69C-3CF3-4202-BC16-13624C6F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05A50-D769-4593-B46C-DF51B538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6678E-5EBA-4482-9480-7DEB4CDD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03D39-DE55-4B26-9689-44A13040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CE74-5D89-46FD-97EF-747386B01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59ED-7A07-4067-99CD-3879D0C42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ngestion Repor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sabel Flor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7 September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OM Up 2007 vs. 2008 - deployments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763120" cy="502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380880" y="5866920"/>
          <a:ext cx="8229600" cy="304920"/>
        </p:xfrm>
        <a:graphic>
          <a:graphicData uri="http://schemas.openxmlformats.org/drawingml/2006/table"/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7 September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alancing Energy Up 2007 vs. 2008 - $M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0880" y="5181480"/>
          <a:ext cx="8229600" cy="1112760"/>
        </p:xfrm>
        <a:graphic>
          <a:graphicData uri="http://schemas.openxmlformats.org/drawingml/2006/table">
            <a:tbl>
              <a:tblPr/>
              <a:tblGrid>
                <a:gridCol w="846360"/>
                <a:gridCol w="1768320"/>
                <a:gridCol w="2000160"/>
                <a:gridCol w="1692360"/>
                <a:gridCol w="1922400"/>
              </a:tblGrid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/ July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 / 0.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 / 0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 / 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 / 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/ July 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9 / 0.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 / 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 / 0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 / 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76312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7 September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alancing Energy Up 2007 vs. 2008 - deployments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763120" cy="487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380880" y="5943240"/>
          <a:ext cx="8229600" cy="228600"/>
        </p:xfrm>
        <a:graphic>
          <a:graphicData uri="http://schemas.openxmlformats.org/drawingml/2006/table"/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7 September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ocal Congestion Costs 2001-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62120" y="5181480"/>
          <a:ext cx="7238520" cy="1101960"/>
        </p:xfrm>
        <a:graphic>
          <a:graphicData uri="http://schemas.openxmlformats.org/drawingml/2006/table">
            <a:tbl>
              <a:tblPr/>
              <a:tblGrid>
                <a:gridCol w="1247760"/>
                <a:gridCol w="998640"/>
                <a:gridCol w="1330920"/>
                <a:gridCol w="1081800"/>
                <a:gridCol w="1331640"/>
                <a:gridCol w="1247760"/>
              </a:tblGrid>
              <a:tr h="32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M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ED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E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M Dow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M 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ru Jul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 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u Jul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8763120" cy="431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7 September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placement Reserve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5866920"/>
          <a:ext cx="8229600" cy="228600"/>
        </p:xfrm>
        <a:graphic>
          <a:graphicData uri="http://schemas.openxmlformats.org/drawingml/2006/table"/>
        </a:graphic>
      </p:graphicFrame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88394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7 September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placement Reserve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610840" cy="449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152280" y="5562720"/>
          <a:ext cx="8458200" cy="485640"/>
        </p:xfrm>
        <a:graphic>
          <a:graphicData uri="http://schemas.openxmlformats.org/drawingml/2006/table">
            <a:tbl>
              <a:tblPr/>
              <a:tblGrid>
                <a:gridCol w="1419480"/>
                <a:gridCol w="942840"/>
                <a:gridCol w="762120"/>
                <a:gridCol w="838080"/>
                <a:gridCol w="1143000"/>
                <a:gridCol w="1143000"/>
                <a:gridCol w="1143000"/>
                <a:gridCol w="10666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usand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 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u Jul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0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2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8.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5.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6.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7 September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CPE 2003-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7 September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-zonal Congestion Costs 2007-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62120" y="5181480"/>
          <a:ext cx="7238520" cy="1101960"/>
        </p:xfrm>
        <a:graphic>
          <a:graphicData uri="http://schemas.openxmlformats.org/drawingml/2006/table">
            <a:tbl>
              <a:tblPr/>
              <a:tblGrid>
                <a:gridCol w="1247760"/>
                <a:gridCol w="998640"/>
                <a:gridCol w="1330920"/>
                <a:gridCol w="1081800"/>
                <a:gridCol w="1331640"/>
                <a:gridCol w="1247760"/>
              </a:tblGrid>
              <a:tr h="32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ru Jul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 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u Jul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8.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83944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7 September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ackground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trend of local congestion costs and deploy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s shown in millions with values provided for June and Ju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M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BE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M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BE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CPE tr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-zonal co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7 September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OMC 2007 vs. 2008 - $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80880" y="5181480"/>
          <a:ext cx="8153640" cy="1085760"/>
        </p:xfrm>
        <a:graphic>
          <a:graphicData uri="http://schemas.openxmlformats.org/drawingml/2006/table">
            <a:tbl>
              <a:tblPr/>
              <a:tblGrid>
                <a:gridCol w="838440"/>
                <a:gridCol w="1752480"/>
                <a:gridCol w="1981080"/>
                <a:gridCol w="1676520"/>
                <a:gridCol w="1905120"/>
              </a:tblGrid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/ July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1 / 0.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4 / 0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5 / 0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 / 0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/ July 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 / 0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4 / 3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 / 0.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2 / 0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61084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7 September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OMC 2007 vs. 2008 – deploymen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76312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7 September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OOM Down 2007 vs. 2008 - $M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5257800"/>
          <a:ext cx="8229600" cy="1033560"/>
        </p:xfrm>
        <a:graphic>
          <a:graphicData uri="http://schemas.openxmlformats.org/drawingml/2006/table">
            <a:tbl>
              <a:tblPr/>
              <a:tblGrid>
                <a:gridCol w="846000"/>
                <a:gridCol w="1768680"/>
                <a:gridCol w="2000160"/>
                <a:gridCol w="1692360"/>
                <a:gridCol w="19224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/ July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 / 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 / 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 / 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 / 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/ July 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 / 0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 / 0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 / 0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3 / 2.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763120" cy="440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7 September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OM Down 2007 vs. 2008 - deployments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686800" cy="472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457200" y="5638680"/>
          <a:ext cx="8229600" cy="152640"/>
        </p:xfrm>
        <a:graphic>
          <a:graphicData uri="http://schemas.openxmlformats.org/drawingml/2006/table"/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7 September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alancing Energy Down 2007 vs. 2008 - $M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5181480"/>
          <a:ext cx="8229600" cy="1084320"/>
        </p:xfrm>
        <a:graphic>
          <a:graphicData uri="http://schemas.openxmlformats.org/drawingml/2006/table">
            <a:tbl>
              <a:tblPr/>
              <a:tblGrid>
                <a:gridCol w="846000"/>
                <a:gridCol w="1768680"/>
                <a:gridCol w="2000160"/>
                <a:gridCol w="1692360"/>
                <a:gridCol w="1922400"/>
              </a:tblGrid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/ July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1 / 0.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3 / 0.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 / 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 / 0.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/ July 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9 / 0.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 / 0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 / 0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6 / 0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686800" cy="439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7 September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alancing Energy Down 2007 vs. 2008 - deployment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763120" cy="4953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57200" y="5943240"/>
          <a:ext cx="8229600" cy="228600"/>
        </p:xfrm>
        <a:graphic>
          <a:graphicData uri="http://schemas.openxmlformats.org/drawingml/2006/table"/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7 September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OOM Up 2007 vs. 2008 - $M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5105520"/>
          <a:ext cx="8229600" cy="1109520"/>
        </p:xfrm>
        <a:graphic>
          <a:graphicData uri="http://schemas.openxmlformats.org/drawingml/2006/table">
            <a:tbl>
              <a:tblPr/>
              <a:tblGrid>
                <a:gridCol w="846000"/>
                <a:gridCol w="1768680"/>
                <a:gridCol w="2000160"/>
                <a:gridCol w="1692360"/>
                <a:gridCol w="1922400"/>
              </a:tblGrid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/ July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4 / 0.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 / 0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 / 0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 / 0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/ July 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7 / 0.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 / 0.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 / 0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1 / 0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991720" cy="42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7 September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ercot/if</cp:lastModifiedBy>
  <dcterms:modified xsi:type="dcterms:W3CDTF">2008-09-17T01:14:38Z</dcterms:modified>
  <cp:revision>35</cp:revision>
  <dc:subject/>
  <dc:title>Instructions</dc:title>
</cp:coreProperties>
</file>