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0CD37A-A689-42B7-BA89-AF5FB08F7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81160" y="696960"/>
            <a:ext cx="4648320" cy="3486240"/>
          </a:xfrm>
          <a:prstGeom prst="rect">
            <a:avLst/>
          </a:prstGeom>
          <a:ln w="0">
            <a:noFill/>
          </a:ln>
        </p:spPr>
      </p:sp>
      <p:sp>
        <p:nvSpPr>
          <p:cNvPr id="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95D27-4589-4D57-BBD9-353A102F2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3E7EB-7F1E-496F-8E3E-A79A202FE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0A8C7-4484-463F-AA88-12CF9C9FB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82E9-C272-4C40-A2FC-84434D925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5A2A2-A4DC-4282-A1E3-AB58460A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C76BE-5DD6-4A2E-809B-29CA99D9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B667-D9A6-42FA-9E76-F28A6DF7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7B60-F54C-4549-81C3-4E59A30CA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8381880" cy="50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0D48A-FD2B-4D8F-A569-98E4B6778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94B4-28A6-49E6-A1BF-D549FEB39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26CD-1AE5-4054-9728-61325B74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8FDB-0956-4E96-B8B6-75E664B98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96FC-9E7F-409E-98CB-051958985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228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estion Management Work Group Updat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to WMS September 2008</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uerite Wagner, PSE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ly/Aug Work Summar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Report</a:t>
            </a:r>
            <a:endParaRPr b="0" lang="en-US" sz="32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 8/27, </a:t>
            </a:r>
            <a:r>
              <a:rPr b="0" lang="en-US" sz="2500" spc="-1" strike="noStrike">
                <a:solidFill>
                  <a:srgbClr val="000000"/>
                </a:solidFill>
                <a:latin typeface="Arial"/>
              </a:rPr>
              <a:t>(9/15 mtg cancelled –Hurricane Ike)</a:t>
            </a:r>
            <a:endParaRPr b="0" lang="en-US" sz="25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Cap Issues for Nod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 North Stability Lim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age Schedu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Constraint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9 CSC/CREs</a:t>
            </a:r>
            <a:endParaRPr b="0" lang="en-US" sz="4400" spc="-1" strike="noStrike">
              <a:solidFill>
                <a:srgbClr val="000000"/>
              </a:solidFill>
              <a:latin typeface="Arial"/>
            </a:endParaRPr>
          </a:p>
        </p:txBody>
      </p:sp>
      <p:sp>
        <p:nvSpPr>
          <p:cNvPr id="54"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TAC approved Scenario 3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developed/sent out preliminary C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 9/16/08 Remand of CSC Decision to TA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valuate 3b, 3h, 3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ecommendation of CSC &amp; CRE for next BOD mee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eet timeline, ERCOT will forward information to WMS &amp; CMW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WG will not hold separate meetings for evaluation of updated information CSC/C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view will be conducted by WMS and T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a:r>
            <a:r>
              <a:rPr b="0" lang="en-US" sz="4400" spc="-1" strike="noStrike">
                <a:solidFill>
                  <a:srgbClr val="000000"/>
                </a:solidFill>
                <a:latin typeface="Wingdings"/>
                <a:ea typeface="Wingdings"/>
              </a:rPr>
              <a:t></a:t>
            </a:r>
            <a:r>
              <a:rPr b="0" lang="en-US" sz="4400" spc="-1" strike="noStrike">
                <a:solidFill>
                  <a:srgbClr val="000000"/>
                </a:solidFill>
                <a:latin typeface="Arial"/>
              </a:rPr>
              <a:t>N Stability Limit</a:t>
            </a:r>
            <a:endParaRPr b="0" lang="en-US" sz="4400" spc="-1" strike="noStrike">
              <a:solidFill>
                <a:srgbClr val="000000"/>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
            </a:r>
            <a:r>
              <a:rPr b="1" lang="en-US" sz="2800" spc="-1" strike="noStrike">
                <a:solidFill>
                  <a:srgbClr val="000000"/>
                </a:solidFill>
                <a:latin typeface="Wingdings"/>
                <a:ea typeface="Wingdings"/>
              </a:rPr>
              <a:t></a:t>
            </a:r>
            <a:r>
              <a:rPr b="1" lang="en-US" sz="2800" spc="-1" strike="noStrike">
                <a:solidFill>
                  <a:srgbClr val="000000"/>
                </a:solidFill>
                <a:latin typeface="Arial"/>
              </a:rPr>
              <a:t>N Transfer Study Request from CMWG 8/27 to W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questions as to the validity and commercial impact of the W</a:t>
            </a:r>
            <a:r>
              <a:rPr b="0" lang="en-US" sz="2800" spc="-1" strike="noStrike">
                <a:solidFill>
                  <a:srgbClr val="000000"/>
                </a:solidFill>
                <a:latin typeface="Wingdings"/>
                <a:ea typeface="Wingdings"/>
              </a:rPr>
              <a:t></a:t>
            </a:r>
            <a:r>
              <a:rPr b="0" lang="en-US" sz="2800" spc="-1" strike="noStrike">
                <a:solidFill>
                  <a:srgbClr val="000000"/>
                </a:solidFill>
                <a:latin typeface="Arial"/>
              </a:rPr>
              <a:t>N Stability Limits. Recommend to WMS that ERCOT begin studies to refine/validate the existing limits recognizing that transient and voltage stability are also issues.  We support ERCOT in producing an “optimal” interface for measure and then determine how best to implement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PSS Surv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6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dal SP Cap Recommendation</a:t>
            </a:r>
            <a:endParaRPr b="0" lang="en-US" sz="4400" spc="-1" strike="noStrike">
              <a:solidFill>
                <a:srgbClr val="000000"/>
              </a:solidFill>
              <a:latin typeface="Arial"/>
            </a:endParaRPr>
          </a:p>
        </p:txBody>
      </p:sp>
      <p:sp>
        <p:nvSpPr>
          <p:cNvPr id="58"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 SP Cap Recommendations discussed 8/27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ments received to date on this issu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y CMWG will recommend these values to W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ai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ase/Voltage/Cascading:  $5,000/M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5 kV:  $4,500/MW</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8 kV:  $3,500/MW</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kV:  $2,800/MW</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Bala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1/MW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as indicated that the ability to specify the power balance penalty factor as a curve is being develop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age Evaluation Concepts Discussed 8/27/08</a:t>
            </a:r>
            <a:endParaRPr b="0" lang="en-US" sz="4000" spc="-1" strike="noStrike">
              <a:solidFill>
                <a:srgbClr val="000000"/>
              </a:solidFill>
              <a:latin typeface="Arial"/>
            </a:endParaRPr>
          </a:p>
        </p:txBody>
      </p:sp>
      <p:sp>
        <p:nvSpPr>
          <p:cNvPr id="60" name="PlaceHolder 2"/>
          <p:cNvSpPr>
            <a:spLocks noGrp="1"/>
          </p:cNvSpPr>
          <p:nvPr>
            <p:ph/>
          </p:nvPr>
        </p:nvSpPr>
        <p:spPr>
          <a:xfrm>
            <a:off x="380880" y="1447560"/>
            <a:ext cx="8305920" cy="5105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minant Proposa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 in outage scheduling process, timing, or reporting by TSPs or Resour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ree sentence change to the protocols that would fit in both the Zonal and Nodal Protocol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ould perform an economic analysis only on outages that they believe might be very “expensive” to the market. They could look for a more coordinated way to schedule the outages if there was time and discuss timing change with the TSP similar to the way they do today for reliability issues. This study would not be grounds for ERCOT to reject an outa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ransmission outage were coordinated with a generation outage the generator would be informed. This would not restrict a generator from changing the outag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ould post on the MIS all outages that exceeded a preset economic valu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TOs submitting 345 kV outages two months ahead of month in which it is scheduled to occur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from Centerpoint (urging review of PURA requirements and noting that eco evaluation is a “major market policy change” &amp; Horiz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s on Outage Scheduling—not yet discussed by CMWG</a:t>
            </a:r>
            <a:endParaRPr b="0" lang="en-US" sz="4000" spc="-1" strike="noStrike">
              <a:solidFill>
                <a:srgbClr val="000000"/>
              </a:solidFill>
              <a:latin typeface="Arial"/>
            </a:endParaRPr>
          </a:p>
        </p:txBody>
      </p:sp>
      <p:sp>
        <p:nvSpPr>
          <p:cNvPr id="62"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point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upportive of more coordination of 345 outage submission timelines to assist TCR/CRR au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economic outage evaluatio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ge review of PURA requirement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conomic outage evaluation is a “major market policy change”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ing discussion of issue at TAC or PUC</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s ERCOT consideration of market participant comments in outage scheduling process along with some level of economic evalu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would submit comments to ERCO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would not be grounds for rejecting an outage.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could provide a more comprehensive view of the impact of a proposed outage. ERCOT could use insight to coordinate with TS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3818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endParaRPr b="0" lang="en-US" sz="4000" spc="-1" strike="noStrike">
              <a:solidFill>
                <a:srgbClr val="000000"/>
              </a:solidFill>
              <a:latin typeface="Arial"/>
            </a:endParaRPr>
          </a:p>
        </p:txBody>
      </p:sp>
      <p:sp>
        <p:nvSpPr>
          <p:cNvPr id="64" name="PlaceHolder 2"/>
          <p:cNvSpPr>
            <a:spLocks noGrp="1"/>
          </p:cNvSpPr>
          <p:nvPr>
            <p:ph/>
          </p:nvPr>
        </p:nvSpPr>
        <p:spPr>
          <a:xfrm>
            <a:off x="380880" y="1219320"/>
            <a:ext cx="8305920" cy="533376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Competitive Constraint Te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Updat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coming Meet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yet schedu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4:19:45Z</dcterms:created>
  <dc:creator>Reliant-mw</dc:creator>
  <dc:description/>
  <dc:language>en-US</dc:language>
  <cp:lastModifiedBy>PSEG</cp:lastModifiedBy>
  <dcterms:modified xsi:type="dcterms:W3CDTF">2008-09-17T11:52:32Z</dcterms:modified>
  <cp:revision>43</cp:revision>
  <dc:subject/>
  <dc:title>Congestion Management Work Group Update</dc:title>
</cp:coreProperties>
</file>