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E6D-4610-4EF4-8F06-C491459A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F3D-57A8-49EC-98A9-4ECCD8D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E9D-6FA3-4CC7-8C41-3E95E127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D0B-B0DC-46EC-AFFF-6F445C37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1115-2254-4A06-AA60-8E888C71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544C-CE72-466A-BBBE-AE74E07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700-3C7E-403D-956B-EFA03E6F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7C1B-7B2C-4389-A277-219AACEB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EEDB-0536-40DA-B80F-A5BDD16E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4B33-348D-4387-8140-D5E0805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DD4-7C14-4A90-93D6-AD2CAFA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753-DA6C-410D-A33E-7EEB6889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1CF9-6317-4C61-98B0-0E23932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3942-BA3A-4D8C-B6A6-EA86D43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417E-6232-410A-ABA1-0C2F167F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16F6-5010-43B9-BEAA-9A88A494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8E6-D7B3-4125-8EB7-E4E332DE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467-92FF-414B-9422-3536225A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B51-4360-4BB2-B41E-CA0318A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046-E5CA-429F-812D-6B03AC11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BFD-F3AA-443F-B046-9F4DF4D5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266-5CD9-4923-A25D-2832F31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D52-BB4A-41A8-9C37-C6AFD918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18F-8B43-4CAE-BEA9-FFCB9081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F51-BDD1-4CC2-A4C5-2035C360CA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1B9-0FCA-48B6-90DC-8FFB39A278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RR Credit Policy Task Forc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Update – August 2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R Obligation Margin Ad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RR140 revises the $10 and $15 values to “X” and “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RR discussions at TPTF w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ification of these values can be accomplished in the curren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investigation is needed on the Rome system for ongoing credit 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PTF would defer to TAC as to the appropriate values of “X” and “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PTF would like this value reviewed at least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RR CPTF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R Auction Margi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one adder in curr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values (risk) will vary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sold, credit risk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tection, auction margin should be “reasonably”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ture, systems may be modified (iterative or o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R Ongoing Margi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system currently not equipped to use more than on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in this system may be simpler than auction (due to inclusion in 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or lookup table could be used to better match act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ecting a Value for “X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YISO uses an adder that varies based on time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00/MW –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0/MW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0/MW - an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is based on analysis of risk using actual data and a threshold of 3% for one and six month rights, and 5% for annual rights (see study referenced belo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ould adopt a similar approach for the start of the market (or some multiplier thereof recognizing higher offer ca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we gain experience a similar study could be performed on our market and the values reset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248520"/>
            <a:ext cx="75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nyiso.com/public/webdocs/committees/mc/meeting_materials/2007-10-24/mc_agenda_06_TCC_Credit_Presentation_final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60F-64C7-4D6B-A4A4-FF4382A5A4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id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six months of the market, auctions will only be for monthly instr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this, a “balance of the year” auction will be h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carry reduced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will be available for review prior to the annual a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e should reset the value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e start of the market adopt a margin adder that is three times that of NY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1800/MW for month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6000/MW * remaining months in the year/6 for the “balance of the year a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 to the first annual auction, a study process will be developed and studies will be run to establish the appropriate margin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51:15Z</dcterms:created>
  <dc:creator>greerc</dc:creator>
  <dc:description/>
  <dc:language>en-US</dc:language>
  <cp:lastModifiedBy>greerc</cp:lastModifiedBy>
  <dcterms:modified xsi:type="dcterms:W3CDTF">2008-08-13T16:24:13Z</dcterms:modified>
  <cp:revision>13</cp:revision>
  <dc:subject/>
  <dc:title>CRR Credit Policy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qminfo">
    <vt:r8>7</vt:r8>
  </property>
  <property fmtid="{D5CDD505-2E9C-101B-9397-08002B2CF9AE}" pid="3" name="lqmsess">
    <vt:lpwstr>01c399ea-54db-400e-8ae9-04685f11ba4e</vt:lpwstr>
  </property>
</Properties>
</file>