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A43-228E-4E45-92A6-E284497E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D9E-C943-474C-968F-B9D38BD6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42F-6F3E-458F-B389-5B108D59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07B-2DD3-4377-A501-54DD23F6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917-1186-402B-A169-EAE4EDBC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E71-8EA6-41C6-BE98-1F7E64EA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44A-4E72-4415-BFE6-03F224D5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357-4AB4-4F5B-9EB8-AC60EA3B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7AA-F581-41EA-A737-59A0077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E9B-A3CF-4DAE-87D0-64AB885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C90-74BE-45D4-9B31-EA70B70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B43-3EA3-46CD-855B-30EE8F4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4E86-653E-44EC-8D1D-C90FFEB8A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Procurement Results using Proposed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pin for 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457200"/>
          <a:ext cx="8686800" cy="6064200"/>
        </p:xfrm>
        <a:graphic>
          <a:graphicData uri="http://schemas.openxmlformats.org/drawingml/2006/table">
            <a:tbl>
              <a:tblPr/>
              <a:tblGrid>
                <a:gridCol w="804960"/>
                <a:gridCol w="1625400"/>
                <a:gridCol w="973080"/>
                <a:gridCol w="1041480"/>
                <a:gridCol w="1366920"/>
                <a:gridCol w="1146240"/>
                <a:gridCol w="172872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Proc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 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Net Load Error combining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MTLF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WGRPP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 Up Requirement for Upcoming Mon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Reg. Up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all On- and Off Peak Hour Separate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pin for Ju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457200"/>
          <a:ext cx="8686440" cy="6233760"/>
        </p:xfrm>
        <a:graphic>
          <a:graphicData uri="http://schemas.openxmlformats.org/drawingml/2006/table">
            <a:tbl>
              <a:tblPr/>
              <a:tblGrid>
                <a:gridCol w="723600"/>
                <a:gridCol w="1706040"/>
                <a:gridCol w="973440"/>
                <a:gridCol w="1042200"/>
                <a:gridCol w="1367280"/>
                <a:gridCol w="1144800"/>
                <a:gridCol w="1729080"/>
              </a:tblGrid>
              <a:tr h="25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Proc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 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Net Load Error combining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MTLF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WGRPP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 Up Requirement for Upcoming Mon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Reg. Up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all On- and Off Peak Hour Separate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pin for Aug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457200"/>
          <a:ext cx="8610480" cy="6072120"/>
        </p:xfrm>
        <a:graphic>
          <a:graphicData uri="http://schemas.openxmlformats.org/drawingml/2006/table">
            <a:tbl>
              <a:tblPr/>
              <a:tblGrid>
                <a:gridCol w="685800"/>
                <a:gridCol w="1722240"/>
                <a:gridCol w="965160"/>
                <a:gridCol w="1033560"/>
                <a:gridCol w="1355760"/>
                <a:gridCol w="1133640"/>
                <a:gridCol w="1714320"/>
              </a:tblGrid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Proc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 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Net Load Error combining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MTLF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WGRPP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 Up Requirement for Upcoming Mon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Reg. Up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all On- and Off Peak Hour Separate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pin for Sept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610480" cy="5867280"/>
        </p:xfrm>
        <a:graphic>
          <a:graphicData uri="http://schemas.openxmlformats.org/drawingml/2006/table">
            <a:tbl>
              <a:tblPr/>
              <a:tblGrid>
                <a:gridCol w="792000"/>
                <a:gridCol w="1646280"/>
                <a:gridCol w="828720"/>
                <a:gridCol w="1236600"/>
                <a:gridCol w="1236960"/>
                <a:gridCol w="1236600"/>
                <a:gridCol w="1633320"/>
              </a:tblGrid>
              <a:tr h="22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Proc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 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Net Load Error combining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MTLF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WGRPP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 Up Requirement for Upcoming Mon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Reg. Up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all On- and Off Peak Hour Separate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tion for Aug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990720"/>
          <a:ext cx="4038840" cy="5675040"/>
        </p:xfrm>
        <a:graphic>
          <a:graphicData uri="http://schemas.openxmlformats.org/drawingml/2006/table">
            <a:tbl>
              <a:tblPr/>
              <a:tblGrid>
                <a:gridCol w="1266840"/>
                <a:gridCol w="1332000"/>
                <a:gridCol w="144000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724280" y="990720"/>
          <a:ext cx="4038480" cy="5675040"/>
        </p:xfrm>
        <a:graphic>
          <a:graphicData uri="http://schemas.openxmlformats.org/drawingml/2006/table">
            <a:tbl>
              <a:tblPr/>
              <a:tblGrid>
                <a:gridCol w="1266840"/>
                <a:gridCol w="1330200"/>
                <a:gridCol w="144144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443960" y="60948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37520" y="609480"/>
            <a:ext cx="42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Methodology (Changed Values in Yel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tion for Sept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990720"/>
          <a:ext cx="3962160" cy="5682960"/>
        </p:xfrm>
        <a:graphic>
          <a:graphicData uri="http://schemas.openxmlformats.org/drawingml/2006/table">
            <a:tbl>
              <a:tblPr/>
              <a:tblGrid>
                <a:gridCol w="1296720"/>
                <a:gridCol w="1393920"/>
                <a:gridCol w="127152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8320" y="990720"/>
          <a:ext cx="4190400" cy="5675040"/>
        </p:xfrm>
        <a:graphic>
          <a:graphicData uri="http://schemas.openxmlformats.org/drawingml/2006/table">
            <a:tbl>
              <a:tblPr/>
              <a:tblGrid>
                <a:gridCol w="1314360"/>
                <a:gridCol w="1380240"/>
                <a:gridCol w="149580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443960" y="60948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37520" y="609480"/>
            <a:ext cx="42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Methodology (Changed Values in Yel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3:54:40Z</dcterms:created>
  <dc:creator>dmaggio</dc:creator>
  <dc:description/>
  <dc:language>en-US</dc:language>
  <cp:lastModifiedBy>jdumas</cp:lastModifiedBy>
  <dcterms:modified xsi:type="dcterms:W3CDTF">2008-09-02T15:14:26Z</dcterms:modified>
  <cp:revision>7</cp:revision>
  <dc:subject/>
  <dc:title>AS Procurement Results using Proposed Methodology</dc:title>
</cp:coreProperties>
</file>