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D48B-8AA1-4481-A689-85458214D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5510-E108-4D63-86A5-9222DD2B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E037-A990-470A-A0B9-52C7030A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D26-BBEA-4BC2-9407-D35E59CF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508C-A95E-40A4-A2B9-878205BF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B82A-D041-4658-9BC0-33BB78AE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7BB-8E89-4683-B96C-B20C2A85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B43F-BAB7-45E0-B3C1-35224490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A5A1-1CEF-4439-A391-9CDB89A7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350E-4ED8-4D7B-B849-164C6AFA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E9B-83F3-4184-9BF8-97A42427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DCBA-C405-4400-8F0B-2EC09BD7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B98D-5498-40F5-A92D-A394C248C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ember 11,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land Power &amp;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67080" y="3170160"/>
          <a:ext cx="609840" cy="51768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Chart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630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3603600" y="152280"/>
            <a:ext cx="2227320" cy="6477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6248520" y="152280"/>
            <a:ext cx="2227320" cy="6477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80880" y="457200"/>
            <a:ext cx="283536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’s Performance to the Proposed New Balancing Authority ACE Limit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1 minute averages of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RCOT: FreqTrigLow=59.932 Hz FreqTrigHigh=60.068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inute: Event            5 minutes in a row: Alarm 30 min in a row: Vio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28520" y="200160"/>
            <a:ext cx="8886960" cy="64576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2514600" y="3429000"/>
            <a:ext cx="4495680" cy="13341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Trigger Limit High = 60.068 Hz (Clock minute average frequenc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limit for 11 minutes.  Violation = 30 min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H="1" flipV="1">
            <a:off x="3352320" y="220932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 flipV="1">
            <a:off x="4495680" y="2209320"/>
            <a:ext cx="13716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6" descr=""/>
          <p:cNvPicPr/>
          <p:nvPr/>
        </p:nvPicPr>
        <p:blipFill>
          <a:blip r:embed="rId1"/>
          <a:stretch/>
        </p:blipFill>
        <p:spPr>
          <a:xfrm>
            <a:off x="152280" y="360360"/>
            <a:ext cx="8839440" cy="6143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7"/>
          <p:cNvSpPr/>
          <p:nvPr/>
        </p:nvSpPr>
        <p:spPr>
          <a:xfrm>
            <a:off x="6934320" y="1523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 11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7696080" y="182880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met on September 9 and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has been working with the TRE to develop SAR-003, the CPS2 Waiver (BAL-001 Regional Varianc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continues analysis of Wind Generator inertia and governor respon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DCWG continues to discuss Nodal market expected control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meeting is October 14 and 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762120" y="380880"/>
            <a:ext cx="2209680" cy="580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C CPS1 for  August  2008 =133.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5638680" y="380880"/>
            <a:ext cx="266724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RC Twelve Month rolling Average CPS1 = 121.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"/>
          <p:cNvPicPr/>
          <p:nvPr/>
        </p:nvPicPr>
        <p:blipFill>
          <a:blip r:embed="rId1"/>
          <a:stretch/>
        </p:blipFill>
        <p:spPr>
          <a:xfrm>
            <a:off x="152280" y="360360"/>
            <a:ext cx="88394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029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4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7620120" y="228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3.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"/>
          <p:cNvPicPr/>
          <p:nvPr/>
        </p:nvPicPr>
        <p:blipFill>
          <a:blip r:embed="rId1"/>
          <a:stretch/>
        </p:blipFill>
        <p:spPr>
          <a:xfrm>
            <a:off x="23760" y="0"/>
            <a:ext cx="90964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4"/>
          <p:cNvSpPr/>
          <p:nvPr/>
        </p:nvSpPr>
        <p:spPr>
          <a:xfrm>
            <a:off x="7620120" y="228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3.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2" descr=""/>
          <p:cNvPicPr/>
          <p:nvPr/>
        </p:nvPicPr>
        <p:blipFill>
          <a:blip r:embed="rId1"/>
          <a:stretch/>
        </p:blipFill>
        <p:spPr>
          <a:xfrm>
            <a:off x="104760" y="0"/>
            <a:ext cx="903924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0"/>
          <p:cNvSpPr/>
          <p:nvPr/>
        </p:nvSpPr>
        <p:spPr>
          <a:xfrm>
            <a:off x="6095880" y="106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8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1"/>
          <p:cNvSpPr/>
          <p:nvPr/>
        </p:nvSpPr>
        <p:spPr>
          <a:xfrm>
            <a:off x="6781680" y="1371600"/>
            <a:ext cx="17528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9" descr=""/>
          <p:cNvPicPr/>
          <p:nvPr/>
        </p:nvPicPr>
        <p:blipFill>
          <a:blip r:embed="rId1"/>
          <a:stretch/>
        </p:blipFill>
        <p:spPr>
          <a:xfrm>
            <a:off x="0" y="0"/>
            <a:ext cx="90392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0"/>
          <p:cNvSpPr/>
          <p:nvPr/>
        </p:nvSpPr>
        <p:spPr>
          <a:xfrm>
            <a:off x="6095880" y="106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.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6705720" y="1295280"/>
            <a:ext cx="16761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22:09:42Z</dcterms:created>
  <dc:creator>Bob Green</dc:creator>
  <dc:description/>
  <dc:language>en-US</dc:language>
  <cp:lastModifiedBy>Green, Bob</cp:lastModifiedBy>
  <dcterms:modified xsi:type="dcterms:W3CDTF">2008-09-08T15:15:37Z</dcterms:modified>
  <cp:revision>81</cp:revision>
  <dc:subject/>
  <dc:title>ROS Report</dc:title>
</cp:coreProperties>
</file>