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260-3258-40EA-9751-81B4DE21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27A-A7D4-46C8-A9BA-33F25B92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398-7227-4C8C-A33D-7AA20298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A48-9581-4490-A9C6-DB823400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382-BDBA-4FFB-9C49-9979D3BA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593-63DE-4C7A-BC7A-0B270251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14CE-E6BE-444A-9106-ACBAD706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1AF1-9138-4F0F-8C83-09DA98E7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D83E-75B0-459D-B1FC-340D514E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E06C-6A98-4CE5-8320-E05CE19E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07A-7BB2-46F2-BF98-CF170CD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9D6-0A41-4734-B6FD-D88C0743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E598-D1F2-4DF9-B7D5-0F56664C2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Ride Through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ind Generation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YSTEM NEEDS MUST BE M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W TECHNOLOGY WIND GENERATORS MEET THE NEW STANDARD AT A REASONABLE COST AND SHOULD BE REQU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XISTING AND FUTURE SYSTEM MUST BE ANALYZED BY COMPREHENSIVE STUDIES TO INSURE PLANNING AND OPERATING CRITERIA ARE M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 DOCUMENTED NEED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RETROACTIVE REQUIR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T FOR COMPLIANCE IS SUBSTA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STUDY PUT FOREWORD DEMONSTRATING THAT THE EXPENDITURE SOLVES ANY KNOWN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RANDFATHERING IS STANDARD PRACT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-- CONVENTIONAL GENERATION REACTIVE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-- WIND GENERATION REACTIVE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– POWER SYSTEM STABILI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C  -- WIND GENERATION VRT REQUI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RC – ALL GENERATION VRT REQUIREMENTS (NOT YET APPRO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2" descr=""/>
          <p:cNvPicPr/>
          <p:nvPr/>
        </p:nvPicPr>
        <p:blipFill>
          <a:blip r:embed="rId1"/>
          <a:stretch/>
        </p:blipFill>
        <p:spPr>
          <a:xfrm>
            <a:off x="450720" y="1511280"/>
            <a:ext cx="830916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9:01:05Z</dcterms:created>
  <dc:creator>WJR</dc:creator>
  <dc:description/>
  <dc:language>en-US</dc:language>
  <cp:lastModifiedBy>WJR</cp:lastModifiedBy>
  <dcterms:modified xsi:type="dcterms:W3CDTF">2008-09-04T19:48:59Z</dcterms:modified>
  <cp:revision>6</cp:revision>
  <dc:subject/>
  <dc:title>VRT FOR WGRs</dc:title>
</cp:coreProperties>
</file>