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5B4F-CB71-4094-B459-81DDBC01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48CE-BE2F-4881-893A-3D91A2E7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1767-7ACF-4490-B563-2A6B250F9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A22-2513-4EB2-8670-55CEA558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04837-0139-45AA-B1E4-7EF4B954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7005-171E-498A-8071-51D18F62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8352-09EC-49BC-8EC1-84FD14BF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3205-3BDA-4C02-AF01-B66D1DED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9C75-E3C2-4426-8397-9576D1AD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7293-6CC3-4E0F-8C49-B5DE436A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43AC-CC2C-415F-8FD1-47A99CB3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D24C-4E4A-4184-A069-4F66167D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7BA1-7214-4AF9-B51D-8F4A6210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3099-0713-4361-9221-6AA7B05F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0BCA-3D97-417D-84EC-0FAB60D7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7C2F-1611-452D-BFC0-8DD99C4CE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5CC2-4778-4FAA-9CDA-4B89ABE6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FC7-2F45-482E-AE91-F2B122CA9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4CB-6541-4CFF-AFBD-36D7BB3C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C8A-103D-4301-BB45-EB53744B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4C3-D826-4EB3-AB17-F5E5AC65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EC16-FA4F-45A4-BC84-657359EE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DF69-3B2C-47EE-A132-41161345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D22-FAAC-4178-AE25-CD23CB8D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DE30-419E-4CE1-A078-7C8E05B9C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c1c2c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c1c2cb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c1c2cb">
                    <a:alpha val="0"/>
                  </a:srgbClr>
                </a:gs>
                <a:gs pos="100000">
                  <a:srgbClr val="9e9fa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c9c9d1"/>
                </a:gs>
                <a:gs pos="100000">
                  <a:srgbClr val="c1c2c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B017-781E-49D5-A545-CE0168F92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19051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ptember 4, 2008 TAC Meeting Summary For Sept. 11 ROS Meeting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4647960"/>
            <a:ext cx="22860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ul Ro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AC Voting Item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OGRR2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etion of References to Back-to-Back Import Capacit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pproved by T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4444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Wind Issues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 Garrett and WMS counter-part provided update on wind issues assigned to 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 Chair announced formation of Wind Integration Working Group (WIWG) reporting to T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chaired by Vice Chairs of ROS and W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clearing-house for wind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ter to be developed in initial organizational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ROS Discussion Items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9360">
            <a:solidFill>
              <a:srgbClr val="f1f1f7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RR208, “Voltage Ride-Through (VRT) Requirem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Star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erve Discount Factor (RDF) Re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 Endorsement of SEM Approach Draft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AC also approved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AR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stimated 1Q 2009 completion – ROS Chair requests update at each monthly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8c8cb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dvised that study future requests could be expedited if funds are provided to hire consultant to do the study with DWG/ROS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3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 Participant Survey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18:52:30Z</dcterms:created>
  <dc:creator>Randy Jones</dc:creator>
  <dc:description/>
  <dc:language>en-US</dc:language>
  <cp:lastModifiedBy>00010966</cp:lastModifiedBy>
  <dcterms:modified xsi:type="dcterms:W3CDTF">2008-09-05T19:35:01Z</dcterms:modified>
  <cp:revision>72</cp:revision>
  <dc:subject/>
  <dc:title>ROS’ Action Plan – Following Up on 2/26 EECP &amp; Wind Workshop Issues</dc:title>
</cp:coreProperties>
</file>