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076E24D-2229-4141-8DDC-CBDD6C57E1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5D88891-7C02-409C-9F47-14BF8E5AD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D9D9C6F-970E-4C4E-8DC5-A2D6E5DE65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19D86DF-6F96-4F15-8FB8-08966A8350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DD179F9-22CE-483B-BD06-AB247618E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DA6AE6D-A924-458F-861E-22E55CCFF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A783306-EE00-4CBA-9B36-63C0053D5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40607D-D6A8-4BD8-B1D7-ADB69C663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D1F4152-DC32-4D4E-A6C5-1DAEB6D35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7419967-FA0D-4AAC-B545-F68039A60B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F92F06-4071-4C4E-93D7-A779ED1CC3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4C6A72A-E82A-4E1F-A1AB-AE726268054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7E5E-E1B9-42A9-A072-7FFFC30D9F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DB266-FD1C-4379-8338-B3EC33843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228600" y="304920"/>
            <a:ext cx="1295280" cy="519120"/>
          </a:xfrm>
          <a:prstGeom prst="rect">
            <a:avLst/>
          </a:prstGeom>
          <a:ln w="0">
            <a:noFill/>
          </a:ln>
        </p:spPr>
      </p:pic>
      <p:sp>
        <p:nvSpPr>
          <p:cNvPr id="48"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1" name="PlaceHolder 2"/>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4760"/>
            <a:ext cx="6019920" cy="123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2008 Market Participant Survey Action Plan</a:t>
            </a:r>
            <a:br>
              <a:rPr sz="2400"/>
            </a:br>
            <a:endParaRPr b="0" lang="en-US" sz="2400" spc="-1" strike="noStrike">
              <a:solidFill>
                <a:srgbClr val="ffffff"/>
              </a:solidFill>
              <a:latin typeface="Arial Black"/>
            </a:endParaRPr>
          </a:p>
        </p:txBody>
      </p:sp>
      <p:sp>
        <p:nvSpPr>
          <p:cNvPr id="90" name="PlaceHolder 2"/>
          <p:cNvSpPr>
            <a:spLocks noGrp="1"/>
          </p:cNvSpPr>
          <p:nvPr>
            <p:ph type="subTitle"/>
          </p:nvPr>
        </p:nvSpPr>
        <p:spPr>
          <a:xfrm>
            <a:off x="2342880" y="3580920"/>
            <a:ext cx="634356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le Goodman</a:t>
            </a:r>
            <a:endParaRPr b="0" lang="en-US" sz="2000" spc="-1" strike="noStrike">
              <a:solidFill>
                <a:srgbClr val="ffffff"/>
              </a:solidFill>
              <a:latin typeface="Arial Black"/>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rector, Market Services</a:t>
            </a:r>
            <a:endParaRPr b="0" lang="en-US" sz="2000" spc="-1" strike="noStrike">
              <a:solidFill>
                <a:srgbClr val="ffffff"/>
              </a:solidFill>
              <a:latin typeface="Arial Black"/>
            </a:endParaRPr>
          </a:p>
        </p:txBody>
      </p:sp>
      <p:sp>
        <p:nvSpPr>
          <p:cNvPr id="4" name="PlaceHolder 3"/>
          <p:cNvSpPr>
            <a:spLocks noGrp="1"/>
          </p:cNvSpPr>
          <p:nvPr>
            <p:ph type="dt" idx="4"/>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8"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R and SCR Proces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nds to benefit from efforts to educate the market on the importance of the process involving the committee structure in developing and revising market rul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feedback from market to clarify this issue to gain definition of the Market Participant issu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address the process in education module improvements in training course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assign to subcommittee or task force to determine if the survey segment of Market Participant staff members who raised issue has knowledge of process or if knowledge is required.</a:t>
            </a:r>
            <a:endParaRPr b="0" lang="en-US" sz="1600" spc="-1" strike="noStrike">
              <a:solidFill>
                <a:srgbClr val="000000"/>
              </a:solidFill>
              <a:latin typeface="Arial"/>
            </a:endParaRPr>
          </a:p>
          <a:p>
            <a:pPr lvl="4" marL="2057400" indent="-228600">
              <a:lnSpc>
                <a:spcPct val="9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gree of Issue</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tracts and Reports Expect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stency in application of data extract Protocols and/or market guides and should ERCOT investigate expectations compared to actual delivery </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it understands the issue and has been working to improve delivery by developing SLAs in the market proces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to solicit COPS to define expectations and define substance of extract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nd Define Introduction of new Protocol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also requests TAC to assign any non-COPS type issues to the TASOR Task Force for placement </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Training and Seminars</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may wish to increase outreach to Market Participant staff members regarding availability and benefits of ERCOT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lans to enhance and improve LM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lore webinar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view communication of training session announcements and opportunitie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tinue current level of on-site train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re-examine requirements post-Nodal</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begin to share “end-of-class” survey results on training</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future training and education outreaches and assist in defining future scop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solicit input from subcommittees on what we are doing well and suggest any changes that would enhance service</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Next Steps</a:t>
            </a:r>
            <a:endParaRPr b="0" lang="en-US" sz="2000" spc="-1" strike="noStrike">
              <a:solidFill>
                <a:srgbClr val="ffffff"/>
              </a:solidFill>
              <a:latin typeface="Arial Black"/>
            </a:endParaRPr>
          </a:p>
        </p:txBody>
      </p:sp>
      <p:sp>
        <p:nvSpPr>
          <p:cNvPr id="114" name="PlaceHolder 2"/>
          <p:cNvSpPr>
            <a:spLocks noGrp="1"/>
          </p:cNvSpPr>
          <p:nvPr>
            <p:ph/>
          </p:nvPr>
        </p:nvSpPr>
        <p:spPr>
          <a:xfrm>
            <a:off x="457200" y="837720"/>
            <a:ext cx="82296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will:</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y requests for assistance from TAC as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support to areas TAC makes assignments as requir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 to address improvement areas internal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ll recommendations/feedback from TAC and begin to develop improvement efforts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 BOD on Action Planning effort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200400" y="2590920"/>
            <a:ext cx="2362320" cy="2361960"/>
          </a:xfrm>
          <a:prstGeom prst="rect">
            <a:avLst/>
          </a:prstGeom>
          <a:ln w="0">
            <a:noFill/>
          </a:ln>
        </p:spPr>
      </p:pic>
      <p:sp>
        <p:nvSpPr>
          <p:cNvPr id="116" name=""/>
          <p:cNvSpPr/>
          <p:nvPr/>
        </p:nvSpPr>
        <p:spPr>
          <a:xfrm>
            <a:off x="2666880" y="1752480"/>
            <a:ext cx="3353040" cy="4273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Black"/>
              </a:rPr>
              <a:t>Question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MP Survey Action Plan</a:t>
            </a:r>
          </a:p>
        </p:txBody>
      </p:sp>
      <p:sp>
        <p:nvSpPr>
          <p:cNvPr id="3" name="PlaceHolder 2"/>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irection</a:t>
            </a:r>
            <a:endParaRPr b="0" lang="en-US" sz="2000" spc="-1" strike="noStrike">
              <a:solidFill>
                <a:srgbClr val="ffffff"/>
              </a:solidFill>
              <a:latin typeface="Arial Black"/>
            </a:endParaRPr>
          </a:p>
        </p:txBody>
      </p:sp>
      <p:sp>
        <p:nvSpPr>
          <p:cNvPr id="9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onducted a Market Participant Survey to gain a perspective from the market as to the level in which ERCOT was meeting its responsibiliti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results indicated several areas where ERCOT could improv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June 17, 2008 ERCOT Board of Directors meeting, the Directors instructed ERCOT to develop an action plan to address areas of performance identified in the survey.</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development of the action plan to meet the Board’s directive, ERCOT is requesting the TAC to assist in several areas in order to gain a greater clarity and perspective of the Market Participant concerns identified in the survey.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4" name="PlaceHolder 2"/>
          <p:cNvSpPr>
            <a:spLocks noGrp="1"/>
          </p:cNvSpPr>
          <p:nvPr>
            <p:ph/>
          </p:nvPr>
        </p:nvSpPr>
        <p:spPr>
          <a:xfrm>
            <a:off x="457200" y="838080"/>
            <a:ext cx="8229600" cy="5029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nding Prioritie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concerned with equity, cost effectiveness, and focus of ERCOT spending practice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 the communication process when seeking the market’s input on the PPL</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 a better job in educating the market on spending priorities and the process used to reallocate funding via the SR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e to the market earlier in decisions affecting market projects </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provide more clarification on issue to meet stakeholders need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st ERCOT in determining which market groups require greater levels of education and communication as a focus</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6"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site Satisfaction</a:t>
            </a:r>
            <a:endParaRPr b="1"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less satisfied with look, search functionality, ease of finding document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value of resource to Market Participants</a:t>
            </a:r>
            <a:endParaRPr b="0" lang="en-US" sz="1600" spc="-1" strike="noStrike">
              <a:solidFill>
                <a:srgbClr val="000000"/>
              </a:solidFill>
              <a:latin typeface="Arial"/>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odal Market redesign should address many of the issues sited in the surve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ze what stakeholders want and need as compared to their use of the 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begun plans to replace the tool used to post to the website</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rolled out Registered Access which should be an improvement</a:t>
            </a:r>
            <a:endParaRPr b="0" lang="en-US" sz="16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the TASOR Task Force to be involved in order to solicit and gain input on the appropriate stakeholder forum to gain consensus on needed website improvements </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ermine if the issues are business or technical regarding improvements</a:t>
            </a:r>
            <a:endParaRPr b="0" lang="en-US" sz="1600" spc="-1" strike="noStrike">
              <a:solidFill>
                <a:srgbClr val="000000"/>
              </a:solidFill>
              <a:latin typeface="Arial"/>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98" name="PlaceHolder 2"/>
          <p:cNvSpPr>
            <a:spLocks noGrp="1"/>
          </p:cNvSpPr>
          <p:nvPr>
            <p:ph/>
          </p:nvPr>
        </p:nvSpPr>
        <p:spPr>
          <a:xfrm>
            <a:off x="457200" y="837720"/>
            <a:ext cx="82296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echnical HelpDesk</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pdesk perceived as not being knowledgeable and simply an answering servic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conduct a user survey based on users filing tickets and solicit direct feedback</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udy ways to implement improved Helpdesk procedures and processes for assisting stakeholder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cit Helpdesk employee suggestions for handling day to day stakeholder concer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SLA for Helpdesk</a:t>
            </a:r>
            <a:endParaRPr b="0" lang="en-US" sz="16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 to gain clarity on issues for user requirements and needs assessmen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0"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 Resolution</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pondents want more consistency in resolution response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satisfied with Timeliness in processing disputes</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ull data on similar disputes and compare consistency of response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racks Timeliness of dispute responses and is within protocols 99.5%</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to spot survey ADRs vs. initial dispute respons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COPS to gain clarity on issues</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r>
              <a:rPr b="1" lang="en-US" sz="1800" spc="-1" strike="noStrike">
                <a:solidFill>
                  <a:srgbClr val="ffffff"/>
                </a:solidFill>
                <a:latin typeface="Arial Black"/>
              </a:rPr>
              <a:t> </a:t>
            </a:r>
            <a:br>
              <a:rPr sz="1800"/>
            </a:br>
            <a:endParaRPr b="0" lang="en-US" sz="1800" spc="-1" strike="noStrike">
              <a:solidFill>
                <a:srgbClr val="ffffff"/>
              </a:solidFill>
              <a:latin typeface="Arial Black"/>
            </a:endParaRPr>
          </a:p>
        </p:txBody>
      </p:sp>
      <p:sp>
        <p:nvSpPr>
          <p:cNvPr id="102" name="PlaceHolder 2"/>
          <p:cNvSpPr>
            <a:spLocks noGrp="1"/>
          </p:cNvSpPr>
          <p:nvPr>
            <p:ph/>
          </p:nvPr>
        </p:nvSpPr>
        <p:spPr>
          <a:xfrm>
            <a:off x="457200" y="837720"/>
            <a:ext cx="8229600" cy="5410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Staff Communication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staff messages are negatively perceived due to lack of guidance or instructions contained within communications</a:t>
            </a:r>
            <a:endParaRPr b="0" lang="en-US" sz="1600" spc="-1" strike="noStrike">
              <a:solidFill>
                <a:srgbClr val="000000"/>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perform outreach to stakeholders to clarify the issue</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the instructional and guidance aspect of communications as part of the checklist in communication prepara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expand SLA’s over wide range of topics</a:t>
            </a:r>
            <a:endParaRPr b="0" lang="en-US" sz="1600" spc="-1" strike="noStrike">
              <a:solidFill>
                <a:srgbClr val="000000"/>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est TAC assign to subcommittees to gain clarity on issue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a:t>
            </a:r>
            <a:endParaRPr b="0" lang="en-US" sz="2000" spc="-1" strike="noStrike">
              <a:solidFill>
                <a:srgbClr val="ffffff"/>
              </a:solidFill>
              <a:latin typeface="Arial Black"/>
            </a:endParaRPr>
          </a:p>
        </p:txBody>
      </p:sp>
      <p:sp>
        <p:nvSpPr>
          <p:cNvPr id="104" name="PlaceHolder 2"/>
          <p:cNvSpPr>
            <a:spLocks noGrp="1"/>
          </p:cNvSpPr>
          <p:nvPr>
            <p:ph/>
          </p:nvPr>
        </p:nvSpPr>
        <p:spPr>
          <a:xfrm>
            <a:off x="457200" y="685440"/>
            <a:ext cx="8229600" cy="472428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ount Managers</a:t>
            </a:r>
            <a:endParaRPr b="1" lang="en-US" sz="20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 Participant Staff members audience of the survey are not familiar with assigned Account Manager and the assistance structure availabl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line in survey ranking due to perceived reduction in attitude/willingness, accuracy and timeliness of response, industry knowledge, and overall expectation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target primary and secondary contacts to promote awareness of Account Manager assignments to stakeholder staff level</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s increased site-visits to introduce account management team</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CEO/COO will stress importance of stakeholder awareness at new employee orientation</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focus on industry knowledge and expertise in hiring/development</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tress importance of timely interaction and response</a:t>
            </a:r>
            <a:endParaRPr b="0" lang="en-US" sz="16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had a significant turnover in 2007 Account Manager assignments and has brought on board several new Account Managers with high skill and industry expertise levels</a:t>
            </a: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8520" indent="-257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028520" indent="-20556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feedback from subcommittees on issue and will ask for quarterly survey responses on account management staff</a:t>
            </a:r>
            <a:endParaRPr b="0" lang="en-US" sz="1600" spc="-1" strike="noStrike">
              <a:solidFill>
                <a:srgbClr val="000000"/>
              </a:solidFill>
              <a:latin typeface="Arial"/>
            </a:endParaRPr>
          </a:p>
          <a:p>
            <a:pPr lvl="2" marL="10285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285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mprovement Areas </a:t>
            </a:r>
            <a:br>
              <a:rPr sz="2000"/>
            </a:br>
            <a:endParaRPr b="0" lang="en-US" sz="2000" spc="-1" strike="noStrike">
              <a:solidFill>
                <a:srgbClr val="ffffff"/>
              </a:solidFill>
              <a:latin typeface="Arial Black"/>
            </a:endParaRPr>
          </a:p>
        </p:txBody>
      </p:sp>
      <p:sp>
        <p:nvSpPr>
          <p:cNvPr id="106" name="PlaceHolder 2"/>
          <p:cNvSpPr>
            <a:spLocks noGrp="1"/>
          </p:cNvSpPr>
          <p:nvPr>
            <p:ph/>
          </p:nvPr>
        </p:nvSpPr>
        <p:spPr>
          <a:xfrm>
            <a:off x="457200" y="8380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of Settlement Statement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 Indicators</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t of settlement statements received a very poor rating and should be explored to increase value</a:t>
            </a: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Action Pla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believes the Nodal Project changes to format will address concerns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will solicit the market to gain clarity on current statement format</a:t>
            </a:r>
            <a:endParaRPr b="0" lang="en-US" sz="16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mmary vs. Detail of Statement</a:t>
            </a:r>
            <a:endParaRPr b="0" lang="en-US" sz="16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C Assistance Requested</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requests TAC assign COPS to give feedback on the current format and any comments on the Nodal design</a:t>
            </a:r>
            <a:endParaRPr b="0" lang="en-US" sz="16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MP Survey Action Plan</a:t>
            </a:r>
          </a:p>
        </p:txBody>
      </p:sp>
      <p:sp>
        <p:nvSpPr>
          <p:cNvPr id="5" name="PlaceHolder 4"/>
          <p:cNvSpPr>
            <a:spLocks noGrp="1"/>
          </p:cNvSpPr>
          <p:nvPr>
            <p:ph type="dt" idx="3"/>
          </p:nvPr>
        </p:nvSpPr>
        <p:spPr/>
        <p:txBody>
          <a:bodyPr/>
          <a:p>
            <a:r>
              <a:rPr lang="en-US"/>
              <a:t>August 7,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dgoodman</cp:lastModifiedBy>
  <dcterms:modified xsi:type="dcterms:W3CDTF">2008-07-30T13:03:12Z</dcterms:modified>
  <cp:revision>90</cp:revision>
  <dc:subject/>
  <dc:title>Instructions</dc:title>
</cp:coreProperties>
</file>