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CF82-D204-4068-B47C-B87048844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FBD1-D33B-48DD-BEF8-5A2B8375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E9A7-91C4-44FF-9AB6-5B7F86051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A835-644A-4121-B978-2EABF6A9A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98B1-FB86-4577-BD98-6F442E4F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3751-023F-4305-BC6A-23F29053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0ADD-3AF1-4E4A-A88C-5A71E720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0AB0-CC75-49D4-A384-744565A4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9F34-0852-470B-A83C-C890C0F1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D4AF-726D-45B5-BEC6-F449A336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9A1A-2EAF-4E7B-8981-BBD67747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A117-8E13-41A6-9F47-DB097B92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D76E-9C8E-4030-8B44-8CFB4BB85F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 Procurement Results using Proposed 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Spin for Ju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8600" y="457200"/>
          <a:ext cx="8686800" cy="6064200"/>
        </p:xfrm>
        <a:graphic>
          <a:graphicData uri="http://schemas.openxmlformats.org/drawingml/2006/table">
            <a:tbl>
              <a:tblPr/>
              <a:tblGrid>
                <a:gridCol w="804960"/>
                <a:gridCol w="1625400"/>
                <a:gridCol w="973080"/>
                <a:gridCol w="1041480"/>
                <a:gridCol w="1366920"/>
                <a:gridCol w="1146240"/>
                <a:gridCol w="172872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SRS Procur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ur End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th Percentile of Net Load Error combining On- and Off- Pea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th Percentile of MTLF 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th Percentile of WGRPP 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. Up Requirement for Upcoming Mon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 Reg. Up On- and Off- Pea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th Percentile of all On- and Off Peak Hour Separatel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17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1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1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7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7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Spin for Ju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28600" y="457200"/>
          <a:ext cx="8686440" cy="6233760"/>
        </p:xfrm>
        <a:graphic>
          <a:graphicData uri="http://schemas.openxmlformats.org/drawingml/2006/table">
            <a:tbl>
              <a:tblPr/>
              <a:tblGrid>
                <a:gridCol w="723600"/>
                <a:gridCol w="1706040"/>
                <a:gridCol w="973440"/>
                <a:gridCol w="1042200"/>
                <a:gridCol w="1367280"/>
                <a:gridCol w="1144800"/>
                <a:gridCol w="1729080"/>
              </a:tblGrid>
              <a:tr h="256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SRS Procur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ur End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th Percentile of Net Load Error combining On- and Off- Pea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th Percentile of MTLF 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th Percentile of WGRPP 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. Up Requirement for Upcoming Mon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 Reg. Up On- and Off- Pea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th Percentile of all On- and Off Peak Hour Separatel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2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2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23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2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23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2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2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23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2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23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23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2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23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2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2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23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2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23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2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23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23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2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23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Spin for Augu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04920" y="457200"/>
          <a:ext cx="8610480" cy="6072120"/>
        </p:xfrm>
        <a:graphic>
          <a:graphicData uri="http://schemas.openxmlformats.org/drawingml/2006/table">
            <a:tbl>
              <a:tblPr/>
              <a:tblGrid>
                <a:gridCol w="685800"/>
                <a:gridCol w="1722240"/>
                <a:gridCol w="965160"/>
                <a:gridCol w="1033560"/>
                <a:gridCol w="1355760"/>
                <a:gridCol w="1133640"/>
                <a:gridCol w="1714320"/>
              </a:tblGrid>
              <a:tr h="250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SRS Procur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ur End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th Percentile of Net Load Error combining On- and Off- Pea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th Percentile of MTLF 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th Percentile of WGRPP 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. Up Requirement for Upcoming Mon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 Reg. Up On- and Off- Pea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th Percentile of all On- and Off Peak Hour Separatel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17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1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17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19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4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17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17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9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7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7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7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7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9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7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7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9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7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7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7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17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Spin for Septe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28600" y="533520"/>
          <a:ext cx="8610480" cy="5867280"/>
        </p:xfrm>
        <a:graphic>
          <a:graphicData uri="http://schemas.openxmlformats.org/drawingml/2006/table">
            <a:tbl>
              <a:tblPr/>
              <a:tblGrid>
                <a:gridCol w="792000"/>
                <a:gridCol w="1646280"/>
                <a:gridCol w="828720"/>
                <a:gridCol w="1236600"/>
                <a:gridCol w="1236960"/>
                <a:gridCol w="1236600"/>
                <a:gridCol w="1633320"/>
              </a:tblGrid>
              <a:tr h="222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SRS Procur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ur End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th Percentile of Net Load Error combining On- and Off- Pea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th Percentile of MTLF 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th Percentile of WGRPP Err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. Up Requirement for Upcoming Mont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 Reg. Up On- and Off- Pea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th Percentile of all On- and Off Peak Hour Separatel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ulation for Augu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80880" y="990720"/>
          <a:ext cx="4038840" cy="5675040"/>
        </p:xfrm>
        <a:graphic>
          <a:graphicData uri="http://schemas.openxmlformats.org/drawingml/2006/table">
            <a:tbl>
              <a:tblPr/>
              <a:tblGrid>
                <a:gridCol w="1266840"/>
                <a:gridCol w="1332000"/>
                <a:gridCol w="1440000"/>
              </a:tblGrid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ow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4724280" y="990720"/>
          <a:ext cx="4038480" cy="5675040"/>
        </p:xfrm>
        <a:graphic>
          <a:graphicData uri="http://schemas.openxmlformats.org/drawingml/2006/table">
            <a:tbl>
              <a:tblPr/>
              <a:tblGrid>
                <a:gridCol w="1266840"/>
                <a:gridCol w="1330200"/>
                <a:gridCol w="1441440"/>
              </a:tblGrid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ow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1443960" y="609480"/>
            <a:ext cx="18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Method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37520" y="609480"/>
            <a:ext cx="42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sed Methodology (Changed Values in Yell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ulation for Septe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80880" y="990720"/>
          <a:ext cx="3962160" cy="5682960"/>
        </p:xfrm>
        <a:graphic>
          <a:graphicData uri="http://schemas.openxmlformats.org/drawingml/2006/table">
            <a:tbl>
              <a:tblPr/>
              <a:tblGrid>
                <a:gridCol w="1296720"/>
                <a:gridCol w="1393920"/>
                <a:gridCol w="1271520"/>
              </a:tblGrid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ow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648320" y="990720"/>
          <a:ext cx="4190400" cy="5675040"/>
        </p:xfrm>
        <a:graphic>
          <a:graphicData uri="http://schemas.openxmlformats.org/drawingml/2006/table">
            <a:tbl>
              <a:tblPr/>
              <a:tblGrid>
                <a:gridCol w="1314360"/>
                <a:gridCol w="1380240"/>
                <a:gridCol w="1495800"/>
              </a:tblGrid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Up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ow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1443960" y="609480"/>
            <a:ext cx="184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Method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37520" y="609480"/>
            <a:ext cx="42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sed Methodology (Changed Values in Yell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13:54:40Z</dcterms:created>
  <dc:creator>dmaggio</dc:creator>
  <dc:description/>
  <dc:language>en-US</dc:language>
  <cp:lastModifiedBy>jdumas</cp:lastModifiedBy>
  <dcterms:modified xsi:type="dcterms:W3CDTF">2008-09-02T15:14:26Z</dcterms:modified>
  <cp:revision>7</cp:revision>
  <dc:subject/>
  <dc:title>AS Procurement Results using Proposed Methodology</dc:title>
</cp:coreProperties>
</file>