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D8F-C9BB-4E68-9B23-C9297852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8D6-30F8-4737-8346-B9E7E61C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C6F-9A18-4D94-8DCB-1617AC912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424-4710-4041-AEBD-12B3E396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217-ED30-4D21-A0EA-994E620A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E25-CD5B-4DF0-B45B-21E7F432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295-3606-4F47-A61E-F15F1101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A2A-E539-4D43-B7BB-06811E6A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ADBC-04DF-451F-99A2-BD879F8E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A81-9961-4247-A0EA-FBE8114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87B2-DFF7-42F5-AA51-8253CDF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33D1-2A1B-44BA-B7FA-6FF3AE7F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1B7B-B59C-4BE5-B84D-410E56E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5637-27FA-4AB4-9060-BCD96D9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0BA-0079-4C15-9F91-9931B11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EFF-1BB0-4CCE-85DE-F2AB5FA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925-EA6B-499E-A4FB-DEA42F8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6FB7-5103-473C-8659-C8640F36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FA91-95D5-45DD-AEC5-54D93EC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D6A6-89F0-4E1B-A25E-0997F81F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26C-1E78-4C7C-B724-7A838473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474C-E43B-43B5-8A38-E4F36D5E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FDE3-3DF0-436A-910E-0621E8F1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2270-4765-4A81-86E6-AE19DF16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BEC9-0EB0-451C-8B66-2E044039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6B81-3157-4F32-A58E-7A42451E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465-9FA5-4432-A96A-7896D7A9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3163-C878-43EB-A053-BD59684D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8B5C-14C0-4CA1-85B8-62347D19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950E-28AA-47A3-9F4D-31B0B43C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3266-F259-476C-840E-469F5BE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2958-C647-4A6D-85E3-E42B98D2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4C6D-DBCA-4050-9C9A-6F98B07E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205D-02C8-490C-A498-24FD5DFC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24DB-803F-4071-9827-8D261184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1D86-8AFD-48C9-914D-7A5697C1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9D75-3595-4AFD-8766-958A235C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12E-69F2-4FC5-B222-85C1E977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2713-3DCC-4670-9409-BE00E2C1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EBB7-5684-4B87-ABC2-B36D045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548A-A672-4CBD-8A04-A7D5DA8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1B51-EA54-4DBB-B8E9-641D0FA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BBBA-88AE-462C-9646-1CA01EC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D20C-AFA8-4A31-A762-04645B9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D35C-9761-45A4-B03A-806E9CE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AC82-51C6-46B1-BFED-840AC857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A042-75C2-4AFD-AF75-544B4FCE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387FB-DADF-4E2C-9569-7304A1D9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466-10BB-43B5-814A-EB4A837F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05C37-A2B5-4D70-924F-D52FF3B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58BA-7B68-4D4C-80C8-374DC45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658F-8BB7-44EF-918A-0CE4A43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75D8-D45B-4C56-8616-6FF2F0B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929D-523B-4C00-9B98-FB2A8887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087CF-738A-4A98-AF43-88A0FE3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D92D-DA9B-4F9F-932B-9341AF8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BE10-3FDD-449C-992E-2146530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361CA-8C41-41E0-BC35-08421D56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054F-B89E-4EAE-8BAD-BAA4299D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AC8-6B76-4388-B497-340BAE89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CB0B0-3485-440C-9861-E4CAE180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E3C5-7152-40D4-9BC9-7EB9D7BD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7A50-F793-4270-9A46-CE403C6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E450-2C9F-4804-B54A-07E3F7D9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7DC4-D631-4808-B201-B584F35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4556-2D83-4571-9C96-1BD3E67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1DF96-8522-4CF1-900A-198259AA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E0E0-0470-4C3F-A6E5-B17EEF3C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71F88-9832-448E-AC9B-42D7B73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096B-3639-4F97-8DEE-282875B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BDB-BA33-4765-A9DB-A39E54E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CF17-AEFD-49D4-8F50-0F69E4E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A2660-91A1-4C57-BB94-FF219230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2021-98D2-4175-BABE-0DFBFB3B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1C753-B29F-45D9-BE62-190A77B0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DF8F-DD3B-4948-B862-0E4B87DE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C9D11-9322-46B5-A8B7-1CAF1CA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EC72-2AA3-4B50-9A62-6146FB4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DA7E-E5F1-45B1-BA45-E0CED450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ECCB0-2C65-4DCC-BD73-33829EB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57C7D-1B89-4A3F-96F1-79AAE34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A14-A91A-45AC-90CB-721FCAC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E564-792A-43E9-93C9-6EC479C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2F50-1170-47C8-A130-A515B8E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871C7-28BC-42CD-8BC1-30B2410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0559-29D3-40D5-91AC-60185345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56FA4-4732-4817-BFD4-497A78C7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4C54-5D7E-497D-8516-6DFC05DD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B956E-B690-4F23-8254-08AF34D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16925-A6E7-4862-88FA-68D660D6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C19B-75D3-4B9D-92A6-53D259C3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0E6D-5B02-48AB-8A53-EDFC3440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366-66E9-4579-A14A-CA36C30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4A14-114B-48EE-9BA9-6B1C788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B84A5-831F-4D73-BA98-8909971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75E6-4F86-48F7-B1A3-28DB54B4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7C31D-6147-4B7E-93FC-3A0BB4C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2D9CC-8A24-408D-B0DC-E3CB3150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A260D-ED23-4671-ACD0-88D327F3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98CA-5622-49FF-880F-ECCB4EE4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F5C-A2D2-477D-97D4-8FC7C82EA9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F81A-446B-4B7A-9932-397BC32AB8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3F0-104D-4801-A19A-3A8871A0A4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2D5-2EF7-4EE7-8801-10EABE7125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0A8-0A2B-4AB3-B55C-5A281768B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E0CA-6295-46A6-BCF7-4086C191B3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C75-CD13-46CD-BB38-93AB1123F5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9B6-1A07-4DAC-BF7D-75CFF072F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/>
          <p:nvPr/>
        </p:nvSpPr>
        <p:spPr>
          <a:xfrm>
            <a:off x="1660680" y="1631880"/>
            <a:ext cx="702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1555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ket Metric Work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Quarterly Meeting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t Aug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viewed second Quarter Metric results, Mike McCarty will present as part of ERCOT repor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 Participants agreed to only meet quarterly, next meeting will be December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200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UCT Project #  33049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ew Performance Measure Reporting Metric effective July 1, 200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rst report due 45 days after close of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Quarter (Nov.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)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Registered User</cp:lastModifiedBy>
  <dcterms:modified xsi:type="dcterms:W3CDTF">2008-09-02T17:16:32Z</dcterms:modified>
  <cp:revision>157</cp:revision>
  <dc:subject/>
  <dc:title>MarkeTrak Task Force</dc:title>
</cp:coreProperties>
</file>