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9BDD-8DC5-4053-B685-458DFE26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55B-905E-4137-B945-CB79DD678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2DE2-E8D6-44EA-96B0-947D5E6FE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051D-43A6-4512-A8FB-713217A63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F575-A03F-43F9-9816-1DBDCB1F3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5CB4-0F40-4E93-B208-48B3769AD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AE9D-BC16-43EB-9B73-A76E9EF34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9F47-2774-49E6-820B-14BDBEE3E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A56B-EAB2-42A9-837E-1F27993AE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0335-1312-4E3A-BF7E-22C98F307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568E-C0B9-4B2D-8463-76E21DD29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FE2F-2CFD-4FAF-A2E9-8251B7A6B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A788-1E88-4F44-8FD1-DE59C28C0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A846-DB4F-4C82-87D4-C14DD5E36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3496-70E5-48AF-815A-B46514DAF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C870-C945-47FB-8568-25E4D196A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7493-8D35-4617-85D6-BBB54C7989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eptember 200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trics Guide – Nodal Early Delivery Systems (ED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Hardware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the availability of the systems that compose the “Early Delivery Systems” where Nodal applications are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Frequency Control (LF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the availability of the software that controls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the availability of the State Estimator software to mathematically confirm the real time power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Constrained Economic Dispatch (SC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the availability SCED application to economically deploy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EDS Environment - August 2008 Net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1880" y="1066680"/>
            <a:ext cx="8220240" cy="4724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3429000" y="4876920"/>
            <a:ext cx="3457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oftware interface issue within the EMS subsystems has caused both LFC and SE to fail. Vendor has developed a fix  which will be applied in September EDS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Transaction Processing 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to date performance continues to be below the service level targe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r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ugust performance was impacted due to an emergency outage which was required to rectify slow database processing. The issue was fixed by performance tuning of the databas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35120" y="762120"/>
            <a:ext cx="7673760" cy="533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62280" y="3200400"/>
            <a:ext cx="457200" cy="0"/>
          </a:xfrm>
          <a:prstGeom prst="line">
            <a:avLst/>
          </a:prstGeom>
          <a:ln w="255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52560" y="2819520"/>
          <a:ext cx="514440" cy="25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52560" y="2819520"/>
                    <a:ext cx="51444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400560" y="2809800"/>
          <a:ext cx="514080" cy="2571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00560" y="2809800"/>
                    <a:ext cx="5140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352680" y="304812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366840" y="838080"/>
            <a:ext cx="8319960" cy="512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63920" y="2305080"/>
          <a:ext cx="531720" cy="28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3920" y="2305080"/>
                    <a:ext cx="53172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533680" y="237168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67000" y="2209680"/>
          <a:ext cx="550800" cy="29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67000" y="2209680"/>
                    <a:ext cx="55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276720" y="2666880"/>
            <a:ext cx="53316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685800"/>
          <a:ext cx="304920" cy="272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8580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8600" y="66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LA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Rectangle 3"/>
          <p:cNvGraphicFramePr/>
          <p:nvPr/>
        </p:nvGraphicFramePr>
        <p:xfrm>
          <a:off x="907920" y="1066680"/>
          <a:ext cx="73263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066680"/>
                    <a:ext cx="73263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7920" y="1066680"/>
          <a:ext cx="73263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066680"/>
                    <a:ext cx="73263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17480" y="838080"/>
            <a:ext cx="770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544680" y="762120"/>
            <a:ext cx="793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September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633240" y="762120"/>
            <a:ext cx="7824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8-09-08T16:09:30Z</dcterms:modified>
  <cp:revision>93</cp:revision>
  <dc:subject/>
  <dc:title>Instructions</dc:title>
</cp:coreProperties>
</file>