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09E-E43A-456E-AEE3-1D25E8D5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82A-3A85-4504-9079-512621BB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3E1-96CB-4021-94A7-A0DBF9D2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A88-3802-4098-A646-D25AB933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7545-C25C-471D-892F-0943ECFE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2D00-EE4F-45DA-88D8-C94ADFB8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2BBC-B36D-444A-B9C5-23EC79BA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3DE1-DCBB-4F4A-B35A-6A6C390A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43E1-5A3A-4EC1-99B9-F2AEB44A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E279-7BFD-4CF9-AA1F-E8DE90C2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7A17-6F3F-49CF-A14F-31464646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822-CD4E-4566-AB00-666FC747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DC2C-1508-44F2-BF24-9016E430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06DD-DF87-4DB8-8BEA-43951AA1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7BE3-AEAC-4F58-9491-0A7DB261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A6BA-A4EE-4B4F-87A0-1A08FFA8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72C4-4E9B-459C-880C-4FB7A349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8D2-2224-42CC-A9C7-1CBAE239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7FB-FB6C-48C0-988B-918831C4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F9E-1FA9-451D-BEF1-1A4C61D4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EAF-0DB7-4E1D-B975-B599AA31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C60-B425-4E3D-BC88-2E5779B7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D71-8623-44C2-A4EB-E73169E5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495-1203-471C-9D4E-9162E12C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99CF-3274-477F-8C2A-BEA044EE9C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EEF7-50D8-44E7-8487-547C1415AE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rcot.com/content/mktrules/issues/lpgrr/025049/029/keydocs/029LPGRR05_PWG_Recommendation_Report_052808.doc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ub-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ptember 4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ighlights of August 12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COPS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CW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gust 1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amp; 1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rkshop in Da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ed and updated the COPMG Out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d the COPMG Work Plan Assig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ed and updated Section 8, “Settlement Statements and Invoic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ed the development of several other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gust 2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eting – ERCOT Aus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reed to endorse the following COPMG Revision Requests &amp; associated IAs for COPS Revie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MGRR 007 (Organizational Structure) as revised by CCW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MGRR 008 (Appendix 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 development of Nodal sections in the Commercial Operations Market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ed timeline for COPMGRRs (both standard and urg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WG / SADWG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ed the Extracts and Reports issues log for the recent issues related to multi-day lags in certain reports and extracts.  </a:t>
            </a:r>
            <a:r>
              <a:rPr b="0" i="1" lang="en-US" sz="2400" spc="-1" strike="noStrike">
                <a:solidFill>
                  <a:srgbClr val="86d1ec"/>
                </a:solidFill>
                <a:latin typeface="Times New Roman"/>
              </a:rPr>
              <a:t>ERCOT continues to work towards resolution (resolved on 8/22)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oot cause analysis to be discussed at next mee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ived more information and statistics on MOS Public API “Terms of Use”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lated to screen-scraping activ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i="1" lang="en-US" sz="2400" spc="-1" strike="noStrike">
                <a:solidFill>
                  <a:srgbClr val="86d1ec"/>
                </a:solidFill>
                <a:latin typeface="Times New Roman"/>
              </a:rPr>
              <a:t>The document will move forward to QSE Managers group and potentially to the next level after t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poned reports and updates on Nodal, awaiting the Nodal Calendar Update and a new timeline for EDS4 t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dy Bauld, presented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CR-CRR Transition Plan &amp; TCR Auction Revenue Refund Proc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pproved by WMS; scheduled for consideration by PRS in August (PRR74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posed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llowing review COPS, suggested clarifying language and voted to file comment in support of PRR743 with noted clarifica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DAL COMS Update 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spute API Certification Process Overview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oposal that will define the market plan fo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esting the Settlement &amp; Invoice Disputes API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86d1ec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86d1ec"/>
                </a:solidFill>
                <a:latin typeface="Times New Roman"/>
              </a:rPr>
              <a:t>08.COPS_Dispute_API_Certification_Process_Overview_v1.0.ppt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d1ec"/>
                </a:solidFill>
                <a:latin typeface="Times New Roman"/>
              </a:rPr>
              <a:t>[08.NodalComs_Update_COPS08122008.ppt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WG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the June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PS meeting, PWG Presented a Draft PR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65 “Time of Use Revisions” and the LPGRR029 “Modification of Time-Of-Use Schedule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www.ercot.com/content/mktrules/issues/lpgrr/025049/029/keydocs/029LPGRR05_PWG_Recommendation_Report_052808.do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ing Discussion, COPS approved the proposed PRR and filed COPS comment in support of PRR756 to  P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ing Discussion, COPS approved LPGRR029 and recommended approval to TAC when PRR765 is conside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PS Recommends to TAC Approval 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LPGRR02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dification of Time-Of-Use Schedule Approval Proces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44792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lstarr</cp:lastModifiedBy>
  <dcterms:modified xsi:type="dcterms:W3CDTF">2008-08-26T15:54:23Z</dcterms:modified>
  <cp:revision>26</cp:revision>
  <dc:subject/>
  <dc:title>Slide 1</dc:title>
</cp:coreProperties>
</file>