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00C-D79E-4FD9-BF93-AE0D3DA4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CD3-9E59-4A93-97DE-2EDDE3B9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9D2-AFB7-426E-BC3C-C96E592F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13D-A0BD-41DF-9B15-BE99D211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35DF3-B6EA-4F0B-869A-EC138DB8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AA919-AD06-485E-B254-3FD8DCBF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58134-6914-46CA-8709-75BDA962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71881-6597-4C70-B5BB-705B915E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BB69D-1FE2-4AE6-9C44-475C30C7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4E8B9-264E-4587-AEE0-D6C4DCD1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C1BDE-28A5-41EA-8DA5-E025D0FF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24A-D797-401F-B6EE-D183A268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8B1BC-C8D9-4753-A583-AF98190F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C3600-2AC5-4568-AA68-77A8F924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D7F17-A735-43F5-A445-58A416CB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710E5-87D4-4FD9-A86B-378BFF1A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78EF7-D552-48F4-BB9B-2CDBA551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8DE-D9B8-4F13-8FC2-9A03908A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A14-30C9-4989-90D1-ABBFC383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5D6-AED4-4594-9425-8A867A28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963-7F5C-4752-8A64-23106A8A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759-318A-41EB-AABB-1ADEB793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C1B-82BB-4F51-8663-ADE71BEC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2D6-4A3A-4638-B8AA-1DB06F19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E6F3-3E7D-403D-A958-4A701868E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4B7C-ECAC-40BB-9920-8A11EF6197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6D3E-F98D-433E-8B88-7A05254F3B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X SE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Update to R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tember 10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3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X SET Release Time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305920" y="6172200"/>
            <a:ext cx="53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5E70-4E5C-4727-9E99-EC21D75704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228600" y="3825720"/>
          <a:ext cx="8534520" cy="3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25720"/>
                    <a:ext cx="8534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4"/>
          <p:cNvSpPr/>
          <p:nvPr/>
        </p:nvSpPr>
        <p:spPr>
          <a:xfrm>
            <a:off x="685800" y="2514600"/>
            <a:ext cx="1447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5359b"/>
                </a:solidFill>
                <a:latin typeface="Tahoma"/>
              </a:rPr>
              <a:t>Project Conceptualizatio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5359b"/>
                </a:solidFill>
                <a:latin typeface="Tahoma"/>
              </a:rPr>
              <a:t>11 week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2514600" y="3825720"/>
            <a:ext cx="0" cy="3049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1981080" y="3962520"/>
            <a:ext cx="0" cy="1681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3505320" y="3521160"/>
            <a:ext cx="0" cy="304560"/>
          </a:xfrm>
          <a:prstGeom prst="line">
            <a:avLst/>
          </a:prstGeom>
          <a:ln w="9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3505320" y="4130640"/>
            <a:ext cx="0" cy="304920"/>
          </a:xfrm>
          <a:prstGeom prst="line">
            <a:avLst/>
          </a:prstGeom>
          <a:ln w="9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752480" y="4648320"/>
            <a:ext cx="1143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Tahoma"/>
              </a:rPr>
              <a:t>Market Requirement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Tahoma"/>
              </a:rPr>
              <a:t>6 week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6858000" y="3521160"/>
            <a:ext cx="0" cy="3045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861048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609480" y="3825720"/>
            <a:ext cx="0" cy="3049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3505320" y="3825720"/>
            <a:ext cx="0" cy="3049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886200" y="3825720"/>
            <a:ext cx="0" cy="3049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5486400" y="3809880"/>
            <a:ext cx="0" cy="3049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5257800" y="3825720"/>
            <a:ext cx="0" cy="3049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7696080" y="3825720"/>
            <a:ext cx="0" cy="3049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8077320" y="3825720"/>
            <a:ext cx="0" cy="3049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6858000" y="3825720"/>
            <a:ext cx="0" cy="3049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8610480" y="38257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609480" y="3521160"/>
            <a:ext cx="0" cy="304560"/>
          </a:xfrm>
          <a:prstGeom prst="line">
            <a:avLst/>
          </a:prstGeom>
          <a:ln w="93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23"/>
          <p:cNvSpPr/>
          <p:nvPr/>
        </p:nvSpPr>
        <p:spPr>
          <a:xfrm>
            <a:off x="1981080" y="3521160"/>
            <a:ext cx="0" cy="304560"/>
          </a:xfrm>
          <a:prstGeom prst="line">
            <a:avLst/>
          </a:prstGeom>
          <a:ln w="93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1981080" y="4130640"/>
            <a:ext cx="0" cy="304920"/>
          </a:xfrm>
          <a:prstGeom prst="line">
            <a:avLst/>
          </a:prstGeom>
          <a:ln w="9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25"/>
          <p:cNvSpPr/>
          <p:nvPr/>
        </p:nvSpPr>
        <p:spPr>
          <a:xfrm>
            <a:off x="2514600" y="4130640"/>
            <a:ext cx="0" cy="304920"/>
          </a:xfrm>
          <a:prstGeom prst="line">
            <a:avLst/>
          </a:prstGeom>
          <a:ln w="9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26"/>
          <p:cNvSpPr/>
          <p:nvPr/>
        </p:nvSpPr>
        <p:spPr>
          <a:xfrm>
            <a:off x="2514600" y="3521160"/>
            <a:ext cx="0" cy="304560"/>
          </a:xfrm>
          <a:prstGeom prst="line">
            <a:avLst/>
          </a:prstGeom>
          <a:ln w="9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3886200" y="4130640"/>
            <a:ext cx="0" cy="304920"/>
          </a:xfrm>
          <a:prstGeom prst="line">
            <a:avLst/>
          </a:prstGeom>
          <a:ln w="9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3886200" y="3521160"/>
            <a:ext cx="0" cy="304560"/>
          </a:xfrm>
          <a:prstGeom prst="line">
            <a:avLst/>
          </a:prstGeom>
          <a:ln w="9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5257800" y="4130640"/>
            <a:ext cx="0" cy="30492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7696080" y="4130640"/>
            <a:ext cx="0" cy="30492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32"/>
          <p:cNvSpPr/>
          <p:nvPr/>
        </p:nvSpPr>
        <p:spPr>
          <a:xfrm>
            <a:off x="6858000" y="4130640"/>
            <a:ext cx="0" cy="30492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33"/>
          <p:cNvSpPr/>
          <p:nvPr/>
        </p:nvSpPr>
        <p:spPr>
          <a:xfrm>
            <a:off x="8381880" y="3521160"/>
            <a:ext cx="0" cy="3045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34"/>
          <p:cNvSpPr/>
          <p:nvPr/>
        </p:nvSpPr>
        <p:spPr>
          <a:xfrm>
            <a:off x="8077320" y="4130640"/>
            <a:ext cx="0" cy="30492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2438280" y="2590920"/>
            <a:ext cx="1219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Tahoma"/>
              </a:rPr>
              <a:t>ERCOT Requirements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Tahoma"/>
              </a:rPr>
              <a:t>8 week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3048120" y="4648320"/>
            <a:ext cx="1447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Tahoma"/>
              </a:rPr>
              <a:t>Conceptual Desig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Tahoma"/>
              </a:rPr>
              <a:t>4 week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4191120" y="2803680"/>
            <a:ext cx="106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Tahoma"/>
              </a:rPr>
              <a:t>Detail Desig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66ff"/>
                </a:solidFill>
                <a:latin typeface="Tahoma"/>
              </a:rPr>
              <a:t>10 week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5486400" y="464832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ahoma"/>
              </a:rPr>
              <a:t>Build &amp; Unit Test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ahoma"/>
              </a:rPr>
              <a:t>12 week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315200" y="4648320"/>
            <a:ext cx="10666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ahoma"/>
              </a:rPr>
              <a:t>Market Flight Test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6600"/>
                </a:solidFill>
                <a:latin typeface="Tahoma"/>
              </a:rPr>
              <a:t>7 week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40"/>
          <p:cNvSpPr/>
          <p:nvPr/>
        </p:nvSpPr>
        <p:spPr>
          <a:xfrm>
            <a:off x="7010280" y="2895480"/>
            <a:ext cx="1219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ahoma"/>
              </a:rPr>
              <a:t>ERCOT UAT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ahoma"/>
              </a:rPr>
              <a:t>16 week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41"/>
          <p:cNvSpPr/>
          <p:nvPr/>
        </p:nvSpPr>
        <p:spPr>
          <a:xfrm>
            <a:off x="8229600" y="46483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o Liv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43"/>
          <p:cNvSpPr/>
          <p:nvPr/>
        </p:nvSpPr>
        <p:spPr>
          <a:xfrm rot="5400000">
            <a:off x="2133360" y="426708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46"/>
          <p:cNvSpPr/>
          <p:nvPr/>
        </p:nvSpPr>
        <p:spPr>
          <a:xfrm rot="5400000">
            <a:off x="3581280" y="4343400"/>
            <a:ext cx="228600" cy="38088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49"/>
          <p:cNvSpPr/>
          <p:nvPr/>
        </p:nvSpPr>
        <p:spPr>
          <a:xfrm rot="5400000">
            <a:off x="5943240" y="373392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52"/>
          <p:cNvSpPr/>
          <p:nvPr/>
        </p:nvSpPr>
        <p:spPr>
          <a:xfrm rot="5400000">
            <a:off x="7772040" y="434340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58"/>
          <p:cNvSpPr/>
          <p:nvPr/>
        </p:nvSpPr>
        <p:spPr>
          <a:xfrm rot="16200000">
            <a:off x="7505640" y="267480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61"/>
          <p:cNvSpPr/>
          <p:nvPr/>
        </p:nvSpPr>
        <p:spPr>
          <a:xfrm rot="16200000">
            <a:off x="4572000" y="2638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64"/>
          <p:cNvSpPr/>
          <p:nvPr/>
        </p:nvSpPr>
        <p:spPr>
          <a:xfrm rot="16200000">
            <a:off x="2894040" y="286668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69"/>
          <p:cNvSpPr/>
          <p:nvPr/>
        </p:nvSpPr>
        <p:spPr>
          <a:xfrm>
            <a:off x="990720" y="586728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ahoma"/>
              </a:rPr>
              <a:t>TX SET Release Timeline spans 65 weeks (15 months) on averag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71"/>
          <p:cNvSpPr/>
          <p:nvPr/>
        </p:nvSpPr>
        <p:spPr>
          <a:xfrm rot="16200000">
            <a:off x="3523320" y="624240"/>
            <a:ext cx="420840" cy="3505320"/>
          </a:xfrm>
          <a:custGeom>
            <a:avLst/>
            <a:gdLst>
              <a:gd name="textAreaLeft" fmla="*/ 0 w 420840"/>
              <a:gd name="textAreaRight" fmla="*/ 151920 w 42084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73"/>
          <p:cNvSpPr/>
          <p:nvPr/>
        </p:nvSpPr>
        <p:spPr>
          <a:xfrm>
            <a:off x="3048120" y="167652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Tahoma"/>
              </a:rPr>
              <a:t>Project</a:t>
            </a:r>
            <a:r>
              <a:rPr b="0" lang="en-US" sz="1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66ff"/>
                </a:solidFill>
                <a:latin typeface="Tahoma"/>
              </a:rPr>
              <a:t>Plannin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Tahoma"/>
              </a:rPr>
              <a:t>28 week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74"/>
          <p:cNvSpPr/>
          <p:nvPr/>
        </p:nvSpPr>
        <p:spPr>
          <a:xfrm rot="16200000">
            <a:off x="6609240" y="1162440"/>
            <a:ext cx="420840" cy="3124080"/>
          </a:xfrm>
          <a:custGeom>
            <a:avLst/>
            <a:gdLst>
              <a:gd name="textAreaLeft" fmla="*/ 0 w 420840"/>
              <a:gd name="textAreaRight" fmla="*/ 151920 w 42084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5"/>
          <p:cNvSpPr/>
          <p:nvPr/>
        </p:nvSpPr>
        <p:spPr>
          <a:xfrm>
            <a:off x="6172200" y="198108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ahoma"/>
              </a:rPr>
              <a:t>Project Executio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ahoma"/>
              </a:rPr>
              <a:t>28 week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76"/>
          <p:cNvSpPr/>
          <p:nvPr/>
        </p:nvSpPr>
        <p:spPr>
          <a:xfrm>
            <a:off x="838188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8381880" y="3809880"/>
            <a:ext cx="0" cy="1684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28"/>
          <p:cNvSpPr/>
          <p:nvPr/>
        </p:nvSpPr>
        <p:spPr>
          <a:xfrm>
            <a:off x="5486400" y="3505320"/>
            <a:ext cx="0" cy="304560"/>
          </a:xfrm>
          <a:prstGeom prst="line">
            <a:avLst/>
          </a:prstGeom>
          <a:ln w="9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64"/>
          <p:cNvSpPr/>
          <p:nvPr/>
        </p:nvSpPr>
        <p:spPr>
          <a:xfrm rot="16200000">
            <a:off x="1142640" y="2666520"/>
            <a:ext cx="304920" cy="1371600"/>
          </a:xfrm>
          <a:custGeom>
            <a:avLst/>
            <a:gdLst>
              <a:gd name="textAreaLeft" fmla="*/ 0 w 304920"/>
              <a:gd name="textAreaRight" fmla="*/ 110160 w 304920"/>
              <a:gd name="textAreaTop" fmla="*/ 34200 h 1371600"/>
              <a:gd name="textAreaBottom" fmla="*/ 1337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67"/>
                  <a:pt x="10800" y="1733"/>
                </a:cubicBezTo>
                <a:lnTo>
                  <a:pt x="10800" y="9067"/>
                </a:lnTo>
                <a:cubicBezTo>
                  <a:pt x="10800" y="9934"/>
                  <a:pt x="16200" y="10800"/>
                  <a:pt x="21600" y="10800"/>
                </a:cubicBezTo>
                <a:cubicBezTo>
                  <a:pt x="16200" y="10800"/>
                  <a:pt x="10800" y="11667"/>
                  <a:pt x="10800" y="12533"/>
                </a:cubicBezTo>
                <a:lnTo>
                  <a:pt x="10800" y="19867"/>
                </a:lnTo>
                <a:cubicBezTo>
                  <a:pt x="10800" y="2073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52"/>
          <p:cNvSpPr/>
          <p:nvPr/>
        </p:nvSpPr>
        <p:spPr>
          <a:xfrm rot="5400000">
            <a:off x="8381520" y="4419720"/>
            <a:ext cx="228600" cy="228600"/>
          </a:xfrm>
          <a:custGeom>
            <a:avLst/>
            <a:gdLst>
              <a:gd name="textAreaLeft" fmla="*/ 0 w 228600"/>
              <a:gd name="textAreaRight" fmla="*/ 82440 w 22860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0"/>
                  <a:pt x="10800" y="3000"/>
                </a:cubicBezTo>
                <a:lnTo>
                  <a:pt x="10800" y="7800"/>
                </a:lnTo>
                <a:cubicBezTo>
                  <a:pt x="10800" y="9300"/>
                  <a:pt x="16200" y="10800"/>
                  <a:pt x="21600" y="10800"/>
                </a:cubicBezTo>
                <a:cubicBezTo>
                  <a:pt x="16200" y="10800"/>
                  <a:pt x="10800" y="12300"/>
                  <a:pt x="10800" y="13800"/>
                </a:cubicBezTo>
                <a:lnTo>
                  <a:pt x="10800" y="18600"/>
                </a:lnTo>
                <a:cubicBezTo>
                  <a:pt x="10800" y="201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57200" y="38862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5359b"/>
                </a:solidFill>
                <a:latin typeface="Tahoma"/>
              </a:rPr>
              <a:t>(Scope, PRRs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752480" y="388620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8dc"/>
                </a:solidFill>
                <a:latin typeface="Tahoma"/>
              </a:rPr>
              <a:t>     </a:t>
            </a:r>
            <a:r>
              <a:rPr b="1" lang="en-US" sz="1000" spc="-1" strike="noStrike">
                <a:solidFill>
                  <a:srgbClr val="0d5dff"/>
                </a:solidFill>
                <a:latin typeface="Tahoma"/>
              </a:rPr>
              <a:t>(TX SET  and  Market  Coordination  Team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800600" y="388620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8dc"/>
                </a:solidFill>
                <a:latin typeface="Tahoma"/>
              </a:rPr>
              <a:t>     </a:t>
            </a:r>
            <a:r>
              <a:rPr b="1" lang="en-US" sz="1000" spc="-1" strike="noStrike">
                <a:solidFill>
                  <a:srgbClr val="006600"/>
                </a:solidFill>
                <a:latin typeface="Tahoma"/>
              </a:rPr>
              <a:t>(MPs &amp; ERCOT Build and Test) (Market Test Flight)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786A-EB2C-4FA2-9A73-862D47D7ED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next TX SET meet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s Scheduled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ptember 24th &amp; 25th a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The ERCOT MET Center </a:t>
            </a: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y question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6F4E-41CE-4330-A342-4BEA55EDB0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075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A-By Pass flag is being used by CRs when they do not have a CSA establis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guage in the 814_24 Move-out guide sta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 owner of CSA could use the code to de-energize a premise (Only if the CSA REP is also the REP of Record at the time of the Move-Out effective date)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ssue I075 (continu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15FE-EA4F-4432-812F-8DA5CC1294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90720" y="2362320"/>
          <a:ext cx="7162560" cy="3352680"/>
        </p:xfrm>
        <a:graphic>
          <a:graphicData uri="http://schemas.openxmlformats.org/drawingml/2006/table">
            <a:tbl>
              <a:tblPr/>
              <a:tblGrid>
                <a:gridCol w="1224000"/>
                <a:gridCol w="1209600"/>
                <a:gridCol w="1211040"/>
                <a:gridCol w="1209960"/>
                <a:gridCol w="1209600"/>
                <a:gridCol w="1098360"/>
              </a:tblGrid>
              <a:tr h="5824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1/08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/01/08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/29/08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27/08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1/08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/26/08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ff"/>
                    </a:solidFill>
                  </a:tcPr>
                </a:tc>
              </a:tr>
              <a:tr h="3207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0/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0/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8/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5/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0/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4/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ff"/>
                    </a:solidFill>
                  </a:tcPr>
                </a:tc>
              </a:tr>
              <a:tr h="244944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ff"/>
                    </a:solidFill>
                  </a:tcPr>
                </a:tc>
              </a:tr>
            </a:tbl>
          </a:graphicData>
        </a:graphic>
      </p:graphicFrame>
      <p:sp>
        <p:nvSpPr>
          <p:cNvPr id="95" name="TextBox 5"/>
          <p:cNvSpPr/>
          <p:nvPr/>
        </p:nvSpPr>
        <p:spPr>
          <a:xfrm>
            <a:off x="1600200" y="13716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 of MVOs sent with the CSA By-Pass Flag from a CR that does not own the C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ssue I075 (continu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47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RCOT and TX SET have been informed that the CSA By-pass flag has been “turned off” in the REP’s system and will be monitoring for a decline in volume in Septem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7280-7F86-4C82-B915-28EA6532D2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RMGRR Activity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MGRR06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Mass Transition Revisions Resulting from June 2008 Lessons Learned Workshop -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rgent Time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ahoma"/>
              </a:rPr>
              <a:t>Approved by TAC, becomes effective Oct.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MGRR06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Correcting Retail Market Guide for Leapfrog processes to synch up with ERCOT’s system logic -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rgent Time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ahoma"/>
              </a:rPr>
              <a:t>Approved by TAC, becomes effective Oct.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4D6F-A1C1-41F5-A32F-95D6C37691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RMGRR Activity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MGRR06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Disconnect and Reconnect for Non-Payment Updates and Corr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ahoma"/>
              </a:rPr>
              <a:t>Normal Timeline, RMS voting item for Sep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MGRR06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Safety-Net Move-In Process Updat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ahoma"/>
              </a:rPr>
              <a:t>Normal Timeline, RMS voting item for Sep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849C-FEFF-434F-9200-2FC7DDD3BA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RMGRR Activity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b7c5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MGRR0X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Updates and Corrections to the Transaction Timing Matrix, LOA for Historical Usage, and Estimated Meter Read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Normal Time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MGRR0X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Out-Flow Power from Distributed Renewable Generation Facili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Normal Time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9EF0-AB4C-43C0-A618-CF57538A9D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R Activ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76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RXX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Revisions to Ch. 15 to correct oversights in transaction processing and timings to synch up to actual processing agreed to for TX SET Version 3.0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814_03, 814_05, 814_17, 814_21, 814_2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Add explanation of the 48-hour retry queue for Date Change and Cancel trans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64D1-5134-4E02-ADED-16B4AC81F1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D478-F56C-4277-AE9C-41FF1F1FEB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 Work in Progr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 Guide 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Transaction Examples and Prepare to Pull Examples Out of I.G.s at Next Rel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ded to Keep 119 of 215 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 of 119 have been draf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ing Advanced Metering Project for TX SET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ed TX SET Release Timeline at AMIT on September 3, 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380880" y="64008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7:54:20Z</dcterms:created>
  <dc:creator>rbevill</dc:creator>
  <dc:description/>
  <dc:language>en-US</dc:language>
  <cp:lastModifiedBy>rob.bevill</cp:lastModifiedBy>
  <dcterms:modified xsi:type="dcterms:W3CDTF">2008-09-05T20:34:22Z</dcterms:modified>
  <cp:revision>226</cp:revision>
  <dc:subject/>
  <dc:title>TX SET  Update to RMS</dc:title>
</cp:coreProperties>
</file>