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0C42A74-B72E-4A51-9F0A-28A324481F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38320" y="687240"/>
            <a:ext cx="4592520" cy="3445200"/>
          </a:xfrm>
          <a:prstGeom prst="rect">
            <a:avLst/>
          </a:prstGeom>
          <a:ln w="0">
            <a:noFill/>
          </a:ln>
        </p:spPr>
      </p:sp>
      <p:sp>
        <p:nvSpPr>
          <p:cNvPr id="7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2AB68C-A683-44CB-88FF-5499A393F3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38320" y="687240"/>
            <a:ext cx="4592520" cy="3445200"/>
          </a:xfrm>
          <a:prstGeom prst="rect">
            <a:avLst/>
          </a:prstGeom>
          <a:ln w="0">
            <a:noFill/>
          </a:ln>
        </p:spPr>
      </p:sp>
      <p:sp>
        <p:nvSpPr>
          <p:cNvPr id="7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F5975E-BB6B-4A82-8D02-BBF80E78D9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38320" y="687240"/>
            <a:ext cx="4592520" cy="3445200"/>
          </a:xfrm>
          <a:prstGeom prst="rect">
            <a:avLst/>
          </a:prstGeom>
          <a:ln w="0">
            <a:noFill/>
          </a:ln>
        </p:spPr>
      </p:sp>
      <p:sp>
        <p:nvSpPr>
          <p:cNvPr id="8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3CBE098-4E92-4B01-8097-B09DE6E62F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8320" y="687240"/>
            <a:ext cx="4592520" cy="3445200"/>
          </a:xfrm>
          <a:prstGeom prst="rect">
            <a:avLst/>
          </a:prstGeom>
          <a:ln w="0">
            <a:noFill/>
          </a:ln>
        </p:spPr>
      </p:sp>
      <p:sp>
        <p:nvSpPr>
          <p:cNvPr id="8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5F1DFFB-4F29-4565-9EF8-8B29A2B611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38320" y="687240"/>
            <a:ext cx="4592520" cy="3445200"/>
          </a:xfrm>
          <a:prstGeom prst="rect">
            <a:avLst/>
          </a:prstGeom>
          <a:ln w="0">
            <a:noFill/>
          </a:ln>
        </p:spPr>
      </p:sp>
      <p:sp>
        <p:nvSpPr>
          <p:cNvPr id="8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F2E0F76-C56F-437D-873B-887B84D31F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8320" y="687240"/>
            <a:ext cx="4592520" cy="3445200"/>
          </a:xfrm>
          <a:prstGeom prst="rect">
            <a:avLst/>
          </a:prstGeom>
          <a:ln w="0">
            <a:noFill/>
          </a:ln>
        </p:spPr>
      </p:sp>
      <p:sp>
        <p:nvSpPr>
          <p:cNvPr id="9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396AC8-6150-4DE9-B57E-20D30C7A0F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38320" y="687240"/>
            <a:ext cx="4592520" cy="3445200"/>
          </a:xfrm>
          <a:prstGeom prst="rect">
            <a:avLst/>
          </a:prstGeom>
          <a:ln w="0">
            <a:noFill/>
          </a:ln>
        </p:spPr>
      </p:sp>
      <p:sp>
        <p:nvSpPr>
          <p:cNvPr id="9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250E506-74D1-4008-B3A9-787ED2A43D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8320" y="687240"/>
            <a:ext cx="4592520" cy="3445200"/>
          </a:xfrm>
          <a:prstGeom prst="rect">
            <a:avLst/>
          </a:prstGeom>
          <a:ln w="0">
            <a:noFill/>
          </a:ln>
        </p:spPr>
      </p:sp>
      <p:sp>
        <p:nvSpPr>
          <p:cNvPr id="9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8A13B0-B480-456C-BEE2-357E067A6C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8DE1B-37C4-4721-80A2-68B89382E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AE297-7361-4AC7-AA90-BCF06F7A2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7966B-3A6A-487E-8016-80B0B969E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28013-DDFB-4562-BB36-FFDF515F7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80F8D-B040-4AED-9DFB-0DF79F881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2AB5A-06D0-4372-BA18-102AEB71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AF2E-FF26-44DC-BDD5-A8E5EF1D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7C6F9-7FD3-4CA8-8E91-637FE322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6D07-A1B9-49FE-B0B6-9B35945CF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C4FA-47C0-4532-94D9-07D54CE5C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EF3C-0EB5-4DA9-820B-D380A6D7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728A-2242-4F8A-984D-400E47DE0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AF8D-069D-438E-BBF5-CC617F3A729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5862-7704-4E32-BCBF-BA5A809CE48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10,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5747-0351-4EA7-92A5-CB349317F2D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4920"/>
            <a:ext cx="8610840" cy="4953240"/>
          </a:xfrm>
          <a:prstGeom prst="rect">
            <a:avLst/>
          </a:prstGeom>
          <a:noFill/>
          <a:ln w="0">
            <a:noFill/>
          </a:ln>
        </p:spPr>
        <p:txBody>
          <a:bodyPr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ERCOT System Outages and failures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current status of SCR748 and SCR745</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SLA Revision Proposals for 2009</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rak task force update.</a:t>
            </a:r>
            <a:endParaRPr b="0" lang="en-US" sz="24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107D-2064-4942-A0CA-4830EEB17CF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Continue working with the ERCOT Manager of Operations to address each system incident. </a:t>
            </a:r>
            <a:endParaRPr b="0" lang="en-US" sz="28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ian Brennan reviewed  all the outages, a couple minor status changes were suggest.</a:t>
            </a:r>
            <a:endParaRPr b="0" lang="en-US" sz="2400" spc="-1" strike="noStrike">
              <a:solidFill>
                <a:srgbClr val="00000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w format for the outage report was reviewed, which includes Unplanned Outage and SLA exception minutes and percentage. This document is posted on the TDTWG Calendar for 9/5/08. Definitions of the new columns have been added to the “How to Use” worksheet.</a:t>
            </a:r>
            <a:endParaRPr b="0" lang="en-US" sz="24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view current status of SCR745 and SCR748</a:t>
            </a:r>
            <a:r>
              <a:rPr b="1" lang="en-US"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changes or update to SCR745.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vin Tanner reviewed his presentation on SCR748, PR 70006_02</a:t>
            </a:r>
            <a:r>
              <a:rPr b="0" lang="en-US" sz="2400" spc="-1" strike="noStrike">
                <a:solidFill>
                  <a:srgbClr val="000000"/>
                </a:solidFill>
                <a:latin typeface="Arial"/>
              </a:rPr>
              <a:t> </a:t>
            </a:r>
            <a:r>
              <a:rPr b="1" lang="en-US" sz="2400" spc="-1" strike="noStrike">
                <a:solidFill>
                  <a:srgbClr val="000000"/>
                </a:solidFill>
                <a:latin typeface="Arial"/>
              </a:rPr>
              <a:t>Website Enhancements for ERCOT Outage Notification Phase II (SCR 748).</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the validation of design with Commercial Operations; Development is in progress - 70% complete; Complete development</a:t>
            </a:r>
            <a:r>
              <a:rPr b="1" lang="en-US" sz="2400" spc="-1" strike="noStrike">
                <a:solidFill>
                  <a:srgbClr val="ff3300"/>
                </a:solidFill>
                <a:latin typeface="Arial"/>
              </a:rPr>
              <a:t> </a:t>
            </a:r>
            <a:r>
              <a:rPr b="1" lang="en-US" sz="2400" spc="-1" strike="noStrike">
                <a:solidFill>
                  <a:srgbClr val="000000"/>
                </a:solidFill>
                <a:latin typeface="Arial"/>
              </a:rPr>
              <a:t>- October 2008; and go live is scheduled for December 18, 2008.</a:t>
            </a:r>
            <a:endParaRPr b="0" lang="en-US" sz="24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3E2A-81B7-4BFF-BB4D-2CAFE959A73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Reviewed SLA Revision Proposals for 2009</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y Felton posted a Draft SLA to the TDTWG meeting calendar as well as a Retail SLA Proposal document for review.  A reminder to review these documents will be sent to TDTWG list serve and comments need to be back to Trey Felton by COB 9/16. TDTWG will meet on October 1 to review comments and make final recommendation to RMS before their meeting in October.</a:t>
            </a: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6DB6-6558-466E-A8A0-34318A02E9D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AD5E-D240-4E83-87D9-B42789699A6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69"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4. </a:t>
            </a:r>
            <a:r>
              <a:rPr b="1" lang="en-US" sz="2400" spc="-1" strike="noStrike">
                <a:solidFill>
                  <a:srgbClr val="000000"/>
                </a:solidFill>
                <a:latin typeface="Arial"/>
              </a:rPr>
              <a:t>MarkeTrak task force updat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en Malkey gave an update on work the MarkeTrak Task Force is doing and their interface with Trey Felton and proposals to the SLA. TDTWG will continue to monitor this process as part of market feedback for 2009 Retail SL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xt MarkeTrak Task Force meeting is scheduled for tomorrow, 9/11/08. Contact Karen Malkey for details.</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6888-3166-4B38-B703-4709F25D39F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89512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Just a reminder all documents can be reviewed on the ERCOT Calendar for TDTWG Meeting of 9/5/08.</a:t>
            </a:r>
            <a:br>
              <a:rPr sz="4000"/>
            </a:br>
            <a:br>
              <a:rPr sz="2000"/>
            </a:br>
            <a:br>
              <a:rPr sz="2000"/>
            </a:br>
            <a:endParaRPr b="0" lang="en-US" sz="4000" spc="-1" strike="noStrike">
              <a:solidFill>
                <a:srgbClr val="000000"/>
              </a:solidFill>
              <a:latin typeface="Arial"/>
            </a:endParaRPr>
          </a:p>
        </p:txBody>
      </p:sp>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A43A-421C-4265-83BC-04F36E7D30D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3"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br>
              <a:rPr sz="4000"/>
            </a:br>
            <a:br>
              <a:rPr sz="4000"/>
            </a:br>
            <a:br>
              <a:rPr sz="4000"/>
            </a:br>
            <a:br>
              <a:rPr sz="2000"/>
            </a:br>
            <a:br>
              <a:rPr sz="2000"/>
            </a:br>
            <a:endParaRPr b="0" lang="en-US" sz="40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09-08T16:26:47Z</dcterms:modified>
  <cp:revision>528</cp:revision>
  <dc:subject/>
  <dc:title>PowerPoint Presentation</dc:title>
</cp:coreProperties>
</file>