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ABE-EDCE-4548-87CA-C3313476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1BD-238B-455D-A429-DBAC4996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14E-8F56-475F-82EE-12CDE057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59C-E538-4EFD-A385-987A6458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5FE-A028-4DEC-9E8B-EEC8075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4EF-B631-4B7D-92B8-130EB173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145-9EB7-4117-B8A5-54300D26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3FB-130D-4C5F-9CE3-13C0391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CA4-132F-4BA2-80B2-63DD23C0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7A4-0B19-42ED-8FFD-2EBB154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E7D-65E5-40B6-9C44-1D5BC93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62A-B077-4F3A-B14C-0A70815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CDD3-A3AF-4535-9FCF-8146A01C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tember 10, 2008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nd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8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295280"/>
          <a:ext cx="8686800" cy="5333760"/>
        </p:xfrm>
        <a:graphic>
          <a:graphicData uri="http://schemas.openxmlformats.org/drawingml/2006/table">
            <a:tbl>
              <a:tblPr/>
              <a:tblGrid>
                <a:gridCol w="1957320"/>
                <a:gridCol w="1147680"/>
                <a:gridCol w="1094040"/>
                <a:gridCol w="1150920"/>
                <a:gridCol w="1093680"/>
                <a:gridCol w="1147680"/>
                <a:gridCol w="1095480"/>
              </a:tblGrid>
              <a:tr h="3808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8,4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,33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,0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8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7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2,1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7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,1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1,5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,2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,1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9,5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,4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,8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2,4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,3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,0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7,0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,9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,3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,1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,73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,9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,6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,9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,1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6,4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7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,3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295280"/>
          <a:ext cx="8686440" cy="5333760"/>
        </p:xfrm>
        <a:graphic>
          <a:graphicData uri="http://schemas.openxmlformats.org/drawingml/2006/table">
            <a:tbl>
              <a:tblPr/>
              <a:tblGrid>
                <a:gridCol w="1985040"/>
                <a:gridCol w="1166040"/>
                <a:gridCol w="1110600"/>
                <a:gridCol w="1165320"/>
                <a:gridCol w="984960"/>
                <a:gridCol w="1164240"/>
                <a:gridCol w="1110240"/>
              </a:tblGrid>
              <a:tr h="3808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71,9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6,1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,1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,8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5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47,7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8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,2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37,3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,1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6,5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32,43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3,5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0,3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3,6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,9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,5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3,0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,2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,8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06,1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4,4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2,5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05,3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,5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,9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6,2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,7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9,1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0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8-09-02T15:12:34Z</dcterms:modified>
  <cp:revision>429</cp:revision>
  <dc:subject/>
  <dc:title>PowerPoint Presentation</dc:title>
</cp:coreProperties>
</file>