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23C88-DD9E-4A14-8DD1-BACA23F86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E38D2-7B76-4018-B682-B238D3EB9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3DB58-185E-42B2-BD68-653392566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604DB-DCE9-47DC-9FBE-73DC4FCCA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16302-E2A4-496E-8A46-D06ECC56E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95CC4-3FE7-449D-B456-EA3B3EDC2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DFD05-43AD-4E17-BB93-6800AB767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C555A-82A3-4081-9ECE-BA364B201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DEFC3-9A38-414C-9BB7-95B1BBE29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A3FF9-FF82-48A4-AA74-9AE5F4DEF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3E64E-B630-4127-BB3F-5E1786EE8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0940D-9540-4995-AE52-7FAEA4EAE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5F920-6CC5-46CF-A138-881B956A3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7F047-C7E2-4919-A38C-DE6B4ABF3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BFA57-A658-4CBC-88CB-DF8A86257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CA06A-F55F-4200-8AA0-4BFBAED1B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E0134-C77A-4F2D-AC86-E98CED00C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A54C79-363B-4ED3-8381-79A3B81AC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D64DEF-F73A-4927-8694-5E1F417B9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E92886-0738-45FC-9AFF-1A4D7D711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B840A7-665A-466E-B771-99EC90D51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10C44E-06CC-42C3-B736-52E648EED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E6C76-84AD-4E7E-8E36-5F15E111F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1A68D9-4134-468A-BCE2-6AB48355F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047EEA-5FDB-45AE-B4FF-3BE578642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FAFF8E-473E-479A-88C7-3077CF530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6DEC56-F4EE-4E78-9688-8A4E1D834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469429-62DB-4939-924D-1ED68BBFE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764CE4-9CE0-4C78-9F99-52F31255B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27FDEF-7172-49EA-AC57-98C7B5299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2AF554-612F-4800-B5EA-BC71856FC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D1F835-4FB9-456D-8295-B841B0140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0473B9-8169-44D1-AF75-7159EA541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D0A6D-ABC5-41C5-942C-71F7611A4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2AE092-3E3F-4591-BD05-77B989C43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E5F60F-4D59-4EDB-A178-724913D12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7E9E29-F9C7-4678-B914-C70928DE2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4FA70E-DA64-4A0C-B0BF-649C8B8F0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1E5601-5E6F-4FD9-9CCF-98F0A6984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972372-86A8-412F-98E5-A6184B3C8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EA8AC0-D9C2-46D8-B347-E12E2B310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BFBB44-4991-4558-A8E6-306DDF397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4A3753-0005-4BAD-8641-2C8764082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5B857D-9D1B-47AE-9BEA-5B8CADCDD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15CFA-0677-4FD5-91ED-FED5A01F3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1290FB-EEC2-441A-AEC5-87B832B52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8DAC55-DEEE-4F17-B83E-85362775A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193998-703F-43A4-8450-9F127F702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134287-DB7C-4AF4-961E-894C3AF9E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78628F-2E43-4A34-8B04-081A40019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9E4841-F43C-40FA-82C4-689AFCBE0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033693-A852-44CA-A941-D3A94864C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1BF5C2-7C85-463B-91BE-5FB3EBE28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A82EFE-1D14-438C-8669-E6BB37B57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6CAD50-B42D-437A-894B-715E979E9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D9001-AB8C-44DD-A1A5-31A81B11C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B1E2C5-F693-49DA-B87A-472F7C370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1794AD-5836-444D-BFB1-D5D0899DD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346C2C-7442-418D-99B5-629E1F712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4A19B3-EA06-45BB-A33B-5C18F0976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476E2B-07C4-41B8-BD6A-7530F10C5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5AF7BD-98A2-48CE-B30D-F6667C60F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2EA393-FF01-4DF1-A238-A8A1EC135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62DC86-AA1A-413A-8DD5-49C8E8970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1075DE-C033-4503-B960-320192BEB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A9163D-FE7E-4A47-8473-8711FB47D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CE32D-0EAF-47CE-8DD1-9456B0E34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038F79-48CA-46DD-A3CF-2D406338E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97F2A6-69F2-49D3-8E99-DF85AFC15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8F5205-BFB5-445E-8596-AB028CCA0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C08348-7001-4249-9066-2DCD0D7DF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5BF63F-CD97-4818-B7CC-103B9C545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4E8D0E-E89D-4627-B04E-D73BCA387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DB24C9-48BE-463C-850D-D610B13CC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302D51-B340-4039-8600-1A0BA5D7F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D15BAC-2063-4423-948F-6C4612765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6B5630-3C47-49DC-9A30-1AF0FAF62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2A985-8C90-4AA7-A470-C3B2E0CC5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7615A9-8BF4-4281-B2D7-A9E8F7B30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B49602-34CF-4EC8-99E0-2417BACD1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98C628-C1AC-4F94-9520-C6174435F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20A18E-6FCA-4EA3-A7FF-8D20E1B2E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7514AA-07EC-4798-9842-9EF604BA3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E66F85-4178-4783-9AFC-888A20592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46E9FE-B531-4D91-B54C-32E988E87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0FA218-FCE1-450F-B761-86D013EED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801EED-DC77-4FC4-B0E2-D26729F15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0B644D-7D21-454B-8346-10F677E18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EA2BC-25A7-4831-8325-3EFFE9DE3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2490DC-AE50-4D34-88D2-24D2541B2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53B52F-F2A1-4F9C-ADB1-15BEC1CC2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D06B49-8E83-46FA-BF8D-196FE9093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A3B6B0-5D7B-41CA-BA18-ADB4530D1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36C7FE-F8DB-413B-A402-350F8CFDD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EFB332-ABC3-4C02-B71E-894E16C6A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012A4B-6354-4026-924A-5CE0A9BC7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FDA03-D298-490B-B126-D08FA49C92FB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8CEAC-A059-4DDC-86FA-4575BCF502F3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C3136-C48C-49D3-96CA-BA0562D31FB2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4C704-716F-4145-82EF-3BB52AFA474C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4C220-2FE5-48C6-902B-532E20119ABB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05198-C494-4822-903C-15A426DE8623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1EA6C-093A-4705-8347-73CDD66FF324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BE321-79EE-467C-9A34-FFAA5F3DEFD3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le 1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259840" cy="184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Tit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4" descr=""/>
          <p:cNvPicPr/>
          <p:nvPr/>
        </p:nvPicPr>
        <p:blipFill>
          <a:blip r:embed="rId2"/>
          <a:stretch/>
        </p:blipFill>
        <p:spPr>
          <a:xfrm>
            <a:off x="380880" y="1295280"/>
            <a:ext cx="8596440" cy="416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5T15:37:50Z</dcterms:created>
  <dc:creator>CenterPoint Energy</dc:creator>
  <dc:description/>
  <dc:language>en-US</dc:language>
  <cp:lastModifiedBy>CenterPoint Energy</cp:lastModifiedBy>
  <dcterms:modified xsi:type="dcterms:W3CDTF">2008-09-05T15:58:01Z</dcterms:modified>
  <cp:revision>3</cp:revision>
  <dc:subject/>
  <dc:title>Inadvertent Gain Performance </dc:title>
</cp:coreProperties>
</file>