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5A74B-BA48-4317-8DF2-1C998CB74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6C01-FFC9-471A-B22E-13C225BC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37EC1-4F27-40D2-BD88-0302B20D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08565-5F6A-48D9-841A-B78114E3D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A19D2-426A-4C3A-99A9-2888C473C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0AA4A-1923-4510-9C1A-EC212EC8E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616C-D2B9-4615-B846-2568EE906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96683-19F1-4F4B-97FB-FDC37D2D7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A2CE1-75C9-4294-9C80-53DCF4693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7CBA-60CF-4682-9C83-2335A6A39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CE68-04BC-4C53-BAEC-88299DD19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45CE-802D-43C4-9C22-68934D12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59B31-6330-49EF-8E93-30A1E895D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86F10-FB85-405D-ACFD-C7996E978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BFE57-BB31-456F-A412-D4949CAC4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F29A6-1091-47B7-A476-43A8D1E57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02C9D-2635-4A0E-B870-63B485001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6291-635C-49EC-94A4-A7CF560D7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06848-E870-4E12-91B8-4612AAC2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B606-6C7F-4BC4-A8AB-9BAE6D2A4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C15C7-EB63-4579-9327-69CE9A43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7AC4-0001-4F24-A6E1-23D78CCD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1430B-2A0D-4840-AD76-37E2BF046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377B-2C7E-484A-A9DC-7EFBB4FA8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6651-3A36-43E2-8C55-C51E9EFED79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3122-C754-422E-A913-170D00526C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RMS Update to TAC</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4,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quisitions Task Force (ATF)</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SUE:  No process for transitioning a large number of ESIIDs from one REP to another due to an acquisition.  Such a process would allow a REP who is in financial difficulty to sell their ESIIDs to another REP and then quickly transition their Customers to the purchasing REP.  This ability could reduce the number of Mass Transitions to POLR experienced by the Market.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OSED SOLUTION: Develop a process for transitioning large numbers of ESIIDs from one REP to another due to a merger or acquisition by leveraging the existing functionality at ERCO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 Task Force</a:t>
            </a: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sues:</a:t>
            </a:r>
            <a:endParaRPr b="0" lang="en-US" sz="24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rt/Stop time on Move-ins/Move-outs</a:t>
            </a:r>
            <a:endParaRPr b="0" lang="en-US" sz="2000" spc="-1" strike="noStrike">
              <a:solidFill>
                <a:srgbClr val="ffffff"/>
              </a:solidFill>
              <a:latin typeface="Tahoma"/>
            </a:endParaRPr>
          </a:p>
          <a:p>
            <a:pPr lvl="2" marL="1097280" indent="-21924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lling impacts</a:t>
            </a:r>
            <a:endParaRPr b="0" lang="en-US" sz="1800" spc="-1" strike="noStrike">
              <a:solidFill>
                <a:srgbClr val="ffffff"/>
              </a:solidFill>
              <a:latin typeface="Tahoma"/>
            </a:endParaRPr>
          </a:p>
          <a:p>
            <a:pPr lvl="2" marL="1097280" indent="-219240">
              <a:lnSpc>
                <a:spcPct val="90000"/>
              </a:lnSpc>
              <a:spcBef>
                <a:spcPts val="45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tlement and data extract impact</a:t>
            </a:r>
            <a:endParaRPr b="0" lang="en-US" sz="18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ion process of 15 minute data from TDSP to ERCOT</a:t>
            </a:r>
            <a:endParaRPr b="0" lang="en-US" sz="20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G with Advanced metering communication, settlement and data extract</a:t>
            </a:r>
            <a:endParaRPr b="0" lang="en-US" sz="2000" spc="-1" strike="noStrike">
              <a:solidFill>
                <a:srgbClr val="ffffff"/>
              </a:solidFill>
              <a:latin typeface="Tahoma"/>
            </a:endParaRPr>
          </a:p>
          <a:p>
            <a:pPr marL="329040" indent="-32904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ution: </a:t>
            </a:r>
            <a:r>
              <a:rPr b="0" lang="en-US" sz="2000" spc="-1" strike="noStrike">
                <a:solidFill>
                  <a:srgbClr val="ffffff"/>
                </a:solidFill>
                <a:latin typeface="Tahoma"/>
              </a:rPr>
              <a:t>The Market has an objective to support the AMIT defined interim solution by July1, 2009. ERCOT has indicated time to accomplish of 12-14 months from the date of initiation. The focus inherent with a single objective process team is necessary and requires perspective and involvement of ERCOT as well as both the Retail and Commercial Marke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 the Agenda for September 10</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ce-Chair Election</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WG Draft Recommendation for Market Credit Risk Standard Consideration</a:t>
            </a:r>
            <a:endParaRPr b="0" lang="en-US" sz="24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ion Requests for Retail Market Guide</a:t>
            </a:r>
            <a:r>
              <a:rPr b="0" lang="en-US" sz="2800" spc="-1" strike="noStrike">
                <a:solidFill>
                  <a:srgbClr val="ffffff"/>
                </a:solidFill>
                <a:latin typeface="Tahoma"/>
              </a:rPr>
              <a:t> </a:t>
            </a:r>
            <a:endParaRPr b="0" lang="en-US" sz="28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Disconnect and Reconnect for Non-Pay</a:t>
            </a:r>
            <a:endParaRPr b="0" lang="en-US" sz="24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o Safety Net Move- In</a:t>
            </a:r>
            <a:endParaRPr b="0" lang="en-US" sz="2400" spc="-1" strike="noStrike">
              <a:solidFill>
                <a:srgbClr val="ffffff"/>
              </a:solidFill>
              <a:latin typeface="Tahoma"/>
            </a:endParaRPr>
          </a:p>
          <a:p>
            <a:pPr lvl="2" marL="1062720" indent="-2124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justments to Market Test Plan for 2008-09</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ERCOT 2009 SLA proposal</a:t>
            </a:r>
            <a:endParaRPr b="0" lang="en-US" sz="2400" spc="-1" strike="noStrike">
              <a:solidFill>
                <a:srgbClr val="ffffff"/>
              </a:solidFill>
              <a:latin typeface="Tahoma"/>
            </a:endParaRPr>
          </a:p>
          <a:p>
            <a:pPr lvl="1" marL="690840" indent="-2656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of ERCOT 2</a:t>
            </a:r>
            <a:r>
              <a:rPr b="0" lang="en-US" sz="2400" spc="-1" strike="noStrike" baseline="30000">
                <a:solidFill>
                  <a:srgbClr val="ffffff"/>
                </a:solidFill>
                <a:latin typeface="Tahoma"/>
              </a:rPr>
              <a:t>nd</a:t>
            </a:r>
            <a:r>
              <a:rPr b="0" lang="en-US" sz="2400" spc="-1" strike="noStrike">
                <a:solidFill>
                  <a:srgbClr val="ffffff"/>
                </a:solidFill>
                <a:latin typeface="Tahoma"/>
              </a:rPr>
              <a:t> Q2008 Performance Measures Activity Re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estions?</a:t>
            </a:r>
            <a:endParaRPr b="0" lang="en-US" sz="4400" spc="-1" strike="noStrike">
              <a:solidFill>
                <a:srgbClr val="dbbd71"/>
              </a:solidFill>
              <a:latin typeface="Arial"/>
            </a:endParaRPr>
          </a:p>
        </p:txBody>
      </p:sp>
      <p:pic>
        <p:nvPicPr>
          <p:cNvPr id="181"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MS Update to TAC</a:t>
            </a:r>
            <a:endParaRPr b="0" lang="en-US" sz="4000" spc="-1" strike="noStrike">
              <a:solidFill>
                <a:srgbClr val="dbbd71"/>
              </a:solidFill>
              <a:latin typeface="Arial"/>
            </a:endParaRPr>
          </a:p>
        </p:txBody>
      </p:sp>
      <p:sp>
        <p:nvSpPr>
          <p:cNvPr id="155"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marL="609480" indent="-6094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gust 13 RMS Meeting Summary:</a:t>
            </a:r>
            <a:endParaRPr b="0" lang="en-US" sz="2800" spc="-1" strike="noStrike">
              <a:solidFill>
                <a:srgbClr val="ffffff"/>
              </a:solidFill>
              <a:latin typeface="Tahoma"/>
            </a:endParaRPr>
          </a:p>
          <a:p>
            <a:pPr lvl="1" marL="990720" indent="-53352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ercot.com/calendar/2008/08/20080813-RMSRMS</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ting Items:</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2,  AMIT Requested Change to Letter of Authorization Response (updat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3, Mass Transition Revisions Resulting from June 2008 Lessons Learned Workshop (vot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GRR064, Correcting Retail Market Guide for Leapfrog process to Synch up with ERCOT’s system logic (Vote)</a:t>
            </a:r>
            <a:endParaRPr b="0" lang="en-US" sz="20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Updat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IT Updat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F Taskforce</a:t>
            </a:r>
            <a:endParaRPr b="0" lang="en-US" sz="2400" spc="-1" strike="noStrike">
              <a:solidFill>
                <a:srgbClr val="ffffff"/>
              </a:solidFill>
              <a:latin typeface="Tahoma"/>
            </a:endParaRPr>
          </a:p>
          <a:p>
            <a:pPr lvl="1" marL="990720" indent="-533520">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 Task Force</a:t>
            </a:r>
            <a:endParaRPr b="0" lang="en-US" sz="24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7"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2,  AMIT Requested Change to Letter of Authorization Response (upda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ested the TDU wires charges information be excluded from the 12 months usage response information</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concerns from multiple market segments about the exclusion, the RMGRR was remanded back to the AMIT for further discussion.</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GRR063, Mass Transition Revisions Resulting from June 2008 Lessons Learned Workshop (vote)</a:t>
            </a:r>
            <a:endParaRPr b="0" lang="en-US" sz="32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rifies processes for Mass Transitions to the POLR</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s clarity and consistency of proces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to reduce time Customer is on POLR</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60" name=""/>
          <p:cNvGraphicFramePr/>
          <p:nvPr/>
        </p:nvGraphicFramePr>
        <p:xfrm>
          <a:off x="6400800" y="5334120"/>
          <a:ext cx="914400" cy="714240"/>
        </p:xfrm>
        <a:graphic>
          <a:graphicData uri="http://schemas.openxmlformats.org/presentationml/2006/ole">
            <p:oleObj progId="Word.Document.12" r:id="rId1" spid="">
              <p:embed/>
              <p:pic>
                <p:nvPicPr>
                  <p:cNvPr id="161" name="" descr=""/>
                  <p:cNvPicPr/>
                  <p:nvPr/>
                </p:nvPicPr>
                <p:blipFill>
                  <a:blip r:embed="rId2"/>
                  <a:stretch/>
                </p:blipFill>
                <p:spPr>
                  <a:xfrm>
                    <a:off x="6400800" y="5334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4, Correcting Retail Market Guide for Leapfrog process to Synch up with ERCOT’s system logic (Vo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ing/updating the RMG’s documented process will allow Market Participants to better manage the appropriate resolution for Inadvertent Gains when a third Competitive Retailer (leapfrog scenario) is involved.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64" name=""/>
          <p:cNvGraphicFramePr/>
          <p:nvPr/>
        </p:nvGraphicFramePr>
        <p:xfrm>
          <a:off x="7010280" y="5410080"/>
          <a:ext cx="914400" cy="714600"/>
        </p:xfrm>
        <a:graphic>
          <a:graphicData uri="http://schemas.openxmlformats.org/presentationml/2006/ole">
            <p:oleObj progId="Word.Document.12" r:id="rId1" spid="">
              <p:embed/>
              <p:pic>
                <p:nvPicPr>
                  <p:cNvPr id="165" name="" descr=""/>
                  <p:cNvPicPr/>
                  <p:nvPr/>
                </p:nvPicPr>
                <p:blipFill>
                  <a:blip r:embed="rId2"/>
                  <a:stretch/>
                </p:blipFill>
                <p:spPr>
                  <a:xfrm>
                    <a:off x="7010280" y="54100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requests TAC Affirmative Vote 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3 , Mass Transition Revisions Resulting from June 2008 Lessons Learned Workshop  an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4, Correcting Retail Market Guide for Leapfrog process to Synch up with ERCOT’s system logic</a:t>
            </a:r>
            <a:endParaRPr b="0" lang="en-US" sz="28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2009 SLA Update</a:t>
            </a:r>
            <a:endParaRPr b="0" lang="en-US" sz="32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s:</a:t>
            </a:r>
            <a:endParaRPr b="0" lang="en-US" sz="2800" spc="-1" strike="noStrike">
              <a:solidFill>
                <a:srgbClr val="ffffff"/>
              </a:solidFill>
              <a:latin typeface="Tahoma"/>
            </a:endParaRPr>
          </a:p>
          <a:p>
            <a:pPr lvl="2" marL="1119960" indent="-223920">
              <a:lnSpc>
                <a:spcPct val="9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ded maintenance windows from 12 to 15 hours on weekend 1 and 2 (</a:t>
            </a:r>
            <a:r>
              <a:rPr b="0" lang="en-US" sz="1600" spc="-1" strike="noStrike">
                <a:solidFill>
                  <a:srgbClr val="ffffff"/>
                </a:solidFill>
                <a:latin typeface="Tahoma"/>
              </a:rPr>
              <a:t>reduced from proposed 18 hrs.)</a:t>
            </a:r>
            <a:endParaRPr b="0" lang="en-US" sz="1600" spc="-1" strike="noStrike">
              <a:solidFill>
                <a:srgbClr val="ffffff"/>
              </a:solidFill>
              <a:latin typeface="Tahoma"/>
            </a:endParaRPr>
          </a:p>
          <a:p>
            <a:pPr lvl="2" marL="1119960" indent="-223920">
              <a:lnSpc>
                <a:spcPct val="9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 Release window from week 2 to week 4 based on less market transaction activity</a:t>
            </a:r>
            <a:endParaRPr b="0" lang="en-US" sz="2400" spc="-1" strike="noStrike">
              <a:solidFill>
                <a:srgbClr val="ffffff"/>
              </a:solidFill>
              <a:latin typeface="Tahoma"/>
            </a:endParaRPr>
          </a:p>
          <a:p>
            <a:pPr lvl="3" marL="1568160" indent="-2239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Outage window form 36 down to 30 hours</a:t>
            </a:r>
            <a:endParaRPr b="0" lang="en-US" sz="2000" spc="-1" strike="noStrike">
              <a:solidFill>
                <a:srgbClr val="ffffff"/>
              </a:solidFill>
              <a:latin typeface="Tahoma"/>
            </a:endParaRPr>
          </a:p>
          <a:p>
            <a:pPr lvl="2" marL="1119960" indent="-223920">
              <a:lnSpc>
                <a:spcPct val="90000"/>
              </a:lnSpc>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onths each year have 5 weekends so add a 12 hour maintenance window</a:t>
            </a:r>
            <a:endParaRPr b="0" lang="en-US" sz="24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DTWG to consider in September, RMS will consider in Octo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etering Implementation Team (AMIT)</a:t>
            </a:r>
            <a:endParaRPr b="0" lang="en-US" sz="2400" spc="-1" strike="noStrike">
              <a:solidFill>
                <a:srgbClr val="ffffff"/>
              </a:solidFill>
              <a:latin typeface="Tahoma"/>
            </a:endParaRPr>
          </a:p>
          <a:p>
            <a:pPr lvl="1" marL="735480" indent="-2829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ment</a:t>
            </a:r>
            <a:endParaRPr b="0" lang="en-US" sz="24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terim solution</a:t>
            </a:r>
            <a:r>
              <a:rPr b="0" lang="en-US" sz="2000" spc="-1" strike="noStrike">
                <a:solidFill>
                  <a:srgbClr val="ffffff"/>
                </a:solidFill>
                <a:latin typeface="Tahoma"/>
              </a:rPr>
              <a:t> to support 15 minute settlement by July 2009</a:t>
            </a:r>
            <a:endParaRPr b="0" lang="en-US" sz="20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 Force created to address</a:t>
            </a:r>
            <a:endParaRPr b="0" lang="en-US" sz="18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Long term</a:t>
            </a:r>
            <a:r>
              <a:rPr b="0" lang="en-US" sz="2000" spc="-1" strike="noStrike">
                <a:solidFill>
                  <a:srgbClr val="ffffff"/>
                </a:solidFill>
                <a:latin typeface="Tahoma"/>
              </a:rPr>
              <a:t> consideration</a:t>
            </a:r>
            <a:endParaRPr b="0" lang="en-US" sz="20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RCOT initiated RFP earlier this summer </a:t>
            </a:r>
            <a:endParaRPr b="0" lang="en-US" sz="18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uate use of Central Repository rather than multiple TDU locations and methods of communication. </a:t>
            </a:r>
            <a:endParaRPr b="0" lang="en-US" sz="1800" spc="-1" strike="noStrike">
              <a:solidFill>
                <a:srgbClr val="ffffff"/>
              </a:solidFill>
              <a:latin typeface="Tahoma"/>
            </a:endParaRPr>
          </a:p>
          <a:p>
            <a:pPr lvl="3" marL="1584000" indent="-226080">
              <a:lnSpc>
                <a:spcPct val="90000"/>
              </a:lnSpc>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int ERCOT and Market Participant selection process</a:t>
            </a:r>
            <a:endParaRPr b="0" lang="en-US" sz="1800" spc="-1" strike="noStrike">
              <a:solidFill>
                <a:srgbClr val="ffffff"/>
              </a:solidFill>
              <a:latin typeface="Tahoma"/>
            </a:endParaRPr>
          </a:p>
          <a:p>
            <a:pPr lvl="1" marL="735480" indent="-2829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 Portal Host (s)</a:t>
            </a:r>
            <a:endParaRPr b="0" lang="en-US" sz="24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usiness Requirements and Use Cases have been Defined</a:t>
            </a:r>
            <a:endParaRPr b="0" lang="en-US" sz="2000" spc="-1" strike="noStrike">
              <a:solidFill>
                <a:srgbClr val="ffffff"/>
              </a:solidFill>
              <a:latin typeface="Tahoma"/>
            </a:endParaRPr>
          </a:p>
          <a:p>
            <a:pPr lvl="2" marL="1131480" indent="-226080">
              <a:lnSpc>
                <a:spcPct val="9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FP in development stag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MS Update to TAC</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MIT September</a:t>
            </a:r>
            <a:r>
              <a:rPr b="0" lang="en-US" sz="1400" spc="-1" strike="noStrike">
                <a:solidFill>
                  <a:srgbClr val="ffffff"/>
                </a:solidFill>
                <a:latin typeface="Tahoma"/>
              </a:rPr>
              <a:t> </a:t>
            </a:r>
            <a:r>
              <a:rPr b="1" lang="en-US" sz="1400" spc="-1" strike="noStrike">
                <a:solidFill>
                  <a:srgbClr val="ffffff"/>
                </a:solidFill>
                <a:latin typeface="Tahoma"/>
              </a:rPr>
              <a:t>Schedule</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3 – Project #5 – Retail Market Interface (RMI) Projec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d: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16-17 – Project #4 – Retail Market Interface (RMI)</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d: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Public Utility Commission, CHR {1701 N. Congress Ave, Austin TX, 78701}</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2-23 – Project #5 – Retail Market Interface (RMI)</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n: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8:30-4: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29-30 – Project #4 – Home Area Network (HA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on: 9:30-5: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ue: 8:30-4:30</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cation: ERCOT {7620 Metro Center Dr., Austin, TX 78744}</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8-27T22:40:02Z</dcterms:modified>
  <cp:revision>61</cp:revision>
  <dc:subject/>
  <dc:title>RMS Update to TAC</dc:title>
</cp:coreProperties>
</file>