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D78F4F2-388A-438C-A874-C36298774C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895AD7B-B945-4F4B-AE22-69CC5423C2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5A35789-2F4D-4F57-8972-6010819E68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80546D6-E53B-4EA3-A5CB-F7AA820A25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B815F1E-D4D3-417C-A72E-9B738DEC79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D56A55B-C3B2-4971-973A-5DDDA5A32A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1134DE3-E5E4-4577-9BD4-9A97A11E9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E991A49-30C9-41F3-9496-07BABD3954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272B9E9-D770-478F-BDBC-E736B6BB42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C5022A5-C5AB-4902-BB69-3F9C6AD21A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9215339-2974-4584-9E63-8B02A9B4FA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87E61AF-CADA-4384-9C63-50A71238C0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82F9E26-6D47-4C73-97AD-79734A8B8F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465B2FE-D36B-4882-97D3-01EFEAEA80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17C8947-4916-4A02-B296-DBC6EFE3EF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5D08E91-B6A9-4ADB-97E9-D96583C147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861D9AC-41C6-46B3-BEC7-38847BA9FD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E1111CD-0B44-4AEB-8EAB-4573812476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7477B0B-DC2C-47D1-ADFB-79C66A2E39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DE70919-FD0F-40ED-BBC6-0DB4F7E536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A0D2D54-4996-4BFC-86F8-E74053B26F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0E732C-CB33-4228-BD1A-DA4CF4D81B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D94C6C8-4F00-40CF-85A0-D59E35F13B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ECD1FBA-BD99-4A1D-93EA-EF7BB8824D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673ED56-A9D1-4894-A661-32C24FFA0A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DE6832C-97F5-4D30-9E1C-1A63C3F706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3249631-0C51-49E4-825C-058A440D8CA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nodal.ercot.com/protocols/nprr/126-150/137/index.html" TargetMode="External"/><Relationship Id="rId2" Type="http://schemas.openxmlformats.org/officeDocument/2006/relationships/hyperlink" Target="http://nodal.ercot.com/protocols/nprr/126-150/140/index.html" TargetMode="External"/><Relationship Id="rId3" Type="http://schemas.openxmlformats.org/officeDocument/2006/relationships/hyperlink" Target="http://nodal.ercot.com/protocols/nprr/126-150/148/index.html" TargetMode="External"/><Relationship Id="rId4" Type="http://schemas.openxmlformats.org/officeDocument/2006/relationships/hyperlink" Target="http://nodal.ercot.com/protocols/nprr/126-150/147/index.html"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nodal.ercot.com/protocols/nprr/126-150/139/index.html" TargetMode="External"/><Relationship Id="rId2" Type="http://schemas.openxmlformats.org/officeDocument/2006/relationships/hyperlink" Target="http://nodal.ercot.com/protocols/nprr/126-150/142/index.html" TargetMode="External"/><Relationship Id="rId3" Type="http://schemas.openxmlformats.org/officeDocument/2006/relationships/hyperlink" Target="http://nodal.ercot.com/mktrules/noperating/nogrr/001-025/022/index.html"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odal.ercot.com/docs/pd/eds/eds2/semglp/tnm_sem_go_live_procedure_v1_0.doc"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hyperlink" Target="http://www.ercot.com/calendar/2008/08/20080825-TPTF"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hyperlink" Target="http://www.ercot.com/committees/board/tac/tptf/"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nodal.ercot.com/protocols/nprr/126-150/149/index.html" TargetMode="External"/><Relationship Id="rId2" Type="http://schemas.openxmlformats.org/officeDocument/2006/relationships/hyperlink" Target="http://nodal.ercot.com/protocols/nprr/126-150/150/index.html"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26-150/145/index.html" TargetMode="External"/><Relationship Id="rId2" Type="http://schemas.openxmlformats.org/officeDocument/2006/relationships/hyperlink" Target="http://nodal.ercot.com/protocols/nprr/126-150/144/index.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nodal.ercot.com/protocols/nprr/101-125/102/index.html" TargetMode="External"/><Relationship Id="rId2" Type="http://schemas.openxmlformats.org/officeDocument/2006/relationships/hyperlink" Target="http://nodal.ercot.com/protocols/nprr/126-150/146/index.html" TargetMode="External"/><Relationship Id="rId3" Type="http://schemas.openxmlformats.org/officeDocument/2006/relationships/hyperlink" Target="http://nodal.ercot.com/protocols/nprr/126-150/141/index.html"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odal.ercot.com/protocols/nprr/126-150/141/index.html" TargetMode="External"/><Relationship Id="rId2" Type="http://schemas.openxmlformats.org/officeDocument/2006/relationships/hyperlink" Target="http://www.ercot.com/mktrules/issues/prr/750-774/768/inde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odal.ercot.com/protocols/nprr/126-150/146/index.html" TargetMode="External"/><Relationship Id="rId2" Type="http://schemas.openxmlformats.org/officeDocument/2006/relationships/hyperlink" Target="http://nodal.ercot.com/docs/pd/eds/gen/sla/eds_sla_for_nodal_eds_environments_v_6_0.doc"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19925F6-EDC5-4AC5-8B92-1C5C8A964C1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69a2"/>
                </a:solidFill>
                <a:latin typeface="Arial Black"/>
              </a:rPr>
              <a:t>TPTF Update f</a:t>
            </a:r>
            <a:r>
              <a:rPr b="0" lang="en-GB" sz="2800" spc="-1" strike="noStrike">
                <a:solidFill>
                  <a:srgbClr val="5469a2"/>
                </a:solidFill>
                <a:latin typeface="Arial Black"/>
              </a:rPr>
              <a:t>or ROS</a:t>
            </a:r>
            <a:br>
              <a:rPr sz="2400"/>
            </a:br>
            <a:r>
              <a:rPr b="0" i="1" lang="en-GB" sz="2400" spc="-1" strike="noStrike">
                <a:solidFill>
                  <a:srgbClr val="5469a2"/>
                </a:solidFill>
                <a:latin typeface="Arial Black"/>
              </a:rPr>
              <a:t>September 11, 2008</a:t>
            </a:r>
            <a:br>
              <a:rPr sz="2400"/>
            </a:br>
            <a:br>
              <a:rPr sz="3200"/>
            </a:br>
            <a:r>
              <a:rPr b="0" lang="en-GB" sz="1800" spc="-1" strike="noStrike">
                <a:solidFill>
                  <a:srgbClr val="5469a2"/>
                </a:solidFill>
                <a:latin typeface="Arial"/>
              </a:rPr>
              <a:t>Stacy Bridges</a:t>
            </a:r>
            <a:br>
              <a:rPr sz="1800"/>
            </a:br>
            <a:r>
              <a:rPr b="0" lang="en-GB" sz="1800" spc="-1" strike="noStrike" u="sng">
                <a:solidFill>
                  <a:srgbClr val="009999"/>
                </a:solidFill>
                <a:uFillTx/>
                <a:latin typeface="Arial"/>
                <a:hlinkClick r:id="rId1"/>
              </a:rPr>
              <a:t>sbridges@ercot.com</a:t>
            </a:r>
            <a:endParaRPr b="0" lang="en-US" sz="18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0DDEA6F-EE65-4474-B10A-D0007FC80F1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3" name="Text Box 6"/>
          <p:cNvSpPr/>
          <p:nvPr/>
        </p:nvSpPr>
        <p:spPr>
          <a:xfrm>
            <a:off x="380880" y="914400"/>
            <a:ext cx="8534520" cy="514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status of metric MP10, Mapping of Resources to Resource Nodes and Resources to Revenue Quality Meter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status of metric MP11, MP Registration Activiti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Generation Site Topology Form and Non-Modeled Generation Declaration Form</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7</a:t>
            </a:r>
            <a:r>
              <a:rPr b="0" lang="en-US" sz="1600" spc="-1" strike="noStrike">
                <a:solidFill>
                  <a:srgbClr val="000000"/>
                </a:solidFill>
                <a:latin typeface="Arial"/>
              </a:rPr>
              <a:t>, Synchronization and Update of Section 21</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discussion NPRR137 until after the ERCOT Board of Directors acts upon PRR753, PRR Appeals Proces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0</a:t>
            </a:r>
            <a:r>
              <a:rPr b="0" lang="en-US" sz="1600" spc="-1" strike="noStrike">
                <a:solidFill>
                  <a:srgbClr val="000000"/>
                </a:solidFill>
                <a:latin typeface="Arial"/>
              </a:rPr>
              <a:t>,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NPRR140 to allow CMM/CRR SMEs to address market comments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48</a:t>
            </a:r>
            <a:r>
              <a:rPr b="0" lang="en-US" sz="1600" spc="-1" strike="noStrike">
                <a:solidFill>
                  <a:srgbClr val="000000"/>
                </a:solidFill>
                <a:latin typeface="Arial"/>
              </a:rPr>
              <a:t>, Treatment of Financial Information as Confidential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TPTF comments for NPRR148 to be submitted to PR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47</a:t>
            </a:r>
            <a:r>
              <a:rPr b="0" lang="en-US" sz="1600" spc="-1" strike="noStrike">
                <a:solidFill>
                  <a:srgbClr val="000000"/>
                </a:solidFill>
                <a:latin typeface="Arial"/>
              </a:rPr>
              <a:t>, DAM Short Pay Char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discussion of NPRR147, noting that some policy considerations need to be resolved before TPTF can make a nodal implementation decision. TPTF recommended that PRS refer the policy issues to the WMS for further discuss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DD15AF5-B1CC-4FDC-B228-F3B105536C5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6" name="Text Box 6"/>
          <p:cNvSpPr/>
          <p:nvPr/>
        </p:nvSpPr>
        <p:spPr>
          <a:xfrm>
            <a:off x="380880" y="914400"/>
            <a:ext cx="8534520" cy="2618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 (continu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9</a:t>
            </a:r>
            <a:r>
              <a:rPr b="0" lang="en-US" sz="1600" spc="-1" strike="noStrike">
                <a:solidFill>
                  <a:srgbClr val="000000"/>
                </a:solidFill>
                <a:latin typeface="Arial"/>
              </a:rPr>
              <a:t>, Available Credit Limit (ACL), Estimated Aggregate Liability (EAL), Future Credit Exposure (FCE) Calculation Updat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39 to be submitted to PRS and recognized NPRR139 as “Needed for Go-Liv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changes to media appeal require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a:t>
            </a:r>
            <a:r>
              <a:rPr b="0" lang="en-US" sz="1600" spc="-1" strike="noStrike" u="sng">
                <a:solidFill>
                  <a:srgbClr val="009999"/>
                </a:solidFill>
                <a:uFillTx/>
                <a:latin typeface="Arial"/>
                <a:hlinkClick r:id="rId2"/>
              </a:rPr>
              <a:t>NPRR142</a:t>
            </a:r>
            <a:r>
              <a:rPr b="0" lang="en-US" sz="1600" spc="-1" strike="noStrike">
                <a:solidFill>
                  <a:srgbClr val="000000"/>
                </a:solidFill>
                <a:latin typeface="Arial"/>
              </a:rPr>
              <a:t>, EECP Media Appeal Change, and recognized it as “Needed for Go-Liv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a:t>
            </a:r>
            <a:r>
              <a:rPr b="0" lang="en-US" sz="1600" spc="-1" strike="noStrike" u="sng">
                <a:solidFill>
                  <a:srgbClr val="009999"/>
                </a:solidFill>
                <a:uFillTx/>
                <a:latin typeface="Arial"/>
                <a:hlinkClick r:id="rId3"/>
              </a:rPr>
              <a:t>NOGRR022</a:t>
            </a:r>
            <a:r>
              <a:rPr b="0" lang="en-US" sz="1600" spc="-1" strike="noStrike">
                <a:solidFill>
                  <a:srgbClr val="000000"/>
                </a:solidFill>
                <a:latin typeface="Arial"/>
              </a:rPr>
              <a:t>, EECP Media Appeal Change</a:t>
            </a:r>
            <a:r>
              <a:rPr b="1" lang="en-US" sz="1600" spc="-1" strike="noStrike">
                <a:solidFill>
                  <a:srgbClr val="000000"/>
                </a:solidFill>
                <a:latin typeface="Arial"/>
              </a:rPr>
              <a: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376F94E-5C4A-4418-8D75-D3354A7F677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9" name="Text Box 6"/>
          <p:cNvSpPr/>
          <p:nvPr/>
        </p:nvSpPr>
        <p:spPr>
          <a:xfrm>
            <a:off x="380880" y="914400"/>
            <a:ext cx="8593200" cy="559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7,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CRR/NMMS CRR Map Requiremen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and approved the Requirements as submitt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TAC approved these requirements on September 4,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Nodal Market </a:t>
            </a:r>
            <a:r>
              <a:rPr b="0" lang="en-US" sz="1600" spc="-1" strike="noStrike" u="sng">
                <a:solidFill>
                  <a:srgbClr val="009999"/>
                </a:solidFill>
                <a:uFillTx/>
                <a:latin typeface="Arial"/>
                <a:hlinkClick r:id="rId1"/>
              </a:rPr>
              <a:t>Single-Entry Model (SEM) Go-Live Procedur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market comments, recommended additional revisions, and approved this procedure document as amended by TPTF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TAC approved this document on September 4,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larify Definition of a Generator Output Breaker in the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draft NPRR, recommended that it be submitted to PRS by the sponsor, and requested the opportunity to review it again once the NPRR is processed by Market Rul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options to address previous TPTF request to provide functionality for QSEs and Resources to enter their own Outages in the nodal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need to clearly indicate QSE/Resource accountability for any equipment Outages entered in proxy by TSPs on a contract basi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further discussion until additional impact analyses can be performed by ERCOT and the vendor for addressing Outage entry issues via expanded Owner/Operator roles, metric measurement, and possible Nodal Protocol changes </a:t>
            </a:r>
            <a:endParaRPr b="0"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49280C3-5D9D-4FD8-9C66-E16CEFA75F5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Summary - NPRR Activity at TPTF in August:   </a:t>
            </a:r>
            <a:endParaRPr b="0" lang="en-US" sz="1800" spc="-1" strike="noStrike">
              <a:solidFill>
                <a:srgbClr val="000000"/>
              </a:solidFill>
              <a:latin typeface="Arial"/>
            </a:endParaRPr>
          </a:p>
        </p:txBody>
      </p:sp>
      <p:graphicFrame>
        <p:nvGraphicFramePr>
          <p:cNvPr id="93" name=""/>
          <p:cNvGraphicFramePr/>
          <p:nvPr/>
        </p:nvGraphicFramePr>
        <p:xfrm>
          <a:off x="190440" y="762120"/>
          <a:ext cx="8763120" cy="5759280"/>
        </p:xfrm>
        <a:graphic>
          <a:graphicData uri="http://schemas.openxmlformats.org/drawingml/2006/table">
            <a:tbl>
              <a:tblPr/>
              <a:tblGrid>
                <a:gridCol w="876240"/>
                <a:gridCol w="3886200"/>
                <a:gridCol w="1981440"/>
                <a:gridCol w="2019240"/>
              </a:tblGrid>
              <a:tr h="296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ity Stat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PTF Discus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Definition of a Generator Output Breaker in 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Resource Fixed Quantity Block Offe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PUC Subst. R. 25.505(f), Publication of Resource and Load Information</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2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Node Updated Definition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and Update of Section 21</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abled at TPTF pending Board Action on PRR75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EAL, FCE Calculation Update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to CRR Obligation Margin Adde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Energy Storage for Reliability</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PRS action on PRR7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P Media Appeal Chang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9.9.1, Invoice Recipient Payment to ERCOT for the CRR Auction, Clean-up</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RUC Deployments Needed Before Requiring Verifiable Costs PR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s as Resource-Specific VC Documentation</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CP Telemetry Information Submittal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5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Short Pay Change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abled at TPTF pending WMS Ac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Financial Information as Confidential</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95" name=""/>
          <p:cNvGraphicFramePr/>
          <p:nvPr/>
        </p:nvGraphicFramePr>
        <p:xfrm>
          <a:off x="304920" y="3581280"/>
          <a:ext cx="8610480" cy="20527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02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97" name=""/>
          <p:cNvGraphicFramePr/>
          <p:nvPr/>
        </p:nvGraphicFramePr>
        <p:xfrm>
          <a:off x="304920" y="990720"/>
          <a:ext cx="8610480" cy="23256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cognized the following NPRRS as 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2, NPRR12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8,  NPRR14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1237C32-DB2B-4E43-A102-D2242868084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00" name=""/>
          <p:cNvGraphicFramePr/>
          <p:nvPr/>
        </p:nvGraphicFramePr>
        <p:xfrm>
          <a:off x="304920" y="990720"/>
          <a:ext cx="8610480" cy="29509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41, TSP and/or DSP Energy Storage for Reliability,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Energy, StarTex Power, Strategic Energy, Accent Energy, Cirro Group, Green Mountain Energy, Integrys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Exelon, 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2D3E733-0E97-4339-9979-C08B1865984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2"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04" name=""/>
          <p:cNvGraphicFramePr/>
          <p:nvPr/>
        </p:nvGraphicFramePr>
        <p:xfrm>
          <a:off x="304920" y="990720"/>
          <a:ext cx="8610480" cy="2479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44, Five RUC Deployments Needed Before Requiring Verifiable Costs,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Dallas, Town of Flower Mound, 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44987A6-D6BB-4480-86B9-25B2ABCE445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sp>
        <p:nvSpPr>
          <p:cNvPr id="108"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09"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endorsed forwarding Readiness Metrics MP2, MP3, MP5, MP8, MP9 to TAC for concurrence that they have been completed as presented by ERCOT staff and as attested to by the EDS Test Team: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F9BDD56-89A4-427B-860C-4C090570500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1" name=""/>
          <p:cNvGraphicFramePr/>
          <p:nvPr/>
        </p:nvGraphicFramePr>
        <p:xfrm>
          <a:off x="304920" y="3505320"/>
          <a:ext cx="8610480" cy="23256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reviewed NPRR146, ICCP Telemetry Information Submittals,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13"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endorsed ERCOT moving forward with the new Readiness Metric MP22 and the revised Readiness Metrics MP1, MP6, MP10, MP11, MP12, MP13, MP14-A, MP14-B, MP14-C, MP15-A, MP15-B, MP17, MP19, and MP20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EA7C4AB-D78D-41DF-ADFD-94EA7607AF98}"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17"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approved the updated EDS Service Level Agreement (SLA) for Nodal EDS Environments v5.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BECAB4-2DE9-41CF-9469-2D98294A11A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0" name=""/>
          <p:cNvGraphicFramePr/>
          <p:nvPr/>
        </p:nvGraphicFramePr>
        <p:xfrm>
          <a:off x="304920" y="342900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reviewed NPRR139, “ACL, EAL, FCE Calculation Updates,” and endorsed formal comments to be submitted to PRS. TPTF recognized NPRR139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AC534E0-EF07-4103-B7D4-3FA4AFC9FF7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8" name="Text Box 6"/>
          <p:cNvSpPr/>
          <p:nvPr/>
        </p:nvSpPr>
        <p:spPr>
          <a:xfrm>
            <a:off x="380880" y="77004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ice in August:</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August 11 – 12, 2008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August 25 – 27,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22"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endorsed the changes for EECP Media Appeal in NPRR142 and NOGRR022 as submitted and recognized the change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56275F5-7078-4194-BAFE-D59BD3B63E3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5" name=""/>
          <p:cNvGraphicFramePr/>
          <p:nvPr/>
        </p:nvGraphicFramePr>
        <p:xfrm>
          <a:off x="304920" y="342900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6, 2008, TPTF reviewed NPRR148, Treatment of Financial Information as Confidential,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Poi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27"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approved the MIS/CRR/NMMS CRR Map Requirements v0.93 as submitted to TPTF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6D45773-B869-4BA9-89B4-4FD9A1B4F87B}"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30" name=""/>
          <p:cNvGraphicFramePr/>
          <p:nvPr/>
        </p:nvGraphicFramePr>
        <p:xfrm>
          <a:off x="304920" y="3429000"/>
          <a:ext cx="8610480" cy="23288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endorsed the draft NPRR Clarify Definition of a Generator Output Breaker in the Outage Schedu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Tenaska Powe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32"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approved the Single Entry Model Go-Live Procedure v0.08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D486CFF-75DB-4EB9-859A-D12FAF25B8C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9FCFDA5-632E-4B9E-813D-C79F06ED3619}"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TPTF Meetings:</a:t>
            </a:r>
            <a:endParaRPr b="0" lang="en-US" sz="1800" spc="-1" strike="noStrike">
              <a:solidFill>
                <a:srgbClr val="000000"/>
              </a:solidFill>
              <a:latin typeface="Arial"/>
            </a:endParaRPr>
          </a:p>
        </p:txBody>
      </p:sp>
      <p:sp>
        <p:nvSpPr>
          <p:cNvPr id="137" name="Text Box 6"/>
          <p:cNvSpPr/>
          <p:nvPr/>
        </p:nvSpPr>
        <p:spPr>
          <a:xfrm>
            <a:off x="380880" y="792000"/>
            <a:ext cx="8610840" cy="1432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TPTF Meeting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September 8 – 9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22 – 2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3 – 1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27 – 29 </a:t>
            </a:r>
            <a:endParaRPr b="0" lang="en-US" sz="1600" spc="-1" strike="noStrike">
              <a:solidFill>
                <a:srgbClr val="000000"/>
              </a:solidFill>
              <a:latin typeface="Arial"/>
            </a:endParaRPr>
          </a:p>
        </p:txBody>
      </p:sp>
      <p:sp>
        <p:nvSpPr>
          <p:cNvPr id="13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8"/>
          <p:cNvSpPr/>
          <p:nvPr/>
        </p:nvSpPr>
        <p:spPr>
          <a:xfrm>
            <a:off x="683280" y="312408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2"/>
              </a:rPr>
              <a:t>2008 TPTF Calendar</a:t>
            </a:r>
            <a:endParaRPr b="0" lang="en-US" sz="1600" spc="-1" strike="noStrike">
              <a:solidFill>
                <a:srgbClr val="000000"/>
              </a:solidFill>
              <a:latin typeface="Arial"/>
            </a:endParaRPr>
          </a:p>
        </p:txBody>
      </p:sp>
      <p:sp>
        <p:nvSpPr>
          <p:cNvPr id="141"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B8B2078-0E55-4A34-8393-ED8E1671072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4" name="Text Box 6"/>
          <p:cNvSpPr/>
          <p:nvPr/>
        </p:nvSpPr>
        <p:spPr>
          <a:xfrm>
            <a:off x="380880" y="765000"/>
            <a:ext cx="8305920" cy="5591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September 8 – 9 TPTF meeting, likely topics include:</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Schedule Review</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NPRR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orrections of Entities Able to Bid for PTP Obligations in DAM</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XXX, Clarify Definition of a Generator Output Breaker in the Outage Scheduler</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6, Interim Solution for 15-Minute Settlement of Advanced Meters</a:t>
            </a:r>
            <a:endParaRPr b="0" lang="en-US" sz="1600" spc="-1" strike="noStrike">
              <a:solidFill>
                <a:srgbClr val="000000"/>
              </a:solidFill>
              <a:latin typeface="Arial"/>
            </a:endParaRPr>
          </a:p>
          <a:p>
            <a:pPr lvl="3" marL="16002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proposed Protocol language to synchronize with the companion PRR766 recently approved by the ERCOT Board of Directors </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0, Revision to CRR Obligation Margin Adder</a:t>
            </a:r>
            <a:endParaRPr b="0" lang="en-US" sz="1600" spc="-1" strike="noStrike">
              <a:solidFill>
                <a:srgbClr val="000000"/>
              </a:solidFill>
              <a:latin typeface="Arial"/>
            </a:endParaRPr>
          </a:p>
          <a:p>
            <a:pPr lvl="3" marL="16002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proposed Protocol language to incorporate LCRA comment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3, Section 9.9.1, Invoice Recipient Payment to ERCOT for the CRR  Auction, Clean-up</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9</a:t>
            </a:r>
            <a:r>
              <a:rPr b="0" lang="en-US" sz="1600" spc="-1" strike="noStrike">
                <a:solidFill>
                  <a:srgbClr val="000000"/>
                </a:solidFill>
                <a:latin typeface="Arial"/>
              </a:rPr>
              <a:t>, Change the Name of EECP to Energy Emergency Alert (EEA)</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0</a:t>
            </a:r>
            <a:r>
              <a:rPr b="0" lang="en-US" sz="1600" spc="-1" strike="noStrike">
                <a:solidFill>
                  <a:srgbClr val="000000"/>
                </a:solidFill>
                <a:latin typeface="Arial"/>
              </a:rPr>
              <a:t>, Responsive Reserve Service Offer Floor</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System Implementation Group (SIG) White Papers</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Mock Credit Exposure Reports spreadsheet</a:t>
            </a:r>
            <a:endParaRPr b="0" lang="en-US" sz="1600" spc="-1" strike="noStrike">
              <a:solidFill>
                <a:srgbClr val="000000"/>
              </a:solidFill>
              <a:latin typeface="Arial"/>
            </a:endParaRPr>
          </a:p>
        </p:txBody>
      </p:sp>
      <p:sp>
        <p:nvSpPr>
          <p:cNvPr id="145"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7A89793-ECDC-4D36-B5DF-45DE2CACF0C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49"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6264824-D7C3-4E2A-8554-730028B6324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1" name="Text Box 6"/>
          <p:cNvSpPr/>
          <p:nvPr/>
        </p:nvSpPr>
        <p:spPr>
          <a:xfrm>
            <a:off x="380880" y="914400"/>
            <a:ext cx="8534520" cy="437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1,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status of the nodal program, including the nodal delivery approach, the nodal reporting structure, the status of the CIM Importer and other software deliveries, key dates for the new integrated nodal program schedule, and the nodal budge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update on the status of nodal projects, including NMMS, EMS, MMS, CRR, COMS, EIP, and IN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 Revision Updat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ivers, benefits, risks, and progress for the new integrated nodal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Process Overview</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an overview of DAM Processes and the DAM Desktop Operating Procedure</a:t>
            </a:r>
            <a:endParaRPr b="0" lang="en-US" sz="1600" spc="-1" strike="noStrike">
              <a:solidFill>
                <a:srgbClr val="000000"/>
              </a:solidFill>
              <a:latin typeface="Arial"/>
            </a:endParaRPr>
          </a:p>
          <a:p>
            <a:pPr marL="228600" indent="-228600">
              <a:lnSpc>
                <a:spcPct val="85000"/>
              </a:lnSpc>
              <a:spcBef>
                <a:spcPts val="601"/>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D40985D-6BEE-4305-ACC0-9CA4A732406C}"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4" name="Text Box 6"/>
          <p:cNvSpPr/>
          <p:nvPr/>
        </p:nvSpPr>
        <p:spPr>
          <a:xfrm>
            <a:off x="380880" y="914400"/>
            <a:ext cx="8534520" cy="437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2,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 Implementation</a:t>
            </a:r>
            <a:r>
              <a:rPr b="0" i="1" lang="en-US" sz="1600" spc="-1" strike="noStrike">
                <a:solidFill>
                  <a:srgbClr val="000000"/>
                </a:solidFill>
                <a:latin typeface="Arial"/>
              </a:rPr>
              <a:t> </a:t>
            </a:r>
            <a:r>
              <a:rPr b="0" lang="en-US" sz="1600" spc="-1" strike="noStrike">
                <a:solidFill>
                  <a:srgbClr val="000000"/>
                </a:solidFill>
                <a:latin typeface="Arial"/>
              </a:rPr>
              <a:t>Plan</a:t>
            </a:r>
            <a:r>
              <a:rPr b="0" i="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the Verifiable Cost Implementation Plan v0.17</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this document until after the TPTF reviews the delivery dates proposed in the new integrated nodal program schedule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5</a:t>
            </a:r>
            <a:r>
              <a:rPr b="0" lang="en-US" sz="1600" spc="-1" strike="noStrike">
                <a:solidFill>
                  <a:srgbClr val="000000"/>
                </a:solidFill>
                <a:latin typeface="Arial"/>
              </a:rPr>
              <a:t>,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NPRR145</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issues related to PPA confidentiality and to the guidelines identified for submitting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PTF consensus was to not submit formal comments to the Protocol Revision Subcommittee (PR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4</a:t>
            </a:r>
            <a:r>
              <a:rPr b="0" lang="en-US" sz="1600" spc="-1" strike="noStrike">
                <a:solidFill>
                  <a:srgbClr val="000000"/>
                </a:solidFill>
                <a:latin typeface="Arial"/>
              </a:rPr>
              <a:t>, Five RUC Deployments Needed Before Requiring Verifiable Costs P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NPRR144, including recommendation to change the timeline for requiring submissions of verifiable costs so that it is applicable to a single calendar year rather than a rolling 12-month perio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4 as “Needed for Go-Live” and endorsed formal comments to be submitted to P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C6BDEAB-49AF-4349-BE38-18136A5CF85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7" name="Text Box 6"/>
          <p:cNvSpPr/>
          <p:nvPr/>
        </p:nvSpPr>
        <p:spPr>
          <a:xfrm>
            <a:off x="380880" y="914400"/>
            <a:ext cx="8534520" cy="5120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Readiness Metrics Inventor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pproving the revised Readiness Metrics until the August 25-27 TPTF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02</a:t>
            </a:r>
            <a:r>
              <a:rPr b="0" lang="en-US" sz="1600" spc="-1" strike="noStrike">
                <a:solidFill>
                  <a:srgbClr val="000000"/>
                </a:solidFill>
                <a:latin typeface="Arial"/>
              </a:rPr>
              <a:t>, Implementation of PUC Subst. R. 25.505(f), Publication of Resource and Load Inform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02 as “Needed for Go-Live” and endorsed formal comments to be submitted to PR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6</a:t>
            </a:r>
            <a:r>
              <a:rPr b="0" lang="en-US" sz="1600" spc="-1" strike="noStrike">
                <a:solidFill>
                  <a:srgbClr val="000000"/>
                </a:solidFill>
                <a:latin typeface="Arial"/>
              </a:rPr>
              <a:t>, ICCP Telemetry Information Submittal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ssigned NPRR146 to the Quick Response Working Group (QRWG) to address ERCOT Staff comments (dated Aug. 8) and potential impacts for NMMS; additional discussion scheduled for the August 25-27 TPTF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41</a:t>
            </a:r>
            <a:r>
              <a:rPr b="0" lang="en-US" sz="1600" spc="-1" strike="noStrike">
                <a:solidFill>
                  <a:srgbClr val="000000"/>
                </a:solidFill>
                <a:latin typeface="Arial"/>
              </a:rPr>
              <a:t>, TDSP Energy Storage for Reliabil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to be submitted to PRS to indicate that the metering exemption identified for “storage devices installed as part of a transmission reliability project” applied specifically to the battery units included in the reliability improvements for Presidio approved by the ERCOT Board of Directors in July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ssigning an essentiality status (Needed for “Go-Live”, Nodal Approved Post “Go-Live, or Deferred Projects) for NPRR141 until after it is reviewed by PRS</a:t>
            </a:r>
            <a:endParaRPr b="0" lang="en-US" sz="1600" spc="-1" strike="noStrike">
              <a:solidFill>
                <a:srgbClr val="000000"/>
              </a:solidFill>
              <a:latin typeface="Arial"/>
            </a:endParaRPr>
          </a:p>
        </p:txBody>
      </p:sp>
      <p:sp>
        <p:nvSpPr>
          <p:cNvPr id="68"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A26D374-C713-472D-99C1-C9CFA79BC42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1" name="Text Box 6"/>
          <p:cNvSpPr/>
          <p:nvPr/>
        </p:nvSpPr>
        <p:spPr>
          <a:xfrm>
            <a:off x="380880" y="914400"/>
            <a:ext cx="8534520" cy="542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cent progress and upcoming key review dates for the new Nodal Integrated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Control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Post-Baseline 2 NPRRs categorized by approval status, essentiality status, schedule impact, cost impact, and relationship to the integrated nodal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Quality Center Reports and the current approach to leveraging historical testing data for the new integrated nodal program schedul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status of ERCOT and Market Participant readiness on the Nodal Readiness Scorecar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Business Process for RUC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1</a:t>
            </a:r>
            <a:r>
              <a:rPr b="0" lang="en-US" sz="1600" spc="-1" strike="noStrike">
                <a:solidFill>
                  <a:srgbClr val="000000"/>
                </a:solidFill>
                <a:latin typeface="Arial"/>
              </a:rPr>
              <a:t>, TDSP Energy Storage for Reliabil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sumed discussion of NPRR141 and opted to defer assigning an essentiality status for NPRR141 until after the PUCT and PRS take action on battery ownership issues related to the companion </a:t>
            </a:r>
            <a:r>
              <a:rPr b="0" lang="en-US" sz="1600" spc="-1" strike="noStrike" u="sng">
                <a:solidFill>
                  <a:srgbClr val="009999"/>
                </a:solidFill>
                <a:uFillTx/>
                <a:latin typeface="Arial"/>
                <a:hlinkClick r:id="rId2"/>
              </a:rPr>
              <a:t>PRR76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10394AC-01C2-4320-AB6E-C510A31B558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4" name="Text Box 6"/>
          <p:cNvSpPr/>
          <p:nvPr/>
        </p:nvSpPr>
        <p:spPr>
          <a:xfrm>
            <a:off x="380880" y="914400"/>
            <a:ext cx="8534520" cy="5585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Metrics</a:t>
            </a:r>
            <a:endParaRPr b="0" lang="en-US" sz="16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August 25, 2008, TPTF endorsed ERCOT moving forward with the new Readiness Metric MP22, New Entrant Readiness and endorsed ERCOT moving forward with revisions to the following Readiness Metric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 MP Engagement</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6, QSER and TSP Compliance with the Nodal Protocols Section 3.10.7.5</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0, Mapping of Resources to Resource Nodes and Resources to EPS Meters </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1, MP Registration Activitie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2, MP Completes Nodal Market Related Training</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3, MP Completes Nodal Operations Related Training</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A, MP EDS 2, Release 3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B, MP EDS 2, Release 4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C, MP EDS 2, TSP Model  Validation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5-A, MP EDS 3, Releases 5 and 6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5-B, MP EDS 3, Release 7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7, MP Qualification Activitie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9, Load Serving Entitles Engagement and Readines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20, MP Ability to Submit Outage - Connectivity Test</a:t>
            </a:r>
            <a:endParaRPr b="0" lang="en-US" sz="14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ndorsement carried by roll-call vote with 100% in favor and one abstention (Calpine). The Consumer Market Segment was not represented for the vote. </a:t>
            </a:r>
            <a:endParaRPr b="0" lang="en-US" sz="14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a:t>
            </a:r>
            <a:r>
              <a:rPr b="0" lang="en-US" sz="1400" spc="-1" strike="noStrike">
                <a:solidFill>
                  <a:srgbClr val="000000"/>
                </a:solidFill>
                <a:latin typeface="Arial"/>
              </a:rPr>
              <a:t>TAC approved these metric revisions on September 4, 2008</a:t>
            </a:r>
            <a:endParaRPr b="0" lang="en-US" sz="1400" spc="-1" strike="noStrike">
              <a:solidFill>
                <a:srgbClr val="000000"/>
              </a:solidFill>
              <a:latin typeface="Arial"/>
            </a:endParaRPr>
          </a:p>
          <a:p>
            <a:pPr lvl="1" marL="685800" indent="-228600">
              <a:lnSpc>
                <a:spcPct val="85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C3A577C-4DD4-4B16-8999-1C575A58ABC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7" name="Text Box 6"/>
          <p:cNvSpPr/>
          <p:nvPr/>
        </p:nvSpPr>
        <p:spPr>
          <a:xfrm>
            <a:off x="380880" y="914400"/>
            <a:ext cx="8534520" cy="493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Metrics (continu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5, 2008, TPTF endorsed forwarding the following Readiness Metrics to TAC for concurrence that these metrics have been completed as presented by ERCOT staff and as attested to by the EDS Test Team: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 QSE with Resources Connectivity to EDS Environmen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3, QSE with Resources Upload of SCED Offers to EDS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5, ICCP Point to Point Telemetry Tes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8, QSE Ability to Submit Transactions Via MI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9, QSE Ability to Submit Web Service Transaction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two abstentions (Calpine, CitiGroup). The Consumer Market Segment was not represented for the vo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TAC recognized these metrics as “completed” on September 4,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the new Readiness Metric MP22, New Entrant Readiness, will carry over the measurements from these “completed” metrics and will apply them to new MPs coming online in the futur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1C0C632-7498-4463-B2FB-E0F2A6F25E5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0" name="Text Box 6"/>
          <p:cNvSpPr/>
          <p:nvPr/>
        </p:nvSpPr>
        <p:spPr>
          <a:xfrm>
            <a:off x="380880" y="914400"/>
            <a:ext cx="8534520" cy="5088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6</a:t>
            </a:r>
            <a:r>
              <a:rPr b="0" lang="en-US" sz="1600" spc="-1" strike="noStrike">
                <a:solidFill>
                  <a:srgbClr val="000000"/>
                </a:solidFill>
                <a:latin typeface="Arial"/>
              </a:rPr>
              <a:t>, ICCP Telemetry Information Submittals</a:t>
            </a:r>
            <a:r>
              <a:rPr b="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TPTF comments for NPRR146 to be submitted to PRS; TPTF did not assign an essentiality status for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EDS Service Level Agreement </a:t>
            </a:r>
            <a:r>
              <a:rPr b="0" lang="en-US" sz="1600" spc="-1" strike="noStrike">
                <a:solidFill>
                  <a:srgbClr val="000000"/>
                </a:solidFill>
                <a:latin typeface="Arial"/>
              </a:rPr>
              <a:t>(SLA) for Nodal EDS Environ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vailability targets, Outage windows, and systems monitoring in the EDS environmen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visions for the recently updated EDS SLA for Nodal EDS Environ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the updated EDS SLA for Nodal EDS Environment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mplementation Group (SIG) White Paper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updates to reflect market feedback for the following SIG White Paper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8 Non-Modeled Generation</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2 Private Use Network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2 Transmission Constraint Model for RT CCP Dispatch</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0 Rounding of MW Values</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11 Net Generation</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0009 Resource Node Loc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cp:lastModifiedBy>
  <dcterms:modified xsi:type="dcterms:W3CDTF">2008-09-05T16:56:54Z</dcterms:modified>
  <cp:revision>1278</cp:revision>
  <dc:subject/>
  <dc:title>TAC Update</dc:title>
</cp:coreProperties>
</file>