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914-DCE9-401E-A01D-7C2136E9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843-B40C-4922-B347-0A33A549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768-F255-46C3-9400-ACFD162D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AE9-C6EE-4519-86CF-9E59D52E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0BF7-5F3F-4D98-9881-03BD6623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95FC-CB31-408D-AE07-C7BE1E00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72FC-AC8C-47E6-8852-74B3A2E2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3F72-D16D-49BC-AF31-8CB9F0B7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C160-144D-4CD9-8D63-1DB1CAE4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8DA7-87A2-4B94-ADD4-F6C0E6E7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0157-6952-4E20-A782-9EFEC916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D83-E032-4E43-BA2F-EA29C7BE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7E73-2B8E-4378-8A32-CF25F8A6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E679-78F2-4DE2-B950-D45587A4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C9EA-4562-4BA0-AB1C-ADB2731D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A226-CB02-412B-9906-00F67776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20D4-C309-4236-AE15-EB5E1D72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EFFF-FEB4-42B7-91A9-851F4995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497-EC8D-41DA-9153-0201A798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B64-1FFD-4299-98AE-AC40CD4F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278-383A-44DC-9BC2-21343282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418-6CC8-493F-9B85-FB22A024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704-3F51-4329-A0D5-98DBE254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D68-C8B7-487C-8FFF-BA361988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BB80-C84F-4CB7-B090-DB23EE6C33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CAD8-C403-467B-BD67-73AD6B9BE0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rcot.com/content/mktrules/issues/lpgrr/025049/029/keydocs/029LPGRR05_PWG_Recommendation_Report_052808.doc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ub-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ptember 4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ighlights of August 12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COPS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CW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gust 1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amp; 1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rkshop in Da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ed and updated the COPMG Out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d the COPMG Work Plan Assig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ed and updated Section 8, “Settlement Statements and Invoic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ed the development of several other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gust 2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eting – ERCOT Aus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reed to endorse the following COPMG Revision Requests &amp; associated IAs for COPS Revie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MGRR 007 (Organizational Structure) as revised by CCW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MGRR 008 (Appendix 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 development of Nodal sections in the Commercial Operations Market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ed timeline for COPMGRRs (both standard and urg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WG / SADWG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ed the Extracts and Reports issues log for the recent issues related to multi-day lags in certain reports and extracts.  </a:t>
            </a:r>
            <a:r>
              <a:rPr b="0" i="1" lang="en-US" sz="2400" spc="-1" strike="noStrike">
                <a:solidFill>
                  <a:srgbClr val="86d1ec"/>
                </a:solidFill>
                <a:latin typeface="Times New Roman"/>
              </a:rPr>
              <a:t>ERCOT continues to work towards resolution (resolved on 8/22)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oot cause analysis to be discussed at next mee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ived more information and statistics on MOS Public API “Terms of Use”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lated to screen-scraping activ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i="1" lang="en-US" sz="2400" spc="-1" strike="noStrike">
                <a:solidFill>
                  <a:srgbClr val="86d1ec"/>
                </a:solidFill>
                <a:latin typeface="Times New Roman"/>
              </a:rPr>
              <a:t>The document will move forward to QSE Managers group and potentially to the next level after t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poned reports and updates on Nodal, awaiting the Nodal Calendar Update and a new timeline for EDS4 t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dy Bauld, presented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CR-CRR Transition Plan &amp; TCR Auction Revenue Refund Proc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pproved by WMS; scheduled for consideration by PRS in August (PRR74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posed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llowing review COPS, suggested clarifying language and voted to file comment in support of PRR743 with noted clarifica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DAL COMS Update 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spute API Certification Process Overview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oposal that will define the market plan fo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esting the Settlement &amp; Invoice Disputes API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86d1ec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86d1ec"/>
                </a:solidFill>
                <a:latin typeface="Times New Roman"/>
              </a:rPr>
              <a:t>08.COPS_Dispute_API_Certification_Process_Overview_v1.0.ppt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d1ec"/>
                </a:solidFill>
                <a:latin typeface="Times New Roman"/>
              </a:rPr>
              <a:t>[08.NodalComs_Update_COPS08122008.ppt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WG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the June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PS meeting, PWG Presented a Draft PR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65 “Time of Use Revisions” and the LPGRR029 “Modification of Time-Of-Use Schedule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www.ercot.com/content/mktrules/issues/lpgrr/025049/029/keydocs/029LPGRR05_PWG_Recommendation_Report_052808.do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ing Discussion, COPS approved the proposed PRR and filed COPS comment in support of PRR756 to  P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ing Discussion, COPS approved LPGRR029 and recommended approval to TAC when PRR765 is conside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PS Recommends to TAC Approval 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LPGRR02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dification of Time-Of-Use Schedule Approval Proces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44792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lstarr</cp:lastModifiedBy>
  <dcterms:modified xsi:type="dcterms:W3CDTF">2008-08-26T15:54:23Z</dcterms:modified>
  <cp:revision>26</cp:revision>
  <dc:subject/>
  <dc:title>Slide 1</dc:title>
</cp:coreProperties>
</file>