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BDEB0-8D80-409A-B75F-2841833C5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9E5DB-A0D8-4212-9AC0-245DF0FFE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F5146-8EC5-46C8-8521-33D572D2D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DC371-4BE9-4ABD-B7AB-8EBA5D1C7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EDF38-E379-4658-93D8-BDC7D1917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948E6-1A08-4D3F-B396-9C26A08CE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3C28C-0D24-4277-977C-A94593504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B0C3C-2F87-41B0-B88D-9695E3B35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8C827-050C-4FDA-96BD-3D65CD5D9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39EEE-1D0D-4C5D-B35A-95EAA79D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BF942-A9E6-4D4A-9AB0-74F99ADA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BFA9A-DF24-4B7E-A9B7-4D7E0C31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BFDC1-1CD8-468F-A079-647E5F4461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12EB9-3ED4-425A-9619-09920B998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9 CSC Background Inform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eptember 4, 2008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AC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Beth Garza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9 CSC proposal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52280" y="685800"/>
          <a:ext cx="8699760" cy="5770440"/>
        </p:xfrm>
        <a:graphic>
          <a:graphicData uri="http://schemas.openxmlformats.org/drawingml/2006/table">
            <a:tbl>
              <a:tblPr/>
              <a:tblGrid>
                <a:gridCol w="1011240"/>
                <a:gridCol w="1859040"/>
                <a:gridCol w="1790640"/>
                <a:gridCol w="1778040"/>
                <a:gridCol w="22608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S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enario 3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enario 3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enario 3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enario 3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_H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ngleton-Obrien/ Singleton-TH Wharton 345-kV double circu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ngleton-Obrien/ Singleton-TH Wharton 345-kV double circu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ngleton-Obrien/ Singleton-TH Wharton 345-kV double circu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ngleton-Obrien/ Singleton-TH Wharton 345-kV double circu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6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_S &amp; S_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ke Creek-Temple/ Tradinghouse-Temple Pecan Creek 345-kV double circu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ke Creek-Temple/ Tradinghouse-Temple Pecan Creek 345-kV double circu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ke Creek-Temple/ Tradinghouse-Temple Pecan Creek 345-kV double circu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ke Creek-Temple/ Tradinghouse-Temple Pecan Creek 345-kV double circu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7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_N &amp; N_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ham-Benbrook/ Graham-Parker 345-kV double circu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ham-Long Creek/ Graham-Cook Field Road 345-kV double circu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weetwater-Long Creek/ Abilene Mulberry Creek-Long Creek 345-kV double circu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weetwater-Long Creek/ Abilene Mulberry Creek-Long Creek 345-kV double circui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ustered using post-contingency (Oklaunion-Fisher Road/Fisher Road-Bowman 345-kV) shift facto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 / BGarz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3BF13-ABB1-4B27-85CC-7615484C925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eptember 4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ummary of 2009 Base Case Info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663560" y="1193760"/>
          <a:ext cx="5472360" cy="4560840"/>
        </p:xfrm>
        <a:graphic>
          <a:graphicData uri="http://schemas.openxmlformats.org/drawingml/2006/table">
            <a:tbl>
              <a:tblPr/>
              <a:tblGrid>
                <a:gridCol w="2590920"/>
                <a:gridCol w="1225440"/>
                <a:gridCol w="1656000"/>
              </a:tblGrid>
              <a:tr h="1191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stall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ner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uston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,9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,2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th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,2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5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uth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7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2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st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9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1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New-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8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 / BGarz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06815-9C47-401F-9DEF-FAC4927D309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eptember 4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SC Analysis – load moving zon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888840" y="1066680"/>
          <a:ext cx="7289640" cy="4749840"/>
        </p:xfrm>
        <a:graphic>
          <a:graphicData uri="http://schemas.openxmlformats.org/drawingml/2006/table">
            <a:tbl>
              <a:tblPr/>
              <a:tblGrid>
                <a:gridCol w="1968480"/>
                <a:gridCol w="1447560"/>
                <a:gridCol w="1371600"/>
                <a:gridCol w="1181160"/>
                <a:gridCol w="1320840"/>
              </a:tblGrid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enario 3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enario 3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enario 3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enario 3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th to So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7.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6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0.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0.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uth to Houst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.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.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.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.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st to Nor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2.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0.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1.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st to So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th to W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61.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75.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8.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69.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 / BGarz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5FDF3-7AD8-4F85-9937-C1E072AE18B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eptember 4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SC Analysis – generation moving zon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003320" y="1066680"/>
          <a:ext cx="6946920" cy="4749840"/>
        </p:xfrm>
        <a:graphic>
          <a:graphicData uri="http://schemas.openxmlformats.org/drawingml/2006/table">
            <a:tbl>
              <a:tblPr/>
              <a:tblGrid>
                <a:gridCol w="2209680"/>
                <a:gridCol w="1282680"/>
                <a:gridCol w="1130400"/>
                <a:gridCol w="1130400"/>
                <a:gridCol w="1193760"/>
              </a:tblGrid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enario 3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enario 3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enario 3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enario 3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th to So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uth to Houst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st to Nor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17.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st to So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th to W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17.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 / BGarz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94CCD-8F0C-4FC6-849A-7D22681D646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eptember 4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Selected 345kV lines 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80880" y="685800"/>
          <a:ext cx="8458200" cy="588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685800"/>
                    <a:ext cx="8458200" cy="588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 / BGarz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75B52-7AA2-483B-9683-96A4A4D2FDB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eptember 4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garza</cp:lastModifiedBy>
  <dcterms:modified xsi:type="dcterms:W3CDTF">2008-09-03T22:03:23Z</dcterms:modified>
  <cp:revision>391</cp:revision>
  <dc:subject>Texas Nodal Market Implementation</dc:subject>
  <dc:title>Market Readiness Seminar</dc:title>
</cp:coreProperties>
</file>