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A5790-2E02-466B-98A3-80C22AFD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5B8B-C9AD-4369-B0F5-499CF47A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9FCA2-D337-434F-95D0-A905A79A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5ACA-D970-4F9F-A1BB-C356F7B7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39A6-C69A-4B7D-81AB-1477A2E2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2431-53E6-4034-9376-12A47F1D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90CF-FF50-44D7-948A-18819FD1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E1EE-E5CA-4DA5-9B4A-7E9D75ED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D1F7-FEE0-4A2B-9B11-7E5AC25D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1177-8330-45BD-952C-763E319E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9FFC-834F-45A3-A111-2F51F045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DFEDF-BC23-4C3D-9D02-858736D9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3414-8C4A-428B-82EB-1EE83BF8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324B-2155-4D0F-A40D-BFA683D9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FA82-3B3B-4C93-AA26-7526174C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1BA2-41B4-412E-A409-B8B3324D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7417-6E75-4261-8667-62E06470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24ADA-A27B-4CE7-B148-5F9A916F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99926-D3F5-4404-8FCC-9C800A9B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8013-C926-4939-BB0D-89BCCBF9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FF51-697F-4341-8144-6411C676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911E3-C90A-4D28-B095-ABB15EFB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97443-5512-46C6-8EE6-83B9A1C3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FA6C8-1A2D-4248-A67D-ED5DA12A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7631-74B3-48CF-9F2D-2A9C1DD46D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FEAB-4CF3-4D37-BADC-CCC3BA81BC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81280"/>
            <a:ext cx="77724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Protocol Revision Subcommitte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ptember 4,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R/NPRR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vision Requests Recommended for Approv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RR 743 – TCR Transition to CR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RR 765 – Time of Use Revi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RR 772 – Description of MCPE Cap &amp; Shadow Price Cap Methodology --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URG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NPRR 126 – Section 19, Synchronization of Zonal Protoco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R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S rejected PRR 767, Issuance of Alerts for Certain Uses of Balancing Ener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2009 Project Allocations in Light of Nodal Timeli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S requested ERCOT to provide feedback on the status of the 2009 Project Priority List (PPL) given the Nodal Program’s stat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RS will continue to work with ERCOT Project Management Office (PMO) on this topic and coordinate with other TAC Subcommitte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RCOT expects to have funding for projects in 200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oject activities will continue to limit conflicts with nodal progr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f 2009 project budget is the same as 2008 ($27.5 MM), ERCOT expects spending to fall short of the budget due to nodal constrai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When a new Nodal “Go-Live” date is finalized, ERCOT believes a formal review of the 2009 PPL with stakeholders is in ord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arket Operations (MO) &amp; System Operations (SO) lists will be impacted significantl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Nodal deferred items will be shifted forward in tim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Other operations considerations might reflect the need for new Zonal projec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ctivities in other CARTs need review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verall, review will result in a revised PPL that reflects the nodal schedul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S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1120" y="1985760"/>
            <a:ext cx="792936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 PRRs for Approv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 NPRRs for Approv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 Rejection Not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09 Project Allocations in Light of Nodal Time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43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TCR Transition to CRR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1752480"/>
          <a:ext cx="8076960" cy="4098960"/>
        </p:xfrm>
        <a:graphic>
          <a:graphicData uri="http://schemas.openxmlformats.org/drawingml/2006/table">
            <a:tbl>
              <a:tblPr/>
              <a:tblGrid>
                <a:gridCol w="3047760"/>
                <a:gridCol w="639720"/>
                <a:gridCol w="43894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tails the methodology for refunding annual and monthly TCR auction revenues for the remaining days of the year post-Nodal “Go-Live”; Addresses ERCOT Board remand instructions to address how refunds handled if Nodal Market is not implemented 12/1/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nsparency of TCR to CRR transition activit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as revised by COPS with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ctober 1, 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43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TCR Transition to CRR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65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Time of Use Revisio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1371600"/>
          <a:ext cx="8076960" cy="3386160"/>
        </p:xfrm>
        <a:graphic>
          <a:graphicData uri="http://schemas.openxmlformats.org/drawingml/2006/table">
            <a:tbl>
              <a:tblPr/>
              <a:tblGrid>
                <a:gridCol w="3047760"/>
                <a:gridCol w="639720"/>
                <a:gridCol w="43894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irect Energy for Profiling W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vision to comply with item PUC Subst. R. 25.130 (l), Advanced Mete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forms with PUC Ru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vember 1, 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65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Time of Use Revisio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72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Description of MCPE Cap &amp; Shadow Price Cap Methodology -- </a:t>
            </a:r>
            <a:r>
              <a:rPr b="1" i="1" lang="en-US" sz="3600" spc="-1" strike="noStrike">
                <a:solidFill>
                  <a:srgbClr val="ff3300"/>
                </a:solidFill>
                <a:latin typeface="Garamond"/>
              </a:rPr>
              <a:t>URGEN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33520" y="1371600"/>
          <a:ext cx="8076960" cy="4297320"/>
        </p:xfrm>
        <a:graphic>
          <a:graphicData uri="http://schemas.openxmlformats.org/drawingml/2006/table">
            <a:tbl>
              <a:tblPr/>
              <a:tblGrid>
                <a:gridCol w="3047760"/>
                <a:gridCol w="639720"/>
                <a:gridCol w="4389480"/>
              </a:tblGrid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rifies ERCOT’s authority to ensure that MCPE does not exceed the PUCT’s system-wide offer cap; provides documentation of methodology and notice to Market Participants of Shadow Price Cap changes; changes Section 6.11.1 &amp; 6.11.2 titles as clarific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rifies Protocols by establishing a clear basis for ERCOT to make price adjustm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nor Changes to SP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unanimously as amended by Austin Energy &amp; PR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ctober 1, 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72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Description of MCPE Cap &amp; Shadow Price Cap Methodology -- </a:t>
            </a:r>
            <a:r>
              <a:rPr b="1" i="1" lang="en-US" sz="3600" spc="-1" strike="noStrike">
                <a:solidFill>
                  <a:srgbClr val="ff3300"/>
                </a:solidFill>
                <a:latin typeface="Garamond"/>
              </a:rPr>
              <a:t>URGEN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2590920"/>
            <a:ext cx="38088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91120" y="3657600"/>
            <a:ext cx="38088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08640" y="2467080"/>
            <a:ext cx="378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Minor impact, managed in curr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O&amp;M 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31840" y="3657600"/>
            <a:ext cx="239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Minor impacts to SP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126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Section 19, Synchronization of Zonal Protocol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6002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nchronizes Texas SET Section of Nodal Protoco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letion of Nodal Protoco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unanimously recommended approval as amended by RMS comment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ncremental impact to nodal budget or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Reliant</cp:lastModifiedBy>
  <dcterms:modified xsi:type="dcterms:W3CDTF">2008-09-03T20:06:22Z</dcterms:modified>
  <cp:revision>243</cp:revision>
  <dc:subject/>
  <dc:title>Protocol Revision Subcommittee</dc:title>
</cp:coreProperties>
</file>