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3B69-394B-4F0E-9A03-ACA7E79FEE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05A7-5E08-4494-BE7B-3D980223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8F28-A6EA-4E08-9526-B73BF9FB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46C5-8400-4133-9F5E-07826885A0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BE16-E606-4719-B56B-1FE9023D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C0F7-8377-4FAC-AE90-9613CF29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024E-E572-444F-80C3-AFD1E16F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0AC9-99A1-470F-8E62-A4BA2D4B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84B0-B2FF-4345-A083-D56620AB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83C6-FEAB-4197-89EB-1BFCE712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A4B2-5C9F-4F1C-92E4-6647DB3F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83EB-8B45-4C03-9550-EB2CABFB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80AB-640B-4772-86C5-A5C217F6C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4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325E-48E6-4A1F-BEE5-70A1AC3FF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day@erco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981080"/>
            <a:ext cx="769608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MERCIAL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tt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irector, Commercial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day@ercot.com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12-248-3877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ff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12-426-9266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ce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12-248-6434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fax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rganizational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31840" y="2170080"/>
            <a:ext cx="8596080" cy="1517760"/>
            <a:chOff x="231840" y="2170080"/>
            <a:chExt cx="8596080" cy="1517760"/>
          </a:xfrm>
        </p:grpSpPr>
        <p:sp>
          <p:nvSpPr>
            <p:cNvPr id="91" name=""/>
            <p:cNvSpPr/>
            <p:nvPr/>
          </p:nvSpPr>
          <p:spPr>
            <a:xfrm>
              <a:off x="3898800" y="2170080"/>
              <a:ext cx="1260720" cy="636480"/>
            </a:xfrm>
            <a:prstGeom prst="rect">
              <a:avLst/>
            </a:prstGeom>
            <a:solidFill>
              <a:srgbClr val="edf1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98800" y="2170080"/>
              <a:ext cx="1260720" cy="636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24360" y="2195640"/>
              <a:ext cx="1211040" cy="5857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81120" y="2276640"/>
              <a:ext cx="49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tty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13520" y="2413080"/>
              <a:ext cx="40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rec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12760" y="2413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32280" y="2549520"/>
              <a:ext cx="120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ercial Operat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92200" y="3184560"/>
              <a:ext cx="1020960" cy="503280"/>
            </a:xfrm>
            <a:prstGeom prst="rect">
              <a:avLst/>
            </a:prstGeom>
            <a:solidFill>
              <a:srgbClr val="e0e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92200" y="3184560"/>
              <a:ext cx="1020960" cy="503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07480" y="3232080"/>
              <a:ext cx="59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on Tuck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29080" y="3368520"/>
              <a:ext cx="54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ttle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81640" y="3494160"/>
              <a:ext cx="44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eter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51120" y="3174840"/>
              <a:ext cx="1022400" cy="503280"/>
            </a:xfrm>
            <a:prstGeom prst="rect">
              <a:avLst/>
            </a:prstGeom>
            <a:solidFill>
              <a:srgbClr val="e0e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51120" y="3174840"/>
              <a:ext cx="1022400" cy="503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93680" y="3220920"/>
              <a:ext cx="75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vin Ophei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09440" y="3357720"/>
              <a:ext cx="858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ergy Analysi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1400" y="33577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amp;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56680" y="3484440"/>
              <a:ext cx="62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ggreg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25880" y="3174840"/>
              <a:ext cx="1022400" cy="503280"/>
            </a:xfrm>
            <a:prstGeom prst="rect">
              <a:avLst/>
            </a:prstGeom>
            <a:solidFill>
              <a:srgbClr val="e0e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25880" y="3174840"/>
              <a:ext cx="1022400" cy="503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65200" y="3220920"/>
              <a:ext cx="75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manda Baul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85720" y="335772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ttlement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08160" y="33577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amp;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85880" y="3484440"/>
              <a:ext cx="30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ill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1840" y="3174840"/>
              <a:ext cx="1020600" cy="503280"/>
            </a:xfrm>
            <a:prstGeom prst="rect">
              <a:avLst/>
            </a:prstGeom>
            <a:solidFill>
              <a:srgbClr val="e0e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1840" y="3174840"/>
              <a:ext cx="1020600" cy="503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5080" y="3220920"/>
              <a:ext cx="65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aren Farle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2360" y="3357720"/>
              <a:ext cx="855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tail Customer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760" y="3484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oi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01960" y="2806560"/>
              <a:ext cx="2527200" cy="378000"/>
            </a:xfrm>
            <a:custGeom>
              <a:avLst/>
              <a:gdLst/>
              <a:ahLst/>
              <a:rect l="l" t="t" r="r" b="b"/>
              <a:pathLst>
                <a:path w="1592" h="238">
                  <a:moveTo>
                    <a:pt x="1592" y="0"/>
                  </a:moveTo>
                  <a:lnTo>
                    <a:pt x="1592" y="158"/>
                  </a:lnTo>
                  <a:lnTo>
                    <a:pt x="0" y="158"/>
                  </a:lnTo>
                  <a:lnTo>
                    <a:pt x="0" y="238"/>
                  </a:lnTo>
                </a:path>
              </a:pathLst>
            </a:custGeom>
            <a:noFill/>
            <a:ln cap="rnd" w="9360">
              <a:solidFill>
                <a:srgbClr val="46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62320" y="2806560"/>
              <a:ext cx="1266840" cy="368280"/>
            </a:xfrm>
            <a:custGeom>
              <a:avLst/>
              <a:gdLst/>
              <a:ahLst/>
              <a:rect l="l" t="t" r="r" b="b"/>
              <a:pathLst>
                <a:path w="798" h="232">
                  <a:moveTo>
                    <a:pt x="798" y="0"/>
                  </a:moveTo>
                  <a:lnTo>
                    <a:pt x="798" y="158"/>
                  </a:lnTo>
                  <a:lnTo>
                    <a:pt x="0" y="158"/>
                  </a:lnTo>
                  <a:lnTo>
                    <a:pt x="0" y="232"/>
                  </a:lnTo>
                </a:path>
              </a:pathLst>
            </a:custGeom>
            <a:noFill/>
            <a:ln cap="rnd" w="9360">
              <a:solidFill>
                <a:srgbClr val="46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29160" y="2806560"/>
              <a:ext cx="7920" cy="368280"/>
            </a:xfrm>
            <a:custGeom>
              <a:avLst/>
              <a:gdLst/>
              <a:ahLst/>
              <a:rect l="l" t="t" r="r" b="b"/>
              <a:pathLst>
                <a:path w="5" h="232">
                  <a:moveTo>
                    <a:pt x="0" y="0"/>
                  </a:moveTo>
                  <a:lnTo>
                    <a:pt x="0" y="158"/>
                  </a:lnTo>
                  <a:lnTo>
                    <a:pt x="5" y="158"/>
                  </a:lnTo>
                  <a:lnTo>
                    <a:pt x="5" y="232"/>
                  </a:lnTo>
                </a:path>
              </a:pathLst>
            </a:custGeom>
            <a:noFill/>
            <a:ln cap="rnd" w="9360">
              <a:solidFill>
                <a:srgbClr val="46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1240" y="2806560"/>
              <a:ext cx="3787920" cy="368280"/>
            </a:xfrm>
            <a:custGeom>
              <a:avLst/>
              <a:gdLst/>
              <a:ahLst/>
              <a:rect l="l" t="t" r="r" b="b"/>
              <a:pathLst>
                <a:path w="2386" h="232">
                  <a:moveTo>
                    <a:pt x="2386" y="0"/>
                  </a:moveTo>
                  <a:lnTo>
                    <a:pt x="2386" y="158"/>
                  </a:lnTo>
                  <a:lnTo>
                    <a:pt x="0" y="158"/>
                  </a:lnTo>
                  <a:lnTo>
                    <a:pt x="0" y="232"/>
                  </a:lnTo>
                </a:path>
              </a:pathLst>
            </a:custGeom>
            <a:noFill/>
            <a:ln cap="rnd" w="9360">
              <a:solidFill>
                <a:srgbClr val="46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86240" y="3184560"/>
              <a:ext cx="1020960" cy="503280"/>
            </a:xfrm>
            <a:prstGeom prst="rect">
              <a:avLst/>
            </a:prstGeom>
            <a:solidFill>
              <a:srgbClr val="e0e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86240" y="3184560"/>
              <a:ext cx="1020960" cy="503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60040" y="3232080"/>
              <a:ext cx="878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ackie Ashbaug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88400" y="336852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 Data Integrit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25840" y="33685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amp;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6520" y="3494160"/>
              <a:ext cx="32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29160" y="2806560"/>
              <a:ext cx="1268280" cy="378000"/>
            </a:xfrm>
            <a:custGeom>
              <a:avLst/>
              <a:gdLst/>
              <a:ahLst/>
              <a:rect l="l" t="t" r="r" b="b"/>
              <a:pathLst>
                <a:path w="799" h="238">
                  <a:moveTo>
                    <a:pt x="0" y="0"/>
                  </a:moveTo>
                  <a:lnTo>
                    <a:pt x="0" y="158"/>
                  </a:lnTo>
                  <a:lnTo>
                    <a:pt x="799" y="158"/>
                  </a:lnTo>
                  <a:lnTo>
                    <a:pt x="799" y="238"/>
                  </a:lnTo>
                </a:path>
              </a:pathLst>
            </a:custGeom>
            <a:noFill/>
            <a:ln cap="rnd" w="9360">
              <a:solidFill>
                <a:srgbClr val="46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46960" y="3184560"/>
              <a:ext cx="1008000" cy="503280"/>
            </a:xfrm>
            <a:prstGeom prst="rect">
              <a:avLst/>
            </a:prstGeom>
            <a:solidFill>
              <a:srgbClr val="e0e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46960" y="3184560"/>
              <a:ext cx="1008000" cy="503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70520" y="3232080"/>
              <a:ext cx="58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th Garz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49120" y="3368520"/>
              <a:ext cx="966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gestion  Analy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19680" y="3494160"/>
              <a:ext cx="92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amp; Revenue Righ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1240" y="2806560"/>
              <a:ext cx="3787920" cy="368280"/>
            </a:xfrm>
            <a:custGeom>
              <a:avLst/>
              <a:gdLst/>
              <a:ahLst/>
              <a:rect l="l" t="t" r="r" b="b"/>
              <a:pathLst>
                <a:path w="2386" h="232">
                  <a:moveTo>
                    <a:pt x="2386" y="0"/>
                  </a:moveTo>
                  <a:lnTo>
                    <a:pt x="2386" y="158"/>
                  </a:lnTo>
                  <a:lnTo>
                    <a:pt x="0" y="158"/>
                  </a:lnTo>
                  <a:lnTo>
                    <a:pt x="0" y="232"/>
                  </a:lnTo>
                </a:path>
              </a:pathLst>
            </a:custGeom>
            <a:noFill/>
            <a:ln cap="rnd" w="9360">
              <a:solidFill>
                <a:srgbClr val="46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05880" y="3174840"/>
              <a:ext cx="1022040" cy="503280"/>
            </a:xfrm>
            <a:prstGeom prst="rect">
              <a:avLst/>
            </a:prstGeom>
            <a:solidFill>
              <a:srgbClr val="e0e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05880" y="3174840"/>
              <a:ext cx="1022040" cy="503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49800" y="3220920"/>
              <a:ext cx="947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nneth Ragsda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93360" y="3357720"/>
              <a:ext cx="901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rket Redesig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93520" y="3484440"/>
              <a:ext cx="45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29160" y="2806560"/>
              <a:ext cx="3789360" cy="368280"/>
            </a:xfrm>
            <a:custGeom>
              <a:avLst/>
              <a:gdLst/>
              <a:ahLst/>
              <a:rect l="l" t="t" r="r" b="b"/>
              <a:pathLst>
                <a:path w="2387" h="232">
                  <a:moveTo>
                    <a:pt x="0" y="0"/>
                  </a:moveTo>
                  <a:lnTo>
                    <a:pt x="0" y="158"/>
                  </a:lnTo>
                  <a:lnTo>
                    <a:pt x="2387" y="158"/>
                  </a:lnTo>
                  <a:lnTo>
                    <a:pt x="2387" y="232"/>
                  </a:lnTo>
                </a:path>
              </a:pathLst>
            </a:custGeom>
            <a:noFill/>
            <a:ln cap="rnd" w="9360">
              <a:solidFill>
                <a:srgbClr val="46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29160" y="2806560"/>
              <a:ext cx="2521080" cy="378000"/>
            </a:xfrm>
            <a:custGeom>
              <a:avLst/>
              <a:gdLst/>
              <a:ahLst/>
              <a:rect l="l" t="t" r="r" b="b"/>
              <a:pathLst>
                <a:path w="1588" h="238">
                  <a:moveTo>
                    <a:pt x="0" y="0"/>
                  </a:moveTo>
                  <a:lnTo>
                    <a:pt x="0" y="158"/>
                  </a:lnTo>
                  <a:lnTo>
                    <a:pt x="1588" y="158"/>
                  </a:lnTo>
                  <a:lnTo>
                    <a:pt x="1588" y="238"/>
                  </a:lnTo>
                </a:path>
              </a:pathLst>
            </a:custGeom>
            <a:noFill/>
            <a:ln cap="rnd" w="9360">
              <a:solidFill>
                <a:srgbClr val="46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40"/>
          <p:cNvSpPr/>
          <p:nvPr/>
        </p:nvSpPr>
        <p:spPr>
          <a:xfrm>
            <a:off x="4724280" y="685800"/>
            <a:ext cx="1524240" cy="71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amp; Admini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Jackie Ashba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mercial Operations – Departments &amp; Core Func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Rectangle 142"/>
          <p:cNvSpPr/>
          <p:nvPr/>
        </p:nvSpPr>
        <p:spPr>
          <a:xfrm>
            <a:off x="6248520" y="685800"/>
            <a:ext cx="1447560" cy="71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ail Custo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Karen Farl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8"/>
          <p:cNvSpPr/>
          <p:nvPr/>
        </p:nvSpPr>
        <p:spPr>
          <a:xfrm>
            <a:off x="3124080" y="685800"/>
            <a:ext cx="1600200" cy="71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ttlements &amp; Bi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andy Bau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6"/>
          <p:cNvSpPr/>
          <p:nvPr/>
        </p:nvSpPr>
        <p:spPr>
          <a:xfrm>
            <a:off x="1523880" y="685800"/>
            <a:ext cx="1600200" cy="71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ergy Analysis &amp; Aggreg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alvin Ophe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4"/>
          <p:cNvSpPr/>
          <p:nvPr/>
        </p:nvSpPr>
        <p:spPr>
          <a:xfrm>
            <a:off x="0" y="685800"/>
            <a:ext cx="1523880" cy="71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ttlement Met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Don Tuck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4"/>
          <p:cNvSpPr/>
          <p:nvPr/>
        </p:nvSpPr>
        <p:spPr>
          <a:xfrm>
            <a:off x="6248520" y="1371600"/>
            <a:ext cx="1447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sure Transaction Integrity – Daily Assu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wner of Data Extract Variance Resolution - Ret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ket Synchron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s / TDSPs / ERC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ject monito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 analysis and resol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fety Net monitor /reconc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s Synchron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ESB &amp; Paper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perfree &amp; T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H &amp; Sie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keTr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tail systems health checks and problem iden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tail systems work flow exception clearing &amp; reprocessing valid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tail SIR and upgrade testing, migration support and production ver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ide Level 3 Support for Market Participants, PUCT and ERCOT st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al transition activ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mt &amp; Admin, including SAS 70 and other aud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3"/>
          <p:cNvSpPr/>
          <p:nvPr/>
        </p:nvSpPr>
        <p:spPr>
          <a:xfrm>
            <a:off x="4724280" y="1397160"/>
            <a:ext cx="160020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sure COMS ESIID &amp; Market Participant Data Integrity – Daily Assu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sure COMS Extracts and reports data integr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wner of Data Extract Variance Resolution – Wholes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umption Data Lo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s Synchron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ebel &amp; Lodest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destar &amp; E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ebel &amp; E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IF &amp; E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ort Business Intelligence layer of E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destar system health checks and problem iden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destar system work flow exception clearing &amp; reprocessing valid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ebel, Lodestar, &amp; EIS SIR and upgrade testing, migration support and production ver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gaged in dispute resolution, as necess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ide Level 3 Support for Market Participants, PUCT and ERCOT st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al transition activ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mt &amp; Admin, including SAS 70 and other aud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2"/>
          <p:cNvSpPr/>
          <p:nvPr/>
        </p:nvSpPr>
        <p:spPr>
          <a:xfrm>
            <a:off x="3200400" y="1397160"/>
            <a:ext cx="152388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 indent="-57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sure the accuracy of Settlement calculations and Invoicing calcul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nsure timely delivery of  Daily Settlement Statements and Weekly Invo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nduct Annual &amp; Monthly TCR Au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rocess selected input data from - Data Agg, TCRs, Planning, Sys Op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sure manual data imports and workarounds are executed correct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nsure timely and accurate processing of Verifiable Cost submittals from QSE’s and Dispu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chedule runs for Lodestar system workf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repare standard monthly and ad-hoc repo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destar SIR and upgrade testing, migration support and production ver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gaged in dispute resolution, as necess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ide Level 3 Support for Market Participants, PUCT and ERCOT st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al transition activ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mt &amp; Admin, including SAS 70 and other aud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1"/>
          <p:cNvSpPr/>
          <p:nvPr/>
        </p:nvSpPr>
        <p:spPr>
          <a:xfrm>
            <a:off x="1523880" y="1397160"/>
            <a:ext cx="160020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Aggreg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ing: Load Generation, NOIEs, DC Ties, Lo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orting &amp; Posting: Losses, UFE, IDR 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put Ver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ad Profiling Mode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ather Zo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ily Creation &amp; Verification of Load Pro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idate Profile Assignments to ESI I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alyze/Evaluate New Load Profile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ad Research Sampling/Data 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itor/Report Switched 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destar SIR and upgrade testing, migration support and production ver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gaged in dispute resolution, as necess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ide Level 3 Support for Market Participants, PUCT and ERCOT st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al transition activ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mt &amp; Admin, including SAS 70 and other aud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0"/>
          <p:cNvSpPr/>
          <p:nvPr/>
        </p:nvSpPr>
        <p:spPr>
          <a:xfrm>
            <a:off x="0" y="1397160"/>
            <a:ext cx="152388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ata Acqui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PS Meter Po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VEE for EPS Met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PS Data Lo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onitor TDSP Access   to EPS Fac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PS Meter Enginee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esign Approv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emption Approv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ite Approvals, Monitor, Review &amp; Audit Inspector Trai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aintain Guides, Forms &amp; Procedu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aintain settlement metering web p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view/Approve DLF method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etitive Mete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us Report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tain Gu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alifying Meter 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tain Competitive Metering Web P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gaged in dispute resolution, as necess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ide Level 3 Support for Market Participants, PUCT and ERCOT st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al transition activ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mt &amp; Admin, including SAS 70 and other aud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7"/>
          <p:cNvSpPr/>
          <p:nvPr/>
        </p:nvSpPr>
        <p:spPr>
          <a:xfrm>
            <a:off x="0" y="685800"/>
            <a:ext cx="0" cy="55627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8"/>
          <p:cNvSpPr/>
          <p:nvPr/>
        </p:nvSpPr>
        <p:spPr>
          <a:xfrm>
            <a:off x="1523880" y="68580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9"/>
          <p:cNvSpPr/>
          <p:nvPr/>
        </p:nvSpPr>
        <p:spPr>
          <a:xfrm>
            <a:off x="3124080" y="68580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0"/>
          <p:cNvSpPr/>
          <p:nvPr/>
        </p:nvSpPr>
        <p:spPr>
          <a:xfrm>
            <a:off x="4724280" y="68580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31"/>
          <p:cNvSpPr/>
          <p:nvPr/>
        </p:nvSpPr>
        <p:spPr>
          <a:xfrm>
            <a:off x="6248520" y="68580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2"/>
          <p:cNvSpPr/>
          <p:nvPr/>
        </p:nvSpPr>
        <p:spPr>
          <a:xfrm>
            <a:off x="7696080" y="685800"/>
            <a:ext cx="144792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gestion Analysis &amp; Revenue Righ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Beth Garz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35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2"/>
          <p:cNvSpPr/>
          <p:nvPr/>
        </p:nvSpPr>
        <p:spPr>
          <a:xfrm>
            <a:off x="9144000" y="685800"/>
            <a:ext cx="0" cy="55627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2"/>
          <p:cNvSpPr/>
          <p:nvPr/>
        </p:nvSpPr>
        <p:spPr>
          <a:xfrm>
            <a:off x="7696080" y="685800"/>
            <a:ext cx="0" cy="55627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5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35"/>
          <p:cNvSpPr/>
          <p:nvPr/>
        </p:nvSpPr>
        <p:spPr>
          <a:xfrm flipV="1">
            <a:off x="0" y="1371240"/>
            <a:ext cx="9144000" cy="2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72400" y="1371600"/>
            <a:ext cx="12952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gestion Analy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R Network Model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R Market Administration and Valid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R Market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nual and Monthly Competitive Constraints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gaged in dispute resolution, as necess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ide Level 3 Support for Market Participants, PUCT and ERCOT St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al transition activ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mt &amp; Admin, including SAS 70 and other aud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mercial Operations – Strategic Focu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B7 – perform core business operations at highest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sure that information relating to a customer’s choice of retail electric providers is conveyed in a timely manner to the persons who need th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sure that electricity production and delivery are accurately accounted for among the generators and wholesale buyers and sellers in the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al Implementation – wholesale market trans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Metering – retail market trans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352680" y="22860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etty Day</cp:lastModifiedBy>
  <dcterms:modified xsi:type="dcterms:W3CDTF">2008-08-27T15:57:02Z</dcterms:modified>
  <cp:revision>51</cp:revision>
  <dc:subject/>
  <dc:title>Instructions</dc:title>
</cp:coreProperties>
</file>