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461B4AB-1798-40A0-A95A-FE271BA753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B28FFF5-4DBF-4238-80EE-E1FE1166E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4457302-2522-4C72-B801-3A14B3BD00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6F96950-576C-4F08-84DD-3F0B7FFEA8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D966B2-8D52-4669-A77D-71B5E9877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D55026-3439-4F7F-90CB-3C3DA21C6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E80B5D-23A9-481F-8CAD-C42E9FE4E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A6BFD5-69DD-456A-96B1-12041980C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7EB29F3-D61A-46CB-A4FD-0D32710F8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B34C9E-17AF-40C5-B63B-4DF6F13B6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AAC92A-DCBD-495C-B2E2-9EB6E19372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78D027-381A-42AB-9EF9-64F093F52E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F895-92B0-4B1F-B107-952F24F21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5943600" y="645804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3000" y="6457680"/>
            <a:ext cx="22860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r>
              <a:rPr b="0" lang="en-US" sz="1200" spc="-1" strike="noStrike">
                <a:solidFill>
                  <a:srgbClr val="000000"/>
                </a:solidFill>
                <a:latin typeface="Times New Roman"/>
              </a:rPr>
              <a:t>September 4, 2008</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C611-91EE-4E8B-B918-B0BF43632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r>
              <a:rPr b="1" lang="en-US" sz="2400" spc="-1" strike="noStrike">
                <a:solidFill>
                  <a:srgbClr val="ffffff"/>
                </a:solidFill>
                <a:latin typeface="Times New Roman"/>
              </a:rPr>
              <a:t>September 4, 2008</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r>
              <a:rPr b="1" lang="en-US" sz="2400" spc="-1" strike="noStrike">
                <a:solidFill>
                  <a:srgbClr val="ffffff"/>
                </a:solidFill>
                <a:latin typeface="Times New Roman"/>
              </a:rPr>
              <a:t>Technical Advisory Committee</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35328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cogdoches to Lufkin SS 345 kV Line Project</a:t>
            </a:r>
            <a:br>
              <a:rPr sz="2400"/>
            </a:br>
            <a:endParaRPr b="0" lang="en-US" sz="24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mes Teixeira</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nager, Regional Planning</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cription of Project</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new conductor to existing structures for 13 miles from Nacogdoches Southeast to Herty North</a:t>
            </a:r>
            <a:endParaRPr b="1" lang="en-US" sz="24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new 10 mile double circuit capable with one circuit in place 345 kV line on new ROW from Herty North to Lufkin Switch</a:t>
            </a:r>
            <a:endParaRPr b="1" lang="en-US" sz="24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ed in service ASAP (estimated 2012 peak)</a:t>
            </a:r>
            <a:endParaRPr b="1" lang="en-US" sz="24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d cost : $29.2 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ocation of Project</a:t>
            </a:r>
            <a:endParaRPr b="0" lang="en-US" sz="2000" spc="-1" strike="noStrike">
              <a:solidFill>
                <a:srgbClr val="ffffff"/>
              </a:solidFill>
              <a:latin typeface="Arial Black"/>
            </a:endParaRPr>
          </a:p>
        </p:txBody>
      </p:sp>
      <p:pic>
        <p:nvPicPr>
          <p:cNvPr id="95" name="" descr=""/>
          <p:cNvPicPr/>
          <p:nvPr/>
        </p:nvPicPr>
        <p:blipFill>
          <a:blip r:embed="rId1"/>
          <a:stretch/>
        </p:blipFill>
        <p:spPr>
          <a:xfrm>
            <a:off x="457200" y="784080"/>
            <a:ext cx="8285040" cy="5394600"/>
          </a:xfrm>
          <a:prstGeom prst="rect">
            <a:avLst/>
          </a:prstGeom>
          <a:ln w="0">
            <a:noFill/>
          </a:ln>
        </p:spPr>
      </p:pic>
      <p:sp>
        <p:nvSpPr>
          <p:cNvPr id="96" name=""/>
          <p:cNvSpPr/>
          <p:nvPr/>
        </p:nvSpPr>
        <p:spPr>
          <a:xfrm>
            <a:off x="6705720" y="3505320"/>
            <a:ext cx="22096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Structures/ROW</a:t>
            </a:r>
            <a:endParaRPr b="0" lang="en-US" sz="1800" spc="-1" strike="noStrike">
              <a:solidFill>
                <a:srgbClr val="000000"/>
              </a:solidFill>
              <a:latin typeface="Arial"/>
            </a:endParaRPr>
          </a:p>
        </p:txBody>
      </p:sp>
      <p:sp>
        <p:nvSpPr>
          <p:cNvPr id="97" name=""/>
          <p:cNvSpPr/>
          <p:nvPr/>
        </p:nvSpPr>
        <p:spPr>
          <a:xfrm>
            <a:off x="306720" y="5181480"/>
            <a:ext cx="247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Structures/ROW</a:t>
            </a:r>
            <a:endParaRPr b="0" lang="en-US" sz="1800" spc="-1" strike="noStrike">
              <a:solidFill>
                <a:srgbClr val="000000"/>
              </a:solidFill>
              <a:latin typeface="Arial"/>
            </a:endParaRPr>
          </a:p>
        </p:txBody>
      </p:sp>
      <p:sp>
        <p:nvSpPr>
          <p:cNvPr id="98" name=""/>
          <p:cNvSpPr/>
          <p:nvPr/>
        </p:nvSpPr>
        <p:spPr>
          <a:xfrm flipV="1">
            <a:off x="2895480" y="518112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5409720" y="4038480"/>
            <a:ext cx="1295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Economic Needs for Project</a:t>
            </a:r>
            <a:endParaRPr b="0" lang="en-US" sz="20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ves overloading/congestion at Nacogdoches Southeast 345/138 kV autotransformer</a:t>
            </a:r>
            <a:endParaRPr b="1" lang="en-US" sz="24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2</a:t>
            </a:r>
            <a:r>
              <a:rPr b="1" lang="en-US" sz="2400" spc="-1" strike="noStrike" baseline="30000">
                <a:solidFill>
                  <a:srgbClr val="000000"/>
                </a:solidFill>
                <a:latin typeface="Arial"/>
              </a:rPr>
              <a:t>nd</a:t>
            </a:r>
            <a:r>
              <a:rPr b="1" lang="en-US" sz="2400" spc="-1" strike="noStrike">
                <a:solidFill>
                  <a:srgbClr val="000000"/>
                </a:solidFill>
                <a:latin typeface="Arial"/>
              </a:rPr>
              <a:t> 345 kV source to Nacogdoches and Lufkin</a:t>
            </a:r>
            <a:endParaRPr b="1" lang="en-US" sz="24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exit of existing Mt. Enterprise SPS </a:t>
            </a:r>
            <a:endParaRPr b="1" lang="en-US" sz="24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d as economic in the 2007 Five-Year Plan with production costs savings of $ 13.4 M in 2012</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ternative Considered</a:t>
            </a: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the Mount Enterprise to Martin Lake 345 kV circuit off of the Mount Enterprise to Trinidad 345 kV circuit structures so that single tower outage does not cause loss of both circuits</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figure Mount Enterprise Switch Station so that single breaker failure does not cause loss of both circuits</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s overloading/congestion on Nacogdoches Southeast 345/138 kV autotransformer for one contingency but not all</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cost savings of $ 7.2 M in 2012</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cost estimates were not calculat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PG Review</a:t>
            </a: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G Comment Perio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25, 2008 through August 15, 200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ssenting comments submitte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Support for the Project</a:t>
            </a:r>
            <a:endParaRPr b="0" lang="en-US" sz="2000" spc="-1" strike="noStrike">
              <a:solidFill>
                <a:srgbClr val="ffffff"/>
              </a:solidFill>
              <a:latin typeface="Arial Black"/>
            </a:endParaRPr>
          </a:p>
        </p:txBody>
      </p:sp>
      <p:sp>
        <p:nvSpPr>
          <p:cNvPr id="107" name=""/>
          <p:cNvSpPr/>
          <p:nvPr/>
        </p:nvSpPr>
        <p:spPr>
          <a:xfrm>
            <a:off x="380880" y="1127160"/>
            <a:ext cx="83822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ill be requesting that this project be endorsed by the ERCOT Board Of Dire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jteixeira</cp:lastModifiedBy>
  <dcterms:modified xsi:type="dcterms:W3CDTF">2008-09-03T17:47:06Z</dcterms:modified>
  <cp:revision>34</cp:revision>
  <dc:subject/>
  <dc:title>Instructions</dc:title>
</cp:coreProperties>
</file>