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5E0899-65C9-4414-BEF5-B8A9774C6B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 name="PlaceHolder 2"/>
          <p:cNvSpPr>
            <a:spLocks noGrp="1"/>
          </p:cNvSpPr>
          <p:nvPr>
            <p:ph/>
          </p:nvPr>
        </p:nvSpPr>
        <p:spPr>
          <a:xfrm>
            <a:off x="457200" y="76212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6400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D336F344-4C16-4CE2-8DC1-04D69CDF8F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6FE885D8-8BF5-4D96-8861-603DAB69BE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8" name="PlaceHolder 2"/>
          <p:cNvSpPr>
            <a:spLocks noGrp="1"/>
          </p:cNvSpPr>
          <p:nvPr>
            <p:ph/>
          </p:nvPr>
        </p:nvSpPr>
        <p:spPr>
          <a:xfrm>
            <a:off x="45720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7DC23104-9D49-4BF4-9D76-E6FA86137F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0" name="PlaceHolder 2"/>
          <p:cNvSpPr>
            <a:spLocks noGrp="1"/>
          </p:cNvSpPr>
          <p:nvPr>
            <p:ph type="subTitle"/>
          </p:nvPr>
        </p:nvSpPr>
        <p:spPr>
          <a:xfrm>
            <a:off x="457200" y="762120"/>
            <a:ext cx="8229600" cy="5364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80880" y="-3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9" name="PlaceHolder 2"/>
          <p:cNvSpPr>
            <a:spLocks noGrp="1"/>
          </p:cNvSpPr>
          <p:nvPr>
            <p:ph type="subTitle"/>
          </p:nvPr>
        </p:nvSpPr>
        <p:spPr>
          <a:xfrm>
            <a:off x="457200" y="762120"/>
            <a:ext cx="8229600" cy="5364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1AE80D1C-F052-4B66-90BF-41FED356BD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6400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76212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6400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4"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BA5BEBF-F7D2-4F1C-A81B-E3127A527D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BE8493E8-785C-4DC4-95DB-A02A2EA294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629A7766-430B-401E-AC83-E6DB07AEB6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3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7B552DC6-E69F-444F-8FE8-77DF8EF4C4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7DC8EEBB-644E-4309-ABA9-E5665DD4EC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 name="PlaceHolder 2"/>
          <p:cNvSpPr>
            <a:spLocks noGrp="1"/>
          </p:cNvSpPr>
          <p:nvPr>
            <p:ph/>
          </p:nvPr>
        </p:nvSpPr>
        <p:spPr>
          <a:xfrm>
            <a:off x="45720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0A72E2BC-63DD-46E4-9CA7-4D3433DA75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6400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7CEBA29A-D85E-40E5-A268-B43AE42861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8E8F-AEC5-4536-8993-241D4FEC4C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 name="Rectangle 3"/>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 name="Picture 4" descr="logo_C"/>
          <p:cNvPicPr/>
          <p:nvPr/>
        </p:nvPicPr>
        <p:blipFill>
          <a:blip r:embed="rId2"/>
          <a:stretch/>
        </p:blipFill>
        <p:spPr>
          <a:xfrm>
            <a:off x="63360" y="6289560"/>
            <a:ext cx="854280" cy="479520"/>
          </a:xfrm>
          <a:prstGeom prst="rect">
            <a:avLst/>
          </a:prstGeom>
          <a:ln w="0">
            <a:noFill/>
          </a:ln>
        </p:spPr>
      </p:pic>
      <p:sp>
        <p:nvSpPr>
          <p:cNvPr id="3" name="Rectangle 5"/>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Line 6"/>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Line 7"/>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PlaceHolder 2"/>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7" name="PlaceHolder 3"/>
          <p:cNvSpPr>
            <a:spLocks noGrp="1"/>
          </p:cNvSpPr>
          <p:nvPr>
            <p:ph type="body"/>
          </p:nvPr>
        </p:nvSpPr>
        <p:spPr>
          <a:xfrm>
            <a:off x="457200" y="762120"/>
            <a:ext cx="8229600" cy="5364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logo"/>
          <p:cNvPicPr/>
          <p:nvPr/>
        </p:nvPicPr>
        <p:blipFill>
          <a:blip r:embed="rId2"/>
          <a:stretch/>
        </p:blipFill>
        <p:spPr>
          <a:xfrm>
            <a:off x="228600" y="304920"/>
            <a:ext cx="1295280" cy="519120"/>
          </a:xfrm>
          <a:prstGeom prst="rect">
            <a:avLst/>
          </a:prstGeom>
          <a:ln w="0">
            <a:noFill/>
          </a:ln>
        </p:spPr>
      </p:pic>
      <p:sp>
        <p:nvSpPr>
          <p:cNvPr id="45" name="Rectangle 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 name="Line 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48" name="PlaceHolder 2"/>
          <p:cNvSpPr>
            <a:spLocks noGrp="1"/>
          </p:cNvSpPr>
          <p:nvPr>
            <p:ph type="body"/>
          </p:nvPr>
        </p:nvSpPr>
        <p:spPr>
          <a:xfrm>
            <a:off x="457200" y="762120"/>
            <a:ext cx="8229600" cy="5364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Purpose of the Unannounced Unit Testing</a:t>
            </a:r>
            <a:endParaRPr b="0" lang="en-US" sz="2600" spc="-1" strike="noStrike">
              <a:solidFill>
                <a:srgbClr val="ffffff"/>
              </a:solidFill>
              <a:latin typeface="Arial Black"/>
            </a:endParaRPr>
          </a:p>
        </p:txBody>
      </p:sp>
      <p:sp>
        <p:nvSpPr>
          <p:cNvPr id="86" name="PlaceHolder 2"/>
          <p:cNvSpPr>
            <a:spLocks noGrp="1"/>
          </p:cNvSpPr>
          <p:nvPr>
            <p:ph/>
          </p:nvPr>
        </p:nvSpPr>
        <p:spPr>
          <a:xfrm>
            <a:off x="457200" y="762120"/>
            <a:ext cx="8229600" cy="5364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ing how well the units can actually reach their planned Resource Plan HSL when they are requested to do so,  ERCOT performs unannounced unit testing where units are asked to deliver at their resource plan HSL and maintain it for 30 minutes.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t is difficult to test all units in a short period, sampling statistics are applied to approximate the true mean of the whole popula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360"/>
            <a:ext cx="8229600" cy="49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nannounced Testing Summary</a:t>
            </a:r>
            <a:endParaRPr b="0" lang="en-US" sz="2000" spc="-1" strike="noStrike">
              <a:solidFill>
                <a:srgbClr val="ffffff"/>
              </a:solidFill>
              <a:latin typeface="Arial Black"/>
            </a:endParaRPr>
          </a:p>
        </p:txBody>
      </p:sp>
      <p:graphicFrame>
        <p:nvGraphicFramePr>
          <p:cNvPr id="109" name=""/>
          <p:cNvGraphicFramePr/>
          <p:nvPr/>
        </p:nvGraphicFramePr>
        <p:xfrm>
          <a:off x="0" y="719280"/>
          <a:ext cx="9144000" cy="5462280"/>
        </p:xfrm>
        <a:graphic>
          <a:graphicData uri="http://schemas.openxmlformats.org/drawingml/2006/table">
            <a:tbl>
              <a:tblPr/>
              <a:tblGrid>
                <a:gridCol w="861840"/>
                <a:gridCol w="659160"/>
                <a:gridCol w="650880"/>
                <a:gridCol w="572760"/>
                <a:gridCol w="730440"/>
                <a:gridCol w="581040"/>
                <a:gridCol w="847800"/>
                <a:gridCol w="838080"/>
                <a:gridCol w="819000"/>
                <a:gridCol w="865440"/>
                <a:gridCol w="847440"/>
                <a:gridCol w="870120"/>
              </a:tblGrid>
              <a:tr h="995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e of Tes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QS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FIGUR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OF UNI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mbient Tem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 at Start of Test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as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sourc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lan HS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 Minut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stain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Reach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d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Reached but not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not Reach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1896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 Greater than 95 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0/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9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8/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U</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3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04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4/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6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9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I</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0/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3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3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4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9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8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8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2/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V</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07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8/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J</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3/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8/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J</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1/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verall Summary</a:t>
            </a:r>
            <a:endParaRPr b="0" lang="en-US" sz="2000" spc="-1" strike="noStrike">
              <a:solidFill>
                <a:srgbClr val="ffffff"/>
              </a:solidFill>
              <a:latin typeface="Arial Black"/>
            </a:endParaRPr>
          </a:p>
        </p:txBody>
      </p:sp>
      <p:graphicFrame>
        <p:nvGraphicFramePr>
          <p:cNvPr id="111" name=""/>
          <p:cNvGraphicFramePr/>
          <p:nvPr/>
        </p:nvGraphicFramePr>
        <p:xfrm>
          <a:off x="528480" y="1522440"/>
          <a:ext cx="8177400" cy="1341360"/>
        </p:xfrm>
        <a:graphic>
          <a:graphicData uri="http://schemas.openxmlformats.org/drawingml/2006/table">
            <a:tbl>
              <a:tblPr/>
              <a:tblGrid>
                <a:gridCol w="2001960"/>
                <a:gridCol w="1585800"/>
                <a:gridCol w="2746440"/>
                <a:gridCol w="1843200"/>
              </a:tblGrid>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mperature Rang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1a1a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tal # of Test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1a1a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SL reached and sustained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1a1a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SL not sustaine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1a1a1"/>
                    </a:solid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 &lt; 8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5 F ≤ T ≤ 9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gt; 9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2" name="PlaceHolder 2"/>
          <p:cNvSpPr>
            <a:spLocks noGrp="1"/>
          </p:cNvSpPr>
          <p:nvPr>
            <p:ph/>
          </p:nvPr>
        </p:nvSpPr>
        <p:spPr>
          <a:xfrm>
            <a:off x="457200" y="3209760"/>
            <a:ext cx="8229600" cy="11527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four retest measurements not included in this summary two of them were in the less than 85 F temperature range and the other two were in 85 F to 95 F temperature range.</a:t>
            </a:r>
            <a:endParaRPr b="1"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Data Description</a:t>
            </a:r>
            <a:endParaRPr b="0" lang="en-US" sz="2600" spc="-1" strike="noStrike">
              <a:solidFill>
                <a:srgbClr val="ffffff"/>
              </a:solidFill>
              <a:latin typeface="Arial Black"/>
            </a:endParaRPr>
          </a:p>
        </p:txBody>
      </p:sp>
      <p:sp>
        <p:nvSpPr>
          <p:cNvPr id="88" name="PlaceHolder 2"/>
          <p:cNvSpPr>
            <a:spLocks noGrp="1"/>
          </p:cNvSpPr>
          <p:nvPr>
            <p:ph/>
          </p:nvPr>
        </p:nvSpPr>
        <p:spPr>
          <a:xfrm>
            <a:off x="457200" y="762120"/>
            <a:ext cx="8507520" cy="5364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t’s ability to reach its planned HSL is dependant on temperature. According to our current practice, we categorize the measurements by temperatur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measurement results, a new variable is defined to represent the percent relative error between the tested and planned HSL MWs.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d_MW: 30-minutes sustained MW</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_HSL_MW: HSL MW from resource plan.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Relative Error: % relative error between the tested and planned MW.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89" name="Object 4"/>
              <p:cNvSpPr txBox="1"/>
              <p:nvPr/>
            </p:nvSpPr>
            <p:spPr>
              <a:xfrm>
                <a:off x="1177920" y="4098960"/>
                <a:ext cx="6912000" cy="671400"/>
              </a:xfrm>
              <a:prstGeom prst="rect">
                <a:avLst/>
              </a:prstGeom>
            </p:spPr>
            <p:txBody>
              <a:bodyPr/>
              <a:p>
                <a14:m>
                  <m:oMath xmlns:m="http://schemas.openxmlformats.org/officeDocument/2006/math">
                    <m:r>
                      <m:rPr>
                        <m:lit/>
                        <m:nor/>
                      </m:rPr>
                      <m:t xml:space="preserve">Percent Relative Error</m:t>
                    </m:r>
                    <m:r>
                      <m:t xml:space="preserve">=</m:t>
                    </m:r>
                    <m:f>
                      <m:num>
                        <m:r>
                          <m:rPr>
                            <m:lit/>
                            <m:nor/>
                          </m:rPr>
                          <m:t xml:space="preserve">Tested  MW</m:t>
                        </m:r>
                        <m:r>
                          <m:t xml:space="preserve">−</m:t>
                        </m:r>
                        <m:r>
                          <m:rPr>
                            <m:lit/>
                            <m:nor/>
                          </m:rPr>
                          <m:t xml:space="preserve">Planned HSL MW</m:t>
                        </m:r>
                      </m:num>
                      <m:den>
                        <m:r>
                          <m:rPr>
                            <m:lit/>
                            <m:nor/>
                          </m:rPr>
                          <m:t xml:space="preserve">Planned HSL MW</m:t>
                        </m:r>
                      </m:den>
                    </m:f>
                    <m:r>
                      <m:t xml:space="preserve">⋅</m:t>
                    </m:r>
                    <m:r>
                      <m:rPr>
                        <m:lit/>
                        <m:nor/>
                      </m:rPr>
                      <m:t xml:space="preserve">100</m:t>
                    </m:r>
                    <m:r>
                      <m:rPr>
                        <m:lit/>
                        <m:nor/>
                      </m:rPr>
                      <m:t xml:space="preserve">%</m:t>
                    </m:r>
                  </m:oMath>
                </a14:m>
              </a:p>
            </p:txBody>
          </p:sp>
        </mc:Choice>
        <mc:Fallback/>
      </mc:AlternateContent>
      <p:graphicFrame>
        <p:nvGraphicFramePr>
          <p:cNvPr id="90" name=""/>
          <p:cNvGraphicFramePr/>
          <p:nvPr/>
        </p:nvGraphicFramePr>
        <p:xfrm>
          <a:off x="1125360" y="1801800"/>
          <a:ext cx="7228080" cy="1311120"/>
        </p:xfrm>
        <a:graphic>
          <a:graphicData uri="http://schemas.openxmlformats.org/drawingml/2006/table">
            <a:tbl>
              <a:tblPr/>
              <a:tblGrid>
                <a:gridCol w="1768680"/>
                <a:gridCol w="1405080"/>
                <a:gridCol w="2420640"/>
                <a:gridCol w="1633680"/>
              </a:tblGrid>
              <a:tr h="5202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mperature Rang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tal # of Test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SL reached and sustained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SL not sustaine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 &lt; 85 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 F ≤ T ≤ 95 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T&gt; 95 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tatistical Approach</a:t>
            </a:r>
            <a:endParaRPr b="0" lang="en-US" sz="2600" spc="-1" strike="noStrike">
              <a:solidFill>
                <a:srgbClr val="ffffff"/>
              </a:solidFill>
              <a:latin typeface="Arial Black"/>
            </a:endParaRPr>
          </a:p>
        </p:txBody>
      </p:sp>
      <p:sp>
        <p:nvSpPr>
          <p:cNvPr id="92" name="PlaceHolder 2"/>
          <p:cNvSpPr>
            <a:spLocks noGrp="1"/>
          </p:cNvSpPr>
          <p:nvPr>
            <p:ph/>
          </p:nvPr>
        </p:nvSpPr>
        <p:spPr>
          <a:xfrm>
            <a:off x="457200" y="762120"/>
            <a:ext cx="8507520" cy="5364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uses the Student Distribution for a number of samples less than 30 and the Normal Distribution for a number greater or equal to 30 .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tudent Distribution makes two assumption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 Normal popu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 Random sampling.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Normal Distribution uses the Central Limit Theorem and therefore does not have to assume normal population.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tatistical Approach</a:t>
            </a:r>
            <a:endParaRPr b="0" lang="en-US" sz="2600" spc="-1" strike="noStrike">
              <a:solidFill>
                <a:srgbClr val="ffffff"/>
              </a:solidFill>
              <a:latin typeface="Arial Black"/>
            </a:endParaRPr>
          </a:p>
        </p:txBody>
      </p:sp>
      <p:sp>
        <p:nvSpPr>
          <p:cNvPr id="94" name="PlaceHolder 2"/>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our analysis, the computed confidence interval means: We are (confidence level %) sure that the true “percent relative error” mean for all units will be somewhere between the inferior and superior limits. </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nce we are more concerned with the cases when we are unable to reach the planned HSL, we should use the inferior limit to guide our requirements. </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Keep in mind that the true mean could be anywhere within the interval.  However, the worst case scenario for us is if the mean actually equals the inferior limit. This limit represent the highest possible “negative mean” when on average the units would be shor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Results Summary</a:t>
            </a:r>
            <a:endParaRPr b="0" lang="en-US" sz="2600" spc="-1" strike="noStrike">
              <a:solidFill>
                <a:srgbClr val="ffffff"/>
              </a:solidFill>
              <a:latin typeface="Arial Black"/>
            </a:endParaRPr>
          </a:p>
        </p:txBody>
      </p:sp>
      <p:graphicFrame>
        <p:nvGraphicFramePr>
          <p:cNvPr id="96" name=""/>
          <p:cNvGraphicFramePr/>
          <p:nvPr/>
        </p:nvGraphicFramePr>
        <p:xfrm>
          <a:off x="1463760" y="4608360"/>
          <a:ext cx="6334200" cy="1768680"/>
        </p:xfrm>
        <a:graphic>
          <a:graphicData uri="http://schemas.openxmlformats.org/drawingml/2006/table">
            <a:tbl>
              <a:tblPr/>
              <a:tblGrid>
                <a:gridCol w="2001600"/>
                <a:gridCol w="1586160"/>
                <a:gridCol w="2746440"/>
              </a:tblGrid>
              <a:tr h="33732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erature greater than 9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fidence Leve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ferior Limi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perior Limi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r>
              <a:tr h="368280">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df864"/>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df864"/>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df864"/>
                    </a:solidFill>
                  </a:tcPr>
                </a:tc>
              </a:tr>
            </a:tbl>
          </a:graphicData>
        </a:graphic>
      </p:graphicFrame>
      <p:sp>
        <p:nvSpPr>
          <p:cNvPr id="97" name="PlaceHolder 2"/>
          <p:cNvSpPr>
            <a:spLocks noGrp="1"/>
          </p:cNvSpPr>
          <p:nvPr>
            <p:ph/>
          </p:nvPr>
        </p:nvSpPr>
        <p:spPr>
          <a:xfrm>
            <a:off x="457200" y="3706920"/>
            <a:ext cx="8229600" cy="11728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13 measurements at temperatures greater than 95 F, we can be 99% sure that the true value of the population mean will be somewhere between -1. 95% and 1.13%.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Rectangle 741"/>
          <p:cNvSpPr/>
          <p:nvPr/>
        </p:nvSpPr>
        <p:spPr>
          <a:xfrm>
            <a:off x="457200" y="861840"/>
            <a:ext cx="8229600" cy="104004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31 measurements at temperatures greater or equal to 85 F and less than or equal 95 F, we can be 99% sure that the true value of the population mean will be somewhere between -1.01% and 0.23%.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9" name=""/>
          <p:cNvGraphicFramePr/>
          <p:nvPr/>
        </p:nvGraphicFramePr>
        <p:xfrm>
          <a:off x="1465200" y="1809720"/>
          <a:ext cx="6445440" cy="1768680"/>
        </p:xfrm>
        <a:graphic>
          <a:graphicData uri="http://schemas.openxmlformats.org/drawingml/2006/table">
            <a:tbl>
              <a:tblPr/>
              <a:tblGrid>
                <a:gridCol w="2036880"/>
                <a:gridCol w="1614600"/>
                <a:gridCol w="2793960"/>
              </a:tblGrid>
              <a:tr h="33732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erature greater or equal to 85 F and less than or equal 9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fidence Leve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ferior Limi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perior Limi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2c2c2"/>
                    </a:solidFill>
                  </a:tcPr>
                </a:tc>
              </a:tr>
              <a:tr h="368280">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df864"/>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df864"/>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df86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Conclusion</a:t>
            </a:r>
            <a:endParaRPr b="0" lang="en-US" sz="2600" spc="-1" strike="noStrike">
              <a:solidFill>
                <a:srgbClr val="ffffff"/>
              </a:solidFill>
              <a:latin typeface="Arial Black"/>
            </a:endParaRPr>
          </a:p>
        </p:txBody>
      </p:sp>
      <p:sp>
        <p:nvSpPr>
          <p:cNvPr id="101" name="PlaceHolder 2"/>
          <p:cNvSpPr>
            <a:spLocks noGrp="1"/>
          </p:cNvSpPr>
          <p:nvPr>
            <p:ph/>
          </p:nvPr>
        </p:nvSpPr>
        <p:spPr>
          <a:xfrm>
            <a:off x="457200" y="761760"/>
            <a:ext cx="8229600" cy="5529240"/>
          </a:xfrm>
          <a:prstGeom prst="rect">
            <a:avLst/>
          </a:prstGeom>
          <a:noFill/>
          <a:ln w="0">
            <a:noFill/>
          </a:ln>
        </p:spPr>
        <p:txBody>
          <a:bodyPr anchor="t">
            <a:normAutofit/>
          </a:bodyPr>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a confidence level of 99%, ERCOT makes the following recommendations:</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ure range: 85 F </a:t>
            </a:r>
            <a:r>
              <a:rPr b="0" lang="en-US" sz="2000" spc="-1" strike="noStrike">
                <a:solidFill>
                  <a:srgbClr val="000000"/>
                </a:solidFill>
                <a:latin typeface="Arial"/>
                <a:ea typeface="Arial"/>
              </a:rPr>
              <a:t>≤ T ≤</a:t>
            </a:r>
            <a:r>
              <a:rPr b="0" lang="en-US" sz="2000" spc="-1" strike="noStrike">
                <a:solidFill>
                  <a:srgbClr val="000000"/>
                </a:solidFill>
                <a:latin typeface="Arial"/>
              </a:rPr>
              <a:t> 95 F </a:t>
            </a:r>
            <a:endParaRPr b="0" lang="en-US" sz="20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results indicate that the </a:t>
            </a:r>
            <a:r>
              <a:rPr b="1" lang="en-US" sz="1800" spc="-1" strike="noStrike">
                <a:solidFill>
                  <a:srgbClr val="000000"/>
                </a:solidFill>
                <a:latin typeface="Arial"/>
              </a:rPr>
              <a:t>RDF can be reduced from 5% to 1%</a:t>
            </a:r>
            <a:endParaRPr b="0" lang="en-US" sz="18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 Normal Distribution to characterize sampling fluctuations.</a:t>
            </a:r>
            <a:endParaRPr b="0" lang="en-US" sz="18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 RDF from 4% to 1%</a:t>
            </a:r>
            <a:r>
              <a:rPr b="0" lang="en-US" sz="1800" spc="-1" strike="noStrike">
                <a:solidFill>
                  <a:srgbClr val="000000"/>
                </a:solidFill>
                <a:latin typeface="Arial"/>
              </a:rPr>
              <a:t> for the less than 85 F temperature range.</a:t>
            </a:r>
            <a:endParaRPr b="0" lang="en-US" sz="18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ure range: T &gt; 95 F</a:t>
            </a:r>
            <a:endParaRPr b="0" lang="en-US" sz="20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results indicate that the </a:t>
            </a:r>
            <a:r>
              <a:rPr b="1" lang="en-US" sz="1800" spc="-1" strike="noStrike">
                <a:solidFill>
                  <a:srgbClr val="000000"/>
                </a:solidFill>
                <a:latin typeface="Arial"/>
              </a:rPr>
              <a:t>RDF can be reduced from 7% to 2%</a:t>
            </a:r>
            <a:endParaRPr b="0" lang="en-US" sz="18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 Student Distribution to characterize sampling fluctuations.</a:t>
            </a:r>
            <a:endParaRPr b="0" lang="en-US" sz="18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will continue testing units and bring new recommendations as test results indicat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229600" cy="49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nannounced Testing Summary</a:t>
            </a:r>
            <a:endParaRPr b="0" lang="en-US" sz="2000" spc="-1" strike="noStrike">
              <a:solidFill>
                <a:srgbClr val="ffffff"/>
              </a:solidFill>
              <a:latin typeface="Arial Black"/>
            </a:endParaRPr>
          </a:p>
        </p:txBody>
      </p:sp>
      <p:graphicFrame>
        <p:nvGraphicFramePr>
          <p:cNvPr id="103" name=""/>
          <p:cNvGraphicFramePr/>
          <p:nvPr/>
        </p:nvGraphicFramePr>
        <p:xfrm>
          <a:off x="0" y="695160"/>
          <a:ext cx="9144000" cy="5699160"/>
        </p:xfrm>
        <a:graphic>
          <a:graphicData uri="http://schemas.openxmlformats.org/drawingml/2006/table">
            <a:tbl>
              <a:tblPr/>
              <a:tblGrid>
                <a:gridCol w="781200"/>
                <a:gridCol w="725400"/>
                <a:gridCol w="693720"/>
                <a:gridCol w="693720"/>
                <a:gridCol w="711000"/>
                <a:gridCol w="611280"/>
                <a:gridCol w="831960"/>
                <a:gridCol w="890640"/>
                <a:gridCol w="780840"/>
                <a:gridCol w="852480"/>
                <a:gridCol w="801720"/>
                <a:gridCol w="770040"/>
              </a:tblGrid>
              <a:tr h="703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e of Tes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QS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FIGUR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OF UNI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mbient Tem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 at Start of Test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as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sourc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lan HS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 Minute sustained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Reached and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Reached but not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not Reach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erature less than 8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4/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2/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6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8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5.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1/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7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4/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H</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9.3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4/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I</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3/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J</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360"/>
            <a:ext cx="8229600" cy="49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nannounced Testing Summary</a:t>
            </a:r>
            <a:endParaRPr b="0" lang="en-US" sz="2000" spc="-1" strike="noStrike">
              <a:solidFill>
                <a:srgbClr val="ffffff"/>
              </a:solidFill>
              <a:latin typeface="Arial Black"/>
            </a:endParaRPr>
          </a:p>
        </p:txBody>
      </p:sp>
      <p:graphicFrame>
        <p:nvGraphicFramePr>
          <p:cNvPr id="105" name=""/>
          <p:cNvGraphicFramePr/>
          <p:nvPr/>
        </p:nvGraphicFramePr>
        <p:xfrm>
          <a:off x="0" y="708120"/>
          <a:ext cx="9144000" cy="5634000"/>
        </p:xfrm>
        <a:graphic>
          <a:graphicData uri="http://schemas.openxmlformats.org/drawingml/2006/table">
            <a:tbl>
              <a:tblPr/>
              <a:tblGrid>
                <a:gridCol w="700200"/>
                <a:gridCol w="652320"/>
                <a:gridCol w="671400"/>
                <a:gridCol w="660600"/>
                <a:gridCol w="720720"/>
                <a:gridCol w="573120"/>
                <a:gridCol w="807840"/>
                <a:gridCol w="933480"/>
                <a:gridCol w="846360"/>
                <a:gridCol w="853920"/>
                <a:gridCol w="941400"/>
                <a:gridCol w="782640"/>
              </a:tblGrid>
              <a:tr h="855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e of Tes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QS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FIGUR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OF UNI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mbient Tem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rt of Test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asonal HS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sourc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lan HSL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 Minute sustained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Reached and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Reached but not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not Reach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erature between 85 F and 9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2/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W</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7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8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8/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6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8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8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8/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M</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J</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4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9/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2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4/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8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6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6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9/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1/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H</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9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7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229600" cy="49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nannounced Testing Summary</a:t>
            </a:r>
            <a:endParaRPr b="0" lang="en-US" sz="2000" spc="-1" strike="noStrike">
              <a:solidFill>
                <a:srgbClr val="ffffff"/>
              </a:solidFill>
              <a:latin typeface="Arial Black"/>
            </a:endParaRPr>
          </a:p>
        </p:txBody>
      </p:sp>
      <p:graphicFrame>
        <p:nvGraphicFramePr>
          <p:cNvPr id="107" name=""/>
          <p:cNvGraphicFramePr/>
          <p:nvPr/>
        </p:nvGraphicFramePr>
        <p:xfrm>
          <a:off x="0" y="665280"/>
          <a:ext cx="9144000" cy="5560920"/>
        </p:xfrm>
        <a:graphic>
          <a:graphicData uri="http://schemas.openxmlformats.org/drawingml/2006/table">
            <a:tbl>
              <a:tblPr/>
              <a:tblGrid>
                <a:gridCol w="690480"/>
                <a:gridCol w="681120"/>
                <a:gridCol w="700200"/>
                <a:gridCol w="631800"/>
                <a:gridCol w="701640"/>
                <a:gridCol w="582480"/>
                <a:gridCol w="758880"/>
                <a:gridCol w="827280"/>
                <a:gridCol w="876240"/>
                <a:gridCol w="865080"/>
                <a:gridCol w="1031760"/>
                <a:gridCol w="797040"/>
              </a:tblGrid>
              <a:tr h="855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e of Tes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QS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FIGUR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OF UNI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mbient Tem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 at Start of Test (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asonal HS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sourc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lan HS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 Minute sustain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ached and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Reached but not Sustain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SL not Reach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erature between 85 F and 95 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K</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5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5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0/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3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9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V</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8/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9/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1/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8/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I</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I</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W</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Q</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4.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4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2/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SE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21:45:35Z</dcterms:created>
  <dc:creator>shsien</dc:creator>
  <dc:description/>
  <dc:language>en-US</dc:language>
  <cp:lastModifiedBy>00010966</cp:lastModifiedBy>
  <dcterms:modified xsi:type="dcterms:W3CDTF">2008-09-03T13:13:58Z</dcterms:modified>
  <cp:revision>88</cp:revision>
  <dc:subject/>
  <dc:title>Impact of Wind Generation on ERCOT Operations</dc:title>
</cp:coreProperties>
</file>