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EC7D-27BA-43D2-9C84-392A1786D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9E14-152F-4F1A-8ED1-F2C2817B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DF1A-74E0-4046-A219-129151C58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9D48-FD1C-4B0D-A329-B0C010E73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E970-6CC3-454E-A24F-1ACEAB43F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AAFE-CE23-4ACA-8F52-6F5309996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D8B-CEB4-45A9-8498-69EE833E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293-915E-4B2B-AF92-11E2E897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552-A41A-4D98-9745-5BA9B72F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210-A690-496D-A18E-EE823704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74B7-2AE5-4F0B-A62A-2AE4F524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F98D-4714-440E-84BE-370C7A69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138E-D2B6-40CB-9450-7C4BA8D5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92A7-FCA4-451F-B0D9-16CE6794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B9F2-2BE2-42E4-8625-20B1835C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8662-5007-45EA-82A9-FC180F29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DA8A-138E-4CD2-A9A7-F8DFDED4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E37-0EDD-46F5-BAA0-45100377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21B2-C68D-47C7-B495-652EB01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6C43-EFED-476B-B60F-E044C211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B885-6C2A-4F92-9891-E0F4FF1B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6415-D3D3-4086-AC80-9F562B4B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1568-D981-42BC-B77B-D57297C6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BB2-714C-4528-B646-155579B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07A-38D1-4DDD-B0F3-9BBED720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6FD-CB0E-4B48-9429-223D6D66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580-C525-4807-A19A-B0D32BD6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214-D6D3-415D-8854-B92A6E3D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255-47B4-4A60-BA0D-71F5BE5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058-1A7C-45E8-91FA-5BBF7956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D579-22FB-467B-8089-AD5E0F38E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735D-7B72-4698-9166-40A096EB3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 Repor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September 4, 2008 TAC Meeting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2286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l Ro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AC Voting Item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(approved at ROS August meeting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GRR2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ion of References to Back-to-Back Import Capac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7480" cy="419076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RR208, “Voltage Ride-Through (VRT) Require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es Wind Generation Resources, which are exempt from exist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nded back to OWG for additional work on grandfathering prov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Star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ed thoroughness of black start plan sim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simulation ability expected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ted to sponsor PRR proposing to extend Black Start selection cycle to two years to enable additional simulation and training of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rve Discount Factor (RDF)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d and approved reductions in RDF proposed by ERC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Entry Model (SEM) Approach Draft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orsed by 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WG Update:  Study of LaaR Capability for Current RRS Level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ort to tune dynamic govern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ently labor-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bined cycle governor models required considerable data tuning to match performance observed in historic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ing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 simulatio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 simulations, iterate as necessary – ERCO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results, write draft report, finalize report aft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to TAC expected 1Q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523880" y="2286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Lizzy</cp:lastModifiedBy>
  <dcterms:modified xsi:type="dcterms:W3CDTF">2008-09-01T20:43:42Z</dcterms:modified>
  <cp:revision>69</cp:revision>
  <dc:subject/>
  <dc:title>ROS’ Action Plan – Following Up on 2/26 EECP &amp; Wind Workshop Issues</dc:title>
</cp:coreProperties>
</file>