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6F8C-1F6D-4DB7-8C34-79A0D5644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4768-C3F0-4821-8069-51F0540DF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B0AF-647C-4B4C-B0E9-EA0FF7F16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4323-AAF3-4433-9D9F-9C35CC69A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671D-21B4-4B7C-A6C9-49EC9B6BB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0A4A-D1C9-46AA-B024-BE3762804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9D0B-BCDA-490A-ABDD-679DE92C3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9507-CD05-4AD8-9BF3-92D165D0F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86A0-B99F-4670-B252-B31ABDAB5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0930-C866-4B98-8E61-487C26327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137B-97BC-426D-95B5-36701FF6A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E695-B314-4306-888F-DC340E529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0D31-DCDB-4F69-A231-B07DC194C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1D4C-1861-47C9-B516-8023C7574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DCEC-6331-4E96-BAC2-955FA374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7EA1-0E00-4F51-B5C0-FCD32AA4B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eb Services Usag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llow-up from Integration Healthcheck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nsactions for week 5/14 – 5/20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nsactions for week 5/21 – 5/2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686800" cy="558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nsactions for week 5/28 – 6/4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686800" cy="558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ist of “get” transactions for week 5/28-6/4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32880"/>
          <a:stretch/>
        </p:blipFill>
        <p:spPr>
          <a:xfrm>
            <a:off x="380880" y="762120"/>
            <a:ext cx="4146840" cy="5486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0" t="67125" r="0" b="0"/>
          <a:stretch/>
        </p:blipFill>
        <p:spPr>
          <a:xfrm>
            <a:off x="4724280" y="1066680"/>
            <a:ext cx="4146840" cy="2687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24280" y="762120"/>
            <a:ext cx="4146840" cy="32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10880"/>
            <a:ext cx="868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itional detail on web service usag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1066680"/>
            <a:ext cx="3276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7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the healthcheck, the statement was made that the strategy is working externally, in April al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 “MPs” used ERCOT’s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7,000 total transactions (market submissions and inform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3% success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formation was requested to illustrate whether the market was exercising all of the services and therefore business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tail verifies the statements made at the time that most transactions were COP &amp; T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llowing results provide counts of success and failure by week for creating transactions of various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scale is logarithmic, X scale shows all transaction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bar indicates a successful transaction(T) &amp; unsuccessful transactions 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represented are counts of transactions, labeled as “Count of Created D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ouns (transaction types) are shown but the Verb is filtered to “create” because of the number of different types of “get” transa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slide contains a table of “get” transactions, illustrating the wide range of gets that are being retr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nsactions for week 3/26 – 4/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382240" cy="60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nsactions for week 4/2 – 4/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01000" cy="587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actions for week 4/9 – 4/15 Significantly increased volumes over previous week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077320" cy="583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nsactions for week 4/16 – 4/22.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484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actions for week 4/23 – 4/29.  Note windforecast services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nsactions for week 4/30 – 5/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305920" cy="534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nsactions for week 5/7 – 5/13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381880" cy="538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kerr</cp:lastModifiedBy>
  <dcterms:modified xsi:type="dcterms:W3CDTF">2008-06-05T17:09:59Z</dcterms:modified>
  <cp:revision>80</cp:revision>
  <dc:subject/>
  <dc:title>Instructions</dc:title>
</cp:coreProperties>
</file>