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1CF891-0248-4C3D-B738-341FDE631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7C8-03C6-4B74-8715-E6456DC3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85C-45C4-406C-A5AA-5940C72C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008-F4EC-4243-989B-DBBA2568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B03-435B-45D0-95DD-CEBD3B5A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335-13F3-47CD-8375-C6CA92AC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B1D-E094-421C-8853-4515DE6B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D5B-2061-46F2-81BD-B27E8196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F75-36D8-43A9-B82F-022753DA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FD2-8662-4DD0-8F45-A6DD6F12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02E-0F43-430C-8CD4-5CC145D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5BF-7F06-4210-969C-91ED4BD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BB1-2D64-42B5-AD0F-E15D8D5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329-2B8C-4B06-A2DD-BD53A07E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WMS August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/Aug Work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7/11, 7/22, 8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 Cap Issues for No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ing Limiting Element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s for 20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 Cap Progress &amp; Recomme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5455800"/>
            <a:ext cx="8229600" cy="109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WG Recommendation: Proceed to Implement Existing Syste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895480"/>
            <a:ext cx="701028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371600"/>
            <a:ext cx="1676160" cy="1295280"/>
          </a:xfrm>
          <a:prstGeom prst="wedgeRectCallout">
            <a:avLst>
              <a:gd name="adj1" fmla="val -35226"/>
              <a:gd name="adj2" fmla="val 6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8 Directed by WMS to look at SP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685440" y="3276720"/>
            <a:ext cx="1676520" cy="1218960"/>
          </a:xfrm>
          <a:prstGeom prst="wedgeRectCallout">
            <a:avLst>
              <a:gd name="adj1" fmla="val -2652"/>
              <a:gd name="adj2" fmla="val 73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08 ERCOT proposal, SP cap by kV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371600"/>
            <a:ext cx="2438280" cy="1295280"/>
          </a:xfrm>
          <a:prstGeom prst="wedgeRectCallout">
            <a:avLst>
              <a:gd name="adj1" fmla="val -39842"/>
              <a:gd name="adj2" fmla="val 6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/08 Alternate proposal for penalties based on degree of constraint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2590920" y="3276360"/>
            <a:ext cx="1752480" cy="1981080"/>
          </a:xfrm>
          <a:prstGeom prst="wedgeRectCallout">
            <a:avLst>
              <a:gd name="adj1" fmla="val -365"/>
              <a:gd name="adj2" fmla="val 64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6/08 Comments on ERCOT Proposal &amp; Discussion of Alternate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4495320" y="3276720"/>
            <a:ext cx="1676520" cy="1218960"/>
          </a:xfrm>
          <a:prstGeom prst="wedgeRectCallout">
            <a:avLst>
              <a:gd name="adj1" fmla="val -2652"/>
              <a:gd name="adj2" fmla="val 73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08 CMWG:  Implement Existing Sys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371600"/>
            <a:ext cx="1676520" cy="1295280"/>
          </a:xfrm>
          <a:prstGeom prst="wedgeRectCallout">
            <a:avLst>
              <a:gd name="adj1" fmla="val -35226"/>
              <a:gd name="adj2" fmla="val 6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08 Clarification on MMS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400440" y="3276720"/>
            <a:ext cx="1676520" cy="1218960"/>
          </a:xfrm>
          <a:prstGeom prst="wedgeRectCallout">
            <a:avLst>
              <a:gd name="adj1" fmla="val -2652"/>
              <a:gd name="adj2" fmla="val 73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27 CMWG:  Discuss SP Cap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ing Limiting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promised when PRR 764 was implemented in early J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element posting began on July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WMS Instructed to look at improvements to coordinating TO and wind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proposal from ERCOT to conduct economic evaluation process for outag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cceptance criteria depending on time ahead of outage that request was submitted and reliability/economic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is significant departure from exist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s divided on need and usefulness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 ERCOT to coordinate calls with concerned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hought – What about scheduling different requirements for 345 kV and 138 kV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tive Constra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d 2008 CSCs and found some that were not compet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s that failed have not yet been presented to CM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following up to identify the various definitions of "decision-making entity,” operator, etc. to compare and contrast the use so that MPs can clarify how ERCOT is to interpret “decision-making entity” for purposes of C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CS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not chang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he geographic regions are stable: West, North, South, Hou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hang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3 scenarios to WMS for vote – the next three presenters will cover the thre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_H, Singleton is not scheduled to be in-service until Ma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CS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280" y="1371600"/>
          <a:ext cx="8763120" cy="4038480"/>
        </p:xfrm>
        <a:graphic>
          <a:graphicData uri="http://schemas.openxmlformats.org/drawingml/2006/table">
            <a:tbl>
              <a:tblPr/>
              <a:tblGrid>
                <a:gridCol w="762120"/>
                <a:gridCol w="2895480"/>
                <a:gridCol w="2514600"/>
                <a:gridCol w="25909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nario 3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nario 3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enario 3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_H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ton-Obrien/ Singleton-TH Wharton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_S &amp; S_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ke Creek-Temple/ Tradinghouse-Temple Pecan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_N &amp; N_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ham-Benbrook/ Graham-Parker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ham-Long Creek/ Graham-Cook Field Road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etwater-Long Creek/ Abilene Mulberry Creek-Long Creek 345-kV double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Reliant-mw</dc:creator>
  <dc:description/>
  <dc:language>en-US</dc:language>
  <cp:lastModifiedBy>ercot/if</cp:lastModifiedBy>
  <dcterms:modified xsi:type="dcterms:W3CDTF">2008-08-15T19:05:55Z</dcterms:modified>
  <cp:revision>39</cp:revision>
  <dc:subject/>
  <dc:title>Congestion Management Work Group Update</dc:title>
</cp:coreProperties>
</file>