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5ECF-47A8-4D01-B90A-D23FBD39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CFCB-96BA-4C5F-8044-496571A5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89AB-3E09-4E3E-A3AB-6D1C3D48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DE14-8E90-42AA-AD89-F5C19DB4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65F9-F904-4E26-B025-8A8F949C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248-E013-4BBE-BAE6-898A0772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7CE-7705-4D82-A270-7948A37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E79C-272C-407C-A817-78706DE0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685-A16E-487B-993D-3CF78F1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5F83-875F-4777-B601-D7A47B9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EB9D-DB22-4283-991C-802374C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7CC4-FE30-44D0-BB77-0C8FB9B1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D86-8748-48F2-B37B-045A72C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910E-A30A-4B33-8C11-ADE81D3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E2AD-401C-4909-83D2-7B423ED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B9F-293E-4D4C-A878-9863E4A8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CD2F-3A68-4E53-883B-0283B475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9469-AFF8-48BC-B67B-150D5D3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D76A-A28D-49B3-9E17-B11DECF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2178-3462-4B37-A62E-79809392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3896-EB19-4257-A446-2DE83C3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9EEE-78C6-41FB-A507-15207AB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E589-F887-4E73-B28B-AA27608F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7097-FEC2-4F04-AB3F-3C05CE8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9E59-A2EA-45C2-8957-5183CC39F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68F-339E-449C-A60F-E1817CB9FA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gust 20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4F5-56FF-4FD8-8BC8-6E0810D60C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issions Meeting July 28, 2008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Reviewed comments on background pa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Group consensus that Emissions credits have val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.  Will take back to VCWG group for further discus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Meeting July 31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07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ERCOT would draft NPRR on section 4.4.9.2.3 (1) to reflect wind as a Generic Resource Category with O &amp; M  costs of $0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 NPRR for Emiss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.  Decision was to present the  FIP analysis to WMS for direction at a future meet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. ERCOT will update the VC Manual to detail process for calculating VC for CCP configurations with “alternate units.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8688-0125-41A6-8FDF-529041A208E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PTF Meeting July 28, 200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. Reviewed Verifiable Cost Implementation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7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Decision to wait until Nodal Implementation Date is release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.   NPRR 144 – 5 RUC Deploymen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7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Voted to change 12 month rolling period to calendar year and send to P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. NPRR – 145 PPA’s As Resource Specific V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 Received comments from LS Power and Relia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 Voted to send to PRS with no comme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44F2-C5BE-48F2-B1E2-71AF004BCC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Future Mee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PRR 145 and NPRR 144 will be presented to PRS on August 2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ill meet on 07/22/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F795F-AEBF-40D4-8DAB-CE60050323B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hlookado</cp:lastModifiedBy>
  <dcterms:modified xsi:type="dcterms:W3CDTF">2008-08-18T20:59:46Z</dcterms:modified>
  <cp:revision>250</cp:revision>
  <dc:subject/>
  <dc:title>Protocol Revision Subcommittee</dc:title>
</cp:coreProperties>
</file>