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F335-A2A2-4C57-84C1-3C3390D0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84E3-38F0-4332-8CE9-9F7C0E0F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5618-17A7-4DAD-A446-D95B8816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903F-1673-4DD9-8019-37750F2B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D8D8-DED7-4193-AC0F-A8F37397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AA1D-4E0F-4F1C-A955-B144763A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58EA-0BDC-44E5-BF82-C9C53275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3531-31D5-404D-A2D0-29C91A6F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8A0E-D23F-4F43-B894-E8EDFF2F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015D-F26D-4A98-8C55-71426CD8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92AE-AD64-4948-89FA-300D1D4F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322D-3A18-4FE4-A2F4-A5FAA7C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00C7-7B9E-40E9-AA1C-90598B5E1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F2E1-9535-4166-B7E5-8D1A43160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cal Congestion Cos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abel Fl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 August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rend of local congestion costs to determine impact of PRR764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shown in millions with values provided for June and Ju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PE tr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 August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C 2007 vs.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5720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80880" y="5181480"/>
          <a:ext cx="8153640" cy="1085760"/>
        </p:xfrm>
        <a:graphic>
          <a:graphicData uri="http://schemas.openxmlformats.org/drawingml/2006/table">
            <a:tbl>
              <a:tblPr/>
              <a:tblGrid>
                <a:gridCol w="838440"/>
                <a:gridCol w="1752480"/>
                <a:gridCol w="1981080"/>
                <a:gridCol w="1676520"/>
                <a:gridCol w="190512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 / 0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 / 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 / 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 / 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 / 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 / 3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 / 0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2 / 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 August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Down 2007 vs. 2008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495680" cy="4191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57200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5257800"/>
          <a:ext cx="8229600" cy="103356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 / 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 / 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/ 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3 / 2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 August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Down 2007 vs. 2008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419720" cy="403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572000" cy="40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5181480"/>
          <a:ext cx="8229600" cy="108432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 / 0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 / 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 / 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9 / 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 / 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/ 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 / 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 August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Up 2007 vs. 2008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34340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72428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457200" y="5105520"/>
          <a:ext cx="8229600" cy="110952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 / 0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 / 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 / 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 / 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 / 0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 / 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 / 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 / 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 August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Up 2007 vs. 2008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495680" cy="4343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57200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80880" y="5181480"/>
          <a:ext cx="8229600" cy="1112760"/>
        </p:xfrm>
        <a:graphic>
          <a:graphicData uri="http://schemas.openxmlformats.org/drawingml/2006/table">
            <a:tbl>
              <a:tblPr/>
              <a:tblGrid>
                <a:gridCol w="846360"/>
                <a:gridCol w="1768320"/>
                <a:gridCol w="2000160"/>
                <a:gridCol w="1692360"/>
                <a:gridCol w="1922400"/>
              </a:tblGrid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 / 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 / 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/ Jul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 / 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 / 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/ 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 / 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 August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cal Congestion Costs 2001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5181480"/>
          <a:ext cx="7238520" cy="1101960"/>
        </p:xfrm>
        <a:graphic>
          <a:graphicData uri="http://schemas.openxmlformats.org/drawingml/2006/table">
            <a:tbl>
              <a:tblPr/>
              <a:tblGrid>
                <a:gridCol w="1247760"/>
                <a:gridCol w="998640"/>
                <a:gridCol w="1330920"/>
                <a:gridCol w="1081800"/>
                <a:gridCol w="1331640"/>
                <a:gridCol w="1247760"/>
              </a:tblGrid>
              <a:tr h="32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D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ru Ju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u Ju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763120" cy="431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 August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CPE 2003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 August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/if</cp:lastModifiedBy>
  <dcterms:modified xsi:type="dcterms:W3CDTF">2008-08-20T06:27:17Z</dcterms:modified>
  <cp:revision>30</cp:revision>
  <dc:subject/>
  <dc:title>Instructions</dc:title>
</cp:coreProperties>
</file>