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58400" cy="77724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B235-18C4-4229-9DC3-5931131BF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EAE0-DE99-45FE-A56C-E8403DEF5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72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72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B6F2-8CE5-4064-A913-D5CB9E430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230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599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230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599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7774-4D43-4DC6-BDF8-40F282C75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72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8686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372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D37D-3EE3-43C5-8A36-7C5A4C065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372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372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372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372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372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30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99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30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99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6CE7-062E-4F2A-9BC0-13815C79A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72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6DD0-C60B-4BAC-A838-4EB388DC9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1194-A7BA-41D2-8B96-D55442777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8686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7A25-5D50-4D7E-A718-02583995B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72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C2BB-5C09-434E-A20F-8A6940E95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72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72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CC10-7DDE-4625-9230-9335A1A01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72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0A4B-67DC-4527-8D84-7E5116A34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58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000" tIns="0" bIns="18000" anchor="ctr">
            <a:noAutofit/>
          </a:bodyPr>
          <a:p>
            <a:endParaRPr b="0" lang="en-US" sz="2400" spc="-1" strike="noStrike">
              <a:solidFill>
                <a:srgbClr val="00453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marL="228600" indent="-228600">
              <a:lnSpc>
                <a:spcPct val="110000"/>
              </a:lnSpc>
              <a:spcBef>
                <a:spcPts val="349"/>
              </a:spcBef>
              <a:buClr>
                <a:srgbClr val="004538"/>
              </a:buClr>
              <a:buSzPct val="75000"/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10000"/>
              </a:lnSpc>
              <a:spcBef>
                <a:spcPts val="349"/>
              </a:spcBef>
              <a:buClr>
                <a:srgbClr val="004538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7160">
              <a:lnSpc>
                <a:spcPct val="110000"/>
              </a:lnSpc>
              <a:spcBef>
                <a:spcPts val="349"/>
              </a:spcBef>
              <a:buClr>
                <a:srgbClr val="004538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5720">
              <a:lnSpc>
                <a:spcPct val="110000"/>
              </a:lnSpc>
              <a:spcBef>
                <a:spcPts val="349"/>
              </a:spcBef>
              <a:buClr>
                <a:srgbClr val="004538"/>
              </a:buClr>
              <a:buFont typeface="Arial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lnSpc>
                <a:spcPct val="110000"/>
              </a:lnSpc>
              <a:spcBef>
                <a:spcPts val="349"/>
              </a:spcBef>
              <a:buClr>
                <a:srgbClr val="004538"/>
              </a:buClr>
              <a:buFont typeface="Wingdings" charset="2"/>
              <a:buChar char="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lnSpc>
                <a:spcPct val="110000"/>
              </a:lnSpc>
              <a:spcBef>
                <a:spcPts val="349"/>
              </a:spcBef>
              <a:buClr>
                <a:srgbClr val="004538"/>
              </a:buClr>
              <a:buFont typeface="Wingdings" charset="2"/>
              <a:buChar char="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lnSpc>
                <a:spcPct val="110000"/>
              </a:lnSpc>
              <a:spcBef>
                <a:spcPts val="349"/>
              </a:spcBef>
              <a:buClr>
                <a:srgbClr val="004538"/>
              </a:buClr>
              <a:buFont typeface="Wingdings" charset="2"/>
              <a:buChar char="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0" y="7000920"/>
            <a:ext cx="1005840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53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70102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453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99520" y="1068480"/>
            <a:ext cx="73080" cy="172800"/>
          </a:xfrm>
          <a:prstGeom prst="rect">
            <a:avLst/>
          </a:prstGeom>
          <a:solidFill>
            <a:srgbClr val="004538"/>
          </a:solidFill>
          <a:ln w="6480">
            <a:solidFill>
              <a:srgbClr val="0045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4538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066680"/>
            <a:ext cx="868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4538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4012920" y="7252920"/>
            <a:ext cx="2057400" cy="405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E2D3-8F0B-47A0-B07F-E7FEC7856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7086240"/>
            <a:ext cx="3962520" cy="685800"/>
            <a:chOff x="0" y="7086240"/>
            <a:chExt cx="3962520" cy="685800"/>
          </a:xfrm>
        </p:grpSpPr>
        <p:sp>
          <p:nvSpPr>
            <p:cNvPr id="9" name=""/>
            <p:cNvSpPr/>
            <p:nvPr/>
          </p:nvSpPr>
          <p:spPr>
            <a:xfrm flipV="1">
              <a:off x="0" y="7085880"/>
              <a:ext cx="39625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538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2"/>
            <a:stretch/>
          </p:blipFill>
          <p:spPr>
            <a:xfrm>
              <a:off x="654120" y="7257960"/>
              <a:ext cx="2241360" cy="18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0" y="7086240"/>
            <a:ext cx="3962520" cy="685800"/>
            <a:chOff x="0" y="7086240"/>
            <a:chExt cx="3962520" cy="685800"/>
          </a:xfrm>
        </p:grpSpPr>
        <p:sp>
          <p:nvSpPr>
            <p:cNvPr id="12" name=""/>
            <p:cNvSpPr/>
            <p:nvPr/>
          </p:nvSpPr>
          <p:spPr>
            <a:xfrm flipV="1">
              <a:off x="0" y="7085880"/>
              <a:ext cx="39625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538"/>
                </a:solidFill>
                <a:latin typeface="Times New Roman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3"/>
            <a:srcRect l="-656" t="-8389" r="-656" b="-8389"/>
            <a:stretch/>
          </p:blipFill>
          <p:spPr>
            <a:xfrm>
              <a:off x="681120" y="7250040"/>
              <a:ext cx="2193840" cy="198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a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0058400" cy="77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endParaRPr b="0" lang="en-US" sz="2400" spc="-1" strike="noStrike">
              <a:solidFill>
                <a:srgbClr val="004538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0320" y="1378080"/>
            <a:ext cx="588816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0320" y="1386000"/>
            <a:ext cx="357120" cy="4187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70000" y="2538360"/>
            <a:ext cx="8202600" cy="4029120"/>
          </a:xfrm>
          <a:prstGeom prst="rect">
            <a:avLst/>
          </a:prstGeom>
          <a:solidFill>
            <a:srgbClr val="004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538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914040"/>
            <a:ext cx="3021120" cy="3197160"/>
            <a:chOff x="685800" y="914040"/>
            <a:chExt cx="3021120" cy="3197160"/>
          </a:xfrm>
        </p:grpSpPr>
        <p:sp>
          <p:nvSpPr>
            <p:cNvPr id="55" name=""/>
            <p:cNvSpPr/>
            <p:nvPr/>
          </p:nvSpPr>
          <p:spPr>
            <a:xfrm flipV="1">
              <a:off x="696960" y="914040"/>
              <a:ext cx="0" cy="3197160"/>
            </a:xfrm>
            <a:prstGeom prst="line">
              <a:avLst/>
            </a:prstGeom>
            <a:ln w="2232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538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922320"/>
              <a:ext cx="3021120" cy="0"/>
            </a:xfrm>
            <a:prstGeom prst="line">
              <a:avLst/>
            </a:prstGeom>
            <a:ln w="1908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4538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1371240"/>
            <a:ext cx="8001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6705360"/>
            <a:ext cx="10058400" cy="1066680"/>
            <a:chOff x="0" y="6705360"/>
            <a:chExt cx="10058400" cy="1066680"/>
          </a:xfrm>
        </p:grpSpPr>
        <p:sp>
          <p:nvSpPr>
            <p:cNvPr id="59" name=""/>
            <p:cNvSpPr/>
            <p:nvPr/>
          </p:nvSpPr>
          <p:spPr>
            <a:xfrm flipV="1">
              <a:off x="0" y="6705000"/>
              <a:ext cx="1005840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538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428760" y="6934320"/>
              <a:ext cx="9232920" cy="46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0" y="6705360"/>
            <a:ext cx="10058400" cy="1066680"/>
            <a:chOff x="0" y="6705360"/>
            <a:chExt cx="10058400" cy="1066680"/>
          </a:xfrm>
        </p:grpSpPr>
        <p:sp>
          <p:nvSpPr>
            <p:cNvPr id="62" name=""/>
            <p:cNvSpPr/>
            <p:nvPr/>
          </p:nvSpPr>
          <p:spPr>
            <a:xfrm flipV="1">
              <a:off x="0" y="6705000"/>
              <a:ext cx="1005840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4538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5"/>
            <a:srcRect l="-656" t="-8389" r="-656" b="-8389"/>
            <a:stretch/>
          </p:blipFill>
          <p:spPr>
            <a:xfrm>
              <a:off x="3108240" y="6958080"/>
              <a:ext cx="3889440" cy="350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2819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53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453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538"/>
                </a:solidFill>
                <a:latin typeface="Arial"/>
              </a:rPr>
              <a:t>WMS Update</a:t>
            </a:r>
            <a:endParaRPr b="0" lang="en-US" sz="2400" spc="-1" strike="noStrike">
              <a:solidFill>
                <a:srgbClr val="00453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538"/>
                </a:solidFill>
                <a:latin typeface="Arial"/>
              </a:rPr>
              <a:t>Demand Side Working Group</a:t>
            </a:r>
            <a:endParaRPr b="0" lang="en-US" sz="2400" spc="-1" strike="noStrike">
              <a:solidFill>
                <a:srgbClr val="00453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53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538"/>
                </a:solidFill>
                <a:latin typeface="Arial"/>
              </a:rPr>
              <a:t>August 19, 2008</a:t>
            </a:r>
            <a:endParaRPr b="0" lang="en-US" sz="1600" spc="-1" strike="noStrike">
              <a:solidFill>
                <a:srgbClr val="004538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93200" y="6702480"/>
            <a:ext cx="16758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0" bIns="18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38"/>
                </a:solidFill>
                <a:latin typeface="Times New Roman"/>
              </a:rPr>
              <a:t>Mary Anne Brelinsky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13280" y="7253280"/>
            <a:ext cx="2057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DSWG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18360" anchor="t">
            <a:normAutofit/>
          </a:bodyPr>
          <a:p>
            <a:pPr marL="401760" indent="0">
              <a:lnSpc>
                <a:spcPct val="11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lnSpc>
                <a:spcPct val="11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lnSpc>
                <a:spcPct val="11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10000"/>
              </a:lnSpc>
              <a:spcBef>
                <a:spcPts val="601"/>
              </a:spcBef>
              <a:spcAft>
                <a:spcPts val="1049"/>
              </a:spcAft>
              <a:buClr>
                <a:srgbClr val="004538"/>
              </a:buClr>
              <a:buSzPct val="75000"/>
              <a:buFont typeface="Wingdings" charset="2"/>
              <a:buChar char="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4538"/>
                </a:solidFill>
                <a:latin typeface="Arial"/>
              </a:rPr>
              <a:t>Next DSWG Meeting currently scheduled for Friday, September 5</a:t>
            </a:r>
            <a:r>
              <a:rPr b="0" lang="en-US" sz="2400" spc="-1" strike="noStrike" baseline="30000">
                <a:solidFill>
                  <a:srgbClr val="004538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453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lnSpc>
                <a:spcPct val="11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0" y="152280"/>
            <a:ext cx="736560" cy="795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13280" y="7253280"/>
            <a:ext cx="2057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Side Working Group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0" y="152280"/>
            <a:ext cx="736560" cy="79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31056" t="27343" r="21119" b="28908"/>
          <a:stretch/>
        </p:blipFill>
        <p:spPr>
          <a:xfrm>
            <a:off x="685800" y="1219320"/>
            <a:ext cx="7696080" cy="5597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13280" y="7253280"/>
            <a:ext cx="2057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DSWG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0" y="152280"/>
            <a:ext cx="736560" cy="79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65200" y="1143000"/>
            <a:ext cx="8915400" cy="57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4013280" y="7253280"/>
            <a:ext cx="2057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C Capacity Short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0" y="152280"/>
            <a:ext cx="736560" cy="795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20497" t="15626" r="8077" b="21876"/>
          <a:stretch/>
        </p:blipFill>
        <p:spPr>
          <a:xfrm>
            <a:off x="914400" y="1143000"/>
            <a:ext cx="8229600" cy="5724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71280" y="7162920"/>
            <a:ext cx="4402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0" bIns="18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://www.ercot.com/calendar/2008/06/20080627-DSWG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13280" y="7253280"/>
            <a:ext cx="2057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JM Load Response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0" y="152280"/>
            <a:ext cx="736560" cy="795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21119" t="16405" r="4969" b="14065"/>
          <a:stretch/>
        </p:blipFill>
        <p:spPr>
          <a:xfrm>
            <a:off x="1066680" y="1143000"/>
            <a:ext cx="7696440" cy="5756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5320" y="7162920"/>
            <a:ext cx="4402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0" bIns="18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://www.ercot.com/calendar/2008/08/20080808-DSWG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13280" y="7253280"/>
            <a:ext cx="2057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Efficiency Project #276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0" y="152280"/>
            <a:ext cx="736560" cy="795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5320" y="7162920"/>
            <a:ext cx="4402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0" bIns="18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://www.ercot.com/calendar/2008/08/20080808-DSWG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9937" t="14844" r="8077" b="9376"/>
          <a:stretch/>
        </p:blipFill>
        <p:spPr>
          <a:xfrm>
            <a:off x="1143000" y="1150920"/>
            <a:ext cx="7696080" cy="565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13280" y="7253280"/>
            <a:ext cx="2057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RR with Zero Floor on R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0" y="152280"/>
            <a:ext cx="736560" cy="795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95320" y="7162920"/>
            <a:ext cx="4402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0" bIns="18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://www.ercot.com/calendar/2008/08/20080808-DSWG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1245" t="27256" r="30165" b="23047"/>
          <a:stretch/>
        </p:blipFill>
        <p:spPr>
          <a:xfrm>
            <a:off x="457200" y="132732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013280" y="7253280"/>
            <a:ext cx="2057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Participatio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0" y="152280"/>
            <a:ext cx="736560" cy="795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95320" y="7162920"/>
            <a:ext cx="4402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0" bIns="18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://www.ercot.com/calendar/2008/08/20080808-DSWG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14906" t="24220" r="12423" b="12500"/>
          <a:stretch/>
        </p:blipFill>
        <p:spPr>
          <a:xfrm>
            <a:off x="838080" y="1143000"/>
            <a:ext cx="8382240" cy="5802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013280" y="7253280"/>
            <a:ext cx="2057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Participation Update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0" y="152280"/>
            <a:ext cx="736560" cy="795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95320" y="7162920"/>
            <a:ext cx="4402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360" tIns="0" bIns="18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tp://www.ercot.com/calendar/2008/08/20080808-DSWG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14287" t="21093" r="11801" b="16405"/>
          <a:stretch/>
        </p:blipFill>
        <p:spPr>
          <a:xfrm>
            <a:off x="1143000" y="1328760"/>
            <a:ext cx="7772400" cy="522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13280" y="7253280"/>
            <a:ext cx="2057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453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7:01:15Z</dcterms:created>
  <dc:creator>mbrelins</dc:creator>
  <dc:description/>
  <dc:language>en-US</dc:language>
  <cp:lastModifiedBy>mbrelins</cp:lastModifiedBy>
  <dcterms:modified xsi:type="dcterms:W3CDTF">2008-08-20T00:22:16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B_TRACKING_NAME">
    <vt:lpwstr>\\leh\wam\users\HE\mbrelins\ERCOT\DSWG\2008 August\WMS DSWG Slides August 19 2008.ppt - mbrelins - 8/19/2008 7:22:16 PM</vt:lpwstr>
  </property>
  <property fmtid="{D5CDD505-2E9C-101B-9397-08002B2CF9AE}" pid="3" name="PBLBAFFILIATE">
    <vt:lpwstr>LEHMANBROTHERS</vt:lpwstr>
  </property>
  <property fmtid="{D5CDD505-2E9C-101B-9397-08002B2CF9AE}" pid="4" name="PBSLIDENUMBER">
    <vt:lpwstr>1</vt:lpwstr>
  </property>
  <property fmtid="{D5CDD505-2E9C-101B-9397-08002B2CF9AE}" pid="5" name="PBTOTALPAGES">
    <vt:lpwstr>0</vt:lpwstr>
  </property>
  <property fmtid="{D5CDD505-2E9C-101B-9397-08002B2CF9AE}" pid="6" name="SourceFileId">
    <vt:lpwstr>PresBuilder.pot</vt:lpwstr>
  </property>
  <property fmtid="{D5CDD505-2E9C-101B-9397-08002B2CF9AE}" pid="7" name="myVersion">
    <vt:lpwstr>1.2</vt:lpwstr>
  </property>
</Properties>
</file>