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D568-AA0E-4ABF-9A8C-CCC89DDD9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4F7F-185D-49CD-96CA-AE956756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A4C1-4D03-49F7-9115-6A125777E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F810-DC49-49DA-9858-0A59D217C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599F-6A76-45C4-BB87-238FB1621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1FDB-C8D4-4FF0-9FF2-2FC14803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9722-44E3-4D9C-A34D-21D30736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2666-304D-4A4D-A26C-9EC7E0E4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EF65-1238-433B-940B-D6E99225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F28E-7DC3-4B42-89D0-56D0164F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3899-C6F0-439F-A585-69221239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E5D8-2926-47FD-ABB1-4B840ECD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22B5-2F38-4853-B897-679C6267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E402-3530-49B0-A276-B199C6B8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D678-DC5F-4971-B498-7CE32443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9704-4CF8-4F94-83A3-B5042F8D0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2B5E-A8AE-4D01-BFE5-950CE8425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88FF-D149-4EE0-9DD0-CF414767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8064-B1F1-45EF-99DF-976EBF1C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FE36-614F-40A7-8D93-72EFD53E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1A68-84F4-49B7-9C53-0051D194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A33E-4FAB-46FE-85CB-0A70FC3E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399B-FB8F-4E4F-9B8E-44E8B031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85B1-74E0-419C-9E1D-3953FC0E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D67E-64AD-4633-AF13-4A93DA501F8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0585-DB9D-4C83-BEB8-BF0DF091301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CRR Credit Policy Task Force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MS Update – August 20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RR Obligation Margin Ad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PRR140 revises the $10 and $15 values to “X” and “Y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PRR discussions at TPTF we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ification of these values can be accomplished in the current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rther investigation is needed on the Rome system for ongoing credit val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PTF would defer to TAC as to the appropriate values of “X” and “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PTF would like this value reviewed at least ann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RR CPTF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R Auction Margin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to one adder in current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R values (risk) will vary wid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sold, credit risk is 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protection, auction margin should be “reasonably”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uture, systems may be modified (iterative or oth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R Ongoing Margin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e system currently not equipped to use more than on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cations in this system may be simpler than auction (due to inclusion in optimiz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rix or lookup table could be used to better match actual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lecting a Value for “X”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YISO uses an adder that varies based on timefr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600/MW – month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2000/MW – 6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500/MW - an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mber is based on analysis of risk using actual data and a threshold of 3% for one and six month rights, and 5% for annual rights (see study referenced belo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could adopt a similar approach for the start of the market (or some multiplier thereof recognizing higher offer ca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ce we gain experience a similar study could be performed on our market and the values reset appropr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6248520"/>
            <a:ext cx="754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nyiso.com/public/webdocs/committees/mc/meeting_materials/2007-10-24/mc_agenda_06_TCC_Credit_Presentation_final.pd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987C-815B-4E4A-95E2-F8A26C30A4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sidera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 six months of the market, auctions will only be for monthly instru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llowing this, a “balance of the year” auction will be h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carry reduced 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will be available for review prior to the annual a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 we should reset the value th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pos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the start of the market adopt a margin adder that is three times that of NYI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1800/MW for month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6000/MW * remaining months in the year/6 for the “balance of the year a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or to the first annual auction, a study process will be developed and studies will be run to establish the appropriate margin leve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3:51:15Z</dcterms:created>
  <dc:creator>greerc</dc:creator>
  <dc:description/>
  <dc:language>en-US</dc:language>
  <cp:lastModifiedBy>greerc</cp:lastModifiedBy>
  <dcterms:modified xsi:type="dcterms:W3CDTF">2008-08-13T16:24:13Z</dcterms:modified>
  <cp:revision>13</cp:revision>
  <dc:subject/>
  <dc:title>CRR Credit Policy Task For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qminfo">
    <vt:r8>7</vt:r8>
  </property>
  <property fmtid="{D5CDD505-2E9C-101B-9397-08002B2CF9AE}" pid="3" name="lqmsess">
    <vt:lpwstr>01c399ea-54db-400e-8ae9-04685f11ba4e</vt:lpwstr>
  </property>
</Properties>
</file>