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260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31160"/>
            <a:ext cx="3038400" cy="46368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31160"/>
            <a:ext cx="3038400" cy="46368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D172AB-4263-408A-BAA2-3B9D7810E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2600" y="696960"/>
            <a:ext cx="4648320" cy="3486240"/>
          </a:xfrm>
          <a:prstGeom prst="rect">
            <a:avLst/>
          </a:prstGeom>
          <a:ln w="0">
            <a:noFill/>
          </a:ln>
        </p:spPr>
      </p:sp>
      <p:sp>
        <p:nvSpPr>
          <p:cNvPr id="108" name="PlaceHolder 2"/>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on TAC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took lots of votes, but don’t have anything for TAC to vote on except the removal of  CREs – and I am not sure how that is getting to TAC (Me or B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henson – move to endorse removal of CREs per CMWG discussion (n-h, n-s, and s-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es not cover the W-N CREs (has ERCOT done anything with these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age coordination is a big nut to c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WG bring back recommendation if this project can be subdivided into smaller pieces, and what those migh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ll working on Shadow Cap proposals – no action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ll working on CSCs no proposal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SWG – mild loggerhead over zero Floor/split stack/proration below MC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SEWG – we endorsed a PRR requiring LSL be set to 10% of name plate for wind  - It is in the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 PRR limiting ramp rates for WGR when released from an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CWG – approved chair and vice chair and mission statement (report to TAC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n NPRR going to 5 RU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gave some guidance on how PPAs should be included in VC and then voted to endorse the NPR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the CRR transition plan which spells out how to reimburse auction revenues from annual and monthly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 PRR to allow ERCOT to have a procedure to change CSC shadow price cap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2600" y="696960"/>
            <a:ext cx="4648320" cy="3486240"/>
          </a:xfrm>
          <a:prstGeom prst="rect">
            <a:avLst/>
          </a:prstGeom>
          <a:ln w="0">
            <a:noFill/>
          </a:ln>
        </p:spPr>
      </p:sp>
      <p:sp>
        <p:nvSpPr>
          <p:cNvPr id="110" name="PlaceHolder 2"/>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on TAC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took lots of votes, but don’t have anything for TAC to vote on except the removal of  CREs – and I am not sure how that is getting to TAC (Me or B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henson – move to endorse removal of CREs per CMWG discussion (n-h, n-s, and s-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es not cover the W-N CREs (has ERCOT done anything with these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age coordination is a big nut to c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WG bring back recommendation if this project can be subdivided into smaller pieces, and what those migh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ll working on Shadow Cap proposals – no action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ll working on CSCs no proposal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SWG – mild loggerhead over zero Floor/split stack/proration below MC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SEWG – we endorsed a PRR requiring LSL be set to 10% of name plate for wind  - It is in the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 PRR limiting ramp rates for WGR when released from an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CWG – approved chair and vice chair and mission statement (report to TAC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n NPRR going to 5 RU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gave some guidance on how PPAs should be included in VC and then voted to endorse the NPR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the CRR transition plan which spells out how to reimburse auction revenues from annual and monthly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 PRR to allow ERCOT to have a procedure to change CSC shadow price cap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2600" y="696960"/>
            <a:ext cx="4648320" cy="3486240"/>
          </a:xfrm>
          <a:prstGeom prst="rect">
            <a:avLst/>
          </a:prstGeom>
          <a:ln w="0">
            <a:noFill/>
          </a:ln>
        </p:spPr>
      </p:sp>
      <p:sp>
        <p:nvSpPr>
          <p:cNvPr id="112" name="PlaceHolder 2"/>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on TAC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took lots of votes, but don’t have anything for TAC to vote on except the removal of  CREs – and I am not sure how that is getting to TAC (Me or B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henson – move to endorse removal of CREs per CMWG discussion (n-h, n-s, and s-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es not cover the W-N CREs (has ERCOT done anything with these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age coordination is a big nut to c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WG bring back recommendation if this project can be subdivided into smaller pieces, and what those migh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ll working on Shadow Cap proposals – no action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ll working on CSCs no proposal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SWG – mild loggerhead over zero Floor/split stack/proration below MC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SEWG – we endorsed a PRR requiring LSL be set to 10% of name plate for wind  - It is in the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 PRR limiting ramp rates for WGR when released from an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CWG – approved chair and vice chair and mission statement (report to TAC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n NPRR going to 5 RU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gave some guidance on how PPAs should be included in VC and then voted to endorse the NPR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the CRR transition plan which spells out how to reimburse auction revenues from annual and monthly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 PRR to allow ERCOT to have a procedure to change CSC shadow price cap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2600" y="696960"/>
            <a:ext cx="4648320" cy="3486240"/>
          </a:xfrm>
          <a:prstGeom prst="rect">
            <a:avLst/>
          </a:prstGeom>
          <a:ln w="0">
            <a:noFill/>
          </a:ln>
        </p:spPr>
      </p:sp>
      <p:sp>
        <p:nvSpPr>
          <p:cNvPr id="114" name="PlaceHolder 2"/>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on TAC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took lots of votes, but don’t have anything for TAC to vote on except the removal of  CREs – and I am not sure how that is getting to TAC (Me or B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henson – move to endorse removal of CREs per CMWG discussion (n-h, n-s, and s-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es not cover the W-N CREs (has ERCOT done anything with these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age coordination is a big nut to c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WG bring back recommendation if this project can be subdivided into smaller pieces, and what those migh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ll working on Shadow Cap proposals – no action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ll working on CSCs no proposal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SWG – mild loggerhead over zero Floor/split stack/proration below MC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SEWG – we endorsed a PRR requiring LSL be set to 10% of name plate for wind  - It is in the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 PRR limiting ramp rates for WGR when released from an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CWG – approved chair and vice chair and mission statement (report to TAC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n NPRR going to 5 RU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gave some guidance on how PPAs should be included in VC and then voted to endorse the NPR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the CRR transition plan which spells out how to reimburse auction revenues from annual and monthly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 PRR to allow ERCOT to have a procedure to change CSC shadow price cap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2600" y="696960"/>
            <a:ext cx="4648320" cy="3486240"/>
          </a:xfrm>
          <a:prstGeom prst="rect">
            <a:avLst/>
          </a:prstGeom>
          <a:ln w="0">
            <a:noFill/>
          </a:ln>
        </p:spPr>
      </p:sp>
      <p:sp>
        <p:nvSpPr>
          <p:cNvPr id="116" name="PlaceHolder 2"/>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on TAC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took lots of votes, but don’t have anything for TAC to vote on except the removal of  CREs – and I am not sure how that is getting to TAC (Me or B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henson – move to endorse removal of CREs per CMWG discussion (n-h, n-s, and s-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es not cover the W-N CREs (has ERCOT done anything with these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age coordination is a big nut to c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WG bring back recommendation if this project can be subdivided into smaller pieces, and what those migh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ll working on Shadow Cap proposals – no action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ll working on CSCs no proposal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SWG – mild loggerhead over zero Floor/split stack/proration below MC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SEWG – we endorsed a PRR requiring LSL be set to 10% of name plate for wind  - It is in the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 PRR limiting ramp rates for WGR when released from an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CWG – approved chair and vice chair and mission statement (report to TAC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n NPRR going to 5 RU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gave some guidance on how PPAs should be included in VC and then voted to endorse the NPR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the CRR transition plan which spells out how to reimburse auction revenues from annual and monthly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 PRR to allow ERCOT to have a procedure to change CSC shadow price cap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2600" y="696960"/>
            <a:ext cx="4648320" cy="3486240"/>
          </a:xfrm>
          <a:prstGeom prst="rect">
            <a:avLst/>
          </a:prstGeom>
          <a:ln w="0">
            <a:noFill/>
          </a:ln>
        </p:spPr>
      </p:sp>
      <p:sp>
        <p:nvSpPr>
          <p:cNvPr id="118" name="PlaceHolder 2"/>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on TAC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took lots of votes, but don’t have anything for TAC to vote on except the removal of  CREs – and I am not sure how that is getting to TAC (Me or B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henson – move to endorse removal of CREs per CMWG discussion (n-h, n-s, and s-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es not cover the W-N CREs (has ERCOT done anything with these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age coordination is a big nut to c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WG bring back recommendation if this project can be subdivided into smaller pieces, and what those migh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ll working on Shadow Cap proposals – no action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ll working on CSCs no proposal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SWG – mild loggerhead over zero Floor/split stack/proration below MC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SEWG – we endorsed a PRR requiring LSL be set to 10% of name plate for wind  - It is in the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 PRR limiting ramp rates for WGR when released from an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CWG – approved chair and vice chair and mission statement (report to TAC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n NPRR going to 5 RU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gave some guidance on how PPAs should be included in VC and then voted to endorse the NPR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the CRR transition plan which spells out how to reimburse auction revenues from annual and monthly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 PRR to allow ERCOT to have a procedure to change CSC shadow price cap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2600" y="696960"/>
            <a:ext cx="4648320" cy="3486240"/>
          </a:xfrm>
          <a:prstGeom prst="rect">
            <a:avLst/>
          </a:prstGeom>
          <a:ln w="0">
            <a:noFill/>
          </a:ln>
        </p:spPr>
      </p:sp>
      <p:sp>
        <p:nvSpPr>
          <p:cNvPr id="120" name="PlaceHolder 2"/>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on TAC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took lots of votes, but don’t have anything for TAC to vote on except the removal of  CREs – and I am not sure how that is getting to TAC (Me or B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henson – move to endorse removal of CREs per CMWG discussion (n-h, n-s, and s-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es not cover the W-N CREs (has ERCOT done anything with these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age coordination is a big nut to c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WG bring back recommendation if this project can be subdivided into smaller pieces, and what those migh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ll working on Shadow Cap proposals – no action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ll working on CSCs no proposal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SWG – mild loggerhead over zero Floor/split stack/proration below MC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SEWG – we endorsed a PRR requiring LSL be set to 10% of name plate for wind  - It is in the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 PRR limiting ramp rates for WGR when released from an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CWG – approved chair and vice chair and mission statement (report to TAC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n NPRR going to 5 RU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gave some guidance on how PPAs should be included in VC and then voted to endorse the NPR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the CRR transition plan which spells out how to reimburse auction revenues from annual and monthly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 PRR to allow ERCOT to have a procedure to change CSC shadow price cap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2600" y="696960"/>
            <a:ext cx="4648320" cy="3486240"/>
          </a:xfrm>
          <a:prstGeom prst="rect">
            <a:avLst/>
          </a:prstGeom>
          <a:ln w="0">
            <a:noFill/>
          </a:ln>
        </p:spPr>
      </p:sp>
      <p:sp>
        <p:nvSpPr>
          <p:cNvPr id="122" name="PlaceHolder 2"/>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on TAC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took lots of votes, but don’t have anything for TAC to vote on except the removal of  CREs – and I am not sure how that is getting to TAC (Me or B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henson – move to endorse removal of CREs per CMWG discussion (n-h, n-s, and s-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es not cover the W-N CREs (has ERCOT done anything with these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age coordination is a big nut to c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WG bring back recommendation if this project can be subdivided into smaller pieces, and what those migh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ll working on Shadow Cap proposals – no action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ll working on CSCs no proposal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SWG – mild loggerhead over zero Floor/split stack/proration below MC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SEWG – we endorsed a PRR requiring LSL be set to 10% of name plate for wind  - It is in the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 PRR limiting ramp rates for WGR when released from an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CWG – approved chair and vice chair and mission statement (report to TAC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n NPRR going to 5 RU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gave some guidance on how PPAs should be included in VC and then voted to endorse the NPR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the CRR transition plan which spells out how to reimburse auction revenues from annual and monthly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endorsed a PRR to allow ERCOT to have a procedure to change CSC shadow price ca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656FF-5528-47C2-ABCF-AD76B2EBD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D547D-5009-49BC-8377-1D1089E9F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9CA94-4D96-4C0B-B4A9-AD20FFD53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8C218-9CDA-4D4C-A612-A49664E92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6449CF-D2B8-456F-A094-DF4312C8B0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43D65-6254-4EB2-94E3-079935A8F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B1F42-A318-41E6-BA1B-98F12F3C3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21C4D-8BA3-4EA7-A848-F25A7BA61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D6420-C647-4EAF-ACBE-03449CAE9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3F25C-3948-4057-B8CD-0B8B0DAF7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E3BA0-1744-4361-A649-E19006D00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6AFEF-1489-4503-B5E0-E1F582783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EDC60-9A2A-459D-B9E1-A3B3F79C7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2D476-4F11-4A81-84F8-52DF3B26A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D6199-04EC-4930-A236-703406987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FA3E3E-AC2B-430E-A12C-C5F2B2C8F4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7B9CC3-5CBB-4A78-8055-74DD008FF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C5317-2847-460A-9535-427B80135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6F551-451A-4CAF-A0A4-E0F49F78C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0CEB5-55D6-4E9C-B3DE-F026ED0E4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85DA6-0526-4D62-9DE4-A8F713325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40AE4-A6DC-46F5-9908-991AF2E43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CD59F-CFF8-43EB-A9DF-2B9F7727A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291BA-F798-4B4C-91E0-A640D737B3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993A2-8ECB-4873-A563-3D67F24B2E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AE66-0391-4D31-8C5D-1A8F8A5B5A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Tahoma"/>
              </a:rPr>
              <a:t>2009 West to North </a:t>
            </a:r>
            <a:br>
              <a:rPr sz="3200"/>
            </a:br>
            <a:r>
              <a:rPr b="1" lang="en-US" sz="3200" spc="-1" strike="noStrike">
                <a:solidFill>
                  <a:srgbClr val="e5ffff"/>
                </a:solidFill>
                <a:latin typeface="Tahoma"/>
              </a:rPr>
              <a:t>CSC Location</a:t>
            </a:r>
            <a:br>
              <a:rPr sz="3200"/>
            </a:br>
            <a:r>
              <a:rPr b="1" lang="en-US" sz="4400" spc="-1" strike="noStrike">
                <a:solidFill>
                  <a:srgbClr val="e5ffff"/>
                </a:solidFill>
                <a:latin typeface="Tahoma"/>
              </a:rPr>
              <a:t>Scenario 3b</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9907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MS</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ugust 20, 2008</a:t>
            </a:r>
            <a:endParaRPr b="0" lang="en-US" sz="2800" spc="-1" strike="noStrike">
              <a:solidFill>
                <a:srgbClr val="ffffff"/>
              </a:solidFill>
              <a:latin typeface="Tahoma"/>
            </a:endParaRPr>
          </a:p>
        </p:txBody>
      </p:sp>
      <p:sp>
        <p:nvSpPr>
          <p:cNvPr id="4" name="PlaceHolder 3"/>
          <p:cNvSpPr>
            <a:spLocks noGrp="1"/>
          </p:cNvSpPr>
          <p:nvPr>
            <p:ph type="sldNum" idx="6"/>
          </p:nvPr>
        </p:nvSpPr>
        <p:spPr/>
        <p:txBody>
          <a:bodyPr/>
          <a:p>
            <a:fld id="{E5EEA09F-A3AE-43E7-9E4C-0E261B33321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cenario 3b</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ince Inception of Market in 2001 through 2008 the W-N CSC has been the double circuit 345kV Line Graham-Parker/Graham-Benbrook.</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efore fall of 2007, the W-N CSC experienced little or no congestion.</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ind generation additions have altered the situation with frequent congestion expected to persist well into Nodal Market operations.</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9CFCE7EC-7A5E-4CA5-99DA-8CA31D45B8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cenario 3b</a:t>
            </a: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rguments for moving the W-N CSC to the west of Graha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uminan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a:t>
            </a:r>
            <a:r>
              <a:rPr b="1" i="1" lang="en-US" sz="2000" spc="-1" strike="noStrike">
                <a:solidFill>
                  <a:srgbClr val="ffffff"/>
                </a:solidFill>
                <a:latin typeface="Tahoma"/>
              </a:rPr>
              <a:t>The 2009 summer peak case shows a substation that is being installed between Graham and Long Creek, called the Cook Field station, …</a:t>
            </a: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There is a new 165 MW wind facility that will connect to this station.</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The station is scheduled to be completed in October 2008, thus be operational the entire 2009 calendar year.</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The </a:t>
            </a:r>
            <a:r>
              <a:rPr b="0" i="1" lang="en-US" sz="1800" spc="-1" strike="noStrike">
                <a:solidFill>
                  <a:srgbClr val="ffffff"/>
                </a:solidFill>
                <a:latin typeface="Tahoma"/>
              </a:rPr>
              <a:t>possibility </a:t>
            </a:r>
            <a:r>
              <a:rPr b="1" i="1" lang="en-US" sz="1800" spc="-1" strike="noStrike">
                <a:solidFill>
                  <a:srgbClr val="ffffff"/>
                </a:solidFill>
                <a:latin typeface="Tahoma"/>
              </a:rPr>
              <a:t>that the currently constraining element from Abilene Mulberry Creek to Long Creek will move to the Graham to Cook Field line section once the new station and wind generation are both installed</a:t>
            </a:r>
            <a:r>
              <a:rPr b="0" lang="en-US" sz="1800" spc="-1" strike="noStrike">
                <a:solidFill>
                  <a:srgbClr val="ffffff"/>
                </a:solidFill>
                <a:latin typeface="Tahoma"/>
              </a:rPr>
              <a:t> </a:t>
            </a:r>
            <a:r>
              <a:rPr b="1" i="1" lang="en-US" sz="1800" spc="-1" strike="noStrike">
                <a:solidFill>
                  <a:srgbClr val="ffffff"/>
                </a:solidFill>
                <a:latin typeface="Tahoma"/>
              </a:rPr>
              <a:t>”</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22A0C452-4D59-41CC-81A6-542D8F09C5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cenario 3b</a:t>
            </a:r>
            <a:endParaRPr b="0" lang="en-US" sz="44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rguments for moving the W-N CSC to the west of Graham:</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uminan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a:t>
            </a:r>
            <a:r>
              <a:rPr b="1" i="1" lang="en-US" sz="2400" spc="-1" strike="noStrike">
                <a:solidFill>
                  <a:srgbClr val="ffffff"/>
                </a:solidFill>
                <a:latin typeface="Tahoma"/>
              </a:rPr>
              <a:t>Most money spent (&gt;47 millio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47 million reflects contingencies on </a:t>
            </a:r>
            <a:r>
              <a:rPr b="1" i="1" lang="en-US" sz="2400" spc="-1" strike="noStrike" u="sng">
                <a:solidFill>
                  <a:srgbClr val="ffffff"/>
                </a:solidFill>
                <a:uFillTx/>
                <a:latin typeface="Tahoma"/>
              </a:rPr>
              <a:t>Fisher Road – Oklaunion &amp; Bowman</a:t>
            </a:r>
            <a:r>
              <a:rPr b="1" i="1" lang="en-US" sz="2400" spc="-1" strike="noStrike">
                <a:solidFill>
                  <a:srgbClr val="ffffff"/>
                </a:solidFill>
                <a:latin typeface="Tahoma"/>
              </a:rPr>
              <a:t> associated with outages for reconductoring of static wire for Graham – Long Creek and Graham – Sweetwater etc. that lasted from 2/4/2008 through 4/13/2008.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AB10595-BAE3-41CB-9851-14FC71A6BE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cenario 3b</a:t>
            </a:r>
            <a:endParaRPr b="0" lang="en-US" sz="44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rguments for moving the W-N CSC to the west of Graha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Direct Energy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a:t>
            </a:r>
            <a:r>
              <a:rPr b="1" i="1" lang="en-US" sz="2000" spc="-1" strike="noStrike">
                <a:solidFill>
                  <a:srgbClr val="ffffff"/>
                </a:solidFill>
                <a:latin typeface="Tahoma"/>
              </a:rPr>
              <a:t>After reviewing Scenarios #3d, 3e, and 5, DE believes it might be time to look at the West in another light.  We would like to consider scenarios with five zones and the following CSCs:</a:t>
            </a:r>
            <a:endParaRPr b="0" lang="en-US" sz="20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1) Singleton - THW/O'Brien</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2) Tradinghouse / Lake Creek - Temple / Pecan Creek</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3) Graham - Parker / Benbrook</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4) either:</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Graham - Tonkawa</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Graham - Murray</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Paint Creek – Radium”</a:t>
            </a:r>
            <a:endParaRPr b="0" lang="en-US" sz="1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A68BAC8F-AA4A-4BA0-9ADA-9811C79990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cenario 3b</a:t>
            </a: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rguments for not changing the CSC (Scenario 3b):</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ERCO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At the 8/1 CMWG meeting ERCOT endorsed the existing W-N CSC as its recommendation.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When asked for supporting reasons, ERCOT representatives stated that under some circumstances , if the CSC is located west of Graham, the generation at Graham may receive the wrong price signal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ERCOT stated also that the limiting element for W-N dynamic stability remains East of Graha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82103477-D5A8-4F8B-8BCB-9905F9F2AF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cenario 3b</a:t>
            </a:r>
            <a:endParaRPr b="0" lang="en-US" sz="44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rguments for not changing the CSC (Scenario 3b):</a:t>
            </a:r>
            <a:endParaRPr b="0" lang="en-US" sz="24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f the CSC is moved, this will displace load to the North from Jan. 1 </a:t>
            </a:r>
            <a:r>
              <a:rPr b="1" i="1" lang="en-US" sz="2400" spc="-1" strike="noStrike">
                <a:solidFill>
                  <a:srgbClr val="ffffff"/>
                </a:solidFill>
                <a:latin typeface="Tahoma"/>
              </a:rPr>
              <a:t>until</a:t>
            </a:r>
            <a:r>
              <a:rPr b="1" lang="en-US" sz="2400" spc="-1" strike="noStrike">
                <a:solidFill>
                  <a:srgbClr val="ffffff"/>
                </a:solidFill>
                <a:latin typeface="Tahoma"/>
              </a:rPr>
              <a:t> the implementation of the Nodal market, it will then revert to the West zon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Nodal Protocol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3.4.1(2): </a:t>
            </a:r>
            <a:r>
              <a:rPr b="1" i="1" lang="en-US" sz="1800" spc="-1" strike="noStrike">
                <a:solidFill>
                  <a:srgbClr val="ffffff"/>
                </a:solidFill>
                <a:latin typeface="Tahoma"/>
              </a:rPr>
              <a:t>The Competitive Load Zones are the four zones in effect during the 2003 ERCOT market …</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3.4.2: </a:t>
            </a:r>
            <a:r>
              <a:rPr b="1" i="1" lang="en-US" sz="1800" spc="-1" strike="noStrike">
                <a:solidFill>
                  <a:srgbClr val="ffffff"/>
                </a:solidFill>
                <a:latin typeface="Tahoma"/>
              </a:rPr>
              <a:t>Load Zones may be added, deleted, or changed, only when approved by the ERCOT Board</a:t>
            </a:r>
            <a:r>
              <a:rPr b="0" lang="en-US" sz="1800" spc="-1" strike="noStrike">
                <a:solidFill>
                  <a:srgbClr val="ffffff"/>
                </a:solidFill>
                <a:latin typeface="Tahoma"/>
              </a:rPr>
              <a:t> </a:t>
            </a:r>
            <a:r>
              <a:rPr b="1" i="1" lang="en-US" sz="1800" spc="-1" strike="noStrike">
                <a:solidFill>
                  <a:srgbClr val="ffffff"/>
                </a:solidFill>
                <a:latin typeface="Tahoma"/>
              </a:rPr>
              <a:t>….Approved additions, deletions, or changes go into effect 36 months after the end of the month in which the addition, deletion, or change was approved.</a:t>
            </a:r>
            <a:r>
              <a:rPr b="0" i="1"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68AE53A6-D952-4DC3-A0E3-038194C51C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cenario 3b</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rguments for not changing the CSC (Scenario 3b):</a:t>
            </a:r>
            <a:endParaRPr b="0" lang="en-US" sz="24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Proposal 3b is based upon the same W-N CSC as 2003, thus the movement in load from the West zone to the North Zone will be minimal (estimated 9MW.)</a:t>
            </a:r>
            <a:endParaRPr b="0" lang="en-US" sz="2400" spc="-1" strike="noStrike">
              <a:solidFill>
                <a:srgbClr val="ffffff"/>
              </a:solidFill>
              <a:latin typeface="Tahoma"/>
            </a:endParaRPr>
          </a:p>
          <a:p>
            <a:pPr marL="343080" indent="-343080">
              <a:lnSpc>
                <a:spcPct val="80000"/>
              </a:lnSpc>
              <a:spcBef>
                <a:spcPts val="601"/>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posal 3g will temporarily relocate 766 MW of load from West to North (20% of the current West zone load.)</a:t>
            </a:r>
            <a:endParaRPr b="0" lang="en-US" sz="2400" spc="-1" strike="noStrike">
              <a:solidFill>
                <a:srgbClr val="ffffff"/>
              </a:solidFill>
              <a:latin typeface="Tahoma"/>
            </a:endParaRPr>
          </a:p>
          <a:p>
            <a:pPr marL="343080" indent="-343080">
              <a:lnSpc>
                <a:spcPct val="80000"/>
              </a:lnSpc>
              <a:spcBef>
                <a:spcPts val="601"/>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posal 3h will temporarily relocate 785 MW of load from the West to North (20% of the current West zone loa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6A9A918-D49E-4547-8967-EBEC97DDE8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cenario 3b</a:t>
            </a:r>
            <a:endParaRPr b="0" lang="en-US" sz="44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rguments for not changing the CSC (Scenario 3b):</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neration at Graham has historically been included in the West zone, in part because of competitiveness concern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mpetition appears to have grown because of the addition of West zone wind generation.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owever, Wind generation can compete to resolve West to North congestion, but cannot compete to resolve North to West congestion if the wind does not blow.</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0D96F0A-9B94-4D55-A2CD-1025D7A6B3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jclevenger</cp:lastModifiedBy>
  <dcterms:modified xsi:type="dcterms:W3CDTF">2008-08-19T22:14:07Z</dcterms:modified>
  <cp:revision>132</cp:revision>
  <dc:subject/>
  <dc:title>WMS Report TO TAC</dc:title>
</cp:coreProperties>
</file>