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A419BC6-1AEA-45D7-B898-172694E34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C93947-C934-4037-91E3-DDF6E4F8F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B15EBFC-C6C7-4D83-9457-1A0CC88BB5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0F19860-9E3F-466C-87FD-5F8321A51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AA3D89-B826-4A56-A159-EBA5B7D62C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E55342-68CE-45CE-9633-FDBA3D7A6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352399-E8AD-400E-BD4F-00440F187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DFDBEC5-E021-4CE6-B6A7-4AD277192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3E4E02-4AFC-40F1-AAA2-BFF6AC4BD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87A674-E693-4EA4-9C1B-34F206051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79B253-7406-4286-9BD9-70876C04E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7ADDBD-1068-41BF-847C-3C1277B5A8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EE75-F2AD-4912-90C5-1AC2DADBF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arket Credit Risk Standard</a:t>
            </a:r>
            <a:br>
              <a:rPr sz="3200"/>
            </a:br>
            <a:r>
              <a:rPr b="0" lang="en-US" sz="2000" spc="-1" strike="noStrike">
                <a:solidFill>
                  <a:srgbClr val="ffffff"/>
                </a:solidFill>
                <a:latin typeface="Arial Black"/>
              </a:rPr>
              <a:t>Key components</a:t>
            </a:r>
            <a:endParaRPr b="0" lang="en-US" sz="2000" spc="-1" strike="noStrike">
              <a:solidFill>
                <a:srgbClr val="ffffff"/>
              </a:solidFill>
              <a:latin typeface="Arial Black"/>
            </a:endParaRPr>
          </a:p>
        </p:txBody>
      </p:sp>
      <p:sp>
        <p:nvSpPr>
          <p:cNvPr id="90"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eryl Yager</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gust 20, 2008</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 June 27</a:t>
            </a:r>
            <a:r>
              <a:rPr b="0" lang="en-US" sz="1800" spc="-1" strike="noStrike" baseline="30000">
                <a:solidFill>
                  <a:srgbClr val="000000"/>
                </a:solidFill>
                <a:latin typeface="Arial"/>
              </a:rPr>
              <a:t>th</a:t>
            </a:r>
            <a:r>
              <a:rPr b="0" lang="en-US" sz="1800" spc="-1" strike="noStrike">
                <a:solidFill>
                  <a:srgbClr val="000000"/>
                </a:solidFill>
                <a:latin typeface="Arial"/>
              </a:rPr>
              <a:t> – ERCOT staff distribute Market Credit Risk Standard (reporting standard) draft to CWG</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July 7</a:t>
            </a:r>
            <a:r>
              <a:rPr b="0" lang="en-US" sz="1800" spc="-1" strike="noStrike" baseline="30000">
                <a:solidFill>
                  <a:srgbClr val="000000"/>
                </a:solidFill>
                <a:latin typeface="Arial"/>
              </a:rPr>
              <a:t>th</a:t>
            </a:r>
            <a:r>
              <a:rPr b="0" lang="en-US" sz="1800" spc="-1" strike="noStrike">
                <a:solidFill>
                  <a:srgbClr val="000000"/>
                </a:solidFill>
                <a:latin typeface="Arial"/>
              </a:rPr>
              <a:t> – ERCOT staff distribute draft Standard to TAC, WMS and RMS</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July 31</a:t>
            </a:r>
            <a:r>
              <a:rPr b="0" lang="en-US" sz="1800" spc="-1" strike="noStrike" baseline="30000">
                <a:solidFill>
                  <a:srgbClr val="000000"/>
                </a:solidFill>
                <a:latin typeface="Arial"/>
              </a:rPr>
              <a:t>st</a:t>
            </a:r>
            <a:r>
              <a:rPr b="0" lang="en-US" sz="1800" spc="-1" strike="noStrike">
                <a:solidFill>
                  <a:srgbClr val="000000"/>
                </a:solidFill>
                <a:latin typeface="Arial"/>
              </a:rPr>
              <a:t> - Comments due on the Standard draft (first round)</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ug 13 – Review draft Standard with RMS at their regular meeting</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rsday, Aug 14</a:t>
            </a:r>
            <a:r>
              <a:rPr b="1" lang="en-US" sz="1800" spc="-1" strike="noStrike" baseline="30000">
                <a:solidFill>
                  <a:srgbClr val="000000"/>
                </a:solidFill>
                <a:latin typeface="Arial"/>
              </a:rPr>
              <a:t> </a:t>
            </a:r>
            <a:r>
              <a:rPr b="1" lang="en-US" sz="1800" spc="-1" strike="noStrike">
                <a:solidFill>
                  <a:srgbClr val="000000"/>
                </a:solidFill>
                <a:latin typeface="Arial"/>
              </a:rPr>
              <a:t> – Review draft Standard with CWG at their August meeting</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ug 20 – Review draft Standard with WMS at their regular meeting</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9480" indent="-3394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 August 29</a:t>
            </a:r>
            <a:r>
              <a:rPr b="0" lang="en-US" sz="1800" spc="-1" strike="noStrike" baseline="30000">
                <a:solidFill>
                  <a:srgbClr val="000000"/>
                </a:solidFill>
                <a:latin typeface="Arial"/>
              </a:rPr>
              <a:t>th</a:t>
            </a:r>
            <a:r>
              <a:rPr b="0" lang="en-US" sz="1800" spc="-1" strike="noStrike">
                <a:solidFill>
                  <a:srgbClr val="000000"/>
                </a:solidFill>
                <a:latin typeface="Arial"/>
              </a:rPr>
              <a:t> – Comments due (fina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 </a:t>
            </a:r>
            <a:r>
              <a:rPr b="0" lang="en-US" sz="1400" spc="-1" strike="noStrike">
                <a:solidFill>
                  <a:srgbClr val="ffffff"/>
                </a:solidFill>
                <a:latin typeface="Arial Black"/>
              </a:rPr>
              <a:t>(cont)</a:t>
            </a:r>
            <a:endParaRPr b="0" lang="en-US" sz="1400" spc="-1" strike="noStrike">
              <a:solidFill>
                <a:srgbClr val="ffffff"/>
              </a:solidFill>
              <a:latin typeface="Arial Black"/>
            </a:endParaRPr>
          </a:p>
        </p:txBody>
      </p:sp>
      <p:sp>
        <p:nvSpPr>
          <p:cNvPr id="1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 Sept xx – Review draft Standard and final comments with CWG at their September meeting</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Sept 10</a:t>
            </a:r>
            <a:r>
              <a:rPr b="0" lang="en-US" sz="1800" spc="-1" strike="noStrike" baseline="30000">
                <a:solidFill>
                  <a:srgbClr val="000000"/>
                </a:solidFill>
                <a:latin typeface="Arial"/>
              </a:rPr>
              <a:t>th</a:t>
            </a:r>
            <a:r>
              <a:rPr b="0" lang="en-US" sz="1800" spc="-1" strike="noStrike">
                <a:solidFill>
                  <a:srgbClr val="000000"/>
                </a:solidFill>
                <a:latin typeface="Arial"/>
              </a:rPr>
              <a:t> – RMS review final comments at their regular meeting</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nesday, Sept 17</a:t>
            </a:r>
            <a:r>
              <a:rPr b="0" lang="en-US" sz="1800" spc="-1" strike="noStrike" baseline="30000">
                <a:solidFill>
                  <a:srgbClr val="000000"/>
                </a:solidFill>
                <a:latin typeface="Arial"/>
              </a:rPr>
              <a:t>th</a:t>
            </a:r>
            <a:r>
              <a:rPr b="0" lang="en-US" sz="1800" spc="-1" strike="noStrike">
                <a:solidFill>
                  <a:srgbClr val="000000"/>
                </a:solidFill>
                <a:latin typeface="Arial"/>
              </a:rPr>
              <a:t> – WMS review final comments at their regular meeting</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Oct 2</a:t>
            </a:r>
            <a:r>
              <a:rPr b="0" lang="en-US" sz="1800" spc="-1" strike="noStrike" baseline="30000">
                <a:solidFill>
                  <a:srgbClr val="000000"/>
                </a:solidFill>
                <a:latin typeface="Arial"/>
              </a:rPr>
              <a:t>nd</a:t>
            </a:r>
            <a:r>
              <a:rPr b="0" lang="en-US" sz="1800" spc="-1" strike="noStrike">
                <a:solidFill>
                  <a:srgbClr val="000000"/>
                </a:solidFill>
                <a:latin typeface="Arial"/>
              </a:rPr>
              <a:t> – TAC review final draft</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esday, Oct 21</a:t>
            </a:r>
            <a:r>
              <a:rPr b="0" lang="en-US" sz="1800" spc="-1" strike="noStrike" baseline="30000">
                <a:solidFill>
                  <a:srgbClr val="000000"/>
                </a:solidFill>
                <a:latin typeface="Arial"/>
              </a:rPr>
              <a:t>st</a:t>
            </a:r>
            <a:r>
              <a:rPr b="0" lang="en-US" sz="1800" spc="-1" strike="noStrike">
                <a:solidFill>
                  <a:srgbClr val="000000"/>
                </a:solidFill>
                <a:latin typeface="Arial"/>
              </a:rPr>
              <a:t> – present draft Standard to F&amp;A</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have a Market Credit Risk Standar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an entity default vs impact of a market default</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re we in the proces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included in the draft Standar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headings in the draft Standar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icture goals / guiding principals</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specific components in draft Standar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y have a Market Credit Risk Standard?</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oard of Directors requested it</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ommon basis for understanding risk in the market and how that risk will be managed</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isting market participants, potential new entrants, PUCT, and other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es good risk management practice</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good risk management practice to set standards around key risks and measure, monitor and manage these risk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what almost all larger corporate entities hav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s the risk of surprises and increases the ability to address risks in advance</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mitigation plans are sufficient to protect the market in the event of an  “extremely adverse scenario” even when the probability of that event occurring is small, when the impacts of the event occurring are significantly negative </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onstrates ability to self-monitor</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one effectively, the market not only protects itself, but also demonstrates its ability to self-monitor to external stakeholders</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 of an entity default vs impact of a market default</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should be able to withstand “stress or extremely adverse scenarios”, even when the probability of those events occurring is small since the impact of such events can be significantly negative </a:t>
            </a:r>
            <a:endParaRPr b="1"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ntity defaults</a:t>
            </a:r>
            <a:endParaRPr b="0" lang="en-US" sz="20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s (goes out of business) or</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hapter 11 and reorganizes under a prescribed set of rule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market defaults / ceases to function </a:t>
            </a:r>
            <a:endParaRPr b="0" lang="en-US" sz="20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er potential impacts - Multiple entities default or a cascading of default is triggere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organization possible?  Under what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ere are we in the process?</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February, the BOD asked that we develop a Market Credit Risk Standar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draft considered in the spring would have placed “hard” limits on the amount of credit risk allowed in the marke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s to be defined by the marke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WG conveyed to the F&amp;A Committee that there was a nee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urther review the PFE model and assumptions being us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RCOT and the market to gain more familiarity with the process before establishing limi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sider more fully the impacts of Nodal in the credit model</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p;A Committee understood the concern and asked that we move forward with a </a:t>
            </a:r>
            <a:r>
              <a:rPr b="1" i="1" lang="en-US" sz="1800" spc="-1" strike="noStrike" u="sng">
                <a:solidFill>
                  <a:srgbClr val="000000"/>
                </a:solidFill>
                <a:uFillTx/>
                <a:latin typeface="Arial"/>
              </a:rPr>
              <a:t>reporting</a:t>
            </a:r>
            <a:r>
              <a:rPr b="1" lang="en-US" sz="1800" spc="-1" strike="noStrike">
                <a:solidFill>
                  <a:srgbClr val="000000"/>
                </a:solidFill>
                <a:latin typeface="Arial"/>
              </a:rPr>
              <a:t> Market Credit Risk Standard as an interim ste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included in the draft Standar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icture goals / guiding principals</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understood by all stakeholder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s and bolts for achieving the goal</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responsibility for measuring, monitoring </a:t>
            </a:r>
            <a:r>
              <a:rPr b="0" i="1" lang="en-US" sz="2000" spc="-1" strike="noStrike">
                <a:solidFill>
                  <a:srgbClr val="009999"/>
                </a:solidFill>
                <a:latin typeface="Arial"/>
              </a:rPr>
              <a:t>and managing</a:t>
            </a:r>
            <a:r>
              <a:rPr b="0" lang="en-US" sz="2000" spc="-1" strike="noStrike">
                <a:solidFill>
                  <a:srgbClr val="000000"/>
                </a:solidFill>
                <a:latin typeface="Arial"/>
              </a:rPr>
              <a:t> the risk</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Define the risk toleran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how the risk will be measured </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Define actions to be taken as level of risk approaches or exceeds toleranc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jor headings in the draft Standard</a:t>
            </a:r>
            <a:endParaRPr b="0" lang="en-US" sz="2000" spc="-1" strike="noStrike">
              <a:solidFill>
                <a:srgbClr val="ffffff"/>
              </a:solidFill>
              <a:latin typeface="Arial Black"/>
            </a:endParaRPr>
          </a:p>
        </p:txBody>
      </p:sp>
      <p:sp>
        <p:nvSpPr>
          <p:cNvPr id="1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 – </a:t>
            </a:r>
            <a:r>
              <a:rPr b="0" lang="en-US" sz="2000" spc="-1" strike="noStrike">
                <a:solidFill>
                  <a:srgbClr val="000000"/>
                </a:solidFill>
                <a:latin typeface="Arial"/>
              </a:rPr>
              <a:t>defines the purpose of the Standard</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 </a:t>
            </a: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a:t>
            </a:r>
            <a:endParaRPr b="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credit risk objective – provides the objectiv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gation of authority – defines who is responsibl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ntrol – requires procedures and controls be maintained over the proces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 – defines how to measure the credit risk </a:t>
            </a:r>
            <a:endParaRPr b="0" lang="en-US" sz="20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uture Exposure or PFE model</a:t>
            </a:r>
            <a:endParaRPr b="0" lang="en-US" sz="18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 defines what, how and when credit risk will be reported</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Credit Risk Standard Adoption – requires regular review and defines how the Standard will be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g picture goals / guiding principal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urpos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rket Credit Risk Standard provides a framework by which the ERCOT Board of Directors seeks to maintain the long-term financial integrity of the ERCOT market and to help ensure that overall market credit risk is maintained within acceptable limit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ket Credit Risk Objective</a:t>
            </a:r>
            <a:endParaRPr b="1"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eeking to fulfill BOD objectives to provide for a reliable Texas electricity market, ERCOT stakeholders will</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ly consider the credit implications of operational or market decisions,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o maintain a market-wide credit risk profile consistent with an investment grade rat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ussion of specific components of the draft Standard</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discussion</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8-08-19T13:45:17Z</dcterms:modified>
  <cp:revision>82</cp:revision>
  <dc:subject/>
  <dc:title>Instructions</dc:title>
</cp:coreProperties>
</file>