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343-3E4B-40BE-B85F-A212C712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BB5-AA61-4DEE-9903-559A5F4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3B9-4DDA-4230-BE25-A30B38CB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A71-1D58-47D6-9FFA-37C7CB9F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7692-6497-4A87-BB87-E42CB9B1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D83-28C4-49A7-A4E7-7D56BED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D17F-D826-4663-B50F-009CF76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D2AB-8772-444D-B2AD-54CA1EB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821-D7DE-4BDC-9A3B-D6B65C2E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3D91-F9CF-463E-82FE-DF187C1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0920-75FC-4AAA-87F2-49222CA1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D4C-4DB8-43DB-AA8E-1A9A5C54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1421-DAF5-455D-897F-3DAD99A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46E-E31F-42D7-A6BD-3F14B98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A704-0413-4081-AA77-B6244B3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843-72D1-4470-A816-996458D2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6AE-D3C6-4BDE-B941-D667C642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1A7-4207-4AE0-A977-73B61EC8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FFF-D002-4CB0-AF71-F8F54DFF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AB6-AF55-46E0-88E9-6AA43D51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0D5-C21A-43D9-B9B0-D30DDD4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FEA-28E2-4AB6-B67E-F5C2E4F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DB7-0642-445B-BA44-26F3CB1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9A0-18F4-4002-BB29-543160F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D7D-D729-487F-A08F-2724C985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F99-5939-418D-B953-68997F78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SE Managers Working Grou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0481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July, 200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 July, 2008 (Web E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 to W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 August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SE Managers Working Group WebEx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audit of ERCOT scheduled for September 8-11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ing Authority tasks delegated to QSE’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NERC Standards provided by ERC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MWG reviewed and provided response back to ERC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ndard EOP-001-0 — Emergency Operations Plann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3.4. - Develop, maintain, and implement a set of plans for system resto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7.3. - The Transmission Operator and Balancing Authority shall coordinate transmission and generator maintenance schedules to maximize capacity or conserve the fuel in short supply.  (This includes water for hydro generators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7.4. - The Transmission Operator and Balancing Authority shall arrange deliveries of electrical energy or fuel from remote systems through normal operating chann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iance/Performance Measures:  LSL as % of HS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iewed Draft PR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mitted to Revision Requ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R773 Setting the LSL Requirement for WG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Operations Iss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GRPP Forecast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S Public Reports – Policy on Query Rates Terms of Use Docu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ML Availability – Solera servers will be replac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utage Scheduler issues with black start units and alterna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audit by TRE/NERC/FER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MWG – Future Agenda I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7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nd QSE Resource Plan Update Ti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ERCOT timeline and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rics for WGR only QSE’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Meeting: Not s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5:02:42Z</dcterms:created>
  <dc:creator>Brandon Whittle</dc:creator>
  <dc:description/>
  <dc:language>en-US</dc:language>
  <cp:lastModifiedBy>CPS Energy</cp:lastModifiedBy>
  <dcterms:modified xsi:type="dcterms:W3CDTF">2008-08-17T01:29:23Z</dcterms:modified>
  <cp:revision>34</cp:revision>
  <dc:subject/>
  <dc:title>QSE Manager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