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253-23EC-4430-B4AD-DEEDF9AC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E14-0431-4FF6-AD18-B4501E9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7A1-FB34-4AF4-B290-47E71B6A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8AD-832C-4435-932C-D8DBEA53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E52-69C7-4FDD-AD9F-CABFD707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3F3-DA3B-4E1F-A109-6D7DD5ED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E02-0E43-4746-AF0F-50F10A10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811-32A9-4CAA-AAF9-235B685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B3F-9992-47D0-B5B9-63A812C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6E4-76EB-4500-8627-7A7B7842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538-AA05-43B2-9F38-1653FF5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42D-24FC-419A-BEFD-1B20B0B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4D85-8E3D-4A3B-ADA8-D79E486CF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 Considerations for Developing C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f a transmission line is repeatedly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miting (overloaded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ctual congestion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rojected congestion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hanges in generation 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RCOT operation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estion Management Working Grou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Zones – Houston, West, South,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CSC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to Hou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to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to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should be a West to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should be a North to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534520" cy="66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i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ham-Long Creek/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ham-Cook Field Ro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3059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oney spent (&gt;$47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ays it is easier (most likely to be a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CRE’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CR’s avail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right one (What the protocols int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4:32:50Z</dcterms:created>
  <dc:creator>Registered User</dc:creator>
  <dc:description/>
  <dc:language>en-US</dc:language>
  <cp:lastModifiedBy>Registered User</cp:lastModifiedBy>
  <dcterms:modified xsi:type="dcterms:W3CDTF">2008-08-14T14:33:07Z</dcterms:modified>
  <cp:revision>1</cp:revision>
  <dc:subject/>
  <dc:title>Protocol Considerations for Developing CSC</dc:title>
</cp:coreProperties>
</file>