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024B-5CB7-4603-ACB9-DD9CD9B5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59EF-F7A8-48B5-8F3F-B47D3B09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DFA3-59D3-43C3-81D3-2BE7008C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D458-2CB0-4F25-9984-102AAF7D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954B-2BFF-4AF2-91B1-22EDB646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EE4B-BE17-403F-83C3-B78D837B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196D-C393-43B7-9971-5BDFB9C2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6C65A-74CF-4784-923F-D4412DBD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BCEE-DC21-4E40-AB9C-77CD85CD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B42D-C894-414C-9234-36D17102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61AB-1445-4B84-BA30-53AE92EC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4AA1-14F2-4D13-BB97-2D7CC0E8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4A06-C3DE-4D6D-9464-DCA2C3C65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4D89-0163-435C-AC59-304E9C7E7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gust 21, 200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 Impact Analysi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TD Project Spending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9C28-CE04-49ED-A7BF-FE7CA1C513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NPRR Impact Analysi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ork on the revised Nodal project schedule has limited our ability to complete NPRR Impact Analyses on schedu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176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path schedule work is top priorit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176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rojects are dependent on detailed designs being completed by other 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176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doing our best to keep impact assessment moving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ope to complete IAs for the following NPRRs by September 200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102 Implementation of PUC R. 25.505(f) Publication of Resource &amp; Load 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113 Load Resource Type Indicator for Ancillary Service (AS) Tra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Self-Arranged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124 Resource Node Updated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128 Combined Cycle Power Blocks with Multiple Voltage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131 Ancillary Service Trades with ERC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134 Section 7 Cleanup, PRR761, Inadvertent Energy Accou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DF38-995D-45F8-8744-A34C97D96C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Spending Update – 8/11/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838080"/>
          <a:ext cx="8305560" cy="3935520"/>
        </p:xfrm>
        <a:graphic>
          <a:graphicData uri="http://schemas.openxmlformats.org/drawingml/2006/table">
            <a:tbl>
              <a:tblPr/>
              <a:tblGrid>
                <a:gridCol w="2036520"/>
                <a:gridCol w="1890720"/>
                <a:gridCol w="2113200"/>
                <a:gridCol w="2265120"/>
              </a:tblGrid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nding Forec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728,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180,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02,8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29,0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8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004,8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071,79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025,3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/ Zonal Interdepen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31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15,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6,715,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d but Not Realloc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68,8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7,51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7,51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3,157,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6400800" y="12952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17524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33526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2133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25146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9718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15200" y="502776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38862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33526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4952880"/>
          <a:ext cx="8305560" cy="381240"/>
        </p:xfrm>
        <a:graphic>
          <a:graphicData uri="http://schemas.openxmlformats.org/drawingml/2006/table">
            <a:tbl>
              <a:tblPr/>
              <a:tblGrid>
                <a:gridCol w="2038320"/>
                <a:gridCol w="1887480"/>
                <a:gridCol w="2114640"/>
                <a:gridCol w="22651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– Met Center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232,8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992,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838080" y="5562720"/>
            <a:ext cx="7391520" cy="30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 Met Center project is not funded by initial project budget al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867280"/>
            <a:ext cx="7391520" cy="304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rrows indicate trend since last report (June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C19A-6400-42CD-B9B3-AE1EA6F3C4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0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ETL Tool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ebru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4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Center Facilit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05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SAS70 Procedures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12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ber Security Project #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7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-3 Microwave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5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REC Program Mod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55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Servi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1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igital Certificate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8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.com Infrastructure Enhanc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llage Infrastructure Redesig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1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te Documen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1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ylor Control Room Display System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77AC-017A-48C0-956B-E4AC8F2877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3581280"/>
            <a:ext cx="830592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 (cont’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8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V90xi System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deo Teleconfer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5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roduction SA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60077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RCOT.com Registered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70030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llabs DCCS System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80022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ditional SAN Capacity for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July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-60008_0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rms and Conditions &amp; Performanc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-70023_0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yberSecurity Projec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-70047_0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rporate Application Environment True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-80010_0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uby Standar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-60073_0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Recru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47F4-E303-43E7-9DD3-74BC7A9969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8-08-14T20:42:37Z</dcterms:modified>
  <cp:revision>278</cp:revision>
  <dc:subject/>
  <dc:title>Instructions</dc:title>
</cp:coreProperties>
</file>