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B288A9-5C11-4788-BFD8-5C1C483D4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72966E-3667-42C7-8F11-7332B4CB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2C2-E552-4555-BC9A-111232BE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B7E-3314-4175-B4D4-AB9BD78C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E23-93A3-45CF-8093-11B573EE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FCB-FCE0-40BF-BA5F-4B50B4B9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DC1CF-D954-43A7-9905-5D86E420AA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44D30-426E-4567-BC94-5CB065BCB1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6E4EF-F35A-4C33-8CE2-B7B987ED7F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AE92D-8D96-428A-9A73-E4C4EA0241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AB336-AEE9-48CC-9D34-97783498E3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8560D-EF68-4854-95EE-798C4B1839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A065A-5402-4382-8418-01243AF8F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AEC-C59F-4A9D-9EF8-E2D8A770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7E96B-D7AD-45D0-887D-EBE1749B1E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43C9E-D041-48CE-8B08-E03C72BD95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94F35-2B79-48BC-99FF-24EF71A680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7D24D-7C5A-46D0-B8D2-FCEC2E156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5FB63-11EF-4C72-813F-E6A8F4B5D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5B5-C3CA-42AE-9D23-439B6E0C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E5F-FB1F-4F72-A4DA-9CFAE20F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E45-9BF9-4AFC-96B4-B6A7924C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814-CC39-43B3-B035-07CA1AEA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438-DA4F-4473-9C93-751122C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522-0FEB-416B-B3AB-3C06EF02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F88-69F3-4EBF-B275-3EADB5E6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457200" y="6432480"/>
            <a:ext cx="2895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3733920" y="64098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DA0-6586-4DE2-9175-462F1E054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57200" y="6432480"/>
            <a:ext cx="2895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3733920" y="64098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34AF-7348-46AA-A627-264401D9B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3733920" y="64101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83D0-9EF9-4735-9858-3A65A866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2008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communications to TAC on reliability issues and/or events.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S developed procedures for handling future event investigations in an effort to standardize processes and improve communications with stakeholders about the investig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 criteria to staff regional reliability standard drafting teams for Standard Authorization Requests (SARs) approved by RSC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&amp; analyze ERCOT System Operations, Emergency Electric Curtailment Plan (EECP) events &amp; significant outages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hanges to ERCOT Operating Guides, Protocols and Standa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3733920" y="64101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D24-DA82-4E50-B3A6-131CE3469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 2008 Goals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mplementation of nod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existing ERCOT Operating Guides to conform to the new nodal market.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echnical assistance and recommendations regarding network modeling implementation issue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Schedule Control Error (SCE) scores and related performance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NERC Standards that have been approved by FERC in conjunction with potential ERCOT related documents.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3733920" y="64101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21AC-5D82-4FAD-8D50-D5B3228BA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 2008 Goals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need for changes in ERCOT Protocols and Operating Guides due to implementation of FERC ERO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 language and terminology for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duplicative or conflict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ocol assessment targeted for 2008 by PRS;  Operating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essment by ROS targeted fo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WMS, as needed, in implementing the Wind Impact Study’s recommendations for Regulation Service as wind penetration increases/post Nodal Go-Live.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TF 3c; recommendations to be reflected in 2009 proc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00010966</cp:lastModifiedBy>
  <dcterms:modified xsi:type="dcterms:W3CDTF">2008-08-01T18:49:14Z</dcterms:modified>
  <cp:revision>117</cp:revision>
  <dc:subject/>
  <dc:title>Role of Account Management at ERCOT</dc:title>
</cp:coreProperties>
</file>