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FB3-DC38-49AE-8CC1-2D174D54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F27-6C54-405A-A194-84370247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D85-2965-48DD-B8C4-D2C4277D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6A-B200-4306-B020-1FF9710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E12-C476-4EBC-B513-46DE3B8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1E4-CB45-4C81-919B-C2817E7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6CD-2859-4919-8273-1A627DC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08-B898-4D37-A2BE-A92B0906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0C5-F2EE-4545-BE3F-CA681E1E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664-880D-4B0C-B4CE-2CDF9068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32C-7A50-4731-8A54-19B71D6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91B-E2C1-4DE0-B21F-8AD0F06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A23-1273-4D66-BC43-0C7A0EF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540-74EC-44F0-A6C2-28F6B13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E4B-EDA0-4F33-9317-1EC904BF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14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603600" y="0"/>
            <a:ext cx="2227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80880" y="4572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erformance to the Proposed New Balancing Authority Alarm Limi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August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analysis of Wind Generator inertia and governor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iscuss Nodal market expected control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September 9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 July  2008 =133.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1.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91320" y="152280"/>
            <a:ext cx="761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7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3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7.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0"/>
          <p:cNvSpPr/>
          <p:nvPr/>
        </p:nvSpPr>
        <p:spPr>
          <a:xfrm>
            <a:off x="60958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6781680" y="1371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08-11T16:30:48Z</dcterms:modified>
  <cp:revision>72</cp:revision>
  <dc:subject/>
  <dc:title>ROS Report</dc:title>
</cp:coreProperties>
</file>