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D73-A893-44B7-8C0D-883AD47F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F26-F281-430F-8B59-FEFCE378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65C-EC8D-4A37-80C3-DC9E24A1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C23-CCBE-4724-853F-20BF733A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E9B-7B39-4B4E-A147-771F5E7B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A94-57E7-4C65-961F-C3247CB5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236-CF1F-4398-8E8B-E1A4229F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AD4-96B2-401C-A910-D41F80B4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322-2B41-4957-9D1D-752FBBB4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F4E-10B7-4C57-90B2-47C89FB0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5D5-28D5-445E-98DC-E71515BA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981-AF9F-4929-9E85-397C695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76BD-BA5E-423A-8ED4-3E260400A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dit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62B-478D-4BEA-A442-845CBD9A70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in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ork with Market Participants scheduled to provid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Review FERC approved NERC Reliability Standards not on CM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Review Board approved NERC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wo training sessions will be provided to SM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753-470D-42D9-BC29-81DD7F02B7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F7C-7ED2-4C80-A241-D8301AB48A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72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ptember 8 – 12, 2008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RCOT  will be audited as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905120"/>
            <a:ext cx="86868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28560" indent="-6285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liability Coordinator (R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ransmission Operator ( TO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lancing Authority (BA)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ransmission Service Provider (TS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9B0-3677-45C8-BE6D-1DB9BEE117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3 auditors (4 NERC, 5 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4 FERC ob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wo interviewing groups running concurrently:  Tue – Thur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perations floor interviews scheduled for Thur aftern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dditional SME’s onsite from ONCOR and TMPA (at the request of NE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66B-0E8E-4670-8796-3906108F6C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initions and Acr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MEP – Compliance Monitoring and Enforcemen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SAW – Reliability Standard Audit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SD – Operating Standards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ME – Subject Matter Exp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8F5-38AC-40BA-B7CD-AA6031CEB5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VERVIEW OF PREP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316240"/>
            <a:ext cx="82296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ed the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swer RSAWs and Questi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E4E-EF0D-4158-87E0-9A79C33B35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the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46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p ERCOT to NE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 meeting – June 3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st meeting – April 11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~30 meetings with market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 ROS presentation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 presentation to TAC by ROS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D46-899E-4E19-90BA-9DB52E2AF3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W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4  FERC approved NERC Reliabilit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7 standards in 2008 CMEP with RS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vided by Operations, Planning,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oken into 9 weekly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gan on May 15,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al sent out July 15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7BD-FE71-4094-BBE1-C18596E1D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W Action Plan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ssigned to 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tilized the matrix with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07 Audit Responses were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SD reviewed evidence and resolved with S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agement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3E9-E7AD-4C85-A69F-E87074835D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 8/11/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97% (36 out of 37) RSAW’s have been completed by SM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8%(about 29 out of 37)RSAW’s have been resolved with SM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9%(99 out of 143)action items have been comple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00% response on 4 questionnaire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292-F2B4-46DD-9AA3-04535E93C4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>OTStrain01</dc:creator>
  <dc:description/>
  <dc:language>en-US</dc:language>
  <cp:lastModifiedBy>lzotter</cp:lastModifiedBy>
  <dcterms:modified xsi:type="dcterms:W3CDTF">2008-08-12T22:06:05Z</dcterms:modified>
  <cp:revision>20</cp:revision>
  <dc:subject/>
  <dc:title>Slide 1</dc:title>
</cp:coreProperties>
</file>