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nd Operations Task For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atus updates since last ROS meet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skipped Aug meeting due to the hurricane, next is Sept 3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is reviewing draft OGRR on 24/7 communication between TSP &amp; wind farms (Issue #2a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C has approved Nodal Readiness Metric (part of Issue #1d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will be reviewing the ancillary services recommendation (Issue #3c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expects to have recommendations on Issues #2a, #3a, and #3c to the Sept ROS meet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has forwarded Issue #3g to RP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2000" y="762120"/>
            <a:ext cx="75484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nd Operations Task Force -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90640" y="146052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atus as of 13 Aug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is holding monthly meetings (but skipped Aug due to the hurric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has addressed and settled issues #PDCWG1, PDCWG2, 3b, 3d, 3f and 3g with ROS.  (#PDCWG2 &amp;  #3b = PRR 763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 Workshop #2 is set for Fri Aug 22 (part of #1a, 1b, 1c, 1d, and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has set 2008 target dates for issues # 1a, 1b, 1c, 1d, 2a, 3a, and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will address issue #3e after CMWG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rther WOTF action is required on issue #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4:25:02Z</dcterms:created>
  <dc:creator>mgarrett</dc:creator>
  <dc:description/>
  <dc:language>en-US</dc:language>
  <cp:lastModifiedBy>mgarrett</cp:lastModifiedBy>
  <dcterms:modified xsi:type="dcterms:W3CDTF">2008-08-13T20:11:20Z</dcterms:modified>
  <cp:revision>14</cp:revision>
  <dc:subject/>
  <dc:title>Wind Operations Task Force</dc:title>
</cp:coreProperties>
</file>