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574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574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574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PlaceHolder 2"/>
          <p:cNvSpPr>
            <a:spLocks noGrp="1"/>
          </p:cNvSpPr>
          <p:nvPr>
            <p:ph type="ftr" idx="1"/>
          </p:nvPr>
        </p:nvSpPr>
        <p:spPr>
          <a:xfrm>
            <a:off x="116532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S Meeting – 08/14/08</a:t>
            </a:r>
            <a:r>
              <a:rPr b="0" lang="en-US" sz="1200" spc="-1" strike="noStrike">
                <a:solidFill>
                  <a:srgbClr val="000000"/>
                </a:solidFill>
                <a:latin typeface="Arial"/>
              </a:rPr>
              <a:t>	</a:t>
            </a:r>
            <a:r>
              <a:rPr b="0" lang="en-US" sz="1200" spc="-1" strike="noStrike">
                <a:solidFill>
                  <a:srgbClr val="000000"/>
                </a:solidFill>
                <a:latin typeface="Arial"/>
              </a:rPr>
              <a:t>	</a:t>
            </a:r>
            <a:fld id="{2551BFBC-F220-4AD2-9D3E-0F0F370D315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Texas Nodal Program - TPTF Update</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ercot.com/calendar/2008/07/20080707-TPTF" TargetMode="Externa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sbridges@ercot.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exas Nodal</a:t>
            </a:r>
            <a:br>
              <a:rPr sz="1800"/>
            </a:br>
            <a:r>
              <a:rPr b="0" lang="en-US" sz="2800" spc="-1" strike="noStrike">
                <a:solidFill>
                  <a:srgbClr val="808080"/>
                </a:solidFill>
                <a:latin typeface="Arial Black"/>
              </a:rPr>
              <a:t>Transition Plan Task Force</a:t>
            </a:r>
            <a:br>
              <a:rPr sz="2800"/>
            </a:br>
            <a:r>
              <a:rPr b="0" i="1" lang="en-US" sz="1800" spc="-1" strike="noStrike">
                <a:solidFill>
                  <a:srgbClr val="808080"/>
                </a:solidFill>
                <a:latin typeface="Arial"/>
              </a:rPr>
              <a:t>ROS Meeting</a:t>
            </a:r>
            <a:br>
              <a:rPr sz="1600"/>
            </a:br>
            <a:r>
              <a:rPr b="0" lang="en-US" sz="1600" spc="-1" strike="noStrike">
                <a:solidFill>
                  <a:srgbClr val="808080"/>
                </a:solidFill>
                <a:latin typeface="Arial Black"/>
              </a:rPr>
              <a:t> </a:t>
            </a:r>
            <a:r>
              <a:rPr b="0" lang="en-US" sz="1200" spc="-1" strike="noStrike">
                <a:solidFill>
                  <a:srgbClr val="808080"/>
                </a:solidFill>
                <a:latin typeface="Arial"/>
              </a:rPr>
              <a:t>Stacy Bridges, ERCOT</a:t>
            </a:r>
            <a:br>
              <a:rPr sz="1200"/>
            </a:br>
            <a:r>
              <a:rPr b="0" lang="en-US" sz="1200" spc="-1" strike="noStrike">
                <a:solidFill>
                  <a:srgbClr val="808080"/>
                </a:solidFill>
                <a:latin typeface="Arial"/>
              </a:rPr>
              <a:t>Thursday, August 14, 2008</a:t>
            </a:r>
            <a:endParaRPr b="0" lang="en-US" sz="1200" spc="-1" strike="noStrike">
              <a:solidFill>
                <a:srgbClr val="ffffff"/>
              </a:solidFill>
              <a:latin typeface="Arial Black"/>
            </a:endParaRPr>
          </a:p>
        </p:txBody>
      </p:sp>
      <p:pic>
        <p:nvPicPr>
          <p:cNvPr id="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7 - 8, 2008</a:t>
            </a:r>
            <a:endParaRPr b="0" lang="en-US" sz="1800" spc="-1" strike="noStrike">
              <a:solidFill>
                <a:srgbClr val="000000"/>
              </a:solidFill>
              <a:latin typeface="Arial"/>
            </a:endParaRPr>
          </a:p>
        </p:txBody>
      </p:sp>
      <p:sp>
        <p:nvSpPr>
          <p:cNvPr id="66"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7-8 TPTF </a:t>
            </a:r>
            <a:r>
              <a:rPr b="0" lang="en-US" sz="1400" spc="-1" strike="noStrike" u="sng">
                <a:solidFill>
                  <a:srgbClr val="009999"/>
                </a:solidFill>
                <a:uFillTx/>
                <a:latin typeface="Arial"/>
                <a:hlinkClick r:id="rId1"/>
              </a:rPr>
              <a:t>Meeting Page</a:t>
            </a:r>
            <a:r>
              <a:rPr b="0" lang="en-US" sz="1400" spc="-1" strike="noStrike" u="sng">
                <a:solidFill>
                  <a:srgbClr val="000000"/>
                </a:solidFill>
                <a:uFillTx/>
                <a:latin typeface="Arial"/>
              </a:rPr>
              <a:t>.</a:t>
            </a:r>
            <a:endParaRPr b="0" lang="en-US" sz="1400" spc="-1" strike="noStrike">
              <a:solidFill>
                <a:srgbClr val="000000"/>
              </a:solidFill>
              <a:latin typeface="Arial"/>
            </a:endParaRPr>
          </a:p>
        </p:txBody>
      </p:sp>
      <p:graphicFrame>
        <p:nvGraphicFramePr>
          <p:cNvPr id="67" name=""/>
          <p:cNvGraphicFramePr/>
          <p:nvPr/>
        </p:nvGraphicFramePr>
        <p:xfrm>
          <a:off x="304920" y="849240"/>
          <a:ext cx="8610480" cy="3687840"/>
        </p:xfrm>
        <a:graphic>
          <a:graphicData uri="http://schemas.openxmlformats.org/drawingml/2006/table">
            <a:tbl>
              <a:tblPr/>
              <a:tblGrid>
                <a:gridCol w="2819160"/>
                <a:gridCol w="2210040"/>
                <a:gridCol w="533160"/>
                <a:gridCol w="762120"/>
                <a:gridCol w="2286000"/>
              </a:tblGrid>
              <a:tr h="333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7, TPTF recognized the following NPRRs as “essential for go-live”: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097, NPRR107, NPRR111, NPRR112, NPRR117, NPRR118, NPRR119, NPRR120, NPRR122, NPRR123, NPRR130, NPRR091, NPRR102, NPRR113, NPRR114, NPRR127, NPRR128, NPRR132, NPRR133, NPRR134,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point Energy</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lectric Pow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9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Dallas</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Eastland</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 of Flower Mou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7 - 8, 2008</a:t>
            </a:r>
            <a:endParaRPr b="0" lang="en-US" sz="1800" spc="-1" strike="noStrike">
              <a:solidFill>
                <a:srgbClr val="000000"/>
              </a:solidFill>
              <a:latin typeface="Arial"/>
            </a:endParaRPr>
          </a:p>
        </p:txBody>
      </p:sp>
      <p:sp>
        <p:nvSpPr>
          <p:cNvPr id="69"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7-8 TPTF Meeting Page.</a:t>
            </a:r>
            <a:endParaRPr b="0" lang="en-US" sz="1400" spc="-1" strike="noStrike">
              <a:solidFill>
                <a:srgbClr val="000000"/>
              </a:solidFill>
              <a:latin typeface="Arial"/>
            </a:endParaRPr>
          </a:p>
        </p:txBody>
      </p:sp>
      <p:graphicFrame>
        <p:nvGraphicFramePr>
          <p:cNvPr id="70" name=""/>
          <p:cNvGraphicFramePr/>
          <p:nvPr/>
        </p:nvGraphicFramePr>
        <p:xfrm>
          <a:off x="304920" y="849240"/>
          <a:ext cx="8610480" cy="3930480"/>
        </p:xfrm>
        <a:graphic>
          <a:graphicData uri="http://schemas.openxmlformats.org/drawingml/2006/table">
            <a:tbl>
              <a:tblPr/>
              <a:tblGrid>
                <a:gridCol w="2666880"/>
                <a:gridCol w="2514600"/>
                <a:gridCol w="685800"/>
                <a:gridCol w="762120"/>
                <a:gridCol w="1981080"/>
              </a:tblGrid>
              <a:tr h="44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49824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7, TPTF endorsed forwarding TPTF comments to PRS for NPRR124, Resource Node Updated Definitions, to replace the first sentence of the definition of Resource Node to “Either a logical construct required to model a Combined-Cycle Configuration or an Electrical Bus defined in the Network Operations Model, at which a Generation Resource’s Settlement Point Price is calculated and used in Settl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Energ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lectric Pow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7 - 8, 2008</a:t>
            </a:r>
            <a:endParaRPr b="0" lang="en-US" sz="1800" spc="-1" strike="noStrike">
              <a:solidFill>
                <a:srgbClr val="000000"/>
              </a:solidFill>
              <a:latin typeface="Arial"/>
            </a:endParaRPr>
          </a:p>
        </p:txBody>
      </p:sp>
      <p:graphicFrame>
        <p:nvGraphicFramePr>
          <p:cNvPr id="72" name=""/>
          <p:cNvGraphicFramePr/>
          <p:nvPr/>
        </p:nvGraphicFramePr>
        <p:xfrm>
          <a:off x="304920" y="849240"/>
          <a:ext cx="8610480" cy="204804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8, TPTF approved the EDS Daylight-Savings Time Test Plan v0.04 as submit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7-8 TPTF Meeting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21 - 23, 2008</a:t>
            </a:r>
            <a:endParaRPr b="0" lang="en-US" sz="1800" spc="-1" strike="noStrike">
              <a:solidFill>
                <a:srgbClr val="000000"/>
              </a:solidFill>
              <a:latin typeface="Arial"/>
            </a:endParaRPr>
          </a:p>
        </p:txBody>
      </p:sp>
      <p:graphicFrame>
        <p:nvGraphicFramePr>
          <p:cNvPr id="75" name=""/>
          <p:cNvGraphicFramePr/>
          <p:nvPr/>
        </p:nvGraphicFramePr>
        <p:xfrm>
          <a:off x="304920" y="3429000"/>
          <a:ext cx="8610480" cy="21510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2, TPTF </a:t>
                      </a:r>
                      <a:r>
                        <a:rPr b="1" lang="en-US" sz="1200" spc="-1" strike="noStrike">
                          <a:solidFill>
                            <a:srgbClr val="000000"/>
                          </a:solidFill>
                          <a:latin typeface="Arial"/>
                        </a:rPr>
                        <a:t> </a:t>
                      </a:r>
                      <a:r>
                        <a:rPr b="0" lang="en-US" sz="1200" spc="-1" strike="noStrike">
                          <a:solidFill>
                            <a:srgbClr val="000000"/>
                          </a:solidFill>
                          <a:latin typeface="Arial"/>
                        </a:rPr>
                        <a:t>endorsed forwarding Readiness Metric MP21 – Wind Generating Resources ICCP Telemetry to TAC for consideration and approval as modified by TPTF on July 22, 20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July 21-23 TPTF Meeting Page.</a:t>
            </a:r>
            <a:endParaRPr b="0" lang="en-US" sz="1400" spc="-1" strike="noStrike">
              <a:solidFill>
                <a:srgbClr val="000000"/>
              </a:solidFill>
              <a:latin typeface="Arial"/>
            </a:endParaRPr>
          </a:p>
        </p:txBody>
      </p:sp>
      <p:graphicFrame>
        <p:nvGraphicFramePr>
          <p:cNvPr id="77" name=""/>
          <p:cNvGraphicFramePr/>
          <p:nvPr/>
        </p:nvGraphicFramePr>
        <p:xfrm>
          <a:off x="304920" y="838080"/>
          <a:ext cx="8610480" cy="2441520"/>
        </p:xfrm>
        <a:graphic>
          <a:graphicData uri="http://schemas.openxmlformats.org/drawingml/2006/table">
            <a:tbl>
              <a:tblPr/>
              <a:tblGrid>
                <a:gridCol w="2514600"/>
                <a:gridCol w="2666880"/>
                <a:gridCol w="685800"/>
                <a:gridCol w="762120"/>
                <a:gridCol w="1981080"/>
              </a:tblGrid>
              <a:tr h="44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8584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2, TPTF approved extending the effective period for the current EDS Service Level Agreement for Nodal EDS Environments for an additional 30 days and to make changes to the dates identified in the document as appropri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21 - 23, 2008</a:t>
            </a:r>
            <a:endParaRPr b="0" lang="en-US" sz="1800" spc="-1" strike="noStrike">
              <a:solidFill>
                <a:srgbClr val="000000"/>
              </a:solidFill>
              <a:latin typeface="Arial"/>
            </a:endParaRPr>
          </a:p>
        </p:txBody>
      </p:sp>
      <p:graphicFrame>
        <p:nvGraphicFramePr>
          <p:cNvPr id="79" name=""/>
          <p:cNvGraphicFramePr/>
          <p:nvPr/>
        </p:nvGraphicFramePr>
        <p:xfrm>
          <a:off x="304920" y="849240"/>
          <a:ext cx="8610480" cy="3473280"/>
        </p:xfrm>
        <a:graphic>
          <a:graphicData uri="http://schemas.openxmlformats.org/drawingml/2006/table">
            <a:tbl>
              <a:tblPr/>
              <a:tblGrid>
                <a:gridCol w="2514600"/>
                <a:gridCol w="2666880"/>
                <a:gridCol w="685800"/>
                <a:gridCol w="762120"/>
                <a:gridCol w="1981080"/>
              </a:tblGrid>
              <a:tr h="406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43812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2, TPTF </a:t>
                      </a:r>
                      <a:r>
                        <a:rPr b="1" lang="en-US" sz="1200" spc="-1" strike="noStrike">
                          <a:solidFill>
                            <a:srgbClr val="000000"/>
                          </a:solidFill>
                          <a:latin typeface="Arial"/>
                        </a:rPr>
                        <a:t> </a:t>
                      </a:r>
                      <a:r>
                        <a:rPr b="0" lang="en-US" sz="1200" spc="-1" strike="noStrike">
                          <a:solidFill>
                            <a:srgbClr val="000000"/>
                          </a:solidFill>
                          <a:latin typeface="Arial"/>
                        </a:rPr>
                        <a:t>endorsed forwarding TPTF comments to PRS for NPRR138, Credit Monitoring and Management Reports, as modified July 22, 2008, including the comment that TPTF believes that all MIS postings shall be made in a format (such as xls, csv, xml, etc) amenable to download and insertion into market participant’s systems to use individual elements of a rep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21-23 TPTF Meeting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21 - 23, 2008</a:t>
            </a:r>
            <a:endParaRPr b="0" lang="en-US" sz="1800" spc="-1" strike="noStrike">
              <a:solidFill>
                <a:srgbClr val="000000"/>
              </a:solidFill>
              <a:latin typeface="Arial"/>
            </a:endParaRPr>
          </a:p>
        </p:txBody>
      </p:sp>
      <p:graphicFrame>
        <p:nvGraphicFramePr>
          <p:cNvPr id="82" name=""/>
          <p:cNvGraphicFramePr/>
          <p:nvPr/>
        </p:nvGraphicFramePr>
        <p:xfrm>
          <a:off x="304920" y="3429000"/>
          <a:ext cx="8610480" cy="21510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3, TPTF approved the Procedure for Identifying Resource Nodes White Paper as modified by TPTF on July 23, 20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July 21-23 TPTF Meeting Page.</a:t>
            </a:r>
            <a:endParaRPr b="0" lang="en-US" sz="1400" spc="-1" strike="noStrike">
              <a:solidFill>
                <a:srgbClr val="000000"/>
              </a:solidFill>
              <a:latin typeface="Arial"/>
            </a:endParaRPr>
          </a:p>
        </p:txBody>
      </p:sp>
      <p:graphicFrame>
        <p:nvGraphicFramePr>
          <p:cNvPr id="84" name=""/>
          <p:cNvGraphicFramePr/>
          <p:nvPr/>
        </p:nvGraphicFramePr>
        <p:xfrm>
          <a:off x="304920" y="838080"/>
          <a:ext cx="8610480" cy="2441520"/>
        </p:xfrm>
        <a:graphic>
          <a:graphicData uri="http://schemas.openxmlformats.org/drawingml/2006/table">
            <a:tbl>
              <a:tblPr/>
              <a:tblGrid>
                <a:gridCol w="2514600"/>
                <a:gridCol w="2666880"/>
                <a:gridCol w="685800"/>
                <a:gridCol w="762120"/>
                <a:gridCol w="1981080"/>
              </a:tblGrid>
              <a:tr h="44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8584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2, TPTF endorsed NPRR129, Section 15, Synchronization of Zonal Protocols, including RMS comments, as "Needed for Go-Live."</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C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August 2008</a:t>
            </a:r>
            <a:endParaRPr b="0" lang="en-US" sz="1800" spc="-1" strike="noStrike">
              <a:solidFill>
                <a:srgbClr val="ffffff"/>
              </a:solidFill>
              <a:latin typeface="Arial Black"/>
            </a:endParaRPr>
          </a:p>
        </p:txBody>
      </p:sp>
      <p:sp>
        <p:nvSpPr>
          <p:cNvPr id="86" name="PlaceHolder 2"/>
          <p:cNvSpPr>
            <a:spLocks noGrp="1"/>
          </p:cNvSpPr>
          <p:nvPr>
            <p:ph/>
          </p:nvPr>
        </p:nvSpPr>
        <p:spPr>
          <a:xfrm>
            <a:off x="228600" y="952200"/>
            <a:ext cx="8547120" cy="5056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ugust, TPTF meets on the following days:</a:t>
            </a:r>
            <a:endParaRPr b="1"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August 11 – 12, 2008</a:t>
            </a: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25 – 27, 2008</a:t>
            </a: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sp>
        <p:nvSpPr>
          <p:cNvPr id="88" name="PlaceHolder 2"/>
          <p:cNvSpPr>
            <a:spLocks noGrp="1"/>
          </p:cNvSpPr>
          <p:nvPr>
            <p:ph/>
          </p:nvPr>
        </p:nvSpPr>
        <p:spPr>
          <a:xfrm>
            <a:off x="228600" y="1076400"/>
            <a:ext cx="8547120" cy="5084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a:t>
            </a:r>
            <a:endParaRPr b="1"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send comments to:</a:t>
            </a:r>
            <a:endParaRPr b="1"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y Bridges </a:t>
            </a:r>
            <a:endParaRPr b="1"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2.248.6709</a:t>
            </a:r>
            <a:endParaRPr b="1"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9999"/>
                </a:solidFill>
                <a:uFillTx/>
                <a:latin typeface="Arial"/>
                <a:hlinkClick r:id="rId1"/>
              </a:rPr>
              <a:t>sbridges@ercot.com</a:t>
            </a:r>
            <a:endParaRPr b="1"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48" name="PlaceHolder 2"/>
          <p:cNvSpPr>
            <a:spLocks noGrp="1"/>
          </p:cNvSpPr>
          <p:nvPr>
            <p:ph/>
          </p:nvPr>
        </p:nvSpPr>
        <p:spPr>
          <a:xfrm>
            <a:off x="228600" y="952560"/>
            <a:ext cx="8547120" cy="528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July 2008, TPTF met on:</a:t>
            </a:r>
            <a:endParaRPr b="1"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y 7 – 8, 2008</a:t>
            </a: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y 21 – 23, 2008</a:t>
            </a:r>
            <a:endParaRPr b="1"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50" name="PlaceHolder 2"/>
          <p:cNvSpPr>
            <a:spLocks noGrp="1"/>
          </p:cNvSpPr>
          <p:nvPr>
            <p:ph/>
          </p:nvPr>
        </p:nvSpPr>
        <p:spPr>
          <a:xfrm>
            <a:off x="228600" y="1000080"/>
            <a:ext cx="8547120" cy="52372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Discussions in July:</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Program Changes:</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nodal organizational changes and the new integrated nodal program scheduled are currently being discussed at TPTF. A special WebEx</a:t>
            </a:r>
            <a:r>
              <a:rPr b="0" lang="en-US" sz="1600" spc="-1" strike="noStrike" baseline="30000">
                <a:solidFill>
                  <a:srgbClr val="000000"/>
                </a:solidFill>
                <a:latin typeface="Arial"/>
              </a:rPr>
              <a:t>TM</a:t>
            </a:r>
            <a:r>
              <a:rPr b="0" lang="en-US" sz="1600" spc="-1" strike="noStrike">
                <a:solidFill>
                  <a:srgbClr val="000000"/>
                </a:solidFill>
                <a:latin typeface="Arial"/>
              </a:rPr>
              <a:t> meeting is currently scheduled on August 20 to review the initial draft of the new schedul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Outage Scheduler Discussion:</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 On June 23, TPTF requested that ERCOT would work with the nodal Outage Scheduler vendor to identify options for allowing QSE/REs to enter their own Outages for any Transmission equipment they own.</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8, TPTF discussed the initial impact estimates to make the requisite changes and requested that ERCOT would identify the documentation changes necessary to implement the change. </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topic is slated for further discussion during a future TPTF meeting.</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52" name="PlaceHolder 2"/>
          <p:cNvSpPr>
            <a:spLocks noGrp="1"/>
          </p:cNvSpPr>
          <p:nvPr>
            <p:ph/>
          </p:nvPr>
        </p:nvSpPr>
        <p:spPr>
          <a:xfrm>
            <a:off x="228600" y="1000080"/>
            <a:ext cx="8547120" cy="52372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Discussions in July (continued):</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ick Response Working Group (QRWG) Active Issues:</a:t>
            </a:r>
            <a:endParaRPr b="1"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Clarify Definition of a Generator Output Breaker in the Outage Scheduler: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is currently reviewing market comments for the Draft NPRR Generation Resource Fixed Quantity Block Offer. This draft NPRR proposes Nodal Protocol changes to permit Generation Resources to submit fixed-quantity block offers of Non-Spin. The draft NPRR is currently scheduled for further discussion during the August 25 – 27, 2008 TPTF meeting.</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stion Revenue Rights (CRR) One-Line Diagram Prototype:</a:t>
            </a:r>
            <a:endParaRPr b="1"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3, 2008. TPTF discussed the Proposal to Produce CRR Network Model Diagrams, the CRR one-line diagram prototype, and the CRR Map Requirements for Market Information System (MIS), CRR, and Network Model Management System (NMMS). The Requirements document is scheduled for possible vote during the August 25 – 27, 2008 TPTF meet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R one-line diagram prototype under discussion aims to fulfill the posting requirement for the CRR Network Model described in Nodal Protocol Section 3.10.3, CRR Network Model, (3)(a).</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54" name="PlaceHolder 2"/>
          <p:cNvSpPr>
            <a:spLocks noGrp="1"/>
          </p:cNvSpPr>
          <p:nvPr>
            <p:ph/>
          </p:nvPr>
        </p:nvSpPr>
        <p:spPr>
          <a:xfrm>
            <a:off x="228600" y="1000080"/>
            <a:ext cx="8547120" cy="52372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Discussions in July (continued):</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102, Implementation of PUC Subst. R. 25.505(f), Publication of Resource and Load Information: </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has been discussing cost impacts, value-engineering options, and go-live essentiality for the reports incorporated in NPRR102. The TPTF-recommended value-engineering option was to divide the system-wide reports and the non-disclosure-area reports into separate NPRRs to allow some of the reports to be implemented by nodal go-live and some of them to be implemented after nodal go-live.</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topic is scheduled for further discussion during the August 11 – 12, 2008 TPTF meeting.</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Communication Workshop Proposal:</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1, TPTF discussed a proposal to conduct a Communication Workshop to cover the basic technical components involved in setting up and maintaining interfaces with ERCOT Web Services.</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echnical Communication Workshop is currently scheduled for September 3, 2008 at the ERCOT Met Center.</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
          <p:cNvSpPr/>
          <p:nvPr/>
        </p:nvSpPr>
        <p:spPr>
          <a:xfrm>
            <a:off x="8215200" y="5857920"/>
            <a:ext cx="303480" cy="3031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57" name="PlaceHolder 2"/>
          <p:cNvSpPr>
            <a:spLocks noGrp="1"/>
          </p:cNvSpPr>
          <p:nvPr>
            <p:ph/>
          </p:nvPr>
        </p:nvSpPr>
        <p:spPr>
          <a:xfrm>
            <a:off x="228600" y="990360"/>
            <a:ext cx="8547120" cy="53974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Approvals in July:</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iness Metrics—Approval of:</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21, Wind Generating Resources Inter-Control Center Communication Protocol (ICCP) Telemetr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7, TPTF discussed a proposal to incorporate the new Readiness Metric MP21 into the active metrics inventory. Metric MP21 is intended to ensure that Wind-Powered Generation Resources (WGRs) provide required meteorological data for ICCP telemetry to ERCOT.</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2, TPTF reviewed market comments for MP21 and endorsed ERCOT moving forward with metric MP21. The endorsement carried by roll-call vote with 100% in favor and one abstention from the Independent Power Marketer Market Segment. All Market Segments were represented for the vote.</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21 was forwarded to the Technical Advisory Committee (TAC), where it was tabled on August 7.</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59" name="PlaceHolder 2"/>
          <p:cNvSpPr>
            <a:spLocks noGrp="1"/>
          </p:cNvSpPr>
          <p:nvPr>
            <p:ph/>
          </p:nvPr>
        </p:nvSpPr>
        <p:spPr>
          <a:xfrm>
            <a:off x="228600" y="990360"/>
            <a:ext cx="8547120" cy="53974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Approvals in July (continued):</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Delivery Systems (EDS)—Approval of:</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Daylight-Savings Time (DST) Test Pla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8, TPTF approved the EDS DST Test Plan. The motion carried by unanimous roll-call vote. The Consumer Market Segment was not represented for the vote.</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Service Level Agreement (SLA) for Nodal EDS Environments </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2, TPTF reviewed recent comments and updates for the EDS SLA. TPTF noted that monitoring code for mature applications in EDS was not fully covered and requested that the approach for deploying monitoring code to EDS would be discussed during a future meeting in August.</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approved extending the effective period for the current EDS SLA for Nodal EDS Environments for an additional 30 days</a:t>
            </a:r>
            <a:r>
              <a:rPr b="1" lang="en-US" sz="1600" spc="-1" strike="noStrike">
                <a:solidFill>
                  <a:srgbClr val="000000"/>
                </a:solidFill>
                <a:latin typeface="Arial"/>
              </a:rPr>
              <a:t> </a:t>
            </a:r>
            <a:r>
              <a:rPr b="0" lang="en-US" sz="1600" spc="-1" strike="noStrike">
                <a:solidFill>
                  <a:srgbClr val="000000"/>
                </a:solidFill>
                <a:latin typeface="Arial"/>
              </a:rPr>
              <a:t>and to make changes to the dates identified in the document as appropriate. The approval carried by unanimous roll-call vote. The Consumer and Independent Generator Market Segments were not represented for the vo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61" name="PlaceHolder 2"/>
          <p:cNvSpPr>
            <a:spLocks noGrp="1"/>
          </p:cNvSpPr>
          <p:nvPr>
            <p:ph/>
          </p:nvPr>
        </p:nvSpPr>
        <p:spPr>
          <a:xfrm>
            <a:off x="228600" y="1000080"/>
            <a:ext cx="8547120" cy="54640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Approvals in July (continued):</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s—Approval of:</a:t>
            </a:r>
            <a:endParaRPr b="1"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24, Resource Node Updated Definition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7, TPTF discussed clarifications for the term “logical construct” as requested by the Protocol Revision Subcommittee (PRS) on June 19, 2008, and endorsed comments to replace the first sentence of the definition of Resource Node with the sentence "Either a logical construct required to model a Combined-Cycle Configuration or an Electrical Bus defined in the Network Operations Model, at which a Generation Resource’s Settlement Point Price is calculated and used in Settlement."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roll-call vote with 100% in favor and two abstentions from the Municipal and Investor Owned Utility Market Segments. The Consumer Market Segment was not represented for the vote. Please see the voting spreadsheet for detail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29, Section 15, Synchronization of Zonal Protocol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2, TPTF discussed Texas Standard Electronic Transaction (SET) and Retail Market Subcommittee (RMS) comments for NPRR129.</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mmended no further changes to NPRR129 and endorsed it as “needed for go-live.” The endorsement carried by roll-call vote with 100% in favor and one abstention from the Cooperative Market Seg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63" name="PlaceHolder 2"/>
          <p:cNvSpPr>
            <a:spLocks noGrp="1"/>
          </p:cNvSpPr>
          <p:nvPr>
            <p:ph/>
          </p:nvPr>
        </p:nvSpPr>
        <p:spPr>
          <a:xfrm>
            <a:off x="228600" y="1000080"/>
            <a:ext cx="8547120" cy="54640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Approvals in July (continued):</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s—Approval of:</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38, Credit Monitoring and Management Reports: </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1, TPTF reviewed market comments for NPRR138. </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warding TPTF comments to PRS, including the comment that TPTF believes that all MIS postings should be made in formats (such as .xls, .csv, .xml, etc.) that are amenable to download and insertion into Market Participant systems. The endorsement carried by unanimous roll-call vote. All Market Segments were represented for the vote. </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Papers—Approval of:</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for Identifying Resource Nodes White Pape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3, TPTF reviewed market comments and made additional modifications to the white paper. </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approved the white paper by unanimous roll-call vote. The Consumer and Independent Generator Market Segments were not represented for the vote. </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8215200" y="5857920"/>
            <a:ext cx="303480" cy="3031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3:33:38Z</dcterms:created>
  <dc:creator/>
  <dc:description/>
  <dc:language>en-US</dc:language>
  <cp:lastModifiedBy/>
  <dcterms:modified xsi:type="dcterms:W3CDTF">2008-08-08T19:32:53Z</dcterms:modified>
  <cp:revision>257</cp:revision>
  <dc:subject/>
  <dc:title>Texas Nodal</dc:title>
</cp:coreProperties>
</file>