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C29-6D6C-4354-9C3F-9ED60A1A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D2F-17C7-423C-93C0-A0A05462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96B-C0DB-4F34-AF71-6A039C47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D92-8B4C-49D2-8594-034E2295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BE5-DFFD-42AA-BE88-1D859371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356-EE71-4247-A706-5A39F2E9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284-EE42-4173-9A4F-83728D30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9C3-A91F-4998-B747-5E87A96A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1B9-C50A-4BC9-83C6-A0F30B75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C78-2F6D-47DA-B9A0-8D9DBD06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FAD-9FF8-45EC-856B-E39B751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539-3E25-41AB-8E97-AFBE678F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5936-F9AE-48A7-AFF4-E2FD8DEF2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6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038480" y="6346800"/>
            <a:ext cx="99072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dit 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BD9-148A-455C-A02A-53262668C9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ining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ork with Market Participants scheduled to provid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Review FERC approved NERC Reliability Standards not on CM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Review Board approved NERC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wo training sessions will be provided to SM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64A-496C-4EE7-8264-E20056A6BD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194-BBFA-43EB-99AC-1D097AE307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72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ptember 8 – 12, 2008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RCOT  will be audited as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905120"/>
            <a:ext cx="86868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28560" indent="-6285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liability Coordinator (R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ransmission Operator ( TO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alancing Authority (BA)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ransmission Service Provider (TS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3BF-6098-4E22-8301-08B01B7CEA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3 auditors (4 NERC, 5 T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4 FERC ob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wo interviewing groups running concurrently:  Tue – Thur 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perations floor interviews scheduled for Thur aftern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dditional SME’s onsite from ONCOR and TMPA (at the request of NE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31E-0123-41A9-A3E8-2D2E350613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finitions and Acr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MEP – Compliance Monitoring and Enforcemen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SAW – Reliability Standard Audit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SD – Operating Standards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ME – Subject Matter Exp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2B3-7003-4398-95D3-52118C8D1E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VERVIEW OF PREPA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316240"/>
            <a:ext cx="822960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ed the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swer RSAWs and Question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7F5-EF17-444E-BD8C-0C52DC20F1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the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646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p ERCOT to NE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 meeting – June 3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st meeting – April 11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~30 meetings with market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 ROS presentation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 presentation to TAC by ROS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1E0-980C-4EEB-B727-624AC1C9BC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W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4  FERC approved NERC Reliabilit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7 standards in 2008 CMEP with RS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vided by Operations, Planning,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roken into 9 weekly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gan on May 15,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al sent out July 15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0DB-DE6B-4CD0-ADDB-16525D2107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W Action Plan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ssigned to 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tilized the matrix with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07 Audit Responses were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SD reviewed evidence and resolved with S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agement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C52-40DE-4BA4-A713-C169C47D54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 8/11/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97% (36 out of 37) RSAW’s have been completed by SM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8%(about 29 out of 37)RSAW’s have been resolved with SM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9%(99 out of 143)action items have been comple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00% response on 4 questionnaire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10A-4D84-45F7-9EC4-E00FD43190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14:27Z</dcterms:created>
  <dc:creator>OTStrain01</dc:creator>
  <dc:description/>
  <dc:language>en-US</dc:language>
  <cp:lastModifiedBy>lzotter</cp:lastModifiedBy>
  <dcterms:modified xsi:type="dcterms:W3CDTF">2008-08-12T22:06:05Z</dcterms:modified>
  <cp:revision>20</cp:revision>
  <dc:subject/>
  <dc:title>Slide 1</dc:title>
</cp:coreProperties>
</file>