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42F057-7117-46CE-B4DB-FCBF6E23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AABA72-70C6-47DA-85F1-B60FE7DA6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BF1-C0A4-4810-BD0F-149CA343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4A8-C352-466B-B4C2-E901D9F0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025-5D84-4900-BFD3-F3151641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A4E-3B84-4520-9996-4FB11CED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2BD8-F5E3-4C73-93B9-222B92F358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31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7DADE-FC04-4423-A547-ADB9A47D8D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AA94D-B25F-4387-9685-34F06AEA38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F0CB1-5586-4F84-9977-E44D37C23F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9879E-EA88-48AF-A5FE-2B4E3628F3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316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AC87E-D451-4F63-AF3B-29D1218FB4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71E2D-FB51-4E1B-92C6-7073BD0CF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31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7D5-6EFF-4B8E-8FE4-1DAD3DF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B1D8-CF44-491B-A612-B1136E702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59AE7-73C1-47DF-8D76-4464616ABD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0F664-EB98-4A52-A271-77FCCDEDEB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09008-EC64-4B90-B953-7FA95ACFFF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4CEB4-5BB5-4C37-8185-7C551FDF2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B94-1BDC-4D5B-8BE8-DB916FE0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BD3-497F-4D71-A875-43F4729D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ED4-460C-4839-896F-5F9B3CED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316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889-5166-4858-ABCF-59C5AA5E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AB7-58F1-46AB-9463-7BC788A1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7FB-36A7-4394-9438-8D5EADB3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6AB-0683-4401-9700-0E84D41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457200" y="6432480"/>
            <a:ext cx="2895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4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3733920" y="64098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1485-C3E1-47D5-844C-DB0A7FBBF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57200" y="6432480"/>
            <a:ext cx="2895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3733920" y="64098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5767-FA35-4CAB-8B74-D0D6CBACC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3733920" y="64101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B453-7905-4804-AF75-64ADB827B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2008 Go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communications to TAC on reliability issues and/or events.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3812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S developed procedures for handling future event investigations in an effort to standardize processes and improve communications with stakeholders about the investig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 criteria to staff regional reliability standard drafting teams for Standard Authorization Requests (SARs) approved by RSC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&amp; analyze ERCOT System Operations, Emergency Electric Curtailment Plan (EECP) events &amp; significant outages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hanges to ERCOT Operating Guides, Protocols and Standar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3733920" y="64101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14B9-45F8-4659-86D3-4A6D9456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 2008 Goals (con’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mplementation of noda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the existing ERCOT Operating Guides to conform to the new nodal market.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echnical assistance and recommendations regarding network modeling implementation issues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Schedule Control Error (SCE) scores and related performance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NERC Standards that have been approved by FERC in conjunction with potential ERCOT related documents.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3733920" y="64101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87F4-4F8B-4346-AACC-F12FB86C8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 2008 Goals (con’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need for changes in ERCOT Protocols and Operating Guides due to implementation of FERC ERO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y language and terminology for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duplicative or conflict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ocol assessment targeted for 2008 by PRS;  Operating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essment by ROS targeted fo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WMS, as needed, in implementing the Wind Impact Study’s recommendations for Regulation Service as wind penetration increases/post Nodal Go-Live.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TF 3c; recommendations to be reflected in 2009 proc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00010966</cp:lastModifiedBy>
  <dcterms:modified xsi:type="dcterms:W3CDTF">2008-08-01T18:49:14Z</dcterms:modified>
  <cp:revision>117</cp:revision>
  <dc:subject/>
  <dc:title>Role of Account Management at ERCOT</dc:title>
</cp:coreProperties>
</file>