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4C6D-B3C3-4E3A-84BC-AC9B0682E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A296-D2C5-4AAF-B529-CCD3E7A8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9E1-268F-4B6B-B314-11BD3DBD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2EA-7F3E-4A13-852D-DE8ED171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8FE-CF46-46EA-8EA8-AE375473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6FA-DB61-433A-A81D-39803C07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08B-C257-4DC4-A04B-C1E3D4BF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1FC-3652-451A-9EF5-2E3ECBD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FC2-88D5-4CA5-AB19-4A7EC458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258-9563-45CE-B7BC-C3233BAE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482-BAE4-48BB-95B5-B20C72DD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B1C-4B12-4942-A9A7-40C9817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D27-04D2-42BF-A449-4FD6A5CD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60E-4A17-4F94-AEAB-6F50B66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0048-7CF1-483C-960E-E06874F5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14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603600" y="0"/>
            <a:ext cx="2227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80880" y="4572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Performance to the Proposed New Balancing Authority Alarm Limi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August 12 and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analysis of Wind Generator inertia and governor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iscuss Nodal market expected control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September 9 and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62120" y="380880"/>
            <a:ext cx="22096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 July  2008 =133.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638680" y="380880"/>
            <a:ext cx="26672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Twelve Month rolling Average CPS1 = 121.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5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791320" y="152280"/>
            <a:ext cx="761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7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3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7.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0"/>
          <p:cNvSpPr/>
          <p:nvPr/>
        </p:nvSpPr>
        <p:spPr>
          <a:xfrm>
            <a:off x="6095880" y="106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6781680" y="13716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63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Green, Bob</cp:lastModifiedBy>
  <dcterms:modified xsi:type="dcterms:W3CDTF">2008-08-11T16:30:48Z</dcterms:modified>
  <cp:revision>72</cp:revision>
  <dc:subject/>
  <dc:title>ROS Report</dc:title>
</cp:coreProperties>
</file>