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0558FC-58E4-43EC-896F-5AD65C91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2A39A0-A245-43F3-8C77-A0DE32D8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E17CFD-BD14-4DBE-AF44-E4017161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65CF-490B-4EB7-8FD9-99C09AA6A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49F8-4154-47AC-B8CF-9CF184752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93DF-60D0-495B-9294-6B894A818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550C-B7FF-48F2-BE2C-6203126B8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010E-CE1E-454D-8451-BE859E107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6718-FE6C-468C-A413-51C800D9A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AC69-18B7-4588-9000-1953BD838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25E1-75F7-4BDD-B960-BE968D008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3353-CF88-4209-AFC9-64813B41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18F4-8A04-45C5-91A1-79C6B97EB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3A49-3A32-407E-9B84-E9316409B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88AD-227F-45EB-BDD6-B532C2E68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E8B-5D91-4207-9DEB-F8FBFA75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BEE-0386-49A2-8388-E5DD6B2C16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ugust 200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457200" y="1003320"/>
            <a:ext cx="81532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quest to add SLA Exceptions to Metr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ample 1: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Rectangle 3"/>
          <p:cNvGraphicFramePr/>
          <p:nvPr/>
        </p:nvGraphicFramePr>
        <p:xfrm>
          <a:off x="907920" y="1066680"/>
          <a:ext cx="73263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066680"/>
                    <a:ext cx="73263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ample 2: Impact if SLA exceptions had not been grant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8" name="Rectangle 3"/>
          <p:cNvGraphicFramePr/>
          <p:nvPr/>
        </p:nvGraphicFramePr>
        <p:xfrm>
          <a:off x="457200" y="806400"/>
          <a:ext cx="746748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06400"/>
                    <a:ext cx="746748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to date performance continues to be below the service level targe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 Batch Oper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impacted by a data issue that caused a job to abort and be backed out and rerun.  The delay caused by this incident required several days of catch up time to meet the success criteri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and Grid Control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 Time Balancing Mark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 problems in Ju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Contro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 problems in Ju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trics Guide  - Retail, Wholesale &amp; System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ail &amp; Wholesale Oper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availability of the systems that process retail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Market Link (T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availability of the web-based application that provides access to both general and market participant specific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availability of the web-based application that is used to track retail market transaction issues and resolve data discrepan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lesale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success rate of ERCOT’s settlement &amp; billing batch process completing on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L Report Explo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availability of the web-based application that is used by Market Participants to download Data extracts and reports and set data delivery sche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availability of the Application Programming Interface that is used by Market Participants to download Data extracts and reports and set data delivery schedu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Oper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 Time Balancing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number of real time balancing market intervals (every 15 minutes) successfully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f the availability of the software that controls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304920" y="849240"/>
            <a:ext cx="81723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457200" y="928800"/>
            <a:ext cx="82296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3818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609480" y="950760"/>
            <a:ext cx="773928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685800" y="925560"/>
            <a:ext cx="75531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August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380880" y="896760"/>
            <a:ext cx="85345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8-08-11T22:07:43Z</dcterms:modified>
  <cp:revision>76</cp:revision>
  <dc:subject/>
  <dc:title>Instructions</dc:title>
</cp:coreProperties>
</file>