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5.wmf" ContentType="image/x-wmf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05ED-2D78-49C7-BEA9-11E169E95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31C0-0BB6-48EC-A95C-60A31E0B1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92D5-5DDC-4065-AD47-3B65C19B2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CDE4-1020-4157-BBA4-59A2D67C0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A6A6-8D92-4D88-BDE6-9E17F3A01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CAD9-45B9-4A2C-9770-1A91CB5B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B45-0CFD-42F3-88B5-917D0CCA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3CD-D71C-4DDD-8BB7-0B30159B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0770-9A93-41DC-9B44-74E1A49A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D3F1-D685-45FD-89A9-140AEE54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7F55-A361-4E95-BDDD-92616C58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366F-5F12-4405-B0EE-FA23C291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671D-4071-48D0-A6CE-70D61886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5DA3-82FF-400D-8591-1EA1FA43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BA50-2003-4EA8-9020-6859B673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7B40-DD30-4102-9A13-6F6719AE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8078-6E9D-4230-AD02-1D6AF52A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2FBF-D314-412E-A10C-6F3B98F4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3EF0-85F8-424D-A172-B9809A15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4DFD-FE4B-44AC-B170-81A78D7C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BB35-F980-4DA2-930F-D860CE28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F4FC-2893-4C4B-95E0-6A2C331A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F58D8-36AE-4084-AA79-8898A784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F5CD2-A30F-4BB7-883F-680E4896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FD56E-E61D-4083-A216-791364C4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8B391-EF22-4417-8CD8-DC326E00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700A0-E396-4022-AF8E-7299516B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972-70C2-4DE4-9362-37E168A9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34DC3-1921-4DAD-B3DB-1FC7128C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0BAC9-6FAA-4164-9BDD-F139873D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B9367-8E3F-4CED-A570-60206ADF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3159C-844D-4135-8E5C-2ADFFBD4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4EE0E-E7D5-41F2-AFA5-52D72E7C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234E7-12F1-430E-82AF-4515007C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CF40C-A489-490C-AFA4-373DCFA2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B7FF5-3DCD-4B7A-BDA2-517B6B9E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6969A-0337-4CA6-9A6C-5CE411F1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62F4E-FE84-49B4-A036-55BCD44D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429A-983D-43E3-A021-100EDE77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573C7-D4C1-4741-84D2-0304F8C6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1B813-7092-4E97-AD3D-F56D2B50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F1075-966E-4BDC-94FF-00B63CA6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92941-C4BE-48E8-A015-F24FA02E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0F7EE-38A4-4CEE-9B33-082CDEAB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2E677-DDD3-4001-99F0-B3912179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CD8C4-973A-44B3-B25B-40A2820B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70123-D9B9-4D22-B50B-07EC343A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9AED9-B408-4B1D-AAB8-ED22AD87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AB7F4-64CD-49DB-8512-5FD876B5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D41-ABA4-48E3-B082-02DB84CE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67905-E01D-4207-9088-69A37244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3BD52-5CE3-4CCD-ACC7-A262E9D4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294C2-1434-424D-853B-3332EB0D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A7C1F-FC2F-44C3-80FE-BEB06570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6878B-9D9A-41DC-81B8-AD8A5AC2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6ABCD-2054-42FC-917A-7AF9CC48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7AE76-FBDB-406D-9EAB-408C184F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E991C-1E2B-439A-924F-68A54F37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63AB0-0043-432F-B288-283B08D8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CAB4F-A26F-49E1-822E-E2E5B3DC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CA3F-0398-4F88-9219-12452A8D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853A3-E150-4CE0-AE14-1D0B98B4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3D02B-1305-4883-BAF5-0C69C60F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EC14E-6F52-4100-A966-703A8157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F8551-398F-4103-8B9F-1FE27FE9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D357A-9F9C-4F8A-BEB4-795273E0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68F44-2AFD-4678-93E8-59790639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78B17-E1BA-4DA6-A96E-481D31C6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8CAFC-F976-404D-BC8A-E9F6A7AB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B5A12-9203-4753-AF10-92323A13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83145-2DCF-4F2C-8589-9992990C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E351-E977-4582-BD26-3FA7F362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6A3E6-C44E-4DA4-AAFC-DF8D9D91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39464-6A3C-4AB1-9202-4E0083E3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746B8-38F4-46F4-9F5D-3BA4BFFD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2C614-3623-4CBA-9F18-BDCEAA2F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C2931-380C-4A97-806F-5C1D926D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F5C43-3092-4A0A-8F57-4E8E4FDB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0760A-6A19-46F7-8BBA-277B79C9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1D6FF-8826-463A-B334-55976538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62511-E1CE-4A53-AD75-EB5EA39A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E362F-E1FD-4B4E-82E1-9BB4D655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E5C-857E-4FD1-9994-49034A8E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155AB-6A39-497E-A5DD-90BA3B14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9F01A-CF56-49E4-8A82-361A4F5A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4B4C6-B32C-47B3-9F01-3AFEEC90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4835F-4CE8-415E-A539-57085EFE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53825-6271-4491-A51B-2A3A9B6F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D5E39-4C7D-48F9-AEA9-7A71086D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43953-F4D4-47C1-9B4E-3FA8B997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71D0A-A572-4A77-8225-E1ED72E3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A52E2-E04D-4495-AF82-6BE5E708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7F20B-C78B-4CE3-AA48-F44EF94F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F4DA-B176-4C53-9361-798EB4C5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6E89E-ACF9-4F88-873D-E65E7797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56422-6C8C-4C72-8277-37AE6D0F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4E7A9-58C2-4F71-8D74-31EF40FF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CE94D-F23B-44CC-85BD-7700EA71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4BB2E-095B-4B94-B6B1-54564342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E45B2-6106-4397-9AE4-33107594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DBF3D-D10E-46F9-9EA9-E6F3A531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879F-F5ED-4FC7-A6AA-482915C72B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8574-F1D2-464B-94AC-017BC8DE89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A0F3-6784-4D9B-B88D-4D4585430C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3A9C-C013-43A8-9CBF-8EBFB194D6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4BD4-3EE8-4E90-976B-B9B416E416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53E7-E39B-4821-A8F4-BA30BA72A1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6A74-0B69-4C58-A9E8-AC2784DB97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7F2D-4713-493C-A1D4-B9B156896B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663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Lucida Sans Unicode"/>
              </a:rPr>
              <a:t>Update to R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Lucida Sans Unicode"/>
              </a:rPr>
              <a:t>August 13, 2008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uccessful implementation of the detailed requirements – MT phase 2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crease efficiencies within the tool where necessary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pdate and Restructure User’s Guid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pdate and Restructure User Training where applicab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ook into a Web Based Training for MarkeTrak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3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26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MCj04042630000[1]"/>
          <p:cNvPicPr/>
          <p:nvPr/>
        </p:nvPicPr>
        <p:blipFill>
          <a:blip r:embed="rId1"/>
          <a:stretch/>
        </p:blipFill>
        <p:spPr>
          <a:xfrm>
            <a:off x="1752480" y="1371600"/>
            <a:ext cx="5943600" cy="4724280"/>
          </a:xfrm>
          <a:prstGeom prst="rect">
            <a:avLst/>
          </a:prstGeom>
          <a:ln w="0">
            <a:noFill/>
          </a:ln>
        </p:spPr>
      </p:pic>
      <p:pic>
        <p:nvPicPr>
          <p:cNvPr id="398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MT Testing Orientation Meeting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ompleted July 3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very successful and recommended for Market Participants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who are first time participants in certification test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CERT Marketrak market testing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ompleted COB on Friday, August 8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ank you to all testing participants.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225360" y="23760"/>
            <a:ext cx="846792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cussion Item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rkeTrak SL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e Taskforce recommended the Service Level Availability  to be Monday through Saturday 7:00am to 7:00pm.  This will be presented at the next TDTWG meeting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tail SLA Proposed Changes – presentation given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y Trey Felt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ncern from MT Taskforce – Market Participants submit, update, and create reports during the weekend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tail SLA Proposed Changes -  con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Why did the Release Outage Windows need to be expande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nsideration of the time frames for the outag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Questions regarding the transaction volum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uld the % for Retail Transaction processing, TML and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be increas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oted:  TML availabiltiy has a direct impact to those using MarkeTrak.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siid research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ulk Inserts – the MIR reports are obtained from the TML Report Explor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225360" y="158760"/>
            <a:ext cx="846792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3"/>
          <p:cNvSpPr/>
          <p:nvPr/>
        </p:nvSpPr>
        <p:spPr>
          <a:xfrm>
            <a:off x="304920" y="990720"/>
            <a:ext cx="8534160" cy="51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5560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gradation of MarkeTr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arkeTrak – acceptable response times:  it was recommended by the Taskforce for each query list, query detail, query update and submit the response time should be 2 to 3 secon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Questions for ERCO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  <a:ea typeface="Arial"/>
              </a:rPr>
              <a:t>What is the maximum number of concurrent items for the follow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Query L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Query Deta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Query Up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Subm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If all are running together, what is the max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45720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July 3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  <a:ea typeface="Lucida Sans Unicode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-MT Taskforce Meet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225360" y="79200"/>
            <a:ext cx="8467920" cy="77976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"/>
          <p:cNvSpPr/>
          <p:nvPr/>
        </p:nvSpPr>
        <p:spPr>
          <a:xfrm>
            <a:off x="457200" y="990720"/>
            <a:ext cx="8381880" cy="53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560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gradation of MarkeTr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Questions for ERCO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s we get more participants, do we need more server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ho is measuring API/GUI, etc?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uptimes, response tim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Is anyone notified when there is a degradation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imeout and or no connectivity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Have we looked at anything to monitor response tim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Backlog is around lunch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Can we standardize and sequence different compan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hat is ERCOT’s maximum capability for the market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tandard Performance across compan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Can everyone (each Market Participant b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  guaranteed a level of performance so that on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  company will not cause another company’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  performance to degrad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Can higher volume companies be guaranteed mor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  through p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225360" y="195120"/>
            <a:ext cx="8467920" cy="8049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3"/>
          <p:cNvSpPr/>
          <p:nvPr/>
        </p:nvSpPr>
        <p:spPr>
          <a:xfrm>
            <a:off x="838080" y="1219320"/>
            <a:ext cx="601992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560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Other discussion item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Limits on Bulk Insert  file si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tention of MarkeTrak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7000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Action Item: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egarding date retention, please discuss 13 months retention online plus 2 years archived with your company and bring back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RCOT will use this time to perform the PR70007_01 MarkeTrak Release 2 migration to Production: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MT Implementation start August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7pm (30hr duratio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iebel and TIBCO Implementation start August 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8am (6hr duratio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roduction Verification August 1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(8hr duratio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oll back contingency (4hr duratio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 Unicode"/>
              </a:rPr>
              <a:t>Do Not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submit anything during this outage even if you can access MarkeTrak production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lease do not wait until Friday to submit and update issues.   MarkeTrak Taskforce is highly recommending all MP’s to have issues submitted and any updates completed by 5:00 pm on Friday, August 1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228600" y="3808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Lucida Sans Unicode"/>
              </a:rPr>
              <a:t>MT Implementation – Release 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ery Important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rkeTrak: any issues after Release 2 migr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ollow-up questions from TDTW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arkeTrak SL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Response Ti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Set calendar for Release 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User Guide updates for Release 3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9:55:41Z</dcterms:created>
  <dc:creator>00015621</dc:creator>
  <dc:description/>
  <dc:language>en-US</dc:language>
  <cp:lastModifiedBy>00017167</cp:lastModifiedBy>
  <dcterms:modified xsi:type="dcterms:W3CDTF">2008-08-11T21:36:39Z</dcterms:modified>
  <cp:revision>154</cp:revision>
  <dc:subject/>
  <dc:title>MarkeTrak Task Force</dc:title>
</cp:coreProperties>
</file>