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508D-8416-4709-AE7C-3A10E34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367F-84E8-4F71-A69B-4ECCE371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5D67-67FD-4109-B448-397E0FF2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9E84-CD03-414E-8886-71B7344D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A995-48CD-4F18-B768-0E18B8E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743C-AC4C-4AC0-AA05-403AF55E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440A-2CF3-4A70-A873-E02E911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8EDE-4CE8-46CB-B11B-8DC01E7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E5B9-41BF-4F2E-A5AC-7CC6855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F24C-4152-46D6-ACAD-A68FE99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28CB-84D3-4670-8D75-9B62598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D66D-35B4-4F89-89BE-689FD90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755B-B04A-4142-8E43-3193D412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rket Credit Risk Standard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view timelin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the Market Credit Risk Stand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June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Market Credit Risk Standard (reporting standard) draft to CW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July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ERCOT staff distribute draft Standard to TAC, WMS and 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July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Comments due on the Standard draft (first rou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, August x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view draft Standard with CWG at their August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Aug 7 – Review highlights of draft Standard with T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desir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ug 13 – Review draft Standard with RM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ug 20 – Review draft Standard with WM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day, August 2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mments due (fin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entative timeline for developing the Market Credit Risk Stand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, Sept xx – Review draft Standard and final comments with CWG at their Septembe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Sept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MS review final comment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Sept 1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MS review final comments at their regular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Oct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AC review final dra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Oct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esent draft Standard to F&amp;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yager</cp:lastModifiedBy>
  <dcterms:modified xsi:type="dcterms:W3CDTF">2008-07-07T21:15:11Z</dcterms:modified>
  <cp:revision>34</cp:revision>
  <dc:subject/>
  <dc:title>Instructions</dc:title>
</cp:coreProperties>
</file>