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1D4C-D3FE-4692-BAA3-6769EBA9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7AF6-54D9-4A20-8B9B-98FEE9BA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6FB5-F1E6-4FEB-88E1-ED9F6A7A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1030-79F0-4615-BF04-4409D275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2FA3-871D-4794-9629-DC40079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D446-7455-48E3-A85E-329123A2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E07A-17FF-49CC-A8F1-728D0766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D153-D11E-4A5E-94D3-1A922284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D73F-2DA7-4294-8D89-65B0AA6A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3CCA-BC34-4142-A936-634B516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7211-B873-47C2-8C02-992DF03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53B5-76EE-458F-A6F2-5DF41B14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E9BF-FE12-4A14-8064-DCA8DF9F0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13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13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608 complete; 7880 total task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was utilized for completing outstanding transactions as well as for the CERT Marketrak test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New CRs, 4 Existing CRs tested a banking change, 4 Existing CRs changed to established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Status Update; 2523 tota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100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9/10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9/1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10/03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10/0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11/18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08-07T14:22:49Z</dcterms:modified>
  <cp:revision>98</cp:revision>
  <dc:subject/>
  <dc:title>Instructions</dc:title>
</cp:coreProperties>
</file>