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7960" y="687240"/>
            <a:ext cx="4592520" cy="344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0E0B9A5-82CE-4DC3-B95B-1D0A7FFC7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FFD7F86-0813-435C-B362-7453FEACA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65BC991-56D4-4E58-B099-CEF1359D8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667E300-5C4E-4259-B1AC-9082160A2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EB1EE01-09FF-4717-BFFA-FAB3BECA1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682B7E0-B30A-461C-9907-1B44E7244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3FDC85A-A3FA-4C9D-9508-55D202DB0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E4CB0A0-794D-482B-9C31-516E37D00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CC51E22-0FEC-42D9-BF84-5FF7E7AA9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F9B19F4-5D16-4FEF-B484-A16CD8045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043C-9766-4A44-8DAD-E7578888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5A42-7A57-4775-B21A-88858781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BF2F-666A-496A-82E8-ABFC4ECC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0C9A-A19B-4588-9940-A6AECDC7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AFEC-7FBC-4CA0-9686-C9516353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1E92-0DCC-440E-94E5-C7C91FA1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24EB-916C-4B30-8BE8-CFDA1EC3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195C-8C9B-4AF9-8C79-EF344E65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40B9-A3B0-48D9-B10F-1CD96A8D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D4B8-AAAB-46C2-BE7E-F4571157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0E8D-043D-4668-960C-50F93004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129E-D26C-4492-96E3-14716D2A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E6DD-2F32-4CA4-A811-21E6F5A2A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Copy of Ercot Logo"/>
          <p:cNvPicPr/>
          <p:nvPr/>
        </p:nvPicPr>
        <p:blipFill>
          <a:blip r:embed="rId2"/>
          <a:stretch/>
        </p:blipFill>
        <p:spPr>
          <a:xfrm>
            <a:off x="708660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380880" y="1219320"/>
            <a:ext cx="830592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WordArt 12"/>
          <p:cNvSpPr txBox="1"/>
          <p:nvPr/>
        </p:nvSpPr>
        <p:spPr>
          <a:xfrm>
            <a:off x="228600" y="38088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DTWG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87CB-5A65-417D-AF24-BE97BF530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DTW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105520" y="5789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ust 13, 2008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60E5-DF3E-4D49-A245-09AA1C1A9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610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ing ERCOT System Outages and fail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ed Proposed Changes to Inciden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current status of SCR748 and SCR7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SLA Planned/Unplanned Needs for 200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additional conf call for continued discussion on proposed changes to Retail S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BBC7-90F0-42A5-B473-D3B2405F9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Continue working with the ERCOT Manager of Operations to address each system incid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 Ebbers reviewed the ERCOT outage report in both detail and summary form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equest was made of Tim to research whether report  might be missing an outage that occurred in J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pplicable, an updated outage report will be posted and TDTWG members not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048120" y="441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Discussed Proposed Changes to Inciden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ion at 7/9/08 RMS meeting brought up desire for outage report to show service availability both including and excluding SLA exemptions. This  prompted a proposed modification to the Retail Service Availability Summary worksh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e Farley and Trey Felton will create a DRAFT outage report with the new columns &amp; definitions. It will be forwarded for verification to Kyle Miller who submitted the proposed mod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73F0-95B4-4B3E-B099-339B09F60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C972-3E30-4EC0-95E2-DA1B08E26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DTWG continues working with ERCOT to clarify the status of SCR748 and SCR745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No updates were available for SCR74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vin Tanner gave a brief update on SCR74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oject is progressing wel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lanning Phase is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Two Contractors hired to mitigate risk of resour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evelopment in progress (started 7/25/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Ste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vin to validate design with ERCOT Commercial Ops are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/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 Live” on December 18 is still On-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SLA Planned/Unplanne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request at the 7/9 RMS meeting, Trey Felton presented detailed supporting data for the proposed  changes to the SLA regarding scheduling of planned out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Proposed cha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k 1 &amp; 2 – 18 hr outage (increased from 12h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k 3 (&amp; wk 5 if occurs) – 12 hr outage (added 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k 4 – 36 hr outage (extended outage shifted fr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k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ummary: Total additional hours per year are 1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5DC5-F3A4-43A3-9629-5C1106AF5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4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DTWG attendees requested ERCOT to evalua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Having one wk/month with no planned outag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vised hrs of outages as follows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k 1 &amp; 2 – 15hrs (instead of 18hr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k 3 – 12 hrs (optionally, no outag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k 4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– 30 hrs (instead of 36 hr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k 5, if occurs – 12 h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cceptable response time of 2-5 sec for MarkeTrak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ery List, Query Detail &amp; Query Upd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Karen Malkey will send list of additional questions to Karen Farley for ERCOT consideration and reply to Karen by Aug 21 (next MarkeTrak meeting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RCOT requested Karen Malkey to ask MarkeTrak Task Force whether Saturday 7am-Noon availability is acceptable instead of 7am-7p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AA22-7270-4B05-9471-EDDEC967E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DF46-5BD7-4540-A8C3-2EB17A5E2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Set additional conf call for continued discussion of proposed changes to Retail S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 call set for Aug 25 from 2-4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will provide feedback on suggested outage # of h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will provide detailed transaction counts per hr for Sunday(s) to assist in finalizing outage h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ren Malkey/ERCOT will provide result of discussion of changes to Retail SLA that occurred at MarkeTrak Task Force Aug 21 me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00D9-A9D4-4130-B89D-91E85736F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TDTWG conf call of Sept 3 moved to Sept 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Annette Morton</cp:lastModifiedBy>
  <cp:lastPrinted>2002-09-24T18:27:58Z</cp:lastPrinted>
  <dcterms:modified xsi:type="dcterms:W3CDTF">2008-08-08T17:57:34Z</dcterms:modified>
  <cp:revision>517</cp:revision>
  <dc:subject/>
  <dc:title>PowerPoint Presentation</dc:title>
</cp:coreProperties>
</file>