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A84F-9E20-4F79-B1D2-F99252F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F4B3-8BDE-4C63-A7BA-5D99BAE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6C57-4C17-4647-9390-09E5C269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357A-51D0-4698-86B1-E7F9ECB8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EBF1-5BCB-4628-939B-D667DF15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1755-3DA1-405D-A6CE-CDCC09F3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78C8-48B9-4956-8196-D5BA8783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DC42-0B2C-4409-820E-85354FFB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0048-2DCB-4DC4-BF53-D6F8CDC8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B0F1-5BDB-4B4F-B81D-42D13C7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0249-B202-4EB5-A601-D0999FC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28FC-80A6-4C14-A0FD-C7BF765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A05-8FBA-4E3D-8FA0-C25FAF50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943600" y="6458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7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770C-AC49-4C5B-9024-E336BBDE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7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35328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nner Dynamic Reactive Project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mes Teixeir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, Regional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scription of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 MVAr of dynamic reactive cap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ner Station identified as a suitable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capability in service by 2010 p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cost : $35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cation of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46450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703160" y="1815120"/>
            <a:ext cx="689760" cy="590760"/>
            <a:chOff x="1703160" y="1815120"/>
            <a:chExt cx="689760" cy="590760"/>
          </a:xfrm>
        </p:grpSpPr>
        <p:sp>
          <p:nvSpPr>
            <p:cNvPr id="97" name=""/>
            <p:cNvSpPr/>
            <p:nvPr/>
          </p:nvSpPr>
          <p:spPr>
            <a:xfrm rot="1214400">
              <a:off x="1756800" y="1902960"/>
              <a:ext cx="582120" cy="415080"/>
            </a:xfrm>
            <a:prstGeom prst="rightArrow">
              <a:avLst>
                <a:gd name="adj1" fmla="val 50000"/>
                <a:gd name="adj2" fmla="val 3506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liability Need for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VLS Schemes Trip Over 2400 MW of Firm Load without Project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10 peak loa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expected DFW area generation i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00 MVAr SVC assumed in service at Park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RC category C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dependent Review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 MVAr Dynamic Reactive Device at Renn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tigates identified actuation of UV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resses a fundamental need for dynamic reactive support in the DFW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vides some locational diversity of DFW area dynamic reactive resources along with the Parkdale S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 not eliminate voltage collapse risk following the critical NERC category C contingency under all single unit out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dependent Review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gated additional impa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er fault clearing times may improve system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low voltage recovery and potential voltage collapse are exacerbated by peak load conditions and the unavailability of DFW area generation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ion results are highly sensitive to the assumed percentage of motor load. Higher percentages of motor load increase the likelihood of fast voltage collapse following system fa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PG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G Comment 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, 2008 through May 2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ssenting comments sub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Support for the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installation of dynamic reactive devices at Renner and Parkdale address a fundamental need for dynamic reactive support in the DFW area and provide some locational d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Recommend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cor should pursue system improvements that would reduce the severity of critical contingencies in order to delay additional investments for dynamic reactive capability in the DFW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06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supports the need for this project and will seek approval by th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teixeira</cp:lastModifiedBy>
  <dcterms:modified xsi:type="dcterms:W3CDTF">2008-07-21T21:07:47Z</dcterms:modified>
  <cp:revision>28</cp:revision>
  <dc:subject/>
  <dc:title>Instructions</dc:title>
</cp:coreProperties>
</file>