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7.wmf" ContentType="image/x-wmf"/>
  <Override PartName="/ppt/media/image13.png" ContentType="image/png"/>
  <Override PartName="/ppt/media/image8.png" ContentType="image/png"/>
  <Override PartName="/ppt/media/image16.jpeg" ContentType="image/jpe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15.wmf" ContentType="image/x-wmf"/>
  <Override PartName="/ppt/media/image7.png" ContentType="image/png"/>
  <Override PartName="/ppt/media/image1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dt" idx="9"/>
          </p:nvPr>
        </p:nvSpPr>
        <p:spPr>
          <a:xfrm>
            <a:off x="3973320" y="0"/>
            <a:ext cx="30366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0"/>
          </p:nvPr>
        </p:nvSpPr>
        <p:spPr>
          <a:xfrm>
            <a:off x="0" y="883116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 type="sldNum" idx="11"/>
          </p:nvPr>
        </p:nvSpPr>
        <p:spPr>
          <a:xfrm>
            <a:off x="397332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0BF8130-1026-48C5-8014-5C9814C55B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BA213-F9AF-4E4A-8CE6-6E31F84FBA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397332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B3F19BD-59ED-49F3-BB88-072E99DABA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883116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0" y="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3973320" y="0"/>
            <a:ext cx="30366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 txBox="1"/>
          <p:nvPr/>
        </p:nvSpPr>
        <p:spPr>
          <a:xfrm>
            <a:off x="397332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8BD27D4-AA5D-42CE-91C2-9FC10E95D7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883116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0" y="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3973320" y="0"/>
            <a:ext cx="30366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0BF0F7B-9E57-46DB-B22F-DD855ED76E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840661-C1B2-472C-8DBF-B15160BB6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9214CF-8368-418B-861B-5C7908A9A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9AAC6B-3144-43FF-AA6D-C8CAD8A88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BB7E67-4A1B-4F5A-A111-5297A593B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B14600-E50C-4A63-BA1B-D5E3C1015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7D57C4E-A05F-4FE6-B77B-72278E692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E5D7746-C2A1-4B20-8D54-B034790B5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E70425C-69E7-4893-9C96-9B7F5A985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C5FEB7B-8C9C-4249-9CEA-56127E263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EB03E57-3AD9-427F-8877-ED0337FCE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D6DE24-394D-430B-A054-C3D28424B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DFFBE66-6F66-4DE7-8630-E5988F354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65D2D08-10A6-4637-B8D1-887F9EFEA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E1B8FA1-6B17-42CE-86A7-1037D11E3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0FA2619-2485-445D-B243-AC0327C5F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7DBBF5C-AEE1-4F14-8F9D-5373E3BEB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0AC79F3-FC4F-4661-9609-AC4E567C3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4B49983-87F7-4EC4-9BB0-A5A6D33D9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A3A8CE-D939-40ED-B992-C77645CC8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496915-3743-43AA-BFE8-CAA815694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A2C272-DF06-4C83-95C1-33B4EEB75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15A9AB-9843-4EFC-B81F-A91CD586B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3BC496-FF4F-4B07-AB4E-17D28BA18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E80609-2C9D-4EC0-9720-8BFBAA489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B74F8-972D-4182-96F6-14F99941ED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dt" idx="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gust 7, 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3429000" y="64771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84F38-62AA-4290-B5A9-D9A8EDB931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333520" y="1905120"/>
            <a:ext cx="647712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2333520" y="5466960"/>
            <a:ext cx="62769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ugust 7, 200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2333520" y="5067360"/>
            <a:ext cx="627696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A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A87BD-047E-4785-86C1-913A174035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324160" y="2247840"/>
            <a:ext cx="5791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 Black"/>
              </a:rPr>
              <a:t>Texas Nodal Market Implementation</a:t>
            </a:r>
            <a:br>
              <a:rPr sz="2000"/>
            </a:br>
            <a:r>
              <a:rPr b="0" lang="en-GB" sz="2000" spc="-1" strike="noStrike">
                <a:solidFill>
                  <a:srgbClr val="ffffff"/>
                </a:solidFill>
                <a:latin typeface="Arial Black"/>
              </a:rPr>
              <a:t>Data Center Data Migrati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body"/>
          </p:nvPr>
        </p:nvSpPr>
        <p:spPr>
          <a:xfrm>
            <a:off x="227160" y="1028880"/>
            <a:ext cx="8547120" cy="45259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marL="320760" indent="-3207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2653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65240" indent="-2127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92200" indent="-2142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919160" indent="-21276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919160" indent="-21276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919160" indent="-21276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17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7" name=""/>
          <p:cNvSpPr/>
          <p:nvPr/>
        </p:nvSpPr>
        <p:spPr>
          <a:xfrm>
            <a:off x="106848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152280" y="6351480"/>
            <a:ext cx="727200" cy="39240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0" y="698400"/>
            <a:ext cx="9144000" cy="55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5320" rIns="85320" tIns="42480" bIns="42480" anchor="ctr">
            <a:noAutofit/>
          </a:bodyPr>
          <a:p>
            <a:pPr algn="ct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6858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4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333520" y="1904760"/>
            <a:ext cx="6019920" cy="123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Texas Nodal Market Implementation: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Program Updat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2342880" y="3580920"/>
            <a:ext cx="6343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Ron Hinsley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Texas Nodal Program Upda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March 30,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rcRect l="18212" t="70403" r="28105" b="16714"/>
          <a:stretch/>
        </p:blipFill>
        <p:spPr>
          <a:xfrm>
            <a:off x="474840" y="2043000"/>
            <a:ext cx="4308120" cy="676440"/>
          </a:xfrm>
          <a:prstGeom prst="rect">
            <a:avLst/>
          </a:prstGeom>
          <a:ln w="0">
            <a:noFill/>
          </a:ln>
        </p:spPr>
      </p:pic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ERCOT Readiness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3" name="Rectangle 5"/>
          <p:cNvSpPr/>
          <p:nvPr/>
        </p:nvSpPr>
        <p:spPr>
          <a:xfrm>
            <a:off x="5445000" y="1981080"/>
            <a:ext cx="3495960" cy="39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7360" indent="-1173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gagement </a:t>
            </a:r>
            <a:r>
              <a:rPr b="1" lang="en-US" sz="1200" spc="-1" strike="noStrike">
                <a:solidFill>
                  <a:srgbClr val="008000"/>
                </a:solidFill>
                <a:latin typeface="Arial"/>
              </a:rPr>
              <a:t>(gree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61880" indent="-1728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COT remains fully engag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61880" indent="-1728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7360" indent="-1173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ining </a:t>
            </a:r>
            <a:r>
              <a:rPr b="1" lang="en-US" sz="1200" spc="-1" strike="noStrike">
                <a:solidFill>
                  <a:srgbClr val="ffcc00"/>
                </a:solidFill>
                <a:latin typeface="Arial"/>
              </a:rPr>
              <a:t>(amb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61880" indent="-1728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ining efforts are on-go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61880" indent="-1728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7360" indent="-1173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cess </a:t>
            </a:r>
            <a:r>
              <a:rPr b="1" lang="en-US" sz="1200" spc="-1" strike="noStrike">
                <a:solidFill>
                  <a:srgbClr val="008000"/>
                </a:solidFill>
                <a:latin typeface="Arial"/>
              </a:rPr>
              <a:t>(gree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61880" indent="-1728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departments are meeting target performance lev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61880" indent="-1728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7360" indent="-1173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ffing </a:t>
            </a:r>
            <a:r>
              <a:rPr b="1" lang="en-US" sz="1200" spc="-1" strike="noStrike">
                <a:solidFill>
                  <a:srgbClr val="ffcc00"/>
                </a:solidFill>
                <a:latin typeface="Arial"/>
              </a:rPr>
              <a:t>(amb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61880" indent="-1728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COT is currently ~95% staff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61880" indent="-1728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98% required for green statu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61880" indent="-1728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ruitment is on-go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61880" indent="-1728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7360" indent="-1173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sting </a:t>
            </a:r>
            <a:r>
              <a:rPr b="1" lang="en-US" sz="1200" spc="-1" strike="noStrike">
                <a:solidFill>
                  <a:srgbClr val="008000"/>
                </a:solidFill>
                <a:latin typeface="Arial"/>
              </a:rPr>
              <a:t>(gree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61880" indent="-1728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recent develop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6"/>
          <p:cNvSpPr/>
          <p:nvPr/>
        </p:nvSpPr>
        <p:spPr>
          <a:xfrm>
            <a:off x="587520" y="1224000"/>
            <a:ext cx="7696080" cy="40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74840" y="1082520"/>
            <a:ext cx="779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RCOT Staff Readiness status is </a:t>
            </a:r>
            <a:r>
              <a:rPr b="1" i="1" lang="en-US" sz="1800" spc="-1" strike="noStrike">
                <a:solidFill>
                  <a:srgbClr val="ffcc00"/>
                </a:solidFill>
                <a:latin typeface="Arial"/>
              </a:rPr>
              <a:t>A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5960" y="1981080"/>
            <a:ext cx="685800" cy="773280"/>
          </a:xfrm>
          <a:prstGeom prst="rect">
            <a:avLst/>
          </a:prstGeom>
          <a:noFill/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2"/>
          <a:stretch/>
        </p:blipFill>
        <p:spPr>
          <a:xfrm>
            <a:off x="5486400" y="55440"/>
            <a:ext cx="3433680" cy="52884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6418440" y="57240"/>
            <a:ext cx="687240" cy="601560"/>
          </a:xfrm>
          <a:prstGeom prst="ellipse">
            <a:avLst/>
          </a:prstGeom>
          <a:noFill/>
          <a:ln w="1908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3"/>
          <a:srcRect l="15435" t="53465" r="24954" b="14337"/>
          <a:stretch/>
        </p:blipFill>
        <p:spPr>
          <a:xfrm>
            <a:off x="304920" y="3321000"/>
            <a:ext cx="5051160" cy="245268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4"/>
          <a:srcRect l="41554" t="81671" r="25271" b="15396"/>
          <a:stretch/>
        </p:blipFill>
        <p:spPr>
          <a:xfrm>
            <a:off x="2517840" y="4335480"/>
            <a:ext cx="2811240" cy="223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xas Nodal Program Updat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7C2FEB-82E3-4323-A880-524636137602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March 30,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Market Participant Readiness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2" name=""/>
          <p:cNvSpPr/>
          <p:nvPr/>
        </p:nvSpPr>
        <p:spPr>
          <a:xfrm>
            <a:off x="249840" y="1071720"/>
            <a:ext cx="57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3280" indent="-23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rket Participant Readiness status is </a:t>
            </a:r>
            <a:r>
              <a:rPr b="1" i="1" lang="en-US" sz="1800" spc="-1" strike="noStrike">
                <a:solidFill>
                  <a:srgbClr val="ffcc00"/>
                </a:solidFill>
                <a:latin typeface="Arial"/>
              </a:rPr>
              <a:t>A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5448240" y="55440"/>
            <a:ext cx="3433680" cy="52884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7275600" y="57240"/>
            <a:ext cx="687240" cy="601560"/>
          </a:xfrm>
          <a:prstGeom prst="ellipse">
            <a:avLst/>
          </a:prstGeom>
          <a:noFill/>
          <a:ln w="1908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5"/>
          <p:cNvSpPr/>
          <p:nvPr/>
        </p:nvSpPr>
        <p:spPr>
          <a:xfrm>
            <a:off x="4952880" y="1676520"/>
            <a:ext cx="41576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1360" indent="-1713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gagement </a:t>
            </a:r>
            <a:r>
              <a:rPr b="1" lang="en-US" sz="1200" spc="-1" strike="noStrike">
                <a:solidFill>
                  <a:srgbClr val="ffcc00"/>
                </a:solidFill>
                <a:latin typeface="Arial"/>
              </a:rPr>
              <a:t>(amb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mited survey response from QSEs and LSEs drives amber stat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-reach efforts are on-go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nnectivity </a:t>
            </a:r>
            <a:r>
              <a:rPr b="1" lang="en-US" sz="1200" spc="-1" strike="noStrike">
                <a:solidFill>
                  <a:srgbClr val="008000"/>
                </a:solidFill>
                <a:latin typeface="Arial"/>
              </a:rPr>
              <a:t>(gree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gistration and Qualification </a:t>
            </a:r>
            <a:r>
              <a:rPr b="1" lang="en-US" sz="1200" spc="-1" strike="noStrike">
                <a:solidFill>
                  <a:srgbClr val="ffcc00"/>
                </a:solidFill>
                <a:latin typeface="Arial"/>
              </a:rPr>
              <a:t>(amb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P10 (resource mapping) continues to impro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P11 (RARF data) – RARFs representing more than 99.5% of MWs have been submit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lemetry </a:t>
            </a:r>
            <a:r>
              <a:rPr b="1" lang="en-US" sz="1200" spc="-1" strike="noStrike">
                <a:solidFill>
                  <a:srgbClr val="009900"/>
                </a:solidFill>
                <a:latin typeface="Arial"/>
              </a:rPr>
              <a:t>(gree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ining </a:t>
            </a:r>
            <a:r>
              <a:rPr b="1" lang="en-US" sz="1200" spc="-1" strike="noStrike">
                <a:solidFill>
                  <a:srgbClr val="ffcc00"/>
                </a:solidFill>
                <a:latin typeface="Arial"/>
              </a:rPr>
              <a:t>(amb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mited survey response from QSEs drives amber stat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ials Participation </a:t>
            </a:r>
            <a:r>
              <a:rPr b="1" lang="en-US" sz="1200" spc="-1" strike="noStrike">
                <a:solidFill>
                  <a:srgbClr val="008000"/>
                </a:solidFill>
                <a:latin typeface="Arial"/>
              </a:rPr>
              <a:t>(gree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istently solid performance for MP15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DS 3 trials participa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2"/>
          <a:srcRect l="29005" t="48570" r="50313" b="31692"/>
          <a:stretch/>
        </p:blipFill>
        <p:spPr>
          <a:xfrm>
            <a:off x="2104920" y="3801960"/>
            <a:ext cx="2286000" cy="173988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3"/>
          <a:srcRect l="55782" t="41408" r="33282" b="29687"/>
          <a:stretch/>
        </p:blipFill>
        <p:spPr>
          <a:xfrm>
            <a:off x="380880" y="3048120"/>
            <a:ext cx="2667240" cy="281916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4"/>
          <a:srcRect l="64533" t="41408" r="22970" b="29687"/>
          <a:stretch/>
        </p:blipFill>
        <p:spPr>
          <a:xfrm>
            <a:off x="1828800" y="3048120"/>
            <a:ext cx="3048120" cy="281916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5"/>
          <a:srcRect l="18212" t="70403" r="28105" b="16714"/>
          <a:stretch/>
        </p:blipFill>
        <p:spPr>
          <a:xfrm>
            <a:off x="474840" y="2043000"/>
            <a:ext cx="4308120" cy="67644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4267080" y="1981080"/>
            <a:ext cx="685800" cy="773280"/>
          </a:xfrm>
          <a:prstGeom prst="rect">
            <a:avLst/>
          </a:prstGeom>
          <a:noFill/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xas Nodal Program Updat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DAE33B-B0BB-403D-987A-5BBEA5A2D4F0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March 30,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Cost: Element Summary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2" name="Text Box 6"/>
          <p:cNvSpPr/>
          <p:nvPr/>
        </p:nvSpPr>
        <p:spPr>
          <a:xfrm>
            <a:off x="6553080" y="6477120"/>
            <a:ext cx="2362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RCOT 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28600" y="762120"/>
            <a:ext cx="8596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When the integrated schedule has been finalized and the financial impact determined we will incorporate this into an updated forecas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1143000" y="1517760"/>
            <a:ext cx="6705720" cy="4502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xas Nodal Program Updat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1F09B6-64AC-469F-8FAC-0077A76CAAD8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March 30,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2077920" y="880920"/>
            <a:ext cx="5257800" cy="412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TD Spend (June actuals)                      268 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ly (projected)                                         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itted contracts                     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ly contracts/July NPRRs             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tal commitments 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(2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tal spend and commitments                  3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roved budget                                       3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tential EAC Variance  (over)                    (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914400" y="5791320"/>
            <a:ext cx="6705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Contract commitments generally have 30-day out clau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914400" y="5410080"/>
            <a:ext cx="6019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Values represent $1 mill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3"/>
          <p:cNvSpPr/>
          <p:nvPr/>
        </p:nvSpPr>
        <p:spPr>
          <a:xfrm>
            <a:off x="152280" y="0"/>
            <a:ext cx="8686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Nodal Financi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133720" y="289548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4572000"/>
            <a:ext cx="472428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133720" y="3352680"/>
            <a:ext cx="472428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xas Nodal Program Updat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A97BE8-6AEB-4548-8B56-BD6EA52FA773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March 30,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333520" y="1904760"/>
            <a:ext cx="6019920" cy="123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Quality Control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2342880" y="3580920"/>
            <a:ext cx="6343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Eileen Hall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Texas Nodal Program Upda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March 30,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Nodal Quality is of Increasing Concern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995400"/>
            <a:ext cx="822960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eas of concern we are addressing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adequate test cycle dur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mited testing in lower environmen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, preFAT, F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te detection of defects resulting in lengthy defect resolution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e of increase in number of severity 3 defec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5% since Janu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nimal testing in integrated test environment to 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xas Nodal Program Upda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2D9F87-6175-4D46-ADC4-C653AC1A0B3E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March 30,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Estimating Test Durations for Revised Schedule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04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rategy for estimating testing time duration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termine level of effort remai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alyze historical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tal defects to 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erage defects per rele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ect turnaround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stimate number of releases and defect fix builds for future deliver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are to previous releases of similar level of complex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ther consider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equate time for migration/installation/smo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pendent systems avail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ing/updating testing artifa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ergency EDS patch 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xas Nodal Program Upda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1FCCAA-EBA5-4D07-9B3E-486679CB62DC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March 30,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Number of Weeks of Test vs. Number of Weeks of Defect Management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961920" y="1219320"/>
            <a:ext cx="7253280" cy="39956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>
            <a:off x="715320" y="5486400"/>
            <a:ext cx="81864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3280" indent="-2332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longer the test duration, the shorter the defect management 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when number of weeks in test increases, defect management time decrea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xas Nodal Program Updat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04F04D-E81D-4B77-885E-3BAA0F19AF5B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March 30,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739800" y="4635360"/>
            <a:ext cx="6912000" cy="393840"/>
          </a:xfrm>
          <a:prstGeom prst="rect">
            <a:avLst/>
          </a:prstGeom>
          <a:solidFill>
            <a:srgbClr val="cc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Defect Turnaround Time for  EDS vs. FAT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fect turnaround time is the average time it takes (in days) to resolve a defect.  This time includes detection, analysis, fix, successful retest, and clos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te detection of defects increases defect turnaround tim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62120" y="281952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T – 51 d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62120" y="422928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DS – 73 day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5464080" y="4584600"/>
            <a:ext cx="2187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3% incr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39800" y="3289320"/>
            <a:ext cx="4702320" cy="393840"/>
          </a:xfrm>
          <a:prstGeom prst="rect">
            <a:avLst/>
          </a:prstGeom>
          <a:solidFill>
            <a:srgbClr val="0066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xas Nodal Program Upda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A1BEE2-0553-4438-94CA-2DF0754142C8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March 30,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Nodal Active Defects by Severity Trend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106280"/>
            <a:ext cx="8229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0880" y="91440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verity 3 defect trend is remaining relatively constant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cates that current defect close rate is equal to defect open 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 severity 1, 166 severity 2, and 767 severity 3 defects are currently outstan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1" name=""/>
          <p:cNvGrpSpPr/>
          <p:nvPr/>
        </p:nvGrpSpPr>
        <p:grpSpPr>
          <a:xfrm>
            <a:off x="1285920" y="2324160"/>
            <a:ext cx="6386040" cy="3886200"/>
            <a:chOff x="1285920" y="2324160"/>
            <a:chExt cx="6386040" cy="3886200"/>
          </a:xfrm>
        </p:grpSpPr>
        <p:pic>
          <p:nvPicPr>
            <p:cNvPr id="292" name="" descr=""/>
            <p:cNvPicPr/>
            <p:nvPr/>
          </p:nvPicPr>
          <p:blipFill>
            <a:blip r:embed="rId1"/>
            <a:stretch/>
          </p:blipFill>
          <p:spPr>
            <a:xfrm>
              <a:off x="1285920" y="2324160"/>
              <a:ext cx="6257880" cy="388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3" name=""/>
            <p:cNvSpPr/>
            <p:nvPr/>
          </p:nvSpPr>
          <p:spPr>
            <a:xfrm>
              <a:off x="6345000" y="4508280"/>
              <a:ext cx="1326960" cy="2764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3280" indent="-2332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Severity 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340320" y="2746440"/>
              <a:ext cx="1326960" cy="2764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3280" indent="-2332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Severity 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576840" y="4937040"/>
              <a:ext cx="928440" cy="2764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33280" indent="-2332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Severity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xas Nodal Program Upda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C44B53-79BC-4BEF-961E-E0C7F9A13501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March 30,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Agenda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8" name="Rectangle 3"/>
          <p:cNvSpPr/>
          <p:nvPr/>
        </p:nvSpPr>
        <p:spPr>
          <a:xfrm>
            <a:off x="479520" y="1095480"/>
            <a:ext cx="8229600" cy="46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gram Stat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complish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gram Assessment and Schedule Revi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EVA CIM Stat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RCOT Staff / Market Participant Readi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ality Controls (Eileen Hal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xas Nodal Program Updat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DD3169-7BF1-4172-B964-FA45F3AC82C3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March 30,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Nodal Active Defects by Severity by Project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7" name=""/>
          <p:cNvSpPr/>
          <p:nvPr/>
        </p:nvSpPr>
        <p:spPr>
          <a:xfrm>
            <a:off x="814320" y="5927760"/>
            <a:ext cx="4367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te – Includes New, Open, Reopen, Fixed and Te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tretch/>
        </p:blipFill>
        <p:spPr>
          <a:xfrm>
            <a:off x="488880" y="914400"/>
            <a:ext cx="8161560" cy="5065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xas Nodal Program Updat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B10649-BE31-48F1-84F2-1A95A32FF58B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March 30,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Approach Moving Forward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e for adequate test cycles in revised schedule by ensuring planning for adequate testing time in the appropriate environmen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crease amount of testing in DEV, preFAT, and FAT to detect defects earlier, decrease overall defect resolution time, and decrease number of ‘defect fix’ buil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oritize defects on a program level to identify must-fix def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here to test phase entry/exit criteri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crease focus on integration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lete test documentation resulting in more comprehensive test suit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xas Nodal Program Upda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061810-FA58-4D35-A25F-F5229AAE5F5B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March 30,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469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438280" y="3048120"/>
            <a:ext cx="426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Question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xas Nodal Program Updat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86096D-7C9A-4C65-B0FD-C5A800A4AA58}" type="slidenum">
              <a:t>2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March 30,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8"/>
          <p:cNvSpPr/>
          <p:nvPr/>
        </p:nvSpPr>
        <p:spPr>
          <a:xfrm>
            <a:off x="852480" y="2614680"/>
            <a:ext cx="7570800" cy="1592280"/>
          </a:xfrm>
          <a:prstGeom prst="rect">
            <a:avLst/>
          </a:prstGeom>
          <a:solidFill>
            <a:srgbClr val="c0c0c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`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Program Status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1" name="Rectangle 3"/>
          <p:cNvSpPr/>
          <p:nvPr/>
        </p:nvSpPr>
        <p:spPr>
          <a:xfrm>
            <a:off x="120600" y="1913040"/>
            <a:ext cx="86868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Nodal Delivery status is: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4" descr=""/>
          <p:cNvPicPr/>
          <p:nvPr/>
        </p:nvPicPr>
        <p:blipFill>
          <a:blip r:embed="rId1"/>
          <a:stretch/>
        </p:blipFill>
        <p:spPr>
          <a:xfrm>
            <a:off x="5259240" y="111240"/>
            <a:ext cx="3434040" cy="528480"/>
          </a:xfrm>
          <a:prstGeom prst="rect">
            <a:avLst/>
          </a:prstGeom>
          <a:ln w="0">
            <a:noFill/>
          </a:ln>
        </p:spPr>
      </p:pic>
      <p:sp>
        <p:nvSpPr>
          <p:cNvPr id="193" name="Text Box 5"/>
          <p:cNvSpPr/>
          <p:nvPr/>
        </p:nvSpPr>
        <p:spPr>
          <a:xfrm>
            <a:off x="8188200" y="777960"/>
            <a:ext cx="3556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6"/>
          <p:cNvSpPr/>
          <p:nvPr/>
        </p:nvSpPr>
        <p:spPr>
          <a:xfrm>
            <a:off x="152280" y="865080"/>
            <a:ext cx="865512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ERCOT Staff Readiness status i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7"/>
          <p:cNvSpPr/>
          <p:nvPr/>
        </p:nvSpPr>
        <p:spPr>
          <a:xfrm>
            <a:off x="139680" y="1386000"/>
            <a:ext cx="36878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Market Participant Readiness status i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9"/>
          <p:cNvSpPr/>
          <p:nvPr/>
        </p:nvSpPr>
        <p:spPr>
          <a:xfrm>
            <a:off x="6318360" y="2865600"/>
            <a:ext cx="1850760" cy="1047600"/>
          </a:xfrm>
          <a:prstGeom prst="rect">
            <a:avLst/>
          </a:prstGeom>
          <a:gradFill rotWithShape="0">
            <a:gsLst>
              <a:gs pos="0">
                <a:srgbClr val="fafbfd"/>
              </a:gs>
              <a:gs pos="100000">
                <a:srgbClr val="739bc4"/>
              </a:gs>
            </a:gsLst>
            <a:lin ang="5400000"/>
          </a:gradFill>
          <a:ln w="3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10"/>
          <p:cNvSpPr/>
          <p:nvPr/>
        </p:nvSpPr>
        <p:spPr>
          <a:xfrm>
            <a:off x="4083120" y="2868480"/>
            <a:ext cx="2016000" cy="1047960"/>
          </a:xfrm>
          <a:prstGeom prst="rect">
            <a:avLst/>
          </a:prstGeom>
          <a:gradFill rotWithShape="0">
            <a:gsLst>
              <a:gs pos="0">
                <a:srgbClr val="fafbfd"/>
              </a:gs>
              <a:gs pos="100000">
                <a:srgbClr val="739bc4"/>
              </a:gs>
            </a:gsLst>
            <a:lin ang="5400000"/>
          </a:gradFill>
          <a:ln w="3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chedu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11"/>
          <p:cNvSpPr/>
          <p:nvPr/>
        </p:nvSpPr>
        <p:spPr>
          <a:xfrm>
            <a:off x="1150920" y="2878200"/>
            <a:ext cx="2782800" cy="1060560"/>
          </a:xfrm>
          <a:prstGeom prst="rect">
            <a:avLst/>
          </a:prstGeom>
          <a:gradFill rotWithShape="0">
            <a:gsLst>
              <a:gs pos="0">
                <a:srgbClr val="fafbfd"/>
              </a:gs>
              <a:gs pos="100000">
                <a:srgbClr val="739bc4"/>
              </a:gs>
            </a:gsLst>
            <a:lin ang="5400000"/>
          </a:gradFill>
          <a:ln w="3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cope / 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16"/>
          <p:cNvSpPr/>
          <p:nvPr/>
        </p:nvSpPr>
        <p:spPr>
          <a:xfrm>
            <a:off x="3616200" y="2532240"/>
            <a:ext cx="1886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Nodal Deliv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33"/>
          <p:cNvSpPr/>
          <p:nvPr/>
        </p:nvSpPr>
        <p:spPr>
          <a:xfrm>
            <a:off x="5386320" y="1371600"/>
            <a:ext cx="35798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ber status driven by the limited response to the Cycle 4 Survey (out-reach efforts are on-goin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34"/>
          <p:cNvSpPr/>
          <p:nvPr/>
        </p:nvSpPr>
        <p:spPr>
          <a:xfrm>
            <a:off x="5391000" y="1959120"/>
            <a:ext cx="3362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 status driven by quality, schedule, and cost imp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utoShape 20"/>
          <p:cNvSpPr/>
          <p:nvPr/>
        </p:nvSpPr>
        <p:spPr>
          <a:xfrm flipH="1">
            <a:off x="1304280" y="3284640"/>
            <a:ext cx="1003320" cy="447480"/>
          </a:xfrm>
          <a:prstGeom prst="cube">
            <a:avLst>
              <a:gd name="adj" fmla="val 25000"/>
            </a:avLst>
          </a:prstGeom>
          <a:solidFill>
            <a:srgbClr val="ffcc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AutoShape 21"/>
          <p:cNvSpPr/>
          <p:nvPr/>
        </p:nvSpPr>
        <p:spPr>
          <a:xfrm flipH="1">
            <a:off x="2580480" y="3298680"/>
            <a:ext cx="1003320" cy="447840"/>
          </a:xfrm>
          <a:prstGeom prst="cube">
            <a:avLst>
              <a:gd name="adj" fmla="val 25000"/>
            </a:avLst>
          </a:prstGeom>
          <a:solidFill>
            <a:srgbClr val="ff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AutoShape 22"/>
          <p:cNvSpPr/>
          <p:nvPr/>
        </p:nvSpPr>
        <p:spPr>
          <a:xfrm flipH="1">
            <a:off x="4386240" y="3282840"/>
            <a:ext cx="1362240" cy="447840"/>
          </a:xfrm>
          <a:prstGeom prst="cube">
            <a:avLst>
              <a:gd name="adj" fmla="val 25000"/>
            </a:avLst>
          </a:prstGeom>
          <a:solidFill>
            <a:srgbClr val="ff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23"/>
          <p:cNvSpPr/>
          <p:nvPr/>
        </p:nvSpPr>
        <p:spPr>
          <a:xfrm>
            <a:off x="4549680" y="3378240"/>
            <a:ext cx="11732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24"/>
          <p:cNvSpPr/>
          <p:nvPr/>
        </p:nvSpPr>
        <p:spPr>
          <a:xfrm>
            <a:off x="2685960" y="3395520"/>
            <a:ext cx="91620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25"/>
          <p:cNvSpPr/>
          <p:nvPr/>
        </p:nvSpPr>
        <p:spPr>
          <a:xfrm>
            <a:off x="1420920" y="3387600"/>
            <a:ext cx="83808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mb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33"/>
          <p:cNvSpPr/>
          <p:nvPr/>
        </p:nvSpPr>
        <p:spPr>
          <a:xfrm>
            <a:off x="5386320" y="858960"/>
            <a:ext cx="3386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ber status driven primarily by E8, the staffing metr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AutoShape 51"/>
          <p:cNvSpPr/>
          <p:nvPr/>
        </p:nvSpPr>
        <p:spPr>
          <a:xfrm flipH="1">
            <a:off x="6616800" y="3314880"/>
            <a:ext cx="1358640" cy="447480"/>
          </a:xfrm>
          <a:prstGeom prst="cube">
            <a:avLst>
              <a:gd name="adj" fmla="val 25000"/>
            </a:avLst>
          </a:prstGeom>
          <a:solidFill>
            <a:srgbClr val="ff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d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47"/>
          <p:cNvSpPr/>
          <p:nvPr/>
        </p:nvSpPr>
        <p:spPr>
          <a:xfrm>
            <a:off x="6310440" y="3895560"/>
            <a:ext cx="214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8680" indent="-586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inal cost unknown until new schedule confirm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AutoShape 32"/>
          <p:cNvSpPr/>
          <p:nvPr/>
        </p:nvSpPr>
        <p:spPr>
          <a:xfrm flipH="1">
            <a:off x="3930480" y="1846440"/>
            <a:ext cx="1362240" cy="447480"/>
          </a:xfrm>
          <a:prstGeom prst="cube">
            <a:avLst>
              <a:gd name="adj" fmla="val 25000"/>
            </a:avLst>
          </a:prstGeom>
          <a:solidFill>
            <a:srgbClr val="ff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AutoShape 32"/>
          <p:cNvSpPr/>
          <p:nvPr/>
        </p:nvSpPr>
        <p:spPr>
          <a:xfrm flipH="1">
            <a:off x="3930480" y="798480"/>
            <a:ext cx="1362240" cy="447840"/>
          </a:xfrm>
          <a:prstGeom prst="cube">
            <a:avLst>
              <a:gd name="adj" fmla="val 25000"/>
            </a:avLst>
          </a:prstGeom>
          <a:solidFill>
            <a:srgbClr val="ffcc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mb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rot="5400000">
            <a:off x="4565520" y="-1222200"/>
            <a:ext cx="128520" cy="7500960"/>
          </a:xfrm>
          <a:custGeom>
            <a:avLst/>
            <a:gdLst>
              <a:gd name="textAreaLeft" fmla="*/ 82080 w 128520"/>
              <a:gd name="textAreaRight" fmla="*/ 128880 w 128520"/>
              <a:gd name="textAreaTop" fmla="*/ 195480 h 7500960"/>
              <a:gd name="textAreaBottom" fmla="*/ 7305480 h 7500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AutoShape 32"/>
          <p:cNvSpPr/>
          <p:nvPr/>
        </p:nvSpPr>
        <p:spPr>
          <a:xfrm flipH="1">
            <a:off x="3925800" y="1322280"/>
            <a:ext cx="1362240" cy="447840"/>
          </a:xfrm>
          <a:prstGeom prst="cube">
            <a:avLst>
              <a:gd name="adj" fmla="val 25000"/>
            </a:avLst>
          </a:prstGeom>
          <a:solidFill>
            <a:srgbClr val="ffcc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mb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657680" y="2286000"/>
            <a:ext cx="0" cy="171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285840" y="4267080"/>
          <a:ext cx="8175600" cy="1916280"/>
        </p:xfrm>
        <a:graphic>
          <a:graphicData uri="http://schemas.openxmlformats.org/drawingml/2006/table">
            <a:tbl>
              <a:tblPr/>
              <a:tblGrid>
                <a:gridCol w="734760"/>
                <a:gridCol w="1494000"/>
                <a:gridCol w="1447920"/>
                <a:gridCol w="2361960"/>
                <a:gridCol w="213696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o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alit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hedu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s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e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gram is aligned with current protoco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 Nodal products currently achieve quality standard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-Live = 12/1/20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timate at Complete =&lt; 319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b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gram is aligned to previous protocol versio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st Nodal products currently achieve quality standard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-Live =&lt; 30 d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timate at Complete =&lt; 319M +1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824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gram is not aligned to protoco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duct quality not sufficient for Nodal launc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-Live =&gt;30 days+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timate at Complete =&gt; 319M +1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xas Nodal Program Updat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0BA8F7-EF14-43D8-A4F3-65D8E010DC8C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March 30,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Accomplishments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gram Successes and Upcoming Market Activiti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MS has received 3 patches from ABB (since the April 22 delivery of MMS4) on time with at least 100 defects resolved in each pat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O12 (Network Operations Model and SE Performance) is GR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goal for this metric is =&gt; 99% of load is modeled.  Of the initial 5000, there are only 47 remaining unobservable buses with load (&lt;1%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chnical Communications Worksh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heduled for September 3, 200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purpose is to cover basics of implementing and maintaining interfaces with ERCOT Web Ser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hedule Development – Accomplishments to Date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leted “Plan for a Plan” and executing agains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individual project schedules integrated; in process of refining and optimizing the draft integrated sched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rking to incorporate EDS and integration project schedules into overall integrated sched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xas Nodal Program Upda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81E7C4-E372-49DD-9937-2507E327BF2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March 30,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47952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RCOT has implemented a change in the delivery approach because the nodal program has entered the early stages of integra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COT has shifted perspective to a model that better supports integration of multiple large projects at the program level to ensure successful integration and end-to-end deliv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nodal program is putting much more rigor around program and budget controls, resource management and release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COT has learned from past experience and is better positioned to reassess program complexities, dependencies, linkages, and task dur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essment and schedule integration activities are allowing ERCOT to reassess program health without losing moment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Nodal Implementation – Assessment and Adjustment</a:t>
            </a: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xas Nodal Program Updat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4BB2E0-AF44-4C1B-8A05-8B657B3BDF11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March 30,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Nodal Implementation – Adjustment Benefits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ults of the program adjustments include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lly integrated schedule driven by core delivery projects with supporting functional and infrastructure pro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hanced critical path identification and impact analysis capabili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d risk/issue detection and remediation/elimin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gher confidence in delivery to scheduled mileston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reased internal / external visibility and transparency to schedule analysis activi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rigorous testing in all environ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d overall qual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rlier detection of defects / Shorter defect resolution perio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defect realization in EDS environ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d release management and identification of release bund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wer number of releases will be easier for market participants to man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d support to EDS activi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reased support to Market Participants for management of their own activities and resource nee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xas Nodal Program Upda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C6C6B0-AFD1-4F55-AAEE-7753B3DB4DC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March 30,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Nodal Integrated Program Schedule Key Dates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64771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hedule Development Activiti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lete core project schedules with dependen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lete supporting project schedu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grate core project schedul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grate supporting project schedules into overall integrated sched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fine integrated sched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view with ERCOT executives and ref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elop accompanying budg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ide draft integrated schedule to TPT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view with TPT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view with TA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lete schedule refinement and optim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pare communication for Board mee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ent integrated schedule to ERCOT Bo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781680" y="1295280"/>
            <a:ext cx="1676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124760" y="1222200"/>
            <a:ext cx="2019240" cy="49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ly 21 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(Complet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ly 23 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(Complet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ly 23 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(Complet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ly 25 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(Refinin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g. 4-8 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(Ongoin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g. 5-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g. 8-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g.11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g. 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p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p.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p.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p. 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24000" y="5896080"/>
            <a:ext cx="85341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August 11th date is a target.  ERCOT may need to work with TPTF to schedule a special meeting to review the draft schedule and, as such, this date may chang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xas Nodal Program Upda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35DCC7-0136-442D-A13F-7E6B6E495C5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March 30,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Sample Schedule Milestones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9" name=""/>
          <p:cNvSpPr/>
          <p:nvPr/>
        </p:nvSpPr>
        <p:spPr>
          <a:xfrm>
            <a:off x="4648320" y="1752480"/>
            <a:ext cx="4190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xample milestones to be communicated to MP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152280" y="914400"/>
            <a:ext cx="3733920" cy="5162400"/>
            <a:chOff x="152280" y="914400"/>
            <a:chExt cx="3733920" cy="5162400"/>
          </a:xfrm>
        </p:grpSpPr>
        <p:pic>
          <p:nvPicPr>
            <p:cNvPr id="231" name="" descr=""/>
            <p:cNvPicPr/>
            <p:nvPr/>
          </p:nvPicPr>
          <p:blipFill>
            <a:blip r:embed="rId1"/>
            <a:stretch/>
          </p:blipFill>
          <p:spPr>
            <a:xfrm>
              <a:off x="152280" y="914400"/>
              <a:ext cx="3733920" cy="2428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2" name="" descr=""/>
            <p:cNvPicPr/>
            <p:nvPr/>
          </p:nvPicPr>
          <p:blipFill>
            <a:blip r:embed="rId2"/>
            <a:stretch/>
          </p:blipFill>
          <p:spPr>
            <a:xfrm>
              <a:off x="152280" y="2666880"/>
              <a:ext cx="3733920" cy="177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3" name="" descr=""/>
            <p:cNvPicPr/>
            <p:nvPr/>
          </p:nvPicPr>
          <p:blipFill>
            <a:blip r:embed="rId3"/>
            <a:stretch/>
          </p:blipFill>
          <p:spPr>
            <a:xfrm>
              <a:off x="152280" y="4114800"/>
              <a:ext cx="3733920" cy="1962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34" name="" descr=""/>
          <p:cNvPicPr/>
          <p:nvPr/>
        </p:nvPicPr>
        <p:blipFill>
          <a:blip r:embed="rId4"/>
          <a:stretch/>
        </p:blipFill>
        <p:spPr>
          <a:xfrm>
            <a:off x="4572000" y="2057400"/>
            <a:ext cx="4438800" cy="98100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4495680" y="3276720"/>
            <a:ext cx="4191120" cy="21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roximately 150 milest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hedules and milestones dynamically link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nge to a date in one schedule automatically updates dates for dependent activities and milest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038480" y="990720"/>
            <a:ext cx="152640" cy="5105160"/>
          </a:xfrm>
          <a:custGeom>
            <a:avLst/>
            <a:gdLst>
              <a:gd name="textAreaLeft" fmla="*/ 0 w 152640"/>
              <a:gd name="textAreaRight" fmla="*/ 55080 w 152640"/>
              <a:gd name="textAreaTop" fmla="*/ 132840 h 5105160"/>
              <a:gd name="textAreaBottom" fmla="*/ 4972320 h 5105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191120" y="2362320"/>
            <a:ext cx="304560" cy="6094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5469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xas Nodal Program Updat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1D7A8F-1F45-4C32-AB65-1746F16E0B77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March 30,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AREVA (CIM) Status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33160" y="990720"/>
            <a:ext cx="80010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MS CIM Importer – still testing at AREV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COT SMEs are testing with AREVA to identify and resolve issues with the goal of being able to start/run individual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COT staffing on-site until CIM Importer exits preF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COT is monitoring AREVA’s performance trends to address continuing or potential issue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476280" y="3400560"/>
            <a:ext cx="8362800" cy="2771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xas Nodal Program Upda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333756-E1D6-46FE-9DC5-AD155EFB98DF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March 30,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ez / Horne</dc:creator>
  <dc:description/>
  <dc:language>en-US</dc:language>
  <cp:lastModifiedBy>amartinez</cp:lastModifiedBy>
  <dcterms:modified xsi:type="dcterms:W3CDTF">2008-07-31T19:48:12Z</dcterms:modified>
  <cp:revision>1149</cp:revision>
  <dc:subject>TAC Presentation 08_07_2008</dc:subject>
  <dc:title>Nodal Program Update</dc:title>
</cp:coreProperties>
</file>