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D10-235C-4E4E-81B7-41183763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A80-FA6F-4512-8269-D3882A50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7D6-5223-44B7-B58E-DF2DE7BE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C77-B687-4B2F-AF9D-2208115A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BA4-0195-4C19-B490-8B98357F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5BC-47C4-46E1-8408-13A81B05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037-AB58-4662-86ED-D989E26A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29C-D773-422F-A7D9-65C352DA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429-27C9-4EB3-9EC2-1D917CB9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39D-2084-40B3-8C40-F1909674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E35-7489-4750-82F0-599E7B8F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FB8-CAC7-4964-89EC-95FF160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4F69-B299-48E1-94CF-C40159775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dit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DA6-80D4-496A-9050-4C46E48521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in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ork with Market Participants scheduled to provid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eview FERC approved NERC Reliability Standards not on CM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eview Board approved NERC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training sessions will be provided to SM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60C-88F5-4C29-A6DE-FA29E690A8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94C-B901-4F1C-9B87-8E0B423636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72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ptember 8 – 11, 2008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RCOT  will be audited as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905120"/>
            <a:ext cx="8686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iability Coordinator (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ransmission Operator ( TO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lancing Authority (BA)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ransmission Service Provider (TS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596-8ECC-40A4-A21D-51490F502F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 auditors (4 NERC, 5 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 FERC 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wo interviewing groups running concurrently:  Mon – Wed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erations floor interviews scheduled for Wed aftern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dditional SME’s onsite from ONCOR and TMPA (at the request of NE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FEA-807A-4550-BDF1-D413153A93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tions and Acr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MEP – Compliance Monitoring and Enforce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SAW – Reliability Standard Audit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SD – Operating Standards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ME – Subject Matter Ex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E76-A83A-42F2-9611-C781832A7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VERVIEW OF PREP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316240"/>
            <a:ext cx="82296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ed the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swer RSAWs and 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A0A-BE3F-4057-ABFC-8847ED1380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the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46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p ERCOT to NE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 meeting – June 3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st meeting – April 11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~30 meetings with market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 ROS presentation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 presentation to TAC by RO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BF3-0987-4906-8171-7573F9FAA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W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4  FERC approved NERC Reliabili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7 standards in 2008 CMEP with RS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vided by Operations, Planning,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oken into 9 weekly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gan on May 15,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al sent out July 15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65F-3E13-40D1-8B32-87CD3ED81B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W Action Plan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ssigned to 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tilized the matrix with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07 Audit Responses were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SD reviewed evidence and resolved with S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●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gement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369-5C2E-41DC-BC13-E0CE61178E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 7/31/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92% (34 out of 37) RSAW’s have been completed by SM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0%(about 22 out of 37)RSAW’s have been resolved with SM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7%(90 out of 135)action items have been comple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00% response on 4 questionnaire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824-2DD9-4359-8D0C-B4AA09B158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vweldon</cp:lastModifiedBy>
  <dcterms:modified xsi:type="dcterms:W3CDTF">2008-07-31T20:53:34Z</dcterms:modified>
  <cp:revision>17</cp:revision>
  <dc:subject/>
  <dc:title>Slide 1</dc:title>
</cp:coreProperties>
</file>