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09A2-E91D-4AE4-B1AC-7402CF3B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9EC8-ABF3-4722-A785-301F6EBC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F49E-DEB9-4BE7-A571-C69A3A3E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ECA9-EE4A-430E-8D85-13E70982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EF54-9D1D-413A-80F2-AF525834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34D-E77F-4C9F-AFD4-3584158D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733-2DA4-474E-87E0-5AE26CB6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A4D-5C8F-4895-AC3E-407D09B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9A8A-D354-4773-B15A-1D1AF18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1669-61A6-4A41-93A3-696F3CB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AB50-3422-4E6B-9E0E-86C60F29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6A34-7380-4A54-9C68-BA3E56D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DEF4-CB32-416D-95FC-974E470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9731-DA2F-4022-B5F4-8B376411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6A7-0A06-4725-A90E-13DBB1F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B069-FE91-4BA7-8B47-7AF2ACD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6B0F-B8BF-4AB3-9C9B-3EC1547D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9606-1EDD-4FB3-A1BA-9C494367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54F1B-8A4B-476F-B5DD-0038966A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48AFF-BFE9-4706-AA86-925E687C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4EE83-23C8-4B46-966A-3EB8D9C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0784-DF15-48F0-9D77-4209525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51730-B586-4736-A9CE-19385F19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CD5B0-2F67-45C3-96B8-0E35C66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0479E-CC06-4621-B71F-FA61130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90FD9-6754-4A8C-AFEA-232C19F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E36C7-0252-41F4-8665-611C231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8DB2A-319B-4C78-AA18-BE115FF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F87F2-0599-4F61-A0CA-50C7E3ED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06CD5-5F8F-423D-B653-44B93EE1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A40BC-EDA6-44CB-9167-D6289419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39F7-4CF5-4533-82E5-08E2272C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3FDD-874F-412F-AED0-113B790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555D-926D-46FC-AB6A-2102535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6B72-FE4E-46FA-8285-78CFD24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D7EA-F01B-4109-9A9F-090959C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8BF-5E26-40EE-BC33-06F4D11A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7680"/>
            <a:ext cx="2514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B76-783E-4BA9-9952-ABA232A1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7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20E-021F-4039-8983-A31EA841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31EF-6E6E-4E90-A80D-F5144216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dt" idx="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7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205704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2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2057400" y="5067360"/>
            <a:ext cx="4114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zation Divisional Deep D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goodman@ercot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752480"/>
            <a:ext cx="74199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Market Services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019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le Goodm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Market Serv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dgoodman@ercot.co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512-248-3966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office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512-423-9285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cell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512-248-6434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fax)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46732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666880" y="1752480"/>
            <a:ext cx="33530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ervices Organization Ch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24360" y="2743200"/>
            <a:ext cx="1057320" cy="1533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72320" y="2962440"/>
            <a:ext cx="2371680" cy="2295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95160" y="2962440"/>
            <a:ext cx="1133640" cy="153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143000" cy="22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66640" y="647640"/>
          <a:ext cx="8010720" cy="23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640" y="647640"/>
                    <a:ext cx="80107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495520" y="2962440"/>
            <a:ext cx="1238400" cy="34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ervices Departments and Core Fun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685800"/>
            <a:ext cx="1828800" cy="85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Rules &amp; Stakeholder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Kristi Hob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685800"/>
            <a:ext cx="1676160" cy="85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lesale Cli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trick Co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685800"/>
            <a:ext cx="1752840" cy="85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ail Market Analysis and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Jack Ad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685800"/>
            <a:ext cx="1828800" cy="85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ope Parr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685800"/>
            <a:ext cx="1676160" cy="85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Operations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om Ba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542960"/>
            <a:ext cx="16002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cilitate ERCOT Market Rule Change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ocol Revision Requests (PR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Change Requests (SC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Guides Revisio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liver Stakeholder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transparency into proceedings of stakeholder subcommittee meet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57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meeting logistics coordination for stakeholder meet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TAC &amp; PRS Meeting Management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Level 2 Support for Market Participants, PUCT and ERCOT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gmt &amp; Admin, including aud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542960"/>
            <a:ext cx="17528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13040" indent="-1130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sure Adequacy of Retail Market  Commun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sue Retail Market Notifications and Bulleti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nage Retail Electric Provider Regi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cess Market Participant Issue Res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duct Retail Market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erform TDSP and Retail Electric Provider Account Management / Provide Single Point of Cont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vide RMS Meeting Management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ordinate Mass ESI ID Transition for retired RE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vide ETS Reporting and Comply wi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CT Reporting Requirem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nage Outsourced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ail Choice Customer Care Center and Customer Not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vide Level 2 Support for Market Participants, PUCT and ERCOT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dal transition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gmt &amp; Admin, including aud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542960"/>
            <a:ext cx="1676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All Project Testing for Retail Operations, Settlement and Billing Operations , Enterprise Information Services, and Corporate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Testing for selected projects in IT Infrastructure Operations and  System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All SIR Testing for Retail Operations, Settlement and Billing Operations, Enterprise Information Services,  and Corporate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SIR Testing for selected applications in System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Liaison to Texas Market Test Plan T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rdinate Market Participant Testing – includes Flight Administration/ -Coordinate/Test/Cer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Level 3 Support for Market Participants, PUCT and ERCOT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gmt &amp; Admin, aud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6858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6858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6858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6858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523880"/>
            <a:ext cx="8610480" cy="1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685800"/>
            <a:ext cx="0" cy="563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839080" y="685800"/>
            <a:ext cx="0" cy="563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685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542960"/>
            <a:ext cx="18288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11960" indent="-11196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liver projects timely, within budget and meeting the business requir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reate Project Plans, incl. schedule/scope/budget/staf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ead the definition of requirements and acceptance criteria with stakeholder 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ordinate systems development, product implementation, and certify go-live with other depart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llect, compile, and analyze project activity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sh weekly reports for all active projects; monthly Divisional and Corpor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velop and maintain Divisional-Project Priority List (PPL) strategy, supporting business case and development of high-level project release plans, associated resources and budg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duct MO/RO Continuous Analysis &amp; Review Team (CART) meet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gmt &amp; Admin, including audits, Portfolio Mgmt, and Financial Overs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1960" indent="-11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1542960"/>
            <a:ext cx="1676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sure Adequacy of Wholesale Market Participant Commun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sue Wholesale Market Notifications and Bulleti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ge PGC, TDSP, NOIE, QSE, And CRRAH Regi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ge QSE and CRRAH Qualification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ad Dispute Resolution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uct Wholesale Market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Account Management Services/ Single Point of Cont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WMS and COPS Meeting Management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Level 2 Support for Market Participants, PUCT and ERCOT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dal transition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gmt &amp; Admin, including SAS 70 and other aud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Participant USA Digital Certificate Administ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pt 170 - Market Rules and Stakeholder Support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915000" y="85392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1560600"/>
            <a:ext cx="731520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 new revision requests: 49 PRRs, 56 NPRRs, and 63 guide revision requests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6 recommendation reports to document 2007 subcommittee, TAC, and Board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ed TAC and its six subcommittees (130+ days of meeting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d annual voting for segment representatives to the Board, TAC and its sub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+ stakeholder meetings (includes facility and conference call coordination, logistics posting, vendor re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8532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pt 660 – Wholesale Client Services 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3895920" y="91908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1447920"/>
            <a:ext cx="7162920" cy="26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0 Active MPs including (QSEs, NOIEs, Resource Entities, TD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+ man-days per year of MP Marke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+ Market Notices per year to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0+ Settlements Disputes processed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0+ Core Service Request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+ Registration Entries and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pt 630 - Retail Market Analysi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5530680" y="1760400"/>
            <a:ext cx="3057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30680" y="1760400"/>
            <a:ext cx="3057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5920" y="99540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1600200"/>
            <a:ext cx="7086600" cy="28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erly PUCT Performance Measur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 contract performance for Switch Notifications processed by vendor, including cancellations returned by call cent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daily, weekly and monthly on initiating transactions to PUCT, BOD, TAC (Subcommitt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in new market reporting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-hoc data requests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pt 650 – Retail Client Services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106668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676520"/>
            <a:ext cx="70866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Service to 146 listed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sessions, 734 Market Participants 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00 Reque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00 activities logged to 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2 Market Notices to M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2 FTE hours to Sub-Committees, Working Groups, and Task-Forces as Meeting Managers/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d the Mass Transi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t 605 - DPO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5530680" y="1760400"/>
            <a:ext cx="3057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30680" y="1760400"/>
            <a:ext cx="3057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4760" y="99072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600200"/>
            <a:ext cx="7138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folio Management and Financial oversight of Commercial Ops (MO PPL) and Retail Ops (RO PPL)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up to 52 CART meet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 weekly status reports for all active DPO projects; monthly Divisional and Corporate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Committees, Sub-Committees and Working Groups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Nodal projects due to NPRRs replace historical Zon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t 640 -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Operations Testin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5530680" y="1574640"/>
            <a:ext cx="3057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30680" y="1454040"/>
            <a:ext cx="30578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106668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3800" y="1752480"/>
            <a:ext cx="70135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ESB, Paperfree, TIBCO, Siebel, MIS, MarkeTrak, ETS, Retail TML, Package 2 API/ 142 SIRS / 2,100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Worx, Lodestar Batch execution, Siebel to Lodestar End Point Services,  100 scripts/ 35 S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S Testing/ Over 2,600 test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son, IAM, Vendor &amp; Contract Mgmt, Collateral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UCT Mandated Texas SE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ghts/ 45,438 Tasks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new projects t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t 640 does not test EMS, MMS, NM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goodman</cp:lastModifiedBy>
  <dcterms:modified xsi:type="dcterms:W3CDTF">2008-07-31T12:56:36Z</dcterms:modified>
  <cp:revision>376</cp:revision>
  <dc:subject/>
  <dc:title>Instructions</dc:title>
</cp:coreProperties>
</file>