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01B7-3FF0-4031-9473-F0A4BF8E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485F-0DA9-41D3-B04F-0B396C5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B553-0A75-4BA1-A669-1FD01B44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8CD7-142E-4BF2-8230-3BCE52F7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3E1F-0344-4C37-AFED-B1B45657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2914-5ED6-4E11-BC74-E12AEB6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00E3-77E9-4177-B3C7-5F36F87E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6492-2B58-45D1-9845-AF883F56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E790-DD42-46C7-AB43-41D0DF8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85CD-B899-4328-846B-AF736BA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AF39-BA12-417E-BF26-02AB77B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6E95-B85F-4059-BC1B-DADBD0ED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A726-A8AD-4197-89F1-893203DE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4DDD-8195-4A1D-A3D0-A02DB3C4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4591-A642-43F0-9EE9-8AE0A6F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9F63-3C52-4EB7-B507-89EBE29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B47-DF7B-4721-88BF-B85A92B1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765A-D865-46EE-881E-2F5FB5B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A9A7-2A14-43BD-A658-D0FDB742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0DA0-E280-4BCC-A4EB-CD7302A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F32A-5805-4654-B731-B161D530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83E9-44F4-4E25-A1D2-D29B03B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A3B4-223F-4146-8814-89E75C9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4143-FC7C-4BED-BE68-326CDE8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8D44-CB5A-46AD-8788-67B12C081E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253-A857-4F75-A803-7994B11287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16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B8C7-88AC-4EA2-918E-6A3645AF0C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ecte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.  Co-Chair:  Heddie Lookadoo, NR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.  Vice-Chair: Russell Lovelace, Shel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scription of Goals and Objectives for the VCWG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plet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.  NPRR for submitting VC after 5-RUC deploy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.  NPRR and white paper for including PPAs in V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9E16-DE72-400E-A750-9612EE5A07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Goals and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erifiable Cost Working Group (VCWG) is charged through the Wholesale Market Subcommittee (WMS) with reviewing and analyzing issues related to recoverable costs of a Resource.  The VCWG is also charged with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eveloping draft protocol language and procedures to guide the processing and recovering of Verifiable Costs and related issues as directed by WM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36DE-DE8C-4483-A514-D82C9444AC2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8-07-14T13:12:39Z</dcterms:modified>
  <cp:revision>244</cp:revision>
  <dc:subject/>
  <dc:title>Protocol Revision Subcommittee</dc:title>
</cp:coreProperties>
</file>