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7B61-46EE-4A91-9FC6-DF6F6106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1672-0386-4E96-BB93-F340ABC1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C168-19A3-4E69-B4AC-EC5B728B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E2D3-DA10-4C14-B924-DFCE907F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FAF7-E6BB-4538-A2AB-41807107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925C-D90A-40B2-89E7-8725C7FE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3DE4-7B92-4A02-8215-B52743BF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1D13-A330-44AD-BAD1-94490957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A6A5-E42E-4A3B-9D64-CE953D58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CBCD-5BB2-4029-8F36-8EFE6B34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3840-C5C9-49CF-BEE2-D97AE99B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8427-E939-4A72-8FE4-7054BDEF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FAF0-B996-4C75-AAAA-5825F605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EBF7-7707-4BF8-B19C-D13E43C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FA4A-6E43-4D94-BD3E-A4983DAC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1C12-7CDA-4D59-8E27-EA5B8776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00F3-5709-404B-A7E7-94DADCF8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8464-38A8-4048-9CCC-5CC48BB9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2C67-2207-42CD-9163-72DB7CD7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866F-01A8-4B58-962D-D032B8C2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D251-FF87-467D-9A70-3732782D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B9E8-F48B-41EE-99FE-4C73A57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073B4-FD7C-410E-A40D-08CFFB01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32368-B8F9-4DB6-A53D-6E4415F4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A0D0-2BE7-415E-A4AA-AC47E26B27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7ABD-4CB4-4123-AE60-4A8FB32AAA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Power Purchase &amp; Tolling Agreements (“PPAs”)  </a:t>
            </a:r>
            <a:br>
              <a:rPr sz="6000"/>
            </a:br>
            <a:r>
              <a:rPr b="1" i="1" lang="en-US" sz="4800" spc="-1" strike="noStrike">
                <a:solidFill>
                  <a:srgbClr val="ffffff"/>
                </a:solidFill>
                <a:latin typeface="Garamond"/>
              </a:rPr>
              <a:t>as Verifiable Cost  Documentati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44953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o González - VCW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y 16,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4208-B6CF-4C9E-A188-CA21BCC181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xample:  Application of PPA in VC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219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257040" y="838080"/>
            <a:ext cx="84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sts at LSL – PPA has Separate Fuel and O&amp;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7680" y="629748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(1)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Reference Resource (no PPA);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(2)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Resources with PPA; Simple Cycle Re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8880" cy="4525200"/>
        </p:xfrm>
        <a:graphic>
          <a:graphicData uri="http://schemas.openxmlformats.org/drawingml/2006/table">
            <a:tbl>
              <a:tblPr/>
              <a:tblGrid>
                <a:gridCol w="1371240"/>
                <a:gridCol w="1371960"/>
                <a:gridCol w="1371240"/>
                <a:gridCol w="1371240"/>
                <a:gridCol w="1371960"/>
                <a:gridCol w="1371240"/>
              </a:tblGrid>
              <a:tr h="12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our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SL (M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el at LSL (MMBtu/MWh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&amp;M ($/MW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proved  VC Fuel ($/MWh)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proved VC O&amp;M ($/MWh)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B459-4AA7-4713-A507-89CF2745B2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Rules that Need WMS Resolution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3059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contract expires; 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contract expires or 2013, whichever comes first; 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eginning January 1, 2013, PPAs will be capped at the level equal to the average of comparable resources approved by ERCOT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-196920" y="1371600"/>
            <a:ext cx="79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PAs will no longer be accepted as VC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f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8200" y="182880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Garamond"/>
              </a:rPr>
              <a:t>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2A1D-5E22-4869-8D4C-C47AA1FB506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13560" y="3289320"/>
            <a:ext cx="70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ny Additional 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32AC-0B34-46A4-BA2D-F66FF569963A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asons for allowing PPAs in Verifiable Costs (VC) proc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rteen fundamental rules for PPAs in V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amples:  Application of PPAs in V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dditional rules that need resolution by W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605520" y="75240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view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5514-D636-43D2-880D-2921E11D7C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2286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Reasons for PPAs in (VC)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MS requested the VCWG develop rules for allowing PPAs as VC documen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SEs with PPAs incur costs for utilizing the underlying Resour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cover appropriate costs that may not be otherwise be addressed in the protoco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t allowing existing PPAs creates an inequitable situation in the market between two groups of QSEs representing resources, one being allowed to recover VC and the other not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385E-A6AB-4F98-834E-EC0ADDF0520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Thirteen Fundamental Rules for PPAs in VC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ly QSEs that can submit a Three-Part Supply Offer for the underlying Resource may use a PPA in V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PAs are capped at the cost of a comparable Resource (Reference Resourc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PA cap is generally equal to the highest Resource-specific Verifiable O&amp;M Cost approved by ERCOT for a comparable Resour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FA54-10AC-4155-A77C-797BB660915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Thirteen Fundamental Rules for PPAs in VC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Reference Resource for a given PPA and VC Type will be selected on the basis of the following criter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.  Same Resource technology and primary fu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.  HSL of Reference Resource within +- 30% of PPA Resourc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.  Commercial Operation date of Reference Resource within 5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years of Commercial Operation date of PPA Resourc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f both fuel and O&amp;M are clearly described in the PPA, the cap is calculated based only on the Reference Resource’s O&amp;M co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en a PPA does not separate the cost of fuel (fuel rate) from O&amp;M, the Reference Resource is calculated by multiplying the Fuel Rate by the average fuel price from the previous mon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86CF-3007-46B1-9DCC-4C17301CE6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Thirteen Fundamental Rules for PPAs in VC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PA Resources may submit the Resource's “actual” fuel rate without applying any ca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f Reference Resources are not available, ERCOT will use the following methodolog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.  PPAs will use actual Resource fuel ra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.  PPAs O&amp;M will be based on generic valu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9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bined-Cycle (CC) Resources under a PPA will have their O&amp;M caps based on Reference Resources with similar configura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27C7-870F-4D35-BB8A-F026D18A2B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Thirteen Fundamental Rules for PPAs in VC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f there are no CC Reference Resources with similar configurations, PPA caps will be based on a “building block” approach as follow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.  ERCOT will build Reference Resources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from previously approved configuration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.  The PPA cap will be calculated from the built Resour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1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 Heat Rates are based on ‘actual’ values of the underlying Resource with the PP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SEs submitting a PPA must represent 100% of the Resource capacity.  Split Generation Resources (SGRs) may not submit PP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153F-6108-4FB8-8E8F-72E2DE8DE9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Thirteen Fundamental Rules for PPAs in VC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3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PAs will only be accepted as VC i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.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gned prior to April 16, 2008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.  Not between affiliates, subsidiaries, or partne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96EC-5A50-4B35-891D-D241E9F8EC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xample:  Application of PPA in VC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92468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219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153360" y="83808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art-Up Costs – PPA has Separate Fuel and O&amp;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371600"/>
          <a:ext cx="8229240" cy="4906080"/>
        </p:xfrm>
        <a:graphic>
          <a:graphicData uri="http://schemas.openxmlformats.org/drawingml/2006/table">
            <a:tbl>
              <a:tblPr/>
              <a:tblGrid>
                <a:gridCol w="1028160"/>
                <a:gridCol w="1029240"/>
                <a:gridCol w="1028520"/>
                <a:gridCol w="1028160"/>
                <a:gridCol w="1029240"/>
                <a:gridCol w="1028520"/>
                <a:gridCol w="1028160"/>
                <a:gridCol w="1029240"/>
              </a:tblGrid>
              <a:tr h="718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ld Ty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 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Unit 4</a:t>
                      </a:r>
                      <a:r>
                        <a:rPr b="1" lang="en-US" sz="1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 5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 6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 7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el to LSL (MMBtu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O&amp;M Cost ($)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244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proved VC Fuel      (MMBtu)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proved VC O&amp;M Cap ($)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517680" y="62974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(1)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Reference Resource (no PPA);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(2)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Resources with PPA; Simple Cycle Re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431D-AC06-4848-BE33-0A322AC3BF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Ino Gonzalez</dc:creator>
  <dc:description/>
  <dc:language>en-US</dc:language>
  <cp:lastModifiedBy>igonzalez</cp:lastModifiedBy>
  <dcterms:modified xsi:type="dcterms:W3CDTF">2008-07-14T15:57:46Z</dcterms:modified>
  <cp:revision>267</cp:revision>
  <dc:subject/>
  <dc:title>Protocol Revision Subcommittee</dc:title>
</cp:coreProperties>
</file>