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559-E2F3-4AC2-AEBB-D4B380C21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ed 6/13 due to emergency WMS/TAC meeting on offer c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9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B5E-46FF-4F6C-BF2F-12E78E2B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9D8-F5C0-41F6-B6DF-AB6696B6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72B-47FA-4E2D-91DD-049405F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297-D5A1-48AF-BE45-C49E1E2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F33-2FEA-4458-B835-F2FBDCD9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5C3-45C5-4C2E-ACD5-96070B0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422-99B5-4271-AC55-7E0E02FA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359-AE94-4B28-96F1-F776CFF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95F-9393-4BB7-A3FB-3A54B7B8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788-46B2-48D1-A362-90BBCE1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817-7246-4B1E-97AF-DDA54CE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EC4-0B8E-4C7C-94D1-7F4AE30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F9C1-2B86-40DE-B1D4-EA9DF8CE4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WMS Jul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/July Work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6/19, 6/25, 7/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lated Element Definitions for 2008 and criteria for defining elements as a 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age Scheduling &amp; Evaluation Draft Proposal from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 development schedule fo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TAC Discussions on PRR 764 instructed CMWG to review CREs/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s from ERCOT and Luminant to show zonal shift factor impact on potential 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around effectiveness of 3% vs. 5%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: ERCOT proceeding with 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, 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, and 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, re-evaluating W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WMS Instructed to look at improvements to coordinating TO and wind ou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proposal from ERCOT to conduct economic evaluation process for outag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cceptance criteria depending on time ahead of outage that request was submitted and reliability/economic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is significant departure from existing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s divided on need and usefulness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 ERCOT to coordinate calls with concerned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dal Maximum SP Cap &amp; Status of Competitive Constra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 Cap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oposed differing caps based on kV level of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oposal: two piece construct where penalties for violating the constraint vary with the degree of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continue on specifics around proposal and feasibility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triving to evaluate existing C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SP Cap: goal is to have proposal for August or September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of CCT:  ERCOT to finish initial analysis of existing CSCs under the C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CS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ERCOT evaluation/presentation including congestion costs for existing C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presented analysis showing multiple scenarios with 4 zone clustering, one with 5 zones (new zone between W and N) and one with three zones (Houston merging into South z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ntinuing to evaluate 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comments due 7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to continue 7/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2 - discuss 2009 CSCs; Nodal Shadow Price caps; and N_S 1 MW li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 - develop 2009 CSCs recommendation for WMS; continue Nodal Shadow Pric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Reliant-mw</dc:creator>
  <dc:description/>
  <dc:language>en-US</dc:language>
  <cp:lastModifiedBy>PSEG</cp:lastModifiedBy>
  <dcterms:modified xsi:type="dcterms:W3CDTF">2008-07-15T11:12:02Z</dcterms:modified>
  <cp:revision>28</cp:revision>
  <dc:subject/>
  <dc:title>Congestion Management Work Group Update</dc:title>
</cp:coreProperties>
</file>