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6691-3829-4265-B99D-7A7686CC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59A3-5664-4E7C-A7EF-F3E98675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7843-BB3C-4FA7-82AD-D00823D1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CC56-1C3F-4C30-BCB1-E9C1D437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5252-1024-496B-A1B3-1C1DDA4D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206C-5EB5-44E0-A1DB-D76C5D60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7897-FD94-4340-B1B7-ED72E255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998E-AB57-49C8-BCB8-E4098260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5BF3-CAF8-4C74-BF58-87B6FB3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AEF7-8282-4DAD-B8FC-34813DB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6360-94B8-41C5-B35E-C330F027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C6C3-C900-4173-86A2-44F5D16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360-81D3-4273-880A-BF030ED54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CFB5-CE70-4738-96EC-2ED438C3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NPRR753, PRR Appeals Proc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July 17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n 6/17/08, the ERCOT Board remanded PRR753 to TAC with the directive to resolve the following four issues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rect the cross reference in Section 21.4.11.2, Appeal of TAC Ac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corrections in draft PRS Recommendation Report (yellow high-ligh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 limitation on the distribution of materials that are not timely submitted according to this Section to paragraph (f) of Section 21.4.11.2.1, Appeal of TAC Action – Normal Timelin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suggested language in draft PRS Recommendation Report (yellow high-ligh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ly 17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R753 ERCOT Board Directive Continued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move unfettered access to an expedited appeal process from paragraph (a) of Section 21.4.11.2.2, Appeal of TAC Action – Expedited Timeline, or develop criteria and a process to determine eligibility for an expedited appeals proces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suggested language in draft PRS Recommendation Report (yellow high-ligh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view and synchronize the potential timing issues identified during the ERCOT Board discussion, including potential manipulation of the schedu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example timeline of TAC Appeals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C may address any additional issues it deems appropriat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issu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ly 17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RS 071708</cp:lastModifiedBy>
  <dcterms:modified xsi:type="dcterms:W3CDTF">2008-07-11T20:14:15Z</dcterms:modified>
  <cp:revision>54</cp:revision>
  <dc:subject/>
  <dc:title>Instructions</dc:title>
</cp:coreProperties>
</file>