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05461F-28ED-4860-B4DD-D757D7B1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C70C5B-D9DC-43C4-A17C-1A68B723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30BC-A2C9-42A4-B093-A2AB21D2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0FB6-2950-472A-A07B-87A29D8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99BB-DCE0-4A92-8B06-940CE9D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8EEE-D762-4219-A72F-27CF4BD7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F13D-7744-48F0-B72F-CAD3C11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EC8F-621B-4066-8182-257B1B1E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12F9-A659-4338-AA53-BE6BC8EA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873F-48DD-46B3-BC01-61160865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514D-14B6-45C7-9B76-4F55B75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35F8-A085-4043-9D80-7799001E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44DE-FF84-43CE-A50D-25BD33F2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2F7E-0C9A-49DA-8B13-4724FE1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A2B-E27C-4882-B981-D90143B3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8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272-1FF5-4F87-83B2-D8F99498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8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P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arly Delivery Syste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ichard Howard, John Dumas, Matt Meren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Estimator- Convergence Rate May 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04760" y="1066680"/>
          <a:ext cx="70056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066680"/>
                    <a:ext cx="7005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995400" y="5748480"/>
            <a:ext cx="32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days above 80%: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373-90B3-493C-BBFA-B4D2A960A15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Estimator- Convergence Rate – Jun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3960" y="984240"/>
          <a:ext cx="838512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984240"/>
                    <a:ext cx="83851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3960" y="984240"/>
            <a:ext cx="2629080" cy="444600"/>
          </a:xfrm>
          <a:prstGeom prst="wedgeRectCallout">
            <a:avLst>
              <a:gd name="adj1" fmla="val 67995"/>
              <a:gd name="adj2" fmla="val 485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Software Upgrade caused convergen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5400" y="5748480"/>
            <a:ext cx="32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days above 80%: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3060-F276-487B-AAD0-8961A88C89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3960" y="2514600"/>
            <a:ext cx="6438960" cy="393840"/>
          </a:xfrm>
          <a:prstGeom prst="rect">
            <a:avLst/>
          </a:prstGeom>
          <a:solidFill>
            <a:srgbClr val="a2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3: Telemetry &amp; State Estim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C5A9-A829-4C0F-BCE9-648CB8FAA2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est Chronology – June 25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444600" y="862920"/>
            <a:ext cx="839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Hotline announcement of EDS 3 LFC R6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our Test to Start at 11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scontinues the use of Zonal Congestion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(No OC1s in effect at the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Hotline announcement of EDS 3 LFC R6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our VDI effective Market Wide at 11:0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Control Room Issues first Zonal to Nodal Switch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QSE Confirms Switch to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18 – 12:47 ERCOT manages Grid Control via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4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QSE confirms switch back to Z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QSE confirms switch back to Z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sumes the use of Zonal Congestion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I 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F78D-8A6A-4BB7-9D4D-98010FF4EB3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CPS1 Scor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824040"/>
            <a:ext cx="7345440" cy="43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591240" y="3492360"/>
          <a:ext cx="2400480" cy="2671920"/>
        </p:xfrm>
        <a:graphic>
          <a:graphicData uri="http://schemas.openxmlformats.org/drawingml/2006/table">
            <a:tbl>
              <a:tblPr/>
              <a:tblGrid>
                <a:gridCol w="1422360"/>
                <a:gridCol w="9781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S1 Score (1 Min.)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Zonal (900-11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(1107-1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Nodal (1218-12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Zonal (1248-133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 Zonal (1338-153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dce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56F6-F834-496C-B553-1BA1DE8080C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Regulation, Total Load and Total Gener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853920"/>
            <a:ext cx="8844120" cy="541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E18D-B2F6-4126-9426-FEF29C2EC0D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Transition Time and Nodal Operation Dur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893880"/>
            <a:ext cx="883152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A1F8-B709-4CEE-AAD2-3EE2F7EC42B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444600" y="1022400"/>
            <a:ext cx="8394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RTCA &amp; Zonal RTCA showed the same contingency vio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in effect from 9:30 and throughout the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op Transfor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#2 Austrop 345/138kV transformer overloads #1 Austrop 345/138kV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Generation Top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woo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345kV Temple Switch to Lake Creek &amp; Temple Pecan Creek to Tradinghouse double circuit overloads Brownwood Switch to Goldthwaite 138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E for the North to South (Zonal)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2CB5-E8E2-453A-825A-1B7B2C1E7A0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Estimator Convergence (15 MW/30 MVAR Mismatch Tolerance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1058760"/>
          <a:ext cx="868680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58760"/>
                    <a:ext cx="86868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95360" y="546408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:37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change in breaker status that went from closed to open due to a QSE’s ICCP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ilure, impacted hour ending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30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U went down impacting telemetry from 3 units, impacted hour ending 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7D5E-766F-4302-B143-D34985A56B2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imits during test period 6/25, 11am – 1pm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5334120"/>
            <a:ext cx="8753760" cy="68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BD within 2000-3000MW of HDL (plenty of roo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L &gt; LSL for all but four intervals of test – check your telemetered LEL and L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095480"/>
          <a:ext cx="82296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95480"/>
                    <a:ext cx="82296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1E4C-97CE-49A8-A7E3-5F495141A68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3: Telemetry &amp; State Estim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26A2-E19E-4409-B1E5-D32FCAA9BD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ference LMP, Max LMP, Min LMP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62000" y="5270400"/>
            <a:ext cx="8753400" cy="978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onstraints implemented for entire test – limits not reached until halfway through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LMPs steady increase from $95 to $1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ry Max/Min LMP reduction at 12:35; transformer constraint not at limit brie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2000" y="533520"/>
          <a:ext cx="875340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533520"/>
                    <a:ext cx="87534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52B3-BB8C-4060-A5E0-B1E566C5B43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tribution of Prices with Line Constraint (12:30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5410080"/>
            <a:ext cx="8753400" cy="762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8 of 433 (66%) Resource node LMPs at $109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$1,388; Min -$4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858960"/>
          <a:ext cx="875340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58960"/>
                    <a:ext cx="87534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6CFB-64CA-430F-AB36-C47BFAB1C16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ference LMP, GTBD, SPP, Zonal MCPE (6/25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181480"/>
            <a:ext cx="8753400" cy="99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LMP comparable to MCPE (Zonal MCPE same in all Zones throughout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difference of $14 between LMP and MCPE at beginning o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 between LMP/SPP/MCPE $0-$10 throughout test, except for 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866880"/>
          <a:ext cx="882972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66880"/>
                    <a:ext cx="88297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1AD3-C3BF-4A34-B384-3B6333B7AD6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ystem Items of No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44600" y="900360"/>
            <a:ext cx="8394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ssive Control for UDBP was not i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C p1 parameter set at 1.0 which affects operation below the LSL (will change to 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 Reduction was in effect and will need further tuning before next LF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D issue identified and to be corrected before next test (memory iss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ff cycle SCED run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Cy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Validation Check was no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4AA5-C065-4E3D-ADBD-66ABDB8302A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495680"/>
            <a:ext cx="6438960" cy="393840"/>
          </a:xfrm>
          <a:prstGeom prst="rect">
            <a:avLst/>
          </a:prstGeom>
          <a:solidFill>
            <a:srgbClr val="a2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3: Telemetry &amp; State Estim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5 &amp; 6: SCED / L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Hour Total System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hro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tems o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LFC and SC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E528-1C8F-49BB-AB88-988C14A469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llow-up from last TPTF: Near-Term Future of State Estimato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W and MVar tolerance set to 15 on July 1 based on last ½ of June results (~91% Converg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ing shift engineers in 24-hr incremental blocks in August to drive SE issues and build toward 24x7 real-time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out’ will be communicated to MPs and all efforts should be made to keep systems running and 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n-blackout dates ERCOT will continue to monitor 8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efforts will position ERCOT and MPs well for an 8-Hour LFC test in Mid-Septe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r without C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test is needed for MPs and ERCOT to tune thei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7160" y="3268800"/>
            <a:ext cx="8691480" cy="10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165C-9A8B-4AEE-A42F-588CDBC764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8 Hour Tes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838800"/>
            <a:ext cx="83948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activities for 8 Hou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ublish LFC 2 Hour Tes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 SCED memor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LFC tun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MP’s towards State Estimator and Telemetry Standard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MP’s towards a 24 X 7 Nodal operation support (IC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LFC Phase 3 Test Work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lackout Days for State Estimator converge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LFC 8 hou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FAA8-0920-4EC0-8BB1-78CE39ABE8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llow-up from last TPTF: Near-Term Future of SCE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672840"/>
            <a:ext cx="900432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oposal for Real-Time submissions until re-plan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ntinue to run SCED / Post Real-Time L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737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3737"/>
                </a:solidFill>
                <a:latin typeface="Arial"/>
              </a:rPr>
              <a:t>QSEs continue TPO submitt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O’s should continue to cover 80-120% of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Energy / Startup Costs may be 0.00 since no DAM/RUC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 / FOP % must still continue to = 100% comb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737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3737"/>
                </a:solidFill>
                <a:latin typeface="Arial"/>
              </a:rPr>
              <a:t>COP will only be required in the case of using an output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schedules use the sustainable limits in the COP for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ircumstance, COP’s updates are not required in Adjustment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737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3737"/>
                </a:solidFill>
                <a:latin typeface="Arial"/>
              </a:rPr>
              <a:t>ICCP must continue to be in place 24/7 to support State Estimator and basic SCED input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data required include configuration, MW output, breaker status, HSL, LS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can be static values in tele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737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3737"/>
                </a:solidFill>
                <a:latin typeface="Arial"/>
              </a:rPr>
              <a:t>ICCP data quality must continue to be monitored and problems re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the ongoing requirements communicated to the market from November of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implement 24/7 constraint management in nodal systems starting 7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A91A-0AB0-4925-80EB-B1D0CB6218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CCP Servers Upda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8394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ylor Production Serv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Associations In Progress (7/3/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% QSE Association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% TSP Association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705040"/>
            <a:ext cx="822960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FE60-826C-44AD-BFDC-7282276BBA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CCP High Availabilit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CP High 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 -to- TCC ICCP failover test will occur on July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667560" cy="44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83F3-2FF8-4C6F-BD14-65AC840655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 Telemet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 Teleme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 Win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Telemetry Available for al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, Speed, Barometric Pressure,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sist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Data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, Remot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, Remote Su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ing QSE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39C4-26B2-4FA3-B0B1-0BBC26B73E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SE Telemet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5E4F-4DA3-416D-AE7B-791AB77092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SP Telemet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65EA-12D8-4025-87DC-9AFABDEC9C3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SP Dashboar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866880"/>
            <a:ext cx="7937640" cy="5124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27600" y="3398760"/>
            <a:ext cx="3232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P has provided additional telemetry that did not make it into the database load on 7/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 communications with RCEC to resolv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P Points dropped from 7 to 3 from the last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7946-9CD7-4494-B420-60EAF7AAD79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Estimator- Convergence Rate April 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5400" y="863640"/>
          <a:ext cx="71517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863640"/>
                    <a:ext cx="7151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995400" y="5748480"/>
            <a:ext cx="32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days above 80%: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792E-EA5D-43E0-9108-D561CBF81D7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d_Disclosure_Area</cp:lastModifiedBy>
  <dcterms:modified xsi:type="dcterms:W3CDTF">2008-07-09T19:59:19Z</dcterms:modified>
  <cp:revision>387</cp:revision>
  <dc:subject>Texas Nodal Market Implementation</dc:subject>
  <dc:title>Market Readiness Seminar</dc:title>
</cp:coreProperties>
</file>