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BF4-BA75-492E-921D-3F57A375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C64-5063-44FB-B765-0FC3D425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856-5F59-4358-BFEB-284B5BF1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876-CAAD-425C-9C8F-A77E4330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616F-B049-4672-B713-71B153FD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7A62-04A8-42A3-BA94-1D4F84C2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7DC5-1543-4E0B-810D-E60B80D5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2DFB-70F1-4A00-9FBD-65A3F942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CDCB-2C48-4D84-8520-4425DC71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3F87-1D5B-4AA9-B602-89FD5ED8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1A95-E6AC-4DF9-AEF3-4B63DB57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9BE-93CA-4C83-BED8-E7B140A0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6ACF-BFD2-44D8-B83A-58B635DA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C84F-4A87-41C6-BF7C-C2EB7A79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0D9F-F245-4F47-8492-181C1246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CD15-4697-4E77-B12D-FB13EAE6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130A-A68C-4D88-AADF-5EC5DF5B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679-15EE-4F4C-A199-7E3BA68D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CF6-A764-48C6-9261-C236ECA6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B5B-3269-4573-8EA3-611CDD90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93E-63D0-4528-BF2D-221A0574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107-F1C9-4EF3-8437-EF2AB41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B4C6-EBEE-4B15-AA4A-BE7B8A2B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9AB-B049-489A-A0EE-D19156DA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57C2-99D1-4D54-A8E0-5823D1EE55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73B5-76D0-4F54-97EF-75D839B992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TAC June 26</a:t>
            </a:r>
            <a:r>
              <a:rPr b="0" lang="en-US" sz="4000" spc="-1" strike="noStrike" baseline="30000">
                <a:solidFill>
                  <a:srgbClr val="00a29e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Meeting</a:t>
            </a:r>
            <a:br>
              <a:rPr sz="4000"/>
            </a:b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Update to ROS 0n July 10th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752480"/>
            <a:ext cx="8610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OS Report to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GRR018, Synchronization of OGRR204, Hotline Technology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GRR019, Synchronization of OGRR206, Black Start Satellite Ph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ff"/>
                </a:solidFill>
                <a:latin typeface="Tahoma"/>
              </a:rPr>
              <a:t>[Both passed on a unanimous voice vote under a single mo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S Report to TAC included a status report of the work of the WOT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MS Report to TA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luded a proposal by ERCOT staff to create two additional CREs for the control of voltage stability limits on W-N and N-H CSCs.  TAC voted on two motions but failed to “act”, so the ERCOT proposal may be implemented in 7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RCOT Operations &amp; Planning Reports to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C endorsed a proposed transmission project, AEP Presidio Transmission Project, which includes a new auto at Alamito, some line upgrades, and two 2.4 MW NaS battery units at Presidio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18:41:29Z</dcterms:created>
  <dc:creator>Randy Jones</dc:creator>
  <dc:description/>
  <dc:language>en-US</dc:language>
  <cp:lastModifiedBy>Randy Jones</cp:lastModifiedBy>
  <dcterms:modified xsi:type="dcterms:W3CDTF">2008-06-30T18:57:28Z</dcterms:modified>
  <cp:revision>4</cp:revision>
  <dc:subject/>
  <dc:title>TAC June 26th Meeting  Update to ROS 0n July 10th</dc:title>
</cp:coreProperties>
</file>