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requesting ROS guidance / possible vote on Issue #3g, 10 July 2008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ssue 3g: “Dynamic Line Ratings: changes to protocols / guides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urrent dynamic line rating practices in West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3200" indent="-381240">
              <a:lnSpc>
                <a:spcPct val="90000"/>
              </a:lnSpc>
              <a:spcBef>
                <a:spcPts val="451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ncor: Virtually all line have ambient thermal real-time ratings.  A tension device for inherently incorporating wind speed, ambient, etc, is being tested on a few line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3200" indent="-381240">
              <a:lnSpc>
                <a:spcPct val="90000"/>
              </a:lnSpc>
              <a:spcBef>
                <a:spcPts val="451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EP: A tension device for inherently incorporating wind speed, ambient, etc, is being tested on a few line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tocols &amp; guides allow complete flexibilit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more be accomplished ? Can the existing network be further utilized to get more wind power to the market and reduce energy costs and fossil fuel emissions ? How can the market participants make recommendations, etc ?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network wires are owned by the TSPs.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hould WOTF continue on this or is the Regional Planning Group a better forum 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5:22:35Z</dcterms:created>
  <dc:creator>mgarrett</dc:creator>
  <dc:description/>
  <dc:language>en-US</dc:language>
  <cp:lastModifiedBy>mgarrett</cp:lastModifiedBy>
  <dcterms:modified xsi:type="dcterms:W3CDTF">2008-07-08T21:22:23Z</dcterms:modified>
  <cp:revision>9</cp:revision>
  <dc:subject/>
  <dc:title>Slide 1</dc:title>
</cp:coreProperties>
</file>