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D5329-7A8C-481F-9F6E-ACB037ADE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AB253-72CC-4E0D-962F-C0C35BA73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689DD-939F-4EB3-AA27-2E2BA73D2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0835E-22D8-4884-BED8-D5BB7F7BC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E6881-A6C8-4594-B487-2CA83112C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DA7DD-588C-4630-99D8-5B6BCF18F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45DA4-CEB5-4306-9701-649555B2F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2A1B7-6B1C-478D-A014-883F27BCC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82A62-F1AD-4260-AAFF-579DB30D4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DA40F-8B51-44C7-B821-CC87736E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2A567-0E28-4BD0-81E7-5918FAA2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2CF4E-7A51-45EA-A8D1-00DB6D71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4B7BD-BABD-4F55-AEF1-22B960B0B2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PT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/8/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32AD5-A0AD-4F78-AB8C-110629E32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uly 10,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arly Delivery System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tatus – R6.3 2 Hour Tes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John Dumas and Jeff Gilberts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October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Limits during test period 6/25, 11am – 1pm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"/>
          <p:cNvSpPr/>
          <p:nvPr/>
        </p:nvSpPr>
        <p:spPr>
          <a:xfrm>
            <a:off x="152280" y="5334120"/>
            <a:ext cx="8753760" cy="6858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TBD within 2000-3000MW of HDL (plenty of room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L &gt; LSL for all but four intervals of test – check your telemetered LEL and LS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1095480"/>
          <a:ext cx="8229600" cy="3952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95480"/>
                    <a:ext cx="8229600" cy="39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DCEE8-9DD6-463A-A0DF-E53E7D111513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ctober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Reference LMP, Max LMP, Min LMP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"/>
          <p:cNvSpPr/>
          <p:nvPr/>
        </p:nvSpPr>
        <p:spPr>
          <a:xfrm>
            <a:off x="162000" y="5270400"/>
            <a:ext cx="8753400" cy="9781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wo constraints implemented for entire test – limits not reached until halfway through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ference LMPs steady increase from $95 to $1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mporary Max/Min LMP reduction at 12:35; transformer constraint not at limit brief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62000" y="533520"/>
          <a:ext cx="8753400" cy="4902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00" y="533520"/>
                    <a:ext cx="8753400" cy="490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B2705-6B5F-44BE-BF25-6E09C9FD44A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ctober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Distribution of Prices with Line Constraint (12:30)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5410080"/>
            <a:ext cx="8753400" cy="7621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88 of 433 (66%) Resource node LMPs at $109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x $1,388; Min -$4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28600" y="858960"/>
          <a:ext cx="8753400" cy="4548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858960"/>
                    <a:ext cx="8753400" cy="45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AB122-6F65-4F72-8ED7-5925EC76AF87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ctober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Reference LMP, GTBD, SPP, Zonal MCPE (6/25)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5181480"/>
            <a:ext cx="8753400" cy="990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LMP comparable to MCPE (Zonal MCPE same in all Zones throughout te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ximum difference of $14 between LMP and MCPE at beginning of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ces between LMP/SPP/MCPE $0-$10 throughout test, except for South Z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52280" y="866880"/>
          <a:ext cx="8829720" cy="431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866880"/>
                    <a:ext cx="8829720" cy="43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D6628-6ED9-4DFC-829D-2A86F92BDDB7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ctober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System Items of Note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"/>
          <p:cNvSpPr/>
          <p:nvPr/>
        </p:nvSpPr>
        <p:spPr>
          <a:xfrm>
            <a:off x="444600" y="900360"/>
            <a:ext cx="839448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missive Control for UDBP was not in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LC p1 parameter set at 1.0 which affects operation below the LSL (will change to 0.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tion Reduction was in effect and will need further tuning before next LFC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ED issue identified and to be corrected before next test (memory issu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off cycle SCED runs exec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d Cyc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ation Validation Check was not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8B499-2507-467E-873E-18D53147C483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ctober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57200" y="4495680"/>
            <a:ext cx="6438960" cy="393840"/>
          </a:xfrm>
          <a:prstGeom prst="rect">
            <a:avLst/>
          </a:prstGeom>
          <a:solidFill>
            <a:srgbClr val="a2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S 2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ease 3: Telemetry &amp; State Estim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S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ease 5 &amp; 6: SCED / LF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-Hour Total System Test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Chro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FC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Estim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Items of 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of LFC and SCED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330AE-E37C-44D6-9913-453EAD25283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ctober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Near-Term Future of State Estimator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W and MVar tolerance set to 15 on July 1 based on last ½ of June results (~91% Convergenc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ffing shift engineers in 24-hr incremental blocks in August to drive SE issues and build toward 24x7 real-time oper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ckout’ will be communicated to MPs and all efforts should be made to keep systems running and accu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non-blackout dates ERCOT will continue to monitor 8x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efforts will position ERCOT and MPs well for an 8-Hour LFC test in Mid-Septemb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or without C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onger test is needed for MPs and ERCOT to tune thei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27160" y="3268800"/>
            <a:ext cx="8691480" cy="106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29BFE-01A2-4D0E-85B1-AE78334D72B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ctober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8 Hour Test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"/>
          <p:cNvSpPr/>
          <p:nvPr/>
        </p:nvSpPr>
        <p:spPr>
          <a:xfrm>
            <a:off x="152280" y="838800"/>
            <a:ext cx="839484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ation activities for 8 Hour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Publish LFC 2 Hour Test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lve SCED memory 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rther LFC tuning eff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with MP’s towards State Estimator and Telemetry Standard compl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s with MP’s towards a 24 X 7 Nodal operation support (ICC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dule LFC Phase 3 Test Work Sh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dule Blackout Days for State Estimator convergenc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dule LFC 8 hour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F970A-F8D4-421A-8026-CCD7D615E2E0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ctober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Near-Term Future of SCED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672840"/>
            <a:ext cx="9004320" cy="54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COT proposal for Real-Time submissions until re-plan is comple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will continue to run SCED / Post Real-Time L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SEs continue TPO submittals up to 30-days in adv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PO’s should continue to cover 80-120% of c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 Energy / Startup Costs may be 0.00 since no DAM/RUC exec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P / FOP % must still continue to = 100% combi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P will only be required in the case of using an output sche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 schedules use the sustainable limits in the COP for valid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is circumstance, COP’s updates are not required in Adjustment Peri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C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CCP must continue to be in place 24/7 to support State Estimator and basic SCED input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ic data required include configuration, MW output, breaker status, HSL, LS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cillary Services not required (zero for AS Schedules and Responsibilit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CCP data quality must continue to be monitored and problems resol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are the ongoing requirements communicated to the market from November of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will implement 24/7 constraint management in nodal systems starting 7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8EF10-8E3A-4495-AF9C-513CAD58944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ctober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S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ease 5 &amp; 6: SCED / LF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-Hour Total System Test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Chro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FC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Estim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Items of 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of LFC and SCED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B6624-36E5-4AE9-87B9-6C710F8BBFE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ctober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62120" y="1625760"/>
            <a:ext cx="6438960" cy="393480"/>
          </a:xfrm>
          <a:prstGeom prst="rect">
            <a:avLst/>
          </a:prstGeom>
          <a:solidFill>
            <a:srgbClr val="a2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93840" y="9140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S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ease 5 &amp; 6: SCED / LF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-Hour Total System Test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Chro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FC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Estim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Items of 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of LFC and SCED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B19C1-C04D-4200-8F5E-8E3492CE0B7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ctober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Test Chronology – June 25, 2008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444600" y="862920"/>
            <a:ext cx="8394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8:0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ylor Control Room Hotline announcement of EDS 3 LFC R6.3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Hour Test to Start at 11: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9:0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discontinues the use of Zonal Congestion Manageme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ques (No OC1s in effect at the ti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:5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ylor Control Room Hotline announcement of EDS 3 LFC R6.3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Hour VDI effective Market Wide at 11:00 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:0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ylor Control Room Issues first Zonal to Nodal Switching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:18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t QSE Confirms Switch to Nod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:18 – 12:47 ERCOT manages Grid Control via Nod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:47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QSE confirms switch back to Z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:37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t QSE confirms switch back to Z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:4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resumes the use of Zonal Congestion Manageme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:0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DI E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DC7E6-2F48-4DA3-A5E5-CBA9B9F04DB8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ctober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LFC CPS1 Scores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2280" y="824040"/>
            <a:ext cx="7345440" cy="4371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"/>
          <p:cNvGraphicFramePr/>
          <p:nvPr/>
        </p:nvGraphicFramePr>
        <p:xfrm>
          <a:off x="6591240" y="3492360"/>
          <a:ext cx="2400480" cy="2671920"/>
        </p:xfrm>
        <a:graphic>
          <a:graphicData uri="http://schemas.openxmlformats.org/drawingml/2006/table">
            <a:tbl>
              <a:tblPr/>
              <a:tblGrid>
                <a:gridCol w="1422360"/>
                <a:gridCol w="978120"/>
              </a:tblGrid>
              <a:tr h="436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S1 Score (1 Min.) Aver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ce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 Zonal (900-110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.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ced"/>
                    </a:solidFill>
                  </a:tcPr>
                </a:tc>
              </a:tr>
              <a:tr h="46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ition to Nodal (1107-1217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.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ced"/>
                    </a:solidFill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 Nodal (1218-1247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9.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ced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ition to Zonal (1248-1337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.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ced"/>
                    </a:solidFill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 Zonal (1338-153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1d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.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1dced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CE334-E8DD-4791-AB99-1F78969B4FB5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ctober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LFC Regulation, Total Load and Total Generation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2280" y="853920"/>
            <a:ext cx="8844120" cy="541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EBA92-5F4B-4B1D-8196-6E6F88B576A0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ctober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LFC Transition Time and Nodal Operation Duration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52280" y="893880"/>
            <a:ext cx="8831520" cy="518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4CD5D-6A9E-4416-BE34-F9908EFA69FB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ctober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nstraints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"/>
          <p:cNvSpPr/>
          <p:nvPr/>
        </p:nvSpPr>
        <p:spPr>
          <a:xfrm>
            <a:off x="444600" y="1022400"/>
            <a:ext cx="83944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dal RTCA &amp; Zonal RTCA showed the same contingency viol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aints in effect from 9:30 and throughout the tes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strop Transform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 of #2 Austrop 345/138kV transformer overloads #1 Austrop 345/138kV transfor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e to Generation Topolog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wnwood Sw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 of 345kV Temple Switch to Lake Creek &amp; Temple Pecan Creek to Tradinghouse double circuit overloads Brownwood Switch to Goldthwaite 138kV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RE for the North to South (Zonal) corri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027C4-72FA-4F16-BD17-2D490DC9C906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ctober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State Estimator Convergence (15 MW/30 MVAR Mismatch Tolerance)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52280" y="1058760"/>
          <a:ext cx="8686800" cy="465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58760"/>
                    <a:ext cx="8686800" cy="46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495360" y="5464080"/>
            <a:ext cx="8153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9:37 -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rge change in breaker status that went from closed to open due to a QSE’s ICCP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failure, impacted hour ending 1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:30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TU went down impacting telemetry from 3 units, impacted hour ending 1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C4D2F-5632-4585-A973-5E56D1369BEC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ctober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maggio</cp:lastModifiedBy>
  <dcterms:modified xsi:type="dcterms:W3CDTF">2008-07-09T15:11:02Z</dcterms:modified>
  <cp:revision>391</cp:revision>
  <dc:subject>Texas Nodal Market Implementation</dc:subject>
  <dc:title>Market Readiness Seminar</dc:title>
</cp:coreProperties>
</file>