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02E-135A-480D-9D32-BEBED86E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1BC-1BAC-4822-95BE-95F58BA8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17C-90C1-4007-96F9-F6635F11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603-88C6-432E-997B-EFE1A6A3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CC21-4AE7-4890-AA86-5D7FF531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A02C-9841-4E01-86C0-2B0DB1B4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4B1E-9205-4632-B82E-31C1257C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A823-E463-4AB5-8C8A-B8DE56F3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3896-6434-45E0-B036-ECA083B2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4E30-3BF9-47DD-BB75-8FC66A5A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30B8-34AC-4C60-82B7-4F1C5AA1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22B-1A3F-451D-80D2-A041B48F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C508-2B46-4FC1-B825-FA88DAF1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8903-B821-4720-81A1-45968DBD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DB92-5D46-4241-B719-9EA1D640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708D-9ED1-4C55-AAEF-E3311732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CC69-36CF-48AB-9B8C-A26C89FF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D92-FE1B-45FD-9DE8-2B37E514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511-0AC5-4CF2-9E37-C6C31974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A61-7198-4D04-8756-812115C4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E4D-38F5-497F-B767-6244D5DB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6AC-AF5C-480D-91C4-0D7AA984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98D2-E985-41A5-91A8-988E008D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5524-6150-4A32-A314-A5260CDC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5870-C550-4B90-9223-318323D38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81E8-FC19-4F80-A376-F5069BBB8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ROS July 10, 2008 Meeting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990720" y="1905120"/>
            <a:ext cx="78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TF Update 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OS Action Plan Summary:  EECP Step #2 (Feb.26</a:t>
            </a:r>
            <a:r>
              <a:rPr b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, 200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571500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Garr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TF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458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WOTF Update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Concluded Issu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1828800"/>
          <a:ext cx="8001000" cy="2103480"/>
        </p:xfrm>
        <a:graphic>
          <a:graphicData uri="http://schemas.openxmlformats.org/drawingml/2006/table">
            <a:tbl>
              <a:tblPr/>
              <a:tblGrid>
                <a:gridCol w="1295640"/>
                <a:gridCol w="5486400"/>
                <a:gridCol w="1218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PDCW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can be done to improve STLF performance when previous day load profile and current day load profiles are obviously different?  Can a ‘similar day’ profile be substituted for the previous day profi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916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TF recommended no further action on STLF to ROS in May.  This is addressed by Item 3b below, which ROS in May endorsed the language of a draft PR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458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WOTF Update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Concluded Issu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38080" y="1828800"/>
          <a:ext cx="8001000" cy="1828800"/>
        </p:xfrm>
        <a:graphic>
          <a:graphicData uri="http://schemas.openxmlformats.org/drawingml/2006/table">
            <a:tbl>
              <a:tblPr/>
              <a:tblGrid>
                <a:gridCol w="1295640"/>
                <a:gridCol w="5486400"/>
                <a:gridCol w="1218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CW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QSEs including wind QSEs MUST be vigilant in updating their Resource Plan and keeping it accur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916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is addressed by Item 3b below, which ROS in May endorsed the language of a draft PRR.  In addition, the QMWG is addressing the issue of further updating of the Resource Plans after the RPRS is r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458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WOTF Update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Concluded Issu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828800"/>
          <a:ext cx="8001000" cy="1828800"/>
        </p:xfrm>
        <a:graphic>
          <a:graphicData uri="http://schemas.openxmlformats.org/drawingml/2006/table">
            <a:tbl>
              <a:tblPr/>
              <a:tblGrid>
                <a:gridCol w="1295640"/>
                <a:gridCol w="5486400"/>
                <a:gridCol w="1218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Protocols/Guides:  PRR to mandate use of AWST 80% forecast in wind Resource P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916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SO presented a draft PRR for “Use of WGRPP as Planned Operating Level in Day-Ahead Resource Plan for WGRs” to ROS in May.  ROS endorsed the language.  See also Issue # PDCWG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458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WOTF Update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Concluded Issu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8080" y="1828800"/>
          <a:ext cx="8001000" cy="1554120"/>
        </p:xfrm>
        <a:graphic>
          <a:graphicData uri="http://schemas.openxmlformats.org/drawingml/2006/table">
            <a:tbl>
              <a:tblPr/>
              <a:tblGrid>
                <a:gridCol w="1295640"/>
                <a:gridCol w="5486400"/>
                <a:gridCol w="121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Protocols/Guides:  Mid Term and Short Term Load Forecast weather 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916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TF recommended no further action on STLF &amp; MTLF to ROS in May.  This is addressed by Item 3b above, which ROS in May endorsed the language of a draft PR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458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WOTF Update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Concluded Issu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38080" y="1828800"/>
          <a:ext cx="8001000" cy="2378160"/>
        </p:xfrm>
        <a:graphic>
          <a:graphicData uri="http://schemas.openxmlformats.org/drawingml/2006/table">
            <a:tbl>
              <a:tblPr/>
              <a:tblGrid>
                <a:gridCol w="1295640"/>
                <a:gridCol w="5486400"/>
                <a:gridCol w="121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Protocols/Guides:  Run multiple CSC limit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1739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the frequency of calculating the CSC limits; no Protocol change necessary.  This is now complete for all five CSCs, as of June 10, 2008.  See Market Notice # W-A052808-01 Opera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ever, PRR 764 requires further software changes to post the results.  Also, ERCOT staff has said the procedure changes would be document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5345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WOTF Update: 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ROS Voting Item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tem 3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to Protocols/Guides:  Dynamic line ra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3094200"/>
          <a:ext cx="8077320" cy="292572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OTF believes the implementation of current technology for dynamic line rating on selected lines can possibly / probably reduce the cost of congestion, without affecting reliability. The TSPs in the west are using dynamic line ratings -- Oncor uses ambient thermal ratings on virtually all of their lines.  AEP and Oncor have started usage of tension devices on a limited basis.  Also, the WOTF is still exploring practices in other marke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e WOTF requests the RPG (Regional Planning Group) to explore the potential for further implementation of dynamic ratings to more fully utilize the gri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WOTF Update: 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Open Issu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828800"/>
          <a:ext cx="8001000" cy="4297320"/>
        </p:xfrm>
        <a:graphic>
          <a:graphicData uri="http://schemas.openxmlformats.org/drawingml/2006/table">
            <a:tbl>
              <a:tblPr/>
              <a:tblGrid>
                <a:gridCol w="1295640"/>
                <a:gridCol w="5410080"/>
                <a:gridCol w="1295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onnection Process:  Better defined voltage support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onnection Process:  Better defined SCADA control on generation brea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1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onnection Process:  ERCOT/TSP/Generator voltage management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</a:tr>
              <a:tr h="2014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Protocol 6.5.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1: Find out what reactive operating capabilities exist.  ERCOT staff to query each wind pla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2: Identify what the capabilities should be from both an operations and planning standpoint.  Hold another wind worksho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3: Modify the Operating Guides or Protocols as needed to include results of Phase 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1:  June-July; Phase 2:  September; Phase 3:  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458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WOTF Update: 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Open Issu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828800"/>
          <a:ext cx="8001000" cy="1828800"/>
        </p:xfrm>
        <a:graphic>
          <a:graphicData uri="http://schemas.openxmlformats.org/drawingml/2006/table">
            <a:tbl>
              <a:tblPr/>
              <a:tblGrid>
                <a:gridCol w="1295640"/>
                <a:gridCol w="5486400"/>
                <a:gridCol w="1218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1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onnection Process: Generation  Interconnection Synchronization checklist (how will generation unit’s provide reactive support/voltage contro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staff will propose a voltage control test at wind workshop #2 (late Aug?).  Protocol or Guide change proposal to follo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458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WOTF Update: 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Open Issu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1828800"/>
          <a:ext cx="8001000" cy="3200400"/>
        </p:xfrm>
        <a:graphic>
          <a:graphicData uri="http://schemas.openxmlformats.org/drawingml/2006/table">
            <a:tbl>
              <a:tblPr/>
              <a:tblGrid>
                <a:gridCol w="1295640"/>
                <a:gridCol w="5486400"/>
                <a:gridCol w="1218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ance/Performance Measures:  24/7 communication must be available for TSP to reach wind gene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228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TF provided a document detailing communication criteria to ROS in May.  ROS directed the WOTF to further develop and also provide documentation for the criteria for the timing criteria for 24/7 communication between ERCOT and Wind Far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TF will draft a PRR and/or NPRR to implement the compliance issue changes necessary for all generators.  Retrofitting is an issue for further discuss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458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WOTF Update: 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Open Issu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38080" y="1828800"/>
          <a:ext cx="8001000" cy="1828800"/>
        </p:xfrm>
        <a:graphic>
          <a:graphicData uri="http://schemas.openxmlformats.org/drawingml/2006/table">
            <a:tbl>
              <a:tblPr/>
              <a:tblGrid>
                <a:gridCol w="1295640"/>
                <a:gridCol w="5486400"/>
                <a:gridCol w="121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Protocols/Guides:  Wind Generation ramp rate limitations [assigned to ROS &amp; WMS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11912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staff will be providing a tabulation from PI data indicating how often this has been a problem.  While the QMWG is discussing market issues of implementing a ramp rate limitation, the WOTF needs to review reliability issues of sa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458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WOTF Update: 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Open Issu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1828800"/>
          <a:ext cx="8001000" cy="1768320"/>
        </p:xfrm>
        <a:graphic>
          <a:graphicData uri="http://schemas.openxmlformats.org/drawingml/2006/table">
            <a:tbl>
              <a:tblPr/>
              <a:tblGrid>
                <a:gridCol w="1295640"/>
                <a:gridCol w="5486400"/>
                <a:gridCol w="1218960"/>
              </a:tblGrid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Protocols/Guides:  Ancillary Service procurement methodolog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crease RGS, RRS, NSRS during high-risk periods) [assigned to ROS &amp; WMS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OTF will review recommendations from the WMS for reliability concerns.  (Randy, is that correct?)  Begin review after WMS’s ac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5345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WOTF Update: 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Open Issu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1828800"/>
          <a:ext cx="8001000" cy="1920960"/>
        </p:xfrm>
        <a:graphic>
          <a:graphicData uri="http://schemas.openxmlformats.org/drawingml/2006/table">
            <a:tbl>
              <a:tblPr/>
              <a:tblGrid>
                <a:gridCol w="1295640"/>
                <a:gridCol w="5410080"/>
                <a:gridCol w="1295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Protocols/Guides:  Evaluate transmission line and wind power production outage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OS / WOTF should review any WMS / CMWG recommendations on this issue for reliability considera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 review after CMWG ac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5345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WOTF Update: 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Open Issu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1828800"/>
          <a:ext cx="8001000" cy="1646280"/>
        </p:xfrm>
        <a:graphic>
          <a:graphicData uri="http://schemas.openxmlformats.org/drawingml/2006/table">
            <a:tbl>
              <a:tblPr/>
              <a:tblGrid>
                <a:gridCol w="1295640"/>
                <a:gridCol w="5410080"/>
                <a:gridCol w="1295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:  wind generator knowledge of plant equipment/controls/best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1f1f7"/>
                    </a:solidFill>
                  </a:tcPr>
                </a:tc>
              </a:tr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 Wind workshop #3 will cover certain topics.  (b) A list of topics for training of wind plant operators is being develop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a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of topics: June; Wind Workshop #3: September; Training to follo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c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8:52:30Z</dcterms:created>
  <dc:creator>Randy Jones</dc:creator>
  <dc:description/>
  <dc:language>en-US</dc:language>
  <cp:lastModifiedBy>00005401</cp:lastModifiedBy>
  <dcterms:modified xsi:type="dcterms:W3CDTF">2008-07-07T13:22:39Z</dcterms:modified>
  <cp:revision>36</cp:revision>
  <dc:subject/>
  <dc:title>ROS’ Action Plan – Following Up on 2/26 EECP &amp; Wind Workshop Issues</dc:title>
</cp:coreProperties>
</file>