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 - overview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atus as of 10 July 200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is holding monthly meeting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has addressed and settled issues #PDCWG1, PDCWG2, 3b, 3d, and 3f with ROS.  (#PDCWG2 &amp;  #3b = PRR 763.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though ERCOT is still working on fully posting #3f resul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is asking ROS’ guidance (vote?) on issue #3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 Workshop #2 is set for Fri Aug 22 (part of #1a, 1b, and 1c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has set 2008 target dates for issues # 1a, 1b, 1c, 1d, 2a, 3a, and 3c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will address issue #3e after CMWG recommend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rther WOTF action is required on issue # 4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3f, 10 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3f: “Run multiple CSC limit studi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S endorsed WOTF recommendation – 12 Jun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RCOT has increase the frequency of calculating CSC limits to hourly, with no Protocol change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 five CSC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rst on May 27, last on June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RCOT calculates all CSC limits at least hourly, and posts MW limit at http://mospublic.ercot.com/ercot/jsp/csc_cre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osting of outage &amp; overload contingency pairs still “two weeks aw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pliance with PRR 764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 of WtoN Dynamic Stability lim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8-07-08T20:15:26Z</dcterms:modified>
  <cp:revision>11</cp:revision>
  <dc:subject/>
  <dc:title>Wind Operations Task Force</dc:title>
</cp:coreProperties>
</file>