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BD3-E903-46EF-BA6F-F1250274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86E-A3C2-47D0-AED4-BB73F4D5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5C2-77EA-408B-A74B-17FE82B2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3BB-84DC-4A53-B3DD-802AC060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D9B-AED6-40C5-80DF-323CEB1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56B-85EC-45DC-A692-247AB12E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4D0-CCB2-4373-9D55-B8CE1B2A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6BC-0AFD-4E8D-ACBA-2D45972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BE0-1F0F-47C7-9EB9-4EC6A6BC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BC6-BCEB-485B-8EAF-255902C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9D4-48B2-4AA6-86E2-94A913DB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7A6-4C39-4C9B-9E5B-950D975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6E8-82CD-42FA-95A1-924F1A0F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FA2-93F3-4BCC-B91F-17B8C4D156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3EC-6AA3-4B01-8DC3-2F8C735CA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29560" cy="29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BAB-5358-4C2F-8946-77A807E02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AA8-1713-498C-8ADA-536B1A3BDA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47120" cy="236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F63-042E-4CF3-AED6-AFDB4AFB6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5CC-1CBF-424F-8950-D16FFA512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93280" cy="30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6C1-937E-4972-B5D8-8C94FA57A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95C-0D11-48D9-A08C-B103445411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B9E-0ED8-4DD5-9C12-D0DB5A83E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59C-EFA0-4A13-9E22-6CADCA65CD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35760" cy="318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45D-A837-48CB-A442-319A723637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DFB-DC94-4897-B0A2-6A05953CFB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3912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DB4-64B2-40F9-9D2A-26BAC69F0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978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7EF-AC1B-4495-BDE2-94C97AB40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39A-7AA2-44D0-A5F7-112E0E482B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10400" cy="31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538-E2B3-4CC9-BB0A-F352A0272C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8-07-07T13:35:04Z</dcterms:modified>
  <cp:revision>760</cp:revision>
  <dc:subject/>
  <dc:title>PowerPoint Presentation</dc:title>
</cp:coreProperties>
</file>