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F84-6A1F-40C8-81FC-1E1378F6A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D98-E277-4C9E-BDF9-5ABF192A3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EDB0-2673-4216-8717-D92634C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AC8A-77F9-4AC7-811B-68F79452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A280-04B8-4CC3-939F-A304F20F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55E0-2B40-4354-8D98-F7A30DEC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B9E5-6816-438D-82E5-EDBB2DF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4D90A-63F4-4600-8E12-9AFA59F1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047C1-540B-4974-A182-F6C17213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B7A87-08C7-4E6E-BB5A-26CE072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50941-5F94-4454-A103-34BAAAA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8A4E3-2E0E-4493-A698-C77A981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EC92-235E-40FB-828F-69A1695E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D9D36-37BF-4067-BF30-ADCA444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AE4BC-E399-4A56-91B0-01759D2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FFDA2-35B7-44DF-A505-8F6D7C1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443BE-D34C-414D-ACF8-416C4F3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9EE7C-CF1F-47E1-BE97-F2ABD38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C62AD-7A1A-4C0F-9F7F-7ED73A6C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CC56E-3841-449E-9732-A760B1EC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CD06B-DF6B-482A-B284-B6318FEE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2232E-77B4-4893-B591-4281199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82548-0D11-4E98-9870-C69D323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4D64-F8AE-4AAC-B448-A8DDDAB6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AF18C-4621-45F4-8066-B55397B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F639B-AB40-45B1-AEAD-E50B8F6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122AD-E8A1-498B-A71F-82B506F5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9319D-AE63-4D2D-8FCF-B485B98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F11C6-ECAB-4CC5-80B6-EFF30E2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08E21-F411-457F-A132-2C8BD6B2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961A3-2C91-4E27-9B80-B067ECFC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5559F-05B1-4721-A892-B660A2E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DEAF9-9807-448B-B862-8A5870D5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376D-2448-42CF-BF0C-77605E2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54D4-1435-454C-9A5C-232CB892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5847-D84C-4D8E-9DB0-5A716B8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44EA-85A0-401D-AAE1-F6E471F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70C7-C54D-4E9F-9E38-8E7DB59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267-9C3B-4CE1-AE75-BA7E2A012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4D9-2B38-4C27-A273-9073B857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A870-A6FF-4EA7-B3CB-A45BAB144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E93-9A75-478A-AC5F-646EFEF5B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MS Update to TA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26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y 14 RMS Meet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 PPL Funds 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MS approved the release of $2.27M from the RO PP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Nodal, only three projects from RO PPL will be worked in 2008 and the rest will be deferred t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00040" y="3992400"/>
            <a:ext cx="6343920" cy="10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of June 3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333440" y="76212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ass Transition Update for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" y="15192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ffective with TX SET v.3.0 -- Mass Transition Timeline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CF5-EC7E-419F-A526-8275F9167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830592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143000" y="4343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90720" y="4343400"/>
            <a:ext cx="609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y  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33720" y="4495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019920" y="4343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828800" y="5562720"/>
            <a:ext cx="62485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transition should be completed in no more tha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320" y="1219320"/>
            <a:ext cx="2057400" cy="946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ault Confirmed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Notification Email Sent by ERCO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1371600" y="2286000"/>
            <a:ext cx="2286000" cy="844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 C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03s Sent Requesting          2nd Calenda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733920" y="2133720"/>
            <a:ext cx="1752480" cy="159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04s from TDSP to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14_14s from ERCOT to POLR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ical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64832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6477120" y="4114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457200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2133720" y="312408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1066320" y="4952880"/>
            <a:ext cx="54104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8"/>
          <p:cNvSpPr/>
          <p:nvPr/>
        </p:nvSpPr>
        <p:spPr>
          <a:xfrm flipV="1" rot="10800000">
            <a:off x="5633640" y="1371240"/>
            <a:ext cx="169236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ition Da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DSP performs Field Meter Reads or Estimate                 Off-Cycle Switche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Information Distribut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64008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6"/>
          <p:cNvSpPr/>
          <p:nvPr/>
        </p:nvSpPr>
        <p:spPr>
          <a:xfrm>
            <a:off x="152280" y="4343400"/>
            <a:ext cx="838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endar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7"/>
          <p:cNvSpPr/>
          <p:nvPr/>
        </p:nvSpPr>
        <p:spPr>
          <a:xfrm>
            <a:off x="4648320" y="4114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0"/>
          <p:cNvSpPr/>
          <p:nvPr/>
        </p:nvSpPr>
        <p:spPr>
          <a:xfrm>
            <a:off x="82296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1"/>
          <p:cNvSpPr/>
          <p:nvPr/>
        </p:nvSpPr>
        <p:spPr>
          <a:xfrm flipV="1" rot="10800000">
            <a:off x="7545240" y="2610000"/>
            <a:ext cx="1449360" cy="63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7_03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67_04 In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6477120" y="3809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>
            <a:off x="8001000" y="32767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4"/>
          <p:cNvSpPr/>
          <p:nvPr/>
        </p:nvSpPr>
        <p:spPr>
          <a:xfrm>
            <a:off x="1066680" y="4038480"/>
            <a:ext cx="663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5"/>
          <p:cNvSpPr/>
          <p:nvPr/>
        </p:nvSpPr>
        <p:spPr>
          <a:xfrm>
            <a:off x="1044360" y="4145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6"/>
          <p:cNvSpPr/>
          <p:nvPr/>
        </p:nvSpPr>
        <p:spPr>
          <a:xfrm>
            <a:off x="2590920" y="4145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7"/>
          <p:cNvSpPr/>
          <p:nvPr/>
        </p:nvSpPr>
        <p:spPr>
          <a:xfrm>
            <a:off x="4602600" y="4145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8"/>
          <p:cNvSpPr/>
          <p:nvPr/>
        </p:nvSpPr>
        <p:spPr>
          <a:xfrm>
            <a:off x="6449760" y="41450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9"/>
          <p:cNvSpPr/>
          <p:nvPr/>
        </p:nvSpPr>
        <p:spPr>
          <a:xfrm>
            <a:off x="8295120" y="4145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1066320" y="5105520"/>
            <a:ext cx="72392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3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 flipH="1">
            <a:off x="2437920" y="4724280"/>
            <a:ext cx="40388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ss Transition Upd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Buy Transition: 8430 ESI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Power Transition:  150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wy 3 Transition:  122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way Transition:62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% Complete in 2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100% Complete as of 6/24/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S and ERCOT held a lesson learned workshop on June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raised inclu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ying CRs with pending switches that their customer is going to be dropped to PO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using Move-Ins to get customers off POLR as quickly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get LIDA information to all CRs for POL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its June meeting, Texas SET redlined the Mass Transition section of the Retail Marke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view again at July meeting and then sub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38:37Z</dcterms:created>
  <dc:creator>kfarley</dc:creator>
  <dc:description/>
  <dc:language>en-US</dc:language>
  <cp:lastModifiedBy>balbracht</cp:lastModifiedBy>
  <dcterms:modified xsi:type="dcterms:W3CDTF">2008-07-07T21:49:12Z</dcterms:modified>
  <cp:revision>71</cp:revision>
  <dc:subject/>
  <dc:title>Slide 1</dc:title>
</cp:coreProperties>
</file>