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6A38-7AEF-42D0-9A0C-43678144B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427-724C-4B82-A643-C77F03BDC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B48-FB0A-44CA-BC33-7AB092744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CFA-5B57-4AE3-9FC2-55BF99D1F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4825-EE47-4B71-B996-6BBABE507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914E-B942-444A-BC73-F00295F4A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BD6-B466-44B7-826A-F619BDB00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65FF-7AA0-4F61-9BB9-D57CD8CB2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94A4-CE39-48D7-8E43-276653E0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BEF2-28B2-44D6-B57C-42737BAD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CCCF-1AA3-45AF-BBB4-7A01711F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124F-988A-4FF9-A212-D82C7475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74D6-AE5B-4D72-827B-8C993DC3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C84B-D04D-4932-ACE5-80BBF4E9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00F1-CC6B-46B0-B3F7-1594DBF0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AC20-FDE2-4FCD-B78A-FF9F8D7A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9D7A-30B6-4C58-A803-AA87AEE5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B1D9-753D-4DBD-B759-E472377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A35D-1123-4AAC-99EC-29CF2F3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5090-44F1-4856-9E43-33B39E5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AAF-3429-4CAA-93EF-7BEBEF709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EC15-7E73-4351-B80F-D56B8804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 of July 7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s Transition Upd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ffective with TX SET v.3.0 -- Mass Transition Timelin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505-E109-439D-9DA1-AB3B6816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83059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1143000" y="4343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4343400"/>
            <a:ext cx="609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 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133720" y="4495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19920" y="4343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828800" y="5562720"/>
            <a:ext cx="62485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transition should be complete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ore tha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6320" y="1219320"/>
            <a:ext cx="2057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ault Confirm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Notification Email Sent by ERCO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371600" y="2286000"/>
            <a:ext cx="2286000" cy="84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C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03s Sent Requesting          2nd Calenda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733920" y="2133720"/>
            <a:ext cx="1752480" cy="159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04s from TDSP to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4_14s from ERCOT to POLR C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6483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6477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457200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2133720" y="3124080"/>
            <a:ext cx="304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6"/>
          <p:cNvSpPr/>
          <p:nvPr/>
        </p:nvSpPr>
        <p:spPr>
          <a:xfrm flipH="1">
            <a:off x="1066320" y="4952880"/>
            <a:ext cx="54104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 flipV="1" rot="10800000">
            <a:off x="5633640" y="1371240"/>
            <a:ext cx="169236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tion D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SP performs Field Meter Reads or Estimate                 Off-Cycle Switches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Information Distribut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3"/>
          <p:cNvSpPr/>
          <p:nvPr/>
        </p:nvSpPr>
        <p:spPr>
          <a:xfrm>
            <a:off x="64008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152280" y="4343400"/>
            <a:ext cx="838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"/>
          <p:cNvSpPr/>
          <p:nvPr/>
        </p:nvSpPr>
        <p:spPr>
          <a:xfrm>
            <a:off x="46483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82296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1"/>
          <p:cNvSpPr/>
          <p:nvPr/>
        </p:nvSpPr>
        <p:spPr>
          <a:xfrm flipV="1" rot="10800000">
            <a:off x="7545240" y="2610000"/>
            <a:ext cx="144936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_03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7_04 In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6477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8001000" y="327672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4"/>
          <p:cNvSpPr/>
          <p:nvPr/>
        </p:nvSpPr>
        <p:spPr>
          <a:xfrm>
            <a:off x="1066680" y="4038480"/>
            <a:ext cx="663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5"/>
          <p:cNvSpPr/>
          <p:nvPr/>
        </p:nvSpPr>
        <p:spPr>
          <a:xfrm>
            <a:off x="1044360" y="4145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6"/>
          <p:cNvSpPr/>
          <p:nvPr/>
        </p:nvSpPr>
        <p:spPr>
          <a:xfrm>
            <a:off x="2590920" y="4145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7"/>
          <p:cNvSpPr/>
          <p:nvPr/>
        </p:nvSpPr>
        <p:spPr>
          <a:xfrm>
            <a:off x="4602600" y="41450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6449760" y="41450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8295120" y="4145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0"/>
          <p:cNvSpPr/>
          <p:nvPr/>
        </p:nvSpPr>
        <p:spPr>
          <a:xfrm flipH="1">
            <a:off x="1066320" y="5105520"/>
            <a:ext cx="72392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 flipH="1">
            <a:off x="2437920" y="4724280"/>
            <a:ext cx="40388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Buy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066680"/>
          <a:ext cx="8458200" cy="2514600"/>
        </p:xfrm>
        <a:graphic>
          <a:graphicData uri="http://schemas.openxmlformats.org/drawingml/2006/table">
            <a:tbl>
              <a:tblPr/>
              <a:tblGrid>
                <a:gridCol w="1066680"/>
                <a:gridCol w="1059120"/>
                <a:gridCol w="1017360"/>
                <a:gridCol w="1063800"/>
                <a:gridCol w="1062000"/>
                <a:gridCol w="1063440"/>
                <a:gridCol w="1062000"/>
                <a:gridCol w="106380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7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8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19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0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4"/>
          <p:cNvSpPr/>
          <p:nvPr/>
        </p:nvSpPr>
        <p:spPr>
          <a:xfrm>
            <a:off x="154800" y="4419720"/>
            <a:ext cx="881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dropped due to Mass Transition - 8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6/10/08  there were 0 (zero) ESI ID’s with Active Service Instances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ze of the associated Load is approximately 255 MWh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tional Power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066680"/>
          <a:ext cx="8534520" cy="24829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8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29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30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/3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6/0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5"/>
          <p:cNvSpPr/>
          <p:nvPr/>
        </p:nvSpPr>
        <p:spPr>
          <a:xfrm>
            <a:off x="380880" y="3809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set of the ESI IDs were sent to a designated C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 allocated to P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dropped due to Mass Transition – 15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6/17/08  there were 0 (zero) ESI ID’s with Active Service Instances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ze of the associated Load is approximately 616 MWh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wy 3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066680"/>
          <a:ext cx="8534520" cy="24829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5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6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7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8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09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6/10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5"/>
          <p:cNvSpPr/>
          <p:nvPr/>
        </p:nvSpPr>
        <p:spPr>
          <a:xfrm>
            <a:off x="380880" y="3809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evaluated in Mass Transition – 11687 encompassing 2 DUNS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6/24/08  there were 0 (zero) ESI ID’s with Active Service Instances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ze of the associated Load is approximately 429 MWh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re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066680"/>
          <a:ext cx="8534520" cy="24829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1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1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13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14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/15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6/16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5"/>
          <p:cNvSpPr/>
          <p:nvPr/>
        </p:nvSpPr>
        <p:spPr>
          <a:xfrm>
            <a:off x="380880" y="3809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evaluated in Mass Transition – 6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6/23/08  there were 0 (zero) ESI ID’s with Active Service Instances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ze of the associated Load is approximately 286 MWh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uPower Mass Transition Completio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1066680"/>
          <a:ext cx="8534520" cy="2482920"/>
        </p:xfrm>
        <a:graphic>
          <a:graphicData uri="http://schemas.openxmlformats.org/drawingml/2006/table">
            <a:tbl>
              <a:tblPr/>
              <a:tblGrid>
                <a:gridCol w="1066680"/>
                <a:gridCol w="1095480"/>
                <a:gridCol w="1012680"/>
                <a:gridCol w="1035360"/>
                <a:gridCol w="1081080"/>
                <a:gridCol w="1081080"/>
                <a:gridCol w="1081080"/>
                <a:gridCol w="1081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er Read 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 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nce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r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1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2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3/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4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5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/06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ay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SI 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48" name="TextBox 5"/>
          <p:cNvSpPr/>
          <p:nvPr/>
        </p:nvSpPr>
        <p:spPr>
          <a:xfrm>
            <a:off x="380880" y="3809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SI IDs evaluated in Mass Transition – 20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7/06/08  there are 13 (Thirteen) ESI ID’s with Active Service Instances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ze of the associated Load is approximately 59 MWh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38:37Z</dcterms:created>
  <dc:creator>kfarley</dc:creator>
  <dc:description/>
  <dc:language>en-US</dc:language>
  <cp:lastModifiedBy>kthurman</cp:lastModifiedBy>
  <dcterms:modified xsi:type="dcterms:W3CDTF">2008-07-07T20:56:26Z</dcterms:modified>
  <cp:revision>84</cp:revision>
  <dc:subject/>
  <dc:title>Slide 1</dc:title>
</cp:coreProperties>
</file>