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BEF1-70F2-4B4A-8AC9-47A8AF34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7477-9DFD-466A-882A-38F49B6F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FBD2-405D-4B12-99E9-66401472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A09F-1A4E-47E7-89ED-77E42B74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61FA-C053-463B-862B-CA65E747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896D-F1B6-44DA-B1B9-356BD3A2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BCC5-AE98-4841-97CE-80CD4B4D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27B1-D7FF-492C-81B8-9898E566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AC52-55F5-45C9-A67A-FBACAF3F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A6A0-93C2-4AD0-A475-856E0076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3816-FC06-484F-B981-3934D312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7A86-8856-4B3A-9370-B7811BEB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26CB-534B-40C8-B703-9AAACBB0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DBAA-089A-44B2-87F0-189969D2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E358-B235-44A3-AAD1-50435A97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BE31-EE52-4523-9137-2611B266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4B80-7734-4D07-AD93-AF8697CA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AFB0-34B6-41EE-9DEE-812F03DE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E07D-3F71-449D-8BD6-3A065C3E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66B8-A91E-4D6D-AF75-B88E8E07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7F4D-643D-4AC8-9320-3F203019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ECB2-E930-45B2-96BE-3C9A1B83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0811-5885-4400-8FB7-D257138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EA7E-5542-40DB-8F0F-F2CDF35C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36A8-F989-4628-B2C3-2B3758669C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0EC4-8C82-4311-A49B-BD20DF4CBA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arkeTrak Phase 2b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Walk Th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9 – Comments Required on Siebel Chg/Inf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38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0 – Add Service Period Start/Stop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Period Start Date optional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sing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ebel Chg/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Period Start Date requir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 of Rec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ge and Billing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Period Stop Date optional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 of Rec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ge and Bi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0 – Add Service Period Start/Stop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44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0 – Add Service Period Start/Stop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48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0 – Add Service Period Start/Stop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optional “StartTime” element to “MissingTrxnType”, “ProjType”, “SiebelType” and “OtherType” complex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optional “StartTime” element to “MissingTrxnRespType”, “ProjRespType”, “SiebelRespType”, “OtherRespType”, “UsageBillingRespType” and “RepRecordRespType” complex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required “StartTime” element to “UsageBillingType” and “RepRecordType” complex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optional “StopTime” element to “UsageBillingType” and “RepRecordType “ complex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optional “StopTime” element to “UsageBillingRespType” and “RepRecordRespType” complex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0 – Add Service Period Start/Stop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columns “Start Time” and “Stop Time” added to D2D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Time” marked optional for “Missing Txns”, “Projects”, “Siebel Chg/Info” and “Other” r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Time” marked required on “Usage/Billing Issues” and “Rep of Record” r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Time” marked optional on “Usage/Billing Issues” and “Rep of Record“ r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ther rows not mentioned above had “Start Time” and “Stop Time” columns marked “N/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0 – Add Service Period Start/Stop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5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1 – Add ISA Field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 Number field optional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 Number field required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7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1 – Add ISA Field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6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1 – Add ISA Field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5 – Add Parent Issue Number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field to contain the Parent Issue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ith Bulk Insert “child” Issues to identify the Bulk Insert “Parent” Issue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ally populated by Bulk Insert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1 – Add ISA Field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optional “ISANum” element to “ProjType”, “OtherType”, “ProjRespType”, “D2d997RespType” and “OtherRespType” complex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required “ISANum” element to “D2d997Type” complex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an “ISANumDef” element as string 9 character m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1 – Add ISA Field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olumn “ISA Number” added to D2D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 Number” marked optional for “Projects” and “Other” r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 Number” marked required on “997 Issues” 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ther rows not mentioned above had “ISA Number” column marked “N/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1 – Add ISA Field to D2D sub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74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2 – Reject Txns sub-type Chang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ject Code required on subm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ject Code drop down list of valid Texas Set Reject codes based on selected Tran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s required if Reject Code “A13” se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Tran Type drop down selections to: 814_02, 814_04, 814_05, 814_07,  814_09, 814_11, 814_13, 814_15, 814_17, 814_19, 814_21, 814_23, 814_25, 814_27, 814_29, 82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2 – Reject Txns sub-type Chang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80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2 – Reject Txns sub-type Chang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84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2 – Reject Txns sub-type Chang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2 – Reject Txns sub-type Chang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y “RejectTrxnType” complex type to use “TrxnRejectType” element instead of “TrxnTyp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required “RejectCode” element to “RejectTrxnType” complex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“TrxnRejectType” and “RejectCode” elements with enum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2 – Reject Txns sub-type Chang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olumn “Reject Code” added to D2D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 Code” marked required for “Reject TXNs” 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ther rows not mentioned above had “Reject Code” column marked “N/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12 – Reject Txns sub-type Chang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9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5 – Add Parent Issue Number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20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20 – Capture Date of 1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Begin Work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ew field “First Touched” to contain the date of the Issue’s first “Begin Working” tran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ouched” field available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“Issue Available Date” field from system section to Info section for GUI User vie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fields are read only and captured automatically by the appl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20 – Capture Date of 1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Begin Work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20 – Capture Date of 1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Begin Work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optional “FirstTouched” element to “QueryResponseIssueTyp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“FirstTouched” as a Dat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20 – Capture Date of 1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Begin Work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30 – New Total to DEV IDR sub-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requied “New Total” field to DEV IDR sub-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P system, but not in ERCOT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oth systems, but with date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oth systems, but with kwh iss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30 – New Total to DEV IDR sub-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61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30 – New Total to DEV IDR sub-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required “New Total” element to "IDRUsageMPNotErcotType“, "IDRUsageDateType”, and "IDRUsagekWhType“ complex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30 – New Total to DEV IDR sub-typ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a new column “New To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all rows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“In ERCOT system not MP” rows as “N/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34 – Support XML Special Character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rred till December release (release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5 – Add Parent Issue Number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“ParentIssueNumber” element to “QueryResponseIssueType” complex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new element “ParentIssueNumber” string length 1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5 – Add Parent Issue Number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9 – Comments Required on Siebel Chg/Inf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s now required on Submit of new D2D-Siebel Chg/Info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9 – Comments Required on Siebel Chg/Inf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pic>
          <p:nvPicPr>
            <p:cNvPr id="530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 txBox="1"/>
            <p:nvPr/>
          </p:nvSpPr>
          <p:spPr>
            <a:xfrm>
              <a:off x="457200" y="160020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9 – Comments Required on Siebel Chg/Inf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tructura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d “CommentText” element from IssueSubmitRequest complex element and added to “Issue{subtype}type” complex elements and created ‘Issue{subtype}Resptype” complex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 9 – Comments Required on Siebel Chg/Inf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s now required on Submit of new D2D-Siebel Chg/Info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5:34:44Z</dcterms:created>
  <dc:creator>mtaylor</dc:creator>
  <dc:description/>
  <dc:language>en-US</dc:language>
  <cp:lastModifiedBy>mtaylor</cp:lastModifiedBy>
  <dcterms:modified xsi:type="dcterms:W3CDTF">2008-06-28T20:07:33Z</dcterms:modified>
  <cp:revision>49</cp:revision>
  <dc:subject/>
  <dc:title>MarkeTrak Phase 2a</dc:title>
</cp:coreProperties>
</file>