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0BF5F-C32A-461E-AE29-51CD5873F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FF554-EB1E-4113-BC87-6B7561C11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C5994-27FE-4E6F-B706-35DD9CB93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4E643-946A-49E0-A60D-301EDFE84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605D3-679D-44FF-A9B2-C016BBC91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57936-F6DD-405D-861B-40F6C8867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91FFF-CDBC-43F7-83A7-F299445EF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8E694-61EA-4B14-AB8C-5697416A4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F6295-C91D-4351-979E-F04635254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794B8-275B-42A6-9B0A-A2B010F36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DC5CE-E095-4D7B-B04D-445C40A2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11793-FB42-47FC-874F-A720E903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BE54A-9C77-4216-94BB-4CCBCCB895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mail1.ercot.com/exchweb/bin/redir.asp?URL=http://www.ercot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1905120"/>
            <a:ext cx="7667640" cy="124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ERCOT SLA Exception Reques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ugust 16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 Black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and 17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 Black"/>
              </a:rPr>
              <a:t>th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58863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Hope Parris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anager, Market Operations DPO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LA Exception Reques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requests the following time period be excluded from the retail transaction processing service availability metric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8am August 16</a:t>
            </a:r>
            <a:r>
              <a:rPr b="0" lang="en-US" sz="1800" spc="-1" strike="noStrike" baseline="30000">
                <a:solidFill>
                  <a:srgbClr val="0000cc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 through 11:59pm August 17</a:t>
            </a:r>
            <a:r>
              <a:rPr b="0" lang="en-US" sz="1800" spc="-1" strike="noStrike" baseline="30000">
                <a:solidFill>
                  <a:srgbClr val="0000cc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will also use the normally scheduled service availability window for MarkeTrak beginning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7pm August 15</a:t>
            </a:r>
            <a:r>
              <a:rPr b="0" lang="en-US" sz="1800" spc="-1" strike="noStrike" baseline="30000">
                <a:solidFill>
                  <a:srgbClr val="0000cc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through 11:59pm August 17</a:t>
            </a:r>
            <a:r>
              <a:rPr b="0" lang="en-US" sz="1800" spc="-1" strike="noStrike" baseline="30000">
                <a:solidFill>
                  <a:srgbClr val="0000cc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rak SLA is M-F 7am-7pm no exception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will use this time to perform the PR70007_01 MarkeTrak Release 2 migration to Production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T Implementation start August 1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7pm (30hr dur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ebel and TIBCO Implementation start August 16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8am (6hr dur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tion Verification August 17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8hr dur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ll back contingency (4hr dur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How will services be impacted?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ket Participants will NOT be able to access MarkeTrak (GUI, API or Bulk Insert) from 7pm Friday, August 15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u 11:59pm Sunday, August 17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ket Participants utilizing NAESB to send/receive transactions to/from ERCOT will NOT be able to send/receive transactions to/from ERCOT from 8am Saturday, August 16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hru 11:59pm Sunday, August 17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67 Transactions will NOTbe forwarded during the outage.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97 Functional Acknowledgements will NOT be sent during the outage.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s of TML and the Commercial API will NOT be available including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nd ESI I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nd Transac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mit Transact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A Functionaliti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ort Explorer, inclu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oi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tlement Stateme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ract Schedul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b Services Data Reques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COT Internet Services wil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NO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 available, including but not limited to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COT.com –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rcot.co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keTrak - https://marketrak.ercot.com:8443/tmtrack.dll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CR - https://tcr.ercot.co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xas Renewables – www.texasrenewables.com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hsatterfield</cp:lastModifiedBy>
  <dcterms:modified xsi:type="dcterms:W3CDTF">2008-06-30T18:52:26Z</dcterms:modified>
  <cp:revision>79</cp:revision>
  <dc:subject/>
  <dc:title>Instructions</dc:title>
</cp:coreProperties>
</file>