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B290D-7123-456A-BAE5-790E9E1F8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AE132-9EF2-49A0-95CA-931E5294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584BB-8BF4-4D27-859F-F557536E5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D5A7C-29AC-424B-80E7-FCBE7B45A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E0455-7984-4804-A391-13090504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1AB18-4722-422D-987B-EB99A80F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811A5-C42F-4A70-9945-B0FF2CE1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D163B-F39E-4763-ADF6-59C7AB57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D0CE1-BC73-42FE-8783-79D17958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FB0F3-8B2E-4785-9EEB-4FBEA011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658FC-8501-4170-9D05-AB6784BC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049ED-75E7-4BE8-B1AA-10A62CDE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AC3B-B04D-470E-94D7-5B9F8E28B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il Market Sub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y 9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26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uly 9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160" y="5067360"/>
            <a:ext cx="60483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tail Market Subcommittee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light Testing Upd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6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Day 18; Approximately halfway point of transaction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0608 scheduled to conclude on 07/29/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gency Testing scheduled to conclude on 08/19/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rak Testing scheduled to begin 08/04/08 and conclude on 08/14/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6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06668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vity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 Comple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1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2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3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xt Flight - 100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Deadline is 09/10/0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vity Kick-Off Conference Call:  09/16/0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Kick-Off Conference Call:  10/03/0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Begins: 10/06/0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scheduled to conclude:  11/18/0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6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gcervenka</cp:lastModifiedBy>
  <dcterms:modified xsi:type="dcterms:W3CDTF">2008-06-30T13:33:06Z</dcterms:modified>
  <cp:revision>97</cp:revision>
  <dc:subject/>
  <dc:title>Instructions</dc:title>
</cp:coreProperties>
</file>