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FFE6220-B217-47BE-BC53-E85541B32D9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38320" y="687240"/>
            <a:ext cx="4592520" cy="3445200"/>
          </a:xfrm>
          <a:prstGeom prst="rect">
            <a:avLst/>
          </a:prstGeom>
          <a:ln w="0">
            <a:noFill/>
          </a:ln>
        </p:spPr>
      </p:sp>
      <p:sp>
        <p:nvSpPr>
          <p:cNvPr id="7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C44A35C-1618-4844-A1AA-2578FB80398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38320" y="687240"/>
            <a:ext cx="4592520" cy="3445200"/>
          </a:xfrm>
          <a:prstGeom prst="rect">
            <a:avLst/>
          </a:prstGeom>
          <a:ln w="0">
            <a:noFill/>
          </a:ln>
        </p:spPr>
      </p:sp>
      <p:sp>
        <p:nvSpPr>
          <p:cNvPr id="8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8EFC1E9-BCF3-4216-ABFC-FE892B3A23C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38320" y="687240"/>
            <a:ext cx="4592520" cy="3445200"/>
          </a:xfrm>
          <a:prstGeom prst="rect">
            <a:avLst/>
          </a:prstGeom>
          <a:ln w="0">
            <a:noFill/>
          </a:ln>
        </p:spPr>
      </p:sp>
      <p:sp>
        <p:nvSpPr>
          <p:cNvPr id="8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A5FFF42-8BC6-4D08-BFAE-C7273A47481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8320" y="687240"/>
            <a:ext cx="4592520" cy="3445200"/>
          </a:xfrm>
          <a:prstGeom prst="rect">
            <a:avLst/>
          </a:prstGeom>
          <a:ln w="0">
            <a:noFill/>
          </a:ln>
        </p:spPr>
      </p:sp>
      <p:sp>
        <p:nvSpPr>
          <p:cNvPr id="8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F96838D-0D12-4707-A37C-EC9ED219342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38320" y="687240"/>
            <a:ext cx="4592520" cy="3445200"/>
          </a:xfrm>
          <a:prstGeom prst="rect">
            <a:avLst/>
          </a:prstGeom>
          <a:ln w="0">
            <a:noFill/>
          </a:ln>
        </p:spPr>
      </p:sp>
      <p:sp>
        <p:nvSpPr>
          <p:cNvPr id="9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BD62129-DA83-4D06-B04E-7131DF2AEFF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8320" y="687240"/>
            <a:ext cx="4592520" cy="3445200"/>
          </a:xfrm>
          <a:prstGeom prst="rect">
            <a:avLst/>
          </a:prstGeom>
          <a:ln w="0">
            <a:noFill/>
          </a:ln>
        </p:spPr>
      </p:sp>
      <p:sp>
        <p:nvSpPr>
          <p:cNvPr id="9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E127314-4280-4B9D-AC2E-A57F9FAEB1F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38320" y="687240"/>
            <a:ext cx="4592520" cy="3445200"/>
          </a:xfrm>
          <a:prstGeom prst="rect">
            <a:avLst/>
          </a:prstGeom>
          <a:ln w="0">
            <a:noFill/>
          </a:ln>
        </p:spPr>
      </p:sp>
      <p:sp>
        <p:nvSpPr>
          <p:cNvPr id="9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A0BE9FA-6258-4242-994F-F82476E91D9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38320" y="687240"/>
            <a:ext cx="4592520" cy="3445200"/>
          </a:xfrm>
          <a:prstGeom prst="rect">
            <a:avLst/>
          </a:prstGeom>
          <a:ln w="0">
            <a:noFill/>
          </a:ln>
        </p:spPr>
      </p:sp>
      <p:sp>
        <p:nvSpPr>
          <p:cNvPr id="10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DF24BD7-DB0C-4FB9-9D9E-3D4879756EC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38320" y="687240"/>
            <a:ext cx="4592520" cy="3445200"/>
          </a:xfrm>
          <a:prstGeom prst="rect">
            <a:avLst/>
          </a:prstGeom>
          <a:ln w="0">
            <a:noFill/>
          </a:ln>
        </p:spPr>
      </p:sp>
      <p:sp>
        <p:nvSpPr>
          <p:cNvPr id="10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1B1D256-D912-42A7-9BBE-99B13330E8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6A812-97A6-4B04-BEBA-AA6F3058B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F01FD-1AC8-4CDF-9C6A-E7D699E6A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01B8B-CA13-476C-BE05-8C9371EB3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390D1-7172-478C-942B-2F5BB7482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864AF-6130-48D9-A15B-6DF30C64F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78E8F-00AC-495E-864B-BDBE4B0FA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7E22-60D3-4277-A055-BB005C74F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B6044-4B80-4B99-861C-A47A4D0BB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6B052-3D28-49E9-8B4D-353417233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3663A-9BAA-477D-9859-9375DD237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FF725-6A60-470E-BE9A-6C32F5C2F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B2ED3-D94E-466A-9E15-A76343BBF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08ED-87DB-4542-B263-CF695F87311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5BCE-5AC2-4FF0-87D3-FB3C007EE0C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0948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Update to RMS</a:t>
            </a:r>
            <a:endParaRPr b="0" lang="en-US" sz="4400" spc="-1" strike="noStrike">
              <a:solidFill>
                <a:srgbClr val="000000"/>
              </a:solidFill>
              <a:latin typeface="Arial"/>
            </a:endParaRPr>
          </a:p>
        </p:txBody>
      </p:sp>
      <p:sp>
        <p:nvSpPr>
          <p:cNvPr id="53" name="Text Box 4"/>
          <p:cNvSpPr/>
          <p:nvPr/>
        </p:nvSpPr>
        <p:spPr>
          <a:xfrm>
            <a:off x="5105520" y="5789520"/>
            <a:ext cx="350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ly 09, 2008</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075B-2131-4D76-B42C-06D0B629A31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Activities</a:t>
            </a:r>
            <a:endParaRPr b="0" lang="en-US" sz="2800" spc="-1" strike="noStrike">
              <a:solidFill>
                <a:srgbClr val="000000"/>
              </a:solidFill>
              <a:latin typeface="Arial"/>
            </a:endParaRPr>
          </a:p>
        </p:txBody>
      </p:sp>
      <p:sp>
        <p:nvSpPr>
          <p:cNvPr id="56" name="PlaceHolder 2"/>
          <p:cNvSpPr>
            <a:spLocks noGrp="1"/>
          </p:cNvSpPr>
          <p:nvPr>
            <p:ph/>
          </p:nvPr>
        </p:nvSpPr>
        <p:spPr>
          <a:xfrm>
            <a:off x="380520" y="1295280"/>
            <a:ext cx="8610840" cy="5105520"/>
          </a:xfrm>
          <a:prstGeom prst="rect">
            <a:avLst/>
          </a:prstGeom>
          <a:noFill/>
          <a:ln w="0">
            <a:noFill/>
          </a:ln>
        </p:spPr>
        <p:txBody>
          <a:bodyPr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ing ERCOT System Outages and failures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current status of SCR748 and SCR745</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MarkeTrak Off Cycle release, SLA Exception Request</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SLA Planned/Unplanned Need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scheduled discussions about MarkeTrak Outage schedule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E720-3312-48A0-8FDF-362490BF4B3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228600" y="1599840"/>
            <a:ext cx="8610480" cy="4876920"/>
          </a:xfrm>
          <a:prstGeom prst="rect">
            <a:avLst/>
          </a:prstGeom>
          <a:noFill/>
          <a:ln w="0">
            <a:noFill/>
          </a:ln>
        </p:spPr>
        <p:txBody>
          <a:bodyPr anchor="t">
            <a:normAutofit/>
          </a:bodyPr>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Continue working with the ERCOT Manager of Operations to address each system incident. </a:t>
            </a:r>
            <a:endParaRPr b="0" lang="en-US" sz="2800" spc="-1" strike="noStrike">
              <a:solidFill>
                <a:srgbClr val="000000"/>
              </a:solidFill>
              <a:latin typeface="Arial"/>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istian Brennan presented the outage report in both detail and summary format. It was accepted as presented.</a:t>
            </a:r>
            <a:endParaRPr b="0" lang="en-US" sz="2400" spc="-1" strike="noStrike">
              <a:solidFill>
                <a:srgbClr val="000000"/>
              </a:solidFill>
              <a:latin typeface="Arial"/>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4"/>
          <p:cNvSpPr/>
          <p:nvPr/>
        </p:nvSpPr>
        <p:spPr>
          <a:xfrm>
            <a:off x="3048120" y="441360"/>
            <a:ext cx="2743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endParaRPr b="1" lang="en-US" sz="40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FA25-A0BA-44FA-9BA7-D2D42A7D751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63" name="PlaceHolder 2"/>
          <p:cNvSpPr>
            <a:spLocks noGrp="1"/>
          </p:cNvSpPr>
          <p:nvPr>
            <p:ph/>
          </p:nvPr>
        </p:nvSpPr>
        <p:spPr>
          <a:xfrm>
            <a:off x="76320" y="1447920"/>
            <a:ext cx="8991360" cy="49528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800" spc="-1" strike="noStrike">
                <a:solidFill>
                  <a:srgbClr val="000000"/>
                </a:solidFill>
                <a:latin typeface="Arial"/>
              </a:rPr>
              <a:t>2. </a:t>
            </a:r>
            <a:r>
              <a:rPr b="1" lang="en-US" sz="2800" spc="-1" strike="noStrike">
                <a:solidFill>
                  <a:srgbClr val="003300"/>
                </a:solidFill>
                <a:latin typeface="Arial"/>
              </a:rPr>
              <a:t>TDTWG continue working with ERCOT to clarify  the status SCR748 and SCR745</a:t>
            </a:r>
            <a:r>
              <a:rPr b="1" lang="en-US" sz="2400" spc="-1" strike="noStrike">
                <a:solidFill>
                  <a:srgbClr val="003300"/>
                </a:solidFill>
                <a:latin typeface="Arial"/>
              </a:rPr>
              <a: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No updates available for SCR745.</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vin Tanner gave a brief updated to SCR748. The project is progressing well in the planning phase. The conceptual design and high level test plan have been completed. Execution may be as soon as the end of July, the execution schedule still needs some work. Currently the only risk is availability of resources, we have tried to mitigate those risks by bringing in contract staff and that has worked very well.  A draft detail workflow was presented and should be available on the TDTWG website for July’s meeting.</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Review MarkeTrak Off Cycle release, SLA Exception Reques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pe Parrish presented a request for an SLA exception from 7pm Friday, August 15</a:t>
            </a:r>
            <a:r>
              <a:rPr b="1" lang="en-US" sz="2400" spc="-1" strike="noStrike" baseline="30000">
                <a:solidFill>
                  <a:srgbClr val="000000"/>
                </a:solidFill>
                <a:latin typeface="Arial"/>
              </a:rPr>
              <a:t>th</a:t>
            </a:r>
            <a:r>
              <a:rPr b="1" lang="en-US" sz="2400" spc="-1" strike="noStrike">
                <a:solidFill>
                  <a:srgbClr val="000000"/>
                </a:solidFill>
                <a:latin typeface="Arial"/>
              </a:rPr>
              <a:t> through 11:59pm Sunday, August 17</a:t>
            </a:r>
            <a:r>
              <a:rPr b="1" lang="en-US" sz="2400" spc="-1" strike="noStrike" baseline="30000">
                <a:solidFill>
                  <a:srgbClr val="000000"/>
                </a:solidFill>
                <a:latin typeface="Arial"/>
              </a:rPr>
              <a:t>th.</a:t>
            </a:r>
            <a:r>
              <a:rPr b="1" lang="en-US" sz="2400" spc="-1" strike="noStrike">
                <a:solidFill>
                  <a:srgbClr val="000000"/>
                </a:solidFill>
                <a:latin typeface="Arial"/>
              </a:rPr>
              <a:t>  This request is posted on the TDTWG website for the July meet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the extent of the changes presented and comments by market participants, TDTWG recommends that RMS grant this exception.</a:t>
            </a:r>
            <a:endParaRPr b="0" lang="en-US" sz="2400" spc="-1" strike="noStrike">
              <a:solidFill>
                <a:srgbClr val="000000"/>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3570-522D-4933-B382-CF263A6BD86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457200" indent="-45720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SLA Planned/Unplanned Needs</a:t>
            </a:r>
            <a:endParaRPr b="0" lang="en-US" sz="28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y Felton presented changes to the SLA regarding scheduling of planned outages. They proposed shifting the current 36 hour outage from week 1 to week 4, which is significantly lighter processing weekend. For months with 5 weekends they want an addition 12 hour outage to allow for the possibility of quarterly releases. Also want to change week 1 &amp; 2 to 18 hours outage instead of 12.</a:t>
            </a:r>
            <a:endParaRPr b="0" lang="en-US" sz="2400" spc="-1" strike="noStrike">
              <a:solidFill>
                <a:srgbClr val="000000"/>
              </a:solidFill>
              <a:latin typeface="Arial"/>
            </a:endParaRPr>
          </a:p>
        </p:txBody>
      </p:sp>
      <p:sp>
        <p:nvSpPr>
          <p:cNvPr id="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B872-B7CE-4656-B05C-E433201D68F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 continued</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ummarize things, ERCOT wants to add 12 hours to each month spilt between week 1 &amp; 2 for a 144 hour addition.  They also want to add 12 hours to the 4 months with 5 weekends for a 48 hour addition.  Shift the current 36 hour outage from week 1 to week 4, this would change the long outage to lighter processing days.   Total additional hours per year are 192 hour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has ask RMS to distribute the presentation to the market and for the market to respond with comments prior to the August 6</a:t>
            </a:r>
            <a:r>
              <a:rPr b="1" lang="en-US" sz="2400" spc="-1" strike="noStrike" baseline="30000">
                <a:solidFill>
                  <a:srgbClr val="000000"/>
                </a:solidFill>
                <a:latin typeface="Arial"/>
              </a:rPr>
              <a:t>th</a:t>
            </a:r>
            <a:r>
              <a:rPr b="1" lang="en-US" sz="2400" spc="-1" strike="noStrike">
                <a:solidFill>
                  <a:srgbClr val="000000"/>
                </a:solidFill>
                <a:latin typeface="Arial"/>
              </a:rPr>
              <a:t> TDTWG meeting so the group can review and make a recommendation.</a:t>
            </a:r>
            <a:endParaRPr b="0" lang="en-US" sz="2400" spc="-1" strike="noStrike">
              <a:solidFill>
                <a:srgbClr val="000000"/>
              </a:solidFill>
              <a:latin typeface="Arial"/>
            </a:endParaRPr>
          </a:p>
        </p:txBody>
      </p:sp>
      <p:sp>
        <p:nvSpPr>
          <p:cNvPr id="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F06F-0210-4176-83B0-DA3B9E06180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3513-A64C-4A3D-A8FF-2A8A8CC109C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75" name="PlaceHolder 2"/>
          <p:cNvSpPr>
            <a:spLocks noGrp="1"/>
          </p:cNvSpPr>
          <p:nvPr>
            <p:ph/>
          </p:nvPr>
        </p:nvSpPr>
        <p:spPr>
          <a:xfrm>
            <a:off x="76320" y="1447920"/>
            <a:ext cx="8991360" cy="495288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5. Unscheduled discussions about MarkeTrak Outage schedules</a:t>
            </a: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ren Malkey brought questions from the previous day’s MarkeTrak task force meeting, asking if the SLA time frames could be extended to allow processing through part of the weekend, it is currently 7-7 Monday – Friday. Blake Gross ask for specific hours to be requested. Christian Brennan said this needed to be discussed with the ERCOT staff.  More discussion is needed to get specifics.  Karen  has expanded the conference bridge for the July 30 task force meeting.  See the calendar for details.  TDTWG will follow up on this next month. </a:t>
            </a:r>
            <a:endParaRPr b="0" lang="en-US" sz="2400" spc="-1" strike="noStrike">
              <a:solidFill>
                <a:srgbClr val="000000"/>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8D57-D4E1-44F1-A086-86DC434F372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cline</cp:lastModifiedBy>
  <cp:lastPrinted>2002-09-24T18:27:58Z</cp:lastPrinted>
  <dcterms:modified xsi:type="dcterms:W3CDTF">2008-07-07T18:10:41Z</dcterms:modified>
  <cp:revision>499</cp:revision>
  <dc:subject/>
  <dc:title>PowerPoint Presentation</dc:title>
</cp:coreProperties>
</file>