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483-0749-4B1E-8F62-B6092CF2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6B98-B45D-4094-8497-158B3E40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054-CF3C-4885-B344-9E8426E07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34C-A515-4527-8F28-C7072AA8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9A4-BBAD-49C4-84FE-0EBBC009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4DC-450B-40F0-B467-807E9389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235-E683-4034-A096-CBD5821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82F-E4F7-45B6-AD04-0BB39F33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8AE-8DA4-46D7-A85F-694BB7AD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5795-5973-42A1-91BB-D1BFAB6A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E2B-BF32-40E2-A84B-1D9593F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AB3-E599-47B0-9240-F5A5EE6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706-717C-4957-96F9-0A6304C9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9F4-619C-40E6-B5BF-D70D9DE8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05DE-8F78-428C-B41A-205FAE6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E7D-099F-43AD-B65A-8C55BEC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FD-D27B-44E2-94ED-FEF22FB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7044-5CD9-4F60-919A-EE223C0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1170-A467-4917-90BD-E769BC5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C54-A3FD-4E8C-910D-C76D5DC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BA8-88F3-4B5E-A177-B3083782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A06F-5D39-4E61-BFD3-0BE047A8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16A4-5C77-4ECE-8FAC-50C4912C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0EA1-E83C-4023-A66A-79D5248F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4224-E5EC-4F5B-AA58-DEDA7CAA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9A3A-EB72-495F-89D3-F84B35B1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C53A-08AD-44C4-B1F0-6FAA7F7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0F5-FA59-44DE-9F08-89A2FA2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D614-5AC1-4D83-AB04-773B07F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1FF2-AE7D-4B27-A401-BC8A795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BA73-19F6-451C-99D0-1F600A8D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117F-E5CA-45C8-BCC1-86AB5FB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6FEA-8214-492E-88A0-A7875A4E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37D7-3101-4764-A063-C34CC7D3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C55D-7F6F-4CD8-9744-0C335002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F2DF-D993-4897-9910-F26EB09A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9F40-11AC-4DF8-AE23-2DB5B92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738C-6947-4B9D-8F57-E78539A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0B7-86F7-4A58-8BD3-3F3F022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1B4C-F696-4C1C-A9AC-2A24441D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D269-9F22-4316-A5FB-EBF5B751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A0CE-6E94-40FA-8119-612CDCB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CC8F-07BC-4087-84C8-F044897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2236-A5DF-4071-99C4-5197A46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E53F-3B2C-4DDF-98F9-C26C5BC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8E04-B051-4990-89C6-9A46B202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1412-4DB1-4CAF-9A26-7D3505E4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EF66-DCA0-45B4-A4BE-45E160A5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AEB4-47A8-473F-9AD0-AECFA4D7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A87-EE7D-47EA-B7F5-DD183C9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337E-2FEC-4968-A035-4BF7E3BF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8A04-329D-4C8F-B54A-7AFD1FB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EBA2-263C-45A0-B24A-1DDF59F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852C-8A0B-4808-9DF0-733C8DB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D624-4F9A-4CEB-BBE2-5A82DD7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73C8-7019-496F-B820-2D954A4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AE5A-150C-46F4-B8A2-DDD3374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A89A-A959-43B3-8060-48F002A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F48A-D703-4DD7-BBA3-1F07F4B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7319-9094-452D-A12D-F5C1E07A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E98-9D21-43A6-AD19-7B1C1BF8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025D-7B59-4B94-AA9A-FAD965DF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5AD5-AB71-494E-8256-FF1F33E5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CF9E-6445-4752-AA25-4D68466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FA3C-9AA5-48A7-8B27-1D9E670F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F9CA-1CF2-4F08-A4DE-DD936E2D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BCA6-DFC3-4C8D-A65F-427C8FC2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B584-ACC3-41B8-B4C1-ABCD910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FF94-F410-4DE2-93EB-0C45DF0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CD40-4A4F-4FCC-B188-E22BFD9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C5F2-73D8-413C-9E6B-1094B81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E6F-6274-423F-9ED3-83D55FE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1549-A363-4D54-AAFA-ED629B4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DF68-DA66-40A1-B5B0-6E0733D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7C91-CDBE-4F14-A331-ACA78C5A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32E9-B331-4CEE-B870-24B0331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CCCC-62BD-433A-BCB4-BB6AF44D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0252-796C-4339-B917-8C58243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968F-8D00-45FD-B3AB-949F6E8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B4BD-2588-4628-B899-CBCE046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3FFA-778F-44F8-8F7A-1BF33356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2F78D-5738-4157-B60D-94B7AC7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1B0-4E85-4628-A871-12BD4F9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94ECE-475E-4BEF-BD30-E80E8FD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F7D0-6FD4-45DC-AF59-F664C2A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C5DA-6E6B-4790-8695-9A6213E8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E3CC1-22FB-40BE-9BC8-06C181C3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273C-4C65-4A24-922D-D2D4E62C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A4692-8BFD-45F2-9B88-01091EB4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479D-BC9A-4D9D-A758-AD3002CF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31E6-F63B-42C4-A860-C87AD7B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4A76-319B-4638-89C5-D80A26A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6D95-71C0-4368-AEC9-96FE16B0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ECD-943F-469B-BC83-964D384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ECA52-D1A1-4CB0-A3EB-C2B73351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A8B5-FD71-4048-A3AD-AD507E4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DA75E-0C5C-43FA-8950-EA42ECA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C988-B846-4488-A17B-E469EAD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4A53A-D084-4DB3-9FF8-391736B1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61D7-D9D5-46EE-AF65-30687FC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D89E-B24C-401D-BE08-1EB551A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6825-11D0-4DBC-A239-FC38425D1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F232-0EFC-4DE2-9B9D-A778D67AA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D50-9664-4DD6-9170-7B10F40BC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572-F7CE-419E-8FA7-35AC41368C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20E-8767-4FCC-859E-D9AA8549D8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1AFA-2EC8-4F45-8A50-AFD0656FB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08E-A718-4675-902F-C450989B8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9CF-F87B-48D0-86CB-A58461A2C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July 9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RCOT will use this time to perform the PR70007_01 MarkeTrak Release 2 migration to Production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T Implementation start August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7pm (30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ebel and TIBCO Implementation start August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8am (6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duction Verification August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(8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ll back contingency (4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Do Not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submit anything during this outage even if you can access MarkeTrak productio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lease do not wait until Friday to submit and update issues.   MarkeTrak Taskforce is highly recommending all MP’s to have issues submitted and any updates completed by 5:00 pm on Friday, August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808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Lucida Sans Unicode"/>
              </a:rPr>
              <a:t>MT Implementation – Releas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Retail Testing Website has been updated with the following documents to help with testing.  To request a user name and password e-mail RetailMarketTesting@ercot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2 Contact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Contact List - MarkeTrak Certification Flight 0608 (142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II Scripts - Final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Marketrak Phase II Scripts - Final (14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rketrak Phase 2 Sandbox ESI Lis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Sandbox ESI List (151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rkeTrak User Gui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leted review of all s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lease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cessfully went into production Jun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lease 2 Training – Comple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une 23 – Austin hosted by ERCO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une 26 – Irving hosted by TXU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une 30 – Houston hosted by CN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ank you to Farrah Cortez and Valerie Schwarz for the excellent training presentation and to Mike Taylor and Dave Michelsen for technical suppor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ted review of all User Guide s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y item to a successful implementation is participation and communic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chnical Review was presented by ERCOT for Release 2- B chang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esentation will be posted to MT project si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ercot.com/services/projects/current/70007_01/index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I Cert Conne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 Market Participants have been able to connect to the cert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04920" y="990720"/>
            <a:ext cx="853416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ease 2a changes migration to sandbo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une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delayed due to migration to iTEST still in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Progres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832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June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ERCOT posed two options to the Task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) wipe out sandbox and overlay with 2a changes via Database Refresh (original plan) and re-set up data prep on New Co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16992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 – Reduce Sandbox migration to 1 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16992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n – Set up on old code would be wiped out and need to be reset up. (new fields would only be populated on new set u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) Re-Execute the Migration procedures in Sandbox (which would start at 8:00am on Monday, June 30th to be completed by early July 3rd). Comp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16992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 – Market Participants would not have to redo set 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169920">
              <a:lnSpc>
                <a:spcPct val="10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n – 36hr migration.  New fields will still require set up to be popul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28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8600" y="53352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Lucida Sans Unicode"/>
              </a:rPr>
              <a:t>Next meeting:  July 30t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09480" y="144792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cation  - ERC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rning session – 10am to 12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MT Testing Orientation.  It is highly recommend for all API and GUI test volunteers to att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fternoon session – 1pm to 4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MT – TDTWG meeting to discuss SLA, Planned Outage schedule and timefra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62120" y="1523880"/>
            <a:ext cx="71625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box closes July 2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T Certification testing begins Aug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rough Aug 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gency test time frame Aug 1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rough Aug 15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E12788</cp:lastModifiedBy>
  <dcterms:modified xsi:type="dcterms:W3CDTF">2008-07-07T19:40:28Z</dcterms:modified>
  <cp:revision>128</cp:revision>
  <dc:subject/>
  <dc:title>MarkeTrak Task Force</dc:title>
</cp:coreProperties>
</file>