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C0BDA-53DA-46B1-9576-9E83C47C1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A14BD9-8F59-486F-8421-A9239ADE6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3E6909-B7CE-49B4-BFA8-7DBE703C4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A21CA2-3689-43CE-A9EB-B39DE0B27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F12062-E0B8-4900-AF28-F20F57EF3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213432-8ADE-4887-B17E-A6FFB10C5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3F5858-DEBF-496D-AD10-BBFF1FB95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6022F1-BFCA-4F51-9038-50285C7F7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CF8485-4F2B-4410-A33A-79FA5D276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4E1CCB-5FE8-419B-8E27-6073EC1EF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7A29D4-4A35-49CA-8161-EB42EC811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1982BF-8BDE-48A0-BCCD-AE934F923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5BEBA-197D-4E2F-9233-12A920E12E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dt" idx="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333520" y="1905120"/>
            <a:ext cx="647712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2333160" y="5466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2333520" y="5067360"/>
            <a:ext cx="289584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33520" y="1904760"/>
            <a:ext cx="6019920" cy="123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Market Credit Risk Standard</a:t>
            </a:r>
            <a:br>
              <a:rPr sz="2800"/>
            </a:b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Review timeline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343240" y="358092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Tentative timeline for developing the Market Credit Risk Standard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iday, June 27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ERCOT staff distribute Market Credit Risk Standard (reporting standard) draft to CW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nday, July 7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ERCOT staff distribute draft Standard to TAC, WMS and R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ursday, July 31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- Comments due on the Standard draft (first roun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XX, August xx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Review draft Standard with CWG at their August meet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ursday, Aug 7 – Review highlights of draft Standard with TAC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if desired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dnesday, Aug 13 – Review draft Standard with RMS at their regular meet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dnesday, Aug 20 – Review draft Standard with WMS at their regular meet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iday, August 29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Comments due (final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Tentative timeline for developing the Market Credit Risk Standard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xx, Sept xx – Review draft Standard and final comments with CWG at their September meet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dnesday, Sept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RMS review final comments at their regular meet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dnesday, Sept 17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WMS review final comments at their regular meet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ursday, Oct 2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TAC review final draf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uesday, Oct 21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present draft Standard to F&amp;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/>
  <dc:description/>
  <dc:language>en-US</dc:language>
  <cp:lastModifiedBy>cyager</cp:lastModifiedBy>
  <dcterms:modified xsi:type="dcterms:W3CDTF">2008-07-07T21:15:11Z</dcterms:modified>
  <cp:revision>34</cp:revision>
  <dc:subject/>
  <dc:title>Instructions</dc:title>
</cp:coreProperties>
</file>