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4C3-D10C-4595-9E09-87778E6A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BD8-032D-4CB6-B33B-74208E25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D0B-2928-48DC-B515-419D6947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F1B-83AB-40B9-AC6D-BB0854C6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ADEB-AB2F-4D88-9495-660EBCBF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8232-368E-40F1-AEBF-A8D1BF4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129-8407-459E-BDEE-29A2C15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79FE-E072-4987-AF74-E541D270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18FA-733E-4CA5-A0BB-B6FC093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74CA-E88C-4E92-86E9-C4174E0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991-31B4-46E4-9ABE-E2B135E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EE7-A9B1-4B6A-9519-2BA5B58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C05E-15B4-4699-B6C2-9F09CC8E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BF0-EF7B-4879-9184-CDE32A2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87A-B335-400D-9534-0972903E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F529-596A-4421-A8AB-86BE073C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BC3-CEC5-4E34-84CB-F59675D0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83C-E10E-41E1-88AB-C8F6B23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D34-3BBD-456C-80FD-ACA14F69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E51-2950-420A-8EB1-43E8D673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59C-F7DD-414F-9B6A-A54C444C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982-EFA2-4CB6-9FBC-D0CF144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9D2-820A-40AD-8FED-5FEFA30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423-235D-4828-9A4C-1548327D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5CB-EBC0-4F29-B8FC-CD5691043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D8C1-3605-4A19-AEC8-F76AA100F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rcot.com/content/meetings/cops/keydocs/2008/0610/06._Extract_&amp;_Report_Incident_Log.xls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rcot.com/content/mktrules/issues/lpgrr/025049/029/keydocs/029LPGRR05_PWG_Recommendation_Report_052808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June 26,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Highlights of May 12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COPS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an Munson Presented a Review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RCOT Meeting Facility 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of Market Working Group and Task Force support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general guidelines for Working Groups and Task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responsibilities of ERCOT Working Group/Task Force Meeting Facilitator and ERCOT Meeting S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tinue developing nodal Sections in the COPM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draft COPMGRR for a new Section, Organizational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draft COPMGRR for an updated Appendix A, Market Notice Communication Process for Outages and Processing Imp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ing draft of section covering Congestion Revenue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a schedule of assignments and completion dates for Nodal Market Changes to the gu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EWG / SDAWG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ata Extract SLA was discussed and final comments were incorporated into the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discussion, COPS participants approved the SLA and Incident reporting log (spreadsheet) for tracking Data Extract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ercot.com/content/meetings/cops/keydocs/2008/0610/06._Extract_&amp;_Report_Incident_Log.x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cussed April Extract Incidents and utilized new Incident Report to facilitate discuss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key incident was the database failure of April 21 that created an out-of-sync issue with multiple extr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RCOT continues the restoration process as delays continue to date and notices are published dail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 – Advanced Me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 Rule (wholesale settl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346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sale Settlement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d Deployment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 is to find consensus on implementation of the Advanced Metering R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gnificant work on web portal, other pro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W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d an update regarding “Round 2 Sample Point Installation Track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cent complete new installatio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@ May 28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78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installations + retained sample points = 85.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 Draft PR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65 “Time of Use Revisions” and the LPGRR029 “Modification of Time-Of-Use Schedu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ercot.com/content/mktrules/issues/lpgrr/025049/029/keydocs/029LPGRR05_PWG_Recommendation_Report_052808.d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the proposed PRR and we have filed our support to 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LPGRR029 and will recommend approval to TAC when PRR765 is consid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LPGRR029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ification of Time-Of-Use Schedule Approval Proc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Recommends to TAC Approval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PGRR0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ing TAC Table Action and Consider COPS Recommendation When PRR 756 is presented for consideration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6-17T16:11:43Z</dcterms:modified>
  <cp:revision>24</cp:revision>
  <dc:subject/>
  <dc:title>Slide 1</dc:title>
</cp:coreProperties>
</file>