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F342-0FBA-4677-98A5-1F049D1D0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2CFFA-4CDD-4C22-8FA6-931C91157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1068-C945-4FF1-8C4A-366F86BD4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BB5F-A2F2-44BB-B7DA-7156718F1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A007-1138-40A8-9341-3269E2D37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090E-E5E9-4788-98A1-FE0272FDD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8214-752D-4D0E-845A-54CF90051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517B-CD36-4AEE-B361-8B4573C39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FA7D-FDDE-46AB-96DE-6DD4AD045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AD70-6780-46AF-B6F5-6541FB4B8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A262-D25A-4C67-80AC-17B2E8A2E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259B-6F90-4C0B-A2BD-422FED450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BE3E-C059-49A9-948B-1656DC639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C2FD-7EEE-424F-82FE-F93285D5C7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32004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Net Service Availability – System Op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ly,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5800" y="852480"/>
          <a:ext cx="7848720" cy="55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52480"/>
                    <a:ext cx="7848720" cy="55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BFBEA-73E0-4101-9629-DD35C6602A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ne 2008 Net Service Availability – System Op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ly,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1066680"/>
          <a:ext cx="8381880" cy="50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81880" cy="50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5002-682A-4C8E-B4DD-21644F83EC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mbination of issues caused Retail Transaction Processing performance to be below service level expectation for Ju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 error contributed to a major portion of the service availability being below expect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an application restart on 6/1/08, steps of the verification process were missed, causing a 688 minute ou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hanges have been completed and others are underway to enhance processes and procedures in order to prevent future inciden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ly,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01F4-27F0-4099-84BC-81CD3B3D3D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08 Net Service Availability – Retail &amp; Wholesale Operation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ly,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906480"/>
          <a:ext cx="822960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06480"/>
                    <a:ext cx="822960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63A5-0F1E-4F9C-B69D-6FE4FC48B1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June 2008 Net Service Availability – Retail &amp; Wholesale Operation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ly,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911160"/>
          <a:ext cx="845820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1160"/>
                    <a:ext cx="84582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88C1-FA55-4F22-A79B-547E5CBA29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942840"/>
          <a:ext cx="8024760" cy="484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42840"/>
                    <a:ext cx="8024760" cy="48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ly,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450A-8C47-4FB6-8F92-ABA0BC9671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965160"/>
          <a:ext cx="805824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65160"/>
                    <a:ext cx="80582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ly,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BB4B-7431-41DC-B3B8-0B2BA2CBBA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5800" y="925560"/>
          <a:ext cx="7553160" cy="48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25560"/>
                    <a:ext cx="755316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ly,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9AA8F-13C1-4A98-9D56-045E86B34F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Report Explorer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ly,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1066680"/>
          <a:ext cx="8153280" cy="492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815328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1286-C9BA-4754-A7AD-B2DE7BAD82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API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ly,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909720"/>
          <a:ext cx="82296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09720"/>
                    <a:ext cx="82296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C710-5358-4853-B457-A8772C5FD2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8-07-07T21:34:26Z</dcterms:modified>
  <cp:revision>52</cp:revision>
  <dc:subject/>
  <dc:title>Instructions</dc:title>
</cp:coreProperties>
</file>