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332C5-FE53-4807-B6C6-117E122D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EC0E0-05BD-43B9-92DF-E3AFD8CE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FFC71-96A9-478E-B251-653C1B957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225A8-5C6E-4310-AFDE-C7344F6E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A4FEF-AF5D-4D42-A406-C10EC268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54969-67AC-4331-8EF1-1213648B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1C031-400B-4697-A490-5A44ED12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679B0-1099-4BE8-81CE-2A40E47B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1530C-9293-42BE-BAFB-3D2A16FA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6CDD5-E701-4AD9-8825-345E89FB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36C45-1D5B-475D-8263-E60D89D0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18201-2BC0-472F-A3FA-9CC90240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BECD-DCCB-4D49-978A-7CA74D7F1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5029200" y="6477120"/>
            <a:ext cx="4038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MS: TCR to CRR Transition (Part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e 18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191120" y="6475320"/>
            <a:ext cx="58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5958-729A-493B-B297-F4E176F45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905120" cy="763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1600200"/>
            <a:ext cx="658188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CR to CRR Transition Plan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09200" y="3323880"/>
            <a:ext cx="657252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eth Garz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WM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June 18,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 in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isions made/need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there be an Annual TCR auction for 2009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there be a refund of TCR monthly auction revenues for mid-month Nodal Go-Live d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098AC-734F-4F24-A035-92F80F313C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ackground information (refresher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TCR to CRR Transition Plan describes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lan(s) for transitioning from the TCR to CRR marke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 1: plan for 12/1/08 go-live, including refund methodolog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 2: contingency plans for post 12/1/08 go-l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 1 was approved by WMS, TPTF and TAC end of last year (2007). WMS recommended postponing discussion/approval of Part 2 till late Q1 2008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roval of Part 1 fulfilled Market Readiness Criteria CRR2: Develop TCR to CRR Transition Pl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R 743 was drafted to document decisions made in Part 1 (it only includes language addressing 12/1/08 go-live). It was recommended that the PRR language be revisited to incorporate Part 2 discussion/decision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67C45-22B2-456C-B308-D361273277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cisions made or neede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33520" y="1066680"/>
          <a:ext cx="8127720" cy="5259600"/>
        </p:xfrm>
        <a:graphic>
          <a:graphicData uri="http://schemas.openxmlformats.org/drawingml/2006/table">
            <a:tbl>
              <a:tblPr/>
              <a:tblGrid>
                <a:gridCol w="304560"/>
                <a:gridCol w="4191120"/>
                <a:gridCol w="2057400"/>
                <a:gridCol w="1574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/cho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/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uld we run the 2008 Annual TCR Auctio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Q4 0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 we refund TCRs from 2008 Annual TCR Auction for the month of December 2008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rding to PCR/TCR purchase alloc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Q4 0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Should we run Dec 08 Monthly TCR Auction, and continue running monthly TCR Auctions until Nodal go-live is fully implemente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Yes/n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Need approv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How do we refund TCRs if mid-month go-live occurs, or a reversal to Zonal occur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Refund monthly the fraction of monthly auction revenues equal to the ratio o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(# non-Nodal days) / (total # days in month)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Need approv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Should we run a 2009 Annual TCR Auctio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See next sl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Need approv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40713-2BC6-4D6A-9F37-4C9C151D15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tem 5: pros and c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04920" y="762120"/>
          <a:ext cx="8610480" cy="5311800"/>
        </p:xfrm>
        <a:graphic>
          <a:graphicData uri="http://schemas.openxmlformats.org/drawingml/2006/table">
            <a:tbl>
              <a:tblPr/>
              <a:tblGrid>
                <a:gridCol w="4267080"/>
                <a:gridCol w="4343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 (Run the 2009 Annual TCR Auc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(Run monthly PCR/TCR auctions onl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6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exible go-live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change to today’s auction 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al protocol ch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exible go-live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collateral requirements/tie-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ize need to refund MPs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er refund quantity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only if mid-month go-live occ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er collateral requirements/tie-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effort required to refund M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r refund quant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cation to today’s business*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protocol ch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 Suggested modification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available capacity in monthly auctions; PCRs allocated monthly and tied to monthly auction clearing 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A50D2-F595-46DE-8163-E765CB80A1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commend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ed with monthly and annual TCR auctions per current protocol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ual TCR auction revenues not yet distributed to loads at the time of Nodal Go-Live would be refunded to TCR purchasers (PRR743 methodolog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e PRR743 language to be non-specific about Nodal Market Implementation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refund of Monthly TCR Auction revenues for mid-month Nodal Go-L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DCE0D-80BE-4CDB-84D4-6B93A2403E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ext step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y 21, 2008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itial distribution of information to W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ne 18, 2008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ion provided by W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ly or Augus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MS endorse PRR743 com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DD0A5-7D21-4886-AF1F-41BFE5CC35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4:47:29Z</dcterms:created>
  <dc:creator/>
  <dc:description/>
  <dc:language>en-US</dc:language>
  <cp:lastModifiedBy/>
  <dcterms:modified xsi:type="dcterms:W3CDTF">2008-06-18T00:13:03Z</dcterms:modified>
  <cp:revision>170</cp:revision>
  <dc:subject/>
  <dc:title>CRR Issues</dc:title>
</cp:coreProperties>
</file>