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AD5-05F9-43B5-BA38-092BD8E9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605-9461-42CA-9554-A053A8F1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98B0-D9C4-4945-8F8B-AC57AE7A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890B-B40F-453F-BED6-9BCD4A25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052B-7AB6-4E3B-8ECD-02366C52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1A20-596C-4D27-9F30-83D67C08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7B54-A3F0-42FB-A6FF-BC436BB4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4749-6684-4184-A70A-7CD43288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F2A2-FC8F-4D51-86DF-242024EC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DB3A-ED75-422E-8EB7-A9C11D99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9490-B52F-4F1A-8BDA-C588DD2D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173-1832-4DF4-AEBE-01F594CE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181D-6383-47E4-89D6-7110C805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C62E-C54B-45E7-9E57-604625D5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6CBE-540A-44D7-9E82-BAF1F2B1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7302-6029-4747-B10F-7D82B0CA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4603-0CE8-4216-800D-5F89E716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25B-80EB-4CE7-BFA4-05EA59D0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7A8-F700-4C51-8F5E-CF2C3760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D84-C829-4543-8DC3-8262E50E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3BF-2931-496C-9A37-C53FE9EB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767-EECE-4F66-88D5-9A739DAD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FBC-7B3A-43D2-918F-6E542DC7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16B-90E9-4D81-AB39-171DC5F2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8356-11E0-4ACA-A518-547809574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880E-EAAF-489C-B4D3-4561EBBEC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SE Managers Working Grou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0 May, 2008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eting No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rt to W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8 June, 20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0 May, 2008 Meeting 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BES from Actual Output or Schedu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SL as % of HSL Performance Measur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R-763 Use of WGRPP as Planned Operating Level in Day-Ahead Resource Plan for WGR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GR Ramp Rate Limitation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SE Resource Plan Update Tim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BES from Actual Output or Schedu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cussion with ERCOT exa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real time, schedules are considered irrelevant. ERCOT expected DBES from actual due to the Wind Only QSE’s almost always off schedule and the use of the offset.  A better, more accurate schedule would limit the probl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Next Ste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Work on a performance measu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SL as % of HSL Performance Measur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RCOT request for legal interpretation of the protocols.  They may be able to stop the practice of Wind QSEs entering LSL=HSL without a protocol revision. Not ready to share findings. Walter Reid suggest 10% of WGR rating as the LSL. There is support for a PRR (Protocol 4.10.4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Next Ste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Mark Bruce and David Detelich will propose PRR language. Down Balancing Bids from WGR QSEs would then be requir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R-763 Use of WGRPP as Planned Operating Level in Day-Ahead Resource Plan for WG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objection from a market perspective. ERCOT will email the P50 and P80 forecast hourly.  IA – May have impact on QSEs.  Can they meet a July 1 implementation da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Next Ste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Review the market bulletin that John Dumas is authoring. Provide ERCOT with an email address for each WGR.  Complete telemetry for 57 sit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GR Ramp Rate Limitation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hn Dumas showed slide from the March 1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wind workshop.  ERCOT and OWG suggested a 5% ramp rate. Agreement that uncontrolled ramping impacts the market with more regulation deployments and quantities required.  No analysis, though.  QMG could support a 10% ramp rate.  Some still want an analysi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Next Ste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John Dumas to issue a PRR requiring a ramp rate limitation of 10%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QSE Resource Plan Update Tim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resource plan for WGR only QSE’s should be kept in sync with the schedules. ERCOT’s process is to use the offset for the Wind SCE.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lude language in the Market Bulletin about this. Develop an appropriate Metric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cap on issues to da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6765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SL as % of HSL Performance Measur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RCOT interpretation and/or a P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WGR Ramp Rate Limitation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ohn Dumas to issue P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Wind QSE Resource Plan Update Tim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MWG to work with ERCOT to develop Bullet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50/50 forecast vs. 80/20 forecast 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thdrawn, unless significant cha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/S Procurement During High Risk Period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ommendations provided to ERCO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wn Balancing Bids from WGR QSEs  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olidated with Item #1 – LSL % of HS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BES from Actual Output or Schedules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tter Scheduling required. Metrics needed for WGR only QSE’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MWG – Future Agenda I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577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rics for WGR only QSE’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uss development of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SL as % of HSL Performance Mea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view of PR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/or ERCOT Protocol Interpret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GR Ramp Rate Limit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view of PR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 QSE Resource Plan Update Ti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 of PRR, Market Bullet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Meeting: 20 June, 2008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5:02:42Z</dcterms:created>
  <dc:creator>Brandon Whittle</dc:creator>
  <dc:description/>
  <dc:language>en-US</dc:language>
  <cp:lastModifiedBy>David J. Detelich</cp:lastModifiedBy>
  <dcterms:modified xsi:type="dcterms:W3CDTF">2008-06-15T16:06:28Z</dcterms:modified>
  <cp:revision>28</cp:revision>
  <dc:subject/>
  <dc:title>QSE Manager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