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93595E-2253-44BF-B34B-BEE7650FF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BFB0A6-CC49-4B3B-9FA3-E912F93C3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B25812-9DB2-485B-AA83-D82BFDCD4B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279EE5-8679-4A2D-A7E6-DE395F10B5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006CB-B5CA-4D79-9569-E295754AC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303E9-0769-4A18-A680-3CD5B22BF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94AAD-8229-4E24-90A6-79166BCFD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13BD5-55DF-4E34-8FD6-FC3669D53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770FF-8432-42EC-BA04-30D3012BD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8D139-44A1-4EB8-9A46-046C5ED6E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B8D0-E131-4A06-B375-93C3585F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F2E03E-B47F-4ECA-847C-FA0A36182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0F9FE-F939-4A87-BBD2-10DB68145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98833-A874-4B65-A0E5-6B4E9BB20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EA61A-186D-480F-9202-764F425EB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8B183-1766-4BF4-981F-6904FF5CA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BA242-E635-4882-9EE9-B5323C5A4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A2ABA-5722-4E24-B897-52528F2DC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2D4BD6-3C41-4086-A300-F25D67FB9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65DA5E-481E-497A-8CC3-AB215340F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3DD1A0-0138-4611-A084-39D7C608B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325BF-A1DB-4BF0-A18A-C76E9DA01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EB045-CD0C-4726-8236-2DC590466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8B3B23-6D44-4805-9DFD-DF8C43C710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36B3-8A8B-4A06-8D41-5B8070F2E8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848720" y="6172200"/>
            <a:ext cx="1092240" cy="5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9165-2B3E-42CF-9553-03C0DD3B6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pic>
        <p:nvPicPr>
          <p:cNvPr id="70" name="" descr=""/>
          <p:cNvPicPr/>
          <p:nvPr/>
        </p:nvPicPr>
        <p:blipFill>
          <a:blip r:embed="rId2"/>
          <a:stretch/>
        </p:blipFill>
        <p:spPr>
          <a:xfrm>
            <a:off x="7924680" y="6172200"/>
            <a:ext cx="1092240" cy="547560"/>
          </a:xfrm>
          <a:prstGeom prst="rect">
            <a:avLst/>
          </a:prstGeom>
          <a:ln w="0">
            <a:noFill/>
          </a:ln>
        </p:spPr>
      </p:pic>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CPE and Offer Cap/Floor Consistency, etc.</a:t>
            </a:r>
            <a:endParaRPr b="0" lang="en-US" sz="3600" spc="-1" strike="noStrike">
              <a:solidFill>
                <a:srgbClr val="ffffff"/>
              </a:solidFill>
              <a:latin typeface="Arial"/>
            </a:endParaRPr>
          </a:p>
        </p:txBody>
      </p:sp>
      <p:sp>
        <p:nvSpPr>
          <p:cNvPr id="109" name="PlaceHolder 2"/>
          <p:cNvSpPr>
            <a:spLocks noGrp="1"/>
          </p:cNvSpPr>
          <p:nvPr>
            <p:ph type="subTitle"/>
          </p:nvPr>
        </p:nvSpPr>
        <p:spPr>
          <a:xfrm>
            <a:off x="2971800" y="4266720"/>
            <a:ext cx="6019920" cy="21337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 L. Jones</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ce Presiden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tor, ERCOT IMM</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tomac Economics</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TAC/WMS Meeting</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stin, Texas</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une 13, 2008</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000/MW CSC Shadow Price Cap</a:t>
            </a:r>
            <a:endParaRPr b="0" lang="en-US" sz="3600" spc="-1" strike="noStrike">
              <a:solidFill>
                <a:srgbClr val="000000"/>
              </a:solidFill>
              <a:latin typeface="Arial"/>
            </a:endParaRPr>
          </a:p>
        </p:txBody>
      </p:sp>
      <p:pic>
        <p:nvPicPr>
          <p:cNvPr id="128" name="" descr=""/>
          <p:cNvPicPr/>
          <p:nvPr/>
        </p:nvPicPr>
        <p:blipFill>
          <a:blip r:embed="rId1"/>
          <a:stretch/>
        </p:blipFill>
        <p:spPr>
          <a:xfrm>
            <a:off x="270000" y="1935000"/>
            <a:ext cx="4173480" cy="2784600"/>
          </a:xfrm>
          <a:prstGeom prst="rect">
            <a:avLst/>
          </a:prstGeom>
          <a:ln w="0">
            <a:noFill/>
          </a:ln>
        </p:spPr>
      </p:pic>
      <p:pic>
        <p:nvPicPr>
          <p:cNvPr id="129" name="" descr=""/>
          <p:cNvPicPr/>
          <p:nvPr/>
        </p:nvPicPr>
        <p:blipFill>
          <a:blip r:embed="rId2"/>
          <a:stretch/>
        </p:blipFill>
        <p:spPr>
          <a:xfrm>
            <a:off x="4681440" y="1938240"/>
            <a:ext cx="4172040" cy="278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00/MW CSC Shadow Price Cap</a:t>
            </a:r>
            <a:endParaRPr b="0" lang="en-US" sz="3600" spc="-1" strike="noStrike">
              <a:solidFill>
                <a:srgbClr val="000000"/>
              </a:solidFill>
              <a:latin typeface="Arial"/>
            </a:endParaRPr>
          </a:p>
        </p:txBody>
      </p:sp>
      <p:pic>
        <p:nvPicPr>
          <p:cNvPr id="131" name="" descr=""/>
          <p:cNvPicPr/>
          <p:nvPr/>
        </p:nvPicPr>
        <p:blipFill>
          <a:blip r:embed="rId1"/>
          <a:stretch/>
        </p:blipFill>
        <p:spPr>
          <a:xfrm>
            <a:off x="139680" y="1916280"/>
            <a:ext cx="4282920" cy="2857320"/>
          </a:xfrm>
          <a:prstGeom prst="rect">
            <a:avLst/>
          </a:prstGeom>
          <a:ln w="0">
            <a:noFill/>
          </a:ln>
        </p:spPr>
      </p:pic>
      <p:pic>
        <p:nvPicPr>
          <p:cNvPr id="132" name="" descr=""/>
          <p:cNvPicPr/>
          <p:nvPr/>
        </p:nvPicPr>
        <p:blipFill>
          <a:blip r:embed="rId2"/>
          <a:stretch/>
        </p:blipFill>
        <p:spPr>
          <a:xfrm>
            <a:off x="4581360" y="1905120"/>
            <a:ext cx="4310280" cy="28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59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111" name="PlaceHolder 2"/>
          <p:cNvSpPr>
            <a:spLocks noGrp="1"/>
          </p:cNvSpPr>
          <p:nvPr>
            <p:ph/>
          </p:nvPr>
        </p:nvSpPr>
        <p:spPr>
          <a:xfrm>
            <a:off x="457200" y="1131840"/>
            <a:ext cx="8229600" cy="473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in establishing the values for CSC shadow price caps (SPCs) has been to produce MCPE outcomes that remain within the bounds of the applicable offer cap</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SPCs were set at $2,500/MW when the offer caps were $1,000/MWh.</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est zonal shift factor difference is approx. 0.40.</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 coincidence that 0.40 x $2,500 = $1,000</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the offer caps were raised to $1,500/MWh.  Although we recognized the disconnect between the increased offer caps and the new offer caps, no change to the SPCs was proposed in 2007.</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8, the offer caps were raised to $2,250/MWh.</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2008, increased SPCs were proposed to realign the SPCs with the offer caps that were soon to be well in excess of the $1,000/MWh offer cap that formed the basis for the original SP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59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600/MW SPCs</a:t>
            </a:r>
            <a:endParaRPr b="0" lang="en-US" sz="3200" spc="-1" strike="noStrike">
              <a:solidFill>
                <a:srgbClr val="000000"/>
              </a:solidFill>
              <a:latin typeface="Arial"/>
            </a:endParaRPr>
          </a:p>
        </p:txBody>
      </p:sp>
      <p:sp>
        <p:nvSpPr>
          <p:cNvPr id="113" name="PlaceHolder 2"/>
          <p:cNvSpPr>
            <a:spLocks noGrp="1"/>
          </p:cNvSpPr>
          <p:nvPr>
            <p:ph/>
          </p:nvPr>
        </p:nvSpPr>
        <p:spPr>
          <a:xfrm>
            <a:off x="457200" y="1131840"/>
            <a:ext cx="8229600" cy="473544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Cs of $5,600/MW were proposed to align with the new $2,250/MWh offer caps effective March 1, 2008</a:t>
            </a: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it is no coincidence that 0.40 x $5,600 = $2,240.</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offer caps have increased to $2,250, the offer floor in the ERCOT Protocols remains at ($1,000)/MWh.</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new asymmetry in the offer caps and floors, it was observed that, although the new SPCs would result in maximum MCPEs generally within the bounds of the offer caps under all conditions experienced to date in the ERCOT market (more on this later), the new SPCs could result in MCPEs much lower than the offer floor (e.g., &lt; ($2,000)/MWh.</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MCPE floor of ($1,000)/MWh was proposed to address this circumstance, but the WMS declined to endorse this recommend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59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Es Well in Excess of the Offer Caps</a:t>
            </a:r>
            <a:endParaRPr b="0" lang="en-US" sz="3200" spc="-1" strike="noStrike">
              <a:solidFill>
                <a:srgbClr val="000000"/>
              </a:solidFill>
              <a:latin typeface="Arial"/>
            </a:endParaRPr>
          </a:p>
        </p:txBody>
      </p:sp>
      <p:sp>
        <p:nvSpPr>
          <p:cNvPr id="115" name="PlaceHolder 2"/>
          <p:cNvSpPr>
            <a:spLocks noGrp="1"/>
          </p:cNvSpPr>
          <p:nvPr>
            <p:ph/>
          </p:nvPr>
        </p:nvSpPr>
        <p:spPr>
          <a:xfrm>
            <a:off x="457200" y="1131840"/>
            <a:ext cx="8229600" cy="4735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y 2008, there were a handful of intervals in which two zonal constraints were simultaneously binding, one or more of which was unresolved.</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y knowledge, such conditions have never before existed in the ERCOT wholesale marke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se circumstances, the existing shadow price caps can result in MCPEs in the range of $4,500/MWh</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more severe circumstances not yet experienced, some zonal MCPEs could exceed $6,000/MWh.</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ch circumstances were known to mathematically possible, they were not contemplated based on experienc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these extraordinary outcomes that are inconsistent with the original objective of producing MCPEs that remain within the bounds of the offer caps, we began analyzing solutions over a week ago to address these circum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59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Solution</a:t>
            </a:r>
            <a:endParaRPr b="0" lang="en-US" sz="3200" spc="-1" strike="noStrike">
              <a:solidFill>
                <a:srgbClr val="000000"/>
              </a:solidFill>
              <a:latin typeface="Arial"/>
            </a:endParaRPr>
          </a:p>
        </p:txBody>
      </p:sp>
      <p:sp>
        <p:nvSpPr>
          <p:cNvPr id="117" name="PlaceHolder 2"/>
          <p:cNvSpPr>
            <a:spLocks noGrp="1"/>
          </p:cNvSpPr>
          <p:nvPr>
            <p:ph/>
          </p:nvPr>
        </p:nvSpPr>
        <p:spPr>
          <a:xfrm>
            <a:off x="457200" y="1131840"/>
            <a:ext cx="8229600" cy="4735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the SPCs from $5,600 to $5,000/MW</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0.40 zonal shift factor difference can be somewhat stronger in some months for some constraint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gas prices have significantly increased the non-congestion component of all zonal MCP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of these factors can lead to MCPEs greater than the offer caps even when only one zonal constraint is binding and unresolvable with the $5,600/MW SPC.</a:t>
            </a:r>
            <a:endParaRPr b="0" lang="en-US" sz="16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se an MCPE cap of $2,250/MW and a MCPE floor of ($1,000)</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s and floors will only potentially come in to play when there is zonal congestion, and only when the MCPE would have otherwise exceeded $2,250/MWh or been less than ($1,000)/MWh.</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 will most likely only be applied when there are two or more simultaneously binding constraints, one or more of which is unresolvable.</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loor may be applied when only one binding constraint exist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changes will not cause any resource to be dispatched at a price lower than its offer price.</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time that an MCPE is subject to a cap or floor, ERCOT will be required to adjust the shadow prices to align with the adjusted MC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98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S Constraint Nodal Simulation</a:t>
            </a:r>
            <a:endParaRPr b="0" lang="en-US" sz="3600" spc="-1" strike="noStrike">
              <a:solidFill>
                <a:srgbClr val="000000"/>
              </a:solidFill>
              <a:latin typeface="Arial"/>
            </a:endParaRPr>
          </a:p>
        </p:txBody>
      </p:sp>
      <p:pic>
        <p:nvPicPr>
          <p:cNvPr id="119" name="" descr=""/>
          <p:cNvPicPr/>
          <p:nvPr/>
        </p:nvPicPr>
        <p:blipFill>
          <a:blip r:embed="rId1"/>
          <a:srcRect l="7938" t="0" r="15875" b="0"/>
          <a:stretch/>
        </p:blipFill>
        <p:spPr>
          <a:xfrm>
            <a:off x="1438200" y="1314360"/>
            <a:ext cx="6440400" cy="5442120"/>
          </a:xfrm>
          <a:prstGeom prst="rect">
            <a:avLst/>
          </a:prstGeom>
          <a:ln w="0">
            <a:noFill/>
          </a:ln>
        </p:spPr>
      </p:pic>
      <p:sp>
        <p:nvSpPr>
          <p:cNvPr id="120" name=""/>
          <p:cNvSpPr/>
          <p:nvPr/>
        </p:nvSpPr>
        <p:spPr>
          <a:xfrm>
            <a:off x="563400" y="4756320"/>
            <a:ext cx="3784680" cy="15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 simulation of unresolvable congestion under nodal SCED.  Actual results will vary.</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airly difficult to create a constraint that nodal dispatch cannot resolv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high across the South and Houston Zones, but the $2,000+ prices are limited to a very small reg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2-2008 Peaker Net Margin</a:t>
            </a:r>
            <a:endParaRPr b="0" lang="en-US" sz="3600" spc="-1" strike="noStrike">
              <a:solidFill>
                <a:srgbClr val="000000"/>
              </a:solidFill>
              <a:latin typeface="Arial"/>
            </a:endParaRPr>
          </a:p>
        </p:txBody>
      </p:sp>
      <p:pic>
        <p:nvPicPr>
          <p:cNvPr id="122" name="" descr=""/>
          <p:cNvPicPr/>
          <p:nvPr/>
        </p:nvPicPr>
        <p:blipFill>
          <a:blip r:embed="rId1"/>
          <a:stretch/>
        </p:blipFill>
        <p:spPr>
          <a:xfrm>
            <a:off x="933480" y="1566720"/>
            <a:ext cx="7093080" cy="484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8 Zonal Peaker Net Margin</a:t>
            </a:r>
            <a:endParaRPr b="0" lang="en-US" sz="3600" spc="-1" strike="noStrike">
              <a:solidFill>
                <a:srgbClr val="000000"/>
              </a:solidFill>
              <a:latin typeface="Arial"/>
            </a:endParaRPr>
          </a:p>
        </p:txBody>
      </p:sp>
      <p:pic>
        <p:nvPicPr>
          <p:cNvPr id="124" name="" descr=""/>
          <p:cNvPicPr/>
          <p:nvPr/>
        </p:nvPicPr>
        <p:blipFill>
          <a:blip r:embed="rId1"/>
          <a:stretch/>
        </p:blipFill>
        <p:spPr>
          <a:xfrm>
            <a:off x="946080" y="1638360"/>
            <a:ext cx="7005600" cy="47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Comparison</a:t>
            </a:r>
            <a:endParaRPr b="0" lang="en-US" sz="3600" spc="-1" strike="noStrike">
              <a:solidFill>
                <a:srgbClr val="000000"/>
              </a:solidFill>
              <a:latin typeface="Arial"/>
            </a:endParaRPr>
          </a:p>
        </p:txBody>
      </p:sp>
      <p:pic>
        <p:nvPicPr>
          <p:cNvPr id="126" name="" descr=""/>
          <p:cNvPicPr/>
          <p:nvPr/>
        </p:nvPicPr>
        <p:blipFill>
          <a:blip r:embed="rId1"/>
          <a:stretch/>
        </p:blipFill>
        <p:spPr>
          <a:xfrm>
            <a:off x="433440" y="2252520"/>
            <a:ext cx="8277120" cy="235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07:36Z</dcterms:created>
  <dc:creator>djones</dc:creator>
  <dc:description/>
  <dc:language>en-US</dc:language>
  <cp:lastModifiedBy>dan</cp:lastModifiedBy>
  <dcterms:modified xsi:type="dcterms:W3CDTF">2008-06-12T22:46:58Z</dcterms:modified>
  <cp:revision>21</cp:revision>
  <dc:subject/>
  <dc:title>Market Monitoring and Market Design</dc:title>
</cp:coreProperties>
</file>