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01E-6ECC-4BFA-8D31-A8913A18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A6B-1E5E-4AC6-ACC9-679A0FE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71D-2573-4FDE-A98C-3E95D574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25E-4157-4CFA-8458-4B606426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6F9-3B04-4A93-85BA-8798FA7F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1B6-A34A-4BE1-8D78-29F8B0C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93D-E77C-4A75-99E8-F9BE8B2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F33-1B01-4155-B89D-7F942E4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F29-BC1E-4F3D-A85E-1A42BFAF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05B-DEBA-45E3-BAE5-23B8312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774-B3C8-4B4F-B4ED-14B8A54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BC9-0CC5-4DDE-AF6A-5E92DAC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994-7726-421E-B49D-120BDA2B0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OSAL FOR ACHIEVING ZONAL PRICES THAT DO NOT EXCEED THE OFFER C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Shmuel O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13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ing the MCPE from exceeding the Offer Cap when single line congestion or simultaneous congestion on multiple zonal constraints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the proposed Two-Step procedure: Offers that raise the zonal MCPE above that offer cap are identified and cannot set the pric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wo-Step Procedure 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ach zone, add a resource (a virtual load response) at the offer cap + $1 per MWh, currently $2,25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tual resource has unlimited capa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SPD and solve the optimal dispatch L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One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offer that would result in raising the zonal MCPEs above the offer cap will be rejected, as it will be dominated by the local virtual load response of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irst run sets the MCPE in each zone, based 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ghest offer accepted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rtual load response offer ($2,25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T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ond run solves without the virtual load response off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s procured in Step Two (but that were rejected in Step One) are paid as bid and do not participate in the zonal price set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pproach will produce the same results as the shadow price cap when only one CSC is congested (assuming the correct shift factor is used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pproach will also work whenever there is simultaneous congestion on multiple constraints with no need for ex post adjus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4191120"/>
            <a:ext cx="14475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191120"/>
            <a:ext cx="106668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OF SECURITY CONSTRAINED ECONOMIC DISP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600200"/>
            <a:ext cx="762120" cy="762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276720"/>
            <a:ext cx="762120" cy="685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276720"/>
            <a:ext cx="761760" cy="7617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498200" y="99072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= 1000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343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9322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W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915120" y="4038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973600" y="42670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2514960" y="43434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449000" y="35053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Off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4792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114800"/>
            <a:ext cx="22860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6020640" y="25909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/MW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172920" y="3962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315920" y="4495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859080" y="28195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Off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6781680" y="2742840"/>
            <a:ext cx="15840" cy="17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6706080" y="4495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3276720"/>
            <a:ext cx="5335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079120" y="44956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429000" y="2286000"/>
            <a:ext cx="762120" cy="990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2860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593160" y="2743200"/>
            <a:ext cx="15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li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imped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MW flow lim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172560" y="3124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038120" y="3962520"/>
            <a:ext cx="686160" cy="609480"/>
            <a:chOff x="4038120" y="3962520"/>
            <a:chExt cx="686160" cy="609480"/>
          </a:xfrm>
        </p:grpSpPr>
        <p:sp>
          <p:nvSpPr>
            <p:cNvPr id="81" name=""/>
            <p:cNvSpPr/>
            <p:nvPr/>
          </p:nvSpPr>
          <p:spPr>
            <a:xfrm flipH="1">
              <a:off x="4038120" y="3962520"/>
              <a:ext cx="685800" cy="0"/>
            </a:xfrm>
            <a:prstGeom prst="line">
              <a:avLst/>
            </a:prstGeom>
            <a:ln w="38160">
              <a:solidFill>
                <a:srgbClr val="0f06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572000"/>
              <a:ext cx="6858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038120" y="4267080"/>
              <a:ext cx="685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010280" y="3276720"/>
            <a:ext cx="152640" cy="1218960"/>
          </a:xfrm>
          <a:prstGeom prst="rect">
            <a:avLst/>
          </a:prstGeom>
          <a:solidFill>
            <a:srgbClr val="0f06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934680" y="47242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286720" y="46227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634120" y="1877040"/>
            <a:ext cx="1160280" cy="1083600"/>
            <a:chOff x="2634120" y="1877040"/>
            <a:chExt cx="1160280" cy="1083600"/>
          </a:xfrm>
        </p:grpSpPr>
        <p:grpSp>
          <p:nvGrpSpPr>
            <p:cNvPr id="90" name=""/>
            <p:cNvGrpSpPr/>
            <p:nvPr/>
          </p:nvGrpSpPr>
          <p:grpSpPr>
            <a:xfrm>
              <a:off x="2886840" y="2043720"/>
              <a:ext cx="907560" cy="916920"/>
              <a:chOff x="2886840" y="2043720"/>
              <a:chExt cx="907560" cy="91692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3354840" y="2434320"/>
                <a:ext cx="439560" cy="526320"/>
              </a:xfrm>
              <a:prstGeom prst="line">
                <a:avLst/>
              </a:prstGeom>
              <a:ln w="38160">
                <a:solidFill>
                  <a:srgbClr val="0f06c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886840" y="2043720"/>
                <a:ext cx="439560" cy="52632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120840" y="2238840"/>
                <a:ext cx="439560" cy="52632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rot="18592200">
              <a:off x="3240720" y="2409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592200">
              <a:off x="3034080" y="2270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592200">
              <a:off x="2639160" y="206244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33.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2666880" y="38098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866920" y="38098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1972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175280" y="36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,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192200" y="3962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175280" y="42782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7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82320" y="1879200"/>
            <a:ext cx="1133280" cy="1025280"/>
            <a:chOff x="4882320" y="1879200"/>
            <a:chExt cx="1133280" cy="1025280"/>
          </a:xfrm>
        </p:grpSpPr>
        <p:grpSp>
          <p:nvGrpSpPr>
            <p:cNvPr id="104" name=""/>
            <p:cNvGrpSpPr/>
            <p:nvPr/>
          </p:nvGrpSpPr>
          <p:grpSpPr>
            <a:xfrm>
              <a:off x="4882320" y="1994400"/>
              <a:ext cx="889560" cy="910080"/>
              <a:chOff x="4882320" y="1994400"/>
              <a:chExt cx="889560" cy="910080"/>
            </a:xfrm>
          </p:grpSpPr>
          <p:sp>
            <p:nvSpPr>
              <p:cNvPr id="105" name=""/>
              <p:cNvSpPr/>
              <p:nvPr/>
            </p:nvSpPr>
            <p:spPr>
              <a:xfrm>
                <a:off x="4882320" y="2337480"/>
                <a:ext cx="385560" cy="567000"/>
              </a:xfrm>
              <a:prstGeom prst="line">
                <a:avLst/>
              </a:prstGeom>
              <a:ln w="38160">
                <a:solidFill>
                  <a:srgbClr val="0f06c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5385960" y="1994400"/>
                <a:ext cx="385920" cy="56700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34320" y="2165760"/>
                <a:ext cx="385920" cy="5670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rot="3346800">
              <a:off x="5398560" y="207108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67.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346800">
              <a:off x="5222160" y="22446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3346800">
              <a:off x="4977000" y="2442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3.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6160" y="1219320"/>
            <a:ext cx="31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INE 2 to 1 IS CONGES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otal Flow = 600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69720" y="5029200"/>
            <a:ext cx="836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1 more MW at Zone 1 without overloading line 2 to 1 requi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 of 1 MW from Zone 2 and INC of 2MW from Zone 3 at total net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2000 – 1X200 = $3800 = &gt;</a:t>
            </a:r>
            <a:r>
              <a:rPr b="0" lang="en-US" sz="2000" spc="-1" strike="noStrike">
                <a:solidFill>
                  <a:srgbClr val="0f06c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Zone 1 MCPE = $3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ame rational  </a:t>
            </a: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Zone 2 MCPE = $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Zone 3 MCPE = $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597560"/>
            <a:ext cx="14475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597560"/>
            <a:ext cx="1143000" cy="126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OF SECURITY CONSTRAINED ECONOMIC DISPATCH WITH VIRTUAL LOAD RESPONSE (VL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1600200"/>
            <a:ext cx="762120" cy="762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3276720"/>
            <a:ext cx="762120" cy="685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276720"/>
            <a:ext cx="761760" cy="7617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498200" y="99072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= 1000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3520" y="4723920"/>
            <a:ext cx="243828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440" y="24382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W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720" y="4444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125880" y="464832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7528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534600" y="28195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Off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33520" y="281952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572000"/>
            <a:ext cx="22860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495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020640" y="28954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/MW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6172920" y="4419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315920" y="4952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7087680" y="2971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781680" y="3200040"/>
            <a:ext cx="15840" cy="17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6706080" y="4952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3733920"/>
            <a:ext cx="5335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8383680" y="1523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2286000"/>
            <a:ext cx="762120" cy="990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22860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593160" y="2743200"/>
            <a:ext cx="15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li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imped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MW flow lim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172560" y="3581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2670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962160" y="39625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3733920"/>
            <a:ext cx="15264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448280" y="4876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43960" y="2171880"/>
            <a:ext cx="439560" cy="52632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478680" y="2368800"/>
            <a:ext cx="439560" cy="5263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 rot="18592200">
            <a:off x="3392640" y="2400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 rot="18592200">
            <a:off x="3022200" y="22471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743200" y="38098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38098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1972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4115880" y="3657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099680" y="3973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104440" y="2197440"/>
            <a:ext cx="385560" cy="567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4853520" y="2369160"/>
            <a:ext cx="385560" cy="56700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 rot="3346800">
            <a:off x="5150520" y="2214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 rot="3346800">
            <a:off x="4941360" y="2448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86160" y="1219320"/>
            <a:ext cx="31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INE 2 to 1 IS CONGES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94480" y="5241960"/>
            <a:ext cx="839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onomic dispatch algorithm will reject the $2000 offer from Zone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stead dispatch another 25MW from Zone 2 at $200 and make 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 of $25 MW with VLR at $2251 from zone 1.</a:t>
            </a:r>
            <a:r>
              <a:rPr b="0" lang="en-US" sz="2000" spc="-1" strike="noStrike">
                <a:solidFill>
                  <a:srgbClr val="0f06c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The resu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MCPEs for</a:t>
            </a:r>
            <a:r>
              <a:rPr b="0" lang="en-US" sz="2000" spc="-1" strike="noStrike">
                <a:solidFill>
                  <a:srgbClr val="0f06c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Zone 1 = $2251, Zone 2 = $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f06c6"/>
                </a:solidFill>
                <a:latin typeface="Arial"/>
              </a:rPr>
              <a:t>Zone 3 = $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n step 2, the rejected 50 MW at $2000 are procured and paid as b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7011360" y="8380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934320" y="990720"/>
            <a:ext cx="15840" cy="179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9080" y="27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2193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8645760" y="480060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324840" y="1143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429000"/>
            <a:ext cx="8380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6172560" y="32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200400"/>
            <a:ext cx="8384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7758360" y="40496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2043360" y="389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60" y="3124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5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1219320"/>
            <a:ext cx="7596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7148520" y="17636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N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the virtual resource offer set the price at $2251 if there is no zonal con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f there is no zonal congestion but all dispatchable offers are deployed (i.e. there is systemwide shortage), the virtual resource could still set the MCPE in all z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 when there is no congestion, and MCPE in all zones is $2251 we can set the MCPE in Step Two to the marginal off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 No.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proposal eliminate the shadow price c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Under the proposal, a shadow price is no longer needed since we assume unlimited demand response at $225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adow price cap assumes instead unlimited counterflow at the cap, which is equivalent to our method if only one line is congested but does not generalize to multiple congested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8:38:45Z</dcterms:created>
  <dc:creator>djaussaud</dc:creator>
  <dc:description/>
  <dc:language>en-US</dc:language>
  <cp:lastModifiedBy>Shmuel Oren</cp:lastModifiedBy>
  <dcterms:modified xsi:type="dcterms:W3CDTF">2008-06-12T22:47:32Z</dcterms:modified>
  <cp:revision>9</cp:revision>
  <dc:subject/>
  <dc:title>PROPOSAL FOR ACHIEVING ZONAL PRICES THAT DO NOT EXCEED THE OFFER CAP</dc:title>
</cp:coreProperties>
</file>