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9C17-CF23-4028-8383-998D2A237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C2FC-2D7A-45A9-9259-6FA5D3211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7F6C-EE92-49C6-B72A-E9793440C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7265-0C6E-4B60-AD10-1FFE1129F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0B8F-F485-4EF1-B5EE-155584D9D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5C7F-8E96-4F5F-A44F-E332F27B2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58AE-3126-42A3-9395-C6A017D6B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16D7-C50C-44A1-9113-529F84641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F242-951D-42CA-AE9B-32645FC8A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F013-FE8D-4D8C-A650-791342CB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3560-83D3-417A-91A6-1C50A3A8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3A92-8DE4-46F7-B9E7-1DD3689E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34A1B-6ABE-4359-932B-1875E2246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DCWG Report to RO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ne 12,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G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CWG C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rland Power &amp;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art 3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630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2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s to Sydney Niemeyer, NRG, for the frequency probability histogra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DCWG met on June 10 and 1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DCWG continues to do some high level analysis of control performance during periods with low CPS1 sc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G continues to discuss potential Nodal market control performance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xt meeting is July 08 and 0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762120" y="380880"/>
            <a:ext cx="2209680" cy="5806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RC CPS1 for  May  2008 =116.4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5638680" y="380880"/>
            <a:ext cx="2667240" cy="8240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RC Twelve Month rolling Average CPS1 = 123.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3" descr=""/>
          <p:cNvPicPr/>
          <p:nvPr/>
        </p:nvPicPr>
        <p:blipFill>
          <a:blip r:embed="rId1"/>
          <a:stretch/>
        </p:blipFill>
        <p:spPr>
          <a:xfrm>
            <a:off x="0" y="254160"/>
            <a:ext cx="9144000" cy="63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1" descr=""/>
          <p:cNvPicPr/>
          <p:nvPr/>
        </p:nvPicPr>
        <p:blipFill>
          <a:blip r:embed="rId1"/>
          <a:stretch/>
        </p:blipFill>
        <p:spPr>
          <a:xfrm>
            <a:off x="0" y="0"/>
            <a:ext cx="9029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9029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90964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7620120" y="2286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3.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9" descr=""/>
          <p:cNvPicPr/>
          <p:nvPr/>
        </p:nvPicPr>
        <p:blipFill>
          <a:blip r:embed="rId1"/>
          <a:stretch/>
        </p:blipFill>
        <p:spPr>
          <a:xfrm>
            <a:off x="-23760" y="0"/>
            <a:ext cx="919152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4"/>
          <p:cNvSpPr/>
          <p:nvPr/>
        </p:nvSpPr>
        <p:spPr>
          <a:xfrm>
            <a:off x="7620120" y="2286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1.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267080" y="3170160"/>
          <a:ext cx="609840" cy="517680"/>
        </p:xfrm>
        <a:graphic>
          <a:graphicData uri="http://schemas.openxmlformats.org/drawingml/2006/table">
            <a:tbl>
              <a:tblPr/>
              <a:tblGrid>
                <a:gridCol w="60984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" name="Chart 4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630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Chart 2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630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5T22:09:42Z</dcterms:created>
  <dc:creator>Bob Green</dc:creator>
  <dc:description/>
  <dc:language>en-US</dc:language>
  <cp:lastModifiedBy>Green, Bob</cp:lastModifiedBy>
  <dcterms:modified xsi:type="dcterms:W3CDTF">2008-06-06T21:25:25Z</dcterms:modified>
  <cp:revision>54</cp:revision>
  <dc:subject/>
  <dc:title>ROS Report</dc:title>
</cp:coreProperties>
</file>