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CB5A-12E6-4765-A58E-213EB97A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BA85-E63B-40DB-A32C-63F1D92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E015-5B81-4988-8BD0-16BCE3A6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5B09-15FF-42E5-8EA9-892E255A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C2F6-3790-4DBC-BDE5-7F57087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5A24-49A7-4299-9E52-18C79DFD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4F5-9824-47DC-84A1-22B99217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FE21-5D66-41EB-88A3-CE870F3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96B8-52C3-43EA-B18F-250AC4B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030-87EC-4F6F-86F7-D42F608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6A9E-775E-4F96-9132-4EB35A2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1605-2D43-412E-88FF-78B04FF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4D4-52BE-4B18-A3B0-36CB7EEC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20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15CA-E4B9-4D53-84B5-9BC8899D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P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6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12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M Go-Live proced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a Cla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ngle Entry Model Go-Live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8534520" cy="27432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nt of the document is to ensure that ERCOT and Market Participants have a common understanding of the definition of Single Entry Model (SEM) Go-Live and to detail the Network Modeling activities to be performed by both ERCOT and Market Participants for each of the following Nodal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ntry Model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o Nodal Protocol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8-H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114800"/>
            <a:ext cx="8534520" cy="19051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seek from ROS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 provided comments on the document and have highlighted issues which need resolution before the document can be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seeking ROS to validate ERCOT’s response to key issues ra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timeline outlined in the SEM Go-Live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Object 14"/>
          <p:cNvGraphicFramePr/>
          <p:nvPr/>
        </p:nvGraphicFramePr>
        <p:xfrm>
          <a:off x="0" y="914400"/>
          <a:ext cx="91440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880" y="3048120"/>
          <a:ext cx="8458200" cy="28843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s towards Single Entry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completes EDS 2 Release 4 tes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exports Zonal “seed” model to NM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validates Model and performs Data Consistency ch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MMS application and ERCOT validated Network Operations Model deployed to Production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otice to Market Participants for enabling Nodal Protocol §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Notice to Market Participants for enabling Nodal Protocol §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enables Nodal Protocol §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shall perform data consistency check prior to 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40388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data inventory /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ource and sink of each element within C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business rules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Stage 1 data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Zonal “seed” model to N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odal information from RARFs and other sources (load zones, hubs, electrical bus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odel in CIM/XML format to Nodal 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power flow comparison between Zonal and Nodal EM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SE and Contingency solutions are comparable to the Zonal 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05520"/>
            <a:ext cx="8534160" cy="9903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2 data validation will be performed prior to Nodal Go-Live and will involve performing power flow comparison of model between Zonal EMS, Nodal EMS and Nodal MM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y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3840" y="741240"/>
          <a:ext cx="8791560" cy="5365800"/>
        </p:xfrm>
        <a:graphic>
          <a:graphicData uri="http://schemas.openxmlformats.org/drawingml/2006/table">
            <a:tbl>
              <a:tblPr/>
              <a:tblGrid>
                <a:gridCol w="911160"/>
                <a:gridCol w="1992240"/>
                <a:gridCol w="5888160"/>
              </a:tblGrid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P activities during the transition to Nodal Protocol Sec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the transition period to Section 3, TSPs are required to verif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mnemonic (ID) and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es operating code or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ers IDs and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unt devices capacitors and re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 devices capacitors and re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model and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ping of ICCP data to the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ity of device internal to a 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on of node to connectivity grou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S/E bus number association to the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names and impedances, ratings, dynamic ra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ion of operational model to PSS/E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Any more sugges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required for transition to Nodal Protocol Sec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omments received, ERCOT is propos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nty five days for the transition.  Once TSPs begin confirming that the above activities are being completed in their respective organizations, the actual date will be determin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ccordance with Protocol section 21.12, ERCOT will seek approval from TPTF, TAC and BOD and send first Market Notice 30 days prior to enabling Section 3, followed by a second Market Notice ten days prior to th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we add an upper limit to the transition timeline?  120 days, 150 days etc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y issues                                                                       contd.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838080"/>
          <a:ext cx="8534520" cy="3630600"/>
        </p:xfrm>
        <a:graphic>
          <a:graphicData uri="http://schemas.openxmlformats.org/drawingml/2006/table">
            <a:tbl>
              <a:tblPr/>
              <a:tblGrid>
                <a:gridCol w="884160"/>
                <a:gridCol w="1935360"/>
                <a:gridCol w="5715000"/>
              </a:tblGrid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of in flight Service Requests prior to SEM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of Approval to Energize requ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CR approval timeline during the transition period will have to be faster than Nodal Protocol Section 3.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tools training and modeling guides will have to be provided to the TSPs before SEM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 for the SEM Go-Live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066680"/>
          <a:ext cx="8077320" cy="246240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sh Whitepaper detailing CIM data validation 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week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 out revised SEM Go-Live procedure to NDSWG and TPTF for 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 TPTF approval for SEM Go-Live Proce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 TAC approval for SEM Go-Live Proce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meeting immediately following TPTF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sumanam</dc:creator>
  <dc:description/>
  <dc:language>en-US</dc:language>
  <cp:lastModifiedBy>ksumanam</cp:lastModifiedBy>
  <dcterms:modified xsi:type="dcterms:W3CDTF">2008-06-11T22:14:33Z</dcterms:modified>
  <cp:revision>41</cp:revision>
  <dc:subject/>
  <dc:title>Instructions</dc:title>
</cp:coreProperties>
</file>