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C73-EB3B-4910-9DD6-409093F3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318-AA0B-4D89-B408-46D3A6B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0A4-31AE-4C3E-85AC-2ECED7B4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8DB-AA05-4567-8C49-02548412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10E-69E1-406E-86C6-933D9A45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BF5-D86F-4131-9FB6-F7791ABA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A7E-BBB6-41CE-8979-3FB7A39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539-4456-400F-A250-80462E4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330-75F4-4BB1-B306-0DD8C5B1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535-EF74-46BF-8158-EFB7EF22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571-700F-48A7-8966-524796E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399-CD61-403B-8D0A-C3B85CB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8A2B-7C4B-47B7-80FD-61670C93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05320" y="0"/>
            <a:ext cx="182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AC UPD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763120" cy="5496840"/>
          </a:xfrm>
          <a:prstGeom prst="rect">
            <a:avLst/>
          </a:prstGeom>
          <a:solidFill>
            <a:srgbClr val="f0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 June 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al 168-hour Test and Dec 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o-Live are both de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AREVA EMS CIM Importer software delivery date set to July 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wa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iously June 1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Project Cost is now AMBER (due to monthly burn rate pushing us pa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319M total recently approved by the P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 ERCOT Budget is $223.3M for an Admin. Fee of $0.57/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/RSC has four (4) Regional SARs in play [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more about that later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Participant Identity Management Requirements Policy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ITE:  PRR 764 approved (29-0-1), special BOD meeting on 6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vised Nodal Transition Outage Management P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emanded back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PTF and referral to ROS [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pushback on uncertainty of 40-day black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period and where it would fall with del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Ps strike compromise for 75 days to validate Network Model [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Appeal for Conservation (EECP Step #2/OGRR from WOTF work) will als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 a PRR/NP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9:25:26Z</dcterms:created>
  <dc:creator>Randy Jones</dc:creator>
  <dc:description/>
  <dc:language>en-US</dc:language>
  <cp:lastModifiedBy>Randy Jones</cp:lastModifiedBy>
  <dcterms:modified xsi:type="dcterms:W3CDTF">2008-06-06T19:39:11Z</dcterms:modified>
  <cp:revision>2</cp:revision>
  <dc:subject/>
  <dc:title>Slide 1</dc:title>
</cp:coreProperties>
</file>