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38360" y="360972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9404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4836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5872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3836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4836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5872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909720" y="609120"/>
            <a:ext cx="7548480" cy="19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9404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38360" y="360972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9404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4836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872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3836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4836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5872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909720" y="609120"/>
            <a:ext cx="7548480" cy="19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9404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38360" y="360972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9404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4836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5872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73836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4836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5872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909720" y="609120"/>
            <a:ext cx="7548480" cy="19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9404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738360" y="360972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9404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34836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95872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73836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34836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95872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09720" y="609120"/>
            <a:ext cx="7548480" cy="19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9404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909720" y="5940360"/>
            <a:ext cx="7777080" cy="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-165240">
              <a:spcBef>
                <a:spcPts val="499"/>
              </a:spcBef>
              <a:buClr>
                <a:srgbClr val="ff6633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749160" indent="-1774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028880" indent="-165240">
              <a:spcBef>
                <a:spcPts val="499"/>
              </a:spcBef>
              <a:buClr>
                <a:srgbClr val="ff66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490760" indent="-2332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490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490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232680" y="5952960"/>
            <a:ext cx="2639880" cy="831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09360" y="669600"/>
            <a:ext cx="777708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4149720"/>
            <a:ext cx="9144000" cy="27147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6297480" y="5872320"/>
            <a:ext cx="2789280" cy="87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586560" y="6113520"/>
            <a:ext cx="2138400" cy="4111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09720" y="5940360"/>
            <a:ext cx="7777080" cy="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-165240">
              <a:spcBef>
                <a:spcPts val="499"/>
              </a:spcBef>
              <a:buClr>
                <a:srgbClr val="ff6633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749160" indent="-1774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028880" indent="-165240">
              <a:spcBef>
                <a:spcPts val="499"/>
              </a:spcBef>
              <a:buClr>
                <a:srgbClr val="ff66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490760" indent="-2332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490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490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09360" y="669600"/>
            <a:ext cx="777708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4149720"/>
            <a:ext cx="9144000" cy="271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Wind Operations Task Force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tatus as of June 12, 2008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7840" indent="-1778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WOTF has held 3 mtgs: 4/22, 5/5 &amp; 5/29 (Next = 7/1, then 8/5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7840" indent="-1778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Previously closed issues #PDCWG1 &amp; #PDCWG2 &amp; #3b &amp; #3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7840" indent="-1778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ecommending ROS endorsement of issue #3f today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7840" indent="-1778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t target dates for issues # 1a, 1b, 1c, 1d, 2a, and 4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7840" indent="-1778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Much further action is required on issues # 3e and 3g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7840" indent="-1778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Does issue #3a need to be added?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7840" indent="-1778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Wind Workshops have been targeted for July &amp; Sep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4T04:25:02Z</dcterms:created>
  <dc:creator>mgarrett</dc:creator>
  <dc:description/>
  <dc:language>en-US</dc:language>
  <cp:lastModifiedBy>mgarrett</cp:lastModifiedBy>
  <dcterms:modified xsi:type="dcterms:W3CDTF">2008-06-10T21:19:10Z</dcterms:modified>
  <cp:revision>4</cp:revision>
  <dc:subject/>
  <dc:title>Wind Operations Task Force</dc:title>
</cp:coreProperties>
</file>