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485E-191C-42D3-89F7-188C26824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429000"/>
            <a:ext cx="70102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Black"/>
              </a:rPr>
              <a:t>Texas Regional Entit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 Black"/>
              </a:rPr>
              <a:t>Standards Upda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 Black"/>
              </a:rPr>
              <a:t>June 2008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une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urrent Working View (Cont.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1-TRE-01: Provision for ERCOT ISO to Participate and have a Vote in the Regional Standards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by RSC on January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T to meet for the third time on June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Ward: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ter Bukowski: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urrent Working View (Cont.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2-TRE-01: Development and Documentation of Regional UFLS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ed by RSC on May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T Volunteers as of June 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Pawlowski           FPL Energy                 Ind. 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born L. Reader       EPCO                       Cons. – In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dy Reece                Rayburn Country             C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y W. Kremling      Guadalupe Valley            C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io Garza              LCRA                               C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D. Bartos           Bandera                           C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My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RCOT                            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 McIntyre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                          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urrent Working View ( Cont.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3-TRE-01: FERC-Ordered Modification to ERCOT Waiver to R2 of BAL-001-0 CPS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ed by RSC on May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T Volunteers as of June 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nth Palani    EnergyCo LLC.                         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My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RCOT                            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 McIntyre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                          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urrent Working View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4- TRE-01: ERCOT-Specific Sabotage Reporting Regional Stand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nded by RSC on May 27 for further clarification and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857680" cy="288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62320" y="4343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information@texasre.or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. Tafreshi</dc:creator>
  <dc:description/>
  <cp:keywords>RSC Regional Standards ROS</cp:keywords>
  <dc:language>en-US</dc:language>
  <cp:lastModifiedBy>ftafreshi</cp:lastModifiedBy>
  <dcterms:modified xsi:type="dcterms:W3CDTF">2008-06-11T16:47:44Z</dcterms:modified>
  <cp:revision>79</cp:revision>
  <dc:subject>TRE Standards Update for ROS June 2008</dc:subject>
  <dc:title>TRE Standards Update for ROS June 2008</dc:title>
</cp:coreProperties>
</file>