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67104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nd Operations Task Force recommendation for ROS vote, 12 June 2008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ssue 3f: “Run multiple CSC limit studies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recommends ROS endorsement of solution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RCOT will increase the frequency of calculating CSC limits to hourly, with no Protocol change necessar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ree out of five CSCs completed (NtoS, StoN, NtoH), two to g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tarted on May 27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osting of outage &amp; overload contingency pairs will need to be added to verify compliance with PRR 764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5:22:35Z</dcterms:created>
  <dc:creator>mgarrett</dc:creator>
  <dc:description/>
  <dc:language>en-US</dc:language>
  <cp:lastModifiedBy>mgarrett</cp:lastModifiedBy>
  <dcterms:modified xsi:type="dcterms:W3CDTF">2008-06-09T16:00:26Z</dcterms:modified>
  <cp:revision>2</cp:revision>
  <dc:subject/>
  <dc:title>Slide 1</dc:title>
</cp:coreProperties>
</file>