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E11-EFC7-4576-AE9A-BF9F7543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58E-A339-4185-A6BF-AE175CAC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A18-D25B-4755-831D-18E03F11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FFD-4DB9-4CC2-AA69-9FDF3524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6CF-1F7D-49F4-8F55-558AAF3F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2A2-A7EB-486A-A59C-BB4EF32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85B-A276-4FC5-ACF3-D1CE5958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B17-ABA8-4211-898A-B67B3E4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E81-F07A-476B-A478-466CF729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BC6-DDB2-48AF-BB38-4BC7C3C7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4CE-4DAE-41ED-8BEA-DB5E751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A6E-53FA-48DA-86AA-CC9395D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0AC1B-8669-471D-8B12-F9A8D98A6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D752-8214-463A-82A8-43637549E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ced Meter Settl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kground and NP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C Rule (wholesale settl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346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sale Settl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d Deploymen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P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C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30(g)(1)(E)(ii) – “the commission staff using a stakeholder process, as soon as practicable shall determine, subject to commission approval, when and how 15-minute IDR data shall be made available on the electric utility’s web portal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30(h) – “It is the objective of this rule that ERCOT shall be able to use 15-minute meter information from advanced metering systems for wholesale settlement, not later than January 31, 2010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34610 -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ad stakeholder group – Oncor notes these active participants in testimony in 35718: “Oncor, AEP Texas, CenterPoint Energy, Constellation Energy, Direct Energy, First Choice Power, Reliant Energy, Texas-New Mexico Power, TXU Energy” and “Commission Staff, ERCOT, and … Texas Ratepayers to Save Energy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al is to find consensus on implementation of the Advanced Metering R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gnificant work on web portal, other proj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34610 – Wholesale Settl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term solution – An study will be done by a third party to analyze what changes must be done to perform full settlement of every advanced meter.  This may involve a joint TDSP Web Por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ificant, detailed discussions on what could be done prior to implementation of a long-term solution led to NP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d Deployment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enterPoint filed on May 5, 2008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Docket No. 3563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is to deploy 250,000 meters beginning i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4th 2009 over a 27 month peri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 tariff proposes allowing REPs to pay for installation of additional meters on an accelerated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lot Project – 10,000 meters already in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ncor filed on May 28, 2008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Docket No. 3571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is to do a full deployment its service territory, to be completed by the end of 20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rox. 600,000 automated meters are already installed will be 15-minute capable so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5,000 meters in 2008, 600,000 in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EP Tex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stated publicly that a Deployment Plan will be filed late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Quarter or early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Quarter of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ta Trans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DSPs will provide VEE’d data to ERCOT in an ERCOT specified Lodestar file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RCOT will load fifteen minute data directly into into Lodestar, using a process that checks for data qualit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visioned Advanced Met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l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ceive an IDR, weather sensitive load profi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 settled on actual fifteen-minute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adow Settlement Data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RCOT will make available settlement data to market participants (possibly via web servic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as S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changes to Texas SET, however TDSPs will send a cumulative 867 to ERCOT that will not be used in settlemen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ue-up State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True-up statement will still have IDR data completion check, however it will be based on ESIIDs with BUSIDRRQ pro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DR Optional Meter Removal Proces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The IDR Optional Removal process will be modified so it will not apply to advanced 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oval of sections reserved for Direct Loa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nges limited t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ions 9, 10, 11, 18, 1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2:53:05Z</dcterms:created>
  <dc:creator>Eric Goff</dc:creator>
  <dc:description/>
  <dc:language>en-US</dc:language>
  <cp:lastModifiedBy>Eric Goff</cp:lastModifiedBy>
  <dcterms:modified xsi:type="dcterms:W3CDTF">2008-06-09T14:29:08Z</dcterms:modified>
  <cp:revision>5</cp:revision>
  <dc:subject/>
  <dc:title>Advanced Meter Settlement</dc:title>
</cp:coreProperties>
</file>