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3B10-A9AB-4A01-8E1A-CDFC4C5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771C-E0A9-4428-A376-1619C7FF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A7D0-15AE-4DD2-AD82-BF202931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C992-82CC-4336-82DF-10FAA085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8F77-0011-460D-A477-3ADDB029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3F10-E01B-4355-8CC2-B898073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FDE4-C6D5-46E6-9990-BCDD751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E7CB-5057-423B-8D0A-D45918EC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976F-AB57-4772-B09B-9D71FE1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4CA8-8EA9-4426-9634-671EE194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A39B-808B-405D-8E57-157756E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AB6D-BF2E-41D5-805A-1BD2116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7D66-6D3B-41A0-B908-3D199204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D4A0-5060-48B5-9B3E-5B9A030E8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y 22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the market have input into the reallocation of fun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the CART manager seeks input from their market subcommittee when seeking to release or acquir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ing this input is required if the reallocation is &gt;=$500k but CART manager interaction with the market allows this input to occur at any level of real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put is relayed to the SRT for consideration in the decision mak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9D63-249F-43F2-B060-42069D4B2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is the market represented at the meetings where funding transfers are considered and approv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anager and Division Directors of a CART that have a working relationship with a market subcommittee represent that subcommittee at SRT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often see funding transfers go the to the Corporate Operations (CO) and IT Operations (IO)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cent past, available funding has come from projects that have software development resourc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and IO tend to have more purchasing projects (storage upgrades, server replacements, facilities projects, etc.) than MO, RO, and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rend may change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0E69-CE72-42CB-8DCD-D93C7D3AA0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10 Project Fun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71FA-32DC-483E-B051-B51C1FD8F1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 originally drafted in Q4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review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approved as part of 2009 budget requ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E397-3B3A-40E7-AB89-6C7FBFFAA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Budgets and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343044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09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7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DF62-2FDE-4586-BF5E-F7AD6100E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nused funds in one year be used in the next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“no”, although the Board of Directors can authorize funds to be held for use in a futur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note: Unused funding is not necessarily money in the bank that can be saved for use in a future year.  It is much more likely to be authorized debt funding that has not been procured because it wasn’t needed based on ERCOT’s cash flow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40/60 revenue to equity funding of projects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of the authorized project budget is funded by ERCOT’s System Administration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the project budget is funded by debt procured as needed based on our cash flow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System Admin Fee supplies the revenue needed to fund our $27M project budget in 2009 (Met Center project exclu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7M budget * 40% = $10.8 revenue need / $3.2M ($M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.37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C5A8-82D4-452C-90FC-AB224A29CC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appens to funds that are not used at the end of the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Question #1.  Unused funds at the end of the year typically result in less debt being procured by ERC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CART and why are funds allocated by CAR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 = Continuous Analysis and Requirement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are grouped by CART for several reasons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enhanced focus on projects needed by a particular business area within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rioritization of a group of projects that typically compete for the same resources (developers, test environment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0FB3-6968-41F8-9071-7A9258376E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CART and why are funds allocated by CAR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is a group of individuals charged with the management and delivery of a group of projects (also known as a Program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s, resource managers,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O Staff (Divisional Project Organ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POs are organizational units that were formed when ERCOT’s centralized PMO was segmented by busine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A127-976C-4E56-A633-0F971E5E4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ERCOT keep track of CART budgets and funding transfers between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 funding allocations are set each year as part of the ERCOT budget approved by the Board of 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COT Program Management Office (PMO) tracks funding transfers between CARTs that arise over the course of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portfolio funding is reviewed on a regular basis (semi-monthly) by the Strategic Review Team (SRT)   [ERCOT director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ll times, we know the current budget for each CART and the status of potential funding transfers between C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know when there are funds to be reallocat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s complete monthly status reports that forecast their projected spending for the year on an individual project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zeable variance between a CART’s budget and total projected spend indicates available funding for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26C1-511E-44B1-B8BD-C74A953E35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are CARTs asked to “give back” funds that are not expected to be us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back” funds has sever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rojects in other CARTs to execute if they are budget-const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cceleration of projects from subsequent year to current year to alleviate subsequent year budget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inance Department to better forecast deb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ss allows ERCOT to deliver as many important projects as possible during a budge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note: An SRT funding decision is triggered whenever an individual project is releasing $100k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In February, the CO CART deferred 4 projects and wanted to keep the funds for unexpected carryovers.  The SRT elected to transfer the funds to the SO CART to address budget needs with active SO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3DC2-CD9B-4220-8C4D-D206C6F11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8-05-29T12:59:14Z</dcterms:modified>
  <cp:revision>248</cp:revision>
  <dc:subject/>
  <dc:title>Instructions</dc:title>
</cp:coreProperties>
</file>