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22CD-8B98-4C1A-8F78-C31FAA02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6643-CF81-4E1F-B622-480D2FB3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8C3F-DEE3-4EA8-8667-E5920A7F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4431-D1B5-4014-9A7D-618B0CD50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E14F-1D38-4C76-9A67-7FD816ECA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13C4-1D0C-456D-A12C-899BDD8C6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2B7-01A5-4410-8F0B-BB24138E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4A5-E748-4302-AC26-CE8EEF36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D05-83EF-4824-BC07-AE26D038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772-5E14-469E-848B-96C48540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CD2F-6FE1-4967-A711-F17F5238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E737-2FAE-495F-8CA0-0DD1E413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14BE-EC8B-48BB-9BC7-73000E4A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ABC5-EED2-40D5-8078-C32E50E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C4E3-540A-4D0F-B273-9957FD2D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FAF4-0ED9-4976-8739-0657E9FE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8ADA-9BAF-4389-8880-6513E25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3D5-E027-435C-B564-A57268AB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44C5-A7A4-4CD7-9C94-71D36A0E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175C-1472-4FA2-912D-5EAEC789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286D-97E7-48F5-BDC8-D461D7CB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D582-94E2-49EF-A5D4-5B354FD7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76FC-01DF-47B3-B25C-BF29E985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FEB0-A6C1-40EF-A140-99ACFFF4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0570-D5E6-4607-B6B2-2B82B813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DC05-AE45-456F-94BF-BB1C318E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9C89E-C5E1-4623-8F1D-A844CAE3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831D-8503-4157-B98F-FCED0E25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CFB-4A49-4F67-9F76-7098B76F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FC81-BBF5-4F25-B0B3-F588EF62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9717E-9D64-4F25-AEE5-864C7D7B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6D7E2-2A2B-4E57-8A00-42EA49F7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A401C-9E1A-4E73-9433-1347467B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7B1A-19D2-49B6-82DB-948DDC0A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F186-EEB1-47B7-ADE9-2675C3D0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A9A5C-8BC6-49FA-9165-7E7D062C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AACD-566B-4871-A100-FD4FCF14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A472-43C5-40BA-A823-A17946E9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9F37-18CE-4392-A142-528CE2FF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756-61EE-4EC2-8637-1026AD3A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EB89B-95F1-4506-BCE6-ADF9C367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166D8-CA6A-4663-8032-F4348C5A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56AA8-2353-4092-A330-65AEA3A4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7899-006C-4C84-A547-6AEF30AE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71557-F4AB-43B0-B25B-3C649079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A1840-F75A-45FB-907C-11F7CBE1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47A4-E940-4EB2-8753-CB9A8948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803D3-4641-4D39-8CD6-5DC274F7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B2D3-66EE-4144-87E0-1772D9A2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85D5-C15F-4E55-B36E-18B0D045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1B9-0DA0-47D0-84DC-8BDB9796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8E8D9-41DA-4BBB-8486-A88E33B5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6EB5A-2BB1-41AE-A4D4-676D95D4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64E8-DD31-4C16-AC60-998DC7B7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2264C-08C5-422F-8283-1D41BAEC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9D6BB-2800-4F5E-A334-8394ACAC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64A35-A7C1-47C4-80B8-BC84A6D2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E1BB5-6725-4059-A7EF-28D913CC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34EA3-1972-4EF8-9D99-6C9960C6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FA2F-BDE3-459E-AD60-92AFD9D9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3610E-B01B-4A54-A797-EAE840E2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3EA-881E-410B-9147-D807DE2D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B161-D94A-4BA0-BD42-7F6CE436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41C48-16CE-44CA-AE44-E8EB0F7A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765B9-1421-4AAB-AD47-C5C7080E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7048C-6060-465D-BE05-78BE627D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5097F-B66A-48D5-9BFA-393B37AD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D0DBA-6948-40F0-8DBD-F353BDD5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B7FA2-497D-4256-870B-9D599220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6BA7C-3DAD-491D-8555-E18D5C3C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A0919-5695-4C3E-B22E-D43607E5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04925-41D5-49B7-99E7-0D2AD49A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F38-5303-46F3-B5F9-DFE09F20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69686-77EF-49BA-B25E-73066E4E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344AD-7CF9-4DE0-94D1-2CC4C35B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7DA6E-3E09-44AD-9F0B-4081457B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D3FC9-F429-44AD-BB62-1555FFAE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5BE16-E00A-405F-A456-73E3B4FE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94F2E-8E89-47D0-BDF7-BD5263C7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4973A-4646-4233-A3CD-94F6BF31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CF36E-6B0A-429B-BF8C-DB852B1F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F4D59-11D5-4109-A29D-2C779960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4F0CD-FA61-49E3-B34A-C335D1DE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794-6BE4-4D5C-B251-19CF4E58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9E01A-F927-440C-89A6-6796C7D0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6FED8-B237-4EDF-BADC-14D091A0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0B849-35BE-4D7A-9DA6-083C4B3A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74087-E244-477A-85A1-5666B84A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0AE4A-CB0F-4FF3-A247-A607E2FA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CC6ED-A1CF-471A-8668-87E564DA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95931-4293-4D18-93E6-936E47FE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6576B-7FAE-49FC-90BC-5357E236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71EB0-890F-4A3A-9D44-5B3BBAFD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E5F72-1A8B-46DC-9EAD-F4C6D590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325-86C5-40D3-84EA-CB052E55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A132C-94FA-43B3-9704-FD3482DC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F0C91-2CE4-47AF-8715-052F96A8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C1120-9B67-4D65-942E-8F60F9C3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DD020-E167-4CB1-BC96-83795262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282CD-FF05-42A9-B512-8AEE971D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1A92F-E663-4D55-9D32-54686A17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7CD0D-71E5-42B2-B900-21527E69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1F7C-94DF-4992-957E-06E1612A22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728D-DDD5-4AFC-A916-FBD93EB853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BDC1-D643-4D40-941D-3B0EE8A03A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34D1-09ED-41BC-B155-081F83371E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CEA1-9C73-4A8E-B5B0-012224B9A3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6BC5-97C1-4FFA-B8FC-51DE57FE4F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009F-7252-4E3B-B782-B353079E5A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182C-3555-45ED-9DD2-5B9DBF89CD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projects/current/70007_01/index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mailto:RetailMarketTesting@erco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663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June 11, 2008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MCj04042630000[1]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ccomplishment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leted review – User Guide s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y to Day Issues – Missing Transactions   4.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y to Day Issues – Usage/Billing Issues   4.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xtract Variance (DEV) Issu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view of MT calenda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5/19  ERCOT began UAT tes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5/20  Connectivity test -  did not take pla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AS of 5/22 no Market Participant using the API could connec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5/20  Sandbox open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25360" y="23760"/>
            <a:ext cx="84679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lease 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ign 100%, build – 100%, testing 40% (91% UAT/ 23% Regressio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lease 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ign 100%,  build – 60%, testing – not star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lease 3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ign 100% , build 5%, testing – not star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ction Item:  Each Market Participant that registered for GUI and/or API testing to provide a readiness update at the June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meet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chnical Review was presented by ERCOT for Release 2- A changes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esentation will be posted to MT project sit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www.ercot.com/services/projects/current/70007_01/index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PI Cert Connectiv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concerted effort was made by ERCOT and the API Market Participants working together to resolve the connectivity issu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s of June 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only 1 of 5 API market participants successfully completed the connectivity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, query list and query detai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This is a noted concern with Release 1 scheduled for June 1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09120" y="106668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RCOT provided  update on Release 2 train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326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June 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- at ERCOT    Only 6 have registere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June 2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-  in Irving      Only 6 have registered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June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– in Houston         71 have registere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June 1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deadline to regis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PI readines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49816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Object 5"/>
          <p:cNvGraphicFramePr/>
          <p:nvPr/>
        </p:nvGraphicFramePr>
        <p:xfrm>
          <a:off x="1295280" y="3352680"/>
          <a:ext cx="65818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352680"/>
                    <a:ext cx="65818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091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UI Readin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6"/>
          <p:cNvGraphicFramePr/>
          <p:nvPr/>
        </p:nvGraphicFramePr>
        <p:xfrm>
          <a:off x="457200" y="1523880"/>
          <a:ext cx="815652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3880"/>
                    <a:ext cx="81565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ted review of User Guide s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tion1_General.do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tion2_IAG.do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tion3_Cancel.do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tion5_DEV_LSE.do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y item to a successful implementation is participation and communic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228600" y="533520"/>
            <a:ext cx="8229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Lucida Sans Unicode"/>
              </a:rPr>
              <a:t>Next meeting:  June 12t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609480" y="1447920"/>
            <a:ext cx="7162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cation  - ERC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r Guide – Final Review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ection4_OtherD2D.do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ection5_DEV_LSE.do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ection7_Admin.do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ection8_Bulk.docSection9_Appendix.do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pdate from Market Participants on readiness of each rel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762120" y="1523880"/>
            <a:ext cx="71625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Retail Testing Website has been updated with the following documents to help with testing.  To request a user name and password e-mail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Lucida Sans Unicode"/>
                <a:hlinkClick r:id="rId2"/>
              </a:rPr>
              <a:t>RetailMarketTesting@ercot.co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rketrak Phase 2 Contact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- Contact List - MarkeTrak Certification Flight 0608 (142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rketrak Phase II Scripts - Final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- Marketrak Phase II Scripts - Final (149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rketrak Phase 2 Sandbox ESI Lis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- Sandbox ESI List (151)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00017167</cp:lastModifiedBy>
  <dcterms:modified xsi:type="dcterms:W3CDTF">2008-06-10T00:14:21Z</dcterms:modified>
  <cp:revision>102</cp:revision>
  <dc:subject/>
  <dc:title>MarkeTrak Task Force</dc:title>
</cp:coreProperties>
</file>