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886C7-7212-4BCD-8303-F3CD962B30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4624B-F512-48B1-8842-FB72C95BF3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10CD9-D75C-45C2-9298-1EC62CD99C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9E1B5-9A42-455F-A004-53CED1FC2B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6C6C7-8CFC-4BBA-94B3-DD52E87979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19720-D2CB-4210-93D9-C7C3D96706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F250C-01D4-4885-BA14-0C0514119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A6B15-0DC9-4982-A000-94588CFFB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6A5C1-D83E-4C8D-A245-DE227F3E4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517E7-C1D1-4115-8ADD-3174BB7A3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3B450-61D6-45DC-A6F3-63317B72B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82088-0A0D-4AF9-87B0-C1D5372EC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53986-5B22-438F-955C-9B060C1BD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7516D-E17C-4BF0-BBBF-938F67351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0C022-31E1-4C73-8223-CC65D3216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261AE-FCB0-4FCD-B230-B474EF92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E7851-65C1-4F3D-A755-340522041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1BECD-E865-432E-AB6B-ADB05DA81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FCADC-EC99-4E61-A0AE-317D7880A0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DF924-7B69-4FC6-8D14-642D5ACC4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s of June 9,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ass Transition Updat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M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71600" y="-360"/>
            <a:ext cx="8215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ffective with TX SET v.3.0 -- Mass Transition Timeline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4545A-812C-423B-BD64-BFB82974A5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3"/>
          <p:cNvSpPr/>
          <p:nvPr/>
        </p:nvSpPr>
        <p:spPr>
          <a:xfrm>
            <a:off x="8305920" y="3886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4"/>
          <p:cNvSpPr/>
          <p:nvPr/>
        </p:nvSpPr>
        <p:spPr>
          <a:xfrm>
            <a:off x="1143000" y="4343400"/>
            <a:ext cx="762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5"/>
          <p:cNvSpPr/>
          <p:nvPr/>
        </p:nvSpPr>
        <p:spPr>
          <a:xfrm>
            <a:off x="1066680" y="3886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6"/>
          <p:cNvSpPr/>
          <p:nvPr/>
        </p:nvSpPr>
        <p:spPr>
          <a:xfrm>
            <a:off x="2438280" y="4114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990720" y="4343400"/>
            <a:ext cx="60948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y   -1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2133720" y="449568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6019920" y="4343400"/>
            <a:ext cx="380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1828800" y="5562720"/>
            <a:ext cx="6248520" cy="307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stomer transition should be completed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i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more than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alendar Da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6320" y="1219320"/>
            <a:ext cx="2057400" cy="946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fault Confirmed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Notification Email Sent by ERCOT to MP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1371600" y="2286000"/>
            <a:ext cx="2286000" cy="84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ket Cal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14_03s Sent Requesting          2nd Calendar D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733920" y="2133720"/>
            <a:ext cx="1752480" cy="1595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14_04s from TDSP to ERC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14_14s from ERCOT to POLR C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storical Us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5"/>
          <p:cNvSpPr/>
          <p:nvPr/>
        </p:nvSpPr>
        <p:spPr>
          <a:xfrm>
            <a:off x="4648320" y="37339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6"/>
          <p:cNvSpPr/>
          <p:nvPr/>
        </p:nvSpPr>
        <p:spPr>
          <a:xfrm>
            <a:off x="6477120" y="4114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7"/>
          <p:cNvSpPr/>
          <p:nvPr/>
        </p:nvSpPr>
        <p:spPr>
          <a:xfrm>
            <a:off x="4572000" y="44956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5"/>
          <p:cNvSpPr/>
          <p:nvPr/>
        </p:nvSpPr>
        <p:spPr>
          <a:xfrm>
            <a:off x="2133720" y="3124080"/>
            <a:ext cx="30456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46"/>
          <p:cNvSpPr/>
          <p:nvPr/>
        </p:nvSpPr>
        <p:spPr>
          <a:xfrm flipH="1">
            <a:off x="1066320" y="4952880"/>
            <a:ext cx="5410440" cy="0"/>
          </a:xfrm>
          <a:prstGeom prst="line">
            <a:avLst/>
          </a:prstGeom>
          <a:ln w="19080">
            <a:solidFill>
              <a:srgbClr val="0000ff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8"/>
          <p:cNvSpPr/>
          <p:nvPr/>
        </p:nvSpPr>
        <p:spPr>
          <a:xfrm flipV="1" rot="10800000">
            <a:off x="5633640" y="1371240"/>
            <a:ext cx="1692360" cy="24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nsition Dat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DSP performs Field Meter Reads or Estimate                 Off-Cycle Switches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stomer Information Distributed by ERC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3"/>
          <p:cNvSpPr/>
          <p:nvPr/>
        </p:nvSpPr>
        <p:spPr>
          <a:xfrm>
            <a:off x="6400800" y="44956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6"/>
          <p:cNvSpPr/>
          <p:nvPr/>
        </p:nvSpPr>
        <p:spPr>
          <a:xfrm>
            <a:off x="152280" y="4343400"/>
            <a:ext cx="83844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lendar Da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57"/>
          <p:cNvSpPr/>
          <p:nvPr/>
        </p:nvSpPr>
        <p:spPr>
          <a:xfrm>
            <a:off x="464832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60"/>
          <p:cNvSpPr/>
          <p:nvPr/>
        </p:nvSpPr>
        <p:spPr>
          <a:xfrm>
            <a:off x="8229600" y="44956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1"/>
          <p:cNvSpPr/>
          <p:nvPr/>
        </p:nvSpPr>
        <p:spPr>
          <a:xfrm flipV="1" rot="10800000">
            <a:off x="7545240" y="2610000"/>
            <a:ext cx="1449360" cy="63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67_03 Fi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67_04 Init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62"/>
          <p:cNvSpPr/>
          <p:nvPr/>
        </p:nvSpPr>
        <p:spPr>
          <a:xfrm>
            <a:off x="6477120" y="3809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63"/>
          <p:cNvSpPr/>
          <p:nvPr/>
        </p:nvSpPr>
        <p:spPr>
          <a:xfrm>
            <a:off x="8001000" y="3276720"/>
            <a:ext cx="3049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4"/>
          <p:cNvSpPr/>
          <p:nvPr/>
        </p:nvSpPr>
        <p:spPr>
          <a:xfrm>
            <a:off x="1066680" y="4038480"/>
            <a:ext cx="663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5"/>
          <p:cNvSpPr/>
          <p:nvPr/>
        </p:nvSpPr>
        <p:spPr>
          <a:xfrm>
            <a:off x="1044360" y="4145040"/>
            <a:ext cx="72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6"/>
          <p:cNvSpPr/>
          <p:nvPr/>
        </p:nvSpPr>
        <p:spPr>
          <a:xfrm>
            <a:off x="2590920" y="414504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es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7"/>
          <p:cNvSpPr/>
          <p:nvPr/>
        </p:nvSpPr>
        <p:spPr>
          <a:xfrm>
            <a:off x="4602600" y="414504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8"/>
          <p:cNvSpPr/>
          <p:nvPr/>
        </p:nvSpPr>
        <p:spPr>
          <a:xfrm>
            <a:off x="6449760" y="4145040"/>
            <a:ext cx="81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rs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9"/>
          <p:cNvSpPr/>
          <p:nvPr/>
        </p:nvSpPr>
        <p:spPr>
          <a:xfrm>
            <a:off x="8295120" y="4145040"/>
            <a:ext cx="60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i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70"/>
          <p:cNvSpPr/>
          <p:nvPr/>
        </p:nvSpPr>
        <p:spPr>
          <a:xfrm flipH="1">
            <a:off x="1066320" y="5105520"/>
            <a:ext cx="7239240" cy="0"/>
          </a:xfrm>
          <a:prstGeom prst="line">
            <a:avLst/>
          </a:prstGeom>
          <a:ln w="19080">
            <a:solidFill>
              <a:srgbClr val="0000ff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63"/>
          <p:cNvSpPr/>
          <p:nvPr/>
        </p:nvSpPr>
        <p:spPr>
          <a:xfrm>
            <a:off x="1066680" y="22096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46"/>
          <p:cNvSpPr/>
          <p:nvPr/>
        </p:nvSpPr>
        <p:spPr>
          <a:xfrm flipH="1">
            <a:off x="2437920" y="4724280"/>
            <a:ext cx="4038840" cy="0"/>
          </a:xfrm>
          <a:prstGeom prst="line">
            <a:avLst/>
          </a:prstGeom>
          <a:ln w="19080">
            <a:solidFill>
              <a:srgbClr val="0000ff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reBuy Mass Transition Completion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28600" y="1066680"/>
          <a:ext cx="8458200" cy="2514600"/>
        </p:xfrm>
        <a:graphic>
          <a:graphicData uri="http://schemas.openxmlformats.org/drawingml/2006/table">
            <a:tbl>
              <a:tblPr/>
              <a:tblGrid>
                <a:gridCol w="1066680"/>
                <a:gridCol w="1059120"/>
                <a:gridCol w="1017360"/>
                <a:gridCol w="1063800"/>
                <a:gridCol w="1062000"/>
                <a:gridCol w="1063440"/>
                <a:gridCol w="1062000"/>
                <a:gridCol w="1063800"/>
              </a:tblGrid>
              <a:tr h="130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Meter Read Da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for Dro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Cancell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Dro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/17/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Day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/18/0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Day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/19/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Day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/20/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Day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/21/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Day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/22/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Day 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5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of ESI I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136" name="TextBox 4"/>
          <p:cNvSpPr/>
          <p:nvPr/>
        </p:nvSpPr>
        <p:spPr>
          <a:xfrm>
            <a:off x="383760" y="4419720"/>
            <a:ext cx="793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continuing to work with TDSPs on out-of-synch or excep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of 6/9/08 PM – 1 ESI ID still associated in ERCOT system with exiting C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ational Power Mass Transition Completion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28600" y="1066680"/>
          <a:ext cx="8534520" cy="2484720"/>
        </p:xfrm>
        <a:graphic>
          <a:graphicData uri="http://schemas.openxmlformats.org/drawingml/2006/table">
            <a:tbl>
              <a:tblPr/>
              <a:tblGrid>
                <a:gridCol w="1066680"/>
                <a:gridCol w="1095480"/>
                <a:gridCol w="1012680"/>
                <a:gridCol w="1035360"/>
                <a:gridCol w="1081080"/>
                <a:gridCol w="1081080"/>
                <a:gridCol w="1081080"/>
                <a:gridCol w="1081080"/>
              </a:tblGrid>
              <a:tr h="12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Meter Read Da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for Dro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Cancell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Dro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/27/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Day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/28/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Day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/29/0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Day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/30/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Day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/31/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Day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06/01/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Day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of ESI I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139" name="TextBox 5"/>
          <p:cNvSpPr/>
          <p:nvPr/>
        </p:nvSpPr>
        <p:spPr>
          <a:xfrm>
            <a:off x="380880" y="3809880"/>
            <a:ext cx="7772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ubset of the ESI IDs were sent to a designated CR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ainder allocated to POL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ESI IDs dropped due to Mass Transition – 151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077 complete – 99% 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continuing to work with TDSPs on out-of-synch or excep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of 6/9/08 PM – 17 ESI IDs still associated in ERCOT system with exiting C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Hwy 3 Mass Transition Completion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28600" y="1066680"/>
          <a:ext cx="8534520" cy="2484720"/>
        </p:xfrm>
        <a:graphic>
          <a:graphicData uri="http://schemas.openxmlformats.org/drawingml/2006/table">
            <a:tbl>
              <a:tblPr/>
              <a:tblGrid>
                <a:gridCol w="1066680"/>
                <a:gridCol w="1095480"/>
                <a:gridCol w="1012680"/>
                <a:gridCol w="1035360"/>
                <a:gridCol w="1081080"/>
                <a:gridCol w="1081080"/>
                <a:gridCol w="1081080"/>
                <a:gridCol w="1081080"/>
              </a:tblGrid>
              <a:tr h="12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Meter Read Da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for Dro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Cancell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Dro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6/05/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Day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6/06/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Day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6/07/0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Day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6/08/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Day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6/09/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Day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06/10/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Day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of ESI I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142" name="TextBox 5"/>
          <p:cNvSpPr/>
          <p:nvPr/>
        </p:nvSpPr>
        <p:spPr>
          <a:xfrm>
            <a:off x="380880" y="3809880"/>
            <a:ext cx="7772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ESI IDs evaluated in Mass Transition – 116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396 complete – 98% 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0 still pending (in review or scheduled), ERCOT with TDSPs to monitor for comple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continuing to work with TDSPs on out-of-synch or excep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4:38:37Z</dcterms:created>
  <dc:creator>kfarley</dc:creator>
  <dc:description/>
  <dc:language>en-US</dc:language>
  <cp:lastModifiedBy>kfarley</cp:lastModifiedBy>
  <dcterms:modified xsi:type="dcterms:W3CDTF">2008-06-10T13:50:52Z</dcterms:modified>
  <cp:revision>64</cp:revision>
  <dc:subject/>
  <dc:title>Slide 1</dc:title>
</cp:coreProperties>
</file>