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47B-52DE-4008-B25E-4A64CD31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22E-4AD0-467D-9DBD-2C5A60F2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132-BC07-44DC-ACF4-BF7DFC4F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56E-DB12-4104-BF3B-64DEC59D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087-6F2A-44E1-AEC6-33C7C592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FD1-1910-44C6-BC70-16C68092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DCB-35E9-48B0-BEE3-6D1F9096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E0A-4904-49C6-9FFB-3245694B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9F9-FB73-41FE-B82D-490BAFDA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31D-6145-4E66-A8C5-E68EF572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D8C-A1A3-4210-A88F-11C1ED00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E07-7AFE-47B2-BF2A-5DEEA54C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053E-069A-4D27-BC51-2923DE789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49C-682E-4319-8EAD-2BE6F9D275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4BB-025C-4EB1-872C-17137354F8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29560" cy="293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413-FDFB-49F2-889B-CB5F0FFA42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485-AC20-4CA3-9903-8E4AC9F4F9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875800" cy="24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EC8-30D5-46F6-891F-AF7D6066F0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6E0-90FF-4902-9181-7CF6C53194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93280" cy="305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A5F-FA32-41BC-9BD8-A8975E27B6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C84-B139-4794-A1C8-F75B7E25F2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6D7-F948-4553-BB72-3EFBE8DE15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E49-1A92-4A07-ADAD-08B78D76AA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548320" cy="35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A0E-9061-427C-BD12-1B809A340C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6DD-F57D-4106-BDED-EBFC088146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8439120" cy="22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99B-6D41-4C37-B234-FE5FB6B877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97840" cy="409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8D6-BDDB-429D-863A-10D9BBEBC1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E93-55E1-46AB-987C-4135D85410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10400" cy="31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9F3D-0A06-48E3-AD03-FAD1335577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host</cp:lastModifiedBy>
  <cp:lastPrinted>2002-09-24T18:27:58Z</cp:lastPrinted>
  <dcterms:modified xsi:type="dcterms:W3CDTF">2008-06-02T17:36:56Z</dcterms:modified>
  <cp:revision>751</cp:revision>
  <dc:subject/>
  <dc:title>PowerPoint Presentation</dc:title>
</cp:coreProperties>
</file>