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39A-E7F5-4ABD-AD7A-1D6630D5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20A-E9FF-4D3B-AA41-D37C4B31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BC6-3145-4BE4-BEFD-A71783C5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675-800A-4FBA-87BA-2FD15B96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5C0E2-B962-4AA6-AF1E-EDF8E9DB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576DA-3642-4C81-8CD3-FA3843F2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1236A-9F6E-412A-B60A-F7810273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8BBB6-C0DB-477D-825B-B6516194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19234-80B7-4C12-9408-3FA3E92C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7CFC5-ECF1-4FA3-9306-71026F5B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E8FA1-1539-44E0-B092-A3D993C0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4E2-D6C7-4D7E-A6D0-7E91C47D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6480C-6319-4761-8B70-80EBEB5C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A4C07-B69F-49E0-AB70-3BAF3BE9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FAA92-AB4F-47CD-B2B3-941A4689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9EA0B-3209-4132-822C-9762AA4B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1A1C0-E7BD-432E-B999-E4A4ED27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85E-7EC8-4B11-853C-19BE3088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06F-C7F6-4A85-8920-FE2F39E4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091-1A58-4778-9AB8-6C7BE2F8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AB3-0848-4C65-B790-3BF361F9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C2E-D7E0-40DE-9366-0772F265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739-8D3E-439A-AF28-619B6BB4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931-EB6B-41BA-BA6B-E8E29097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DA41-9AE9-449A-B59E-F9893477C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CC1F-1B93-44E7-954E-B278C3FA6D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E907-C5B1-42C3-9A7E-EAAE3AF4CD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X SE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Update to R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ne 11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75AA-8D28-4E2E-A4BA-ADDB5D48E4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075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A-By Pass flag is being used by CRs when they do not have a CSA establis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 in the 814_24 Move-out guide sta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owner of CSA could use the code to de-energize a premise (Only if the CSA REP is also the REP of Record at the time of the Move-Out effective date)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ssue I075 (continu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30F3-CE5A-43A8-999E-8EF0D46F8D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90720" y="1447920"/>
          <a:ext cx="7162560" cy="4692600"/>
        </p:xfrm>
        <a:graphic>
          <a:graphicData uri="http://schemas.openxmlformats.org/drawingml/2006/table">
            <a:tbl>
              <a:tblPr/>
              <a:tblGrid>
                <a:gridCol w="1197000"/>
                <a:gridCol w="703080"/>
                <a:gridCol w="730440"/>
                <a:gridCol w="753840"/>
                <a:gridCol w="787320"/>
                <a:gridCol w="708120"/>
                <a:gridCol w="787320"/>
                <a:gridCol w="708120"/>
                <a:gridCol w="787320"/>
              </a:tblGrid>
              <a:tr h="691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9/08 – 01/31/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13/08 – 03/23/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01/08 – 04/20/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29/08 – 05/18/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otal MVOs submitted with bypass fl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,5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,9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,3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,1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VOs with flag from CSA C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9.1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,6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8.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,7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7.9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,4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4.2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VOs with flag and no CSA C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6.1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,9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6.8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,1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6.9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,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0.4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VOs with flag with different CSA C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.7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.0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.1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.3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Tahoma"/>
              </a:rPr>
              <a:t>Which By-pass Flag was used?</a:t>
            </a:r>
            <a:br>
              <a:rPr sz="3200"/>
            </a:br>
            <a:r>
              <a:rPr b="0" lang="en-US" sz="3200" spc="-1" strike="noStrike">
                <a:solidFill>
                  <a:srgbClr val="595959"/>
                </a:solidFill>
                <a:latin typeface="Tahoma"/>
              </a:rPr>
              <a:t>2W (CSA By-pass) or B44 (Remove meter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3C11-0C70-4DC0-AB93-E7C2433E4E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828800"/>
          <a:ext cx="8382240" cy="4156200"/>
        </p:xfrm>
        <a:graphic>
          <a:graphicData uri="http://schemas.openxmlformats.org/drawingml/2006/table">
            <a:tbl>
              <a:tblPr/>
              <a:tblGrid>
                <a:gridCol w="1803600"/>
                <a:gridCol w="1549440"/>
                <a:gridCol w="1600200"/>
                <a:gridCol w="1676160"/>
                <a:gridCol w="1752840"/>
              </a:tblGrid>
              <a:tr h="1387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Os with flag from CSA C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Os with flag and no CSA C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Os with flag with different CSA C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a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W and B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ca9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077 – Add an indicator to enrollment response and usage transactions to indicate presence of an Advanced Meter and or Master 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078 – Establish that the REF~JH~I (“Ignore Loop”) is designated for Distributed Renewable Generation monthly out-flow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5700-DA87-46B3-A768-270A35703E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ange Control Cal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b1f"/>
                </a:solidFill>
                <a:latin typeface="Tahoma"/>
              </a:rPr>
              <a:t>1 Change Control Nullified</a:t>
            </a:r>
            <a:r>
              <a:rPr b="0" lang="en-US" sz="3200" spc="-1" strike="noStrike">
                <a:solidFill>
                  <a:srgbClr val="0b0b1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3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b1f"/>
                </a:solidFill>
                <a:latin typeface="Tahoma"/>
              </a:rPr>
              <a:t>13 Change Controls Appro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3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b1f"/>
                </a:solidFill>
                <a:latin typeface="Tahoma"/>
              </a:rPr>
              <a:t>3 Change Controls Tabled for Further </a:t>
            </a:r>
            <a:r>
              <a:rPr b="0" lang="en-US" sz="3200" spc="-1" strike="noStrike">
                <a:solidFill>
                  <a:srgbClr val="0b0b1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b0b1f"/>
                </a:solidFill>
                <a:latin typeface="Tahoma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b1f"/>
                </a:solidFill>
                <a:latin typeface="Tahoma"/>
              </a:rPr>
              <a:t>See TX SET website to for Change Contro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C56F-8F58-42EC-AC27-9BBB4925B5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stributed Renewable          Generation Draft RMGRR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ft RMGRR was emailed out to TX SET and PWG list serves on May 22 requesting com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2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 goal was to submit the RMGRR by June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RMS vote on July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2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hedule has been postponed due to the DG Task Force reconvening to resolve how to handle IDR metering for DRG &lt;50 K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2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GTF to meet on June 2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 ERC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FDDC-54AE-448E-989F-21023C6A5C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149B-C426-4E18-8258-B811F987E2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 Work in Progr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 Guide 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Transaction Examples and Prepare to Pull Examples Out of I.G.s at Next Rel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of Nodalized Protocol Sections 19 and 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/Clean-up of RMG Section 7 to ensure consistency with TX SET v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ing Advanced Metering Project for TX SET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91EF-00E4-44A8-AB1A-AF529A860D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next TX SET meeting wi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e held on June 17 – 18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t Green Mountain Energ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 downtown Austin 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54:20Z</dcterms:created>
  <dc:creator>rbevill</dc:creator>
  <dc:description/>
  <dc:language>en-US</dc:language>
  <cp:lastModifiedBy>rob.bevill</cp:lastModifiedBy>
  <dcterms:modified xsi:type="dcterms:W3CDTF">2008-06-10T17:05:34Z</dcterms:modified>
  <cp:revision>141</cp:revision>
  <dc:subject/>
  <dc:title>TX SET  Update to RMS</dc:title>
</cp:coreProperties>
</file>