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3153-F32A-470A-AA87-49505ECD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6F64-C9D6-444A-9B30-D4FEB269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4856-7636-454B-9FEA-E782DB20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FC23-919B-488D-973B-635B2E68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1D61-A3E2-417B-9891-AC7830ED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DA4F-4689-403A-B20E-D2B376BA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2155-4352-4535-98FF-336E18D4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DF192-867B-4FC1-8574-CDC027FE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EBA79-BC84-4D9C-A44C-43617C54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9CE0-FF27-459F-A804-5C9CB6CD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9170-D26B-4678-9F9E-E58F6B60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9BBA-3225-4CAC-BDC2-8A7329F1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FCCF-2649-4C39-9D64-27DFAAF9A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11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ne 11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6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 will be 06/13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begin with Day 1 transactions flowing on 06/16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rak Testing scheduled to begin 08/04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0608 scheduled to conclude on 07/29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scheduled to conclude on 08/19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6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0666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TD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New CRs – 36 New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Existing CRs testing Bank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Existing CRs testing Change of Service Provider (all to Establish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963 Total Tas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CRs and 5 TDSPs testing Marke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6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cervenka</cp:lastModifiedBy>
  <dcterms:modified xsi:type="dcterms:W3CDTF">2008-06-02T21:10:11Z</dcterms:modified>
  <cp:revision>91</cp:revision>
  <dc:subject/>
  <dc:title>Instructions</dc:title>
</cp:coreProperties>
</file>