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9CD4-4716-4DDD-B885-4EAF65CC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0572-488D-4EFA-A31A-4F36602B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27E9-DB86-4E2D-BCF4-5838B4DB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3BFE-ADB1-4DA7-9CCF-6B35D936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0D24-531F-4200-9A2D-B6DA2C93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8543-F71B-46CE-80DE-F9274B5B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C8F5-E544-4495-B2EB-B68CDEB5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C0FC-2582-4A84-8EAB-20775D49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42B5-5585-415C-86F0-6CDBA862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9FB1-9015-4E87-A131-F41D0601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6EE9-2A8C-49B8-AC9A-C677FBEF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4FE4-C289-4DCD-9DCF-2CEA4822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A3CF-6190-4F66-9BC9-3EB9C9008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AD28-1980-4931-9B54-611205BC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y 22,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the market have input into the reallocation of fund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the CART manager seeks input from their market subcommittee when seeking to release or acquir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ing this input is required if the reallocation is &gt;=$500k but CART manager interaction with the market allows this input to occur at any level of real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put is relayed to the SRT for consideration in the decision mak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B7BB-A63E-45B4-B133-985F9CAE11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is the market represented at the meetings where funding transfers are considered and approv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 manager and Division Directors of a CART that have a working relationship with a market subcommittee represent that subcommittee at SRT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we often see funding transfers go the to the Corporate Operations (CO) and IT Operations (IO) CAR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cent past, available funding has come from projects that have software development resource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and IO tend to have more purchasing projects (storage upgrades, server replacements, facilities projects, etc.) than MO, RO, and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rend may change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A1F5-E68B-4BF2-BECB-7DD5BAE2EF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10 Project Fund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EB9D-2385-40F5-9CB8-7986D7D284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s revise 2009 Initiative Lists originally drafted in Q4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review by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Ma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 approved as part of 2009 budget requ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AAFC-0B98-48BD-B465-40E8EDCE7E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Budgets and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600200"/>
          <a:ext cx="8077320" cy="343044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09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– Met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7,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E6B6-F3B6-4386-8E8A-B9D570B49B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nused funds in one year be used in the next ye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“no”, although the Board of Directors can authorize funds to be held for use in a futur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note: Unused funding is not necessarily money in the bank that can be saved for use in a future year.  It is much more likely to be authorized debt funding that has not been procured because it wasn’t needed based on ERCOT’s cash flow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40/60 revenue to equity funding of projects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of the authorized project budget is funded by ERCOT’s System Administration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of the project budget is funded by debt procured as needed based on our cash flow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System Admin Fee supplies the revenue needed to fund our $27M project budget in 2009 (Met Center project exclu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7M budget * 40% = $10.8 revenue need / $3.2M ($M p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.37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AF8D-81BC-4B56-A3B5-D88121B1A9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happens to funds that are not used at the end of the ye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Question #1.  Unused funds at the end of the year typically result in less debt being procured by ERC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CART and why are funds allocated by CAR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 = Continuous Analysis and Requirement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are grouped by CART for several reasons,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enhanced focus on projects needed by a particular business area within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prioritization of a group of projects that typically compete for the same resources (developers, test environment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885C-D1AD-4DA0-9584-7F9E0CFC4C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CART and why are funds allocated by CAR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 is a group of individuals charged with the management and delivery of a group of projects (also known as a Program 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s, resource managers, 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O Staff (Divisional Project Organ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POs are organizational units that were formed when ERCOT’s centralized PMO was segmented by busine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3E7D-5D15-4683-8A5B-8C8C3F0220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ERCOT keep track of CART budgets and funding transfers between CAR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 funding allocations are set each year as part of the ERCOT budget approved by the Board of 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RCOT Program Management Office (PMO) tracks funding transfers between CARTs that arise over the course of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portfolio funding is reviewed on a regular basis (semi-monthly) by the Strategic Review Team (SRT)   [ERCOT director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ll times, we know the current budget for each CART and the status of potential funding transfers between C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we know when there are funds to be reallocat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s complete monthly status reports that forecast their projected spending for the year on an individual project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zeable variance between a CART’s budget and total projected spend indicates available funding for r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A912-C55E-4EB7-B0DD-126EE08AED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are CARTs asked to “give back” funds that are not expected to be us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ing back” funds has several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projects in other CARTs to execute if they are budget-const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acceleration of projects from subsequent year to current year to alleviate subsequent year budget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inance Department to better forecast debt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cess allows ERCOT to deliver as many important projects as possible during a budge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note: An SRT funding decision is triggered whenever an individual project is releasing $100k or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In February, the CO CART deferred 4 projects and wanted to keep the funds for unexpected carryovers.  The SRT elected to transfer the funds to the SO CART to address budget needs with active SO pro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425A-1353-413A-9666-54F6781860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hsatterfield</cp:lastModifiedBy>
  <dcterms:modified xsi:type="dcterms:W3CDTF">2008-05-29T12:59:14Z</dcterms:modified>
  <cp:revision>248</cp:revision>
  <dc:subject/>
  <dc:title>Instructions</dc:title>
</cp:coreProperties>
</file>