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E09B-39A4-4EC7-8FDF-A2B4DA20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EAEB-6DC5-4276-920D-1FD0736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71B2-A74C-45DE-B5B9-49662677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E643-CFBB-4E48-950B-63D67C11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50A8-7AFA-43B3-8095-6E7C35D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19BE-6266-450C-8F24-61770FF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500D-75BE-415F-BC2A-9F540AF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FDE5-B7F8-4E68-9619-ADB5D3BC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F2DB-1E41-452E-8DE5-DDA204E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9EA4-BC4A-4D42-A16D-193FDE7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AA55-5DFE-4484-85FB-5C1FC7A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C31E-C10C-4EF9-BF4C-3600C22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A8D5-01DE-4D48-88C5-756316EB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66960"/>
          <a:ext cx="8361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6960"/>
                    <a:ext cx="8361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022400"/>
          <a:ext cx="838188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22400"/>
                    <a:ext cx="838188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896760"/>
          <a:ext cx="810108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10108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868320"/>
          <a:ext cx="791208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68320"/>
                    <a:ext cx="79120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876240"/>
          <a:ext cx="762948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76240"/>
                    <a:ext cx="76294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trics Analysis – Impact if SLA exceptions had not been gran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806400"/>
          <a:ext cx="746748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06400"/>
                    <a:ext cx="746748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6-09T23:09:13Z</dcterms:modified>
  <cp:revision>146</cp:revision>
  <dc:subject/>
  <dc:title>Instructions</dc:title>
</cp:coreProperties>
</file>