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9D4B-D263-48D9-B9BE-8EEE14F0E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739A-CD73-4417-8E70-63B0F808E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7948-8AD4-48CB-9BCA-121A2C3BC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1959-959D-4409-AD09-8B5E2E15E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FBC0-4C87-437E-B6FA-ECDA9D9EF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1427-7E55-4480-9AA9-01FE059B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3D60-B582-4F51-AE69-771338EF5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5199-D76D-46AE-9D8E-EC4D6A26A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1B84-EFCA-4F34-8013-606DDBD91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B8D1-26B0-4AB6-B4A5-ACABAE8C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2BAD-7908-4101-8315-7D671966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4F50-19F8-4E90-9B80-33040E7E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49956-0D94-4540-8E51-5EA9B96DF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MS Report - Market Metric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7720" y="2590920"/>
            <a:ext cx="7620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ed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arter 2008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ved Performance template per Project 330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ed MarkeTrak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next meeting date for Aug 20, 200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9T18:36:52Z</dcterms:created>
  <dc:creator>Registered User</dc:creator>
  <dc:description/>
  <dc:language>en-US</dc:language>
  <cp:lastModifiedBy>Registered User</cp:lastModifiedBy>
  <dcterms:modified xsi:type="dcterms:W3CDTF">2008-06-09T20:00:35Z</dcterms:modified>
  <cp:revision>2</cp:revision>
  <dc:subject/>
  <dc:title>RMS Report Market Metrics </dc:title>
</cp:coreProperties>
</file>