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C2A18E-6C21-4A3D-B08B-3F18E69DF1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CE18AEF-E8CB-4CBE-9103-3D8FD089C7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38320" y="687240"/>
            <a:ext cx="4592520" cy="3445200"/>
          </a:xfrm>
          <a:prstGeom prst="rect">
            <a:avLst/>
          </a:prstGeom>
          <a:ln w="0">
            <a:noFill/>
          </a:ln>
        </p:spPr>
      </p:sp>
      <p:sp>
        <p:nvSpPr>
          <p:cNvPr id="10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2517509-14D2-421A-AB2D-65E1EC2DE1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45F09B-DD8D-4E89-A105-E50A02A85C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746DA2C-AAAC-4950-A393-B1640654B4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EFBCA78-DCE5-46CB-B195-DFBF8F9301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ADEB594-6157-4C1A-93AE-9BFF0C60E5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084541-31D5-45AC-9A11-FADA98C4DC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B706A7-5CF2-4AC6-A53C-9AEE944FC2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F6BD5A-FDA4-4E4B-89EB-A73CBCB9BA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8320" y="687240"/>
            <a:ext cx="4592520" cy="3445200"/>
          </a:xfrm>
          <a:prstGeom prst="rect">
            <a:avLst/>
          </a:prstGeom>
          <a:ln w="0">
            <a:noFill/>
          </a:ln>
        </p:spPr>
      </p:sp>
      <p:sp>
        <p:nvSpPr>
          <p:cNvPr id="10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C8ADC38-D155-4C90-816D-079EFDA166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BAE94-9E5C-4E7C-A97C-A987446DF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D5D87-323A-4340-B33C-C574C0025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7FB32-4D0C-4748-979D-21289968D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40C5B-4380-48C1-9A25-9AE074F8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DAA3-A6D5-4058-8BFF-9B2456D0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B41E-103B-46CE-BD9C-30D795F7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DA2F-C34E-42B6-B679-98E3F114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46C1C-7238-444B-A335-E85CD623F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9D8DB-5652-4667-8241-6248F21F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AF64-9EAB-4BD0-8CBD-58FEB8FE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9DCD-121A-4337-BF84-C06CC9C9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969C-87DF-4EA0-A2C0-27D8BE7C3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72AE-EEFF-4BFD-A437-C46E0B419DC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CED8-F1AF-4B8C-AD11-938AF1A85A0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11,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652F-73E1-4C9B-9328-28AE939B8A7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30C1-C02D-448B-824C-1D590FB3B21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5280"/>
            <a:ext cx="8610840" cy="510552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ERCOT System Outages and failures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urrent status of SCR748 and SCR745</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EBXML Spec on testing Worksheet</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SLA Planned/Unplanned Need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PR70057 – ERCOT system throughput for IDR proces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on Impact from March ERCOT Outage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78D0-34F9-4742-8D6C-3084A690A54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fontScale="86000"/>
          </a:bodyPr>
          <a:p>
            <a:pPr marL="442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ontinue working with the ERCOT Manager of Operations to address each system incident. </a:t>
            </a:r>
            <a:endParaRPr b="0" lang="en-US" sz="2800" spc="-1" strike="noStrike">
              <a:solidFill>
                <a:srgbClr val="000000"/>
              </a:solidFill>
              <a:latin typeface="Arial"/>
            </a:endParaRPr>
          </a:p>
          <a:p>
            <a:pPr marL="442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Brennan presented the outage report. </a:t>
            </a:r>
            <a:endParaRPr b="0" lang="en-US" sz="2400" spc="-1" strike="noStrike">
              <a:solidFill>
                <a:srgbClr val="000000"/>
              </a:solidFill>
              <a:latin typeface="Arial"/>
            </a:endParaRPr>
          </a:p>
          <a:p>
            <a:pPr marL="442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Matlock had questions regarding the outage on the 28</a:t>
            </a:r>
            <a:r>
              <a:rPr b="1" lang="en-US" sz="2400" spc="-1" strike="noStrike" baseline="30000">
                <a:solidFill>
                  <a:srgbClr val="000000"/>
                </a:solidFill>
                <a:latin typeface="Arial"/>
              </a:rPr>
              <a:t>th</a:t>
            </a:r>
            <a:r>
              <a:rPr b="1" lang="en-US" sz="2400" spc="-1" strike="noStrike">
                <a:solidFill>
                  <a:srgbClr val="000000"/>
                </a:solidFill>
                <a:latin typeface="Arial"/>
              </a:rPr>
              <a:t> starting at 5:26pm. It seems the delay started much earlier than that. Christian did some research during the meeting and found some intermittent issues earlier in the day that did not show as an outage but could be the cause for delay.  Christian is going to runs some reports to show volume during that timeframe.</a:t>
            </a:r>
            <a:endParaRPr b="0" lang="en-US" sz="2400" spc="-1" strike="noStrike">
              <a:solidFill>
                <a:srgbClr val="000000"/>
              </a:solidFill>
              <a:latin typeface="Arial"/>
            </a:endParaRPr>
          </a:p>
          <a:p>
            <a:pPr marL="442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442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442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42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0E0F-3A38-4FD3-8C42-CFCD4674B68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3"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2</a:t>
            </a:r>
            <a:r>
              <a:rPr b="1" lang="en-US" sz="3600" spc="-1" strike="noStrike">
                <a:solidFill>
                  <a:srgbClr val="000000"/>
                </a:solidFill>
                <a:latin typeface="Arial"/>
              </a:rPr>
              <a:t>. </a:t>
            </a:r>
            <a:r>
              <a:rPr b="1" lang="en-US" sz="2400" spc="-1" strike="noStrike">
                <a:solidFill>
                  <a:srgbClr val="003300"/>
                </a:solidFill>
                <a:latin typeface="Arial"/>
              </a:rPr>
              <a:t>TDTWG continue working with ERCOT to clarify  the status SCR748 and SCR745.</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No changes to PR70006_02 of SCR748. So we moved on to SCR745</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ay Katskee gave a presentation for PR60006_01 of SCR745, that gave some history &amp; issues with the project.  Two options to proceed with the project were reviewed.  Option 1 was to proceed with the Project as scheduled with resources assigned and a timeline to complete in early 2009. Option 2 would be to close the project and complete the work under the ERCOT O&amp;M budget with pretty much the same timeline. </a:t>
            </a:r>
            <a:endParaRPr b="0" lang="en-US" sz="24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Continued</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lot of discussion the group agreed to recommend Option 1 for project visibility and tracking.</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3C2E-B6F1-4B34-8E81-3D0D245C0C0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Review EBXML Specs on testing Workshee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Cervenka requested that the EBXML Specs be removed from the Test Connectivity worksheet since it is no longer used by the Retail Market.  After a brief discussion the Group made the recommendation to remove these specs from the worksheet.  That information has been provided to Gene.</a:t>
            </a:r>
            <a:endParaRPr b="0" lang="en-US" sz="2400" spc="-1" strike="noStrike">
              <a:solidFill>
                <a:srgbClr val="000000"/>
              </a:solidFill>
              <a:latin typeface="Arial"/>
            </a:endParaRPr>
          </a:p>
        </p:txBody>
      </p:sp>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E133-14E2-4B93-9650-F3A22487163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en-US" sz="2400" spc="-1" strike="noStrike">
                <a:solidFill>
                  <a:srgbClr val="000000"/>
                </a:solidFill>
                <a:latin typeface="Arial"/>
              </a:rPr>
              <a:t>Review SLA Planned/Unplanned Nee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as a lot of discussion around the SLA maintenance window timeframes with suggestions from more hours to ERCOT changing their maintenance schedule. TDTWG felt there was not enough information to make a recommendation at this time.  Aaron will come back next month after doing more research on scheduling. TDTWG will keep you informed of the status.</a:t>
            </a:r>
            <a:endParaRPr b="0" lang="en-US" sz="2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AE83-A424-49B9-879A-29B9CF1B933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Discuss PR70057 – ERCOT system throughput for IDR pro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e Farley spoke to this project briefly. The project will be shelved for now since AMIT has chose not to send x12 d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time TDTWG will wait for AMIT to make the next call for input from our group.</a:t>
            </a:r>
            <a:endParaRPr b="0" lang="en-US" sz="2400" spc="-1" strike="noStrike">
              <a:solidFill>
                <a:srgbClr val="000000"/>
              </a:solidFill>
              <a:latin typeface="Arial"/>
            </a:endParaRPr>
          </a:p>
        </p:txBody>
      </p:sp>
      <p:sp>
        <p:nvSpPr>
          <p:cNvPr id="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99E5-932E-43FF-A309-290E5C2E036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0C76-CCCE-432B-B5C8-1CC3A36EE37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78"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6</a:t>
            </a:r>
            <a:r>
              <a:rPr b="1" lang="en-US" sz="4000" spc="-1" strike="noStrike">
                <a:solidFill>
                  <a:srgbClr val="000000"/>
                </a:solidFill>
                <a:latin typeface="Arial"/>
              </a:rPr>
              <a:t>. </a:t>
            </a:r>
            <a:r>
              <a:rPr b="1" lang="en-US" sz="2800" spc="-1" strike="noStrike">
                <a:solidFill>
                  <a:srgbClr val="000000"/>
                </a:solidFill>
                <a:latin typeface="Arial"/>
              </a:rPr>
              <a:t>Update on Impact from March ERCOT Outages</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Matlock gave an update from the last meeting of the task force.  The Final Report is to be sent out by COB 6/5/08. Michael said some good information came out of the meetings and the ERCOT staff was a great help.  A request was made to include more information on the Incident Report.  In the future when an outage occurs a page with performance metrics for that day will be added to the incident log.</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6-09T21:31:08Z</dcterms:modified>
  <cp:revision>486</cp:revision>
  <dc:subject/>
  <dc:title>PowerPoint Presentation</dc:title>
</cp:coreProperties>
</file>