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00ED-8375-4432-9374-A272B78F10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3C30-6FC8-4AF0-8F16-58856D2A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B73D-9648-4F53-A6B6-912EFED4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31695-99FF-4A12-929A-E022F9F8EB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2E1-ED5F-466C-9639-AF080BF6AB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EE0-CC86-4633-B51D-4CB35431F0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C3C-7FDE-44DE-867D-C2BF0EDD5D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2D4-1B86-4FB0-AAF5-D2E5D0A666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2C46-4F0F-4382-8CBF-51BC66F39C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088-5931-488F-92F5-8498A45F5E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7D0-9960-4D83-AA41-AAE8CC0E5E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97818-6C8B-4093-B7A8-149D4167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60C-B30E-44C6-A37E-07336DA88A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D69-6129-4C00-9DB6-B389D193B4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8CB9-2079-4071-A7E0-EEE3111895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D99-E09F-4064-991D-C3A9CBA334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5CE-FB4A-482F-B00A-F1BA6F3F04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FCF9C-692F-4F9F-92DC-9310463C3E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DF264-3B57-4C93-AC9C-4A016D02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E6B0C-35F2-4855-AA0F-F0C9DBE9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526AA-0439-48C2-B024-19E490FA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90D11-4B21-4B37-8B7D-5206B97C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93526-86B2-4C6A-B5EF-5AB1778C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0621D-D58B-4455-8BA3-1D29DF87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BD58B-1C21-46FE-87D9-86A912BE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7BEA5-E043-4B7E-BA8D-B445FF56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75EEE-7CCC-48FA-8894-374E5567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19705-FD13-4BB8-9A6E-7BF7DD60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D460E-DB88-4DA6-8141-E9FA274D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B5077-2CF9-4743-BC09-CC20448FD4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A4953-9B0A-44C1-B473-F8AA5B02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C31A-816C-46BB-B09C-40D1774B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FE7C-8C1F-41CB-B579-928AF984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0EB51-6843-47AF-966A-DC1C4A86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D623-0011-49F1-86F2-FAB81F54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0D62-E8B4-47DD-AB55-8B8CF73C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7414-9E99-4B95-9680-F2B281157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B811-AFFD-4C67-85EF-2E4D5BA52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924A-7685-4311-99A4-BD51FE7B7C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 B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irro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Vice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une 10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6FA8-6B53-460A-83AA-0F7A3D757E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1371600"/>
            <a:ext cx="84582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Updated PWG 2008 Go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(ranked by Target 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960" y="2124000"/>
            <a:ext cx="7589880" cy="412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6040-F744-4674-83E7-0841729C1A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9920" y="1142640"/>
            <a:ext cx="697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2 Sample Point Installation Track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 New Installations as of May 2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2048040"/>
            <a:ext cx="7586640" cy="43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451F-60C4-43AF-9FB1-B7E67576D6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9560" y="1143000"/>
            <a:ext cx="694548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2 Sample Point Installation Track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 New Installations Plus Retained Sample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491240" cy="435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DF2F-E9E6-4593-9F6D-54D4F74EE8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393920"/>
            <a:ext cx="86104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Renewable Generation (D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 Kw &lt;= Capacity &lt; 2000 K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WG has drafted a comprehensive PRR to cover mandatory 15 minute metering per the requirements per PUCT Project 34890 Net Metering Final Rule and DRTF Recommendation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5/28 the PWG per COPS leadership, remanded the open DRG issues to the COPS to discuss with the TAC about using the DGTF for resolution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issues on the following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7A94-08AC-466C-AE76-C2E513C99B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1393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WG Brainstorming DRG Implement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981080"/>
            <a:ext cx="86868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 does ERCOT settle for DRG &lt;50 kw if 15-min settlement is requested/required?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 is the interval data provided to ERCOT (i.e., via RID, ESI-id with 2 channels, etc.)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XSET ramifications on 867 for interval data for both load and generation (i.e., ignore loop, additive or subtractive, etc.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customer premise for load has or wishes to have 15 min metering and the DRG is less than 50 kw capacity then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it need a resource I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 does ERCOT handle the 15 min DRG kwhge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867 ignore loop is for nidr so how does the DRG 15 min data get metered and settl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867 03 internal summary loop – a possible soluti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 segment Texas Set says all 15 minute in ignore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R 756 needs clarity for IDR on kWh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stomer complexity of paperwork as a resource which needs to have communication relationship with QSE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 do we want to invent a Small resource ID that does not need to regist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GTF less than 50 kw recommendation 5 does not need a 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2C90E-302E-4BAC-9018-5F57900707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1393920"/>
            <a:ext cx="861048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R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f Use Revi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WG requests the following mo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COPS recommend to the TAC approval of PRR Draft after the PWG submits the draft with 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 key docume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7xxPRR-01 Time Of Use Revisions 052808 PWG Draft.d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1F68-DD8A-460E-BBAE-FE23267F8B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2120" y="1371600"/>
            <a:ext cx="7696080" cy="40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PGRR0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dification of Time-Of-Use Schedule Approval Proc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Verdana"/>
              </a:rPr>
              <a:t>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WG requests the following mo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at COPS recommend to the TAC approval of LPGRR0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ttp://www.ercot.com/content/mktrules/issues/lpgrr/025-049/029/keydocs/029LPGRR-05_PWG_Recommendation_Report_052808.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16F28-8DA9-4364-9E7F-6616EBB389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876920" cy="2590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4495680"/>
            <a:ext cx="8001000" cy="157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08 meeting da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dnesday of the month for Jul. – O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F177-9D46-4710-A453-62BCF894CD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8-06-02T21:28:08Z</dcterms:modified>
  <cp:revision>310</cp:revision>
  <dc:subject/>
  <dc:title>PowerPoint Presentation</dc:title>
</cp:coreProperties>
</file>