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861-E857-4B09-B76F-39B37F62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FB5-8403-465C-900B-4021F8F6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149-DA0E-4E50-8317-A043A197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CEB-258D-4876-86C3-D134FFB1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0963-00D8-49F3-B809-3F755F3B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F1C3-B067-42B8-A20B-56D2D188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467E-BFCB-457D-8D6A-E7EB7D9A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47AB-1231-444D-8FE6-BA6924C8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3B74-C8DC-42AE-A60D-AB735C6B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A953-F8DF-4142-998A-271B6621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06F0-9B8E-4D32-923A-770894E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38D-ED73-459E-944A-C042DB37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A803-5F4B-499C-88C8-32441F75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2347-F018-4D8D-8134-6913F8DC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6BB7-97AB-498D-A893-2DCCD0C1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3CCE-6459-476A-8514-C78615F3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D05E-145C-48D3-AD72-19F470E1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0EB-3039-4EC3-AEFF-9CBD374A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422-CCC1-44EF-BA17-F5A655C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AC5-4D4D-4670-9F7D-C539EA89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ABA-A34C-48AA-91DA-649E24C6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6BA-2868-47FD-A439-E66ED3BC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EB2-524F-4B90-A677-DB6800D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0E0-83EC-4C24-9542-927F3DDE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FB61-69C9-4B14-9667-E622ED133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CB0B-1A3F-4218-A3A7-43FF5D091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y 20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inue developing nodal Sections in the COPM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draft COPMGRR for new Section, Organizati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draft COPMGRR for updated Appendix A, Market Notice Communication Process for Outages and Processing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work on other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y 20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ducting a review of COPS Procedures and By-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viewing Nodal Protocols to verify ERCOT MIS pos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y 20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4, 2008 at ERC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am – 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tion of COPM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COPS Procedures and By-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Nodal Protocols to verify ERCOT MIS pos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balbracht</cp:lastModifiedBy>
  <dcterms:modified xsi:type="dcterms:W3CDTF">2008-06-03T22:22:28Z</dcterms:modified>
  <cp:revision>63</cp:revision>
  <dc:subject/>
  <dc:title>CCWG 2006 Accomplishments</dc:title>
</cp:coreProperties>
</file>