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D552-6B67-435A-AD7A-B64CDCF78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B5EA-B5C5-418D-8E77-326E75AD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685F4-1F14-4DA2-A738-61F3C1040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19AA6-8F9D-4661-B8CD-BC357EB7E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03A3D-13EA-48E1-A477-B638D3346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165A-E239-4537-9D12-A2481B555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061AE-9B3E-425A-B958-9D65F599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B5E93-4C0C-429E-9BEE-E32AF75E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D2F7D-DA12-446F-8079-9134F7966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FD324-2286-401D-A3D7-53E2225E6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12B72-91E2-463F-AB31-09A4FD14C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DEB9-7AF5-434E-83C7-CA5DE8E07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6220-EBDE-4B36-8E0F-B9F2BA0C3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66F50-B720-4082-9558-E9C5BDC1E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51324-5B5B-4EB7-A461-A82DE1B7B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76EEF-3C5B-4449-95B8-8FE370CCC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13454-FCE5-487D-AE93-735EB107E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BE04-53CA-480B-9E68-F1A7DC02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416F-9F7B-476E-B374-8D0357229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BF29-4C27-490C-BB89-1220E86E1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88D9-6DCA-4631-B726-C7380C7E3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089F-FFFB-4DA2-B022-105C3EE0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964E-EB0E-4025-A2EC-373403421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4CF97-0DC5-4C7C-81CA-2FADD36F8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6A5E-2DE2-4865-9837-2D1E2B6AF64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C18C-F0A1-4211-ACA3-3BCDDF56A5A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ercot.com/calendar/2008/04/20080423-PWG.html"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une 5,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228600" y="685800"/>
            <a:ext cx="8610480" cy="385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Following Discussion:</a:t>
            </a: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PS Voted to recommend to TAC approval of the LPGRR Annual Validation Updates as presented and recommended by PWG</a:t>
            </a:r>
            <a:endParaRPr b="0" lang="en-US" sz="3200" spc="-1" strike="noStrike">
              <a:solidFill>
                <a:srgbClr val="ffffff"/>
              </a:solidFill>
              <a:latin typeface="Arial"/>
            </a:endParaRPr>
          </a:p>
          <a:p>
            <a:pPr marL="457200" indent="-45720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Annual Validation Updat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ghlights of May 12</a:t>
            </a:r>
            <a:r>
              <a:rPr b="0" lang="en-US" sz="3600" spc="-1" strike="noStrike" baseline="30000">
                <a:solidFill>
                  <a:srgbClr val="ffff00"/>
                </a:solidFill>
                <a:latin typeface="Arial"/>
              </a:rPr>
              <a:t>th</a:t>
            </a:r>
            <a:r>
              <a:rPr b="0" lang="en-US" sz="3600" spc="-1" strike="noStrike">
                <a:solidFill>
                  <a:srgbClr val="ffff00"/>
                </a:solidFill>
                <a:latin typeface="Arial"/>
              </a:rPr>
              <a:t> COPS Meeting</a:t>
            </a:r>
            <a:endParaRPr b="0" lang="en-US" sz="3600" spc="-1" strike="noStrike">
              <a:solidFill>
                <a:srgbClr val="ffffff"/>
              </a:solidFill>
              <a:latin typeface="Arial"/>
            </a:endParaRPr>
          </a:p>
        </p:txBody>
      </p:sp>
      <p:sp>
        <p:nvSpPr>
          <p:cNvPr id="163"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eview of COPS procedur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attention to governance, structure, and purpose of COPS</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d COPS voting procedures differ from TAC, WMS, &amp; RMS; more like PRS.  </a:t>
            </a:r>
            <a:r>
              <a:rPr b="0" lang="en-US" sz="2000" spc="-1" strike="noStrike" u="sng">
                <a:solidFill>
                  <a:srgbClr val="ffffff"/>
                </a:solidFill>
                <a:uFillTx/>
                <a:latin typeface="Arial"/>
              </a:rPr>
              <a:t>COPS does not allow telephone voting</a:t>
            </a:r>
            <a:r>
              <a:rPr b="0" lang="en-US" sz="20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S working groups and task forces are </a:t>
            </a:r>
            <a:r>
              <a:rPr b="0" lang="en-US" sz="2000" spc="-1" strike="noStrike" u="sng">
                <a:solidFill>
                  <a:srgbClr val="ffffff"/>
                </a:solidFill>
                <a:uFillTx/>
                <a:latin typeface="Arial"/>
              </a:rPr>
              <a:t>not</a:t>
            </a:r>
            <a:r>
              <a:rPr b="0" lang="en-US" sz="2000" spc="-1" strike="noStrike">
                <a:solidFill>
                  <a:srgbClr val="ffffff"/>
                </a:solidFill>
                <a:latin typeface="Arial"/>
              </a:rPr>
              <a:t> voting bodies The chairs of these bodies must report recommendations to COPS, including all minority positions.</a:t>
            </a:r>
            <a:endParaRPr b="0" lang="en-US" sz="20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submitted by working groups that require COPS approval </a:t>
            </a:r>
            <a:r>
              <a:rPr b="0" lang="en-US" sz="2000" spc="-1" strike="noStrike" u="sng">
                <a:solidFill>
                  <a:srgbClr val="ffffff"/>
                </a:solidFill>
                <a:uFillTx/>
                <a:latin typeface="Arial"/>
              </a:rPr>
              <a:t>will be</a:t>
            </a:r>
            <a:r>
              <a:rPr b="0" lang="en-US" sz="2000" spc="-1" strike="noStrike">
                <a:solidFill>
                  <a:srgbClr val="ffffff"/>
                </a:solidFill>
                <a:latin typeface="Arial"/>
              </a:rPr>
              <a:t> </a:t>
            </a:r>
            <a:r>
              <a:rPr b="0" lang="en-US" sz="2000" spc="-1" strike="noStrike" u="sng">
                <a:solidFill>
                  <a:srgbClr val="ffffff"/>
                </a:solidFill>
                <a:uFillTx/>
                <a:latin typeface="Arial"/>
              </a:rPr>
              <a:t>submitted to COPS members for review one week prior to the scheduled COPS meeting</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llowing discussion, CCWG was requested to review the procedures and offer any suggestions for changes or improvements to COPS and solicit input from TAS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ing nodal Sections in the Commercial Operations Market Gui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new Section, Organizational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updated Appendix A, Market Notice Communication Process for Outages and Processing Impact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ng a review of COPS Procedures and By-law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ing Nodal Protocols to verify ERCOT MIS posting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 SDA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7" name="PlaceHolder 2"/>
          <p:cNvSpPr>
            <a:spLocks noGrp="1"/>
          </p:cNvSpPr>
          <p:nvPr>
            <p:ph/>
          </p:nvPr>
        </p:nvSpPr>
        <p:spPr>
          <a:xfrm>
            <a:off x="456840" y="838080"/>
            <a:ext cx="8534520" cy="60199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ta Extract SLA was discussed and final comments have been incorporated into the document.  COPS participants requested to review the document and consider at the June 10</a:t>
            </a:r>
            <a:r>
              <a:rPr b="0" lang="en-US" sz="2400" spc="-1" strike="noStrike" baseline="30000">
                <a:solidFill>
                  <a:srgbClr val="ffffff"/>
                </a:solidFill>
                <a:latin typeface="Arial"/>
              </a:rPr>
              <a:t>th</a:t>
            </a:r>
            <a:r>
              <a:rPr b="0" lang="en-US" sz="2400" spc="-1" strike="noStrike">
                <a:solidFill>
                  <a:srgbClr val="ffffff"/>
                </a:solidFill>
                <a:latin typeface="Arial"/>
              </a:rPr>
              <a:t> meeting.</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attention to data extract problems and the recovery of data corrupted on April 21</a:t>
            </a:r>
            <a:r>
              <a:rPr b="0" lang="en-US" sz="2400" spc="-1" strike="noStrike" baseline="30000">
                <a:solidFill>
                  <a:srgbClr val="ffffff"/>
                </a:solidFill>
                <a:latin typeface="Arial"/>
              </a:rPr>
              <a:t>st</a:t>
            </a:r>
            <a:r>
              <a:rPr b="0" lang="en-US" sz="2400" spc="-1" strike="noStrike">
                <a:solidFill>
                  <a:srgbClr val="ffffff"/>
                </a:solidFill>
                <a:latin typeface="Arial"/>
              </a:rPr>
              <a:t> and general data issues raised during April. Received an update from ERCOT Staff highlighting status and efforts to resolve the iss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an update on EDS4 testing from ERCOT Staff.  Requested this report be provided at SDAWG meetings as an ongoing agenda item and for SDAWG to communicate to COPS testing progress.  Requested more settlements personnel participate in the weekly EDS4 conference calls.</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tems being considered at next meeting of DEWG &amp; SDAWG</a:t>
            </a:r>
            <a:endParaRPr b="0" lang="en-US" sz="3600" spc="-1" strike="noStrike">
              <a:solidFill>
                <a:srgbClr val="ffffff"/>
              </a:solidFill>
              <a:latin typeface="Arial"/>
            </a:endParaRPr>
          </a:p>
        </p:txBody>
      </p:sp>
      <p:sp>
        <p:nvSpPr>
          <p:cNvPr id="169" name="PlaceHolder 2"/>
          <p:cNvSpPr>
            <a:spLocks noGrp="1"/>
          </p:cNvSpPr>
          <p:nvPr>
            <p:ph/>
          </p:nvPr>
        </p:nvSpPr>
        <p:spPr>
          <a:xfrm>
            <a:off x="152280" y="1599840"/>
            <a:ext cx="8763120" cy="4530600"/>
          </a:xfrm>
          <a:prstGeom prst="rect">
            <a:avLst/>
          </a:prstGeom>
          <a:noFill/>
          <a:ln w="0">
            <a:noFill/>
          </a:ln>
        </p:spPr>
        <p:txBody>
          <a:bodyPr lIns="90000" rIns="90000" tIns="46800" bIns="46800" anchor="t">
            <a:normAutofit/>
          </a:bodyPr>
          <a:p>
            <a:pPr marL="343080" indent="-343080">
              <a:lnSpc>
                <a:spcPct val="10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Database failover issue and the impacts on settlement and operational procedures</a:t>
            </a:r>
            <a:endParaRPr b="0" lang="en-US" sz="3500" spc="-1" strike="noStrike">
              <a:solidFill>
                <a:srgbClr val="ffffff"/>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EDS 4 Testing</a:t>
            </a:r>
            <a:endParaRPr b="0" lang="en-US" sz="35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Nodal v. Zonal extracts</a:t>
            </a:r>
            <a:endParaRPr b="0" lang="en-US" sz="3500" spc="-1" strike="noStrike">
              <a:solidFill>
                <a:srgbClr val="ffffff"/>
              </a:solidFill>
              <a:latin typeface="Arial"/>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discussions on preparing questions and issues for ERCOT based on early evaluations of DDL’s and previous ERCOT upd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71"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152280" y="1295280"/>
            <a:ext cx="8991720" cy="53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d an update regarding “Round 2 Sample Point Installation Tracking”</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nt complete new installations as of May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 73.3%</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installations + retained sample points = 81.4%</a:t>
            </a:r>
            <a:endParaRPr b="0" lang="en-US" sz="2800" spc="-1" strike="noStrike">
              <a:solidFill>
                <a:srgbClr val="ffffff"/>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ed “Annual Validation” details</a:t>
            </a:r>
            <a:endParaRPr b="0" lang="en-US" sz="32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d Annual Updates – Decision Tree “</a:t>
            </a:r>
            <a:r>
              <a:rPr b="0" lang="en-US" sz="2400" spc="-1" strike="noStrike" u="sng">
                <a:solidFill>
                  <a:srgbClr val="ffffff"/>
                </a:solidFill>
                <a:uFillTx/>
                <a:latin typeface="Times New Roman"/>
              </a:rPr>
              <a:t>Segment Assignment Tab</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Appendix_D_Profile_Decision_Tree_Annual_Update.xl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600" y="914400"/>
            <a:ext cx="8763120" cy="5410080"/>
          </a:xfrm>
          <a:prstGeom prst="rect">
            <a:avLst/>
          </a:prstGeom>
          <a:noFill/>
          <a:ln w="0">
            <a:noFill/>
          </a:ln>
        </p:spPr>
        <p:txBody>
          <a:bodyPr lIns="90000" rIns="90000" tIns="46800" bIns="46800" anchor="t">
            <a:normAutofit/>
          </a:bodyPr>
          <a:p>
            <a:pPr lvl="1" marL="838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1.1</a:t>
            </a:r>
            <a:r>
              <a:rPr b="1" lang="en-US" sz="3200" spc="-1" strike="noStrike">
                <a:solidFill>
                  <a:srgbClr val="ffffff"/>
                </a:solidFill>
                <a:latin typeface="Arial"/>
              </a:rPr>
              <a:t>	</a:t>
            </a:r>
            <a:r>
              <a:rPr b="1" lang="en-US" sz="3200" spc="-1" strike="noStrike">
                <a:solidFill>
                  <a:srgbClr val="ffffff"/>
                </a:solidFill>
                <a:latin typeface="Arial"/>
              </a:rPr>
              <a:t>Profile Decision Tree Revision and Approval Process </a:t>
            </a:r>
            <a:endParaRPr b="0" lang="en-US" sz="3200" spc="-1" strike="noStrike">
              <a:solidFill>
                <a:srgbClr val="ffffff"/>
              </a:solidFill>
              <a:latin typeface="Arial"/>
            </a:endParaRPr>
          </a:p>
          <a:p>
            <a:pPr lvl="1" marL="838080" indent="-380880">
              <a:lnSpc>
                <a:spcPct val="90000"/>
              </a:lnSpc>
              <a:spcBef>
                <a:spcPts val="4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a:t>
            </a:r>
            <a:r>
              <a:rPr b="0" lang="en-US" sz="2000" spc="-1" strike="noStrike" u="sng">
                <a:solidFill>
                  <a:srgbClr val="ffffff"/>
                </a:solidFill>
                <a:uFillTx/>
                <a:latin typeface="Arial"/>
              </a:rPr>
              <a:t>No later than five Business Days after the TAC approval ERCOT shall:</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380880">
              <a:lnSpc>
                <a:spcPct val="90000"/>
              </a:lnSpc>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 a market notice alerting Market Participants (MPs) of the change with the effective date ten days following the issuance of the market notice; and</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rPr>
              <a:t>	</a:t>
            </a:r>
            <a:r>
              <a:rPr b="0" lang="en-US" sz="2000" spc="-1" strike="noStrike">
                <a:solidFill>
                  <a:srgbClr val="ffffff"/>
                </a:solidFill>
                <a:latin typeface="Arial"/>
              </a:rPr>
              <a:t>Electronically distribute the updated Profile Decision Tree to MPs.</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380880" y="30492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nual Update Approval Language - LP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1066680"/>
            <a:ext cx="7758000" cy="46864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Update to Decision Tree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the following link</a:t>
            </a:r>
            <a:endParaRPr b="0" lang="en-US" sz="2400" spc="-1" strike="noStrike">
              <a:solidFill>
                <a:srgbClr val="ffffff"/>
              </a:solidFill>
              <a:latin typeface="Arial"/>
            </a:endParaRPr>
          </a:p>
          <a:p>
            <a:pPr lvl="2" marL="1143000" indent="-2286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3"/>
              </a:rPr>
              <a:t>http://www.ercot.com/calendar/2008/04/20080423-PWG.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6d1ec"/>
                </a:solidFill>
                <a:latin typeface="Arial"/>
              </a:rPr>
              <a:t>Changes only related to usage window</a:t>
            </a:r>
            <a:endParaRPr b="0" lang="en-US" sz="2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9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nnual update approval schedul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G approval Apri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approval Ma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approval Ju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to TDSP June 30 as required in LPG</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00"/>
                </a:solidFill>
                <a:uFillTx/>
                <a:latin typeface="Arial"/>
              </a:rPr>
              <a:t>Schedule for Annual Update Approv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29T20:29:37Z</dcterms:modified>
  <cp:revision>15</cp:revision>
  <dc:subject/>
  <dc:title>Slide 1</dc:title>
</cp:coreProperties>
</file>