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29196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571680" algn="ct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863640" algn="ctr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257480" algn="ctr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125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125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nd Operations Task For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09360" y="1066680"/>
            <a:ext cx="6189480" cy="17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tus as of May 29, 200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eviously closed issues #PDCWG1 &amp; #PDCWG2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commending ROS endorsement of issue #3f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t target dates for issues # 1a, 1b, 1c, 1d, 2a, and 4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ssue 3f: “Run multiple CSC limit studies”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commending ROS endorsement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RCOT to increase the frequency of calculating CSC limits to hourly, no Protocol change necessa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ree out of five CSCs completed (NtoS, StoN, NtoH), two to g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8-06-04T04:38:55Z</dcterms:modified>
  <cp:revision>2</cp:revision>
  <dc:subject/>
  <dc:title>Wind Operations Task Force</dc:title>
</cp:coreProperties>
</file>