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5AAA-E8A8-482E-8F27-D4F9A76B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A62B-9178-4B7B-87C9-29754F58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BB5B-48E9-43A2-B717-3276043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769A-B747-47EA-9C0A-B5166D8C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80D7-B549-4AE2-968C-E1C55043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2C5A-20D8-4E31-B2C3-E6A3B35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66CF-6CA5-4D8B-9C59-A0349ADF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E0CF-9B09-4F77-B50F-880B2EB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0189-607E-46CE-AD9B-DDA49880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7940-177F-48CD-848D-B24893A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6F91-B6B1-40A3-BE43-14E25088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AD7F-AD9C-41E2-8079-3CF02FEE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376-519B-440E-9568-2C8531FD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AB0-A0FA-4865-9F22-9F4B4A85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exas Nodal Market Go-Live Procedur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ing TAC vote on this Procedure to solidify expectations about the timeline and sequence of events that enable the transition to the nodal mark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ns from the completion of the 168-Hour test through the completion of the Transition Outage Management Guideline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s the level of testing by ERCOT and MPs during this time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nes contingencies plans for loss of nodal functionality after the Texas Nodal Market Implantation Date (TNMID) and guidance for the ERCOT CEO to execute § 21.12.5,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s communications, health checks, and IT environment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key aspects considered when developing the proced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risk by limiting the number of moving parts leading up to, during, and just after the TN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risk by operating the systems as-if they are production prior to operating under protoc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E7C8-EBFF-4E43-B403-F2D24619572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imeline overview and Procedure review proc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838188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by ERCOT Staff (~70 com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shed v0.04 for TPTF Comment on 4/22; comment close on 5/2 (~130 com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shed v0.05 for TPTF comment on 5/13; comment close on 5/16 (~50 comm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ed v0.06 to TPTF on 5/20 for consideration of voting on 5/2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on to approve the TNM Go-Live Procedure v0.07 as modified by TPTF on May 23, 2008’ carried with 100% in favor and 4 abstentions (Cooperative, IOU (2), and IREP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752400"/>
          <a:ext cx="8686800" cy="30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52400"/>
                    <a:ext cx="868680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003F-C2AF-4890-B6BE-B50C6939F0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obbs</cp:lastModifiedBy>
  <dcterms:modified xsi:type="dcterms:W3CDTF">2008-05-29T12:55:33Z</dcterms:modified>
  <cp:revision>368</cp:revision>
  <dc:subject>Texas Nodal Market Implementation</dc:subject>
  <dc:title>Market Readiness Seminar</dc:title>
</cp:coreProperties>
</file>