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9800" y="0"/>
            <a:ext cx="304488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584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45560"/>
            <a:ext cx="30448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9800" y="8845560"/>
            <a:ext cx="304488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41EC0A5-10A4-4EDF-9BC6-E51BAB2707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85840" y="698400"/>
            <a:ext cx="4656240" cy="3492720"/>
          </a:xfrm>
          <a:prstGeom prst="rect">
            <a:avLst/>
          </a:prstGeom>
          <a:ln w="0">
            <a:noFill/>
          </a:ln>
        </p:spPr>
      </p:sp>
      <p:sp>
        <p:nvSpPr>
          <p:cNvPr id="108"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MWG</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QSEWG</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VCTF</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AM Defaults</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WG &amp; Congestion</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DSWG report, but they had a great workshop.  which had 89 RSVPs not including presenters with signed-in attendance Plus, we had an unknown number of people on the conference bridge.</a:t>
            </a:r>
            <a:endParaRPr b="0" lang="en-US" sz="12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85840" y="698400"/>
            <a:ext cx="4656240" cy="3492720"/>
          </a:xfrm>
          <a:prstGeom prst="rect">
            <a:avLst/>
          </a:prstGeom>
          <a:ln w="0">
            <a:noFill/>
          </a:ln>
        </p:spPr>
      </p:sp>
      <p:sp>
        <p:nvSpPr>
          <p:cNvPr id="110"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Concern</a:t>
            </a:r>
            <a:r>
              <a:rPr b="0" lang="en-US" sz="800" spc="-1" strike="noStrike">
                <a:solidFill>
                  <a:srgbClr val="000000"/>
                </a:solidFill>
                <a:latin typeface="Arial"/>
              </a:rPr>
              <a:t>: ERCOT running low on DBES bids in the West Zone, Wind QSEs entering LSL=HSL.  ERCOT will resort to OOME in this scenario. QSEs citing exemption for Renewables in Metrics. (Protocol 4.10.4)</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Next Step</a:t>
            </a:r>
            <a:r>
              <a:rPr b="0" lang="en-US" sz="800" spc="-1" strike="noStrike">
                <a:solidFill>
                  <a:srgbClr val="000000"/>
                </a:solidFill>
                <a:latin typeface="Arial"/>
              </a:rPr>
              <a:t>: ERCOT will present protocol interpretation at the next meeting of the QMW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Concern</a:t>
            </a:r>
            <a:r>
              <a:rPr b="0" lang="en-US" sz="800" spc="-1" strike="noStrike">
                <a:solidFill>
                  <a:srgbClr val="000000"/>
                </a:solidFill>
                <a:latin typeface="Arial"/>
              </a:rPr>
              <a:t>: Ramp Rate limitations when released from curtailments could cause frequency control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Next Step</a:t>
            </a:r>
            <a:r>
              <a:rPr b="0" lang="en-US" sz="800" spc="-1" strike="noStrike">
                <a:solidFill>
                  <a:srgbClr val="000000"/>
                </a:solidFill>
                <a:latin typeface="Arial"/>
              </a:rPr>
              <a:t>: WMS ask ROS to provide a response which includes more defined problem with examples and detail of existing tools available to manage concern.  QMWG to review after ROS evaluat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Concern</a:t>
            </a:r>
            <a:r>
              <a:rPr b="0" lang="en-US" sz="800" spc="-1" strike="noStrike">
                <a:solidFill>
                  <a:srgbClr val="000000"/>
                </a:solidFill>
                <a:latin typeface="Arial"/>
              </a:rPr>
              <a:t>: Not all Wind QSEs update the Resource Plan alike, some with unrealistic value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Next Step</a:t>
            </a:r>
            <a:r>
              <a:rPr b="0" lang="en-US" sz="800" spc="-1" strike="noStrike">
                <a:solidFill>
                  <a:srgbClr val="000000"/>
                </a:solidFill>
                <a:latin typeface="Arial"/>
              </a:rPr>
              <a:t>: ERCOT submitted PRR 763 requiring update of Resource Plans before RPRS studies using ERCOT provided forecasts.  QMWG to work with ERCOT on Market Bulletin clarifying Resource Plan submittal expectat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Concern</a:t>
            </a:r>
            <a:r>
              <a:rPr b="0" lang="en-US" sz="800" spc="-1" strike="noStrike">
                <a:solidFill>
                  <a:srgbClr val="000000"/>
                </a:solidFill>
                <a:latin typeface="Arial"/>
              </a:rPr>
              <a:t>: Should the 50% or the 80% Wind forecast be used?  Using 80% could bias to an over commitmen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Next Step</a:t>
            </a:r>
            <a:r>
              <a:rPr b="0" lang="en-US" sz="800" spc="-1" strike="noStrike">
                <a:solidFill>
                  <a:srgbClr val="000000"/>
                </a:solidFill>
                <a:latin typeface="Arial"/>
              </a:rPr>
              <a:t>: Issue is at TPTF for Nodal, should not be considered for Zonal unless significant nodal schedule or forecasting statistics chang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Concern</a:t>
            </a:r>
            <a:r>
              <a:rPr b="0" lang="en-US" sz="800" spc="-1" strike="noStrike">
                <a:solidFill>
                  <a:srgbClr val="000000"/>
                </a:solidFill>
                <a:latin typeface="Arial"/>
              </a:rPr>
              <a:t>: Should Ancillary Service procurement change to help manage high risk period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Next Step</a:t>
            </a:r>
            <a:r>
              <a:rPr b="0" lang="en-US" sz="800" spc="-1" strike="noStrike">
                <a:solidFill>
                  <a:srgbClr val="000000"/>
                </a:solidFill>
                <a:latin typeface="Arial"/>
              </a:rPr>
              <a:t>: ERCOT currently evaluating Ancillary Service Methodology for 2009.  QMWG asked ERCOT to do three things:</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ring the methodology early</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ider if Non-Spin should be largest unit or largest ramp possibility</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ider how to handle net load uncertainty; e.g. wind decrease with load increas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Concern</a:t>
            </a:r>
            <a:r>
              <a:rPr b="0" lang="en-US" sz="800" spc="-1" strike="noStrike">
                <a:solidFill>
                  <a:srgbClr val="000000"/>
                </a:solidFill>
                <a:latin typeface="Arial"/>
              </a:rPr>
              <a:t>: Not all Wind QSEs are offering DB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Next Step</a:t>
            </a:r>
            <a:r>
              <a:rPr b="0" lang="en-US" sz="800" spc="-1" strike="noStrike">
                <a:solidFill>
                  <a:srgbClr val="000000"/>
                </a:solidFill>
                <a:latin typeface="Arial"/>
              </a:rPr>
              <a:t>:  Combined with LSL as a %HSL issue, see issue #1.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Concern</a:t>
            </a:r>
            <a:r>
              <a:rPr b="0" lang="en-US" sz="800" spc="-1" strike="noStrike">
                <a:solidFill>
                  <a:srgbClr val="000000"/>
                </a:solidFill>
                <a:latin typeface="Arial"/>
              </a:rPr>
              <a:t>: Wind QSEs respond differently to DBES instructions.  Some respond from current output, some from Energy Schedu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Next Step</a:t>
            </a:r>
            <a:r>
              <a:rPr b="0" lang="en-US" sz="800" spc="-1" strike="noStrike">
                <a:solidFill>
                  <a:srgbClr val="000000"/>
                </a:solidFill>
                <a:latin typeface="Arial"/>
              </a:rPr>
              <a:t>: ERCOT to bring detailed example on how they expect QSEs to respon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85840" y="698400"/>
            <a:ext cx="4656240" cy="3492720"/>
          </a:xfrm>
          <a:prstGeom prst="rect">
            <a:avLst/>
          </a:prstGeom>
          <a:ln w="0">
            <a:noFill/>
          </a:ln>
        </p:spPr>
      </p:sp>
      <p:sp>
        <p:nvSpPr>
          <p:cNvPr id="112"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ood deal of discussion going on regarding how to Cap the value of some of the constraints that the black boxes of nodal will have to resolve.  ERCOT is responsible for managing the transmission system down to the 69 kV system and the model will see all of these lines.  This is more detail then is used in other nodal markets.  Left uncapped, some of these constraints can result in extreme LMPs at some nodes which may not be reason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lso global constraints in SCED that if encountered can result in unreasonably high LMPs throughout th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evaluating tiered process where degree of violation determines the SP c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ing of the nodal market open will determine how fast the CMWG has to resolve the CCT and Shadow Price issu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85840" y="698400"/>
            <a:ext cx="4656240" cy="3492720"/>
          </a:xfrm>
          <a:prstGeom prst="rect">
            <a:avLst/>
          </a:prstGeom>
          <a:ln w="0">
            <a:noFill/>
          </a:ln>
        </p:spPr>
      </p:sp>
      <p:sp>
        <p:nvSpPr>
          <p:cNvPr id="114"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ptional events and how many times a unit has to be RUCed before having to file VC will be on our next agenda.  The VC group has met twice since the WMS meeting including yesterday which I was unable to at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of work that this group will be taking on is expected to go on for at least a couple years as participants gain experience with the nodal market and what all the impacts of verifiable cost are.  For this reason, we have decided that the group should become a standing working group of WMS and the procedure changes necessary to allow that are being drafted and will be brought to TAC for approval next mont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5840" y="698400"/>
            <a:ext cx="4656240" cy="3492720"/>
          </a:xfrm>
          <a:prstGeom prst="rect">
            <a:avLst/>
          </a:prstGeom>
          <a:ln w="0">
            <a:noFill/>
          </a:ln>
        </p:spPr>
      </p:sp>
      <p:sp>
        <p:nvSpPr>
          <p:cNvPr id="116"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for a couple meetings presented the WMS concerns regarding Defaults in the DAM and how the voluntary nature of that market may require us to do something different than what is currently written in the nodal protoc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s were presented and a straw poll taken.  Direction was given for drafting an NPRR that will pay back shortpays in the DAM due to defaults from other CRR related funds – namely auction revenues and the CRR balancing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lso concerns about a flat $10 adder to the collateral requirements for obligations.  WMS asked that an NPRR be draft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5840" y="698400"/>
            <a:ext cx="4656240" cy="3492720"/>
          </a:xfrm>
          <a:prstGeom prst="rect">
            <a:avLst/>
          </a:prstGeom>
          <a:ln w="0">
            <a:noFill/>
          </a:ln>
        </p:spPr>
      </p:sp>
      <p:sp>
        <p:nvSpPr>
          <p:cNvPr id="118"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heard a report from ERCOT regarding high congestion costs and how BENA was being impacted.  We did not predict the volatility and high prices that have occurred since our last meeting and WMS did not play a role in finding or fixing that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f our Mission statement taken from the ERCOT web page is to: monitors the management of zonal and local congestion.  In our next meeting we will have a discussion regarding how effectively we carry out that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eard a short report from Cheryl on the Board action related to the Credit Risk Study and a potential Risk Appetite determination.  WMS discussed this report discussed this study a couple months ago and expressed some concerns that evidently the Board shares as they have redirected the CWG to a path that WMS is much more comfortable with.</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85840" y="698400"/>
            <a:ext cx="4656240" cy="3492720"/>
          </a:xfrm>
          <a:prstGeom prst="rect">
            <a:avLst/>
          </a:prstGeom>
          <a:ln w="0">
            <a:noFill/>
          </a:ln>
        </p:spPr>
      </p:sp>
      <p:sp>
        <p:nvSpPr>
          <p:cNvPr id="120"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h presented a matrix of issues that will have to be addressed to keep the zonal system going into 2009.  Not a lot of new work as much of it had to be done associated with the transition anyway.  There may have to be Protocol Revisions regarding Annual TCRs and if there are not any, how PCRs are destribu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andy Jones pointed out somewhere along the line, Zonal was not designed to end – so there is not a lot of stuff that has to happen for it to contin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CRR Auction bid limits, ERCOT will return to WMS in July with recommendations on setting initial bid limi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43E660-3BFD-4A0B-92EB-E9EA0206E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5A56D-925A-4C5D-B09C-59F6D3BAE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E1539E-1AAC-46E4-8A16-F07BE58D23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CD2373-305C-475B-AF25-8700E4EFCA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A1CFEA-E478-4525-8702-6567177D28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2C2AB1-670F-4ECB-9062-D4AC031AAF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169204-113D-466B-A31A-A7E9A3A65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EA2B34-7DF3-4F3A-B6CC-90EA84C48D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6A0D9E-3799-48DE-88DE-CC41D247D9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AAB31A-D158-4E8A-88F3-E63BFA638A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15322-13C0-4BBA-8C8B-AF7AD465F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502B6-783E-455A-A85D-07E0198F2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16BC6-3F56-4E7C-8DBC-97A25A037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1B943-5DB3-480C-A516-5CA0205E5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8900F6-918A-4F88-B2A7-FD121CCBFE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4C49EA-43C5-48A2-B4B2-E993512720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F747FD-604D-4514-BAD4-CF3D32D0C0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C1815-E3A0-4855-AF1C-398350F0D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44B1B-4FE4-4D64-ABF6-271A0A5A8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1A469-89A7-4E56-A86E-1220D7EF8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3F96E-2076-4D1E-9DEA-5D5B8FCCD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BE50D-BE0D-4032-8C0A-CA20E32FD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3B5E6-6E0E-4004-8815-D3ED37406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4F702-DFF9-4FAF-B516-86D626A99E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3CB4E-63C0-4554-9D39-2712130F4D0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D9C59-1ACB-472B-9448-571A7760FD6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90" name="PlaceHolder 2"/>
          <p:cNvSpPr>
            <a:spLocks noGrp="1"/>
          </p:cNvSpPr>
          <p:nvPr>
            <p:ph type="subTitle"/>
          </p:nvPr>
        </p:nvSpPr>
        <p:spPr>
          <a:xfrm>
            <a:off x="1371600" y="3886200"/>
            <a:ext cx="6400800" cy="990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June 2008</a:t>
            </a: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CA65E879-133F-4B4D-9742-3D155D3576B8}"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In Brief</a:t>
            </a:r>
            <a:r>
              <a:rPr b="1" lang="en-US" sz="4400" spc="-1" strike="noStrike">
                <a:solidFill>
                  <a:srgbClr val="e5ffff"/>
                </a:solidFill>
                <a:latin typeface="Tahoma"/>
              </a:rPr>
              <a:t>	</a:t>
            </a: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wo Working Group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ne Task Force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wo Staff report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C3ACD409-C0E9-46D5-88D3-F9F9069F328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QSEWG</a:t>
            </a:r>
            <a:endParaRPr b="0" lang="en-US" sz="4000" spc="-1" strike="noStrike">
              <a:solidFill>
                <a:srgbClr val="e5ffff"/>
              </a:solidFill>
              <a:latin typeface="Tahoma"/>
            </a:endParaRPr>
          </a:p>
        </p:txBody>
      </p:sp>
      <p:sp>
        <p:nvSpPr>
          <p:cNvPr id="94" name="PlaceHolder 2"/>
          <p:cNvSpPr>
            <a:spLocks noGrp="1"/>
          </p:cNvSpPr>
          <p:nvPr>
            <p:ph/>
          </p:nvPr>
        </p:nvSpPr>
        <p:spPr>
          <a:xfrm>
            <a:off x="457200" y="2209680"/>
            <a:ext cx="8686800" cy="4114800"/>
          </a:xfrm>
          <a:prstGeom prst="rect">
            <a:avLst/>
          </a:prstGeom>
          <a:noFill/>
          <a:ln w="0">
            <a:noFill/>
          </a:ln>
        </p:spPr>
        <p:txBody>
          <a:bodyPr lIns="90000" rIns="90000" tIns="46800" bIns="46800" anchor="t">
            <a:normAutofit/>
          </a:bodyPr>
          <a:p>
            <a:pPr marL="609480" indent="-609480">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SL as % of HSL Performance Measure </a:t>
            </a:r>
            <a:endParaRPr b="0" lang="en-US" sz="2800" spc="-1" strike="noStrike">
              <a:solidFill>
                <a:srgbClr val="ffffff"/>
              </a:solidFill>
              <a:latin typeface="Tahoma"/>
            </a:endParaRPr>
          </a:p>
          <a:p>
            <a:pPr marL="609480" indent="-609480">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GR Ramp Rate Limitations </a:t>
            </a:r>
            <a:endParaRPr b="0" lang="en-US" sz="2800" spc="-1" strike="noStrike">
              <a:solidFill>
                <a:srgbClr val="ffffff"/>
              </a:solidFill>
              <a:latin typeface="Tahoma"/>
            </a:endParaRPr>
          </a:p>
          <a:p>
            <a:pPr marL="609480" indent="-609480">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ind QSE Resource Plan Update Timing</a:t>
            </a:r>
            <a:endParaRPr b="0" lang="en-US" sz="2800" spc="-1" strike="noStrike">
              <a:solidFill>
                <a:srgbClr val="ffffff"/>
              </a:solidFill>
              <a:latin typeface="Tahoma"/>
            </a:endParaRPr>
          </a:p>
          <a:p>
            <a:pPr marL="609480" indent="-609480">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50/50 forecast vs. 80/20 forecast </a:t>
            </a:r>
            <a:endParaRPr b="0" lang="en-US" sz="2800" spc="-1" strike="noStrike">
              <a:solidFill>
                <a:srgbClr val="ffffff"/>
              </a:solidFill>
              <a:latin typeface="Tahoma"/>
            </a:endParaRPr>
          </a:p>
          <a:p>
            <a:pPr marL="609480" indent="-609480">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S Procurement During High Risk Periods</a:t>
            </a:r>
            <a:endParaRPr b="0" lang="en-US" sz="2800" spc="-1" strike="noStrike">
              <a:solidFill>
                <a:srgbClr val="ffffff"/>
              </a:solidFill>
              <a:latin typeface="Tahoma"/>
            </a:endParaRPr>
          </a:p>
          <a:p>
            <a:pPr marL="609480" indent="-609480">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own Balancing Bids from WGR QSEs   </a:t>
            </a:r>
            <a:endParaRPr b="0" lang="en-US" sz="2800" spc="-1" strike="noStrike">
              <a:solidFill>
                <a:srgbClr val="ffffff"/>
              </a:solidFill>
              <a:latin typeface="Tahoma"/>
            </a:endParaRPr>
          </a:p>
          <a:p>
            <a:pPr marL="609480" indent="-609480">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BES from Actual Output or Schedules?</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342B6D43-3750-4B13-AF11-ACF4AB1A4CB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CMWG</a:t>
            </a:r>
            <a:endParaRPr b="0" lang="en-US" sz="4000" spc="-1" strike="noStrike">
              <a:solidFill>
                <a:srgbClr val="e5ffff"/>
              </a:solidFill>
              <a:latin typeface="Tahoma"/>
            </a:endParaRPr>
          </a:p>
        </p:txBody>
      </p:sp>
      <p:sp>
        <p:nvSpPr>
          <p:cNvPr id="96" name="PlaceHolder 2"/>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mpetitive Constraint Test Proces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hadow Price Cap determina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conomic Outage evaluatio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RCOT working on a definitive calenda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D22E812B-6014-47E5-889D-FBB943A3E0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ask Force Reports</a:t>
            </a:r>
            <a:br>
              <a:rPr sz="4000"/>
            </a:br>
            <a:r>
              <a:rPr b="1" lang="en-US" sz="4000" spc="-1" strike="noStrike">
                <a:solidFill>
                  <a:srgbClr val="e5ffff"/>
                </a:solidFill>
                <a:latin typeface="Tahoma"/>
              </a:rPr>
              <a:t>Verifiable Cost</a:t>
            </a:r>
            <a:endParaRPr b="0" lang="en-US" sz="4000" spc="-1" strike="noStrike">
              <a:solidFill>
                <a:srgbClr val="e5ffff"/>
              </a:solidFill>
              <a:latin typeface="Tahoma"/>
            </a:endParaRPr>
          </a:p>
        </p:txBody>
      </p:sp>
      <p:sp>
        <p:nvSpPr>
          <p:cNvPr id="9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dentified a process for pricing emission</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viewed ERCOT’s proposal for including PPAs into the VC process</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rafted NPRR language for including PPA in the Nodal Protocols</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MS voted to approve VC Manual Version 9.0</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6DA31CC0-9A6C-4EC4-8657-27376BEF43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ask Force Reports</a:t>
            </a:r>
            <a:br>
              <a:rPr sz="4000"/>
            </a:br>
            <a:r>
              <a:rPr b="1" lang="en-US" sz="4000" spc="-1" strike="noStrike">
                <a:solidFill>
                  <a:srgbClr val="e5ffff"/>
                </a:solidFill>
                <a:latin typeface="Tahoma"/>
              </a:rPr>
              <a:t>Credit Policy </a:t>
            </a:r>
            <a:endParaRPr b="0" lang="en-US" sz="4000" spc="-1" strike="noStrike">
              <a:solidFill>
                <a:srgbClr val="e5ffff"/>
              </a:solidFill>
              <a:latin typeface="Tahoma"/>
            </a:endParaRPr>
          </a:p>
        </p:txBody>
      </p:sp>
      <p:sp>
        <p:nvSpPr>
          <p:cNvPr id="10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ptions presented for how to deal with defaults in the DAM</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MS will review an NPRR at our next meeting</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MS also asked for an NPRR that will serve as a platform for discussing the collateral requirements on obligations</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4BBC6214-78C7-46CB-92D1-18AD1E5A11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ERCOT Staff Reports</a:t>
            </a:r>
            <a:endParaRPr b="0" lang="en-US" sz="4400" spc="-1" strike="noStrike">
              <a:solidFill>
                <a:srgbClr val="e5ffff"/>
              </a:solidFill>
              <a:latin typeface="Tahoma"/>
            </a:endParaRPr>
          </a:p>
        </p:txBody>
      </p:sp>
      <p:sp>
        <p:nvSpPr>
          <p:cNvPr id="10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ngestion Repor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redit Working Group</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CDC1DFD8-E884-4454-9289-9F5A05C01E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Other WMS activity</a:t>
            </a: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mpacts of staying zonal</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RR Bid limits in Noda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0C0F0C4E-FF74-4AAF-8018-0AED937902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B414E8B5-5EEB-4784-B936-4D379CA6EE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16:12:36Z</dcterms:created>
  <dc:creator>bbelk</dc:creator>
  <dc:description/>
  <dc:language>en-US</dc:language>
  <cp:lastModifiedBy>bbelk</cp:lastModifiedBy>
  <dcterms:modified xsi:type="dcterms:W3CDTF">2008-06-04T20:13:38Z</dcterms:modified>
  <cp:revision>123</cp:revision>
  <dc:subject/>
  <dc:title>WMS Report TO TAC</dc:title>
</cp:coreProperties>
</file>