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05D6-E900-4BBA-B0D7-F90BB511C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3BED-6E92-403C-8730-207B1D98B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534A-7800-4107-ADFB-3F076B413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3F1C-E2C1-4067-A59D-3F494AE3C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B37F-F418-458E-9AAB-3D6C49284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2DE9-597E-4CD4-9984-F16292B65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437E-EE07-4019-8155-C937AD65E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8A5F-2838-47C2-AD65-1FE1276F1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3097-8808-47AB-BEEE-7A3309FF4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1D9B-200A-4CEB-9563-3580AC8E6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B53B-62E3-4C77-9D84-608E21B4E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CDD1-82E8-4F96-942E-425D593CD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84D-9730-4BAD-8CBF-9696BE270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0247-503C-46BC-B317-536BC66084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nannounced Unit Test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chnical Advisory Committee 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June 05, 2008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4876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l Blev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762120"/>
          <a:ext cx="9144000" cy="564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596880"/>
                <a:gridCol w="865440"/>
                <a:gridCol w="628560"/>
                <a:gridCol w="623880"/>
                <a:gridCol w="561960"/>
                <a:gridCol w="646200"/>
                <a:gridCol w="676080"/>
                <a:gridCol w="606600"/>
                <a:gridCol w="677880"/>
                <a:gridCol w="682560"/>
                <a:gridCol w="677880"/>
                <a:gridCol w="604800"/>
              </a:tblGrid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 (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Un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bient Temp (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W at Start of Test (MW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sonal HSL(MW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 Plan HSL (MW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Minute sustained (MW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SL Reached and Sustain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SL Reached but not Sustain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SL not Reach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85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4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5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5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5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5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2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6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17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5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5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3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11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4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.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11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7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23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4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3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 F to 90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9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20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/15/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nannounced Generation Capability Tes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CDD7-D5E7-4432-AC55-F4228F8DD2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ummary of Unannounced Generation Capability Tes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447920"/>
          <a:ext cx="9143640" cy="1544400"/>
        </p:xfrm>
        <a:graphic>
          <a:graphicData uri="http://schemas.openxmlformats.org/drawingml/2006/table">
            <a:tbl>
              <a:tblPr/>
              <a:tblGrid>
                <a:gridCol w="2905920"/>
                <a:gridCol w="1679040"/>
                <a:gridCol w="2280240"/>
                <a:gridCol w="2278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e Range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Units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SL Reached  &amp; Sustain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SL Not Reach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 F - 95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85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BBD0-B5FE-453D-BD4D-8A9EED764C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~ 40 more test between 85-95 de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~ 50 test &gt; 95 de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discount factor &lt;85, 85-95, &gt;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modification to discount factors based on test information to 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3019-49AB-4DE2-BA6B-2430CD6FCD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ill Blevins</cp:lastModifiedBy>
  <dcterms:modified xsi:type="dcterms:W3CDTF">2008-06-04T20:59:51Z</dcterms:modified>
  <cp:revision>24</cp:revision>
  <dc:subject/>
  <dc:title>Instructions</dc:title>
</cp:coreProperties>
</file>