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5.jpeg" ContentType="image/jpeg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8D29-6102-4E5F-B7F8-560976725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image" Target="../media/image5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2590560"/>
            <a:ext cx="701028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Black"/>
              </a:rPr>
              <a:t>Texas Regional Entit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 Black"/>
              </a:rPr>
              <a:t>Standards Development Process Update</a:t>
            </a:r>
            <a:endParaRPr b="0" lang="en-US" sz="28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une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gional Standards Process Overview ( Cont.)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1337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3657600"/>
            <a:ext cx="8382240" cy="3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3657600"/>
            <a:ext cx="30456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0120" y="3657600"/>
            <a:ext cx="30456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C recommends  posting for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9480" y="1996920"/>
            <a:ext cx="1676520" cy="1328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5400000">
            <a:off x="723600" y="3924360"/>
            <a:ext cx="1295280" cy="304560"/>
          </a:xfrm>
          <a:prstGeom prst="rightArrow">
            <a:avLst>
              <a:gd name="adj1" fmla="val 50000"/>
              <a:gd name="adj2" fmla="val 106324"/>
            </a:avLst>
          </a:prstGeom>
          <a:solidFill>
            <a:srgbClr val="00ff00">
              <a:alpha val="3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0245200">
            <a:off x="2742840" y="2286000"/>
            <a:ext cx="1932120" cy="304920"/>
          </a:xfrm>
          <a:prstGeom prst="rightArrow">
            <a:avLst>
              <a:gd name="adj1" fmla="val 50000"/>
              <a:gd name="adj2" fmla="val 158412"/>
            </a:avLst>
          </a:prstGeom>
          <a:solidFill>
            <a:srgbClr val="00ff00">
              <a:alpha val="3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78588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724280" y="1066680"/>
            <a:ext cx="1676520" cy="110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1143000"/>
            <a:ext cx="2362320" cy="464832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4648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BB/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066680"/>
            <a:ext cx="152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 the package for TRE BOD 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572000" y="3276720"/>
            <a:ext cx="2666880" cy="1047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19920" y="2514600"/>
            <a:ext cx="236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 by NERC and  approval by NERC B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990680" y="270504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ff00">
              <a:alpha val="3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5143320" y="453384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00ff00">
              <a:alpha val="3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62520" y="5181480"/>
          <a:ext cx="3352680" cy="76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5181480"/>
                    <a:ext cx="335268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32448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RC filing to seek FERC 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7620120" y="1523880"/>
            <a:ext cx="1218960" cy="966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400800" y="129528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19810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8077320" y="990720"/>
            <a:ext cx="609480" cy="48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077320" y="914400"/>
            <a:ext cx="609480" cy="5335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8076960" y="99072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1066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1752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gional Standards Process Overview ( Cont.)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Regional Reliability Standards are subject to review by NERC, and approval by NERC Board of Truste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approval by FERC, Regional Reliability Standards shall be made part of the body of NERC Reliability Standards and shall be enforced upon all applicable bulk-power system owners, operators, and users within the ERCOT region, regardless of membership in the reg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gional Standards Activitie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4-TRE-01:  ERCOT-Specific Sabotage Reporting Regional Stand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nded by RSC on May 2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further clarification and m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3-TRE-01:  FERC-Ordered Modification to ERCOT Waiver to R2 of BAL-001-0 CPS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ed by RSC on May 2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June ROS agenda to form the S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gional Standards Activities (Cont.)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83808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2-TRE-01: Development and Documentation of Regional UFLS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ed by RSC on May 2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June ROS agenda to form the S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1-TRE-01: Provision for ERCOT ISO to Participate and have a Vote in the Regional Standard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ed by RSC on January 2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T to meet for the second time on Jun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857680" cy="2886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62320" y="4343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Black"/>
              </a:rPr>
              <a:t>information@texasre.or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Delegation Agreements Between NERC and RE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gated fun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ance enfor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Development of Regional Standards / Regional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C approved the </a:t>
            </a:r>
            <a:r>
              <a:rPr b="0" i="1" lang="en-US" sz="2000" spc="-1" strike="noStrike">
                <a:solidFill>
                  <a:srgbClr val="0066cc"/>
                </a:solidFill>
                <a:latin typeface="Arial"/>
              </a:rPr>
              <a:t>Texas RE Standards Development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part of the delegation agreement on April 19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Key Role Player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r/Origin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Standards Committee (RS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Standards Manager (RS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Drafting Team (SD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ed Ballot Body (RB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 Pool (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RE Board of Directors (BO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Board of Trustees (BO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liability Standards Committee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C is a committee of Texas Regional Entity (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d of 15 standing members from seven (7) ERCOT Market Participant (MP)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wo Standing Representatives from each Segment with the exception of the Consumer Segment who has one representative from each of the three (3) sub-segments (Residential, Commercial, and Indust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rum:  At least one standing member from 5 out of 7 segments must be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irmative vote: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4.67 segments out of 7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ves from Voting Entities present at the meeting may participate in RSC voting activ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liability Standards Committee (Cont.)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25909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96"/>
                </a:solidFill>
                <a:latin typeface="Arial"/>
              </a:rPr>
              <a:t>Reliability Standards Committee (R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952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and consider SARs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066680"/>
            <a:ext cx="2286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ze the development of S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10666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ROS to assemble a Standard Drafting Team (S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09880"/>
            <a:ext cx="29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an expected date for the SDT work to be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4343400"/>
            <a:ext cx="304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draft standard completion and  readiness for posting for comments and/or voting by R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380988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 to forward the draft standard package to the TRE BOD for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14600" y="1980720"/>
            <a:ext cx="83808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04760" y="3124080"/>
            <a:ext cx="1066680" cy="609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429000"/>
            <a:ext cx="152280" cy="914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3276720"/>
            <a:ext cx="91440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72000" y="1676520"/>
            <a:ext cx="380880" cy="914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1828440"/>
            <a:ext cx="838080" cy="7621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96"/>
                </a:solidFill>
                <a:latin typeface="Arial Black"/>
              </a:rPr>
              <a:t>Reliability and Operations Subcommittee (ROS)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8195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96"/>
                </a:solidFill>
                <a:latin typeface="Arial"/>
              </a:rPr>
              <a:t>Reliability and Operations Subcommittee (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3886200"/>
            <a:ext cx="3124080" cy="20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s the SDT interim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The SDT will elect the permanent Chair and Vice-Chair at its first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2193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 a qualified balanced slate for the S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276720" y="2057040"/>
            <a:ext cx="83808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733920"/>
            <a:ext cx="762120" cy="685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Standard Drafting Team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19560" y="1295280"/>
            <a:ext cx="2971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includes a member of the Texas RE staff and the originator in addition to the field Subject Matter Experts (SME) assigned by 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79360" y="3276720"/>
            <a:ext cx="44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"/>
              </a:rPr>
              <a:t>Standard Drafting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952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am of technical experts assigned by 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066680"/>
            <a:ext cx="3429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vely have the necessary technical expertise and work process skills pertaining to the particular SAR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267080"/>
            <a:ext cx="32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stakeholders’ comments and consider modification to the draf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2670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on the technical aspect of th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3434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to RSC on the work progress and make appropriate recommendation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361960" y="2362320"/>
            <a:ext cx="685800" cy="838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343040" y="2362320"/>
            <a:ext cx="152280" cy="838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3733920"/>
            <a:ext cx="838440" cy="533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752480" y="3657600"/>
            <a:ext cx="106704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638680" y="2437920"/>
            <a:ext cx="685800" cy="7621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191120" y="3733920"/>
            <a:ext cx="457200" cy="6094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gional Standards Process Overview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1337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657600"/>
            <a:ext cx="8382240" cy="3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3657600"/>
            <a:ext cx="30456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3657600"/>
            <a:ext cx="30456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-304920" y="16002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1066680"/>
            <a:ext cx="17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C Evaluation and disposition of 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124080" y="2057400"/>
            <a:ext cx="1676520" cy="1328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rot="2023800">
            <a:off x="6400800" y="1980720"/>
            <a:ext cx="1012680" cy="304920"/>
          </a:xfrm>
          <a:prstGeom prst="rightArrow">
            <a:avLst>
              <a:gd name="adj1" fmla="val 50000"/>
              <a:gd name="adj2" fmla="val 83028"/>
            </a:avLst>
          </a:prstGeom>
          <a:solidFill>
            <a:srgbClr val="009999">
              <a:alpha val="34000"/>
            </a:srgbClr>
          </a:solidFill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324480" y="251460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029200" y="1066680"/>
            <a:ext cx="1371600" cy="922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876920" y="289548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ff00">
              <a:alpha val="3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342900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85440" y="52578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62120" y="327636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342900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114800" y="5105520"/>
            <a:ext cx="477720" cy="704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325920" y="990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s S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289548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ff00">
              <a:alpha val="3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gional Standards Process Overview ( Cont.)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1337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3657600"/>
            <a:ext cx="8382240" cy="3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3657600"/>
            <a:ext cx="30456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3657600"/>
            <a:ext cx="30492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3657600"/>
            <a:ext cx="304560" cy="30492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0492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1676520"/>
            <a:ext cx="17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C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1600200" cy="1268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2286000"/>
            <a:ext cx="1600200" cy="1000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81080" y="27432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ff00">
              <a:alpha val="3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342900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495288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447920" y="3276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800" y="160020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ing for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191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work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095880" y="2133720"/>
            <a:ext cx="1293840" cy="1295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876920" y="266688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ff00">
              <a:alpha val="3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3429000"/>
            <a:ext cx="0" cy="228600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61760" y="5715000"/>
            <a:ext cx="617220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53341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T responds to comments and considers modification to the draf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62120" y="3276360"/>
            <a:ext cx="0" cy="24382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F. Tafreshi</dc:creator>
  <dc:description/>
  <cp:keywords>RSC Regional Standards ROS</cp:keywords>
  <dc:language>en-US</dc:language>
  <cp:lastModifiedBy>LGrimm</cp:lastModifiedBy>
  <dcterms:modified xsi:type="dcterms:W3CDTF">2008-05-29T16:46:37Z</dcterms:modified>
  <cp:revision>94</cp:revision>
  <dc:subject>TRE Standards Process Overview and Update for TAC June 2008</dc:subject>
  <dc:title>TRE Standards Process Overview and Update for TAC June 2008</dc:title>
</cp:coreProperties>
</file>