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89640" rIns="89640" tIns="45000" bIns="45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2"/>
          <p:cNvSpPr>
            <a:spLocks noGrp="1"/>
          </p:cNvSpPr>
          <p:nvPr>
            <p:ph type="dt" idx="2"/>
          </p:nvPr>
        </p:nvSpPr>
        <p:spPr>
          <a:xfrm>
            <a:off x="3885840" y="0"/>
            <a:ext cx="2971800" cy="457200"/>
          </a:xfrm>
          <a:prstGeom prst="rect">
            <a:avLst/>
          </a:prstGeom>
          <a:noFill/>
          <a:ln w="0">
            <a:noFill/>
          </a:ln>
        </p:spPr>
        <p:txBody>
          <a:bodyPr lIns="89640" rIns="89640" tIns="45000" bIns="45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50" name="PlaceHolder 4"/>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3"/>
          </p:nvPr>
        </p:nvSpPr>
        <p:spPr>
          <a:xfrm>
            <a:off x="-360" y="8686800"/>
            <a:ext cx="2971800" cy="457200"/>
          </a:xfrm>
          <a:prstGeom prst="rect">
            <a:avLst/>
          </a:prstGeom>
          <a:noFill/>
          <a:ln w="0">
            <a:noFill/>
          </a:ln>
        </p:spPr>
        <p:txBody>
          <a:bodyPr lIns="89640" rIns="89640" tIns="45000" bIns="450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PlaceHolder 6"/>
          <p:cNvSpPr>
            <a:spLocks noGrp="1"/>
          </p:cNvSpPr>
          <p:nvPr>
            <p:ph type="sldNum" idx="4"/>
          </p:nvPr>
        </p:nvSpPr>
        <p:spPr>
          <a:xfrm>
            <a:off x="3885840" y="8686800"/>
            <a:ext cx="2971800" cy="457200"/>
          </a:xfrm>
          <a:prstGeom prst="rect">
            <a:avLst/>
          </a:prstGeom>
          <a:noFill/>
          <a:ln w="0">
            <a:noFill/>
          </a:ln>
        </p:spPr>
        <p:txBody>
          <a:bodyPr lIns="89640" rIns="89640" tIns="45000" bIns="45000" anchor="b">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GB" sz="1200" spc="-1" strike="noStrike">
                <a:solidFill>
                  <a:srgbClr val="000000"/>
                </a:solidFill>
                <a:latin typeface="Arial"/>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3200E4FB-823D-4968-ABBF-CAD04E3E3AF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374CF3F6-AC60-4A14-89DD-5DAF25A64D1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0F2122A5-0304-476F-8BF7-1D80195DC78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93CFF03C-6205-443D-88DF-ACFF18C2DC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C60603A6-15CF-413F-A19E-9E9C3C6C81D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D3181F82-B5A9-44C6-ACB3-B598D81D7E4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87B055AB-72D0-4F57-A89C-63B419FC09F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D85C8957-274D-4883-889E-437EF3762B4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66C3CF72-F2B9-4A5A-911A-81FA4B3FE2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F185D0D-C919-46D0-AFF0-4ADD01BB9A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FA43286-C3FA-4751-9EAC-A87ED3D8C18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5FDB6DD-F916-4D35-9B26-730BBD5D4DE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69372F69-31EE-4113-BF4D-A6C047D6D68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D5EFFF90-5948-4649-AA9E-2C4FC8A25A1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 name="Picture 8" descr="logo"/>
          <p:cNvPicPr/>
          <p:nvPr/>
        </p:nvPicPr>
        <p:blipFill>
          <a:blip r:embed="rId2"/>
          <a:stretch/>
        </p:blipFill>
        <p:spPr>
          <a:xfrm>
            <a:off x="152280" y="6351480"/>
            <a:ext cx="727200" cy="392400"/>
          </a:xfrm>
          <a:prstGeom prst="rect">
            <a:avLst/>
          </a:prstGeom>
          <a:ln w="0">
            <a:noFill/>
          </a:ln>
        </p:spPr>
      </p:pic>
      <p:sp>
        <p:nvSpPr>
          <p:cNvPr id="5"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3"/>
          <p:cNvSpPr>
            <a:spLocks noGrp="1"/>
          </p:cNvSpPr>
          <p:nvPr>
            <p:ph type="ftr" idx="1"/>
          </p:nvPr>
        </p:nvSpPr>
        <p:spPr>
          <a:xfrm>
            <a:off x="1155240" y="6432480"/>
            <a:ext cx="50929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0D907A4-B36B-42A0-8C1F-3E4BF04CB92B}"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 name="Text Box 16"/>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a:t>
            </a:r>
            <a:r>
              <a:rPr b="0" i="1" lang="en-US" sz="1200" spc="-1" strike="noStrike">
                <a:solidFill>
                  <a:srgbClr val="000000"/>
                </a:solidFill>
                <a:latin typeface="Arial"/>
              </a:rPr>
              <a:t>	</a:t>
            </a:r>
            <a:r>
              <a:rPr b="0" i="1" lang="en-US" sz="1200" spc="-1" strike="noStrike">
                <a:solidFill>
                  <a:srgbClr val="000000"/>
                </a:solidFill>
                <a:latin typeface="Arial"/>
              </a:rPr>
              <a:t>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ercot.com/calendar/2008/05/20080522-TPTF.html" TargetMode="External"/><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hyperlink" Target="http://www.ercot.com/calendar/2008/05/20080522-TPTF.html" TargetMode="External"/><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hyperlink" Target="http://www.ercot.com/calendar/2008/05/20080522-TPTF.html" TargetMode="External"/><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hyperlink" Target="http://www.ercot.com/calendar/2008/05/20080522-TPTF.html" TargetMode="External"/><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hyperlink" Target="http://www.ercot.com/calendar/2008/05/20080522-TPTF.html" TargetMode="External"/><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hyperlink" Target="http://www.ercot.com/calendar/2008/05/20080522-TPTF.html" TargetMode="External"/><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nodal.ercot.com/protocols/nprr/126-150/127/index.html" TargetMode="External"/><Relationship Id="rId2" Type="http://schemas.openxmlformats.org/officeDocument/2006/relationships/hyperlink" Target="http://nodal.ercot.com/mktrules/noperating/nogrr/001-025/020/index.html" TargetMode="Externa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nodal.ercot.com/protocols/nprr/101-125/117/index.html"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nodal.ercot.com/protocols/nprr/101-125/123/index.html" TargetMode="External"/><Relationship Id="rId2" Type="http://schemas.openxmlformats.org/officeDocument/2006/relationships/hyperlink" Target="http://nodal.ercot.com/protocols/nprr/126-150/126/index.html" TargetMode="External"/><Relationship Id="rId3" Type="http://schemas.openxmlformats.org/officeDocument/2006/relationships/hyperlink" Target="http://nodal.ercot.com/protocols/nprr/101-125/118/index.html" TargetMode="External"/><Relationship Id="rId4" Type="http://schemas.openxmlformats.org/officeDocument/2006/relationships/hyperlink" Target="http://nodal.ercot.com/protocols/nprr/101-125/114/index.html"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nodal.ercot.com/protocols/nprr/101-125/107/index.html" TargetMode="External"/><Relationship Id="rId2" Type="http://schemas.openxmlformats.org/officeDocument/2006/relationships/hyperlink" Target="http://nodal.ercot.com/protocols/nprr/101-125/111/index.html"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nodal.ercot.com/protocols/nprr/101-125/120/index.html" TargetMode="External"/><Relationship Id="rId2" Type="http://schemas.openxmlformats.org/officeDocument/2006/relationships/hyperlink" Target="http://nodal.ercot.com/protocols/nprr/101-125/122/index.html" TargetMode="External"/><Relationship Id="rId3" Type="http://schemas.openxmlformats.org/officeDocument/2006/relationships/hyperlink" Target="http://nodal.ercot.com/protocols/nprr/126-150/130/index.html" TargetMode="External"/><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nodal.ercot.com/protocols/nprr/101-125/124/index.html"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nodal.ercot.com/protocols/nprr/101-125/124/index.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Footer Placeholder 3"/>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56B4815-9951-462A-8F62-02FD4E1E960C}"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4" name="PlaceHolder 1"/>
          <p:cNvSpPr>
            <a:spLocks noGrp="1"/>
          </p:cNvSpPr>
          <p:nvPr>
            <p:ph type="title"/>
          </p:nvPr>
        </p:nvSpPr>
        <p:spPr>
          <a:xfrm>
            <a:off x="762120" y="3254040"/>
            <a:ext cx="7772400" cy="2536920"/>
          </a:xfrm>
          <a:prstGeom prst="rect">
            <a:avLst/>
          </a:prstGeom>
          <a:noFill/>
          <a:ln w="0">
            <a:noFill/>
          </a:ln>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PTF Update</a:t>
            </a:r>
            <a:r>
              <a:rPr b="0" lang="en-US" sz="1800" spc="-1" strike="noStrike">
                <a:solidFill>
                  <a:srgbClr val="ffffff"/>
                </a:solidFill>
                <a:latin typeface="Arial Black"/>
              </a:rPr>
              <a:t> </a:t>
            </a:r>
            <a:br>
              <a:rPr sz="1800"/>
            </a:br>
            <a:r>
              <a:rPr b="0" lang="en-GB" sz="2400" spc="-1" strike="noStrike">
                <a:solidFill>
                  <a:srgbClr val="808080"/>
                </a:solidFill>
                <a:latin typeface="Arial Black"/>
              </a:rPr>
              <a:t>for TAC June 5, 2008</a:t>
            </a:r>
            <a:br>
              <a:rPr sz="2400"/>
            </a:br>
            <a:r>
              <a:rPr b="0" lang="en-GB" sz="2400" spc="-1" strike="noStrike">
                <a:solidFill>
                  <a:srgbClr val="808080"/>
                </a:solidFill>
                <a:latin typeface="Arial Black"/>
              </a:rPr>
              <a:t>Joel Mickey</a:t>
            </a:r>
            <a:br>
              <a:rPr sz="3200"/>
            </a:br>
            <a:br>
              <a:rPr sz="2000"/>
            </a:br>
            <a:endParaRPr b="0" lang="en-US" sz="2400" spc="-1" strike="noStrike">
              <a:solidFill>
                <a:srgbClr val="ffffff"/>
              </a:solidFill>
              <a:latin typeface="Arial Black"/>
            </a:endParaRPr>
          </a:p>
        </p:txBody>
      </p:sp>
      <p:pic>
        <p:nvPicPr>
          <p:cNvPr id="55" name="Picture 5" descr="logo"/>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3" name=""/>
          <p:cNvGraphicFramePr/>
          <p:nvPr/>
        </p:nvGraphicFramePr>
        <p:xfrm>
          <a:off x="287280" y="838080"/>
          <a:ext cx="8610480" cy="2285640"/>
        </p:xfrm>
        <a:graphic>
          <a:graphicData uri="http://schemas.openxmlformats.org/drawingml/2006/table">
            <a:tbl>
              <a:tblPr/>
              <a:tblGrid>
                <a:gridCol w="2514600"/>
                <a:gridCol w="2666880"/>
                <a:gridCol w="685800"/>
                <a:gridCol w="685800"/>
                <a:gridCol w="2057400"/>
              </a:tblGrid>
              <a:tr h="32544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te Item</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to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or)</a:t>
                      </a:r>
                      <a:endParaRPr b="0" lang="en-US" sz="5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gainst)</a:t>
                      </a:r>
                      <a:endParaRPr b="0" lang="en-US" sz="5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s</a:t>
                      </a:r>
                      <a:endParaRPr b="0" lang="en-US" sz="1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bstention)</a:t>
                      </a:r>
                      <a:endParaRPr b="0" lang="en-US" sz="5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80440">
                <a:tc rowSpan="7">
                  <a: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ssue: </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tion to endorse submitting the draft Settlements NPRR for Section 7 Cleanup to PRS as modified by TPTF on May 23, 2008.</a:t>
                      </a:r>
                      <a:endParaRPr b="0" lang="en-US" sz="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op</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988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unicipal</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96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vestor Owned Utilities</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901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pendent Generator</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289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umers</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390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pendent REP</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31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pendent Power Marketers</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84" name=""/>
          <p:cNvGraphicFramePr/>
          <p:nvPr/>
        </p:nvGraphicFramePr>
        <p:xfrm>
          <a:off x="304920" y="3276720"/>
          <a:ext cx="8610480" cy="2259000"/>
        </p:xfrm>
        <a:graphic>
          <a:graphicData uri="http://schemas.openxmlformats.org/drawingml/2006/table">
            <a:tbl>
              <a:tblPr/>
              <a:tblGrid>
                <a:gridCol w="2514600"/>
                <a:gridCol w="2666880"/>
                <a:gridCol w="685800"/>
                <a:gridCol w="685800"/>
                <a:gridCol w="2057400"/>
              </a:tblGrid>
              <a:tr h="40644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te Item</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to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or)</a:t>
                      </a:r>
                      <a:endParaRPr b="0" lang="en-US" sz="5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gainst)</a:t>
                      </a:r>
                      <a:endParaRPr b="0" lang="en-US" sz="5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s</a:t>
                      </a:r>
                      <a:endParaRPr b="0" lang="en-US" sz="1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bstention)</a:t>
                      </a:r>
                      <a:endParaRPr b="0" lang="en-US" sz="5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57040">
                <a:tc rowSpan="7">
                  <a: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ssue: </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tion to approve the EDS Emergency Operations Test Plan v0.03 as submitted.</a:t>
                      </a:r>
                      <a:endParaRPr b="0" lang="en-US" sz="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op</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CRA</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28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unicipal</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937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vestor Owned Utilities</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enterPoint Energy, AEP Corp</a:t>
                      </a:r>
                      <a:r>
                        <a:rPr b="0" lang="en-US" sz="800" spc="-1" strike="noStrike">
                          <a:solidFill>
                            <a:srgbClr val="000000"/>
                          </a:solidFill>
                          <a:latin typeface="Arial"/>
                        </a:rPr>
                        <a:t>.</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67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pendent Generator</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556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umers</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286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pendent REP</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79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pendent Power Marketers</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P Energy</a:t>
                      </a:r>
                      <a:endParaRPr b="0" lang="en-US" sz="800" spc="-1" strike="noStrike">
                        <a:solidFill>
                          <a:srgbClr val="000000"/>
                        </a:solidFill>
                        <a:latin typeface="Arial"/>
                      </a:endParaRPr>
                    </a:p>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May 22 – 23, 2008 </a:t>
            </a:r>
            <a:endParaRPr b="0" lang="en-US" sz="1800" spc="-1" strike="noStrike">
              <a:solidFill>
                <a:srgbClr val="000000"/>
              </a:solidFill>
              <a:latin typeface="Arial"/>
            </a:endParaRPr>
          </a:p>
        </p:txBody>
      </p:sp>
      <p:sp>
        <p:nvSpPr>
          <p:cNvPr id="86" name=""/>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detailed above are available for pick-up from the May 22-23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 name=""/>
          <p:cNvGraphicFramePr/>
          <p:nvPr/>
        </p:nvGraphicFramePr>
        <p:xfrm>
          <a:off x="287280" y="838080"/>
          <a:ext cx="8610480" cy="2285640"/>
        </p:xfrm>
        <a:graphic>
          <a:graphicData uri="http://schemas.openxmlformats.org/drawingml/2006/table">
            <a:tbl>
              <a:tblPr/>
              <a:tblGrid>
                <a:gridCol w="2514600"/>
                <a:gridCol w="2666880"/>
                <a:gridCol w="685800"/>
                <a:gridCol w="685800"/>
                <a:gridCol w="2057400"/>
              </a:tblGrid>
              <a:tr h="32544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te Item</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to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or)</a:t>
                      </a:r>
                      <a:endParaRPr b="0" lang="en-US" sz="5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gainst)</a:t>
                      </a:r>
                      <a:endParaRPr b="0" lang="en-US" sz="5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s</a:t>
                      </a:r>
                      <a:endParaRPr b="0" lang="en-US" sz="1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bstention)</a:t>
                      </a:r>
                      <a:endParaRPr b="0" lang="en-US" sz="5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80440">
                <a:tc rowSpan="7">
                  <a: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ssue: </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tion to approve the TNM Go-Live Procedure v0.07 as modified by TPTF on May 23, 2008.</a:t>
                      </a:r>
                      <a:endParaRPr b="0" lang="en-US" sz="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op</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razos Electric Power Coop</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988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unicipal</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96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vestor Owned Utilities</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enterPoint Energy, AEP Corp.</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901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pendent Generator</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289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umers</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390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pendent REP</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irro Group</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31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pendent Power Marketers</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88" name=""/>
          <p:cNvGraphicFramePr/>
          <p:nvPr/>
        </p:nvGraphicFramePr>
        <p:xfrm>
          <a:off x="304920" y="3276720"/>
          <a:ext cx="8610480" cy="2285640"/>
        </p:xfrm>
        <a:graphic>
          <a:graphicData uri="http://schemas.openxmlformats.org/drawingml/2006/table">
            <a:tbl>
              <a:tblPr/>
              <a:tblGrid>
                <a:gridCol w="2514600"/>
                <a:gridCol w="2666880"/>
                <a:gridCol w="685800"/>
                <a:gridCol w="685800"/>
                <a:gridCol w="2057400"/>
              </a:tblGrid>
              <a:tr h="40536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te Item</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to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or)</a:t>
                      </a:r>
                      <a:endParaRPr b="0" lang="en-US" sz="5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gainst)</a:t>
                      </a:r>
                      <a:endParaRPr b="0" lang="en-US" sz="5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s</a:t>
                      </a:r>
                      <a:endParaRPr b="0" lang="en-US" sz="1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bstention)</a:t>
                      </a:r>
                      <a:endParaRPr b="0" lang="en-US" sz="5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57400">
                <a:tc rowSpan="7">
                  <a: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ssue: </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tion to reject the changes identified in the INF MPIM Requirements v3.3 and forward to the appropriate zonal Market Participant Stakeholder group for review, discussion, and resolution.</a:t>
                      </a:r>
                      <a:endParaRPr b="0" lang="en-US" sz="900" spc="-1" strike="noStrike">
                        <a:solidFill>
                          <a:srgbClr val="000000"/>
                        </a:solidFill>
                        <a:latin typeface="Arial"/>
                      </a:endParaRPr>
                    </a:p>
                    <a:p>
                      <a:pP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op</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43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unicipal</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930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vestor Owned Utilities</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XU, AEP Corp.</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67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pendent Generator</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55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umers</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559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pendent REP</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75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pendent Power Marketers</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9"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May 22 – 23, 2008 </a:t>
            </a:r>
            <a:endParaRPr b="0" lang="en-US" sz="1800" spc="-1" strike="noStrike">
              <a:solidFill>
                <a:srgbClr val="000000"/>
              </a:solidFill>
              <a:latin typeface="Arial"/>
            </a:endParaRPr>
          </a:p>
        </p:txBody>
      </p:sp>
      <p:sp>
        <p:nvSpPr>
          <p:cNvPr id="90" name=""/>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detailed above are available for pick-up from the May 22-23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 name=""/>
          <p:cNvGraphicFramePr/>
          <p:nvPr/>
        </p:nvGraphicFramePr>
        <p:xfrm>
          <a:off x="287280" y="838080"/>
          <a:ext cx="8610480" cy="2285640"/>
        </p:xfrm>
        <a:graphic>
          <a:graphicData uri="http://schemas.openxmlformats.org/drawingml/2006/table">
            <a:tbl>
              <a:tblPr/>
              <a:tblGrid>
                <a:gridCol w="2514600"/>
                <a:gridCol w="2666880"/>
                <a:gridCol w="685800"/>
                <a:gridCol w="685800"/>
                <a:gridCol w="2057400"/>
              </a:tblGrid>
              <a:tr h="32544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te Item</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to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or)</a:t>
                      </a:r>
                      <a:endParaRPr b="0" lang="en-US" sz="5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gainst)</a:t>
                      </a:r>
                      <a:endParaRPr b="0" lang="en-US" sz="5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s</a:t>
                      </a:r>
                      <a:endParaRPr b="0" lang="en-US" sz="1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bstention)</a:t>
                      </a:r>
                      <a:endParaRPr b="0" lang="en-US" sz="5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80440">
                <a:tc rowSpan="7">
                  <a: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ssue: </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tion to approve revisions to incorporate functionality for co-optimization for Self-Committed units in DAM into the MMS DAM and SASM Requirements.</a:t>
                      </a:r>
                      <a:endParaRPr b="0" lang="en-US" sz="900" spc="-1" strike="noStrike">
                        <a:solidFill>
                          <a:srgbClr val="000000"/>
                        </a:solidFill>
                        <a:latin typeface="Arial"/>
                      </a:endParaRPr>
                    </a:p>
                    <a:p>
                      <a:pP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op</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988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unicipal</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96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vestor Owned Utilities</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901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pendent Generator</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SEG Texgen I</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289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umers</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390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pendent REP</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31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pendent Power Marketers</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2" name=""/>
          <p:cNvGraphicFramePr/>
          <p:nvPr/>
        </p:nvGraphicFramePr>
        <p:xfrm>
          <a:off x="304920" y="3276720"/>
          <a:ext cx="8610480" cy="2285640"/>
        </p:xfrm>
        <a:graphic>
          <a:graphicData uri="http://schemas.openxmlformats.org/drawingml/2006/table">
            <a:tbl>
              <a:tblPr/>
              <a:tblGrid>
                <a:gridCol w="2514600"/>
                <a:gridCol w="2666880"/>
                <a:gridCol w="685800"/>
                <a:gridCol w="685800"/>
                <a:gridCol w="2057400"/>
              </a:tblGrid>
              <a:tr h="40536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te Item</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to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or)</a:t>
                      </a:r>
                      <a:endParaRPr b="0" lang="en-US" sz="5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gainst)</a:t>
                      </a:r>
                      <a:endParaRPr b="0" lang="en-US" sz="5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s</a:t>
                      </a:r>
                      <a:endParaRPr b="0" lang="en-US" sz="1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bstention)</a:t>
                      </a:r>
                      <a:endParaRPr b="0" lang="en-US" sz="5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57400">
                <a:tc rowSpan="7">
                  <a: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ssue: </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tion to endorse forwarding TPTF comments to PRS for NPRR114, Section 11, Data Acquisition and Aggregation, as discussed by TPTF on May 23, 2008.</a:t>
                      </a:r>
                      <a:endParaRPr b="0" lang="en-US" sz="900" spc="-1" strike="noStrike">
                        <a:solidFill>
                          <a:srgbClr val="000000"/>
                        </a:solidFill>
                        <a:latin typeface="Arial"/>
                      </a:endParaRPr>
                    </a:p>
                    <a:p>
                      <a:pP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op</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43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unicipal</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930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vestor Owned Utilities</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67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pendent Generator</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55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umers</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559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pendent REP</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75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pendent Power Marketers</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May 22 – 23, 2008 </a:t>
            </a:r>
            <a:endParaRPr b="0" lang="en-US" sz="1800" spc="-1" strike="noStrike">
              <a:solidFill>
                <a:srgbClr val="000000"/>
              </a:solidFill>
              <a:latin typeface="Arial"/>
            </a:endParaRPr>
          </a:p>
        </p:txBody>
      </p:sp>
      <p:sp>
        <p:nvSpPr>
          <p:cNvPr id="94" name=""/>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detailed above are available for pick-up from the May 22-23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 name=""/>
          <p:cNvGraphicFramePr/>
          <p:nvPr/>
        </p:nvGraphicFramePr>
        <p:xfrm>
          <a:off x="287280" y="838080"/>
          <a:ext cx="8610480" cy="2285640"/>
        </p:xfrm>
        <a:graphic>
          <a:graphicData uri="http://schemas.openxmlformats.org/drawingml/2006/table">
            <a:tbl>
              <a:tblPr/>
              <a:tblGrid>
                <a:gridCol w="2514600"/>
                <a:gridCol w="2666880"/>
                <a:gridCol w="685800"/>
                <a:gridCol w="685800"/>
                <a:gridCol w="2057400"/>
              </a:tblGrid>
              <a:tr h="32544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te Item</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to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or)</a:t>
                      </a:r>
                      <a:endParaRPr b="0" lang="en-US" sz="5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gainst)</a:t>
                      </a:r>
                      <a:endParaRPr b="0" lang="en-US" sz="5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s</a:t>
                      </a:r>
                      <a:endParaRPr b="0" lang="en-US" sz="1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bstention)</a:t>
                      </a:r>
                      <a:endParaRPr b="0" lang="en-US" sz="5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80440">
                <a:tc rowSpan="7">
                  <a: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ssue: </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tion to approve forwarding TPTF comments on NPRR124, Resource Node Updated Definitions, to PRS as modified by TPTF on May 22, 2008, with the understanding that ERCOT will bring back to TPTF a procedure detailing the assigning of Resource Nodes using the struck language from the discussion document.</a:t>
                      </a:r>
                      <a:endParaRPr b="0" lang="en-US" sz="900" spc="-1" strike="noStrike">
                        <a:solidFill>
                          <a:srgbClr val="000000"/>
                        </a:solidFill>
                        <a:latin typeface="Arial"/>
                      </a:endParaRPr>
                    </a:p>
                    <a:p>
                      <a:pP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op</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razos Electric Power Coop.</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988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unicipal</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96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vestor Owned Utilities</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enterPoint Energy, AEP Corp.</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901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pendent Generator</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289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umers</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390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pendent REP</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31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pendent Power Marketers</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6" name=""/>
          <p:cNvGraphicFramePr/>
          <p:nvPr/>
        </p:nvGraphicFramePr>
        <p:xfrm>
          <a:off x="304920" y="3276720"/>
          <a:ext cx="8610480" cy="2286000"/>
        </p:xfrm>
        <a:graphic>
          <a:graphicData uri="http://schemas.openxmlformats.org/drawingml/2006/table">
            <a:tbl>
              <a:tblPr/>
              <a:tblGrid>
                <a:gridCol w="2514600"/>
                <a:gridCol w="2666880"/>
                <a:gridCol w="685800"/>
                <a:gridCol w="685800"/>
                <a:gridCol w="2057400"/>
              </a:tblGrid>
              <a:tr h="40644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te Item</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to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or)</a:t>
                      </a:r>
                      <a:endParaRPr b="0" lang="en-US" sz="5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gainst)</a:t>
                      </a:r>
                      <a:endParaRPr b="0" lang="en-US" sz="5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s</a:t>
                      </a:r>
                      <a:endParaRPr b="0" lang="en-US" sz="1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bstention)</a:t>
                      </a:r>
                      <a:endParaRPr b="0" lang="en-US" sz="5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57040">
                <a:tc rowSpan="7">
                  <a: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ssue: </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tion to endorse NPRR128, Combined Cycle Power Blocks with Multiple Voltage Interconnections, as submitted.</a:t>
                      </a:r>
                      <a:endParaRPr b="0" lang="en-US" sz="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op</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28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unicipal</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937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vestor Owned Utilities</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enterPoint Energy</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67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pendent Generator</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556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umers</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556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pendent REP</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79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pendent Power Marketers</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7"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May 22 – 23, 2008 </a:t>
            </a:r>
            <a:endParaRPr b="0" lang="en-US" sz="1800" spc="-1" strike="noStrike">
              <a:solidFill>
                <a:srgbClr val="000000"/>
              </a:solidFill>
              <a:latin typeface="Arial"/>
            </a:endParaRPr>
          </a:p>
        </p:txBody>
      </p:sp>
      <p:sp>
        <p:nvSpPr>
          <p:cNvPr id="98" name=""/>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detailed above are available for pick-up from the May 22-23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 name=""/>
          <p:cNvGraphicFramePr/>
          <p:nvPr/>
        </p:nvGraphicFramePr>
        <p:xfrm>
          <a:off x="287280" y="838080"/>
          <a:ext cx="8610480" cy="2285640"/>
        </p:xfrm>
        <a:graphic>
          <a:graphicData uri="http://schemas.openxmlformats.org/drawingml/2006/table">
            <a:tbl>
              <a:tblPr/>
              <a:tblGrid>
                <a:gridCol w="2514600"/>
                <a:gridCol w="2666880"/>
                <a:gridCol w="685800"/>
                <a:gridCol w="685800"/>
                <a:gridCol w="2057400"/>
              </a:tblGrid>
              <a:tr h="32544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te Item</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to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or)</a:t>
                      </a:r>
                      <a:endParaRPr b="0" lang="en-US" sz="5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gainst)</a:t>
                      </a:r>
                      <a:endParaRPr b="0" lang="en-US" sz="5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s</a:t>
                      </a:r>
                      <a:endParaRPr b="0" lang="en-US" sz="1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bstention)</a:t>
                      </a:r>
                      <a:endParaRPr b="0" lang="en-US" sz="5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80440">
                <a:tc rowSpan="7">
                  <a: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ssue: </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tion to approve NPRR132, Outage Clarification, as submitted.</a:t>
                      </a:r>
                      <a:endParaRPr b="0" lang="en-US" sz="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op</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988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unicipal</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96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vestor Owned Utilities</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901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pendent Generator</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289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umers</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390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pendent REP</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31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pendent Power Marketers</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elon</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0" name=""/>
          <p:cNvGraphicFramePr/>
          <p:nvPr/>
        </p:nvGraphicFramePr>
        <p:xfrm>
          <a:off x="304920" y="3276720"/>
          <a:ext cx="8610480" cy="2285640"/>
        </p:xfrm>
        <a:graphic>
          <a:graphicData uri="http://schemas.openxmlformats.org/drawingml/2006/table">
            <a:tbl>
              <a:tblPr/>
              <a:tblGrid>
                <a:gridCol w="2514600"/>
                <a:gridCol w="2666880"/>
                <a:gridCol w="685800"/>
                <a:gridCol w="685800"/>
                <a:gridCol w="2057400"/>
              </a:tblGrid>
              <a:tr h="40536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te Item</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to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or)</a:t>
                      </a:r>
                      <a:endParaRPr b="0" lang="en-US" sz="5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gainst)</a:t>
                      </a:r>
                      <a:endParaRPr b="0" lang="en-US" sz="5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s</a:t>
                      </a:r>
                      <a:endParaRPr b="0" lang="en-US" sz="1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bstention)</a:t>
                      </a:r>
                      <a:endParaRPr b="0" lang="en-US" sz="5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57400">
                <a:tc rowSpan="7">
                  <a: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ssue: </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tion to approve NPRR133, Addition of PSSE Format, as submitted.</a:t>
                      </a:r>
                      <a:endParaRPr b="0" lang="en-US" sz="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op</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43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unicipal</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930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vestor Owned Utilities</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67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pendent Generator</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55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umers</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559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pendent REP</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75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pendent Power Marketers</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1"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May 22 - 23 2008 </a:t>
            </a:r>
            <a:endParaRPr b="0" lang="en-US" sz="1800" spc="-1" strike="noStrike">
              <a:solidFill>
                <a:srgbClr val="000000"/>
              </a:solidFill>
              <a:latin typeface="Arial"/>
            </a:endParaRPr>
          </a:p>
        </p:txBody>
      </p:sp>
      <p:sp>
        <p:nvSpPr>
          <p:cNvPr id="102" name=""/>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detailed above are available for pick-up from the May 22-23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 name=""/>
          <p:cNvGraphicFramePr/>
          <p:nvPr/>
        </p:nvGraphicFramePr>
        <p:xfrm>
          <a:off x="287280" y="838080"/>
          <a:ext cx="8610480" cy="2285640"/>
        </p:xfrm>
        <a:graphic>
          <a:graphicData uri="http://schemas.openxmlformats.org/drawingml/2006/table">
            <a:tbl>
              <a:tblPr/>
              <a:tblGrid>
                <a:gridCol w="2514600"/>
                <a:gridCol w="2666880"/>
                <a:gridCol w="685800"/>
                <a:gridCol w="685800"/>
                <a:gridCol w="2057400"/>
              </a:tblGrid>
              <a:tr h="32544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te Item</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to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or)</a:t>
                      </a:r>
                      <a:endParaRPr b="0" lang="en-US" sz="5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gainst)</a:t>
                      </a:r>
                      <a:endParaRPr b="0" lang="en-US" sz="5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s</a:t>
                      </a:r>
                      <a:endParaRPr b="0" lang="en-US" sz="1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bstention)</a:t>
                      </a:r>
                      <a:endParaRPr b="0" lang="en-US" sz="5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80440">
                <a:tc rowSpan="7">
                  <a: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ssue: </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tion to waive notice to vote to incorporate functionality for co-optimization for Self-Committed units in DAM into the MMS DAM and SASM Requirements.</a:t>
                      </a:r>
                      <a:endParaRPr b="0" lang="en-US" sz="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op</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988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unicipal</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96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vestor Owned Utilities</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901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pendent Generator</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289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umers</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390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pendent REP</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31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pendent Power Marketers</a:t>
                      </a:r>
                      <a:endParaRPr b="0" lang="en-US" sz="8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4"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May 22 – 23, 2008 </a:t>
            </a:r>
            <a:endParaRPr b="0" lang="en-US" sz="1800" spc="-1" strike="noStrike">
              <a:solidFill>
                <a:srgbClr val="000000"/>
              </a:solidFill>
              <a:latin typeface="Arial"/>
            </a:endParaRPr>
          </a:p>
        </p:txBody>
      </p:sp>
      <p:sp>
        <p:nvSpPr>
          <p:cNvPr id="105" name=""/>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 detailed above is available for pick-up from the May 22-23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BA90CDF-2113-4541-BBC2-D4361CA0F9BC}"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7"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a:t>
            </a:r>
            <a:endParaRPr b="0" lang="en-US" sz="1800" spc="-1" strike="noStrike">
              <a:solidFill>
                <a:srgbClr val="000000"/>
              </a:solidFill>
              <a:latin typeface="Arial"/>
            </a:endParaRPr>
          </a:p>
        </p:txBody>
      </p:sp>
      <p:sp>
        <p:nvSpPr>
          <p:cNvPr id="108" name="Text Box 6"/>
          <p:cNvSpPr/>
          <p:nvPr/>
        </p:nvSpPr>
        <p:spPr>
          <a:xfrm>
            <a:off x="380880" y="765000"/>
            <a:ext cx="8610840" cy="3619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On </a:t>
            </a:r>
            <a:r>
              <a:rPr b="0" lang="en-US" sz="1600" spc="-1" strike="noStrike">
                <a:solidFill>
                  <a:srgbClr val="000000"/>
                </a:solidFill>
                <a:latin typeface="Arial"/>
              </a:rPr>
              <a:t>June 9 and June 10</a:t>
            </a:r>
            <a:r>
              <a:rPr b="0" lang="en-GB" sz="1600" spc="-1" strike="noStrike">
                <a:solidFill>
                  <a:srgbClr val="000000"/>
                </a:solidFill>
                <a:latin typeface="Arial"/>
              </a:rPr>
              <a:t>, likely topics include:</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US" sz="1600" spc="-1" strike="noStrike">
                <a:solidFill>
                  <a:srgbClr val="000000"/>
                </a:solidFill>
                <a:latin typeface="Arial"/>
              </a:rPr>
              <a:t>Nodal Program Update</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dal Timeline Update</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adiness Update:</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dal Scorecard/ Survey Questionnaire</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er Interface (UI) Subgroup Update</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Quality Assurance Update</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rket Information System (MIS) Update:</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ew disposition of comments for the MIS Business Requirements for Notices, Notifications, Alarms, and Alerts v0.03</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raining Update</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Quick Response Working Group (QRWG) Update:</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rket guidelines for DAM timeline delays</a:t>
            </a:r>
            <a:endParaRPr b="0" lang="en-US" sz="1600" spc="-1" strike="noStrike">
              <a:solidFill>
                <a:srgbClr val="000000"/>
              </a:solidFill>
              <a:latin typeface="Arial"/>
            </a:endParaRPr>
          </a:p>
        </p:txBody>
      </p:sp>
      <p:sp>
        <p:nvSpPr>
          <p:cNvPr id="109"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1EFBC1C-9B9A-4234-A95A-4C56D728F918}"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2"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13" name="Text Box 6"/>
          <p:cNvSpPr/>
          <p:nvPr/>
        </p:nvSpPr>
        <p:spPr>
          <a:xfrm>
            <a:off x="380880" y="765000"/>
            <a:ext cx="8610840" cy="47293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On </a:t>
            </a:r>
            <a:r>
              <a:rPr b="0" lang="en-US" sz="1600" spc="-1" strike="noStrike">
                <a:solidFill>
                  <a:srgbClr val="000000"/>
                </a:solidFill>
                <a:latin typeface="Arial"/>
              </a:rPr>
              <a:t>June 9 and June 10</a:t>
            </a:r>
            <a:r>
              <a:rPr b="0" lang="en-GB" sz="1600" spc="-1" strike="noStrike">
                <a:solidFill>
                  <a:srgbClr val="000000"/>
                </a:solidFill>
                <a:latin typeface="Arial"/>
              </a:rPr>
              <a:t>, likely topics include:</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US" sz="1600" spc="-1" strike="noStrike">
                <a:solidFill>
                  <a:srgbClr val="000000"/>
                </a:solidFill>
                <a:latin typeface="Arial"/>
              </a:rPr>
              <a:t>Market Rules Update:</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9999"/>
                </a:solidFill>
                <a:uFillTx/>
                <a:latin typeface="Arial"/>
                <a:hlinkClick r:id="rId1"/>
              </a:rPr>
              <a:t>NPRR127</a:t>
            </a:r>
            <a:r>
              <a:rPr b="0" lang="en-US" sz="1600" spc="-1" strike="noStrike">
                <a:solidFill>
                  <a:srgbClr val="000000"/>
                </a:solidFill>
                <a:latin typeface="Arial"/>
              </a:rPr>
              <a:t>, Synchronization of Zonal Protocols for Section 22 Attachments A, I, J, and M</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PRR to Synchronize Zonal Protocols for Section 21, Process for Protocol Revision</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ew disposition of comments for NOGRRs:</a:t>
            </a:r>
            <a:endParaRPr b="0" lang="en-US" sz="1600" spc="-1" strike="noStrike">
              <a:solidFill>
                <a:srgbClr val="000000"/>
              </a:solidFill>
              <a:latin typeface="Arial"/>
            </a:endParaRPr>
          </a:p>
          <a:p>
            <a:pPr lvl="3" marL="1600200" indent="-228600">
              <a:lnSpc>
                <a:spcPct val="85000"/>
              </a:lnSpc>
              <a:spcBef>
                <a:spcPts val="601"/>
              </a:spcBef>
              <a:buClr>
                <a:srgbClr val="0099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NOGRR020</a:t>
            </a:r>
            <a:r>
              <a:rPr b="0" lang="en-US" sz="1600" spc="-1" strike="noStrike">
                <a:solidFill>
                  <a:srgbClr val="000000"/>
                </a:solidFill>
                <a:latin typeface="Arial"/>
              </a:rPr>
              <a:t>, Synchronization of OGRR198- Firm Load Shed Implementation Time Periods</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GRR021, Synchronization of OGRR205- Modify Responsive Reserve Service Obligation </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DS Status Update</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ergy Management System (EMS)/MMS Market Operations Test Environment (MOTE) Conceptual System Design (CSD) </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PRR131, AS Trades with ERCOT</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PRR112, Emergency Base Point Price Revision</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ind Power Forecasting Issues: </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cuss wind-power issues that may require Protocol changes </a:t>
            </a:r>
            <a:endParaRPr b="0" lang="en-US" sz="1600" spc="-1" strike="noStrike">
              <a:solidFill>
                <a:srgbClr val="000000"/>
              </a:solidFill>
              <a:latin typeface="Arial"/>
            </a:endParaRPr>
          </a:p>
        </p:txBody>
      </p:sp>
      <p:sp>
        <p:nvSpPr>
          <p:cNvPr id="114"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2114E80-899F-4369-9D47-D98AD5E48DA6}"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7"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18" name="Text Box 6"/>
          <p:cNvSpPr/>
          <p:nvPr/>
        </p:nvSpPr>
        <p:spPr>
          <a:xfrm>
            <a:off x="380880" y="792000"/>
            <a:ext cx="8610840" cy="14324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xt Meetings:</a:t>
            </a:r>
            <a:endParaRPr b="0" lang="en-US" sz="1600" spc="-1" strike="noStrike">
              <a:solidFill>
                <a:srgbClr val="000000"/>
              </a:solidFill>
              <a:latin typeface="Arial"/>
            </a:endParaRPr>
          </a:p>
          <a:p>
            <a:pPr lvl="1" marL="457200" indent="648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nday June 9 and Tuesday June 10</a:t>
            </a:r>
            <a:endParaRPr b="0" lang="en-US" sz="1600" spc="-1" strike="noStrike">
              <a:solidFill>
                <a:srgbClr val="000000"/>
              </a:solidFill>
              <a:latin typeface="Arial"/>
            </a:endParaRPr>
          </a:p>
          <a:p>
            <a:pPr lvl="1" marL="457200" indent="648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nday June 23 through Wednesday June 25</a:t>
            </a:r>
            <a:endParaRPr b="0" lang="en-US" sz="1600" spc="-1" strike="noStrike">
              <a:solidFill>
                <a:srgbClr val="000000"/>
              </a:solidFill>
              <a:latin typeface="Arial"/>
            </a:endParaRPr>
          </a:p>
          <a:p>
            <a:pPr lvl="1" marL="457200" indent="648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nday July 7 and Tuesday July 8</a:t>
            </a:r>
            <a:endParaRPr b="0" lang="en-US" sz="1600" spc="-1" strike="noStrike">
              <a:solidFill>
                <a:srgbClr val="000000"/>
              </a:solidFill>
              <a:latin typeface="Arial"/>
            </a:endParaRPr>
          </a:p>
          <a:p>
            <a:pPr lvl="1" marL="457200" indent="648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nday July 21 through Wednesday July 23</a:t>
            </a:r>
            <a:endParaRPr b="0" lang="en-US" sz="1600" spc="-1" strike="noStrike">
              <a:solidFill>
                <a:srgbClr val="000000"/>
              </a:solidFill>
              <a:latin typeface="Arial"/>
            </a:endParaRPr>
          </a:p>
        </p:txBody>
      </p:sp>
      <p:sp>
        <p:nvSpPr>
          <p:cNvPr id="119"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0687CD5-6B9B-43A5-8652-127F1AAF19A1}"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2"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Questions</a:t>
            </a:r>
            <a:endParaRPr b="0" lang="en-US" sz="1800" spc="-1" strike="noStrike">
              <a:solidFill>
                <a:srgbClr val="000000"/>
              </a:solidFill>
              <a:latin typeface="Arial"/>
            </a:endParaRPr>
          </a:p>
        </p:txBody>
      </p:sp>
      <p:sp>
        <p:nvSpPr>
          <p:cNvPr id="123" name="Rectangle 3"/>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Rectangle 4"/>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ectangle 5"/>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Rectangle 6"/>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Rectangle 7"/>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Rectangle 8"/>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WordArt 9"/>
          <p:cNvSpPr txBox="1"/>
          <p:nvPr/>
        </p:nvSpPr>
        <p:spPr>
          <a:xfrm>
            <a:off x="3733920" y="2438280"/>
            <a:ext cx="1295280" cy="2514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latin typeface="Calisto MT"/>
              </a:rPr>
              <a:t>?</a:t>
            </a:r>
            <a:endParaRPr b="1" lang="en-US" sz="9600" spc="1" strike="noStrike">
              <a:ln w="9360">
                <a:solidFill>
                  <a:srgbClr val="000000"/>
                </a:solidFill>
                <a:miter/>
              </a:ln>
              <a:solidFill>
                <a:srgbClr val="000000"/>
              </a:solidFill>
              <a:latin typeface="Calisto MT"/>
              <a:ea typeface="Calisto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Footer Placeholder 3"/>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915E4A8B-5558-4C5A-BBC2-9B0A50ED48AA}"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7" name="PlaceHolder 1"/>
          <p:cNvSpPr>
            <a:spLocks noGrp="1"/>
          </p:cNvSpPr>
          <p:nvPr>
            <p:ph type="title"/>
          </p:nvPr>
        </p:nvSpPr>
        <p:spPr>
          <a:xfrm>
            <a:off x="139320" y="81000"/>
            <a:ext cx="793764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enda</a:t>
            </a:r>
            <a:endParaRPr b="0" lang="en-US" sz="1800" spc="-1" strike="noStrike">
              <a:solidFill>
                <a:srgbClr val="ffffff"/>
              </a:solidFill>
              <a:latin typeface="Arial Black"/>
            </a:endParaRPr>
          </a:p>
        </p:txBody>
      </p:sp>
      <p:graphicFrame>
        <p:nvGraphicFramePr>
          <p:cNvPr id="58" name=""/>
          <p:cNvGraphicFramePr/>
          <p:nvPr/>
        </p:nvGraphicFramePr>
        <p:xfrm>
          <a:off x="228600" y="762120"/>
          <a:ext cx="8763120" cy="942840"/>
        </p:xfrm>
        <a:graphic>
          <a:graphicData uri="http://schemas.openxmlformats.org/drawingml/2006/table">
            <a:tbl>
              <a:tblPr/>
              <a:tblGrid>
                <a:gridCol w="2133720"/>
                <a:gridCol w="5486400"/>
                <a:gridCol w="1143000"/>
              </a:tblGrid>
              <a:tr h="276480">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tem</a:t>
                      </a:r>
                      <a:endParaRPr b="0" lang="en-US" sz="1200" spc="-1" strike="noStrike">
                        <a:solidFill>
                          <a:srgbClr val="000000"/>
                        </a:solidFill>
                        <a:latin typeface="Arial"/>
                      </a:endParaRPr>
                    </a:p>
                  </a:txBody>
                  <a:tcPr anchor="ctr">
                    <a:lnL w="1368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cription</a:t>
                      </a:r>
                      <a:endParaRPr b="0" lang="en-US" sz="1200" spc="-1" strike="noStrike">
                        <a:solidFill>
                          <a:srgbClr val="000000"/>
                        </a:solidFill>
                        <a:latin typeface="Arial"/>
                      </a:endParaRPr>
                    </a:p>
                  </a:txBody>
                  <a:tcPr anchor="ctr">
                    <a:lnL w="576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pose</a:t>
                      </a:r>
                      <a:endParaRPr b="0" lang="en-US" sz="1200" spc="-1" strike="noStrike">
                        <a:solidFill>
                          <a:srgbClr val="000000"/>
                        </a:solidFill>
                        <a:latin typeface="Arial"/>
                      </a:endParaRPr>
                    </a:p>
                  </a:txBody>
                  <a:tcPr anchor="ctr">
                    <a:lnL w="5760">
                      <a:solidFill>
                        <a:srgbClr val="008889"/>
                      </a:solidFill>
                    </a:lnL>
                    <a:lnR w="13680">
                      <a:solidFill>
                        <a:srgbClr val="008889"/>
                      </a:solidFill>
                    </a:lnR>
                    <a:lnT w="13680">
                      <a:solidFill>
                        <a:srgbClr val="008889"/>
                      </a:solidFill>
                    </a:lnT>
                    <a:lnB w="5760">
                      <a:solidFill>
                        <a:srgbClr val="008889"/>
                      </a:solidFill>
                    </a:lnB>
                    <a:solidFill>
                      <a:srgbClr val="5469a2"/>
                    </a:solidFill>
                  </a:tcPr>
                </a:tc>
              </a:tr>
              <a:tr h="337320">
                <a:tc>
                  <a:txBody>
                    <a:bodyPr lIns="90000" rIns="90000" tIns="46800" bIns="46800" anchor="ctr">
                      <a:noAutofit/>
                    </a:bodyPr>
                    <a:p>
                      <a:pPr marL="117360" indent="-117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Meeting Summary</a:t>
                      </a:r>
                      <a:endParaRPr b="0" lang="en-US" sz="16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of recent TPTF activities</a:t>
                      </a:r>
                      <a:endParaRPr b="0" lang="en-US" sz="16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r review</a:t>
                      </a:r>
                      <a:endParaRPr b="0" lang="en-US" sz="16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337320">
                <a:tc>
                  <a:txBody>
                    <a:bodyPr lIns="90000" rIns="90000" tIns="46800" bIns="46800" anchor="ctr">
                      <a:noAutofit/>
                    </a:bodyPr>
                    <a:p>
                      <a:pPr marL="225360" indent="-22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Next Meetings</a:t>
                      </a:r>
                      <a:endParaRPr b="0" lang="en-US" sz="16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coming activities</a:t>
                      </a:r>
                      <a:endParaRPr b="0" lang="en-US" sz="16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r review</a:t>
                      </a:r>
                      <a:endParaRPr b="0" lang="en-US" sz="16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4CDE4DEF-65AB-44BE-BBA5-2DD7D89FD66B}"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0"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May 5</a:t>
            </a:r>
            <a:endParaRPr b="0" lang="en-US" sz="1800" spc="-1" strike="noStrike">
              <a:solidFill>
                <a:srgbClr val="000000"/>
              </a:solidFill>
              <a:latin typeface="Arial"/>
            </a:endParaRPr>
          </a:p>
        </p:txBody>
      </p:sp>
      <p:sp>
        <p:nvSpPr>
          <p:cNvPr id="61" name="Text Box 6"/>
          <p:cNvSpPr/>
          <p:nvPr/>
        </p:nvSpPr>
        <p:spPr>
          <a:xfrm>
            <a:off x="380880" y="770040"/>
            <a:ext cx="8077320" cy="5501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eetings: May 5 – 7 and May 22 – 23</a:t>
            </a:r>
            <a:endParaRPr b="0" lang="en-US" sz="1600" spc="-1" strike="noStrike">
              <a:solidFill>
                <a:srgbClr val="000000"/>
              </a:solidFill>
              <a:latin typeface="Arial"/>
            </a:endParaRPr>
          </a:p>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May 5,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dal Program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rket Participant Readiness: Outreach to resolve issue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ngle Entry Model: Delayed</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arly Delivery Systems (EDS) Texas Nodal Market (TNM) Go-Live Procedur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rket Participant Identity Management (MPIM) and Critical Cyber Assets (CCAs)</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dal Timeline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adiness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affing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cussion of Day-Ahead Market (DAM) Processes</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gistration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source Asset Registration Form (RARF) Issues</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9999"/>
                </a:solidFill>
                <a:uFillTx/>
                <a:latin typeface="Arial"/>
                <a:hlinkClick r:id="rId1"/>
              </a:rPr>
              <a:t>NPRR117</a:t>
            </a:r>
            <a:r>
              <a:rPr b="0" lang="en-US" sz="1600" spc="-1" strike="noStrike">
                <a:solidFill>
                  <a:srgbClr val="000000"/>
                </a:solidFill>
                <a:latin typeface="Arial"/>
              </a:rPr>
              <a:t>, Resource Registration Clarification:</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May 5, TPTF endorsed filing TPTF comments for NPRR117 with the Protocol Revision Subcommittee (PRS) as developed by TPTF May 5, 2008.  The motion carried by roll-call vote, with 83.3% in favor and two abstentions (City of Eastland and City of Allen). One opposing vote was recorded for Calpine. All Market Segments were represented for the vo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1537066-3EF1-4EF3-9FD0-4D54039C0252}"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3"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May 5, 6</a:t>
            </a:r>
            <a:endParaRPr b="0" lang="en-US" sz="1800" spc="-1" strike="noStrike">
              <a:solidFill>
                <a:srgbClr val="000000"/>
              </a:solidFill>
              <a:latin typeface="Arial"/>
            </a:endParaRPr>
          </a:p>
        </p:txBody>
      </p:sp>
      <p:sp>
        <p:nvSpPr>
          <p:cNvPr id="64" name="Text Box 6"/>
          <p:cNvSpPr/>
          <p:nvPr/>
        </p:nvSpPr>
        <p:spPr>
          <a:xfrm>
            <a:off x="380880" y="712800"/>
            <a:ext cx="8077320" cy="5196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y 5 (continued):</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9999"/>
                </a:solidFill>
                <a:uFillTx/>
                <a:latin typeface="Arial"/>
                <a:hlinkClick r:id="rId1"/>
              </a:rPr>
              <a:t>NPRR123</a:t>
            </a:r>
            <a:r>
              <a:rPr b="0" lang="en-US" sz="1600" spc="-1" strike="noStrike">
                <a:solidFill>
                  <a:srgbClr val="000000"/>
                </a:solidFill>
                <a:latin typeface="Arial"/>
              </a:rPr>
              <a:t>, Inadvertent Energy Account Revision:</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May 5, TPTF endorsed NPRR123 as submitted. The motion carried by roll-call vote, with 100% in favor and three abstentions (City of Eastland, City of Allen, and Coral Power). All Market Segments were represented for the vote.</a:t>
            </a:r>
            <a:endParaRPr b="0" lang="en-US" sz="1600" spc="-1" strike="noStrike">
              <a:solidFill>
                <a:srgbClr val="000000"/>
              </a:solidFill>
              <a:latin typeface="Arial"/>
            </a:endParaRPr>
          </a:p>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May 6,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echnical Advisory Committee (TAC) Assignment – Special processes or timelines required to accelerate approvals for items needed for nodal go-liv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rket Rules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9999"/>
                </a:solidFill>
                <a:uFillTx/>
                <a:latin typeface="Arial"/>
                <a:hlinkClick r:id="rId2"/>
              </a:rPr>
              <a:t>NPRR126</a:t>
            </a:r>
            <a:r>
              <a:rPr b="0" lang="en-US" sz="1600" spc="-1" strike="noStrike">
                <a:solidFill>
                  <a:srgbClr val="000000"/>
                </a:solidFill>
                <a:latin typeface="Arial"/>
              </a:rPr>
              <a:t>, Section 19, Synchronization of Zonal Protocols - Texas Standard Electronic Transaction</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9999"/>
                </a:solidFill>
                <a:uFillTx/>
                <a:latin typeface="Arial"/>
                <a:hlinkClick r:id="rId3"/>
              </a:rPr>
              <a:t>NPRR118</a:t>
            </a:r>
            <a:r>
              <a:rPr b="0" lang="en-US" sz="1600" spc="-1" strike="noStrike">
                <a:solidFill>
                  <a:srgbClr val="000000"/>
                </a:solidFill>
                <a:latin typeface="Arial"/>
              </a:rPr>
              <a:t>, Section 14, Synchronization of Zonal Protocols - State of Texas Renewable Energy Credit Trading Program:</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May 6, TPTF endorsed NPRR118 as submitted.  The motion carried by roll-call vote, with 100% in favor and four abstentions (CenterPoint, AEP, Coral Power, and Westar Energy). The Consumer Market Segment was not represented for the vo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9999"/>
                </a:solidFill>
                <a:uFillTx/>
                <a:latin typeface="Arial"/>
                <a:hlinkClick r:id="rId4"/>
              </a:rPr>
              <a:t>NPRR114</a:t>
            </a:r>
            <a:r>
              <a:rPr b="0" lang="en-US" sz="1600" spc="-1" strike="noStrike">
                <a:solidFill>
                  <a:srgbClr val="000000"/>
                </a:solidFill>
                <a:latin typeface="Arial"/>
              </a:rPr>
              <a:t>, Section 11, Synchronization of Zonal Protocols - Data Acquisition and Aggregation </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dal Operating Guide Revision Requests (NOGRRs) Synchroniz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07F2956A-3627-4493-8DE8-D48C031D1A00}"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6"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May 6 (continued)</a:t>
            </a:r>
            <a:endParaRPr b="0" lang="en-US" sz="1800" spc="-1" strike="noStrike">
              <a:solidFill>
                <a:srgbClr val="000000"/>
              </a:solidFill>
              <a:latin typeface="Arial"/>
            </a:endParaRPr>
          </a:p>
        </p:txBody>
      </p:sp>
      <p:sp>
        <p:nvSpPr>
          <p:cNvPr id="67" name="Text Box 6"/>
          <p:cNvSpPr/>
          <p:nvPr/>
        </p:nvSpPr>
        <p:spPr>
          <a:xfrm>
            <a:off x="380880" y="762120"/>
            <a:ext cx="8077320" cy="47833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y 6 (continued):</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9999"/>
                </a:solidFill>
                <a:uFillTx/>
                <a:latin typeface="Arial"/>
                <a:hlinkClick r:id="rId1"/>
              </a:rPr>
              <a:t>NPRR107</a:t>
            </a:r>
            <a:r>
              <a:rPr b="0" lang="en-US" sz="1600" spc="-1" strike="noStrike">
                <a:solidFill>
                  <a:srgbClr val="000000"/>
                </a:solidFill>
                <a:latin typeface="Arial"/>
              </a:rPr>
              <a:t>, Nodal Emergency Interruptible Load Service (EIL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cussion: To have 2 deployment block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May 6, TPTF endorse forwarding TPTF comments for NPRR107, Nodal EILS, to PRS for consideration as discussed by TPTF on May 6, 2008. The motion carried by roll-call vote, with 100% in favor and nine abstentions (LCRA, TXU, AEP, Calpine, City of Eastland, City of Allen, Coral Power, Exelon, and BP Energy). All Market Segments were represented for the vo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ind Power Forecasting Issues (Part On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9999"/>
                </a:solidFill>
                <a:uFillTx/>
                <a:latin typeface="Arial"/>
                <a:hlinkClick r:id="rId2"/>
              </a:rPr>
              <a:t>NPRR111</a:t>
            </a:r>
            <a:r>
              <a:rPr b="0" lang="en-US" sz="1600" spc="-1" strike="noStrike">
                <a:solidFill>
                  <a:srgbClr val="000000"/>
                </a:solidFill>
                <a:latin typeface="Arial"/>
              </a:rPr>
              <a:t>, Timelines for Response By ERCOT to Transmission Service Provider (TSP) Request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May 6, TPTF endorsed NPRR111 as submitted. The motion carried by roll-call vote, with 100% in favor and one abstention (Exelon). The Consumer Market Segment was not represented for the vo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R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e-line diagram format</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frastructure (INF) Project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rth American Electric Reliability Corporation (NERC) Compliance time-line iss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15A7AF52-EF38-4E76-8189-5A9948F218AE}"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9"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May 7</a:t>
            </a:r>
            <a:endParaRPr b="0" lang="en-US" sz="1800" spc="-1" strike="noStrike">
              <a:solidFill>
                <a:srgbClr val="000000"/>
              </a:solidFill>
              <a:latin typeface="Arial"/>
            </a:endParaRPr>
          </a:p>
        </p:txBody>
      </p:sp>
      <p:sp>
        <p:nvSpPr>
          <p:cNvPr id="70" name="Text Box 6"/>
          <p:cNvSpPr/>
          <p:nvPr/>
        </p:nvSpPr>
        <p:spPr>
          <a:xfrm>
            <a:off x="380880" y="770040"/>
            <a:ext cx="8077320" cy="5120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May 7,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mercial Systems (COMS)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sions for </a:t>
            </a:r>
            <a:r>
              <a:rPr b="0" lang="en-US" sz="1600" spc="-1" strike="noStrike" u="sng">
                <a:solidFill>
                  <a:srgbClr val="009999"/>
                </a:solidFill>
                <a:uFillTx/>
                <a:latin typeface="Arial"/>
                <a:hlinkClick r:id="rId1"/>
              </a:rPr>
              <a:t>NPRR120</a:t>
            </a:r>
            <a:r>
              <a:rPr b="0" lang="en-US" sz="1600" spc="-1" strike="noStrike">
                <a:solidFill>
                  <a:srgbClr val="000000"/>
                </a:solidFill>
                <a:latin typeface="Arial"/>
              </a:rPr>
              <a:t>, Corrections and Clarifications for Real-Time Settlements:</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May 7, TPTF endorsed NPRR120 as submitted.  The motion carried by roll-call vote, with 100% in favor and two abstentions (LCRA and Reliant). The Consumer Market Segment was not represented for the vo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sions for </a:t>
            </a:r>
            <a:r>
              <a:rPr b="0" lang="en-US" sz="1600" spc="-1" strike="noStrike" u="sng">
                <a:solidFill>
                  <a:srgbClr val="009999"/>
                </a:solidFill>
                <a:uFillTx/>
                <a:latin typeface="Arial"/>
                <a:hlinkClick r:id="rId2"/>
              </a:rPr>
              <a:t>NPRR122</a:t>
            </a:r>
            <a:r>
              <a:rPr b="0" lang="en-US" sz="1600" spc="-1" strike="noStrike">
                <a:solidFill>
                  <a:srgbClr val="000000"/>
                </a:solidFill>
                <a:latin typeface="Arial"/>
              </a:rPr>
              <a:t>, Simplify Ancillary Services (AS) Settlement Formulas:</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May 7, TPTF endorsed NPRR122 as submitted. The motion carried by unanimous roll-call vote. The Consumer Market Segment was not represented for the vo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raft NPRR for CRR Settlements Revenue Equalization:</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May 7, TPTF approved submitting the draft NPRR for CRR Settlements Revenue Equalization to PRS as discussed by TPTF on May 7, 2008. The motion carried by roll-call vote, with 100% in favor and two abstentions (Austin Energy and AEP). The Consumer Market Segment was not represented for the vote.</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raft NPRR was processed as </a:t>
            </a:r>
            <a:r>
              <a:rPr b="0" lang="en-US" sz="1600" spc="-1" strike="noStrike" u="sng">
                <a:solidFill>
                  <a:srgbClr val="009999"/>
                </a:solidFill>
                <a:uFillTx/>
                <a:latin typeface="Arial"/>
                <a:hlinkClick r:id="rId3"/>
              </a:rPr>
              <a:t>NPRR130</a:t>
            </a:r>
            <a:r>
              <a:rPr b="0" lang="en-US" sz="1600" spc="-1" strike="noStrike">
                <a:solidFill>
                  <a:srgbClr val="000000"/>
                </a:solidFill>
                <a:latin typeface="Arial"/>
              </a:rPr>
              <a:t>.</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1AD03BA-C0C2-4604-BFD0-3F1E9E25E297}"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2"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May 7 (continued)</a:t>
            </a:r>
            <a:endParaRPr b="0" lang="en-US" sz="1800" spc="-1" strike="noStrike">
              <a:solidFill>
                <a:srgbClr val="000000"/>
              </a:solidFill>
              <a:latin typeface="Arial"/>
            </a:endParaRPr>
          </a:p>
        </p:txBody>
      </p:sp>
      <p:sp>
        <p:nvSpPr>
          <p:cNvPr id="73" name="Text Box 6"/>
          <p:cNvSpPr/>
          <p:nvPr/>
        </p:nvSpPr>
        <p:spPr>
          <a:xfrm>
            <a:off x="380880" y="770040"/>
            <a:ext cx="8077320" cy="1998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y 7 (continued):</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DS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DS TNM Go-Live Procedure v0.04</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DS Emergency Operations Test Plan v0.01 </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ind Power Forecasting Issues (Part Two)</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9999"/>
                </a:solidFill>
                <a:uFillTx/>
                <a:latin typeface="Arial"/>
                <a:hlinkClick r:id="rId1"/>
              </a:rPr>
              <a:t>NPRR124</a:t>
            </a:r>
            <a:r>
              <a:rPr b="0" lang="en-US" sz="1600" spc="-1" strike="noStrike">
                <a:solidFill>
                  <a:srgbClr val="000000"/>
                </a:solidFill>
                <a:latin typeface="Arial"/>
              </a:rPr>
              <a:t>, Resource Node Updated Definition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uch discussion, no agreement, tabled for next session</a:t>
            </a:r>
            <a:endParaRPr b="0" lang="en-US" sz="1600" spc="-1" strike="noStrike">
              <a:solidFill>
                <a:srgbClr val="000000"/>
              </a:solidFill>
              <a:latin typeface="Arial"/>
            </a:endParaRPr>
          </a:p>
        </p:txBody>
      </p:sp>
      <p:sp>
        <p:nvSpPr>
          <p:cNvPr id="74"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125E1B8-7124-4A72-B919-92A0FDF6B0AF}"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6"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May 22</a:t>
            </a:r>
            <a:endParaRPr b="0" lang="en-US" sz="1800" spc="-1" strike="noStrike">
              <a:solidFill>
                <a:srgbClr val="000000"/>
              </a:solidFill>
              <a:latin typeface="Arial"/>
            </a:endParaRPr>
          </a:p>
        </p:txBody>
      </p:sp>
      <p:sp>
        <p:nvSpPr>
          <p:cNvPr id="77" name="Text Box 6"/>
          <p:cNvSpPr/>
          <p:nvPr/>
        </p:nvSpPr>
        <p:spPr>
          <a:xfrm>
            <a:off x="380880" y="770040"/>
            <a:ext cx="8077320" cy="48542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On May 22,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dal Program Update / Nodal Timeline Update / Board Announcement:</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mon Information Model (CIM) Importer</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ong discussion on Schedule impacts</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mmendation: don’t make new date until all facts are in </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Health Check</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adiness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ssues with Nodal Scorecard / Survey Questionnaire: </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metrics working as intended? </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F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pdate on Critical Infrastructure Protection (CIP) Training and CCAs:</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a Zonal issue first, request proper Zonal forum </a:t>
            </a:r>
            <a:endParaRPr b="0" lang="en-US" sz="1600" spc="-1" strike="noStrike">
              <a:solidFill>
                <a:srgbClr val="000000"/>
              </a:solidFill>
              <a:latin typeface="Arial"/>
            </a:endParaRPr>
          </a:p>
          <a:p>
            <a:pPr lvl="3" marL="1600200" indent="-228600">
              <a:lnSpc>
                <a:spcPct val="85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discussion. On today’s TAC agenda.</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9999"/>
                </a:solidFill>
                <a:uFillTx/>
                <a:latin typeface="Arial"/>
                <a:hlinkClick r:id="rId1"/>
              </a:rPr>
              <a:t>NPRR 124</a:t>
            </a:r>
            <a:r>
              <a:rPr b="0" lang="en-US" sz="1600" spc="-1" strike="noStrike">
                <a:solidFill>
                  <a:srgbClr val="000000"/>
                </a:solidFill>
                <a:latin typeface="Arial"/>
              </a:rPr>
              <a:t>, Resource Node Updated Definition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ogical Resource Node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85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CE0D9F4-DFB7-46A4-8A2E-5E2AF211C289}"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0"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May 23</a:t>
            </a:r>
            <a:endParaRPr b="0" lang="en-US" sz="1800" spc="-1" strike="noStrike">
              <a:solidFill>
                <a:srgbClr val="000000"/>
              </a:solidFill>
              <a:latin typeface="Arial"/>
            </a:endParaRPr>
          </a:p>
        </p:txBody>
      </p:sp>
      <p:sp>
        <p:nvSpPr>
          <p:cNvPr id="81" name="Text Box 6"/>
          <p:cNvSpPr/>
          <p:nvPr/>
        </p:nvSpPr>
        <p:spPr>
          <a:xfrm>
            <a:off x="380880" y="770040"/>
            <a:ext cx="8077320" cy="3053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May 23,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DS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 accuracy coming into ERCOT</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hould this be supported 24X7 by ERCOT and MPs now or at some future 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rket Management System (MMS)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optimization of Self–Committed Resources in DAM:</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rn: When the schema will be locked down (no more changes)</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intly Owned Units (JOU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pdate on CIP Training and CCAs</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7:49:24Z</dcterms:created>
  <dc:creator>Trip Doggett</dc:creator>
  <dc:description/>
  <dc:language>en-US</dc:language>
  <cp:lastModifiedBy>ERCOT Staff</cp:lastModifiedBy>
  <dcterms:modified xsi:type="dcterms:W3CDTF">2008-05-29T17:47:52Z</dcterms:modified>
  <cp:revision>1181</cp:revision>
  <dc:subject/>
  <dc:title>TAC Update</dc:title>
</cp:coreProperties>
</file>