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6E47-82E4-4FE4-931C-8BADC869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2A33-6435-44FD-AA84-1DDF86E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92D6-C545-492A-B74E-80352C80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8EC4-1649-46CE-A4F2-43477C07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E99B-560C-42B2-B74E-B0CED2FD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37BFE-9E62-4C20-B203-836CE245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F171C-8A66-4F82-B1F7-028E68C7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C32F9-F70E-42F5-90B3-9F3CF0DD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682E2-E2C9-438D-8B64-21CB8241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9411D-7855-4B99-A781-121BA692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8BC4-4DD2-4653-8430-931DBC3E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71086-9930-4E83-AECB-6D646FFC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78B9E-2299-4DB1-BFA9-69C05BA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3366B-001D-43FB-A353-F9B334F1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C7D7A-CD50-4E0B-960E-ACB29D8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789AB-532C-4694-A6BE-8D40E93F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6B314-5542-455E-9DA1-E247A91C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A6A74-5F47-4B7A-A20B-28BC4839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C574-D7E5-4FA2-AEA9-049E7829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FE40-8F60-4D00-A575-CF00998E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E00B-1AD6-4C92-B7F4-B9290570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7B55-B40E-4308-B29E-BA6D61B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C0F1-BAC9-411E-944C-789D364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B63C-AAD9-45A0-8818-4E3EB9D4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B575-462B-4D97-B90A-8C190C2CF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5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1A1A-7079-46C7-80E7-50440738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546-1F02-4876-B9FF-C312A29E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22716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5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5240" indent="-212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9"/>
          </p:nvPr>
        </p:nvSpPr>
        <p:spPr>
          <a:xfrm>
            <a:off x="1153800" y="6431040"/>
            <a:ext cx="7837560" cy="426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marL="216000" indent="0">
              <a:buNone/>
              <a:tabLst>
                <a:tab algn="l" pos="0"/>
                <a:tab algn="ctr" pos="3241800"/>
                <a:tab algn="r" pos="7545240"/>
                <a:tab algn="l" pos="7672320"/>
                <a:tab algn="l" pos="8524800"/>
                <a:tab algn="l" pos="9377280"/>
                <a:tab algn="l" pos="102297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ctr" pos="3241800"/>
                <a:tab algn="r" pos="75452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bruary, 2008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AE8A787-D418-4BD5-9066-3AC26BBE204B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dal Up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106848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Revision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tion and Plan Forwar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VA (CIM)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P Data Validation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F78F-419F-4639-A7DE-8A1FC5FC8A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gram Statu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15920" y="2287440"/>
            <a:ext cx="8686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dal Delivery status is: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259240" y="111240"/>
            <a:ext cx="343404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188200" y="1027080"/>
            <a:ext cx="355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5920" y="1114560"/>
            <a:ext cx="8655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RCOT Readiness statu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5920" y="1712880"/>
            <a:ext cx="33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P Readiness statu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6840" y="3048120"/>
            <a:ext cx="7429320" cy="2235240"/>
          </a:xfrm>
          <a:prstGeom prst="rect">
            <a:avLst/>
          </a:prstGeom>
          <a:solidFill>
            <a:srgbClr val="c0c0c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61240" y="3327480"/>
            <a:ext cx="1851120" cy="1047600"/>
          </a:xfrm>
          <a:prstGeom prst="rect">
            <a:avLst/>
          </a:prstGeom>
          <a:gradFill rotWithShape="0">
            <a:gsLst>
              <a:gs pos="0">
                <a:srgbClr val="f8fafb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26000" y="3340080"/>
            <a:ext cx="2016000" cy="1047600"/>
          </a:xfrm>
          <a:prstGeom prst="rect">
            <a:avLst/>
          </a:prstGeom>
          <a:gradFill rotWithShape="0">
            <a:gsLst>
              <a:gs pos="0">
                <a:srgbClr val="f8fafb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3800" y="3340080"/>
            <a:ext cx="2782800" cy="1060560"/>
          </a:xfrm>
          <a:prstGeom prst="rect">
            <a:avLst/>
          </a:prstGeom>
          <a:gradFill rotWithShape="0">
            <a:gsLst>
              <a:gs pos="0">
                <a:srgbClr val="f8fafb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3862440"/>
            <a:ext cx="1216080" cy="353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4800" y="3862440"/>
            <a:ext cx="977760" cy="353880"/>
          </a:xfrm>
          <a:prstGeom prst="rect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45200" y="3862440"/>
            <a:ext cx="1446480" cy="353880"/>
          </a:xfrm>
          <a:prstGeom prst="rect">
            <a:avLst/>
          </a:prstGeom>
          <a:solidFill>
            <a:srgbClr val="008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43600" y="3862440"/>
            <a:ext cx="1172880" cy="353880"/>
          </a:xfrm>
          <a:prstGeom prst="rect">
            <a:avLst/>
          </a:prstGeom>
          <a:solidFill>
            <a:srgbClr val="ff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85200" y="2975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d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81320" y="1131840"/>
            <a:ext cx="1366920" cy="354240"/>
          </a:xfrm>
          <a:prstGeom prst="rect">
            <a:avLst/>
          </a:prstGeom>
          <a:solidFill>
            <a:srgbClr val="008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81320" y="2351160"/>
            <a:ext cx="1366920" cy="353880"/>
          </a:xfrm>
          <a:prstGeom prst="rect">
            <a:avLst/>
          </a:prstGeom>
          <a:solidFill>
            <a:srgbClr val="ff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91040" y="1754280"/>
            <a:ext cx="1366920" cy="353880"/>
          </a:xfrm>
          <a:prstGeom prst="rect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00600" y="1171440"/>
            <a:ext cx="29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erformance trend is accep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00600" y="2362320"/>
            <a:ext cx="31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d due to schedul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3416400"/>
            <a:ext cx="135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Rating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4556160"/>
            <a:ext cx="135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ary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700600" y="1703520"/>
            <a:ext cx="33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-11 (Resource Asset Registration), while improving, drove overall status to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1535040" y="5321160"/>
            <a:ext cx="7431120" cy="70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S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2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or State Estimator impacting performance and accuracy; Network Operations Model performance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3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ry-over issues resulting from EDS 2 (SCED and LMPs) and L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4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ication of Outage Evaluation System Functionality (Areva) and System Fail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40760" y="4435560"/>
            <a:ext cx="14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 indent="-60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page beyond Dec. 1 will have cost impl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635360"/>
            <a:ext cx="911160" cy="354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57520" y="4633920"/>
            <a:ext cx="911160" cy="35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81680" y="4635360"/>
            <a:ext cx="911160" cy="354240"/>
          </a:xfrm>
          <a:prstGeom prst="rect">
            <a:avLst/>
          </a:prstGeom>
          <a:solidFill>
            <a:srgbClr val="ffcc6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5480" y="4635360"/>
            <a:ext cx="91116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16000" y="4449600"/>
            <a:ext cx="96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35200" y="444672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07160" y="4440240"/>
            <a:ext cx="98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89640" y="444960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53A8-73B2-4CFF-8BC7-7745ABB960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Participant Readin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59240" y="111240"/>
            <a:ext cx="3434040" cy="528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008840" y="1440"/>
            <a:ext cx="833400" cy="785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" y="70488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2560" y="941400"/>
            <a:ext cx="7704360" cy="31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-11:  Missing authorized RARFs [Resource Entiti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7880" y="942840"/>
            <a:ext cx="7719840" cy="248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0760" y="3646080"/>
            <a:ext cx="85802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to receiving all expected RARF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133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98% of MWs are reporting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F data review is under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133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primary data set for Nodal systems testing (SCED, LFC, RUC, D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133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30% of MWs complete to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7560" y="1297080"/>
            <a:ext cx="4110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RICORN RIDGE WIND LLC (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WIND FARM L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RICORN RIDGE WIND II LLC (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BIG SPRING L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S ENTERPRISES PRODUCTION 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73600" y="1293840"/>
            <a:ext cx="352908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GLE ENERGY PARTNERS I LP (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OSA PLASTICS CORPORATION AMERICA (R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ZE PETROLEUM LLC (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1479-B0A8-42DF-8089-DD557A3041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 Revision: Situ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6224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etitive slippage of the EMS Common Information Model (CIM) importer (combined with other software slippages and data population and validation concerns) necessitates a delay in the 168 hour test and a change to the Nodal “go live” da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ject needs CIM to work before we can move on as it is integral to the exchange of information among key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analyzing the integration and testing required with the slippage of the EMS CIM importer and how the delay affects other applications (e.g., NMMS, MMS, OS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have been and will continue to be reviewed with TPT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lan is to review the existing integrated schedule t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delay impacts to the Critical Pa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for increased testing and integration re. CIM effort and relate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budget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38160" y="78264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December 1 Nodal Go-Live date has been de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357A-EB53-4040-BB0D-0A0A23F00C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 Revision: Plan Forwar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290240"/>
            <a:ext cx="876312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a credible and achievable Go-Live date that optimizes cost and schedu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visit the existing integrated schedule and adjust, as necessary, dependencies, sequential tasks, and integration effo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previous integrated schedule focused on expedited delivery of software to the early delivery systems (EDS).  The new integrated schedule ma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just dates/timeframes of EDS market trial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ow for more time for integration and tes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ow more time for data vali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view the schedule and options with TPT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inue to stress integration and tes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dicate a team to drive development of the new schedu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 deadline for setting a new schedule date, but efforts are focused on completing the review as soon as possi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unknown is the final delivery date of the EMS CIM importer and implications on downstream applications,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76212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is aggressively pursuing the development of a revised Nodal project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B39E-4A52-4D42-A4B4-5AD9926C28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chedul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3914280"/>
            <a:ext cx="7772400" cy="23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49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MS CIM importer delivery experienced delays prior to May 2.  The current June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livery date for FAT completion, recently communicated to the BoD, will not be met by AREVA.  (See next slide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49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ly all software from all vendors is on-site and being tested. So far, we expect to meet all protocols (with current scope) in the revised schedu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49"/>
              </a:spcBef>
              <a:spcAft>
                <a:spcPts val="4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 and validation are key ongoing activiti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s to the revised schedu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xing scope control; we can ill afford to open up software to significant chang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14480" y="752400"/>
            <a:ext cx="72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 will be working with TPTF on options, plans, and 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762120" y="264780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110484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290844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471168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647712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381960" y="2419200"/>
            <a:ext cx="7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to s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14680" y="241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441800" y="21906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647640" y="2800440"/>
            <a:ext cx="1082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vious commitment of EMS CIM Delivery Date (May 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2476440" y="280044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atest EMS CIM Delivery commitment date (June 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 rot="16200000">
            <a:off x="7348680" y="1514160"/>
            <a:ext cx="75960" cy="1771560"/>
          </a:xfrm>
          <a:custGeom>
            <a:avLst/>
            <a:gdLst>
              <a:gd name="textAreaLeft" fmla="*/ 0 w 75960"/>
              <a:gd name="textAreaRight" fmla="*/ 27360 w 75960"/>
              <a:gd name="textAreaTop" fmla="*/ 46080 h 1771560"/>
              <a:gd name="textAreaBottom" fmla="*/ 1725480 h 177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855120" y="2066760"/>
            <a:ext cx="107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Period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3700440" y="18288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Integra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0"/>
          <p:cNvSpPr/>
          <p:nvPr/>
        </p:nvSpPr>
        <p:spPr>
          <a:xfrm>
            <a:off x="5734080" y="203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1"/>
          <p:cNvSpPr/>
          <p:nvPr/>
        </p:nvSpPr>
        <p:spPr>
          <a:xfrm>
            <a:off x="380880" y="1733400"/>
            <a:ext cx="8458200" cy="190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2"/>
          <p:cNvSpPr/>
          <p:nvPr/>
        </p:nvSpPr>
        <p:spPr>
          <a:xfrm>
            <a:off x="1714680" y="3029040"/>
            <a:ext cx="838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3197160" y="1252440"/>
            <a:ext cx="26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tical Schedule Events/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830592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769608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9"/>
          <p:cNvSpPr/>
          <p:nvPr/>
        </p:nvSpPr>
        <p:spPr>
          <a:xfrm rot="16200000">
            <a:off x="6064920" y="2049840"/>
            <a:ext cx="75960" cy="738000"/>
          </a:xfrm>
          <a:custGeom>
            <a:avLst/>
            <a:gdLst>
              <a:gd name="textAreaLeft" fmla="*/ 0 w 75960"/>
              <a:gd name="textAreaRight" fmla="*/ 27360 w 75960"/>
              <a:gd name="textAreaTop" fmla="*/ 19080 h 738000"/>
              <a:gd name="textAreaBottom" fmla="*/ 71892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0"/>
          <p:cNvSpPr/>
          <p:nvPr/>
        </p:nvSpPr>
        <p:spPr>
          <a:xfrm>
            <a:off x="5694120" y="200016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8-Ho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5"/>
          <p:cNvSpPr/>
          <p:nvPr/>
        </p:nvSpPr>
        <p:spPr>
          <a:xfrm>
            <a:off x="7348680" y="3003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Go Live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757600" y="2028960"/>
            <a:ext cx="2914560" cy="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991640" y="20667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ost Go Live Activ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996320" y="2381400"/>
            <a:ext cx="309600" cy="147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2"/>
          <p:cNvSpPr/>
          <p:nvPr/>
        </p:nvSpPr>
        <p:spPr>
          <a:xfrm>
            <a:off x="3467160" y="3029040"/>
            <a:ext cx="590400" cy="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7480" y="288936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F77A-4836-4D23-AC25-7CE5E145C9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EVA (CIM) Statu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81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IM Importer is late for Pre-FAT comple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in late defect identification and fi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in late FAT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in delayed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AREVA is making progress in EMS application develop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S 5 (final EMS deployment) due to FAT next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9000" y="798480"/>
            <a:ext cx="86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M Importer is delayed beyond its current June 13th scheduled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EE55-F235-41E7-86FC-46A2D6A6FB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SP  Data Validation Statu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8840" y="1569600"/>
            <a:ext cx="858024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Single Entry Model (SEM)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/model validation –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/model validation – T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y Iss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 data/model validation timeline; TSPs indicate a need for significantly more time than the schedule currently per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urrent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s are ongoing with the Network Data Support Working 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812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ollow up meeting of NDSWG is scheduled for Thursday, May 29.  TSPs will meet in Austin (or via WebEx) to help understand and resolve the timeline issue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6200" y="6431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6120" y="723960"/>
            <a:ext cx="844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and TSPs are still working to resolve  a key difference regarding the time required for 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2FB3-68F8-4AED-BB13-0079B6125A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ry Sullivan, Executive Director</dc:creator>
  <dc:description/>
  <dc:language>en-US</dc:language>
  <cp:lastModifiedBy>mbeck</cp:lastModifiedBy>
  <dcterms:modified xsi:type="dcterms:W3CDTF">2008-05-29T17:29:27Z</dcterms:modified>
  <cp:revision>1101</cp:revision>
  <dc:subject>Monthly Board update</dc:subject>
  <dc:title>Texas Nodal Market Implementation ERCOT Board of Directors Meeting Budget Rationale October 17, 2006  Jerry Sullivan, Market Redesign Program Director </dc:title>
</cp:coreProperties>
</file>