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7EDCB-81FC-44FD-AE35-B94AE25C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E682D-3442-48CD-99E2-DA7711DD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9891F-6BA0-4861-9265-BE798C96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03898-4072-408B-8AEB-F522E69C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4A0F2-1E0A-45B6-A927-CA81730F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4EF9B-4A4C-4A99-8603-CE10313F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8FAB2-D61A-42E1-9BCB-DECF5775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DF9A-E369-466E-9401-4A83DFFC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F35C4-51D5-4AA7-8F1C-F4E76214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FE9E-39AD-4995-825B-12AC91C1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ED407-4F8F-4C19-83D5-31277A6C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AC44-C9AC-4E18-9674-7E8E629A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C07A-E9B7-494B-931E-D2528056B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formation Technolog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pril 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2280" y="890640"/>
          <a:ext cx="849312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90640"/>
                    <a:ext cx="849312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pril 2008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8600" y="979560"/>
          <a:ext cx="8458200" cy="476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79560"/>
                    <a:ext cx="8458200" cy="47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880" y="896760"/>
          <a:ext cx="8101080" cy="489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96760"/>
                    <a:ext cx="8101080" cy="489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974880"/>
          <a:ext cx="8074080" cy="48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74880"/>
                    <a:ext cx="807408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05040" y="1066680"/>
          <a:ext cx="73339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066680"/>
                    <a:ext cx="73339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rsarasa</cp:lastModifiedBy>
  <dcterms:modified xsi:type="dcterms:W3CDTF">2008-06-02T14:17:14Z</dcterms:modified>
  <cp:revision>134</cp:revision>
  <dc:subject/>
  <dc:title>Instructions</dc:title>
</cp:coreProperties>
</file>