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6066-ED80-4C34-AF03-D6A105AA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C255-A604-4513-95D2-2E98FF3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E6EC-13FD-49A9-9188-99903F96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1174-DD5B-4E4B-99FF-C315DE4F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FA5B-B7A2-494D-8488-D010521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3979-6037-4B59-91AC-B5076D9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6C26-1BBF-4226-AB37-1B9CB66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1542-A883-447D-90CB-E0F5AA5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5357-A549-4861-8D32-76FED77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1AA8-02EB-4F79-B465-1CB04881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441B-C036-429D-811B-77DBC00F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567D-843C-4494-9789-5B21A85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8009-1310-43E2-8FB9-7FC0701B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7EED-EA21-44EF-99A4-F12F0F04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22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the market have input into the reallocation of fund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e CART manager seeks input from their market subcommittee when seeking to release or acquir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ing this input is required if the reallocation is &gt;=$500k but CART manager interaction with the market allows this input to occur at any level of re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put is relayed to the SRT for consideration in the decision mak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1458-5C73-4AD5-AD96-B994D238DE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s the market represented at the meetings where funding transfers are considered and approv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anager and Division Directors of a CART that have a working relationship with a market subcommittee represent that subcommittee at SR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often see funding transfers go the to the Corporate Operations (CO) and IT Operations (IO)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cent past, available funding has come from projects that have software development resourc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and IO tend to have more purchasing projects (storage upgrades, server replacements, facilities projects, etc.) than MO, RO, and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nd may change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5649-3525-4B99-B05B-2E87E6F8F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10 Project Fun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5CDC-3A14-46DA-A467-09A094EC9F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 originally drafted in Q4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eview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Ma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pproved as part of 2009 budget 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6E99-D19B-4065-8177-D20B1FC9DA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7,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6EFF-33B9-4E02-A492-9A6B9ED24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nused funds in one year be used in the next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“no”, although the Board of Directors can authorize funds to be held for use in a futur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note: Unused funding is not necessarily money in the bank that can be saved for use in a future year.  It is much more likely to be authorized debt funding that has not been procured because it wasn’t needed based on ERCOT’s cash flow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40/60 revenue to equity funding of projects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of the authorized project budget is funded by ERCOT’s System Administration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the project budget is funded by debt procured as needed based on our cash flow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ystem Admin Fee supplies the revenue needed to fund our $27M project budget in 2009 (Met Center project exclu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M budget * 40% = $10.8 revenue need / $3.2M ($M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.37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50DB-71C1-4C4C-8C9E-AC2E8A087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s to funds that are not used at the end of the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Question #1.  Unused funds at the end of the year typically result in less debt being procured by ERC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= Continuous Analysis and Requirement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are grouped by CART for several reasons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nhanced focus on projects needed by a particular business area within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ioritization of a group of projects that typically compete for the same resources (developers, test environment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359C-2578-4B21-92C1-BAB5D02D57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CART and why are funds allocated by CAR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is a group of individuals charged with the management and delivery of a group of projects (also known as a Program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s, resource managers,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Staff (Divisional Project Organ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POs are organizational units that were formed when ERCOT’s centralized PMO was segmented by busine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DFDE-EF91-4124-9063-1089475EF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ERCOT keep track of CART budgets and funding transfers between CAR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 funding allocations are set each year as part of the ERCOT budget approved by the Board of 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COT Program Management Office (PMO) tracks funding transfers between CARTs that arise over the course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portfolio funding is reviewed on a regular basis (semi-monthly) by the Strategic Review Team (SRT)   [ERCOT director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ll times, we know the current budget for each CART and the status of potential funding transfers between C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know when there are funds to be reallocat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s complete monthly status reports that forecast their projected spending for the year on an individual project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zeable variance between a CART’s budget and total projected spend indicates available funding for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3C85-E80D-4611-B793-5AE33F104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Top 10 Project Funding 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are CARTs asked to “give back” funds that are not expected to be us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back” funds has several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rojects in other CARTs to execute if they are budget-const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cceleration of projects from subsequent year to current year to alleviate subsequent year budget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inance Department to better forecast deb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allows ERCOT to deliver as many important projects as possible during a budge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note: An SRT funding decision is triggered whenever an individual project is releasing $100k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In February, the CO CART deferred 4 projects and wanted to keep the funds for unexpected carryovers.  The SRT elected to transfer the funds to the SO CART to address budget needs with active SO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4E35-A277-44A2-9DE8-9C5AA3DC3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hsatterfield</cp:lastModifiedBy>
  <dcterms:modified xsi:type="dcterms:W3CDTF">2008-05-29T12:59:14Z</dcterms:modified>
  <cp:revision>248</cp:revision>
  <dc:subject/>
  <dc:title>Instructions</dc:title>
</cp:coreProperties>
</file>