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EE5D-2AA8-4342-97C5-58E1C0EE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E0EA-35BD-4083-A68E-8041BAF6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EDE2-5238-4F4C-ADC8-332832DE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EA28-359C-46DB-AB1C-20D80AF7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4353-22AC-41FC-829F-E52D0F09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7418-2D2A-4359-AEC9-9CFD1857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EA63-1864-4C50-887A-F017859A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84D3-8794-4CC1-9BF0-DD672D09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2FAB-705E-4EB8-B6EF-3E5322AC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668E-FB82-4294-A4BC-7F9BC0D7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C018-A55A-434A-B855-2A0EAA6C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5BF9-1909-4E0D-BEE3-DEB30337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23AF-8485-419A-B11D-1C6FE50A3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755C-A773-4BDC-A1CE-1B3A59595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y 22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10 Project Fund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1B01-3D77-4AB4-89D7-D5ECC09FB5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revise 2009 Initiative Lists originally drafted in Q4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review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Ma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 approved as part of 2009 budget requ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32C2-EAC6-4B5C-8F58-B2C2845E26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Budgets and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600200"/>
          <a:ext cx="8077320" cy="343044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09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Met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7,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1B5A-4E98-4126-9B4A-399FCBF76F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Go-Live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0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ETL Tool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Center Facil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0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SAS70 Procedures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2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ber Security Project #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7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-3 Microwave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REC Program Mod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5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Ser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igital Certificat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8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.com Infrastructure Enhanc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llage Infrastructure Rede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Docum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1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ylor Control Room Display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145C-93B8-4D9C-A8C6-9C213DA2B8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nused funds in one year be used in the next ye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40/60 revenue to equity funding of projects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happens to funds that are not used at the end of the ye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CART and why are funds allocated by CAR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ERCOT keep track of CART budgets and funding transfers between CAR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we know when there are funds to be reallocat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are CARTs asked to “give back” funds that are not expected to be us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the market have input into the reallocation of fund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is the market represented at the meetings where funding transfers are considered and approv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we often see funding transfers go the to the Corporate Operations (CO) and IT Operations (IO) CAR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855D-C6E9-47A4-86FE-DDD1259761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Answers to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21932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s to be provided at PRS on 5/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54FD-427C-48E4-ADC7-4394D2D27B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8-05-21T13:11:44Z</dcterms:modified>
  <cp:revision>215</cp:revision>
  <dc:subject/>
  <dc:title>Instructions</dc:title>
</cp:coreProperties>
</file>