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AD878F-884E-4882-8996-690DEC8B4C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274320"/>
            <a:ext cx="83818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F2788-3951-44B6-9234-69553D387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274320"/>
            <a:ext cx="83818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65A6AD-F79D-4F8F-949B-A55C3B7DDA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83818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9C68E8-F03C-4F69-AC98-269C727C8B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274320"/>
            <a:ext cx="83818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5DAB3-D8B6-4411-ADE2-3E05BEFB0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274320"/>
            <a:ext cx="83818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CA8A7-9FA9-44D9-9B8A-3EECFA753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274320"/>
            <a:ext cx="83818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4A222-DEE7-493D-95AB-420954898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83818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9B9A5-DC8C-40BF-8F32-2391905F9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274320"/>
            <a:ext cx="8381880" cy="5086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2682A-A078-43A4-9C33-16300CB5C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83818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9A4B4-875C-41CE-B5F6-F3D83B602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274320"/>
            <a:ext cx="83818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B1024-EE74-4DD7-89C3-AF73A23C9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274320"/>
            <a:ext cx="83818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7B660-2C7D-47D3-804A-9D6C43277F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83818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667DA-6376-45B2-AAD5-8264CBABCB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0" y="0"/>
            <a:ext cx="9144000" cy="2286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gestion Management Work Group Update</a:t>
            </a:r>
            <a:endParaRPr b="0" lang="en-US" sz="44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ed to WMS 5-21-08</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abel Flores, ERCOT </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guerite Wagner, PSEG</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274320"/>
            <a:ext cx="83818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ril/May Work Summary</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ess Repo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 4/28, 5/9, 5/1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ed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for C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 of Maximum SP Ca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age Evaluation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274320"/>
            <a:ext cx="83818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for CCT</a:t>
            </a:r>
            <a:endParaRPr b="0" lang="en-US" sz="4400" spc="-1" strike="noStrike">
              <a:solidFill>
                <a:srgbClr val="000000"/>
              </a:solidFill>
              <a:latin typeface="Arial"/>
            </a:endParaRPr>
          </a:p>
        </p:txBody>
      </p:sp>
      <p:sp>
        <p:nvSpPr>
          <p:cNvPr id="47" name="PlaceHolder 2"/>
          <p:cNvSpPr>
            <a:spLocks noGrp="1"/>
          </p:cNvSpPr>
          <p:nvPr>
            <p:ph/>
          </p:nvPr>
        </p:nvSpPr>
        <p:spPr>
          <a:xfrm>
            <a:off x="304560" y="1219320"/>
            <a:ext cx="8381880" cy="4906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received CCT as part of 4/22 MMS “code drop” from ABB—are evaluating too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5/19, CMWG group agreed that CRR models should be used as basis for CC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al that CCT be done prior to CRR auctions so that CRR purchasers know which constraints will be deemed as competitiv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tative Timeline for January CRR auction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titive Constraints determined by 10/30/08 so that they can be emailed out to tA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ved at TAC Nov 6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T and Network model ERCOT will use in CRR allocation to be posted on 11/7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RR requests submitted on 11/12</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posts PCRR allocations and McFRIs on 11/20</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R auction submissions 12/8-10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R Auction Results posted on 12/15</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working on more definitive calend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74320"/>
            <a:ext cx="91440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Competitive Constraints </a:t>
            </a:r>
            <a:br>
              <a:rPr sz="4000"/>
            </a:br>
            <a:r>
              <a:rPr b="0" lang="en-US" sz="4000" spc="-1" strike="noStrike">
                <a:solidFill>
                  <a:srgbClr val="000000"/>
                </a:solidFill>
                <a:latin typeface="Arial"/>
              </a:rPr>
              <a:t>are used in SCED</a:t>
            </a:r>
            <a:endParaRPr b="0" lang="en-US" sz="4000" spc="-1" strike="noStrike">
              <a:solidFill>
                <a:srgbClr val="000000"/>
              </a:solidFill>
              <a:latin typeface="Arial"/>
            </a:endParaRPr>
          </a:p>
        </p:txBody>
      </p:sp>
      <p:sp>
        <p:nvSpPr>
          <p:cNvPr id="49" name="PlaceHolder 2"/>
          <p:cNvSpPr>
            <a:spLocks noGrp="1"/>
          </p:cNvSpPr>
          <p:nvPr>
            <p:ph/>
          </p:nvPr>
        </p:nvSpPr>
        <p:spPr>
          <a:xfrm>
            <a:off x="380520" y="1417680"/>
            <a:ext cx="8534520" cy="5364000"/>
          </a:xfrm>
          <a:prstGeom prst="rect">
            <a:avLst/>
          </a:prstGeom>
          <a:noFill/>
          <a:ln w="0">
            <a:noFill/>
          </a:ln>
        </p:spPr>
        <p:txBody>
          <a:bodyPr lIns="90000" rIns="90000" tIns="46800" bIns="46800" anchor="t">
            <a:normAutofit/>
          </a:bodyPr>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1: execute the SCED process to determine Reference LMPs.  In this step ERCOT executes SCED using the full Network Operations Model while </a:t>
            </a:r>
            <a:r>
              <a:rPr b="0" lang="en-US" sz="2000" spc="-1" strike="noStrike">
                <a:solidFill>
                  <a:srgbClr val="ff3300"/>
                </a:solidFill>
                <a:latin typeface="Arial"/>
              </a:rPr>
              <a:t>only observing limits of Competitive Constraints</a:t>
            </a:r>
            <a:r>
              <a:rPr b="0" lang="en-US" sz="2000" spc="-1" strike="noStrike">
                <a:solidFill>
                  <a:srgbClr val="000000"/>
                </a:solidFill>
                <a:latin typeface="Arial"/>
              </a:rPr>
              <a:t>.  Energy Offer Curves for all On-Line Generation Resources, whether submitted by QSEs or created by ERCOT under this section are used in the SCED to determine “Reference LMPs.”</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2: execute SCED to produce Base Points, Shadow Prices, and LMPs, subject to </a:t>
            </a:r>
            <a:r>
              <a:rPr b="0" lang="en-US" sz="2000" spc="-1" strike="noStrike">
                <a:solidFill>
                  <a:srgbClr val="ff3300"/>
                </a:solidFill>
                <a:latin typeface="Arial"/>
              </a:rPr>
              <a:t>Competitive and Non-Competitive Constraints</a:t>
            </a:r>
            <a:r>
              <a:rPr b="0" lang="en-US" sz="2000" spc="-1" strike="noStrike">
                <a:solidFill>
                  <a:srgbClr val="000000"/>
                </a:solidFill>
                <a:latin typeface="Arial"/>
              </a:rPr>
              <a:t> and other Resource constraints. The second step must:</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Energy Offer Curves for all On-Line Generation Resources, whether submitted by QSEs or created by ERCOT.  Each Energy Offer Curve must be capped at the greater of the Reference LMP (from Step 1) at the Resource Node or </a:t>
            </a:r>
            <a:r>
              <a:rPr b="0" lang="en-US" sz="1800" spc="-1" strike="noStrike">
                <a:solidFill>
                  <a:srgbClr val="ff3300"/>
                </a:solidFill>
                <a:latin typeface="Arial"/>
              </a:rPr>
              <a:t>the appropriate Mitigated Offer Cap</a:t>
            </a:r>
            <a:r>
              <a:rPr b="0" lang="en-US" sz="1800" spc="-1" strike="noStrike">
                <a:solidFill>
                  <a:srgbClr val="000000"/>
                </a:solidFill>
                <a:latin typeface="Arial"/>
              </a:rPr>
              <a:t> and bounded at the lesser of the Reference LMP (from Step 1) at the Resource Node or the </a:t>
            </a:r>
            <a:r>
              <a:rPr b="0" lang="en-US" sz="1800" spc="-1" strike="noStrike">
                <a:solidFill>
                  <a:srgbClr val="000000"/>
                </a:solidFill>
                <a:latin typeface="Arial"/>
              </a:rPr>
              <a:t>	</a:t>
            </a:r>
            <a:r>
              <a:rPr b="0" lang="en-US" sz="1800" spc="-1" strike="noStrike">
                <a:solidFill>
                  <a:srgbClr val="000000"/>
                </a:solidFill>
                <a:latin typeface="Arial"/>
              </a:rPr>
              <a:t>appropriate Mitigated Offer Floor; and</a:t>
            </a:r>
            <a:endParaRPr b="0" lang="en-US" sz="18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e all Competitive and Non-Competitive Constraints.</a:t>
            </a:r>
            <a:endParaRPr b="0" lang="en-US" sz="1800" spc="-1" strike="noStrike">
              <a:solidFill>
                <a:srgbClr val="000000"/>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83818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velopment of Maximum SP Cap</a:t>
            </a:r>
            <a:endParaRPr b="0" lang="en-US" sz="4000" spc="-1" strike="noStrike">
              <a:solidFill>
                <a:srgbClr val="000000"/>
              </a:solidFill>
              <a:latin typeface="Arial"/>
            </a:endParaRPr>
          </a:p>
        </p:txBody>
      </p:sp>
      <p:sp>
        <p:nvSpPr>
          <p:cNvPr id="51" name="PlaceHolder 2"/>
          <p:cNvSpPr>
            <a:spLocks noGrp="1"/>
          </p:cNvSpPr>
          <p:nvPr>
            <p:ph/>
          </p:nvPr>
        </p:nvSpPr>
        <p:spPr>
          <a:xfrm>
            <a:off x="457200" y="1294920"/>
            <a:ext cx="830592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strain SCED solution based on shift factor impact and amount market is willing to spend to solve the constrain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 Caps based on constraint type and Generic Offer Cap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COT evaluating tiered process where degree of violation determines the SP ca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274320"/>
            <a:ext cx="883944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line/Upcoming</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CCT:  clarifying language in Go-Live document to capture the fact that since there is no annual CRR auction at go live, TAC approved Competitive Constraints are not required for December 2008</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SP Cap:  Striving to have proposal to WMS in June so that can go to July PRS and August TAC and be used in 168 hour tes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83818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age Evaluation</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ation from ERCOT about outage evaluation processes in ISO-NE, &amp; PJ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COT has more outages than other ISOs and controls to lower kV leve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ed coordination role and limited communications between TOs, Resource Entiti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re a way to improve what we have—discussion tentatively to occur 6/13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83818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pcoming Meeting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10</a:t>
            </a:r>
            <a:r>
              <a:rPr b="0" lang="en-US" sz="3200" spc="-1" strike="noStrike">
                <a:solidFill>
                  <a:srgbClr val="000000"/>
                </a:solidFill>
                <a:latin typeface="Arial"/>
              </a:rPr>
              <a:t>	</a:t>
            </a:r>
            <a:r>
              <a:rPr b="0" lang="en-US" sz="3200" spc="-1" strike="noStrike">
                <a:solidFill>
                  <a:srgbClr val="000000"/>
                </a:solidFill>
                <a:latin typeface="Arial"/>
              </a:rPr>
              <a:t>Continue SP discussions</a:t>
            </a:r>
            <a:endParaRPr b="0" lang="en-US" sz="32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13</a:t>
            </a:r>
            <a:r>
              <a:rPr b="0" lang="en-US" sz="3200" spc="-1" strike="noStrike">
                <a:solidFill>
                  <a:srgbClr val="000000"/>
                </a:solidFill>
                <a:latin typeface="Arial"/>
              </a:rPr>
              <a:t>	</a:t>
            </a:r>
            <a:r>
              <a:rPr b="0" lang="en-US" sz="3200" spc="-1" strike="noStrike">
                <a:solidFill>
                  <a:srgbClr val="000000"/>
                </a:solidFill>
                <a:latin typeface="Arial"/>
              </a:rPr>
              <a:t>Outage Timing/Notification </a:t>
            </a:r>
            <a:r>
              <a:rPr b="0" lang="en-US" sz="2800" spc="-1" strike="noStrike">
                <a:solidFill>
                  <a:srgbClr val="000000"/>
                </a:solidFill>
                <a:latin typeface="Arial"/>
              </a:rPr>
              <a:t>(possible agenda change to SP discussions depending on 6/10 outcome)</a:t>
            </a:r>
            <a:endParaRPr b="0" lang="en-US" sz="28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19</a:t>
            </a:r>
            <a:r>
              <a:rPr b="0" lang="en-US" sz="3200" spc="-1" strike="noStrike">
                <a:solidFill>
                  <a:srgbClr val="000000"/>
                </a:solidFill>
                <a:latin typeface="Arial"/>
              </a:rPr>
              <a:t>	</a:t>
            </a:r>
            <a:r>
              <a:rPr b="0" lang="en-US" sz="3200" spc="-1" strike="noStrike">
                <a:solidFill>
                  <a:srgbClr val="000000"/>
                </a:solidFill>
                <a:latin typeface="Arial"/>
              </a:rPr>
              <a:t>Finalize SP discuss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8T14:19:45Z</dcterms:created>
  <dc:creator>Reliant-mw</dc:creator>
  <dc:description/>
  <dc:language>en-US</dc:language>
  <cp:lastModifiedBy>ercot/if</cp:lastModifiedBy>
  <dcterms:modified xsi:type="dcterms:W3CDTF">2008-05-19T21:02:31Z</dcterms:modified>
  <cp:revision>18</cp:revision>
  <dc:subject/>
  <dc:title>Congestion Management Work Group Update</dc:title>
</cp:coreProperties>
</file>