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2181-7CAF-46B0-8DFB-3B17FF78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ABEC-1236-4024-A0B1-011A01C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36E1-4739-4D66-A0B0-8BC7CE8A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333E-131A-4A2A-8F37-EBBA348E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F688-468C-420E-AD60-9A0D806A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A109-4C4C-45EA-895C-A1AC6544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D3A3-A515-4C04-B5E9-B1FC45A1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021D-C490-4B60-975D-AED6A51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CCC-97CE-4D29-95A1-C53AAD6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4652-BACB-41CF-9D30-E0016545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107D-8C5C-4B63-A892-7D8E89F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E554-0F15-4BD8-A762-745B457E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C7CB-91D2-4806-A4F6-D488CBF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B617-7501-405D-84EF-90A758B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DD3-57D5-4BFE-B7D2-DE8B4412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8611-B5F7-48C7-BC18-1BFE9C0B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532-DF1E-4F22-8A29-AF904E5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7DD5-BEA4-49FD-B1F7-0DCF6C6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83CC-0D3B-4396-9519-30FA7B3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3C66-4980-4E70-B959-2530A9A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2580-76BC-459C-8F48-74824F3A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F1EC-5FE7-4112-B204-29DEE69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6A94-7D60-445F-8A21-510C3B3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C7F6-7703-4601-8E56-65ACB59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8870-3DBA-4FC5-A872-22A9AB669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D4BD-6DEA-4C27-BD14-1B851CC2D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Task Force 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21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TF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1120" y="1985760"/>
            <a:ext cx="792936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dentified a process for pricing emis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viewed ERCOT’s proposal for including PPAs into the VC proc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afted NPRR language for including PPA in the Nodal Protoc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rocess for Including Emissions in the Verifiable Cost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CTF agreed to the following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RCOT should use Argus or Platts or other Index to determine the monthly price for SO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and NOx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RCOT does not want to refer to Platts or Argus in the VC Manual  since this may limit its ability to use either index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CTF prefers daily calculations of the SO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and NOx costs due to the volatility of prices.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RCOT cannot change its process and systems at this time, so an NPRR will need to be prepared to make this change effective in 2009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RCOT will send to each QSE on a monthly basis: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(a) the emissions cost that will be used for determining the Resources VC and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(b) the time period that the cost will be effectiv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CTF  recommends that ERCOT design its systems to allow up to 10 emission types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Currently have SO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, NOx, and Discrete Emission Reduction Credits (DERCs) (CO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and others in the future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Other Emissions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urther work on identifying how the cost of DERCs can be quantifi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VCTF is still working through the details on this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s emission cost will be addressed in separate revision to the VC Man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Purchase Power Agreements and Tolling Agreement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TF will provide a revised copy of the VC Manual and a draft NPRR to add PPAs and tolling agreements by the June WMS meet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r information purposes only, we have sent a draft of the NPRR to add PPAs to the protocols and a whitepaper that includes additional rules and examp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Other Issu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ceptional events – no work has been done on this issue ye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8-05-16T20:36:17Z</dcterms:modified>
  <cp:revision>229</cp:revision>
  <dc:subject/>
  <dc:title>Protocol Revision Subcommittee</dc:title>
</cp:coreProperties>
</file>