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704-BA9D-4635-A02C-E4BC0745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158-D4C5-4158-9161-166B59F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EA2-0667-4AA3-8615-D381A7CB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E60-7630-4F2C-B69F-970DF02B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091-417C-4BBB-BAF6-B3653494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85E6-C06A-43AD-AD8F-48AE5A8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DF61-22B2-4362-89DC-207697D3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C73F-3B28-429B-B108-50C2157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26CE-6AA3-4B33-A2E9-18DB4D1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65B-7EC4-4DE8-9AE5-48DA736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466-035A-42DD-B65D-E92244D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A31-6B29-49EA-8644-3E6D9968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5CB8-37FE-40BC-A1D9-A8B4B9FF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F8B-C18E-42E9-8CC5-DC419F2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E7CC-454B-4A4B-A01E-14A61EE3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740-02E3-4004-8843-5A20F583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D9B9-BA53-4061-8172-24C5184A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042-044C-4675-A857-CAC3AEB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FD1-2B81-491B-9546-75D5C97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42D-8928-4604-8EE6-59C72394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861-40C2-4561-9E8A-0DAA21E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391-780F-43EA-80CC-F5DC888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849-7151-4F2F-9F2A-09BAAB0C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D4A-E543-42E5-B96D-3CADE26B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D34-36FF-4A09-9009-02327F820C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B201-825E-45FE-858E-116B2BA007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RR Credit Task Force Updat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Market Subcommittee May 2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3932-B4A8-43AD-9AD0-464DECAB46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MS sent us 4 propos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RR Balancing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urrent methodolo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RR Balancing Account for X period then switch to current methodolog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CRR Auction Revenues and CRR Balancing Accou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 options assume ERCOT exercises all means available to collect from defaulted par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four options were crafted into an NPR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8D3-301E-486C-93E2-4DD04ADAC8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1 – CRR Balancing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514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32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1 Default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7432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2 and beyond DAM participants short 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7432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30 Days later DAM short pays refunded from CRR 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274320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60 Days later DAM short pays refunded from CRR BA a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90 Days later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A02-9006-43F6-B7EE-E068DA972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2 – Current method for 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14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32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1 Default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7432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2 and beyond DAM participants short 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74320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0 Days later DAM Short Pays are refunded from loads paying max of $2.5M/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3D2-613A-4695-867F-D7DD622FA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3 – Option 1 reverting to Op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514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7432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1 Default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7432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2 and beyond DAM participants short 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7432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30 Days later DAM short pays refunded from CRR 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743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60 Days later DAM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74320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0 Days later DAM Short Pays are refunded from loads paying max of $2.5M/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91F-6CCF-46BB-B88E-AD028F098B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 4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R Auction Revenues and CRR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14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4320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1 Default occ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2 and beyond DAM participants short p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30 Days later DAM short pays refunded from CRR Auction Revenues and Balancing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743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60 Days late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74320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0 Days later DAM Short Pays are refunded from loads paying max of $2.5M/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7242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is nee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67280" y="396252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4CD-74B3-48D4-AC55-08D910D994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R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PRR attempts to create these functional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ormulas left for Option preference and ERCOT settlements 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 expressed no pre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mo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S endorses the NPRR using Option __, and forwards this NPRR to TPTF for review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936-8012-4E37-8ACF-1A868F7C1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Credit Requir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.11.4.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termination of the Counter-Party Future Credit Expos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PE h, (j,k)$/MW per hour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uction Clearing Price Exposure for PTP Obligations with the source j and the sink k for hour h -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osure level calculated as follows: if the PTP Obligation Auction Clearing Price is greater than $15 per MW, then 150 divided by the PTP Obligation Auction Clearing Price; if the PTP Obligation Auction Clearing Price is between $0 and $15 per MW, the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0 per M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; and if the PTP Obligation Auction Clearing Price is negative, the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0 per M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plus the absolute value of the PTP Obligation Auction Price per MW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bulk of CRRs that will be purchased will price less than $15/MW and will receive the full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10/M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argin adder for each hour of purch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 the year this is a credit requirement of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87,600/MW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for rights that will largely have a fraction of this value and even those CRRs that have positive value to the holder (ERCOT owes credit to counterpar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 will effectively eliminate the CRR Obligations market for any rights of any ter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 alternative should be sou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0A9-CA75-4E95-8360-ADD21AB9E4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commend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ort term – Only one real 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ystems have variable for adder – easily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articipants would like to pursue a long term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similar to PJM that looks at CRR portfolios to determin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PRR written for Short term sol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s $10 adder to “$X” with X to be discussed by the appropriate Committees (TPTF, WMS, CWG, 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posed mo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 endorses the NPRR to revise the margin adder in the Auction Clearing Price Exposure calculation to a variable that is to be determined by _____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84F-4998-488A-8B33-121874D8C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1:29:52Z</dcterms:created>
  <dc:creator>Tonya Greer</dc:creator>
  <dc:description/>
  <dc:language>en-US</dc:language>
  <cp:lastModifiedBy>greerc</cp:lastModifiedBy>
  <dcterms:modified xsi:type="dcterms:W3CDTF">2008-05-14T18:20:27Z</dcterms:modified>
  <cp:revision>6</cp:revision>
  <dc:subject/>
  <dc:title>CRR Obligation Credit Posting Requirements</dc:title>
</cp:coreProperties>
</file>