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091-BF40-4F92-AFB7-A853E3EC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CD94-2879-4F8E-8BF9-48E0F0DB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01C-14AA-4AA1-8775-170A6957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A555-2FDD-42F0-AA0E-905CB2A8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7531-F40F-43D0-8B73-D68F3BC8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A07D-AD3B-4B4A-BC95-24760573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248F-845E-469C-9DB7-E3FD1BCB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A91B-66E0-4C9B-9B0F-92167FEB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A0C7-3978-43D4-9E30-57AA05D8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46CC-F9E2-4536-BE68-1F941906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8AC7-E9A1-412F-A68A-4491240A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6EE-A1F6-4C33-8B86-6D7A4B09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70AA-A221-4248-84D4-578B1A14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505F-1F4A-491C-9B8A-8A9CD82E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C9AE-6E98-45AF-855B-63A514F0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D6C6-0251-40C1-B7E0-D4024D66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A8F5-90C9-466D-9347-A68C9014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04D-712B-4874-AF6A-995C5A39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C29-AC45-4380-B95C-E8CAF80C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A15-B91D-4C55-A1FC-E8DE11CB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5591-6B8B-4D14-8C7B-C3FB3F89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1713-649F-4207-8032-DC128A2E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84B8-E030-4A61-9EEC-BC4D709B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7F94-9E0B-4E1A-B2CD-6C738B5C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2ECB-5D79-4C16-A936-A1670C734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C09D-8F39-4805-8049-377543B66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SE Managers Working Group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 May, 2008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eting No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ort to W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1 May, 20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ca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6765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SL as % of HSL Performance Measur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RCOT to bring back to QMW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WGR Ramp Rate Limitation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MS to ask for ROS response, QMWG on hol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Wind QSE Resource Plan Update Tim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MWG to work with ERCOT to develop Bullet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50/50 forecast vs. 80/20 forecast 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thdrawn, unless significant chan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/S Procurement During High Risk Period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ommendations provided to ERCO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wn Balancing Bids from WGR QSEs  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olidated with Item #1 – LSL % of HS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BES from Actual Output or Schedules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be discussed further at next QMW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MWG – Future Agenda It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577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BES from Actual Output or Sched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ussion with ERCOT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SL as % of HSL Performance Mea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Protocol Interpret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GR Ramp Rate Limita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ROS makes recommen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 QSE Resource Plan Update Ti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 of PRR, Market Bullet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 Meeting: 30 May, 2008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2 May, 2008 Meeting 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SL as % of HSL Performance Measur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GR Ramp Rate Limitation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 QSE Resource Plan Update Tim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0/50 forecast vs. 80/20 forecast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/S Procurement During High Risk Peri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wn Balancing Bids from WGR QSEs  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BES from Actual Output or Schedu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SL as % of HSL Performance Measur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Conce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ERCOT running low on DBES bids in the West Zone, Wind QSEs entering LSL=HSL.  ERCOT will resort to OOME in this scenario. QSEs citing exemption for Renewables in Metrics. (Protocol 4.10.4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Next Step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ERCOT will present protocol interpretation at the next meeting of the QMW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GR Ramp Rate Limitation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Conce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Ramp Rate limitations when released from curtailments could cause frequency control problem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Next Step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WMS ask ROS to provide a response which includes more defined problem with examples and detail of existing tools available to manage concern.  QMWG to review after ROS evaluat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ind QSE Resource Plan Update Tim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Concer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Not all Wind QSEs update the Resource Plan alike, some with unrealistic values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Next Step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ERCOT submitted PRR 763 requiring update of Resource Plans before RPRS studies using ERCOT provided forecasts.  QMWG to work with ERCOT on Market Bulletin clarifying Resource Plan submittal expecta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50/50 forecast vs. 80/20 forecast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Conce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Should the 50% or the 80% Wind forecast be used?  Using 80% could bias to an over commitmen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Next Step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Issue is at TPTF for Nodal, should not be considered for Zonal unless significant nodal schedule or forecasting statistics chang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/S Procurement During High Risk Perio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Concer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Should Ancillary Service procurement change to help manage high risk period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Next Step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ERCOT currently evaluating Ancillary Service Methodology for 2009.  QMWG asked ERCOT to do three thing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ring the methodology ear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if Non-Spin should be largest unit or largest ramp possibil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how to handle net load uncertainty; e.g. wind decrease with load increas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own Balancing Bids from WGR QS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Conce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Not all Wind QSEs are offering DB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Next Step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 Combined with LSL as a %HSL issue, see issue #1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BES from Actual Output or Schedules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Conce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Wind QSEs respond differently to DBES instructions.  Some respond from current output, some from Energy Schedul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Next Step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ERCOT to bring detailed example on how they expect QSEs to respon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5:02:42Z</dcterms:created>
  <dc:creator>Brandon Whittle</dc:creator>
  <dc:description/>
  <dc:language>en-US</dc:language>
  <cp:lastModifiedBy>Brandon Whittle</cp:lastModifiedBy>
  <dcterms:modified xsi:type="dcterms:W3CDTF">2008-05-19T01:11:53Z</dcterms:modified>
  <cp:revision>23</cp:revision>
  <dc:subject/>
  <dc:title>QSE Managers Working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