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5ED5-2E14-4A25-A6C2-9100C4A4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5AB3-E210-4022-92CF-3C4289A5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18F9-CEF7-4AE7-874B-6008FE66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5EC1-0F0F-4878-8AA4-B1628DAB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6C78-502B-4E46-BC78-81B95E17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ECD5-9405-4CA7-81FC-B74B275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37D5-2347-47B0-8EB8-B5233B0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C968-644C-4AEB-B244-C7D9C73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CDAA-AE28-4735-A9C3-2F23C15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63A0-5BF3-4859-974F-B13844C3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9722-AD57-46AA-BE1E-24CDB04E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DD9E-2E97-4FC5-BD27-56044CA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C06-2CAF-4C3F-8541-21569963A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029200" y="64771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S: TCR to CRR Transition (Part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91120" y="6475320"/>
            <a:ext cx="58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6E1-604A-48A6-9208-6FE40FAC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58188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CR to CRR Transition Plan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Refresher on Part 1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Part 2 – discussi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9200" y="3323880"/>
            <a:ext cx="657252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th Garz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M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y 21,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s made/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ros-cons matrix for item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705D-3CD6-4227-AFB5-92C077DF16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 information (refreshe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CR to CRR Transition Plan describes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lan(s) for transitioning from the TCR to CRR mark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: plan for 12/1/08 go-live, including refund method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2: contingency plans for post 12/1/08 go-l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 was approved by WMS, TPTF and TAC end of last year (2007). WMS recommended postponing discussion/approval of Part 2 till late Q1 2008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al of Part 1 fulfilled Market Readiness Criteria CRR2: Develop TCR to CRR Transition 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R 743 was drafted to document decisions made in Part 1 (it only includes language addressing 12/1/08 go-live). It was recommended that the PRR language be revisited to incorporate Part 2 discussion/decis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3550-3EFD-4F86-A8A3-93575E000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isions made or need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1066680"/>
          <a:ext cx="8127720" cy="5259600"/>
        </p:xfrm>
        <a:graphic>
          <a:graphicData uri="http://schemas.openxmlformats.org/drawingml/2006/table">
            <a:tbl>
              <a:tblPr/>
              <a:tblGrid>
                <a:gridCol w="304560"/>
                <a:gridCol w="4191120"/>
                <a:gridCol w="2057400"/>
                <a:gridCol w="1574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/ch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/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 we run the 2008 Annual TCR Auc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4 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o we refund TCRs from 2008 Annual TCR Auction for the month of December 2008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PCR/TCR purchase allo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4 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hould we run Dec 08 Monthly TCR Auction, and continue running monthly TCR Auctions until Nodal go-live is fully implemen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Yes/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How do we refund TCRs if mid-month go-live occurs, or a reversal to Zonal occur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fund monthly the fraction of monthly auction revenues equal to the ratio o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(# non-Nodal days) / (total # days in month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hould we run a 2009 Annual TCR Auc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ee next sl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eed appro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DFD0-8E1B-4F8A-AB3A-AAA502A46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em 5: pros and c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610480" cy="531180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 (Run the 2009 Annual TCR Au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Run monthly PCR/TCR auctions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go-l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 to today’s auction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 protocol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go-l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collateral requirements/ti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need to refund MP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 refund quantity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only if mid-month go-live occ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collateral requirements/tie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effort required to refund 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 refund qua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tion to today’s business*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protocol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Suggested modific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available capacity in monthly auctions; PCRs allocated monthly and tied to monthly auction clearing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7BA5-D9FF-4D6C-BA9C-2FB1A08C98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e information to W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18, 2008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decision by WMS; update PRR 743 langu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/ July 2008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 Plan/PRR to TPTF; seek appro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e 26,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August 7, 2008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 Plan/PRR to TAC; seek appro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295F-1A29-406A-91FA-2AC579CD5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4:47:29Z</dcterms:created>
  <dc:creator/>
  <dc:description/>
  <dc:language>en-US</dc:language>
  <cp:lastModifiedBy/>
  <dcterms:modified xsi:type="dcterms:W3CDTF">2008-05-19T05:08:09Z</dcterms:modified>
  <cp:revision>168</cp:revision>
  <dc:subject/>
  <dc:title>CRR Issues</dc:title>
</cp:coreProperties>
</file>