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1.png" ContentType="image/png"/>
  <Override PartName="/ppt/media/image26.wmf" ContentType="image/x-wmf"/>
  <Override PartName="/ppt/media/image14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10058400" cy="64008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804528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06560" y="3299040"/>
            <a:ext cx="804528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0656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2892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26720" y="99540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46880" y="99540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06560" y="329904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26720" y="329904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46880" y="329904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06560" y="995400"/>
            <a:ext cx="804528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804528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03280" y="71280"/>
            <a:ext cx="9220320" cy="29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0656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06560" y="995400"/>
            <a:ext cx="804528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2892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06560" y="3299040"/>
            <a:ext cx="804528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804528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06560" y="3299040"/>
            <a:ext cx="804528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0656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2892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726720" y="99540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46880" y="99540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06560" y="329904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726720" y="329904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46880" y="329904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006560" y="995400"/>
            <a:ext cx="804528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804528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804528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503280" y="71280"/>
            <a:ext cx="9220320" cy="29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00656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12892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006560" y="3299040"/>
            <a:ext cx="804528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804528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1006560" y="3299040"/>
            <a:ext cx="804528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00656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12892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726720" y="99540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446880" y="99540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1006560" y="329904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726720" y="329904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446880" y="329904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006560" y="995400"/>
            <a:ext cx="804528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804528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03280" y="71280"/>
            <a:ext cx="9220320" cy="29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00656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12892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006560" y="3299040"/>
            <a:ext cx="804528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804528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1006560" y="3299040"/>
            <a:ext cx="804528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00656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512892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726720" y="99540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446880" y="99540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1006560" y="329904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726720" y="329904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446880" y="329904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71280"/>
            <a:ext cx="9220320" cy="29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0656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2892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06560" y="3299040"/>
            <a:ext cx="804528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06560" y="995400"/>
            <a:ext cx="804528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99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5819760"/>
            <a:ext cx="100584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10058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873840" y="5760720"/>
            <a:ext cx="276552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A75DF-32EE-4C76-9483-1604901096E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772080" y="6045120"/>
            <a:ext cx="276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4CEC4-36BC-4DD9-B7C9-ACBF8A005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766800"/>
            <a:ext cx="10058400" cy="87120"/>
          </a:xfrm>
          <a:prstGeom prst="rect">
            <a:avLst/>
          </a:prstGeom>
          <a:gradFill rotWithShape="0">
            <a:gsLst>
              <a:gs pos="0">
                <a:srgbClr val="adadad"/>
              </a:gs>
              <a:gs pos="100000">
                <a:srgbClr val="0032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1400" bIns="414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5646600"/>
            <a:ext cx="10058400" cy="42840"/>
          </a:xfrm>
          <a:prstGeom prst="rect">
            <a:avLst/>
          </a:prstGeom>
          <a:gradFill rotWithShape="0">
            <a:gsLst>
              <a:gs pos="0">
                <a:srgbClr val="adadad"/>
              </a:gs>
              <a:gs pos="100000">
                <a:srgbClr val="0032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880" bIns="-288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334800" y="5726160"/>
            <a:ext cx="1928880" cy="67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066680"/>
            <a:ext cx="100584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06560" y="1777680"/>
            <a:ext cx="8045280" cy="11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2"/>
          </p:nvPr>
        </p:nvSpPr>
        <p:spPr>
          <a:xfrm>
            <a:off x="503280" y="5902200"/>
            <a:ext cx="2681280" cy="35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5AFC0-B337-4C6C-92D6-4C5C9989D21B}" type="datetime">
              <a:rPr b="1" lang="en-US" sz="18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7040160" y="5866920"/>
            <a:ext cx="2514600" cy="3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5618160"/>
            <a:ext cx="10058400" cy="42840"/>
          </a:xfrm>
          <a:prstGeom prst="rect">
            <a:avLst/>
          </a:prstGeom>
          <a:gradFill rotWithShape="0">
            <a:gsLst>
              <a:gs pos="0">
                <a:srgbClr val="adadad"/>
              </a:gs>
              <a:gs pos="100000">
                <a:srgbClr val="0032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880" bIns="-288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03280" y="133200"/>
            <a:ext cx="3352680" cy="1173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1494000"/>
            <a:ext cx="10058400" cy="85680"/>
          </a:xfrm>
          <a:prstGeom prst="rect">
            <a:avLst/>
          </a:prstGeom>
          <a:gradFill rotWithShape="0">
            <a:gsLst>
              <a:gs pos="0">
                <a:srgbClr val="adadad"/>
              </a:gs>
              <a:gs pos="100000">
                <a:srgbClr val="0032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9960" bIns="3996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1006560" y="995400"/>
            <a:ext cx="804528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99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819760"/>
            <a:ext cx="100584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10058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4"/>
          </p:nvPr>
        </p:nvSpPr>
        <p:spPr>
          <a:xfrm>
            <a:off x="7543440" y="5760720"/>
            <a:ext cx="209556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EE643-518B-4EE7-8A5D-EBA33369D2D2}" type="datetime">
              <a:rPr b="0" lang="en-US" sz="800" spc="-1" strike="noStrike">
                <a:solidFill>
                  <a:srgbClr val="000000"/>
                </a:solidFill>
                <a:latin typeface="Arial"/>
              </a:rPr>
              <a:t>07/30/26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772080" y="6045120"/>
            <a:ext cx="276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ABCAB703-0998-4136-B258-99EDCD988C3A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of 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6800"/>
            <a:ext cx="10058400" cy="87120"/>
          </a:xfrm>
          <a:prstGeom prst="rect">
            <a:avLst/>
          </a:prstGeom>
          <a:gradFill rotWithShape="0">
            <a:gsLst>
              <a:gs pos="0">
                <a:srgbClr val="adadad"/>
              </a:gs>
              <a:gs pos="100000">
                <a:srgbClr val="0032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1400" bIns="414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5646600"/>
            <a:ext cx="10058400" cy="42840"/>
          </a:xfrm>
          <a:prstGeom prst="rect">
            <a:avLst/>
          </a:prstGeom>
          <a:gradFill rotWithShape="0">
            <a:gsLst>
              <a:gs pos="0">
                <a:srgbClr val="adadad"/>
              </a:gs>
              <a:gs pos="100000">
                <a:srgbClr val="0032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880" bIns="-288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334800" y="5726160"/>
            <a:ext cx="1928880" cy="67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1066680"/>
            <a:ext cx="100584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06560" y="1777680"/>
            <a:ext cx="8045280" cy="11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dt" idx="5"/>
          </p:nvPr>
        </p:nvSpPr>
        <p:spPr>
          <a:xfrm>
            <a:off x="503280" y="5902200"/>
            <a:ext cx="2681280" cy="35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678CB-5861-4632-869C-59D40E8A6651}" type="datetime">
              <a:rPr b="1" lang="en-US" sz="18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5618160"/>
            <a:ext cx="10058400" cy="42840"/>
          </a:xfrm>
          <a:prstGeom prst="rect">
            <a:avLst/>
          </a:prstGeom>
          <a:gradFill rotWithShape="0">
            <a:gsLst>
              <a:gs pos="0">
                <a:srgbClr val="adadad"/>
              </a:gs>
              <a:gs pos="100000">
                <a:srgbClr val="0032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880" bIns="-288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503280" y="133200"/>
            <a:ext cx="3352680" cy="11732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0" y="1494000"/>
            <a:ext cx="10058400" cy="85680"/>
          </a:xfrm>
          <a:prstGeom prst="rect">
            <a:avLst/>
          </a:prstGeom>
          <a:gradFill rotWithShape="0">
            <a:gsLst>
              <a:gs pos="0">
                <a:srgbClr val="adadad"/>
              </a:gs>
              <a:gs pos="100000">
                <a:srgbClr val="0032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9960" bIns="3996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87840" y="5973840"/>
            <a:ext cx="2766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F5162BF4-B3E7-4435-AD81-FE13AB09A416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of 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543800" y="5761080"/>
            <a:ext cx="20955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B2F30-D584-4D87-B58B-0CEC5E14E0C7}" type="datetime">
              <a:rPr b="0" lang="en-US" sz="800" spc="-1" strike="noStrike">
                <a:solidFill>
                  <a:srgbClr val="000000"/>
                </a:solidFill>
                <a:latin typeface="Arial"/>
              </a:rPr>
              <a:t>07/30/26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body"/>
          </p:nvPr>
        </p:nvSpPr>
        <p:spPr>
          <a:xfrm>
            <a:off x="502920" y="1497600"/>
            <a:ext cx="905220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Click to edit the outline text format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cc9900"/>
              </a:buClr>
              <a:buFont typeface="Arial"/>
              <a:buChar char="♦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6699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rcot.com/mktrules/compliance/tre/enforcement/doc/NERC_CEP_Flowcharts.pdf" TargetMode="External"/><Relationship Id="rId3" Type="http://schemas.openxmlformats.org/officeDocument/2006/relationships/hyperlink" Target="http://www.ercot.com/mktrules/compliance/keydocs/Compliance_Processes_Flowcharts.pdf" TargetMode="External"/><Relationship Id="rId4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rcot.com/mktrules/compliance/tre/enforcement/doc/2008%20Audit%20Schedule%20Texas%20RE%20Web.pdf" TargetMode="External"/><Relationship Id="rId3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3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5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26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3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rcot.com/mktinfo/reports/sce_qse/index.html" TargetMode="External"/><Relationship Id="rId3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1066680"/>
            <a:ext cx="100584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03280" y="1849320"/>
            <a:ext cx="905184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Arial Black"/>
              </a:rPr>
              <a:t>Texas Regional Entity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34800" y="3484440"/>
            <a:ext cx="9053640" cy="18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296"/>
                </a:solidFill>
                <a:latin typeface="Arial Black"/>
              </a:rPr>
              <a:t>Larry Grim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296"/>
                </a:solidFill>
                <a:latin typeface="Arial Black"/>
              </a:rPr>
              <a:t>May 8,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1494000"/>
            <a:ext cx="10058400" cy="85680"/>
          </a:xfrm>
          <a:prstGeom prst="rect">
            <a:avLst/>
          </a:prstGeom>
          <a:gradFill rotWithShape="0">
            <a:gsLst>
              <a:gs pos="0">
                <a:srgbClr val="adadad"/>
              </a:gs>
              <a:gs pos="100000">
                <a:srgbClr val="0032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9960" bIns="3996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5689440"/>
            <a:ext cx="10058400" cy="43200"/>
          </a:xfrm>
          <a:prstGeom prst="rect">
            <a:avLst/>
          </a:prstGeom>
          <a:gradFill rotWithShape="0">
            <a:gsLst>
              <a:gs pos="0">
                <a:srgbClr val="adadad"/>
              </a:gs>
              <a:gs pos="100000">
                <a:srgbClr val="0032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520" bIns="-252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03280" y="133200"/>
            <a:ext cx="3352680" cy="1173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AC Meeting May 8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RCOT CPS1 by Interval</a:t>
            </a:r>
            <a:endParaRPr b="0" lang="en-US" sz="32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587520" y="995400"/>
            <a:ext cx="8967600" cy="441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AC Meeting May 8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QSE PRR 525 10-Minute Interval Scoring</a:t>
            </a:r>
            <a:endParaRPr b="0" lang="en-US" sz="28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954000" y="927000"/>
            <a:ext cx="8350200" cy="447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AC Meeting May 8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arch 2008 – SCPS2 Scores</a:t>
            </a:r>
            <a:endParaRPr b="0" lang="en-US" sz="32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03280" y="1138320"/>
            <a:ext cx="9051840" cy="42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AC Meeting May 8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March 2008 Resource Plan Performance Metrics</a:t>
            </a:r>
            <a:endParaRPr b="0" lang="en-US" sz="26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250920" y="923760"/>
            <a:ext cx="9556560" cy="4623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AC Meeting May 8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gistration Activities</a:t>
            </a:r>
            <a:endParaRPr b="0" lang="en-US" sz="32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804528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ity Registration issues continue to be addressed and are being resolv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-Serving Entity (LSE) registration issues being address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RC submitted a LSE compliance Filing on March 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posing a two-step process to address a potential reliability gap that would result by not registering retail power marketer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rt-term step – changes to NERC’s Registry Criteria to define “Non-Asset Owning LSEs” as a subset of L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nger-term step – determine changes necessary to terms and requirements in Reliability Standar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Font typeface="Arial"/>
              <a:buChar char="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SE and Compliance Workshop scheduled on April 15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identify and address iss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RC issued its Order on April 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ccepting the procedural aspects of NERC’s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t Registration Organization (JRO) of some entities remains like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AC Meeting May 8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NERC Functional Entity Types</a:t>
            </a:r>
            <a:endParaRPr b="0" lang="en-US" sz="32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006560" y="995400"/>
            <a:ext cx="39384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P – Distribution Provid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– Generator Own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P – Generator 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– Transmission Own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P – Transmission Plann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E – Purchasing-Selling Ent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SE – Load-Serving Ent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113440" y="995400"/>
            <a:ext cx="39384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C – Reliability Coordin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 – Balancing Author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 – Transmission 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 – Planning Author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SP – Transmission Service Provid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P – Resource Plann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AC Meeting May 8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mpliance Process Flowcharts</a:t>
            </a:r>
            <a:endParaRPr b="0" lang="en-US" sz="32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804528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RC Compliance Monitoring and Enforcement Program – Reliability Standar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Link to NERC Reliability Flowch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Compliance Process – ERCOT Protocols and Operating Guid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Link to Protocols &amp; Guides Flowch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AC Meeting May 8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2008 Audits by Registered Function</a:t>
            </a:r>
            <a:endParaRPr b="0" lang="en-US" sz="32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587520" y="995400"/>
            <a:ext cx="9136080" cy="4498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AC Meeting May 8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2008 Compliance Audits Scheduled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by Entity</a:t>
            </a:r>
            <a:endParaRPr b="0" lang="en-US" sz="20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669960" y="853920"/>
            <a:ext cx="8969400" cy="476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AC Meeting May 8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2008 Audit Schedule</a:t>
            </a:r>
            <a:endParaRPr b="0" lang="en-US" sz="32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804528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2008 Texas RE Audit Schedule is availabl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er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AC Meeting May 8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xas RE Monthly Summary</a:t>
            </a:r>
            <a:endParaRPr b="0" lang="en-US" sz="40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804528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March………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 &amp; Operating Guides vio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80000"/>
              </a:lnSpc>
              <a:spcBef>
                <a:spcPts val="300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new vio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RC Standards vio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80000"/>
              </a:lnSpc>
              <a:spcBef>
                <a:spcPts val="300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new alleged vio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able ev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80000"/>
              </a:lnSpc>
              <a:spcBef>
                <a:spcPts val="300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new events repo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80000"/>
              </a:lnSpc>
              <a:spcBef>
                <a:spcPts val="300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past events clo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la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80000"/>
              </a:lnSpc>
              <a:spcBef>
                <a:spcPts val="300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complaint initi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d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80000"/>
              </a:lnSpc>
              <a:spcBef>
                <a:spcPts val="300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entities aud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80000"/>
              </a:lnSpc>
              <a:spcBef>
                <a:spcPts val="300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entities issued audit re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tigation Plans in progress for NERC Stand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80000"/>
              </a:lnSpc>
              <a:spcBef>
                <a:spcPts val="300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resulting from self-reporting vio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80000"/>
              </a:lnSpc>
              <a:spcBef>
                <a:spcPts val="300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resulting from self-certification vio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tl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80000"/>
              </a:lnSpc>
              <a:spcBef>
                <a:spcPts val="300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ettlements in prog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AC Meeting May 8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mpliance Reviews of Events by Month</a:t>
            </a:r>
            <a:endParaRPr b="0" lang="en-US" sz="28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669960" y="1066680"/>
            <a:ext cx="9053640" cy="4353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AC Meeting May 8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Violations of ERCOT Protocols</a:t>
            </a:r>
            <a:endParaRPr b="0" lang="en-US" sz="3200" spc="-1" strike="noStrike">
              <a:solidFill>
                <a:srgbClr val="003296"/>
              </a:solidFill>
              <a:latin typeface="Arial Black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334800" y="1081080"/>
          <a:ext cx="9220320" cy="4352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4800" y="1081080"/>
                    <a:ext cx="9220320" cy="43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AC Meeting May 8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Violations of NERC Standards Reported by Month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9480" y="879480"/>
            <a:ext cx="8686800" cy="475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AC Meeting May 8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NERC Standards Self-Certification</a:t>
            </a:r>
            <a:endParaRPr b="0" lang="en-US" sz="32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804528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RC Registered Entities not audited in 2007 required to self-certify to the actively monitored Reliability Standards applicable to their Registration(s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79 Total Registered Function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5 violations identifi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 FAC-008 – lack documented process (3 G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FAC-009 – lack documented process (3 G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CIP-001 – lack documented process (1 G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IRO-004 – lack documented process (2 GOs; 1 G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PRC-005 – relay maintenance delinquent (1 TO; 2 G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AC Meeting May 8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NERC Standards Self-Certificati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Violation Status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69960" y="1066680"/>
            <a:ext cx="880092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AC Meeting May 8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NERC Standards Self-Certification Violation Details</a:t>
            </a:r>
            <a:endParaRPr b="0" lang="en-US" sz="22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2095560" y="995400"/>
            <a:ext cx="6054840" cy="19209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5029200" y="3057480"/>
            <a:ext cx="4861080" cy="24195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4"/>
          <a:stretch/>
        </p:blipFill>
        <p:spPr>
          <a:xfrm>
            <a:off x="168120" y="3057480"/>
            <a:ext cx="4776840" cy="2419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AC Meeting May 8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NERC Standards Self-Reported Violations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re-June 1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endParaRPr b="0" lang="en-US" sz="20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503280" y="995400"/>
            <a:ext cx="8967600" cy="4481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AC Meeting May 8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isk Factors for Self-Reported NERC Standards Violations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Pre-June 18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endParaRPr b="0" lang="en-US" sz="16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503280" y="1066680"/>
            <a:ext cx="896760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AC Meeting May 8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NERC Standards Self-Reported Violation Categorization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Pre-June 18</a:t>
            </a:r>
            <a:r>
              <a:rPr b="0" lang="en-US" sz="1600" spc="-1" strike="noStrike" baseline="30000">
                <a:solidFill>
                  <a:srgbClr val="333399"/>
                </a:solidFill>
                <a:latin typeface="Arial Black"/>
              </a:rPr>
              <a:t>th</a:t>
            </a:r>
            <a:endParaRPr b="0" lang="en-US" sz="16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587520" y="1066680"/>
            <a:ext cx="8883360" cy="43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AC Meeting May 8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06560" y="1777680"/>
            <a:ext cx="8045280" cy="11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Black"/>
              </a:rPr>
              <a:t>Texas Regional Entity</a:t>
            </a:r>
            <a:endParaRPr b="0" lang="en-US" sz="3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1006560" y="3342960"/>
            <a:ext cx="8045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February &amp; Year-to-Date February Financial Overview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rformance Highlights</a:t>
            </a:r>
            <a:endParaRPr b="0" lang="en-US" sz="40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452600" y="995400"/>
            <a:ext cx="71532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’s Control Performance Standard (NERC CPS1) score for March = 112.0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Disturbance Control Working Group continues to perform some high level analysis of control performance during periods with low s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scores for March indicate 34 non-wind-only QSEs passed and 1 failed the PRR 525 measur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11 active wind-only QSEs or sub-Q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AC Meeting May 8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February &amp; YTD February Actual Workforce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45" name=""/>
          <p:cNvSpPr/>
          <p:nvPr/>
        </p:nvSpPr>
        <p:spPr>
          <a:xfrm>
            <a:off x="168120" y="3057480"/>
            <a:ext cx="3268800" cy="18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168120" y="923760"/>
            <a:ext cx="9722160" cy="19828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168120" y="2813040"/>
            <a:ext cx="4861080" cy="278784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>
            <a:off x="5029200" y="2801880"/>
            <a:ext cx="4861080" cy="278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AC Meeting May 8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February &amp; YTD February Operating Expenses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662040" y="1000080"/>
          <a:ext cx="3786120" cy="2130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2040" y="1000080"/>
                    <a:ext cx="3786120" cy="21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5159520" y="3044880"/>
          <a:ext cx="4179600" cy="23623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59520" y="3044880"/>
                    <a:ext cx="41796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5389560" y="1073160"/>
          <a:ext cx="4048200" cy="146844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89560" y="1073160"/>
                    <a:ext cx="4048200" cy="14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AC Meeting May 8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February &amp; YTD February Operating Expenses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84240" y="901800"/>
          <a:ext cx="9806040" cy="4700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240" y="901800"/>
                    <a:ext cx="9806040" cy="47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AC Meeting May 8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ore Texas RE Activities</a:t>
            </a:r>
            <a:endParaRPr b="0" lang="en-US" sz="40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804528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e to fill vacant posi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 filled in February –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 filled in March –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cancies as of April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utory &amp; Non-Statutory Budget preparation underw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as RE Staff (Susan &amp; Larry) met with FERC Senior Staff on April 2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ing/Revising PUCT-approved ERCOT Compliance Process (for monitoring &amp; reporting ERCOT Protocols &amp; Operating Guides complianc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d and distributed the first edition of the Texas RE newsletter, 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Texas REvi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AC Meeting May 8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2009 Texas RE Budget Development Schedule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804528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ril 15 – Review Preliminary Draft of 2009 Budget at F&amp;A Committe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9 – Draft #1 of Business Plan &amp; Budget (BP&amp;B) due to NER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20 – F&amp;A Committee &amp; Board Discussion of Draft #1 of BP&amp;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19 – Special F&amp;A Committee Meeting to Review Proposed Texas RE BP&amp;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30 – Draft #2 of BP&amp;B due to NERC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e 17 – Texas RE Board Approval of Texas RE BP&amp;B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ly 9 – Final Texas RE Board-Approved BP&amp;B due to NER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AC Meeting May 8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5600" y="2061720"/>
            <a:ext cx="7029360" cy="115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Arial Black"/>
              </a:rPr>
              <a:t>Texas Regional Entity</a:t>
            </a:r>
            <a:endParaRPr b="0" lang="en-US" sz="40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257480" y="3484440"/>
            <a:ext cx="71532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296"/>
                </a:solidFill>
                <a:latin typeface="Arial Black"/>
              </a:rPr>
              <a:t>Report Details</a:t>
            </a:r>
            <a:endParaRPr b="0" lang="en-US" sz="3600" spc="-1" strike="noStrike">
              <a:solidFill>
                <a:srgbClr val="00329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RC CPS1 Performance</a:t>
            </a:r>
            <a:endParaRPr b="0" lang="en-US" sz="40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804528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COT’s CPS1 Performanc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ch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thly compar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Font typeface="Arial"/>
              <a:buChar char="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8:  112.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Font typeface="Arial"/>
              <a:buChar char="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7:  120.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 month rolling average compar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Font typeface="Arial"/>
              <a:buChar char="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il 2007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rch 2008:  124.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Font typeface="Arial"/>
              <a:buChar char="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il 2006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rch 2007:  139.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R 525 Performanc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s posted on the ERCOT Complianc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CE Performance S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AC Meeting May 8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ERCOT CPS1 Performance Comparison</a:t>
            </a:r>
            <a:endParaRPr b="0" lang="en-US" sz="30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838080" y="1185840"/>
            <a:ext cx="8382240" cy="429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AC Meeting May 8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RCOT’s CPS1 Monthly Performance</a:t>
            </a:r>
            <a:endParaRPr b="0" lang="en-US" sz="32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838080" y="1084320"/>
            <a:ext cx="8466120" cy="432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AC Meeting May 8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LGrimm</cp:lastModifiedBy>
  <dcterms:modified xsi:type="dcterms:W3CDTF">2008-04-21T12:12:10Z</dcterms:modified>
  <cp:revision>308</cp:revision>
  <dc:subject/>
  <dc:title>Instructions</dc:title>
</cp:coreProperties>
</file>