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4447-461A-409C-B40E-564FCB62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440A7-B78C-4076-BA2E-4AE535F6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A809-F260-4EE8-85DA-F01D1CAF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9CC1-F99E-4339-BCF5-9B44CE11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890F6-FF19-4584-AAA1-FB388E8C62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76418-DF13-4F53-9A0B-3CFC1A6BB7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B5CE3-8BEB-4C35-83FB-C40D0D80C3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37393-E959-466D-BC29-EBD8DB5F9B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DCEE5-AA8A-4120-A1E5-74C5DDAFFF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18FA7-2870-483E-A674-8CC1660124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DEF8D-1F9C-4535-B2EB-94FB7176E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CE65-2DEB-4242-99E2-4FC98C41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D25ED-7F2D-4233-BD94-C9CBCE6E80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FEE42-F84A-4CD5-905E-31F0F9C2B2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A3EED-EE96-4AAF-87AC-420F650694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F934C-A488-45F6-84CF-ED25B6D2A5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D9139-5282-4F93-8C85-DDA4677360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DB18-C059-4475-A228-61D773BB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65CF2-9ED7-448F-9E03-E26E3BF1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4E0D-8B51-42E7-A3B1-9DF7F6B8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3B0A-9FAA-498C-867C-A7BE8B41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7572-48CD-410D-917A-0C871CF2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2A219-D7FE-4C0A-83DB-ADD57FB2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78473-C276-45B3-9F2E-1678548F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7146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505320" y="6476760"/>
            <a:ext cx="213336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0A2C-D17C-42E1-9B9E-570F35C20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457200" y="6476760"/>
            <a:ext cx="2743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1980720" y="41148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50EA-B282-4AF6-8581-40075F78BDC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ongestion &amp; TCR Report</a:t>
            </a:r>
            <a:br>
              <a:rPr sz="5000"/>
            </a:b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2008 January - March</a:t>
            </a:r>
            <a:endParaRPr b="1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038120"/>
            <a:ext cx="655344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to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S &amp; S_N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Mar 2008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86104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9B255-5273-40DF-A05C-72ACBE63CD7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W_N &amp; N_W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2008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899172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2BD5E-0708-4CC1-8199-4E0EECC2A30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W_N &amp; N_W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Feb 2008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9172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C1393-34F2-4F0E-BC30-8E62B2300D0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W_N &amp; N_W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Mar 2008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9172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1E6E9-F468-4C2E-B94D-5D450CD8698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Shadow Prices for Unused CSC capacity: N_H </a:t>
            </a:r>
            <a:br>
              <a:rPr sz="2400"/>
            </a:br>
            <a:r>
              <a:rPr b="1" lang="en-US" sz="1700" spc="-1" strike="noStrike">
                <a:solidFill>
                  <a:srgbClr val="000066"/>
                </a:solidFill>
                <a:latin typeface="Arial Narrow"/>
              </a:rPr>
              <a:t>Jan – Mar 2008</a:t>
            </a:r>
            <a:endParaRPr b="1" lang="en-US" sz="17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555480" y="90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F09E-B6C9-43C6-AA61-51F9C5CF38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Shadow Prices for Unused CSC capacity: N_S </a:t>
            </a:r>
            <a:br>
              <a:rPr sz="2400"/>
            </a:br>
            <a:r>
              <a:rPr b="1" lang="en-US" sz="1700" spc="-1" strike="noStrike">
                <a:solidFill>
                  <a:srgbClr val="000066"/>
                </a:solidFill>
                <a:latin typeface="Arial Narrow"/>
              </a:rPr>
              <a:t>Jan – Mar 2008 </a:t>
            </a:r>
            <a:endParaRPr b="1" lang="en-US" sz="17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555480" y="90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9CB5-1E36-4FA6-9F5A-99F21CE17C7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Shadow Prices for Unused CSC capacity: S_N </a:t>
            </a:r>
            <a:br>
              <a:rPr sz="2400"/>
            </a:br>
            <a:r>
              <a:rPr b="1" lang="en-US" sz="1700" spc="-1" strike="noStrike">
                <a:solidFill>
                  <a:srgbClr val="000066"/>
                </a:solidFill>
                <a:latin typeface="Arial Narrow"/>
              </a:rPr>
              <a:t>Jan – Mar 2008</a:t>
            </a:r>
            <a:endParaRPr b="1" lang="en-US" sz="17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555480" y="90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7631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B1497-DEDE-47EE-8262-8ADB2CABF2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Shadow Prices for Unused CSC capacity: W_N </a:t>
            </a:r>
            <a:br>
              <a:rPr sz="2800"/>
            </a:br>
            <a:r>
              <a:rPr b="1" lang="en-US" sz="1700" spc="-1" strike="noStrike">
                <a:solidFill>
                  <a:srgbClr val="000066"/>
                </a:solidFill>
                <a:latin typeface="Arial Narrow"/>
              </a:rPr>
              <a:t>Jan – Mar 2008</a:t>
            </a:r>
            <a:endParaRPr b="1" lang="en-US" sz="17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555480" y="90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24E06-2314-4D05-A691-9D97886B78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Shadow Prices for Unused CSC capacity: N_W </a:t>
            </a:r>
            <a:br>
              <a:rPr sz="2400"/>
            </a:br>
            <a:r>
              <a:rPr b="1" lang="en-US" sz="1700" spc="-1" strike="noStrike">
                <a:solidFill>
                  <a:srgbClr val="000066"/>
                </a:solidFill>
                <a:latin typeface="Arial Narrow"/>
              </a:rPr>
              <a:t>Jan – Mar 2008</a:t>
            </a:r>
            <a:endParaRPr b="1" lang="en-US" sz="17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555480" y="90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76312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0376-DA2C-4368-80A6-A15EFBE9BE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Congestion Charges vs. TCR Payments</a:t>
            </a:r>
            <a:endParaRPr b="1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555480" y="90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F34B1-03A6-4CF1-BD3C-FE58B240818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Outline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nal congestion – costs and qua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 and binding interv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CSC flows vs 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gestion Charges vs TCR Pay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erage Shadow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EFF1-3E47-4939-8892-23F0317BF4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Average Shadow Prices: W_N &amp; N_W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555480" y="90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83944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180E2-3A6E-430C-94DC-8D711CDEBB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Average Shadow Prices: N_S &amp; S_N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555480" y="90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2F1F4-185E-41F5-B479-DFF18EF250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Arial Narrow"/>
              </a:rPr>
              <a:t>Congestion vs. TCRs - Jan</a:t>
            </a:r>
            <a:endParaRPr b="1" lang="en-US" sz="3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066680"/>
          <a:ext cx="8686800" cy="1292400"/>
        </p:xfrm>
        <a:graphic>
          <a:graphicData uri="http://schemas.openxmlformats.org/drawingml/2006/table">
            <a:tbl>
              <a:tblPr/>
              <a:tblGrid>
                <a:gridCol w="1600200"/>
                <a:gridCol w="1371600"/>
                <a:gridCol w="1143000"/>
                <a:gridCol w="1143000"/>
                <a:gridCol w="1219320"/>
                <a:gridCol w="1066680"/>
                <a:gridCol w="114300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 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Char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R Pay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. Shortf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533520" y="35053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276720"/>
            <a:ext cx="8458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bilit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generation exceeded amounts stated in Resource Pl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 intervals had stability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of Willow Creek to Parker Switch on 1/27 impacted the stability li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D8B1-86C5-4D67-B7BC-17E78A327B4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Arial Narrow"/>
              </a:rPr>
              <a:t>Congestion vs. TCRs - Feb</a:t>
            </a:r>
            <a:endParaRPr b="1" lang="en-US" sz="3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066680"/>
          <a:ext cx="8229600" cy="146376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5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 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Char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R Pay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. Shortf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152280" y="2819520"/>
            <a:ext cx="883944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Key outa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raham to Sweetwater Generating Plant 345kV and Graham to Long Creek Switching Station 345kV 02/11-23; submitted on 1/30/200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ced outage at Abilene Mulberry Creek to Long Creek on 2/1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Frequency Events: 20 tot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 events were high frequency with wind accountable for 3 of the ev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1986-FD50-4E5C-8669-E0E8503AB91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Arial Narrow"/>
              </a:rPr>
              <a:t>Congestion vs. TCRs - Mar</a:t>
            </a:r>
            <a:endParaRPr b="1" lang="en-US" sz="3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4920" y="990720"/>
          <a:ext cx="8381880" cy="1258920"/>
        </p:xfrm>
        <a:graphic>
          <a:graphicData uri="http://schemas.openxmlformats.org/drawingml/2006/table">
            <a:tbl>
              <a:tblPr/>
              <a:tblGrid>
                <a:gridCol w="1600200"/>
                <a:gridCol w="903240"/>
                <a:gridCol w="1176120"/>
                <a:gridCol w="1175040"/>
                <a:gridCol w="1176120"/>
                <a:gridCol w="1174680"/>
                <a:gridCol w="1176480"/>
              </a:tblGrid>
              <a:tr h="35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 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Char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R Pay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. Shortf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28600" y="2438280"/>
            <a:ext cx="861048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890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345kV outa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3890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raham to Sweetwater 3/02-09; submitted on 2/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3890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ng Creek to Abilene Mulberry Creek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2/26-3/01; submitted on 2/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3890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/02-04; submitted on 2/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3890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gan to Bitter Creek 3/15-18; submitted on 3/1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3890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gan to Sweetwater 3/19-29; submitted on 3/1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90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bilit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90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quency Ev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32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3890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 high frequency events with wind accountable for 10 events due to sharp increases in wind gen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90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7F5A3-16BB-497D-B8E0-333B401370B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Wind Generation 2007 vs. 2008</a:t>
            </a:r>
            <a:endParaRPr b="1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555480" y="90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03501-801C-4319-9492-F08EDE880B2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 Narrow"/>
              </a:rPr>
              <a:t>Monthly TCR Auction timeline</a:t>
            </a:r>
            <a:endParaRPr b="1" lang="en-US" sz="38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80320" cy="4660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638680" y="1219320"/>
            <a:ext cx="30481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 outages need to be submitted at le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5 days ah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ime to be included in ERCOT’s monthly TC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92ED1-74BF-4047-8106-85744FBF854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background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ing slides have additional detai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3779E-D3A9-4B9E-B364-2430C52A77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Arial Narrow"/>
              </a:rPr>
              <a:t>Average Shadow Price</a:t>
            </a:r>
            <a:endParaRPr b="1" lang="en-US" sz="3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1143000"/>
          <a:ext cx="8229600" cy="4567320"/>
        </p:xfrm>
        <a:graphic>
          <a:graphicData uri="http://schemas.openxmlformats.org/drawingml/2006/table">
            <a:tbl>
              <a:tblPr/>
              <a:tblGrid>
                <a:gridCol w="1904760"/>
                <a:gridCol w="1143000"/>
                <a:gridCol w="1295640"/>
                <a:gridCol w="1371600"/>
                <a:gridCol w="1447560"/>
                <a:gridCol w="1067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5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6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9.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91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s @ $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2.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9.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5.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71.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s @ $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78.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8.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5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37.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.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s @ $5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0983-F037-4BBC-83A7-9DFB274A4A9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Arial Narrow"/>
              </a:rPr>
              <a:t>TCR Revenues</a:t>
            </a:r>
            <a:endParaRPr b="1" lang="en-US" sz="3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280" y="1600200"/>
          <a:ext cx="8763120" cy="3360600"/>
        </p:xfrm>
        <a:graphic>
          <a:graphicData uri="http://schemas.openxmlformats.org/drawingml/2006/table">
            <a:tbl>
              <a:tblPr/>
              <a:tblGrid>
                <a:gridCol w="1252800"/>
                <a:gridCol w="1250640"/>
                <a:gridCol w="1252800"/>
                <a:gridCol w="1251000"/>
                <a:gridCol w="1252440"/>
                <a:gridCol w="1251000"/>
                <a:gridCol w="12524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.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7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3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762120" y="5791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illio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462A-BE9E-4715-A859-51B89BE52CA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CSC Congestion Charges collected from QSEs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14400" y="5181480"/>
          <a:ext cx="7105680" cy="1212840"/>
        </p:xfrm>
        <a:graphic>
          <a:graphicData uri="http://schemas.openxmlformats.org/drawingml/2006/table">
            <a:tbl>
              <a:tblPr/>
              <a:tblGrid>
                <a:gridCol w="1162080"/>
                <a:gridCol w="762120"/>
                <a:gridCol w="838080"/>
                <a:gridCol w="838080"/>
                <a:gridCol w="685800"/>
                <a:gridCol w="762120"/>
                <a:gridCol w="685800"/>
                <a:gridCol w="1371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304920" y="4876920"/>
            <a:ext cx="3504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 quality data available through March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76312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EEAE8-AB72-4524-BF53-AB865B0F80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Arial Narrow"/>
              </a:rPr>
              <a:t>TCRs Sold</a:t>
            </a:r>
            <a:endParaRPr b="1" lang="en-US" sz="3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600200"/>
          <a:ext cx="8043480" cy="2881440"/>
        </p:xfrm>
        <a:graphic>
          <a:graphicData uri="http://schemas.openxmlformats.org/drawingml/2006/table">
            <a:tbl>
              <a:tblPr/>
              <a:tblGrid>
                <a:gridCol w="1341360"/>
                <a:gridCol w="1339560"/>
                <a:gridCol w="1341720"/>
                <a:gridCol w="1339560"/>
                <a:gridCol w="1342080"/>
                <a:gridCol w="13392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.7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.3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0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.7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.5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.0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3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1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9.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.2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.4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2.6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7.5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.5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6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9.4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.7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7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762120" y="5791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F753-0CFE-4C4F-842B-AA139917FEB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Number of Intervals Constraints were Binding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6520" y="5105520"/>
          <a:ext cx="5867280" cy="1212840"/>
        </p:xfrm>
        <a:graphic>
          <a:graphicData uri="http://schemas.openxmlformats.org/drawingml/2006/table">
            <a:tbl>
              <a:tblPr/>
              <a:tblGrid>
                <a:gridCol w="1044360"/>
                <a:gridCol w="781200"/>
                <a:gridCol w="825480"/>
                <a:gridCol w="825480"/>
                <a:gridCol w="988920"/>
                <a:gridCol w="743040"/>
                <a:gridCol w="65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8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7 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06299-C2BF-4A55-8B44-0164CD5896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Interval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5800" y="1143000"/>
          <a:ext cx="7543800" cy="5076720"/>
        </p:xfrm>
        <a:graphic>
          <a:graphicData uri="http://schemas.openxmlformats.org/drawingml/2006/table">
            <a:tbl>
              <a:tblPr/>
              <a:tblGrid>
                <a:gridCol w="1066680"/>
                <a:gridCol w="609840"/>
                <a:gridCol w="685800"/>
                <a:gridCol w="609480"/>
                <a:gridCol w="685800"/>
                <a:gridCol w="581040"/>
                <a:gridCol w="714240"/>
                <a:gridCol w="581040"/>
                <a:gridCol w="714600"/>
                <a:gridCol w="609480"/>
                <a:gridCol w="68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7 qt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72CB-17F0-4369-B012-AAE93B96FB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Day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990720"/>
          <a:ext cx="7543800" cy="4952880"/>
        </p:xfrm>
        <a:graphic>
          <a:graphicData uri="http://schemas.openxmlformats.org/drawingml/2006/table">
            <a:tbl>
              <a:tblPr/>
              <a:tblGrid>
                <a:gridCol w="1066680"/>
                <a:gridCol w="609840"/>
                <a:gridCol w="685800"/>
                <a:gridCol w="609480"/>
                <a:gridCol w="685800"/>
                <a:gridCol w="609480"/>
                <a:gridCol w="685800"/>
                <a:gridCol w="609840"/>
                <a:gridCol w="685800"/>
                <a:gridCol w="609480"/>
                <a:gridCol w="68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7 qtr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1E9FC-15B4-4FB5-BB3E-A246FE7526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H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Mar 2008 (binding intervals)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498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93E2-7D43-4B2C-B1F7-679B6D51A9C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S &amp; S_N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2008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915400" cy="498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1B83-42C2-40EF-8777-771D8394B2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S &amp; S_N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Feb 2008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stributed to 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D49F-7C08-451F-A8BC-8CC9F2BE070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Beth Garza</dc:creator>
  <dc:description/>
  <dc:language>en-US</dc:language>
  <cp:lastModifiedBy>Beth Garza</cp:lastModifiedBy>
  <dcterms:modified xsi:type="dcterms:W3CDTF">2008-05-01T17:41:43Z</dcterms:modified>
  <cp:revision>1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