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ACE9-9280-44F6-9DB4-BF0C9C4D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C3EE-6019-402B-9CC4-6CF9D473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1FA6-1DB4-4478-A04B-B854F522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B90E-8303-4F28-ACF4-8F7A0CF9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4465-1D60-4292-B527-C7C0D30C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D9A4-8BB4-4320-A335-466A7DC0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7974-8DCE-4885-BCBE-F200E2E6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5AA0-39F0-4CC0-9960-DEB83C77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18EC-E081-4FCF-81A5-98BEA288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2D6D-11CF-485F-9BDE-CEC274B8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0972-84CA-47B8-AFD5-D554F8C7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C643B-7C24-47E1-8129-6E0CE76C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2368-5F50-4F4C-B71E-4FE7BF0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973C-5FD1-4EDE-8D80-9E01D5A4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C612-7289-40AA-AA0E-F3643115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4C55-F147-4B15-A871-FE499253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42FB-E041-4C36-9645-811E3F81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3222-943D-4F5F-84E2-9F0979AD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F5148-3AC4-41C7-9E52-5E75DE14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710E9-B6DF-46D3-962E-A99F4310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7213-6BE8-4AB5-9C4A-2A1D3862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5E920-964F-4E5D-877A-A2860E5E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8581-DBA4-425D-98C3-E130DD7E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C9BA-EFC8-4163-A206-7803C66A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880A-0C20-4971-A4C8-FE5CF18A40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32D7-B8FC-4182-B2CD-55FF8C62E9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8128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Protocol Revision Subcommitte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y 8,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NPRR 112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 – Emergency Base Point Price Devi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09480" y="1828800"/>
          <a:ext cx="8001000" cy="4457880"/>
        </p:xfrm>
        <a:graphic>
          <a:graphicData uri="http://schemas.openxmlformats.org/drawingml/2006/table">
            <a:tbl>
              <a:tblPr/>
              <a:tblGrid>
                <a:gridCol w="2667240"/>
                <a:gridCol w="677880"/>
                <a:gridCol w="46558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rifies the calculation of emergency base point price per QSE per Resource per Interval.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vides consistency in the Energy Offer Curve extension methodology between MMS and Settlements; reduces the charge for emergency power increas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3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R/NPRR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vision Requests Recommended for Appro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RR 720 – Texas Regional Entity Fee Methodology Rev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RR 753 – PRR Appeals Pro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RR 756 – Distributed Renewable Generation Modification -- URG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PRR 108 – Fuel Oil Price (FOP) Clarifi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PRR 112 – Emergency Base Point Price Devi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R Withdraw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S accepted NPRR withdrawal requests for the following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PRR 104 – Corrections &amp; Clarifications for Real Time Settlements and Ancillary Service Net Oblig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PRR 116 – Addition of Commercially Traded Points to Settlement Point L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PRR 125 – Creation of a New Trading Hub at Venus Switching St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Unfunded Project List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S reports there are no unfunded projects at this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otocol Section 21.9 requires quarterly reporting to the ERCOT Board regarding projects on the “Unfunded Project List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nfunded Projects will be listed on a separate PPL ta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S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1120" y="1985760"/>
            <a:ext cx="792936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 PRRs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 NPRRs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 Withdrawal No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funded Projects List Upd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20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Texas Regional Entity Fee Methodology Revis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752480"/>
          <a:ext cx="8076960" cy="3548160"/>
        </p:xfrm>
        <a:graphic>
          <a:graphicData uri="http://schemas.openxmlformats.org/drawingml/2006/table">
            <a:tbl>
              <a:tblPr/>
              <a:tblGrid>
                <a:gridCol w="3047760"/>
                <a:gridCol w="639720"/>
                <a:gridCol w="438948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anges how ERCOT issues invoices to collect the Texas Regional Entity (TRE) Fe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vides for off-line collection of the TRE F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nuary 1, 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20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Texas Regional Entity Fee Methodology Revis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3124080"/>
            <a:ext cx="38088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75680" y="3043080"/>
            <a:ext cx="28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1 additional FTE requ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53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PRR Appeals Proces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1752480"/>
          <a:ext cx="8076960" cy="3970440"/>
        </p:xfrm>
        <a:graphic>
          <a:graphicData uri="http://schemas.openxmlformats.org/drawingml/2006/table">
            <a:tbl>
              <a:tblPr/>
              <a:tblGrid>
                <a:gridCol w="3047760"/>
                <a:gridCol w="639720"/>
                <a:gridCol w="43894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vides a more structured process for parties to appeal PRS/TAC decisions by including timelines for appealing decisions (accommodates “Urgent” timelin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 structured and transparent appeals process creates predictability for all parties and ensures due pro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uly 1,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53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PRR Appeals Proces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56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Distributed Renewable Generation Modification -- </a:t>
            </a:r>
            <a:r>
              <a:rPr b="1" i="1" lang="en-US" sz="3600" spc="-1" strike="noStrike">
                <a:solidFill>
                  <a:srgbClr val="ff3300"/>
                </a:solidFill>
                <a:latin typeface="Garamond"/>
              </a:rPr>
              <a:t>URG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3520" y="1752480"/>
          <a:ext cx="8076960" cy="4380120"/>
        </p:xfrm>
        <a:graphic>
          <a:graphicData uri="http://schemas.openxmlformats.org/drawingml/2006/table">
            <a:tbl>
              <a:tblPr/>
              <a:tblGrid>
                <a:gridCol w="3047760"/>
                <a:gridCol w="639720"/>
                <a:gridCol w="43894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irect Energy for Profiling W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lows the Load Profiling &amp; Data Aggregation methodology to better represent the output of DRG Resources with a capacity less than 50 k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ies with HB 3693; allows for settlement of DRG Resources with a capacity less than 50 k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nimal until the population of DRG Resources becomes significa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t C/B $(1.3) MM; grouped with existing system project; Critical/Priority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ies with HB 3693; better represents DRG Resources &lt;50 kW; supports settlement infrastructure for distributed renewable energ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nuary 1, 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56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Distributed Renewable Generation Modification -- </a:t>
            </a:r>
            <a:r>
              <a:rPr b="1" i="1" lang="en-US" sz="3600" spc="-1" strike="noStrike">
                <a:solidFill>
                  <a:srgbClr val="ff3300"/>
                </a:solidFill>
                <a:latin typeface="Garamond"/>
              </a:rPr>
              <a:t>URG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2590920"/>
            <a:ext cx="38088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3657600"/>
            <a:ext cx="38088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4191120"/>
            <a:ext cx="38088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59400" y="2533680"/>
            <a:ext cx="359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$500K to $1 MM; grouped into exis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oject 80028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68120" y="359712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odestar/Paperfre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63360" y="4114800"/>
            <a:ext cx="378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G Resources &lt;50 kW settled with lo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ofi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08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Fuel Oil Price (FOP) Clarific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828800"/>
          <a:ext cx="8229600" cy="40863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rifies that the 5¢ adder is charged by the gallon; removes language referencing the FOP for days when Platts Oilgram Price Report is not publis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curate definition for the meaning and use of the te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Reliant</cp:lastModifiedBy>
  <dcterms:modified xsi:type="dcterms:W3CDTF">2008-05-07T15:49:38Z</dcterms:modified>
  <cp:revision>219</cp:revision>
  <dc:subject/>
  <dc:title>Protocol Revision Subcommittee</dc:title>
</cp:coreProperties>
</file>