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A3D6829-BEAC-4B70-AC57-D1B165AF7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ACB6C31-66A0-45F5-A7B2-448EA879B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D2FDE5-E793-4B0F-8885-0024783749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A3FC3D8-0B6C-4AE2-AB14-90DCAFA9D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C11A3F-D098-4215-9451-D4A62740E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7F9B7E-9680-44F4-812C-FC90B732C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61D5A8-D564-4A92-A85E-BEAE14B1E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83388E-1DFD-46F1-A3B3-E2DC76828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FF7F06-DB8D-470D-9BE4-43BDC6F29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E3E8A3-4769-417C-8240-5AB95994A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D02084-57A2-4ED8-B53F-0115EEF66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9F047C-A16A-4EB5-8905-0031636A0C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3C98-1111-47DB-A056-813EFC125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ch 2008</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6"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graphicFrame>
        <p:nvGraphicFramePr>
          <p:cNvPr id="117" name=""/>
          <p:cNvGraphicFramePr/>
          <p:nvPr/>
        </p:nvGraphicFramePr>
        <p:xfrm>
          <a:off x="228600" y="863640"/>
          <a:ext cx="8340840" cy="5156280"/>
        </p:xfrm>
        <a:graphic>
          <a:graphicData uri="http://schemas.openxmlformats.org/presentationml/2006/ole">
            <p:oleObj r:id="rId1" spid="">
              <p:embed/>
              <p:pic>
                <p:nvPicPr>
                  <p:cNvPr id="118" name="" descr=""/>
                  <p:cNvPicPr/>
                  <p:nvPr/>
                </p:nvPicPr>
                <p:blipFill>
                  <a:blip r:embed="rId2"/>
                  <a:stretch/>
                </p:blipFill>
                <p:spPr>
                  <a:xfrm>
                    <a:off x="228600" y="863640"/>
                    <a:ext cx="834084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nfrastructure and production change problems caused March IT performance to be below service level expecta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s to the market included delayed retail transaction processing, generation of duplicate transactions, delayed data extract &amp; report posting, and outages outside of scheduled maintenance window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orts are complete or underway to remediate these problems and improve the IT infrastructure to avoid future problems in this are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Outages &amp; Delays</a:t>
            </a:r>
            <a:endParaRPr b="1"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a:t>
            </a:r>
            <a:endParaRPr b="0" lang="en-US" sz="16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R-745 related production implementation caused delays and failures resulting in the decision to rollback to pre-implementation state</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ultiple storage hardware failures caused unplanned outages, compounding transaction processing delays already slowed by the failed production release</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ing troubleshooting efforts, a computer operator started a session of a process that was already running, causing significant duplicate transactions to be generated and requiring the manual cleanup of transactions</a:t>
            </a:r>
            <a:endParaRPr b="0" lang="en-US" sz="1300" spc="-1" strike="noStrike">
              <a:solidFill>
                <a:srgbClr val="000000"/>
              </a:solidFill>
              <a:latin typeface="Arial"/>
            </a:endParaRPr>
          </a:p>
          <a:p>
            <a:pPr lvl="3" marL="160020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a:t>
            </a:r>
            <a:endParaRPr b="0" lang="en-US" sz="16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slow performance and crashes, an outage outside of the standard maintenance windows was utilized to rollback to pre-implementation state </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analysis and discussions with TDTWG are ongoing to determine next steps regarding this phase of SCR-745</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to replace aged hardware has been in progress since late ’07 and is scheduled for implementation during the first weekend in May</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ducation and training  </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ng procedure revisions to prevent future occurrenc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rak slow system performance and failur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stability and limitation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vs. multi-threading processing abiliti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 sessions management capabil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AN fails, the MarkeTrak application fails as well</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stability and limita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upgrade that will address these issues has been in process since late ’07, two versions of the upgrade have failed ERCOT testing and have had to be returned to the vendor for fix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recent version upgrade is in ERCOT testing and if successful it will be promoted to production during the May releas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late ’07 and is scheduled for implementation during the first weekend in May</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lesale Batch, Data Extracts &amp; Reports Delay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delayed batch processing which in turn delayed reports and extrac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leanup activities inadvertently caused incorrect data to be generated during the batch process, the remediation efforts required the backout and rerun of three operating days, much of which had to be performed manually</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ssions not granted properly during the March retail release, causing files to not be able to flow where they needed to for report gener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07 and is scheduled for implementation during the first weekend in Ma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Net Service Availability</a:t>
            </a:r>
            <a:endParaRPr b="0" lang="en-US" sz="2000" spc="-1" strike="noStrike">
              <a:solidFill>
                <a:srgbClr val="ffffff"/>
              </a:solidFill>
              <a:latin typeface="Arial Black"/>
            </a:endParaRPr>
          </a:p>
        </p:txBody>
      </p:sp>
      <p:sp>
        <p:nvSpPr>
          <p:cNvPr id="100"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aphicFrame>
        <p:nvGraphicFramePr>
          <p:cNvPr id="101" name=""/>
          <p:cNvGraphicFramePr/>
          <p:nvPr/>
        </p:nvGraphicFramePr>
        <p:xfrm>
          <a:off x="228600" y="884160"/>
          <a:ext cx="8372520" cy="4907160"/>
        </p:xfrm>
        <a:graphic>
          <a:graphicData uri="http://schemas.openxmlformats.org/presentationml/2006/ole">
            <p:oleObj r:id="rId1" spid="">
              <p:embed/>
              <p:pic>
                <p:nvPicPr>
                  <p:cNvPr id="102" name="" descr=""/>
                  <p:cNvPicPr/>
                  <p:nvPr/>
                </p:nvPicPr>
                <p:blipFill>
                  <a:blip r:embed="rId2"/>
                  <a:stretch/>
                </p:blipFill>
                <p:spPr>
                  <a:xfrm>
                    <a:off x="228600" y="884160"/>
                    <a:ext cx="8372520" cy="490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ch 2008 Net Service Availability</a:t>
            </a:r>
            <a:endParaRPr b="0" lang="en-US" sz="2000" spc="-1" strike="noStrike">
              <a:solidFill>
                <a:srgbClr val="ffffff"/>
              </a:solidFill>
              <a:latin typeface="Arial Black"/>
            </a:endParaRPr>
          </a:p>
        </p:txBody>
      </p:sp>
      <p:sp>
        <p:nvSpPr>
          <p:cNvPr id="104"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graphicFrame>
        <p:nvGraphicFramePr>
          <p:cNvPr id="105" name=""/>
          <p:cNvGraphicFramePr/>
          <p:nvPr/>
        </p:nvGraphicFramePr>
        <p:xfrm>
          <a:off x="228600" y="936720"/>
          <a:ext cx="8458200" cy="4814640"/>
        </p:xfrm>
        <a:graphic>
          <a:graphicData uri="http://schemas.openxmlformats.org/presentationml/2006/ole">
            <p:oleObj r:id="rId1" spid="">
              <p:embed/>
              <p:pic>
                <p:nvPicPr>
                  <p:cNvPr id="106" name="" descr=""/>
                  <p:cNvPicPr/>
                  <p:nvPr/>
                </p:nvPicPr>
                <p:blipFill>
                  <a:blip r:embed="rId2"/>
                  <a:stretch/>
                </p:blipFill>
                <p:spPr>
                  <a:xfrm>
                    <a:off x="228600" y="936720"/>
                    <a:ext cx="8458200" cy="48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8"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graphicFrame>
        <p:nvGraphicFramePr>
          <p:cNvPr id="109" name=""/>
          <p:cNvGraphicFramePr/>
          <p:nvPr/>
        </p:nvGraphicFramePr>
        <p:xfrm>
          <a:off x="380880" y="914400"/>
          <a:ext cx="8382240" cy="5105520"/>
        </p:xfrm>
        <a:graphic>
          <a:graphicData uri="http://schemas.openxmlformats.org/presentationml/2006/ole">
            <p:oleObj r:id="rId1" spid="">
              <p:embed/>
              <p:pic>
                <p:nvPicPr>
                  <p:cNvPr id="110" name="" descr=""/>
                  <p:cNvPicPr/>
                  <p:nvPr/>
                </p:nvPicPr>
                <p:blipFill>
                  <a:blip r:embed="rId2"/>
                  <a:stretch/>
                </p:blipFill>
                <p:spPr>
                  <a:xfrm>
                    <a:off x="380880" y="914400"/>
                    <a:ext cx="83822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graphicFrame>
        <p:nvGraphicFramePr>
          <p:cNvPr id="113" name=""/>
          <p:cNvGraphicFramePr/>
          <p:nvPr/>
        </p:nvGraphicFramePr>
        <p:xfrm>
          <a:off x="380880" y="990720"/>
          <a:ext cx="8150400" cy="4876560"/>
        </p:xfrm>
        <a:graphic>
          <a:graphicData uri="http://schemas.openxmlformats.org/presentationml/2006/ole">
            <p:oleObj r:id="rId1" spid="">
              <p:embed/>
              <p:pic>
                <p:nvPicPr>
                  <p:cNvPr id="114" name="" descr=""/>
                  <p:cNvPicPr/>
                  <p:nvPr/>
                </p:nvPicPr>
                <p:blipFill>
                  <a:blip r:embed="rId2"/>
                  <a:stretch/>
                </p:blipFill>
                <p:spPr>
                  <a:xfrm>
                    <a:off x="380880" y="990720"/>
                    <a:ext cx="81504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sarasa</cp:lastModifiedBy>
  <dcterms:modified xsi:type="dcterms:W3CDTF">2008-05-01T14:13:55Z</dcterms:modified>
  <cp:revision>123</cp:revision>
  <dc:subject/>
  <dc:title>Instructions</dc:title>
</cp:coreProperties>
</file>