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422-9C00-4E5E-A801-3A3283F4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F65-A171-41AE-8139-3F1C886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09A-CCC9-40A7-87A3-F3EAEA17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0B9-9984-4A13-8EBE-08B542EB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6CFF-BB40-48CD-9E33-93A82872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4A45-2648-426B-AB7E-1ECDF14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2492-5F56-49D6-B1B9-38A31D9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1AB0-F76E-4E34-AEC7-099F3C1D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E894-93D1-489F-B70A-35A3109E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9E1B-DF4B-4687-8526-E799C900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0586-5A26-4EAC-ADD0-ED4D2FA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BEF-7B6F-44CC-944C-A52DC677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6BAC-8894-43AC-A5C3-EB6C366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45FE-B847-496F-B1E0-388D25A9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F257-80D8-4678-A998-7885ADDE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E3F0-045A-49DA-AF94-503D2AAC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E1BE-467B-4795-BE03-438D501C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F70-72C9-41E8-8F8C-3744F4C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02A-77BA-4633-BD94-782E0CAF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4A9-3A3E-45F9-9FB5-9D58640C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3C7-B9DF-47A5-8543-A4C505D6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1C2-4CA5-4513-BAB2-E22F231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38B-F192-46F5-92E9-22EBC30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20B-E324-4B9F-820F-7D6BD6D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DA73-FDA9-4BF8-B0A9-D8F75F31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F939-B60D-4902-AD24-451F68B03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Sorting Out Potential Solution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9051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OS’ Action Plan to Address the 2/26 EECP and the Wind Workshop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4419360" cy="2779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571500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Report to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ROS’ Action Plan – Following Up on 2/26 EECP &amp; Wind Workshop Issues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mandate to ROS at TAC’s April 4th meeting….put together an action plan of what ROS plans to do in response to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Plan crafted by ROS leadership and includes input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TAC leadership call re: Wind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DCWG report and summary to ROS re: 2/26 EE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approved the Action Plan at its April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a Task Force – The  Wind Operations TF (“WOTF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ointed a leadership team of Mark Garrett (ROS)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Dumas (ERCOT Operati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64832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2578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Status Report on WOTF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eeting on 4/22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atten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~40), MetCenter Rm 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kets of items identified for focus and work, teams as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3886200"/>
            <a:ext cx="32004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connection Pro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720" y="3809880"/>
            <a:ext cx="38671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liance/Performance Measures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5486400"/>
            <a:ext cx="22096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anges to Protocols &amp; Op Guides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562720" y="5257800"/>
            <a:ext cx="32288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aining Opportunities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1936800" cy="1943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6248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Me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day, 5/05, Comfort Suites-MetCenter, 0930-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Randy Jones</cp:lastModifiedBy>
  <dcterms:modified xsi:type="dcterms:W3CDTF">2008-04-28T20:25:01Z</dcterms:modified>
  <cp:revision>7</cp:revision>
  <dc:subject/>
  <dc:title>ROS’ Action Plan – Following Up on 2/26 EECP &amp; Wind Workshop Issues</dc:title>
</cp:coreProperties>
</file>