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CE2F-4D9B-4105-828A-A968FDF4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2BC2-BCCE-4BEA-AC36-9DC59DDA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A88F-4C1D-473B-9F64-F7AD55B6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7241-E4DD-4298-B561-E9CAD467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3391-C4FA-42FC-BEB3-C02E25AB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C16D-DBC0-4797-A690-468C1795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68F5-4A1E-433A-B838-42FEFF7B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BBA2-A80C-40DB-AE25-33EF1FE8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EC51-11AE-46FD-BDDF-14FF8771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E3E7-FC70-4A29-BDE9-CED24F7E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1F29-5A84-4B9E-AD62-86023ED3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3EF4-A431-4CF1-AFF0-753FA205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D9AA-64F6-41C6-AA57-36A1889D9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6F1A-000C-42C8-BE93-EED7B6E78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8,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enterPoint Energ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othwood Substation Projec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y Teixei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ager, Regional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8,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scription of Recommend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6616800" y="927000"/>
            <a:ext cx="252720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Rothwood 345/138 kV substation. Add 800 MVA auto looping 345 kV ckt 74 Kuykendahl tap - King and 138 kV ckt 66 Tomball - Westfield where 345 kV ckt crosses Rayford tap section.  Loop in only one of the tap sections.  Convert Rayford into a loop tap subst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:  $21,500,00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grade ckt 66 Tomball - Rothwood - Rayford to a minimum continuous rating of 360 MVA and minimum emergency rating of 440 MV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:  $1,500,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TOTAL COS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23,000,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 in-service prior to Summer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5880" y="871560"/>
            <a:ext cx="5965920" cy="44766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508640" y="990720"/>
            <a:ext cx="170172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y 8, 20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Need - Reliability Analysi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711360"/>
            <a:ext cx="8153280" cy="54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project to meet reliability criteria was determined during work on 2007 Five-Year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gency of Tomball to Jewett (Singleton)/King to Kuykendahl to Tomball 345kV lines results in overloads on North Belt to Westfield and Humble to Treaschswig that cannot be resolved through redisp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38160" y="2638440"/>
            <a:ext cx="5486400" cy="3584520"/>
            <a:chOff x="1838160" y="2638440"/>
            <a:chExt cx="5486400" cy="35845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838160" y="2638440"/>
              <a:ext cx="5486400" cy="358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2310120" y="3492360"/>
              <a:ext cx="4199760" cy="2438640"/>
              <a:chOff x="2310120" y="3492360"/>
              <a:chExt cx="4199760" cy="2438640"/>
            </a:xfrm>
          </p:grpSpPr>
          <p:sp>
            <p:nvSpPr>
              <p:cNvPr id="107" name=""/>
              <p:cNvSpPr/>
              <p:nvPr/>
            </p:nvSpPr>
            <p:spPr>
              <a:xfrm>
                <a:off x="5617440" y="5382720"/>
                <a:ext cx="892440" cy="548280"/>
              </a:xfrm>
              <a:prstGeom prst="rect">
                <a:avLst/>
              </a:prstGeom>
              <a:solidFill>
                <a:srgbClr val="def6f1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182880" bIns="0" anchor="t">
                <a:spAutoFit/>
              </a:bodyPr>
              <a:p>
                <a:pPr marL="228600" indent="-22860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Unserved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energy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090480" y="4542120"/>
                <a:ext cx="315000" cy="839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4935240" y="5330160"/>
                <a:ext cx="682200" cy="210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10480" y="4805640"/>
                <a:ext cx="1049400" cy="246240"/>
              </a:xfrm>
              <a:prstGeom prst="rect">
                <a:avLst/>
              </a:prstGeom>
              <a:solidFill>
                <a:srgbClr val="def6f1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spAutoFit/>
              </a:bodyPr>
              <a:p>
                <a:pPr marL="228600" indent="-228600" algn="ctr">
                  <a:spcAft>
                    <a:spcPts val="15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cc00"/>
                    </a:solidFill>
                    <a:latin typeface="Arial"/>
                  </a:rPr>
                  <a:t>Contingency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2310120" y="3492360"/>
                <a:ext cx="315000" cy="131292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993040" y="3702960"/>
                <a:ext cx="524880" cy="110232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01560" y="4140360"/>
                <a:ext cx="891720" cy="466200"/>
              </a:xfrm>
              <a:prstGeom prst="rect">
                <a:avLst/>
              </a:prstGeom>
              <a:solidFill>
                <a:srgbClr val="def6f1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91440" bIns="0" anchor="t">
                <a:spAutoFit/>
              </a:bodyPr>
              <a:p>
                <a:pPr marL="228600" indent="-228600" algn="ctr">
                  <a:spcAft>
                    <a:spcPts val="7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Overload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ctr">
                  <a:spcAft>
                    <a:spcPts val="7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Elemen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4830120" y="4700160"/>
                <a:ext cx="157320" cy="36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92920" y="4438080"/>
                <a:ext cx="892440" cy="524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Need - Reliability Analysi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33520" y="1066680"/>
            <a:ext cx="815328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hwood Substation project eliminates overloads and unserved energy for same contingen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09720" y="2019240"/>
            <a:ext cx="5486400" cy="358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y 8, 20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Need - Reliability Project O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43080" y="965160"/>
          <a:ext cx="8381880" cy="2222640"/>
        </p:xfrm>
        <a:graphic>
          <a:graphicData uri="http://schemas.openxmlformats.org/drawingml/2006/table">
            <a:tbl>
              <a:tblPr/>
              <a:tblGrid>
                <a:gridCol w="6705360"/>
                <a:gridCol w="16765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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ductor North Belt-Westfield 138 kV li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ductor Humble to Treaschwig 138 kV li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8,18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hwood Substation Project (2013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23,0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,18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17520" y="3467160"/>
          <a:ext cx="8381880" cy="1127160"/>
        </p:xfrm>
        <a:graphic>
          <a:graphicData uri="http://schemas.openxmlformats.org/drawingml/2006/table">
            <a:tbl>
              <a:tblPr/>
              <a:tblGrid>
                <a:gridCol w="6705360"/>
                <a:gridCol w="16765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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hwood Substation Project (2010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23,0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,0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scussion of O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453960" y="1204920"/>
            <a:ext cx="83757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options meet reliabilit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othwood Substation additionally resolves congestion on the Tomball autos ($2.7M in annual production cost savings) which is not resolved by reconductor projects al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thwood would eventually be needed for reliability in Option 1 (shown as needed in 2013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rral of Rothwood substation by three years in Option 1, with deferral of the associated production cost savings, does not offset the additional cost of the reconductor projec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y 8, 20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keholder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5120" y="1066680"/>
            <a:ext cx="7480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keholder review period for this project was held in April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ere no dissenting comments on this packa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y 8, 20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Support for the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be requesting that the Rothwood Substation project be endorsed by the ERCOT Board Of Direc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828800" y="3124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Le</dc:creator>
  <dc:description/>
  <dc:language>en-US</dc:language>
  <cp:lastModifiedBy>jteixeira</cp:lastModifiedBy>
  <dcterms:modified xsi:type="dcterms:W3CDTF">2008-05-05T20:40:52Z</dcterms:modified>
  <cp:revision>54</cp:revision>
  <dc:subject/>
  <dc:title>Tyler Grande RPG Review</dc:title>
</cp:coreProperties>
</file>