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5DB71-5A0B-4FFA-9105-9312A1EE2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B3A1C-52D5-40A0-A720-D637BEFC1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70521-B20A-4485-A41E-9D960C86C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9FEEB-A240-458F-B621-F5AAEBFEA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8E87A-7B51-4C90-9025-381FC1C9D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BAC98-721D-4ACB-B58F-245B394C1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7885F-0B2B-4BCB-8485-F13AA3EA2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7D3EB-353A-43AE-8AEF-991E00CCD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90042-BB87-43C9-B39E-DB477262C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E1948-AECC-4B58-B70D-116448F31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28F7D-3B6C-4039-B17A-0CF87F7DD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342C6-28FA-454F-ACB3-414B69515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67CF0-8A6D-40A9-A34F-4C9775FE6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DA024-A7D3-4D0E-9CB2-49E1A9A0E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630CE-A382-465C-A6E2-88AB60873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A1D77-A2BA-47A0-9A99-F177633E9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C7B82-997E-4753-B1A4-F0F44461E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04563-BF75-45EB-8367-C870D1EAE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3C6E7-FF7B-4348-8A7B-8BA24F187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AFB38-C5F9-49F7-A7F1-35F9F6AF0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AC882-D5F6-47F0-93EF-D3C6E09F1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73C0-AA03-4615-A16D-863384DF8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B71C8-21DF-4008-897B-BB78F8CE5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8448-47F6-4246-9307-D8FD52437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9C8A-7979-4050-9D97-23845A7A2A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28A0-B496-4E7F-ACD7-ECAFF336C98D}"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8,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vanced Metering Implementation Team</a:t>
            </a:r>
            <a:endParaRPr b="0" lang="en-US" sz="32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cal Approach Discussions</a:t>
            </a:r>
            <a:endParaRPr b="0" lang="en-US" sz="28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ntral Repository or Multiple TDU Locations</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eb Portal Host(s)</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terim and Long term considerations</a:t>
            </a:r>
            <a:endParaRPr b="0" lang="en-US" sz="24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Case and Task Assignments</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 Education Workshop</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Settlement Discussions</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me Automation Network</a:t>
            </a:r>
            <a:endParaRPr b="0" lang="en-US" sz="2800" spc="-1" strike="noStrike">
              <a:solidFill>
                <a:srgbClr val="ffffff"/>
              </a:solidFill>
              <a:latin typeface="Tahoma"/>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5"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Update to TAC</a:t>
            </a:r>
            <a:endParaRPr b="0" lang="en-US" sz="4000" spc="-1" strike="noStrike">
              <a:solidFill>
                <a:srgbClr val="ffffcc"/>
              </a:solidFill>
              <a:latin typeface="Tahoma"/>
            </a:endParaRPr>
          </a:p>
        </p:txBody>
      </p:sp>
      <p:sp>
        <p:nvSpPr>
          <p:cNvPr id="38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pril 9 RMS Meeting:</a:t>
            </a:r>
            <a:endParaRPr b="0" lang="en-US" sz="28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trust Training </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MS Voting Items:</a:t>
            </a:r>
            <a:endParaRPr b="0" lang="en-US" sz="2400" spc="-1" strike="noStrike">
              <a:solidFill>
                <a:srgbClr val="ffffff"/>
              </a:solidFill>
              <a:latin typeface="Tahoma"/>
            </a:endParaRPr>
          </a:p>
          <a:p>
            <a:pPr lvl="2" marL="1371600" indent="-45720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PRR097Changes to Section 8 to Incorporate Role of TRE, the IMM, and the Concept of Market Compliance</a:t>
            </a:r>
            <a:endParaRPr b="0" lang="en-US" sz="2000" spc="-1" strike="noStrike">
              <a:solidFill>
                <a:srgbClr val="ffffff"/>
              </a:solidFill>
              <a:latin typeface="Tahoma"/>
            </a:endParaRPr>
          </a:p>
          <a:p>
            <a:pPr lvl="3" marL="1752480" indent="-380880">
              <a:lnSpc>
                <a:spcPct val="9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S recommended approval of Task Force comments deleting language in 8.3(1)(e) to remove posting requirement of TSP charges for ESI Ids</a:t>
            </a:r>
            <a:endParaRPr b="0" lang="en-US" sz="1800" spc="-1" strike="noStrike">
              <a:solidFill>
                <a:srgbClr val="ffffff"/>
              </a:solidFill>
              <a:latin typeface="Tahoma"/>
            </a:endParaRPr>
          </a:p>
          <a:p>
            <a:pPr lvl="2" marL="1371600" indent="-45720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R759, Changes to Notification to Customer of Service Establishment</a:t>
            </a:r>
            <a:endParaRPr b="0" lang="en-US" sz="2000" spc="-1" strike="noStrike">
              <a:solidFill>
                <a:srgbClr val="ffffff"/>
              </a:solidFill>
              <a:latin typeface="Tahoma"/>
            </a:endParaRPr>
          </a:p>
          <a:p>
            <a:pPr lvl="3" marL="1752480" indent="-380880">
              <a:lnSpc>
                <a:spcPct val="9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S recommended approval with concern stated that cost savings represented in this PRR (over $450K annual savings) be reflected in the O&amp;M budget and System Administration Fee in a future year.</a:t>
            </a:r>
            <a:endParaRPr b="0" lang="en-US" sz="18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Requested Exception to SLA to perform upgrades to Storage Area Network</a:t>
            </a:r>
            <a:endParaRPr b="0" lang="en-US" sz="3200" spc="-1" strike="noStrike">
              <a:solidFill>
                <a:srgbClr val="ffffff"/>
              </a:solidFill>
              <a:latin typeface="Tahoma"/>
            </a:endParaRPr>
          </a:p>
          <a:p>
            <a:pPr lvl="1" marL="705600" indent="-2714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SLA for Retail Transaction Processing: 99.9%</a:t>
            </a:r>
            <a:endParaRPr b="0" lang="en-US" sz="2400" spc="-1" strike="noStrike">
              <a:solidFill>
                <a:srgbClr val="ffffff"/>
              </a:solidFill>
              <a:latin typeface="Tahoma"/>
            </a:endParaRPr>
          </a:p>
          <a:p>
            <a:pPr lvl="2" marL="1085760" indent="-217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outage regardless of duration</a:t>
            </a:r>
            <a:endParaRPr b="0" lang="en-US" sz="24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ESB Proxy Servers</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ESB</a:t>
            </a:r>
            <a:endParaRPr b="0" lang="en-US" sz="2000" spc="-1" strike="noStrike">
              <a:solidFill>
                <a:srgbClr val="ffffff"/>
              </a:solidFill>
              <a:latin typeface="Tahoma"/>
            </a:endParaRPr>
          </a:p>
          <a:p>
            <a:pPr lvl="2" marL="1085760" indent="-217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ages greater than 15 minutes</a:t>
            </a:r>
            <a:endParaRPr b="0" lang="en-US" sz="24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ctronic Data Interchange (EDI)</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terprise Application Integration (EAI)</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er Registration Database</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RCOT maintained infrastructure supporting retail transaction processin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Request for Exception to SLA (cont.)</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SLA Exceptions</a:t>
            </a:r>
            <a:endParaRPr b="0" lang="en-US" sz="28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enance Windows</a:t>
            </a:r>
            <a:endParaRPr b="0" lang="en-US" sz="24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en-US" sz="2000" spc="-1" strike="noStrike" baseline="30000">
                <a:solidFill>
                  <a:srgbClr val="ffffff"/>
                </a:solidFill>
                <a:latin typeface="Tahoma"/>
              </a:rPr>
              <a:t>st</a:t>
            </a:r>
            <a:r>
              <a:rPr b="0" lang="en-US" sz="2000" spc="-1" strike="noStrike">
                <a:solidFill>
                  <a:srgbClr val="ffffff"/>
                </a:solidFill>
                <a:latin typeface="Tahoma"/>
              </a:rPr>
              <a:t>,3</a:t>
            </a:r>
            <a:r>
              <a:rPr b="0" lang="en-US" sz="2000" spc="-1" strike="noStrike" baseline="30000">
                <a:solidFill>
                  <a:srgbClr val="ffffff"/>
                </a:solidFill>
                <a:latin typeface="Tahoma"/>
              </a:rPr>
              <a:t>rd</a:t>
            </a:r>
            <a:r>
              <a:rPr b="0" lang="en-US" sz="2000" spc="-1" strike="noStrike">
                <a:solidFill>
                  <a:srgbClr val="ffffff"/>
                </a:solidFill>
                <a:latin typeface="Tahoma"/>
              </a:rPr>
              <a:t> and 4</a:t>
            </a:r>
            <a:r>
              <a:rPr b="0" lang="en-US" sz="2000" spc="-1" strike="noStrike" baseline="30000">
                <a:solidFill>
                  <a:srgbClr val="ffffff"/>
                </a:solidFill>
                <a:latin typeface="Tahoma"/>
              </a:rPr>
              <a:t>th</a:t>
            </a:r>
            <a:r>
              <a:rPr b="0" lang="en-US" sz="2000" spc="-1" strike="noStrike">
                <a:solidFill>
                  <a:srgbClr val="ffffff"/>
                </a:solidFill>
                <a:latin typeface="Tahoma"/>
              </a:rPr>
              <a:t> Sunday of each month-8am until 8pm</a:t>
            </a:r>
            <a:endParaRPr b="0" lang="en-US" sz="20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ase Window</a:t>
            </a:r>
            <a:endParaRPr b="0" lang="en-US" sz="24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en-US" sz="2000" spc="-1" strike="noStrike" baseline="30000">
                <a:solidFill>
                  <a:srgbClr val="ffffff"/>
                </a:solidFill>
                <a:latin typeface="Tahoma"/>
              </a:rPr>
              <a:t>nd</a:t>
            </a:r>
            <a:r>
              <a:rPr b="0" lang="en-US" sz="2000" spc="-1" strike="noStrike">
                <a:solidFill>
                  <a:srgbClr val="ffffff"/>
                </a:solidFill>
                <a:latin typeface="Tahoma"/>
              </a:rPr>
              <a:t> weekend each month-12:00pm Saturday until 12:00am Monday (36 hours)</a:t>
            </a:r>
            <a:endParaRPr b="0" lang="en-US" sz="20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ptions</a:t>
            </a:r>
            <a:endParaRPr b="0" lang="en-US" sz="24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et wide releases involving all Market Participants</a:t>
            </a:r>
            <a:endParaRPr b="0" lang="en-US" sz="20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tended maintenance and release windows requested at RMS prior to extended outag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Request for Exception to SLA (cont.)</a:t>
            </a:r>
            <a:endParaRPr b="0" lang="en-US" sz="3200" spc="-1" strike="noStrike">
              <a:solidFill>
                <a:srgbClr val="ffffff"/>
              </a:solidFill>
              <a:latin typeface="Tahoma"/>
            </a:endParaRPr>
          </a:p>
          <a:p>
            <a:pPr lvl="1" marL="705600" indent="-2714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rns expressed at RMS</a:t>
            </a:r>
            <a:endParaRPr b="0" lang="en-US" sz="28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irst weekend of month high volume and imposes manual processes on Market Participants</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equent requests for exception from SLA dilute the value of having the SLA</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 needs to be revisited and reviewed to determine if adequate time is allowed for maintenance windows</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ice of request provided &lt;2 days prior to RMS</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not reviewed with TDTWG where expertise 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Request for Exception to SLA </a:t>
            </a:r>
            <a:endParaRPr b="0" lang="en-US" sz="28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 the past 8 months ERCOT has requested multiple SLA exceptions that have been approved by RMS.   </a:t>
            </a:r>
            <a:endParaRPr b="0" lang="en-US" sz="24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gust 25 – 27, 2007 (Migration of Databases to AIX)</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tember 15 – 17, 2007 ( Migration of Databases to AIX)</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tember 22 – 24, 2007 (Migration of Databases to AIX) </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tober 20 – 22, 2007 (Migration of Databases to AIX)</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tober 27-29, 2007 (Migration of Databases)</a:t>
            </a:r>
            <a:endParaRPr b="0" lang="en-US" sz="20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ption to SLA Not Granted</a:t>
            </a:r>
            <a:endParaRPr b="0" lang="en-US" sz="28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to perform the Storage Area Network upgrades during normal maintenance on May 4</a:t>
            </a:r>
            <a:endParaRPr b="0" lang="en-US" sz="2800" spc="-1" strike="noStrike">
              <a:solidFill>
                <a:srgbClr val="ffffff"/>
              </a:solidFill>
              <a:latin typeface="Tahoma"/>
            </a:endParaRPr>
          </a:p>
          <a:p>
            <a:pPr lvl="2" marL="1119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7"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rak slow system performance and failures</a:t>
            </a:r>
            <a:endParaRPr b="0" lang="en-US" sz="2400" spc="-1" strike="noStrike">
              <a:solidFill>
                <a:srgbClr val="ffffff"/>
              </a:solidFill>
              <a:latin typeface="Tahoma"/>
            </a:endParaRPr>
          </a:p>
          <a:p>
            <a:pPr lvl="1" marL="660960" indent="-2541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uses:</a:t>
            </a:r>
            <a:endParaRPr b="0" lang="en-US" sz="2000" spc="-1" strike="noStrike">
              <a:solidFill>
                <a:srgbClr val="ffffff"/>
              </a:solidFill>
              <a:latin typeface="Tahoma"/>
            </a:endParaRPr>
          </a:p>
          <a:p>
            <a:pPr lvl="2" marL="1017000" indent="-2034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ication instability and limitations: </a:t>
            </a:r>
            <a:endParaRPr b="0" lang="en-US" sz="18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ngle vs. multi-threading processing abilities</a:t>
            </a:r>
            <a:endParaRPr b="0" lang="en-US" sz="16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 sessions management capabilities</a:t>
            </a:r>
            <a:endParaRPr b="0" lang="en-US" sz="1600" spc="-1" strike="noStrike">
              <a:solidFill>
                <a:srgbClr val="ffffff"/>
              </a:solidFill>
              <a:latin typeface="Tahoma"/>
            </a:endParaRPr>
          </a:p>
          <a:p>
            <a:pPr lvl="4" marL="1830960" indent="-203400">
              <a:lnSpc>
                <a:spcPct val="90000"/>
              </a:lnSpc>
              <a:spcBef>
                <a:spcPts val="400"/>
              </a:spcBef>
              <a:buClr>
                <a:srgbClr val="ffffff"/>
              </a:buClr>
              <a:buSzPct val="80000"/>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pplication does not consistently release HTTP sessions, the current version does not allow for adjustment of timeout parameters</a:t>
            </a:r>
            <a:endParaRPr b="0" lang="en-US" sz="1600" spc="-1" strike="noStrike">
              <a:solidFill>
                <a:srgbClr val="ffffff"/>
              </a:solidFill>
              <a:latin typeface="Tahoma"/>
            </a:endParaRPr>
          </a:p>
          <a:p>
            <a:pPr lvl="2" marL="1017000" indent="-203400">
              <a:lnSpc>
                <a:spcPct val="90000"/>
              </a:lnSpc>
              <a:spcBef>
                <a:spcPts val="451"/>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rage hardware failures</a:t>
            </a:r>
            <a:endParaRPr b="0" lang="en-US" sz="1800" spc="-1" strike="noStrike">
              <a:solidFill>
                <a:srgbClr val="ffffff"/>
              </a:solidFill>
              <a:latin typeface="Tahoma"/>
            </a:endParaRPr>
          </a:p>
          <a:p>
            <a:pPr lvl="3" marL="1424160" indent="-203400">
              <a:lnSpc>
                <a:spcPct val="90000"/>
              </a:lnSpc>
              <a:spcBef>
                <a:spcPts val="4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hen the storage area network </a:t>
            </a:r>
            <a:r>
              <a:rPr b="1" lang="en-US" sz="1600" spc="-1" strike="noStrike">
                <a:solidFill>
                  <a:srgbClr val="ffffff"/>
                </a:solidFill>
                <a:latin typeface="Tahoma"/>
              </a:rPr>
              <a:t>(SAN)</a:t>
            </a:r>
            <a:r>
              <a:rPr b="0" lang="en-US" sz="1600" spc="-1" strike="noStrike">
                <a:solidFill>
                  <a:srgbClr val="ffffff"/>
                </a:solidFill>
                <a:latin typeface="Tahoma"/>
              </a:rPr>
              <a:t> fails, the MarkeTrak application fails as well</a:t>
            </a:r>
            <a:endParaRPr b="0" lang="en-US" sz="1600" spc="-1" strike="noStrike">
              <a:solidFill>
                <a:srgbClr val="ffffff"/>
              </a:solidFill>
              <a:latin typeface="Tahoma"/>
            </a:endParaRPr>
          </a:p>
          <a:p>
            <a:pPr lvl="1" marL="660960" indent="-2541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olution:</a:t>
            </a:r>
            <a:endParaRPr b="0" lang="en-US" sz="2000" spc="-1" strike="noStrike">
              <a:solidFill>
                <a:srgbClr val="ffffff"/>
              </a:solidFill>
              <a:latin typeface="Tahoma"/>
            </a:endParaRPr>
          </a:p>
          <a:p>
            <a:pPr lvl="2" marL="1017000" indent="-2034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ication instability and limitations:</a:t>
            </a:r>
            <a:endParaRPr b="0" lang="en-US" sz="18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ersion upgrade that will address these issues has been in process since late ’07, two versions of the upgrade have failed ERCOT testing and have had to be returned to the vendor for fixes</a:t>
            </a:r>
            <a:endParaRPr b="0" lang="en-US" sz="16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st recent version upgrade is in ERCOT testing and if successful it will be promoted to production during the May release</a:t>
            </a:r>
            <a:endParaRPr b="0" lang="en-US" sz="1600" spc="-1" strike="noStrike">
              <a:solidFill>
                <a:srgbClr val="ffffff"/>
              </a:solidFill>
              <a:latin typeface="Tahoma"/>
            </a:endParaRPr>
          </a:p>
          <a:p>
            <a:pPr lvl="2" marL="1017000" indent="-203400">
              <a:lnSpc>
                <a:spcPct val="90000"/>
              </a:lnSpc>
              <a:spcBef>
                <a:spcPts val="451"/>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rage hardware failures</a:t>
            </a:r>
            <a:endParaRPr b="0" lang="en-US" sz="1800" spc="-1" strike="noStrike">
              <a:solidFill>
                <a:srgbClr val="ffffff"/>
              </a:solidFill>
              <a:latin typeface="Tahoma"/>
            </a:endParaRPr>
          </a:p>
          <a:p>
            <a:pPr lvl="3" marL="1424160" indent="-2034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ject to replace aged hardware has been in progress since late ’07 and is scheduled for implementation during the first weekend in May</a:t>
            </a:r>
            <a:endParaRPr b="0" lang="en-US" sz="1600" spc="-1" strike="noStrike">
              <a:solidFill>
                <a:srgbClr val="ffffff"/>
              </a:solidFill>
              <a:latin typeface="Tahoma"/>
            </a:endParaRPr>
          </a:p>
          <a:p>
            <a:pPr marL="305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reation of Market Impact Assessment Task Force</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rpose: Assess and quantify impacts to Market Participants and End-use Consumers from ERCOT service degradation issues in March.</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ope:  Create a thorough report on the cause, severity and impacts. </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t: Formal report to RMS inclusive of definition of opportunities to mitigate market impact through refinement of SLA and  inclusion of Market Impacts in the ERCOT Incident Log.</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AC of findings in June if comple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Leadership Meeting</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ewed TAC and Subcommittee Procedures</a:t>
            </a:r>
            <a:endParaRPr b="0" lang="en-US" sz="28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Rules Presentation/Discussion</a:t>
            </a:r>
            <a:endParaRPr b="0" lang="en-US" sz="24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ewed Leadership Roles  and Responsibilities</a:t>
            </a:r>
            <a:endParaRPr b="0" lang="en-US" sz="28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CS Presentation/Discussion with process recommendations for Leadership and ERCOT Meeting Facilitator, SME , support roles and processes.</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5-02T18:21:10Z</dcterms:modified>
  <cp:revision>47</cp:revision>
  <dc:subject/>
  <dc:title>RMS Update to TAC</dc:title>
</cp:coreProperties>
</file>