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7E6D33D-050A-4A80-A392-27881033B8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42F9570-A637-43A4-97F1-BDEE964B08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2CA626C-8620-4FAC-92B3-A1E5226D46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CCD48E8-18E0-4592-B8D8-2EC407A9E7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8109910-9694-4B6D-A8C5-98F41E72E0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D5195FD-FAB3-4A6C-8B91-02267514BD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9A3520-889E-45C5-B467-7C35AB97CB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7DDB6B1-32CB-4097-B058-610C02575E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614D8A2-D835-4E2C-AA82-0AAA3D6A72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2581B6-EFE6-46DA-88C4-B668C2D5E0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79F3E10-EDA4-466A-A12D-7704A7B263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09AB106-B304-438B-8447-A981DF0A7A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FD078C3-FD68-486B-B87C-33EA1DF7A4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F802530-996D-4981-A800-D1A1BA3222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A021343-9785-4611-BD7F-2D844F08BE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0BE5BE4-178E-4F03-ABEE-9BAA14578B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4BA6BF2-05A0-4B62-940F-03E77CCF41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F94E37F-A382-4FEA-9640-5E8B0D12C5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06B1BC6-9E5B-4DB8-A493-3BD19ADC3E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1FDA3BA-B73B-4461-9027-312849B097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DC0009D-01A1-4422-9433-A295E4E7358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63CECF4-15E8-49F4-9AD4-F5A7F72584E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May 8, 2008</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BBA147B-6596-4093-ADDA-2C1511EA05F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2</a:t>
            </a:r>
            <a:endParaRPr b="0" lang="en-US" sz="1800" spc="-1" strike="noStrike">
              <a:solidFill>
                <a:srgbClr val="000000"/>
              </a:solidFill>
              <a:latin typeface="Arial"/>
            </a:endParaRPr>
          </a:p>
        </p:txBody>
      </p:sp>
      <p:sp>
        <p:nvSpPr>
          <p:cNvPr id="89" name="Text Box 6"/>
          <p:cNvSpPr/>
          <p:nvPr/>
        </p:nvSpPr>
        <p:spPr>
          <a:xfrm>
            <a:off x="380880" y="770040"/>
            <a:ext cx="8077320" cy="4099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Readiness Assessment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uture TPTF Subgroup for Go-Live Issues such a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bility to block offer off-line Non-Spin from Generation Resourc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tential for reduced Ancillary Service (AS) Offers into a Supplemental Ancillary Service Market (SASM) given the AS Offer re-submittal rules for un-struck DAM AS Offers linked to a Three-Part Offer</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R25.505 System-Wide Cap (SWCAP) issu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nd-Powered Generation Resource (WGR) Issu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i/Low Task Force Issue: Posting Resource Node Diagrams to MI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Project (EIP) Update</a:t>
            </a:r>
            <a:endParaRPr b="0" lang="en-US" sz="16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de Area Network (WAN) Access</a:t>
            </a:r>
            <a:r>
              <a:rPr b="0" lang="en-US" sz="1400" spc="-1" strike="noStrike">
                <a:solidFill>
                  <a:srgbClr val="000000"/>
                </a:solidFill>
                <a:latin typeface="Arial"/>
              </a:rPr>
              <a:t> </a:t>
            </a:r>
            <a:endParaRPr b="0" lang="en-US" sz="14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Update on API/UI Workshop</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P External Interfaces Specification</a:t>
            </a:r>
            <a:endParaRPr b="0" lang="en-US" sz="1600" spc="-1" strike="noStrike">
              <a:solidFill>
                <a:srgbClr val="000000"/>
              </a:solidFill>
              <a:latin typeface="Arial"/>
            </a:endParaRPr>
          </a:p>
        </p:txBody>
      </p:sp>
      <p:sp>
        <p:nvSpPr>
          <p:cNvPr id="9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8954A1B-D362-4BBA-8A50-72295F370FB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2 (continued)</a:t>
            </a:r>
            <a:endParaRPr b="0" lang="en-US" sz="1800" spc="-1" strike="noStrike">
              <a:solidFill>
                <a:srgbClr val="000000"/>
              </a:solidFill>
              <a:latin typeface="Arial"/>
            </a:endParaRPr>
          </a:p>
        </p:txBody>
      </p:sp>
      <p:sp>
        <p:nvSpPr>
          <p:cNvPr id="93" name="Text Box 6"/>
          <p:cNvSpPr/>
          <p:nvPr/>
        </p:nvSpPr>
        <p:spPr>
          <a:xfrm>
            <a:off x="380880" y="770040"/>
            <a:ext cx="8077320" cy="365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 Subgroup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comments in the MMS DAM and SASM Requirement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pril 22, TPTF approved the TPTF changes to the DAM Subgroup comments to the MMS DAM and SASM Requirements (B2) v2.0, as modified on April 21, 2008, and to assign a preliminary status to these changes of “needed for go-live” functionality and to request ERCOT to provide an impact analysis on the project schedule/cost to make these changes to the DAM and to report back to TPTF no later than May 15, 2008. The motion carried by roll-call vote, with 100% in favor and one abstention (AEP). The Independent Generator Market Segment was not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ology for setting Maximum Shadow Price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firmation of Single-Entry Model Milestone WebEx Meeting</a:t>
            </a:r>
            <a:endParaRPr b="0" lang="en-US" sz="1600" spc="-1" strike="noStrike">
              <a:solidFill>
                <a:srgbClr val="000000"/>
              </a:solidFill>
              <a:latin typeface="Arial"/>
            </a:endParaRPr>
          </a:p>
        </p:txBody>
      </p:sp>
      <p:sp>
        <p:nvSpPr>
          <p:cNvPr id="9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C7B0927-AF61-4002-9682-D1928E16C0E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2 (continued)</a:t>
            </a:r>
            <a:endParaRPr b="0" lang="en-US" sz="1800" spc="-1" strike="noStrike">
              <a:solidFill>
                <a:srgbClr val="000000"/>
              </a:solidFill>
              <a:latin typeface="Arial"/>
            </a:endParaRPr>
          </a:p>
        </p:txBody>
      </p:sp>
      <p:sp>
        <p:nvSpPr>
          <p:cNvPr id="97" name="Text Box 6"/>
          <p:cNvSpPr/>
          <p:nvPr/>
        </p:nvSpPr>
        <p:spPr>
          <a:xfrm>
            <a:off x="380880" y="770040"/>
            <a:ext cx="8077320" cy="3161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bined-Cycle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rom CCU Subgroup on revisions to RUC clawback factors in the COMS white paper Details on the Settlement of Combined Cycle Plant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pril 22, TPTF voted to strike the CRR language from Section 2 of the COMS White Paper Details on the Settlement of Combined Cycle Plants v2.2, as revised by TPTF on April 22, 2008. The motion carried by roll-call vote, with 100% in favor and three abstentions (CenterPoint, City of Eastland, and City of Allen). The Independent Generator Market Segment was not represented for the vote.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lines for ERCOT Response to Outage Requests</a:t>
            </a:r>
            <a:endParaRPr b="0" lang="en-US" sz="1600" spc="-1" strike="noStrike">
              <a:solidFill>
                <a:srgbClr val="000000"/>
              </a:solidFill>
              <a:latin typeface="Arial"/>
            </a:endParaRPr>
          </a:p>
        </p:txBody>
      </p:sp>
      <p:sp>
        <p:nvSpPr>
          <p:cNvPr id="9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29F1C6F-CDDA-4CA1-B502-8A7AB9CAAB5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01" name="Text Box 6"/>
          <p:cNvSpPr/>
          <p:nvPr/>
        </p:nvSpPr>
        <p:spPr>
          <a:xfrm>
            <a:off x="380880" y="792000"/>
            <a:ext cx="8610840" cy="1919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rsday May 1 (Single-Entry Model Webcast)</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May 5 through Wednesday May 7</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rsday May 22 and Friday May 23</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ne 9 and Tuesday June 10</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ne 23 through Wednesday June 25</a:t>
            </a:r>
            <a:endParaRPr b="0" lang="en-US" sz="1800" spc="-1" strike="noStrike">
              <a:solidFill>
                <a:srgbClr val="000000"/>
              </a:solidFill>
              <a:latin typeface="Arial"/>
            </a:endParaRPr>
          </a:p>
        </p:txBody>
      </p:sp>
      <p:sp>
        <p:nvSpPr>
          <p:cNvPr id="10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84B56AC-AEE8-4295-BFE6-270CC7BCEC2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06" name="Text Box 6"/>
          <p:cNvSpPr/>
          <p:nvPr/>
        </p:nvSpPr>
        <p:spPr>
          <a:xfrm>
            <a:off x="380880" y="765000"/>
            <a:ext cx="8610840" cy="4135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May 5 through May 7</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Scorecard/ Survey Questionnair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ffing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RF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17, Resource Registration Clarification</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23, Inadvertent Energy Account Revision</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C Assignment</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Issue Response Timeline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current governance structure timelines and whether any special processes need to be set up to accelerate process for addressing go-live issues</a:t>
            </a:r>
            <a:endParaRPr b="0" lang="en-US" sz="1600" spc="-1" strike="noStrike">
              <a:solidFill>
                <a:srgbClr val="000000"/>
              </a:solidFill>
              <a:latin typeface="Arial"/>
            </a:endParaRPr>
          </a:p>
        </p:txBody>
      </p:sp>
      <p:sp>
        <p:nvSpPr>
          <p:cNvPr id="107"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A49E2F6-2D63-4436-B9E1-3CC6F1683A6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11" name="Text Box 6"/>
          <p:cNvSpPr/>
          <p:nvPr/>
        </p:nvSpPr>
        <p:spPr>
          <a:xfrm>
            <a:off x="380880" y="765000"/>
            <a:ext cx="8610840" cy="5343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May 5 through May 7</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Market Rule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comments for recently “nodalized” protocol section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14 - Section 11, Data Acquisition and Aggregation</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18 - Section 14, State of Texas Renewable Energy Credit Trading Program</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26 - Section 19, Texas Standard Electronic Transaction</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TPTF role in reviewing current NOGRR synchronization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07, Nodal Emergency Interruptible Load Service (EIL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nd Power Forecasting Issues </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wind-power issues that may require protocol change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wgate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settlement issues related to flowgate definition</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draft NPRR language and document true-up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Timelines for ERCOT Response to Outage Request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11, Timelines for Response by ERCOT to TSP Request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ion of CRR Network Model (Section 3.10.3)</a:t>
            </a:r>
            <a:endParaRPr b="0" lang="en-US" sz="1600" spc="-1" strike="noStrike">
              <a:solidFill>
                <a:srgbClr val="000000"/>
              </a:solidFill>
              <a:latin typeface="Arial"/>
            </a:endParaRPr>
          </a:p>
        </p:txBody>
      </p:sp>
      <p:sp>
        <p:nvSpPr>
          <p:cNvPr id="11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FDF6DC4-12A7-4E8D-B182-706257BA133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16" name="Text Box 6"/>
          <p:cNvSpPr/>
          <p:nvPr/>
        </p:nvSpPr>
        <p:spPr>
          <a:xfrm>
            <a:off x="380880" y="765000"/>
            <a:ext cx="8610840" cy="4472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May 5 through May 7</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ages in CIM Format</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sideration of Outages in CIM Format for the Network Operations Model (Section 4.2.3)</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24, Resource Node Updated Definition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NPRR122, Simplify Ancillary Services Settlement Formula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NPRR120, Corrections and Clarifications for Real-Time Settlement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Draft NPRR, CRR Settlements Revenue Equalization</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status of EDS testing</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the EDS Emergency Operations Test Plan v0.01</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itial review of the next generation of the EDS 4 DAM/RUC/SASM Handbook merging Releases 9.4 and 9.5</a:t>
            </a:r>
            <a:endParaRPr b="0" lang="en-US" sz="1600" spc="-1" strike="noStrike">
              <a:solidFill>
                <a:srgbClr val="000000"/>
              </a:solidFill>
              <a:latin typeface="Arial"/>
            </a:endParaRPr>
          </a:p>
        </p:txBody>
      </p:sp>
      <p:sp>
        <p:nvSpPr>
          <p:cNvPr id="117"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D15AB92-3E69-471C-B08D-2FB15BF4F96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21" name="Text Box 6"/>
          <p:cNvSpPr/>
          <p:nvPr/>
        </p:nvSpPr>
        <p:spPr>
          <a:xfrm>
            <a:off x="380880" y="765000"/>
            <a:ext cx="8610840" cy="1099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May 5 through May 7</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the INF Market Participant Identity Management Requirements v3.2</a:t>
            </a:r>
            <a:endParaRPr b="0" lang="en-US" sz="1600" spc="-1" strike="noStrike">
              <a:solidFill>
                <a:srgbClr val="000000"/>
              </a:solidFill>
              <a:latin typeface="Arial"/>
            </a:endParaRPr>
          </a:p>
        </p:txBody>
      </p:sp>
      <p:sp>
        <p:nvSpPr>
          <p:cNvPr id="12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F575CFF-EA15-4B47-9693-460F1B6F8F2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5" name="Rectangle 2"/>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a:t>
            </a:r>
            <a:endParaRPr b="0" lang="en-US" sz="1800" spc="-1" strike="noStrike">
              <a:solidFill>
                <a:srgbClr val="000000"/>
              </a:solidFill>
              <a:latin typeface="Arial"/>
            </a:endParaRPr>
          </a:p>
        </p:txBody>
      </p:sp>
      <p:sp>
        <p:nvSpPr>
          <p:cNvPr id="126"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5"/>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6"/>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7"/>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Text Box 8"/>
          <p:cNvSpPr/>
          <p:nvPr/>
        </p:nvSpPr>
        <p:spPr>
          <a:xfrm>
            <a:off x="380880" y="914400"/>
            <a:ext cx="8458200" cy="4325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1, TPTF endorsed ERCOT moving forward with revisions to metric EMO5, Verify ACE Performance, as submitted to TPTF on April 21, 2008. The motion carried by roll-call vote, with 100% in favor and two abstentions (AEP and Westar Energy). The Consumer Market Segment was not represented for the vote.</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1, TPTF endorsed ERCOT moving forward with revisions to metric E8, ERCOT Staffed for Texas Nodal Operations, as modified by TPTF on April 21, 2008. The motion carried by roll-call vote, with 100% in favor and two abstentions (CenterPoint and AEP). The Independent Generator and Consumer Market Segments were not represented for the vote.</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1, TPTF endorsed ERCOT moving forward with metric MP20, Market Participant Ability to Submit Outage - Connectivity Test, as modified by TPTF on April 21, 2008. The motion carried by roll-call vote, with 83.3% in favor and two abstentions (AEP and Exelon). Two opposing votes were recorded for the Cooperative Market Segment. The Consumer Market Segment was not represented for the vote.</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est TAC approval for ERCOT to move forward with revisions to metric EMO5, Verify ACE Performance, as submitted to TPTF on April 21, 2008, revisions to metric E8, ERCOT Staffed for Texas Nodal Operations, as modified by TPTF on April 21, 2008, and metric MP20, Market Participant Ability to Submit Outage - Connectivity Test, as modified by TPTF on April 21,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EECF468-A2F4-4A56-A3E2-21D26777B57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34"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6C7A58B-A833-4981-B4E7-1F44B941CE6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762120"/>
          <a:ext cx="8763120" cy="3381120"/>
        </p:xfrm>
        <a:graphic>
          <a:graphicData uri="http://schemas.openxmlformats.org/drawingml/2006/table">
            <a:tbl>
              <a:tblPr/>
              <a:tblGrid>
                <a:gridCol w="2133720"/>
                <a:gridCol w="548640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37320">
                <a:tc>
                  <a:txBody>
                    <a:bodyPr lIns="90000" rIns="90000" tIns="46800" bIns="46800" anchor="ctr">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eeting Summary</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ctr">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Next Meetings</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coming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43648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pproval of Readiness Metric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pproval for ERCOT to move forward with:</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to Metric EMO5, Verify ACE Performance, as submitted to TPTF on April 21, 2008</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to Metric E8, ERCOT Staffed for Texas Nodal Operations, as modified by TPTF on April 21, 2008</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ric MP20, Market Participant Ability to Submit Outage - Connectivity Test, as modified by TPTF on April 21, 2008</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1740A17-3329-4FFA-A1BB-5722C500118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31</a:t>
            </a:r>
            <a:endParaRPr b="0" lang="en-US" sz="1800" spc="-1" strike="noStrike">
              <a:solidFill>
                <a:srgbClr val="000000"/>
              </a:solidFill>
              <a:latin typeface="Arial"/>
            </a:endParaRPr>
          </a:p>
        </p:txBody>
      </p:sp>
      <p:sp>
        <p:nvSpPr>
          <p:cNvPr id="61" name="Text Box 6"/>
          <p:cNvSpPr/>
          <p:nvPr/>
        </p:nvSpPr>
        <p:spPr>
          <a:xfrm>
            <a:off x="380880" y="770040"/>
            <a:ext cx="8077320" cy="2873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Meetings March 31- April 2 and April 21-22. </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3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tocol Transition Plan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twork Model Management Syste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Management Syste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Metric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RCOT Readines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ifiable Cost Subgroup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a:t>
            </a:r>
            <a:endParaRPr b="0" lang="en-US" sz="1600" spc="-1" strike="noStrike">
              <a:solidFill>
                <a:srgbClr val="000000"/>
              </a:solidFill>
              <a:latin typeface="Arial"/>
            </a:endParaRPr>
          </a:p>
        </p:txBody>
      </p:sp>
      <p:sp>
        <p:nvSpPr>
          <p:cNvPr id="6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DE4EA23-A9F6-4588-B947-EE2169CCFFB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1</a:t>
            </a:r>
            <a:endParaRPr b="0" lang="en-US" sz="1800" spc="-1" strike="noStrike">
              <a:solidFill>
                <a:srgbClr val="000000"/>
              </a:solidFill>
              <a:latin typeface="Arial"/>
            </a:endParaRPr>
          </a:p>
        </p:txBody>
      </p:sp>
      <p:sp>
        <p:nvSpPr>
          <p:cNvPr id="65" name="Text Box 6"/>
          <p:cNvSpPr/>
          <p:nvPr/>
        </p:nvSpPr>
        <p:spPr>
          <a:xfrm>
            <a:off x="380880" y="770040"/>
            <a:ext cx="8077320" cy="365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Recently “Nodalized” Protocol Sec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05- Section 23, Texas Test Plan Team - Retail Market Testing</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06- Section 24, Retail Point-to-Point Communica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09- Section 18, Load Profiling</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10- Section 20, Alternative Dispute Resolution Procedur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1, TPTF agreed to file TPTF comments on NPRR110 to add "Secure Area" to Section 20.5.3 and to incorporate the style used to denote the protocol effective dates as currently indicated on the nodal website and to endorse RMS comments for NPRR105 and NPRR106 and COPS comments for NPRR109. The TPTF noted that the Reliant comments for NPRR106 were addressed by incorporating CenterPoint's filed comments.  The motion carried by roll-call vote, with 100% in favor and five abstentions (City of Dallas, Town of Flower Mound, Coral Power, Exelon, and BP Energy).  All Market Segments were represented for the vote.</a:t>
            </a:r>
            <a:endParaRPr b="0" lang="en-US" sz="1600" spc="-1" strike="noStrike">
              <a:solidFill>
                <a:srgbClr val="000000"/>
              </a:solidFill>
              <a:latin typeface="Arial"/>
            </a:endParaRPr>
          </a:p>
        </p:txBody>
      </p:sp>
      <p:sp>
        <p:nvSpPr>
          <p:cNvPr id="6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58DCB3E-8E08-4830-8CB2-EE7DBAE9D83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1 (continued)</a:t>
            </a:r>
            <a:endParaRPr b="0" lang="en-US" sz="1800" spc="-1" strike="noStrike">
              <a:solidFill>
                <a:srgbClr val="000000"/>
              </a:solidFill>
              <a:latin typeface="Arial"/>
            </a:endParaRPr>
          </a:p>
        </p:txBody>
      </p:sp>
      <p:sp>
        <p:nvSpPr>
          <p:cNvPr id="69" name="Text Box 6"/>
          <p:cNvSpPr/>
          <p:nvPr/>
        </p:nvSpPr>
        <p:spPr>
          <a:xfrm>
            <a:off x="380880" y="770040"/>
            <a:ext cx="8077320" cy="256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r Interface Subgroup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Assuranc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Day Reports (CDR)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Update</a:t>
            </a:r>
            <a:endParaRPr b="0" lang="en-US" sz="1600" spc="-1" strike="noStrike">
              <a:solidFill>
                <a:srgbClr val="000000"/>
              </a:solidFill>
              <a:latin typeface="Arial"/>
            </a:endParaRPr>
          </a:p>
        </p:txBody>
      </p:sp>
      <p:sp>
        <p:nvSpPr>
          <p:cNvPr id="7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7F665B-AE41-44E1-BF41-6988BB7F2C2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a:t>
            </a:r>
            <a:endParaRPr b="0" lang="en-US" sz="1800" spc="-1" strike="noStrike">
              <a:solidFill>
                <a:srgbClr val="000000"/>
              </a:solidFill>
              <a:latin typeface="Arial"/>
            </a:endParaRPr>
          </a:p>
        </p:txBody>
      </p:sp>
      <p:sp>
        <p:nvSpPr>
          <p:cNvPr id="73" name="Text Box 6"/>
          <p:cNvSpPr/>
          <p:nvPr/>
        </p:nvSpPr>
        <p:spPr>
          <a:xfrm>
            <a:off x="380880" y="770040"/>
            <a:ext cx="8077320" cy="866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 Overview</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Update</a:t>
            </a:r>
            <a:endParaRPr b="0" lang="en-US" sz="1600" spc="-1" strike="noStrike">
              <a:solidFill>
                <a:srgbClr val="000000"/>
              </a:solidFill>
              <a:latin typeface="Arial"/>
            </a:endParaRPr>
          </a:p>
        </p:txBody>
      </p:sp>
      <p:sp>
        <p:nvSpPr>
          <p:cNvPr id="7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92797D6-37C6-4B6E-A939-BD4B934CD37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1</a:t>
            </a:r>
            <a:endParaRPr b="0" lang="en-US" sz="1800" spc="-1" strike="noStrike">
              <a:solidFill>
                <a:srgbClr val="000000"/>
              </a:solidFill>
              <a:latin typeface="Arial"/>
            </a:endParaRPr>
          </a:p>
        </p:txBody>
      </p:sp>
      <p:sp>
        <p:nvSpPr>
          <p:cNvPr id="77" name="Text Box 6"/>
          <p:cNvSpPr/>
          <p:nvPr/>
        </p:nvSpPr>
        <p:spPr>
          <a:xfrm>
            <a:off x="380880" y="770040"/>
            <a:ext cx="8077320" cy="5066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on Information Model (CIM) Health Check</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19, Resource Limit Calculator to Revise LDL equation per SPR1643</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1, TPTF endorsed submitting NPRR119, Resource Limit Calculator, to the Protocol Revision Subcommittee (PRS). The motion carried by roll-call vote, with 100% in favor and six abstentions (LCRA, City of Eastland, City of Allen, Exelon, BP Energy, and Westar Energy).  All market segments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the EDS 3 LFC Testing Market Participant Handbook v1.02</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pril 21, TPTF approved the EDS LFC Market Participant Testing Handbook v1.02 as submitted. The motion carried by roll-call vote, with 100% in favor and two abstentions (AEP and Westar Energy). The Consumer Market Segment was not represented for the vote.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itial Review of the EDS Emergency Operations Test Plan v0.01</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age Scheduler and Reliability Unit Commitment (RUC)</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cational Marginal Price (LMP) Issues</a:t>
            </a:r>
            <a:endParaRPr b="0" lang="en-US" sz="1600" spc="-1" strike="noStrike">
              <a:solidFill>
                <a:srgbClr val="000000"/>
              </a:solidFill>
              <a:latin typeface="Arial"/>
            </a:endParaRPr>
          </a:p>
        </p:txBody>
      </p:sp>
      <p:sp>
        <p:nvSpPr>
          <p:cNvPr id="7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29F98B5-4038-4E2D-A05B-DA1774F1037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1 (continued)</a:t>
            </a:r>
            <a:endParaRPr b="0" lang="en-US" sz="1800" spc="-1" strike="noStrike">
              <a:solidFill>
                <a:srgbClr val="000000"/>
              </a:solidFill>
              <a:latin typeface="Arial"/>
            </a:endParaRPr>
          </a:p>
        </p:txBody>
      </p:sp>
      <p:sp>
        <p:nvSpPr>
          <p:cNvPr id="81" name="Text Box 6"/>
          <p:cNvSpPr/>
          <p:nvPr/>
        </p:nvSpPr>
        <p:spPr>
          <a:xfrm>
            <a:off x="380880" y="770040"/>
            <a:ext cx="8077320" cy="5380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Metric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to EMO5, Verify ACE Performance</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pril 21, TPTF endorsed ERCOT moving forward with revisions to metric EMO5, Verify ACE Performance, as submitted to TPTF on April 21, 2008. The motion carried by roll-call vote, with 100% in favor and two abstentions (AEP and Westar Energy). The Consumer Market Segment was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E Results: Seven-Day Comparison</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pril 21, TPTF endorsed the ACE results for the period of March 16 – March 22, 2008 as favorably comparing to meet the seven-day comparison milestone described in metric EMO5, Verify Ace Performance. The motion carried by roll-call vote, with 100% in favor and five abstentions (LCRA, CenterPoint, AEP, Coral Power, and BP Energy). The Consumer Market Segment was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600" spc="-1" strike="noStrike">
                <a:solidFill>
                  <a:srgbClr val="000000"/>
                </a:solidFill>
                <a:latin typeface="Arial"/>
              </a:rPr>
              <a:t>Revisions to E8, ERCOT Staffed for Texas Nodal Operation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pril 21, TPTF endorsed ERCOT moving forward with revisions to metric E8, ERCOT Staffed for Texas Nodal Operations, as modified by TPTF on April 21, 2008. The motion carried by roll-call vote, with 100% in favor and two abstentions (CenterPoint and AEP). The Independent Generator and Consumer Market Segments were not represented for the vote.</a:t>
            </a:r>
            <a:endParaRPr b="0" lang="en-US" sz="1600" spc="-1" strike="noStrike">
              <a:solidFill>
                <a:srgbClr val="000000"/>
              </a:solidFill>
              <a:latin typeface="Arial"/>
            </a:endParaRPr>
          </a:p>
        </p:txBody>
      </p:sp>
      <p:sp>
        <p:nvSpPr>
          <p:cNvPr id="8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80ADD5B-67DE-4F36-80B9-48A1D446AFC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1 (continued)</a:t>
            </a:r>
            <a:endParaRPr b="0" lang="en-US" sz="1800" spc="-1" strike="noStrike">
              <a:solidFill>
                <a:srgbClr val="000000"/>
              </a:solidFill>
              <a:latin typeface="Arial"/>
            </a:endParaRPr>
          </a:p>
        </p:txBody>
      </p:sp>
      <p:sp>
        <p:nvSpPr>
          <p:cNvPr id="85" name="Text Box 6"/>
          <p:cNvSpPr/>
          <p:nvPr/>
        </p:nvSpPr>
        <p:spPr>
          <a:xfrm>
            <a:off x="380880" y="770040"/>
            <a:ext cx="8077320" cy="2955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2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Metrics Update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metric MP20, Market Participant Ability to Submit Outage</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pril 21, TPTF endorsed ERCOT moving forward with metric MP20, Market Participant Ability to Submit Outage - Connectivity Test, as modified by TPTF on April 21, 2008. The motion carried by roll-call vote, with 83.3% in favor and two abstentions (AEP and Exelon). Two opposing votes were recorded for the Cooperative Market Segment. The Consumer Market Segment was not represented for the vote.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4 Update</a:t>
            </a:r>
            <a:endParaRPr b="0" lang="en-US" sz="1600" spc="-1" strike="noStrike">
              <a:solidFill>
                <a:srgbClr val="000000"/>
              </a:solidFill>
              <a:latin typeface="Arial"/>
            </a:endParaRPr>
          </a:p>
        </p:txBody>
      </p:sp>
      <p:sp>
        <p:nvSpPr>
          <p:cNvPr id="8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8-04-30T19:03:11Z</dcterms:modified>
  <cp:revision>1150</cp:revision>
  <dc:subject/>
  <dc:title>TAC Update</dc:title>
</cp:coreProperties>
</file>