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D239A-6E23-4639-8551-2AA4A4F50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C3AC8-70BE-4D3C-991F-913501668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8A9AE-D3F0-4963-858D-B9D5E7D9B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B128E-6B3E-46EF-981A-6A109489E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5948D-20DA-44C7-A389-3190B5F2A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E9E28-DCAE-4FCE-891E-BF1928619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20CB4-0EF3-46EE-9356-0FF735502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50F02-8EE6-4206-8BCB-064079B2F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645E7-782C-4DB0-A76D-3E350773B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8ABB1-A5D0-4598-AA69-D9E52A9C4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9DA7E-7532-4D9E-9696-649C8EC65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B3584-664F-4904-98A5-13F1EE850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A3821-7BD0-4979-8555-BA52B633A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5478F-5C6F-4EFA-A4FD-4C1EFBC0B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4B110-9816-429D-8CF8-88C34256C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087DB-68A2-4ECF-862F-B31C05E09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30621-FCC3-4474-BA89-983EC3A80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82A99-5F31-483E-80A2-F307C7E8D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3F26-1606-4980-A4C2-400F86209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D079E-FBCE-4047-9A30-CB48DE5CE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C9D81-D851-49BE-BD5B-74832A5D9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6E0BF-ACEF-453C-BF93-3C08CA767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7395-5A45-49B6-9CA8-CD8287865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DDBC-48BD-4C7D-805D-35F28AB91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6CB5-EFF1-4AB1-B69C-65ACD6664FF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E662-2BD2-4AF3-804A-C89E5BF7FAB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ercot.com/meetings/pwg/keydocs/2008/0423/UFE" TargetMode="External"/><Relationship Id="rId4" Type="http://schemas.openxmlformats.org/officeDocument/2006/relationships/hyperlink" Target="http://www.ercot.com/meetings/pwg/keydocs/2008/0423/UFE"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2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TAC</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ay 8, 2008</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C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3" name="PlaceHolder 2"/>
          <p:cNvSpPr>
            <a:spLocks noGrp="1"/>
          </p:cNvSpPr>
          <p:nvPr>
            <p:ph/>
          </p:nvPr>
        </p:nvSpPr>
        <p:spPr>
          <a:xfrm>
            <a:off x="457200" y="1219320"/>
            <a:ext cx="8229600" cy="5486400"/>
          </a:xfrm>
          <a:prstGeom prst="rect">
            <a:avLst/>
          </a:prstGeom>
          <a:noFill/>
          <a:ln w="0">
            <a:noFill/>
          </a:ln>
        </p:spPr>
        <p:txBody>
          <a:bodyPr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developing nodal Sections in the Commercial Operations Market Guide</a:t>
            </a:r>
            <a:endParaRPr b="0" lang="en-US" sz="3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racts and Reports Service Level Agree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s process will be included in the COPM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LA reporting documents will be posted to one common location on ERCOT.com under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DEWG </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5"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provided its first report from an “IT Incident Report” that will be maintained for reporting on outages and extract issues/delays and will track issues through resolution and post – (initially to DEWG page and eventually post at the new ERCOT.com)</a:t>
            </a:r>
            <a:endParaRPr b="0" lang="en-US" sz="20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reported on March extract/data issues noting concerns expressed by RMS members.  As issues arise, it takes ERCOT time to resolve them, and time for the lags in extract delivery to be recovered.</a:t>
            </a:r>
            <a:endParaRPr b="0" lang="en-US" sz="20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ata Extract SLA was discussed and final comments have been incorporated into the document.  Document is being reviewed by CCWG and to be reviewed by COPS in May, expect COPS approval in June.</a:t>
            </a:r>
            <a:endParaRPr b="0" lang="en-US" sz="20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ckie Ashbaugh and Jamie Lavas presented additional details on the COMS extracts for nodal related to Real Time Extrac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pdated PWG 2008 Goals</a:t>
            </a:r>
            <a:r>
              <a:rPr b="0" lang="en-US" sz="4000" spc="-1" strike="noStrike">
                <a:solidFill>
                  <a:srgbClr val="7b46d0"/>
                </a:solidFill>
                <a:latin typeface="Arial"/>
              </a:rPr>
              <a:t> </a:t>
            </a:r>
            <a:br>
              <a:rPr sz="4000"/>
            </a:br>
            <a:r>
              <a:rPr b="0" lang="en-US" sz="2000" spc="-1" strike="noStrike">
                <a:solidFill>
                  <a:srgbClr val="ffff00"/>
                </a:solidFill>
                <a:latin typeface="Arial"/>
              </a:rPr>
              <a:t>(ranked by Target Date)</a:t>
            </a:r>
            <a:br>
              <a:rPr sz="2000"/>
            </a:br>
            <a:endParaRPr b="0" lang="en-US" sz="2000" spc="-1" strike="noStrike">
              <a:solidFill>
                <a:srgbClr val="ffffff"/>
              </a:solidFill>
              <a:latin typeface="Arial"/>
            </a:endParaRPr>
          </a:p>
        </p:txBody>
      </p:sp>
      <p:sp>
        <p:nvSpPr>
          <p:cNvPr id="167"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 descr=""/>
          <p:cNvPicPr/>
          <p:nvPr/>
        </p:nvPicPr>
        <p:blipFill>
          <a:blip r:embed="rId1"/>
          <a:stretch/>
        </p:blipFill>
        <p:spPr>
          <a:xfrm>
            <a:off x="457200" y="1295280"/>
            <a:ext cx="8153280" cy="495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PWG:</a:t>
            </a:r>
            <a:endParaRPr b="0" lang="en-US" sz="4000" spc="-1" strike="noStrike">
              <a:solidFill>
                <a:srgbClr val="ffffff"/>
              </a:solidFill>
              <a:latin typeface="Arial"/>
            </a:endParaRPr>
          </a:p>
        </p:txBody>
      </p:sp>
      <p:sp>
        <p:nvSpPr>
          <p:cNvPr id="170" name="PlaceHolder 2"/>
          <p:cNvSpPr>
            <a:spLocks noGrp="1"/>
          </p:cNvSpPr>
          <p:nvPr>
            <p:ph/>
          </p:nvPr>
        </p:nvSpPr>
        <p:spPr>
          <a:xfrm>
            <a:off x="151920" y="990360"/>
            <a:ext cx="8991720" cy="5562360"/>
          </a:xfrm>
          <a:prstGeom prst="rect">
            <a:avLst/>
          </a:prstGeom>
          <a:noFill/>
          <a:ln w="0">
            <a:noFill/>
          </a:ln>
        </p:spPr>
        <p:txBody>
          <a:bodyPr lIns="90000" rIns="90000" tIns="46800" bIns="46800"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d an update regarding “Round 2 Sample Point Installation Track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nt complete of new installations as of March 26</a:t>
            </a:r>
            <a:r>
              <a:rPr b="0" lang="en-US" sz="2400" spc="-1" strike="noStrike" baseline="30000">
                <a:solidFill>
                  <a:srgbClr val="ffffff"/>
                </a:solidFill>
                <a:latin typeface="Times New Roman"/>
              </a:rPr>
              <a:t>th</a:t>
            </a:r>
            <a:r>
              <a:rPr b="0" lang="en-US" sz="2400" spc="-1" strike="noStrike">
                <a:solidFill>
                  <a:srgbClr val="ffffff"/>
                </a:solidFill>
                <a:latin typeface="Times New Roman"/>
              </a:rPr>
              <a:t> = 51.8%</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nt of new installations + retained sample points = 64.7%</a:t>
            </a:r>
            <a:endParaRPr b="0" lang="en-US" sz="24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ived UFE Report from Staff</a:t>
            </a:r>
            <a:endParaRPr b="0" lang="en-US" sz="28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Times New Roman"/>
                <a:hlinkClick r:id="rId3"/>
              </a:rPr>
              <a:t>http://</a:t>
            </a:r>
            <a:r>
              <a:rPr b="0" lang="en-US" sz="2000" spc="-1" strike="noStrike" u="sng">
                <a:solidFill>
                  <a:srgbClr val="86d1ec"/>
                </a:solidFill>
                <a:uFillTx/>
                <a:latin typeface="Times New Roman"/>
                <a:hlinkClick r:id="rId4"/>
              </a:rPr>
              <a:t>www.ercot.com/meetings/pwg/keydocs/2008/0423/UFE</a:t>
            </a:r>
            <a:r>
              <a:rPr b="0" lang="en-US" sz="2000" spc="-1" strike="noStrike" u="sng">
                <a:solidFill>
                  <a:srgbClr val="86d1ec"/>
                </a:solidFill>
                <a:uFillTx/>
                <a:latin typeface="Times New Roman"/>
              </a:rPr>
              <a:t>_Analysis</a:t>
            </a:r>
            <a:r>
              <a:rPr b="0" lang="en-US" sz="2000" spc="-1" strike="noStrike">
                <a:solidFill>
                  <a:srgbClr val="86d1ec"/>
                </a:solidFill>
                <a:latin typeface="Times New Roman"/>
              </a:rPr>
              <a:t> </a:t>
            </a:r>
            <a:r>
              <a:rPr b="0" lang="en-US" sz="2000" spc="-1" strike="noStrike" u="sng">
                <a:solidFill>
                  <a:srgbClr val="86d1ec"/>
                </a:solidFill>
                <a:uFillTx/>
                <a:latin typeface="Times New Roman"/>
              </a:rPr>
              <a:t>Report 2007.ppt</a:t>
            </a:r>
            <a:endParaRPr b="0" lang="en-US" sz="2000" spc="-1" strike="noStrike">
              <a:solidFill>
                <a:srgbClr val="ffffff"/>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ed Status of PRR756 and proposed LPGRR030</a:t>
            </a:r>
            <a:endParaRPr b="0" lang="en-US" sz="28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ing lengthy discussion of the profile solution options COPS voted to support PRR756 and recommend to TAC approval of LPGRR030 </a:t>
            </a:r>
            <a:r>
              <a:rPr b="0" lang="en-US" sz="2000" spc="-1" strike="noStrike">
                <a:solidFill>
                  <a:srgbClr val="ffffff"/>
                </a:solidFill>
                <a:latin typeface="Times New Roman"/>
              </a:rPr>
              <a:t> (2 abstentions, no negative, all market segments represented)</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6d1ec"/>
                </a:solidFill>
                <a:latin typeface="Arial"/>
              </a:rPr>
              <a:t>Voting Item</a:t>
            </a:r>
            <a:endParaRPr b="0" lang="en-US" sz="4400" spc="-1" strike="noStrike">
              <a:solidFill>
                <a:srgbClr val="ffffff"/>
              </a:solidFill>
              <a:latin typeface="Arial"/>
            </a:endParaRPr>
          </a:p>
        </p:txBody>
      </p:sp>
      <p:sp>
        <p:nvSpPr>
          <p:cNvPr id="172"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S recommends TAC Approval of</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PGRR030</a:t>
            </a:r>
            <a:endParaRPr b="0" lang="en-US" sz="36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implementation of a Profile Solution for</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Distributed Renewable Generation &lt;50 Kw.  </a:t>
            </a:r>
            <a:endParaRPr b="0" lang="en-US" sz="24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RR030 is associated with Project 80028_01, Priority "1-Critical", Rank "2".</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VOTE</a:t>
            </a:r>
            <a:endParaRPr b="0" lang="en-US" sz="40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rPr>
              <a:t>http://www.ercot.com/mktrules/issues/lpgrr/025-049/030/index.html</a:t>
            </a:r>
            <a:endParaRPr b="0" lang="en-US" sz="18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i="1" lang="en-US" sz="3200" spc="-1" strike="noStrike" u="sng">
                <a:solidFill>
                  <a:srgbClr val="ffff00"/>
                </a:solidFill>
                <a:uFillTx/>
                <a:latin typeface="Arial"/>
              </a:rPr>
              <a:t>ERO Fee Assessment and Collection Guide</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174"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R720 (TRE Fee) &amp; Collection Process </a:t>
            </a:r>
            <a:endParaRPr b="0" lang="en-US" sz="32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S sent PRR720 to COPS for review of process.</a:t>
            </a:r>
            <a:endParaRPr b="0" lang="en-US" sz="24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R720 removes the Electric Reliability Fee factor from the ERCOT Protocols so that ERCOT ISO can collect the fee through an off-line collection process.</a:t>
            </a:r>
            <a:endParaRPr b="0" lang="en-US" sz="24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ISO submitted to COPS for consideration an  ERO Fee Assessment and Collection Guide on how to assess and collect the ERO Fee in the ERCOT Region.</a:t>
            </a:r>
            <a:endParaRPr b="0" lang="en-US" sz="24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lengthy review, discussion and revisions to the Guide, COPS voted at its March 11, 2008 meeting to endorse and recommend to TAC approval of the ERO Fee Assessment and Collection Guid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6d1ec"/>
                </a:solidFill>
                <a:latin typeface="Arial"/>
              </a:rPr>
              <a:t>Voting Item</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S recommends to TAC Approval of </a:t>
            </a:r>
            <a:endParaRPr b="0" lang="en-US" sz="32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3200" spc="-1" strike="noStrike">
                <a:solidFill>
                  <a:srgbClr val="ffff00"/>
                </a:solidFill>
                <a:latin typeface="Arial"/>
              </a:rPr>
              <a:t>Electric Reliability Organization Fee Assessment and Collection Guide</a:t>
            </a:r>
            <a:r>
              <a:rPr b="0" lang="en-US" sz="4000" spc="-1" strike="noStrike">
                <a:solidFill>
                  <a:srgbClr val="ffff00"/>
                </a:solidFill>
                <a:latin typeface="Arial"/>
              </a:rPr>
              <a:t>”</a:t>
            </a:r>
            <a:endParaRPr b="0" lang="en-US" sz="4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VOTE</a:t>
            </a:r>
            <a:endParaRPr b="0" lang="en-US" sz="4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starr</cp:lastModifiedBy>
  <dcterms:modified xsi:type="dcterms:W3CDTF">2008-05-01T19:04:42Z</dcterms:modified>
  <cp:revision>9</cp:revision>
  <dc:subject/>
  <dc:title>Slide 1</dc:title>
</cp:coreProperties>
</file>