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944-64F5-4CFA-A257-F7410CB59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NERC Standards to date is 1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the Steps of Development. –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 – Standard Authorization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DB99-6AA7-485C-9658-1ACCEEAD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7C10-3BE0-47D0-AD99-8F9C1134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63B4-C625-4E1B-B8D9-737BC2C7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0D8F-540D-40C6-94E9-FF264F4F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6FA7-7DCF-4DC6-94D0-07B6237F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9997-7EF4-421F-98F8-F36AEFA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02AA-71D2-4EC6-A53C-41FC1893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D1B4-3B6B-402B-9938-3474524B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6371-9E12-437D-B1A2-549DD2BD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F159-F350-42E8-B7AD-6C6F686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013F-F1A7-42C5-BFBD-7F4A18A0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C470-4977-44D5-9C77-62FDC936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E20E-A4DC-4A89-88EE-1E6DDD483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E839-2842-4B2E-8F99-20326BF57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B3B9-CD93-4FB8-89D7-21A732DE8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F841-211D-4771-8579-66C8E23098C4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nerc.com/" TargetMode="External"/><Relationship Id="rId2" Type="http://schemas.openxmlformats.org/officeDocument/2006/relationships/hyperlink" Target="http://www.ercot.com/" TargetMode="Externa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rc.com/" TargetMode="External"/><Relationship Id="rId2" Type="http://schemas.openxmlformats.org/officeDocument/2006/relationships/hyperlink" Target="https://standards.nerc.net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w NERC Standards and their impact on ERCO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ob Colli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pliance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2FCB53C-2F9B-4447-B594-03C001CC07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Process of Develop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6096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134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ll apply to your comp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INVOLED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09FAB5-7569-4180-9069-0D3E8875C3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Process of Develop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of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0"/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0"/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Request a Standard or Revision to an Exis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0"/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ustifies the purpose and describes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0"/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– Solicit Public Comments on the 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0"/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stakeholder consensus on the need, and applicabil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0"/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 - Authorization to Proceed With Drafting a New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ed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0"/>
                <a:tab algn="l" pos="148608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  <a:tab algn="l" pos="7886880"/>
                <a:tab algn="l" pos="8229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Authorize development of a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DE9C10-10A1-4829-AABB-9531F70F70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Process of Development (con’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4 - Appoint Standard Draft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A team that has the expertise, competencies, and divers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5 - Draft New or Revised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Develop a standard within the scope of the S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6 - Solicit Public Comments on Draf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takeholder inputs on the draft standard and modifying the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draft standard as needed to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7 - Field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Determine what testing is required to validate the concepts,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requirements, measures, and compliance elements of the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standard and implement that tes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4304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914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B81803-320D-4041-A23D-6BCD2B1162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Process of Development (con’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8 - Analysis of the Comments and Field Test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Evaluate comments and field test results to determine if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the proposed standard should go to ballot or requires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additional wor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9 - Ballot the New or Revised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Approve the proposed standard by vo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0 - Adoption of the Reliability Standard by the Bo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To have the Board of Trustees adopt the standard as a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NERC standard, and adopt the associated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mplementation pla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1 - Implementation of Reliability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dustry use the standard and the compliance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program and incorporates the standard into its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compliance monitoring and enforc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8E1849-6BD4-4B60-B1F3-5020BAFF3E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Process of Development (con’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Special Proced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gent and Emergency 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ree Actions must occur if Adopt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de permanent without substantiv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stantively revised or replaced by a new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y be withdrawn through the regular process by bal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s of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questing a interpret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nces to NERC Reliability Stand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ity 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onal Variance Less than an Interconn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onal Variance on an Interconnection – wide Ba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3B88F4-D637-4955-8530-97EA6988CD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The NERC Standards (Tomes) Projects for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THE 11 NERC STANDARDS PROJECTS FOR 2007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1 Underfrequency Load Shedding (PRC-006 to PRC-00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2 Operating Personnel Communications Protocols (COM-00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3 Real-time Transmission Operations and Balancing of Load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Generation (COM-001, COM-002, TOP-001 to TOP-008, ORG-0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o ORG-018, and PER-0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4 Certifying System Operators (PER-00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5 Balancing Authority Controls (BAL-002, and BAL-004 to BAL-00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6 System Protection (PRC-0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7 Vegetation Management (FAC-00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8 Emergency Operations (EOP-001 to EOP-003, and IRO-0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9 Generator Verification (MOD-024 and MOD-02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10 Modeling Data (MOD-010 to MOD-015, PRC-013, PRC-015, PRC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020, and PRC-02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11 Disturbance Monitoring (PRC-002 and PRC-018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FF4881-2D1B-4332-84D9-81CB81F74E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Structure of the Standar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1080" y="99072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 of the Stand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(Header In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on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9281D4-A0AB-48FF-8EFD-B5BD21F09A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18178-4982-42EF-842F-618B9D6997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FCBB8E-B819-40BE-9941-83C4B24A08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206215-BE12-45D6-8A56-1E82310A8C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RC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68580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035CAF-890A-4DBE-8D74-6A36242C9F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790761-C581-4408-B320-F57FA83508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A0D4E8-6A4C-4572-9A6A-039312291D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DFD9E9-D389-4A06-B2AD-9794B163F6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786CC4-FE70-48D1-807F-4596C506AD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60FA9E-03C8-4530-ACCA-B671D62628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410697-9FE7-4A2C-A47C-031741B0A2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837360-E7F1-4E95-9AB3-816696A65A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F80C51-D12C-4545-8022-54DEF44C33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-005-1 System Operator Trai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B1A829-1519-4B19-A576-4F40FB59FF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ndards That will Apply to Your Compan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1447920" y="685800"/>
            <a:ext cx="117349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1A771E-F544-45FF-BE6E-379FA5C464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Quest for the Tome of NERC Standards Objecti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late NERC’s coding for its standards and revis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where to find details on NERC’s current and planned standar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ree ways in which ERCOT market participants can participate in standards development and modifications at NER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ize at least 2 new requirements added to NERC standards for 2007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CB82B5-FF96-43BF-BE22-66493A3470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3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C55DC1-BAFF-455E-B8D4-9419EA186F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01BEDA-497C-4CC1-B0E4-DECA2AA531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2508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BE9EDC-F152-4CBA-8860-71E42E421D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Quick Review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your Entertaining Pleasu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C Standard Number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letter acronym followed by 3 or 4 numbers then by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in Doubt look up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rc.co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che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rcot.co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for your Company to become Invol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mit a Standard or ask for a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ome a committee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eld Test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B4B160-AE49-458C-8E60-A05DED5CEC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403884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E1FA84-1CD5-4C98-9EB5-0824A04BB6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The Tome of NERC’s Coding for its Standards and Revis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RC Standards can be found 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rc.com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standards.nerc.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829D02-C4B5-411D-98EA-1519B31BCE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The Tome of NERC’s Coding for its Standards and Revis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that we’ll need to look at is displayed 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Standards have a 3 part conven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ree letter acronym for it sub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and Demand Balancing – B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s –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Planning – T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Operations – 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numbering system is a basic three numb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start with 1 and increases sequential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 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of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F1ACA7-67C4-420D-91D1-5715980D6A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rpheus"/>
              </a:rPr>
              <a:t>The Tome of NERC’s Coding for its Standards and Revis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Standard Number example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 – xxx - x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– xxx –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 – 001- 0 means under the Resource and Demand Balancing section standard 1 revision 0 w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Power Balancing Control Performance”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– 002 – 2 is the “Communications and Coordination” std 2nd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03F8C4-4ECF-4DA3-ADDF-10E1ABF1DB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A709E6-9E42-4D54-BB11-582D1A79E6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B8C1C3-4568-4E35-9329-E60C1F9A77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7 System Operator Train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2B4475-B7F2-401E-A5B5-DF03205D4B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vweldon</cp:lastModifiedBy>
  <dcterms:modified xsi:type="dcterms:W3CDTF">2007-03-16T20:06:02Z</dcterms:modified>
  <cp:revision>36</cp:revision>
  <dc:subject/>
  <dc:title>Instructions</dc:title>
</cp:coreProperties>
</file>