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0BF-DF61-4910-8955-E7D579F3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F5D-05F5-4F91-9BDD-F5A45C70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877-A751-4EBF-9F0F-495AE369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390-A2CE-48C8-84CB-EF38DD51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355-FAB1-47E5-B2E3-A8CC233C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3B6-7086-498A-B2B8-E50691AF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D75-C7A8-4178-BFF0-291BB179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1E4-8388-4EBE-8D20-2FB62C68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ACF-A578-4BB1-B524-D90E0DE8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B71-6A87-4CFA-A909-4E5BB2D3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0AE-98CC-4293-A066-62317593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CE5-CD8B-4EB3-B942-5BDB374B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2E1B-8AA7-4BBE-988F-6D3E9F8BB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6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5.xml"/><Relationship Id="rId3" Type="http://schemas.openxmlformats.org/officeDocument/2006/relationships/slide" Target=""/><Relationship Id="rId4" Type="http://schemas.openxmlformats.org/officeDocument/2006/relationships/slide" Target="slide126.xml"/><Relationship Id="rId5" Type="http://schemas.openxmlformats.org/officeDocument/2006/relationships/slide" Target="slide126.xml"/><Relationship Id="rId6" Type="http://schemas.openxmlformats.org/officeDocument/2006/relationships/slide" Target=""/><Relationship Id="rId7" Type="http://schemas.openxmlformats.org/officeDocument/2006/relationships/slide" Target="slide131.xml"/><Relationship Id="rId8" Type="http://schemas.openxmlformats.org/officeDocument/2006/relationships/slide" Target="slide131.xml"/><Relationship Id="rId9" Type="http://schemas.openxmlformats.org/officeDocument/2006/relationships/slide" Target=""/><Relationship Id="rId10" Type="http://schemas.openxmlformats.org/officeDocument/2006/relationships/slide" Target="slide40.xml"/><Relationship Id="rId11" Type="http://schemas.openxmlformats.org/officeDocument/2006/relationships/slide" Target=""/><Relationship Id="rId12" Type="http://schemas.openxmlformats.org/officeDocument/2006/relationships/slide" Target="slide140.xml"/><Relationship Id="rId13" Type="http://schemas.openxmlformats.org/officeDocument/2006/relationships/slide" Target="slide140.xml"/><Relationship Id="rId14" Type="http://schemas.openxmlformats.org/officeDocument/2006/relationships/slide" Target=""/><Relationship Id="rId15" Type="http://schemas.openxmlformats.org/officeDocument/2006/relationships/slide" Target="slide141.xml"/><Relationship Id="rId16" Type="http://schemas.openxmlformats.org/officeDocument/2006/relationships/slide" Target="slide141.xml"/><Relationship Id="rId17" Type="http://schemas.openxmlformats.org/officeDocument/2006/relationships/slide" Target=""/><Relationship Id="rId18" Type="http://schemas.openxmlformats.org/officeDocument/2006/relationships/slide" Target="slide143.xml"/><Relationship Id="rId19" Type="http://schemas.openxmlformats.org/officeDocument/2006/relationships/slide" Target="slide143.xml"/><Relationship Id="rId20" Type="http://schemas.openxmlformats.org/officeDocument/2006/relationships/slide" Target="slide143.xml"/><Relationship Id="rId21" Type="http://schemas.openxmlformats.org/officeDocument/2006/relationships/slide" Target=""/><Relationship Id="rId22" Type="http://schemas.openxmlformats.org/officeDocument/2006/relationships/slide" Target="slide151.xml"/><Relationship Id="rId23" Type="http://schemas.openxmlformats.org/officeDocument/2006/relationships/slide" Target="slide151.xml"/><Relationship Id="rId24" Type="http://schemas.openxmlformats.org/officeDocument/2006/relationships/slide" Target=""/><Relationship Id="rId25" Type="http://schemas.openxmlformats.org/officeDocument/2006/relationships/slide" Target="slide169.xml"/><Relationship Id="rId26" Type="http://schemas.openxmlformats.org/officeDocument/2006/relationships/slide" Target="slide169.xml"/><Relationship Id="rId27" Type="http://schemas.openxmlformats.org/officeDocument/2006/relationships/slide" Target=""/><Relationship Id="rId28" Type="http://schemas.openxmlformats.org/officeDocument/2006/relationships/slide" Target="slide179.xml"/><Relationship Id="rId29" Type="http://schemas.openxmlformats.org/officeDocument/2006/relationships/slide" Target="slide179.xml"/><Relationship Id="rId3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5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as Nodal: What TOs and QSEs will be doing differ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Structur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/5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FD0-6396-4372-862A-3196B75D09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. Fundament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leven Ke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hange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hang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D20-DA5D-40E5-BA9F-208B5966DB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.1  Market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676520" y="1523880"/>
            <a:ext cx="5790600" cy="4587480"/>
            <a:chOff x="1676520" y="1523880"/>
            <a:chExt cx="5790600" cy="4587480"/>
          </a:xfrm>
        </p:grpSpPr>
        <p:sp>
          <p:nvSpPr>
            <p:cNvPr id="122" name=""/>
            <p:cNvSpPr/>
            <p:nvPr/>
          </p:nvSpPr>
          <p:spPr>
            <a:xfrm>
              <a:off x="2301480" y="1883520"/>
              <a:ext cx="4514760" cy="3729960"/>
            </a:xfrm>
            <a:prstGeom prst="rect">
              <a:avLst/>
            </a:prstGeom>
            <a:solidFill>
              <a:srgbClr val="ff9900">
                <a:alpha val="4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>
              <a:hlinkClick r:id="rId1" action="ppaction://hlinksldjump"/>
            </p:cNvPr>
            <p:cNvSpPr/>
            <p:nvPr/>
          </p:nvSpPr>
          <p:spPr>
            <a:xfrm>
              <a:off x="1676520" y="1537920"/>
              <a:ext cx="1458360" cy="98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Network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>
              <a:hlinkClick r:id="rId3" action="ppaction://hlinksldjump"/>
            </p:cNvPr>
            <p:cNvSpPr/>
            <p:nvPr/>
          </p:nvSpPr>
          <p:spPr>
            <a:xfrm>
              <a:off x="1676520" y="2712240"/>
              <a:ext cx="1458360" cy="98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Bidding &am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Schedu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>
              <a:hlinkClick r:id="rId6" action="ppaction://hlinksldjump"/>
            </p:cNvPr>
            <p:cNvSpPr/>
            <p:nvPr/>
          </p:nvSpPr>
          <p:spPr>
            <a:xfrm>
              <a:off x="1676520" y="3955680"/>
              <a:ext cx="1458360" cy="98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Forw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8" action="ppaction://hlinksldjump"/>
                </a:rPr>
                <a:t>Mark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>
              <a:hlinkClick r:id="rId9" action="ppaction://hlinksldjump"/>
            </p:cNvPr>
            <p:cNvSpPr/>
            <p:nvPr/>
          </p:nvSpPr>
          <p:spPr>
            <a:xfrm>
              <a:off x="3577680" y="3112560"/>
              <a:ext cx="1875240" cy="139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10" action="ppaction://hlinksldjump"/>
                </a:rPr>
                <a:t>Pri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>
              <a:hlinkClick r:id="rId11" action="ppaction://hlinksldjump"/>
            </p:cNvPr>
            <p:cNvSpPr/>
            <p:nvPr/>
          </p:nvSpPr>
          <p:spPr>
            <a:xfrm>
              <a:off x="1676520" y="5130000"/>
              <a:ext cx="1458360" cy="98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12" action="ppaction://hlinksldjump"/>
                </a:rPr>
                <a:t>Ancillar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13" action="ppaction://hlinksldjump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>
              <a:hlinkClick r:id="rId14" action="ppaction://hlinksldjump"/>
            </p:cNvPr>
            <p:cNvSpPr/>
            <p:nvPr/>
          </p:nvSpPr>
          <p:spPr>
            <a:xfrm>
              <a:off x="3829320" y="1523880"/>
              <a:ext cx="1458360" cy="98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15" action="ppaction://hlinksldjump"/>
                </a:rPr>
                <a:t>Bilat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16" action="ppaction://hlinksldjump"/>
                </a:rPr>
                <a:t>Tr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>
              <a:hlinkClick r:id="rId17" action="ppaction://hlinksldjump"/>
            </p:cNvPr>
            <p:cNvSpPr/>
            <p:nvPr/>
          </p:nvSpPr>
          <p:spPr>
            <a:xfrm>
              <a:off x="3829320" y="5130000"/>
              <a:ext cx="1458360" cy="98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18" action="ppaction://hlinksldjump"/>
                </a:rPr>
                <a:t>Commi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08760" y="1523880"/>
              <a:ext cx="1458360" cy="98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19" action="ppaction://hlinksldjump"/>
                </a:rPr>
                <a:t>Reliability 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0" action="ppaction://hlinksldjump"/>
                </a:rPr>
                <a:t>Commi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>
              <a:hlinkClick r:id="rId21" action="ppaction://hlinksldjump"/>
            </p:cNvPr>
            <p:cNvSpPr/>
            <p:nvPr/>
          </p:nvSpPr>
          <p:spPr>
            <a:xfrm>
              <a:off x="5982840" y="2697840"/>
              <a:ext cx="1458360" cy="98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2" action="ppaction://hlinksldjump"/>
                </a:rPr>
                <a:t>Trans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3" action="ppaction://hlinksldjump"/>
                </a:rPr>
                <a:t>R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>
              <a:hlinkClick r:id="rId24" action="ppaction://hlinksldjump"/>
            </p:cNvPr>
            <p:cNvSpPr/>
            <p:nvPr/>
          </p:nvSpPr>
          <p:spPr>
            <a:xfrm>
              <a:off x="5982840" y="3941280"/>
              <a:ext cx="1458360" cy="98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5" action="ppaction://hlinksldjump"/>
                </a:rPr>
                <a:t>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6" action="ppaction://hlinksldjump"/>
                </a:rPr>
                <a:t>Settl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>
              <a:hlinkClick r:id="rId27" action="ppaction://hlinksldjump"/>
            </p:cNvPr>
            <p:cNvSpPr/>
            <p:nvPr/>
          </p:nvSpPr>
          <p:spPr>
            <a:xfrm>
              <a:off x="5982840" y="5115600"/>
              <a:ext cx="1458360" cy="98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8" action="ppaction://hlinksldjump"/>
                </a:rPr>
                <a:t>Mar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9" action="ppaction://hlinksldjump"/>
                </a:rPr>
                <a:t>Mitig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B24-383B-4931-8112-A45973FF26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238400" y="1371600"/>
            <a:ext cx="6629040" cy="4800240"/>
            <a:chOff x="1238400" y="1371600"/>
            <a:chExt cx="6629040" cy="4800240"/>
          </a:xfrm>
        </p:grpSpPr>
        <p:sp>
          <p:nvSpPr>
            <p:cNvPr id="135" name=""/>
            <p:cNvSpPr/>
            <p:nvPr/>
          </p:nvSpPr>
          <p:spPr>
            <a:xfrm>
              <a:off x="1238400" y="1371600"/>
              <a:ext cx="16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Attribu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5200" y="1371600"/>
              <a:ext cx="25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Zonal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0880" y="1371600"/>
              <a:ext cx="253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odal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306080" y="1692720"/>
              <a:ext cx="6561000" cy="964440"/>
              <a:chOff x="1306080" y="1692720"/>
              <a:chExt cx="6561000" cy="964440"/>
            </a:xfrm>
          </p:grpSpPr>
          <p:sp>
            <p:nvSpPr>
              <p:cNvPr id="139" name=""/>
              <p:cNvSpPr/>
              <p:nvPr/>
            </p:nvSpPr>
            <p:spPr>
              <a:xfrm>
                <a:off x="1306080" y="1695240"/>
                <a:ext cx="1420200" cy="960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 action="ppaction://hlinksldjump"/>
                  </a:rPr>
                  <a:t>Network Mod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26280" y="1695240"/>
                <a:ext cx="5140800" cy="960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26280" y="1695240"/>
                <a:ext cx="2298240" cy="96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Zo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ut of merit energy (OOME) and out of merit capacity (OOMC) needed for local constrain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55640" y="1692720"/>
                <a:ext cx="24757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Full nod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l local constraints enforce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96680" y="1692720"/>
                <a:ext cx="0" cy="9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306080" y="2842200"/>
              <a:ext cx="6561000" cy="963360"/>
              <a:chOff x="1306080" y="2842200"/>
              <a:chExt cx="6561000" cy="963360"/>
            </a:xfrm>
          </p:grpSpPr>
          <p:sp>
            <p:nvSpPr>
              <p:cNvPr id="145" name=""/>
              <p:cNvSpPr/>
              <p:nvPr/>
            </p:nvSpPr>
            <p:spPr>
              <a:xfrm>
                <a:off x="1306080" y="2844720"/>
                <a:ext cx="1420200" cy="960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idding &amp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chedul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26280" y="2844720"/>
                <a:ext cx="5140800" cy="960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26280" y="2844720"/>
                <a:ext cx="22982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Portfolio Base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QSE bids portfolio, manages resources in Real-Time (R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55640" y="2842200"/>
                <a:ext cx="247572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Resource Base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quires selection of resources in Day-Ahead (DA) time fra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96680" y="2842200"/>
                <a:ext cx="0" cy="9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306080" y="4059000"/>
              <a:ext cx="6561000" cy="963360"/>
              <a:chOff x="1306080" y="4059000"/>
              <a:chExt cx="6561000" cy="963360"/>
            </a:xfrm>
          </p:grpSpPr>
          <p:sp>
            <p:nvSpPr>
              <p:cNvPr id="151" name=""/>
              <p:cNvSpPr/>
              <p:nvPr/>
            </p:nvSpPr>
            <p:spPr>
              <a:xfrm>
                <a:off x="1306080" y="4061520"/>
                <a:ext cx="1420200" cy="960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war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arke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26280" y="4061520"/>
                <a:ext cx="5140800" cy="960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26280" y="4061520"/>
                <a:ext cx="229824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ilateral onl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fers DA certainty for fuel pla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55640" y="4059000"/>
                <a:ext cx="2475720" cy="68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ilateral + Centralized Day-Ahead Mark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lf-commitment still an op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96680" y="4059000"/>
                <a:ext cx="0" cy="9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306080" y="5208480"/>
              <a:ext cx="6561000" cy="963360"/>
              <a:chOff x="1306080" y="5208480"/>
              <a:chExt cx="6561000" cy="963360"/>
            </a:xfrm>
          </p:grpSpPr>
          <p:sp>
            <p:nvSpPr>
              <p:cNvPr id="157" name=""/>
              <p:cNvSpPr/>
              <p:nvPr/>
            </p:nvSpPr>
            <p:spPr>
              <a:xfrm>
                <a:off x="1306080" y="5211000"/>
                <a:ext cx="1420200" cy="960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ic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26280" y="5211000"/>
                <a:ext cx="5140800" cy="960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726280" y="5211000"/>
                <a:ext cx="22982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Zon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lus OOME for local deploymen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cal congestion uplifte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55640" y="5208480"/>
                <a:ext cx="2475720" cy="83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Resour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80000"/>
                  </a:lnSpc>
                  <a:spcBef>
                    <a:spcPts val="499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dal Pric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o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80000"/>
                  </a:lnSpc>
                  <a:spcBef>
                    <a:spcPts val="499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verage z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96680" y="5208480"/>
                <a:ext cx="0" cy="9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.2 Change Matrix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466-94C9-4C76-BBBB-A3E45ED99E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181160" y="1380960"/>
            <a:ext cx="6781320" cy="4914720"/>
            <a:chOff x="1181160" y="1380960"/>
            <a:chExt cx="6781320" cy="4914720"/>
          </a:xfrm>
        </p:grpSpPr>
        <p:sp>
          <p:nvSpPr>
            <p:cNvPr id="164" name=""/>
            <p:cNvSpPr/>
            <p:nvPr/>
          </p:nvSpPr>
          <p:spPr>
            <a:xfrm>
              <a:off x="1181160" y="1380960"/>
              <a:ext cx="166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Attribu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03600" y="1380960"/>
              <a:ext cx="258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Zonal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67600" y="1380960"/>
              <a:ext cx="259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odal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250280" y="1712160"/>
              <a:ext cx="6711840" cy="993240"/>
              <a:chOff x="1250280" y="1712160"/>
              <a:chExt cx="6711840" cy="993240"/>
            </a:xfrm>
          </p:grpSpPr>
          <p:sp>
            <p:nvSpPr>
              <p:cNvPr id="168" name=""/>
              <p:cNvSpPr/>
              <p:nvPr/>
            </p:nvSpPr>
            <p:spPr>
              <a:xfrm>
                <a:off x="1250280" y="1715040"/>
                <a:ext cx="1452960" cy="990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cillary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99"/>
                    </a:solidFill>
                    <a:latin typeface="Arial"/>
                  </a:rPr>
                  <a:t>Services (A/S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03240" y="1715040"/>
                <a:ext cx="5258880" cy="99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03240" y="1715040"/>
                <a:ext cx="2352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A/S Clearing is independent of energy scheduling and congestion redispat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90920" y="1712160"/>
                <a:ext cx="25326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A/S/Energy co-optimized in D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fers ability for lower cost A/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y result in lower clearing prices to sell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32680" y="1712160"/>
                <a:ext cx="0" cy="9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250280" y="2862360"/>
              <a:ext cx="6711840" cy="1754280"/>
              <a:chOff x="1250280" y="2862360"/>
              <a:chExt cx="6711840" cy="1754280"/>
            </a:xfrm>
          </p:grpSpPr>
          <p:sp>
            <p:nvSpPr>
              <p:cNvPr id="174" name=""/>
              <p:cNvSpPr/>
              <p:nvPr/>
            </p:nvSpPr>
            <p:spPr>
              <a:xfrm>
                <a:off x="1250280" y="2865240"/>
                <a:ext cx="1452960" cy="1751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ilate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ad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703240" y="2865240"/>
                <a:ext cx="5258880" cy="175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03240" y="2865240"/>
                <a:ext cx="2352600" cy="8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rades are only zonal (</a:t>
                </a: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e.g.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South, North, Housto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congestion if traded within z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90920" y="2862360"/>
                <a:ext cx="2532600" cy="15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rades at a variety of pricing poi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neration Node (e.g. Ferguson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ub (e.g. Houston, South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ad Zone (e.g. South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ngestion risk if not at DE’s generation or Load Zo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32680" y="2862360"/>
                <a:ext cx="0" cy="175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1250280" y="4775040"/>
              <a:ext cx="6711840" cy="1520640"/>
              <a:chOff x="1250280" y="4775040"/>
              <a:chExt cx="6711840" cy="1520640"/>
            </a:xfrm>
          </p:grpSpPr>
          <p:sp>
            <p:nvSpPr>
              <p:cNvPr id="180" name=""/>
              <p:cNvSpPr/>
              <p:nvPr/>
            </p:nvSpPr>
            <p:spPr>
              <a:xfrm>
                <a:off x="1250280" y="4777920"/>
                <a:ext cx="1452960" cy="15174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mmit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03240" y="4777920"/>
                <a:ext cx="5258880" cy="151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03240" y="4777920"/>
                <a:ext cx="2352600" cy="11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elf commitment is only op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vides full discretion to participan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lows stable fuel forecast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t risk for cost recover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90920" y="4775040"/>
                <a:ext cx="2532600" cy="9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ERCOT Centralized to meet Day Ahead Lo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addition to self-commitment op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289080" indent="-120960">
                  <a:lnSpc>
                    <a:spcPct val="100000"/>
                  </a:lnSpc>
                  <a:spcBef>
                    <a:spcPts val="6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ffers some start-up cost recover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2680" y="4775040"/>
                <a:ext cx="0" cy="152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.2 Change Matrix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6DD-9939-4F44-A345-75676FDBF6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209600" y="2622600"/>
            <a:ext cx="6486120" cy="960480"/>
            <a:chOff x="1209600" y="2622600"/>
            <a:chExt cx="6486120" cy="960480"/>
          </a:xfrm>
        </p:grpSpPr>
        <p:sp>
          <p:nvSpPr>
            <p:cNvPr id="187" name=""/>
            <p:cNvSpPr/>
            <p:nvPr/>
          </p:nvSpPr>
          <p:spPr>
            <a:xfrm>
              <a:off x="1209600" y="2625120"/>
              <a:ext cx="1404000" cy="957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igh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13600" y="2625120"/>
              <a:ext cx="5082120" cy="9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13600" y="2625120"/>
              <a:ext cx="22734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Auctioned Transmission Congestion Rights (TC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9080" indent="-1209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owgate approach – more simplistic selection &amp; valu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14160" y="2622600"/>
              <a:ext cx="244764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Auctioned Congestion Revenue Rights (CR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9080" indent="-1209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TP approach - More complex selection, valuation, and bid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54840" y="262260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209600" y="3768840"/>
            <a:ext cx="6486120" cy="1216080"/>
            <a:chOff x="1209600" y="3768840"/>
            <a:chExt cx="6486120" cy="1216080"/>
          </a:xfrm>
        </p:grpSpPr>
        <p:sp>
          <p:nvSpPr>
            <p:cNvPr id="193" name=""/>
            <p:cNvSpPr/>
            <p:nvPr/>
          </p:nvSpPr>
          <p:spPr>
            <a:xfrm>
              <a:off x="1209600" y="3771360"/>
              <a:ext cx="1404000" cy="121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ttl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3600" y="3771360"/>
              <a:ext cx="5082120" cy="121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13600" y="3771360"/>
              <a:ext cx="22734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Single Settl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9080" indent="-1209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 forward energy clearing other than congestion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9080" indent="-1209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mbalance energy cleared in Real-Time (R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14160" y="3768840"/>
              <a:ext cx="244764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Dual settl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9080" indent="-1209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ergy and A/S Capacity cleared in 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9080" indent="-1209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UC and RT energy deviations from DA settled in 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54840" y="3768840"/>
              <a:ext cx="0" cy="12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209600" y="5151600"/>
            <a:ext cx="6752880" cy="1147320"/>
            <a:chOff x="1209600" y="5151600"/>
            <a:chExt cx="6752880" cy="1147320"/>
          </a:xfrm>
        </p:grpSpPr>
        <p:sp>
          <p:nvSpPr>
            <p:cNvPr id="199" name=""/>
            <p:cNvSpPr/>
            <p:nvPr/>
          </p:nvSpPr>
          <p:spPr>
            <a:xfrm>
              <a:off x="1209600" y="5154840"/>
              <a:ext cx="1404000" cy="114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tig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13600" y="5154840"/>
              <a:ext cx="5081760" cy="114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160" y="5154840"/>
              <a:ext cx="227592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Resource Category Generic Costs (RCG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9080" indent="-1209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d Premiums &lt;= RCG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720" y="5151600"/>
              <a:ext cx="2849760" cy="11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Day-Ahe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9080" indent="-12096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 mitigated offer caps or must offer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Real-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9080" indent="-12096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tigated offer caps and TX 2-St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54480" y="5151600"/>
              <a:ext cx="0" cy="11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143000" y="1390680"/>
            <a:ext cx="6552720" cy="1077840"/>
            <a:chOff x="1143000" y="1390680"/>
            <a:chExt cx="6552720" cy="1077840"/>
          </a:xfrm>
        </p:grpSpPr>
        <p:sp>
          <p:nvSpPr>
            <p:cNvPr id="205" name=""/>
            <p:cNvSpPr/>
            <p:nvPr/>
          </p:nvSpPr>
          <p:spPr>
            <a:xfrm>
              <a:off x="1143000" y="1593000"/>
              <a:ext cx="160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Attribu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12880" y="1593000"/>
              <a:ext cx="250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Zonal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8320" y="1593000"/>
              <a:ext cx="250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odal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09960" y="1393200"/>
              <a:ext cx="1404000" cy="107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liability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i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13960" y="1393200"/>
              <a:ext cx="5081760" cy="107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12880" y="1393200"/>
              <a:ext cx="227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None other than indirectly Out-of-Merit Capacity (OOMC) and RP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14520" y="1390680"/>
              <a:ext cx="2447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Additional commitment/ decommitment based on forec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9080" indent="-1209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y use generic pr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9080" indent="-1209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ject to additional restrictions on cost reco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54840" y="1390680"/>
              <a:ext cx="0" cy="10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.2 Change Matrix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181-7113-4817-A879-E7FD6D0F4D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.3 Uniqu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bility to take CRRs to Real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5-minute Granularity of Output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n-Componentized Nodal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paration of COP and O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CED Algorithm does not use ST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itigation using Texas Two-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6E1-1A76-4A41-88CE-662BBBC9D7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866880" y="1322280"/>
          <a:ext cx="7391160" cy="473868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510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731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nal Mar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99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7316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al Mar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4990"/>
                    </a:solidFill>
                  </a:tcPr>
                </a:tc>
              </a:tr>
              <a:tr h="5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ay-ahead market for A/S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ay-ahead Energy 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-optimized DA market for A/S, certain CRRs, and forward energy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ay-Ahead &amp; Hour-Ahead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A &amp; HA Reliability Unit Commi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uctioned Transmission Congestion Righ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uctioned Congestion Revenue Righ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347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rtfolio-based Offers by 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ource-specific Off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720" indent="-22356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lancing Energy services every 15 minu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720" indent="-22356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onal congestion management by portfolio for CS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720" indent="-22356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ource specific for local cong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spatch every 5 minu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l deployments and congestion management will be resource-speci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hanced Load Frequency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onal market clearing prices for balancing energy for generation and lo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dal locational marginal pricing (LMP) for gen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174600">
                        <a:spcBef>
                          <a:spcPts val="751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onal weighted LMP for loa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.4 Chang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E08-3D3C-46F8-B5A5-AA93F554BB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3. Ke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dal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-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nit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multaneous Feasibility Test (S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ual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FED-E894-4068-B2AD-1B6F9106FB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3.1 Nodal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181160"/>
            <a:ext cx="38098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499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35040" y="1142640"/>
            <a:ext cx="40132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4990"/>
                </a:solidFill>
                <a:uFillTx/>
                <a:latin typeface="Arial"/>
              </a:rPr>
              <a:t>What is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A market-based pricing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Specialized algorithm is used to generate nodal prices (S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Values energy &amp; congestion at settlement point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76400">
              <a:lnSpc>
                <a:spcPct val="80000"/>
              </a:lnSpc>
              <a:spcBef>
                <a:spcPts val="451"/>
              </a:spcBef>
              <a:buClr>
                <a:srgbClr val="004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Resource buses (gener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76400">
              <a:lnSpc>
                <a:spcPct val="80000"/>
              </a:lnSpc>
              <a:spcBef>
                <a:spcPts val="451"/>
              </a:spcBef>
              <a:buClr>
                <a:srgbClr val="004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Load zones (similar to CZ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76400">
              <a:lnSpc>
                <a:spcPct val="80000"/>
              </a:lnSpc>
              <a:spcBef>
                <a:spcPts val="451"/>
              </a:spcBef>
              <a:buClr>
                <a:srgbClr val="004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Trading hubs (liquid trading lo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76400">
              <a:lnSpc>
                <a:spcPct val="80000"/>
              </a:lnSpc>
              <a:spcBef>
                <a:spcPts val="451"/>
              </a:spcBef>
              <a:buClr>
                <a:srgbClr val="004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DC 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Nodal prices will have two components: energy and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5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Algorithm maximizes revenues from submitted bids while respecting security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76400">
              <a:lnSpc>
                <a:spcPct val="80000"/>
              </a:lnSpc>
              <a:spcBef>
                <a:spcPts val="451"/>
              </a:spcBef>
              <a:buClr>
                <a:srgbClr val="004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Security limits (aka constraints) include line limits, ramp rat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1541520"/>
            <a:ext cx="3505320" cy="1353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826160" y="3200400"/>
            <a:ext cx="393696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1717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4990"/>
                </a:solidFill>
                <a:uFillTx/>
                <a:latin typeface="Arial"/>
              </a:rPr>
              <a:t>What does it mean to 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New price signals for bilateral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Possible revenue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Potential for reduced up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Sharing of congestion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Load settled by zone using ’03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Infrastructure updates due to data vol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E17-4D69-46D7-AE88-F546D4B892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3.2 Co-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019840" y="1294920"/>
            <a:ext cx="3256920" cy="2439000"/>
            <a:chOff x="5019840" y="1294920"/>
            <a:chExt cx="3256920" cy="243900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5188320" y="1296000"/>
              <a:ext cx="308844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16200000">
              <a:off x="4523040" y="1791720"/>
              <a:ext cx="1209240" cy="21564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o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4538880" y="3024000"/>
              <a:ext cx="1183320" cy="21564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d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80880" y="1297080"/>
            <a:ext cx="4408560" cy="495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What is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e DAM will co-optimize energy , ancillary services, and CRRs to obtain the lowest TOTAL cost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urrent ERCOT zonal mark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0400">
              <a:spcBef>
                <a:spcPts val="10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perates a sequential market, where A/S are cleared in the DA &amp; Energy is cleared in 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0400">
              <a:spcBef>
                <a:spcPts val="10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oes not evaluate the trade-offs between providing energy vs. A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llows ERCOT to procure ancillary services available at least cost by reserving generation to provide reserves versus energy (or vice vers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-optimization produces the lowest overall power (theoretical) costs for the day, so it is possible that LMPs will not be minimized for every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0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/S clearing prices include consideration of the opportunity cost of, and lost revenues associated with, providing A/S instead of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3860640"/>
            <a:ext cx="3276720" cy="23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1699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What does it mean to 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ticipants should be indifferent to providing energy or ancilla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114-3613-4269-9AAC-839010D75F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is segment is intended to provide market participants with a better understanding of what they will be doing under a Nodal market paradig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F6B-4B77-403C-9889-D7AEE6DED4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419720" y="1285920"/>
            <a:ext cx="43434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3.3 Unit Commi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1600200"/>
            <a:ext cx="0" cy="2265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571640" y="3865680"/>
            <a:ext cx="27399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60920" y="1797120"/>
            <a:ext cx="2386080" cy="1920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60920" y="1994040"/>
            <a:ext cx="1989000" cy="182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2280" y="1746360"/>
            <a:ext cx="1989000" cy="1823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72080" y="160020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ergy Offe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67160" y="16542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ecasted Dem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49840" y="18446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id-In Dem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56160" y="2732040"/>
            <a:ext cx="397080" cy="345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45320" y="2428920"/>
            <a:ext cx="396720" cy="3445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RU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648400" y="30780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1120" y="3875040"/>
            <a:ext cx="573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0 M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33960" y="2773440"/>
            <a:ext cx="0" cy="10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46680" y="3875040"/>
            <a:ext cx="57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5 M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00760" y="2257560"/>
            <a:ext cx="188604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In this example, an additional 25 MW of generation would be RUC’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172200" y="2819160"/>
            <a:ext cx="9907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269720"/>
            <a:ext cx="3809880" cy="49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1713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What is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nsures sufficient generation is on-line in the right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y generator committed by ERCOT are eligible to recover thei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RCOT will perform several centralized unit commi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797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AM commitment, DA RUC, HA RU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ach process leverages the same algorithm: security constrained unit commi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-2797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nsures constraints are not violated: line limits, ramp rat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mmitment costs are recovered similar to today’s RPRS: 1st uplifted to cap short resources, then to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165560"/>
            <a:ext cx="4343400" cy="208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1699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What does it mean to 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ticipants can self-commit their units or leave the decision to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spcBef>
                <a:spcPts val="15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nancial incentives f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r allowing ERCOT to commit your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934-BD1E-4FA8-BDE7-2395CD18D1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3.4 Simultaneous Feasibility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1630440"/>
            <a:ext cx="35812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69560" indent="-1695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What is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o ensure revenue adequacy and reliability, ERCOT will run a simultaneous feasibility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The Simultaneous Feasibility Test (SFT) uses a DC power-flow mo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The SFT models the effect of CRR Auction bids and offers on the expected system network topology during the auction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t a system reliability test and is not intended to model actual system operating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un during the determination of the winning bids and offers for the CRR A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3809880"/>
            <a:ext cx="358164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What does it mean to 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y determine there are some oversold qua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oversold quantities exist, participants CRRs may be d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1600200"/>
            <a:ext cx="35816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981080"/>
            <a:ext cx="8384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ction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981080"/>
            <a:ext cx="8384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c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ward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o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1981080"/>
            <a:ext cx="8384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RR Bi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Of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5409720" y="2685600"/>
            <a:ext cx="2667240" cy="228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3048120"/>
            <a:ext cx="2743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multaneous Feasibility T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D08-5B1E-4E3E-9224-547174621E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3.5 Dual 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57360" y="1345680"/>
            <a:ext cx="3906720" cy="49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What is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RCOT will operate a dual settlement system for Day-Ahead and Real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ttlement will occur at settlement points, including nodes, load zones, and h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ew charge types/billing determinants will be created for each of the new markets/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articipants will continue to receive settlement statements and inv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articipants will not receive a separate settlement for CR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ources will be settled on a nodal basis every 1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oads will continued to be settled on a zonal basis using load-weighted average of calculated LMP prices within pre-determined z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44960" y="3581280"/>
            <a:ext cx="35132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What does it mean to 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parate settlement for DA and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settlement and invoicing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settlement locations (zones, hubs, n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charge types &amp; bil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6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creased credit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915080" y="1353960"/>
            <a:ext cx="3558960" cy="205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8C0-CF44-49D6-9E89-2F2DB26680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or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Bids/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Ou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atch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ele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Sett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 Impacts to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BE5-C127-4498-8FB1-56CDE61470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1 Submit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submit resource parameters to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: HSL, LSL, Type, QF Status, Normal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: Seasonal MW Rating, Max Weekly St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parameter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Resources, Controlla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uses parameters in DAM &amp; RU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typically do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Monitor may requir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596-BEE2-4754-9F85-9B7D36187A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2 Maintai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implementing a Network Model Management System (NM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consistency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Planning Mode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R Model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perations Mod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s maintain modeling data w/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Ss/RAPs defin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published on ERCOT MIS in CIM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DEF-5E02-4E0C-8BF1-14503444B1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3 Retriev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upgrading Market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information available to 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ditions (A/S, Forecas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Information (DAM, CR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ing Results (Nodal Prices, MCPC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an be retrieved several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, File Download, Programmatic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al Sandbox environment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6F6-EB6B-40AF-9B45-9942A9DF07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4 Plan fo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Plan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d by Current Operating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ime horizon (next 7 operating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 contains additi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L, LSL, HEL, LEL, A/S Capacit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must update COP throughout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ed a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84C-6F34-4972-98C4-DCC1FBBF81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5 Commi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can still self-commi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can also have ERCOT commi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erforms commitments du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-Ahead Market, DRUC/HR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requires mor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up Costs, Minimum Energ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s exist to allow ERCOT to 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-whole, Claw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A8C-15E6-4672-B125-E02BC5C323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6 Submit Sche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teral energy market re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process being repl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balanced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mismatched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ies exist for coming in “capacity sho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tracks capacity available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Capacity T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Bilateral Energy T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A/S T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Energy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865-16FF-4BF8-AB1C-B9BB586348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t the completion of this course of instruction you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nderstand how ERCOT’s design e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e familiar with key Nodal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ve knowledge of impacts to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CC6-7D11-44A0-BDA2-1CE9905DA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7 Submit Bids/O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change in jarg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Zonal: You “Bid” to Buy and 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odal: You “Bid to Buy” and “Offer to Sel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, QSEs can submit bids/offer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-Ahea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Revenue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T, QSE can submit offer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ata structure for all bids and 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62E-E1B6-4E1D-83D8-1608D1E02D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8 Maintain Ou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age process largely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erves as coordinator of ou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s Outage Schedul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Ps &amp; Resource Entities provide ERCOT w/ 12-month outag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updated mon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an reject requests under certain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ages must be reflected in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6FE-3155-40B7-BDD9-9518C63FAE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9 Dispatch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entrally dispatches all resources using new SCE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atch generates resource bas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atch levels determined by ei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Offer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must provide new RT telemetry data to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541-99C7-49BC-AD93-537ECF9D2A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10 Provide Tele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/TOs will provide telemetry to ERC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metry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of Transmiss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of Resource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metry used in RT Network Secur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updated at a 10s or less scan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ondition detection cap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fully redund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9BA-5965-4177-B854-7B035D6ACA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11 Control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LFC used to maintain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use a cost-optimizatio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s every four 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control signals to each QSE providing Reg &amp; RRS using the ICCP data link or S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provides ERCOT with participation factor every 4s for each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 telemetry used to gather Resource output &amp; actual system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s settled using RT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AFD-34A6-4551-98A4-F3C04D6952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12 Respond to Emer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nditions may trigger Emergency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ED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conditions communicated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ndition Notice, Advisory, Alert, Emergency No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Emergencies, ERCOT may issue a Emergency Bas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operating parameters will be ho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CP Protocol is unchanged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6186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ome NPRRs impact EE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57C-D5E8-47BE-8BE8-23543116E8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13 Validate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et of settlement charges/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 does not rely on met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a separate DAM settlement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on accelerated timeline; RT on same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has daily invoices; RT has wee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paymen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dispute 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58B-74B5-46A0-B888-0CA20E3618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14 Analyze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aspect of operations is P&amp;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ources of revenue (DAM Energy Credi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ources of cost (DAM Make-Whole Charg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st allocation requir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290-5A4A-4867-A4AA-A94413AB51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5.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09120" y="1422360"/>
            <a:ext cx="3762360" cy="467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SE 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for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 Bids/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Ou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Tele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 to Emer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 Sett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48120" y="1422360"/>
            <a:ext cx="3762360" cy="467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Ou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Tele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D70-2B09-4AFC-B591-7D571CF5D8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1295280"/>
            <a:ext cx="2438280" cy="4114800"/>
          </a:xfrm>
          <a:prstGeom prst="rect">
            <a:avLst/>
          </a:prstGeom>
          <a:noFill/>
          <a:ln w="0">
            <a:noFill/>
          </a:ln>
          <a:effectLst>
            <a:outerShdw dist="81185" dir="1312197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BFB-A2C3-421E-9F8F-631ADEF99C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dal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undament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mpact to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50F-7F34-4F33-A07B-022AE97E49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. Nodal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Zon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asons for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oad to No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ssues Along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F28-CC8D-4386-AD72-AFC99EB416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.1 The Zon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40976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following attributes are often used to describe the current zonal marke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38080" y="1943280"/>
            <a:ext cx="7543800" cy="930240"/>
            <a:chOff x="838080" y="1943280"/>
            <a:chExt cx="7543800" cy="930240"/>
          </a:xfrm>
        </p:grpSpPr>
        <p:sp>
          <p:nvSpPr>
            <p:cNvPr id="60" name=""/>
            <p:cNvSpPr/>
            <p:nvPr/>
          </p:nvSpPr>
          <p:spPr>
            <a:xfrm>
              <a:off x="838080" y="1943280"/>
              <a:ext cx="1600200" cy="93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rtfolio Mar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38280" y="1943280"/>
              <a:ext cx="5943600" cy="93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onal boundaries change annuall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lows Qualified Scheduling Entities (QSEs) to optimize their fle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 has the ability to deploy resource specif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38080" y="5159520"/>
            <a:ext cx="7543800" cy="936360"/>
            <a:chOff x="838080" y="5159520"/>
            <a:chExt cx="7543800" cy="936360"/>
          </a:xfrm>
        </p:grpSpPr>
        <p:sp>
          <p:nvSpPr>
            <p:cNvPr id="63" name=""/>
            <p:cNvSpPr/>
            <p:nvPr/>
          </p:nvSpPr>
          <p:spPr>
            <a:xfrm>
              <a:off x="838080" y="5159520"/>
              <a:ext cx="1600200" cy="92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ail Cho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38280" y="5159520"/>
              <a:ext cx="5943600" cy="93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ility to choose your retail provi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erating under price to beat construct (ends in 1/1/2007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ntralized data aggreg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38080" y="4076640"/>
            <a:ext cx="7543800" cy="930240"/>
            <a:chOff x="838080" y="4076640"/>
            <a:chExt cx="7543800" cy="930240"/>
          </a:xfrm>
        </p:grpSpPr>
        <p:sp>
          <p:nvSpPr>
            <p:cNvPr id="66" name=""/>
            <p:cNvSpPr/>
            <p:nvPr/>
          </p:nvSpPr>
          <p:spPr>
            <a:xfrm>
              <a:off x="838080" y="4076640"/>
              <a:ext cx="1600200" cy="93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cillary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k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4076640"/>
              <a:ext cx="5943600" cy="93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pacity products are bought primarily in Day Ahead (DA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-wide, hourly &amp; have separate clearing prices per produc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lacement capacity is primarily Day Ahe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838080" y="3009960"/>
            <a:ext cx="7543800" cy="930240"/>
            <a:chOff x="838080" y="3009960"/>
            <a:chExt cx="7543800" cy="930240"/>
          </a:xfrm>
        </p:grpSpPr>
        <p:sp>
          <p:nvSpPr>
            <p:cNvPr id="69" name=""/>
            <p:cNvSpPr/>
            <p:nvPr/>
          </p:nvSpPr>
          <p:spPr>
            <a:xfrm>
              <a:off x="838080" y="3009960"/>
              <a:ext cx="1600200" cy="93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lanc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lateral Mar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38280" y="3009960"/>
              <a:ext cx="5943600" cy="93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COT only manages the residual energy, less than 5% of the ener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dominant product is sellers cho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laxed balanced schedules was implemented Nov 1, 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973-B413-44AA-9663-E69D1BA464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.2 Reasons for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1638360"/>
            <a:ext cx="2395440" cy="520200"/>
          </a:xfrm>
          <a:prstGeom prst="rect">
            <a:avLst/>
          </a:prstGeom>
          <a:solidFill>
            <a:srgbClr val="00499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folio-level Bidding, Scheduling, &amp; Dis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05440" y="1638360"/>
            <a:ext cx="2395440" cy="520200"/>
          </a:xfrm>
          <a:prstGeom prst="rect">
            <a:avLst/>
          </a:prstGeom>
          <a:solidFill>
            <a:srgbClr val="00499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sufficient Price Transpa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644480"/>
            <a:ext cx="2400480" cy="520200"/>
          </a:xfrm>
          <a:prstGeom prst="rect">
            <a:avLst/>
          </a:prstGeom>
          <a:solidFill>
            <a:srgbClr val="00499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Direct Assignment of Local Cong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05440" y="2171880"/>
            <a:ext cx="2395440" cy="37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499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14880" y="2171880"/>
            <a:ext cx="2395440" cy="37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499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0480" y="2171880"/>
            <a:ext cx="2395800" cy="37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499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00" y="2324160"/>
            <a:ext cx="2105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8120" indent="-166680">
              <a:spcBef>
                <a:spcPts val="34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"/>
              </a:rPr>
              <a:t>Local congestion is congestion that cannot be resolved with balancing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120" indent="-166680">
              <a:spcBef>
                <a:spcPts val="34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"/>
              </a:rPr>
              <a:t>ERCOT uses Out-of-Merit replacement Capacity (OOMC) and Replacement Reserves (RPRS) to solve local cong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120" indent="-166680">
              <a:spcBef>
                <a:spcPts val="34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"/>
              </a:rPr>
              <a:t>These costs are uplifted to participants on a load-ratio share (LRS)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4880" y="2324160"/>
            <a:ext cx="2242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7760" indent="-174600">
              <a:spcBef>
                <a:spcPts val="34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"/>
              </a:rPr>
              <a:t>Qualified Scheduling Entities (QSE) submit balanced schedules for a specific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174600">
              <a:spcBef>
                <a:spcPts val="34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"/>
              </a:rPr>
              <a:t>ERCOT issues portfolio-level balancing energy dispatch i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174600">
              <a:spcBef>
                <a:spcPts val="34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"/>
              </a:rPr>
              <a:t>ERCOT operators have limited tools to resolve cong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174600">
              <a:spcBef>
                <a:spcPts val="34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"/>
              </a:rPr>
              <a:t>This results in a less efficient dispatch of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05440" y="2324160"/>
            <a:ext cx="1862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9680" indent="-160560">
              <a:spcBef>
                <a:spcPts val="400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Less efficient power plant dis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680" indent="-160560">
              <a:spcBef>
                <a:spcPts val="400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Less-efficient congestio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680" indent="-160560">
              <a:spcBef>
                <a:spcPts val="400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Muted or distorted signals for transmission &amp; generation s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9680" indent="-160560">
              <a:spcBef>
                <a:spcPts val="400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FD2-F0B1-447D-AD28-3493F224F7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.3 The Road to No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54160" y="3564000"/>
            <a:ext cx="7216560" cy="193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333399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87520" y="3757680"/>
            <a:ext cx="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87680" y="3048120"/>
            <a:ext cx="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24240" y="3757680"/>
            <a:ext cx="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3757680"/>
            <a:ext cx="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9240" y="3048120"/>
            <a:ext cx="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273560"/>
            <a:ext cx="18050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Jul-31-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ingle Control Area Operations in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9000" y="2287440"/>
            <a:ext cx="18050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Jan-1-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tail Market in Portions of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24240" y="3886200"/>
            <a:ext cx="20714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 Narrow"/>
              </a:rPr>
              <a:t>Sep-2002 – Jul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Project #26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Rulemaking Proceeding on Wholes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Market Design Issues in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5920" y="2158920"/>
            <a:ext cx="2071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g-21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ubstantive Rule §25.501 issu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62440" y="3757680"/>
            <a:ext cx="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0680" y="3757680"/>
            <a:ext cx="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95840" y="3886200"/>
            <a:ext cx="20718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ep-2003 – Mar-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takeholders develop &amp; file nodal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04320" y="3757680"/>
            <a:ext cx="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02400" y="4324320"/>
            <a:ext cx="1336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c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odal Go-Live Schedul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34040" y="3048120"/>
            <a:ext cx="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9280" y="1573200"/>
            <a:ext cx="14698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exas Public Utilities Commission (PUCT) approves nodal protoco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0680" y="3435480"/>
            <a:ext cx="333360" cy="450720"/>
          </a:xfrm>
          <a:custGeom>
            <a:avLst/>
            <a:gdLst>
              <a:gd name="textAreaLeft" fmla="*/ 0 w 333360"/>
              <a:gd name="textAreaRight" fmla="*/ 333720 w 33336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009999">
                  <a:alpha val="80392"/>
                </a:srgbClr>
              </a:gs>
              <a:gs pos="100000">
                <a:srgbClr val="a8db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6700680" y="3435480"/>
            <a:ext cx="333360" cy="450720"/>
          </a:xfrm>
          <a:custGeom>
            <a:avLst/>
            <a:gdLst>
              <a:gd name="textAreaLeft" fmla="*/ 0 w 333360"/>
              <a:gd name="textAreaRight" fmla="*/ 333720 w 33336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60392"/>
                </a:srgbClr>
              </a:gs>
              <a:gs pos="100000">
                <a:srgbClr val="fe4242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4040" y="421956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A9A-CBF3-4B56-9F28-594F9B6013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.4 Issues Along the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9400" y="5038560"/>
            <a:ext cx="25430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876"/>
              </a:spcBef>
              <a:buClr>
                <a:srgbClr val="00499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 Narrow"/>
              </a:rPr>
              <a:t>484 Protocol Revision Requests (PRRs) by end of December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76"/>
              </a:spcBef>
              <a:buClr>
                <a:srgbClr val="00499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 Narrow"/>
              </a:rPr>
              <a:t>Over $450 million in local congestion collected since market 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440" y="1371600"/>
            <a:ext cx="25430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876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"/>
              </a:rPr>
              <a:t>Concerns over stable load z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876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"/>
              </a:rPr>
              <a:t>Need for transparency and improved dis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876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"/>
              </a:rPr>
              <a:t>Desire for direct assignment (cost caus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2212560" y="2960640"/>
            <a:ext cx="924120" cy="870120"/>
          </a:xfrm>
          <a:custGeom>
            <a:avLst/>
            <a:gdLst>
              <a:gd name="textAreaLeft" fmla="*/ 144360 w 924120"/>
              <a:gd name="textAreaRight" fmla="*/ 808920 w 924120"/>
              <a:gd name="textAreaTop" fmla="*/ 217440 h 870120"/>
              <a:gd name="textAreaBottom" fmla="*/ 652680 h 870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4990"/>
          </a:solidFill>
          <a:ln w="9360">
            <a:solidFill>
              <a:srgbClr val="5045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6672240" y="4120920"/>
            <a:ext cx="923760" cy="870120"/>
          </a:xfrm>
          <a:custGeom>
            <a:avLst/>
            <a:gdLst>
              <a:gd name="textAreaLeft" fmla="*/ 144360 w 923760"/>
              <a:gd name="textAreaRight" fmla="*/ 808560 w 923760"/>
              <a:gd name="textAreaTop" fmla="*/ 217440 h 870120"/>
              <a:gd name="textAreaBottom" fmla="*/ 652680 h 870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4990"/>
          </a:solidFill>
          <a:ln w="9360">
            <a:solidFill>
              <a:srgbClr val="5045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23840" y="3870360"/>
            <a:ext cx="7226280" cy="212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400080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4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95360" y="4083120"/>
            <a:ext cx="0" cy="568080"/>
          </a:xfrm>
          <a:prstGeom prst="line">
            <a:avLst/>
          </a:prstGeom>
          <a:ln w="9360">
            <a:solidFill>
              <a:srgbClr val="004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68960" y="4083120"/>
            <a:ext cx="0" cy="568080"/>
          </a:xfrm>
          <a:prstGeom prst="line">
            <a:avLst/>
          </a:prstGeom>
          <a:ln w="9360">
            <a:solidFill>
              <a:srgbClr val="004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95360" y="4297320"/>
            <a:ext cx="20736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0146"/>
                </a:solidFill>
                <a:latin typeface="Arial Narrow"/>
              </a:rPr>
              <a:t>Sep-2002 – Jul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0146"/>
                </a:solidFill>
                <a:latin typeface="Arial Narrow"/>
              </a:rPr>
              <a:t>Project #26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0146"/>
                </a:solidFill>
                <a:latin typeface="Arial Narrow"/>
              </a:rPr>
              <a:t>Rulemaking Proceeding on Wholes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40146"/>
                </a:solidFill>
                <a:latin typeface="Arial Narrow"/>
              </a:rPr>
              <a:t>Market Design Issues in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4614840"/>
            <a:ext cx="1695600" cy="0"/>
          </a:xfrm>
          <a:prstGeom prst="line">
            <a:avLst/>
          </a:prstGeom>
          <a:ln w="9360">
            <a:solidFill>
              <a:srgbClr val="004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363760"/>
            <a:ext cx="20750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990"/>
                </a:solidFill>
                <a:latin typeface="Arial Narrow"/>
              </a:rPr>
              <a:t>Aug-21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 Narrow"/>
              </a:rPr>
              <a:t>Substantive Rule §25.501 issu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48120" y="3289320"/>
            <a:ext cx="0" cy="568440"/>
          </a:xfrm>
          <a:prstGeom prst="line">
            <a:avLst/>
          </a:prstGeom>
          <a:ln w="9360">
            <a:solidFill>
              <a:srgbClr val="004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9280" y="3324240"/>
            <a:ext cx="0" cy="568440"/>
          </a:xfrm>
          <a:prstGeom prst="line">
            <a:avLst/>
          </a:prstGeom>
          <a:ln w="9360">
            <a:solidFill>
              <a:srgbClr val="004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38960" y="3324240"/>
            <a:ext cx="0" cy="568440"/>
          </a:xfrm>
          <a:prstGeom prst="line">
            <a:avLst/>
          </a:prstGeom>
          <a:ln w="9360">
            <a:solidFill>
              <a:srgbClr val="004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30880" y="2473200"/>
            <a:ext cx="20750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990"/>
                </a:solidFill>
                <a:latin typeface="Arial Narrow"/>
              </a:rPr>
              <a:t>Sep-2003 – Mar-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990"/>
                </a:solidFill>
                <a:latin typeface="Arial Narrow"/>
              </a:rPr>
              <a:t>Stakeholders develop &amp; file nodal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408560" y="4121280"/>
            <a:ext cx="923760" cy="869760"/>
          </a:xfrm>
          <a:custGeom>
            <a:avLst/>
            <a:gdLst>
              <a:gd name="textAreaLeft" fmla="*/ 144360 w 923760"/>
              <a:gd name="textAreaRight" fmla="*/ 808560 w 923760"/>
              <a:gd name="textAreaTop" fmla="*/ 217440 h 869760"/>
              <a:gd name="textAreaBottom" fmla="*/ 652320 h 869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4990"/>
          </a:solidFill>
          <a:ln w="9360">
            <a:solidFill>
              <a:srgbClr val="5045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87A-4033-4D95-954D-43A2818B22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0:14:27Z</dcterms:created>
  <dc:creator>OTStrain01</dc:creator>
  <dc:description/>
  <dc:language>en-US</dc:language>
  <cp:lastModifiedBy>vweldon</cp:lastModifiedBy>
  <dcterms:modified xsi:type="dcterms:W3CDTF">2007-03-16T19:53:51Z</dcterms:modified>
  <cp:revision>28</cp:revision>
  <dc:subject/>
  <dc:title>Slide 1</dc:title>
</cp:coreProperties>
</file>