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1EC-EE64-45B9-9739-E7D2AAB0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1DC-5D45-48A2-B23C-87718E12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77F-5E16-4F3A-AD41-660940D7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E52-0199-4C60-ABFB-FDA107A1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9A0-C522-448C-82E9-2DBEE652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844-5A64-48A8-A623-CAC89D24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5CC-F4A9-43EE-90E8-D198CF06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DED-5C23-40F4-97DB-7BC764F7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674-9DA2-40BE-9B8B-31BA8839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0A8-D4BC-4BB1-A3EE-6D50FC8F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23B-73A4-40D1-8E7B-22A7FF7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7E4-9301-4559-A523-FE698596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DEE1-DA96-44D7-866E-D364D5D04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COT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2007 ERC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Se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 R. J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C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and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growth in ERCOT is currently 2.3%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dditional new resources ERCOT will fall below the 12.5% reserve margin in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 diversity is a real consideration in ERCOT – currently, 70% of our capacity is natural gas f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generation projects are in the permitting or study phase – unknown how many will be b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s show a possible need for up to 75,000 MW of new generation will be needed by 2026 if all units over 40 years of age are reti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gger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Future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ld is steadily industrializing and increasing its demand for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 – XXX new coal plants per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aq – increasing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th Korea – demands for petroleum in exchange for its nuclear weapons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al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tics of the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upply is finite – do we leave some for future gener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swer i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Th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nly thing that does not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change itself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ivers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COT 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YEARS OL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via Qu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4 core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is required to per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exas Senate Bill 7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was assigned these primary responsib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n 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ransmission and distribu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electric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ime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eyance of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eded to support customer choi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tail market registration &amp; swit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accu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oun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lectricity production and deliver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lesale market sett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still our key priorities with Reliability as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 Energy Policy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C approved NERC Standards become federal standards and are mandatory and subject to stiff penalties for vi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will be enforced by NERC or an approved Regional Entity with a pro forma Delegation Agreement with NE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xas Regional Entity has applied to be an 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 forma conditions for approval as an RE are set by FERC and NE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cess is expected to begin in June of 2007 and Registered Entities will be subject to 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al Wholesale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d for conversion by 1/1/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project - $263 Million cost to ERCOT ISO – Market Participant costs are ad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ieces to the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startup and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hedule is t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Participant participation is critical to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ewable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now has about 3,000 MW of wind generation – the most of any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sands more MW of wind are planned or proposed – off shore and coastal being added to the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al limits under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cillary Services requirements and lim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al and stability transmission lim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ources of renewable are coming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Ad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Improvements 2004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$1.3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45 kV – 800 circuit m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 kV – 2,100 circuit m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,000 Autotransformer M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Improvements 2007-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$3.1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45 kV – 1,400 circuit m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 kV – 1,600 circuit m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,000 Autotransformer M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Transmiss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ve Renewable Energy Zones – C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the legislature in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 PUC rule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ERCOT studies are complete with many options to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ke holders are making their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ransmission proposals from stake 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gy Texas integr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146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0:51:03Z</dcterms:created>
  <dc:creator>Sam Jones</dc:creator>
  <dc:description/>
  <dc:language>en-US</dc:language>
  <cp:lastModifiedBy>vweldon</cp:lastModifiedBy>
  <dcterms:modified xsi:type="dcterms:W3CDTF">2007-05-18T14:39:37Z</dcterms:modified>
  <cp:revision>61</cp:revision>
  <dc:subject/>
  <dc:title>PowerPoint Presentation</dc:title>
</cp:coreProperties>
</file>