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BA57-A050-487A-A8F9-62ACC061C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N-1 Combined-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7DCC-F190-431F-A245-4AABF310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4997-C8C8-4F21-868B-8C1D9C27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EFD6-7E0E-4AA9-BE87-990F648C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C2F2-AA22-4060-89BD-DEFCF000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9908-8A58-4829-B86F-80D19324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A4EF-AD23-40FB-A6F3-43F23B3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54C1-1975-44F0-A725-96DD8AC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4B59-941F-419C-9BCF-5E258AF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040A-CF72-4724-8EAD-8BF8DFF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E4C9-E71A-417F-B132-CC7538C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C485-C01C-4416-ADA1-576C28C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C23C-E66F-4E13-A52A-8B656F4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350-A7D5-4456-A52F-7E132D1E7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9BA8-3667-4D37-B965-19BE6660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wer Plant Oper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Operations Semina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am-Water Cyc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am Pla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am plants can use coal, oil, gas or nuclear fu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f energy conversion reactions are different for different fu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limi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um-type Boiler Compon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892080"/>
            <a:ext cx="807696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eam Turbines – good and b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urbine S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 (HP) Turb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t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 to Re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te Pressure (IP) Turb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eated s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 to LP Tu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(LP) Turb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turbine exh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 to Conden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659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densate/Feedwater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xilia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2160" y="1144440"/>
            <a:ext cx="70866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xilia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5912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nvironmental Limi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rpose Of This Cour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overview of generatio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various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per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el Limitations (Coal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el limitations (Natural Ga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intenance Limi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xiliary equipment out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t cycle 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verizers or oil pu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 or FD f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rculating water pu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erating Limi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s in feedw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equipment thermal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vibration on rotating equ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condenser backpres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um l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y condenser water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eam Plant Response to Dispatc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bustion Turb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bustion Turb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179830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T  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T Dis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the purpose of an electrical gener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 advantages and disadvantages of the various prime mover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te the purpose of a “prime mover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y four types of prime mov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 the principles of operation of each of the various power plant 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te the common sources of heat energy used in the generation of electricit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 the basic heat cycle of a steam turbine power pla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st other sources of non-heat energy used in the generation of electric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the responsiveness of the various power plant types to dispatch instru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the responsiveness of the various power plant types to load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nvironmental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T Response to Dispat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bined Cycle Uni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3080" y="1600200"/>
            <a:ext cx="845820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6280" y="1042920"/>
            <a:ext cx="6391440" cy="4772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bined Cycle 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bined Cycle 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bined Cycle Dispatch Respon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WR Nuclear (Single Loop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743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actor Ope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 the following issues associated with power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or Soaks, hold time and lockouts (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p rates and what affects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with alternate fuel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e leaks and why unit shut down rather than continue to run when on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ine and boiler control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factors, D  curves, Hydrogen cooling and P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quired test and other in house test, such as, valve test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and Auxiliary Service transformer functions, Station servi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uclear Limi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w response to large changes in 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st-efficient when running at full power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staff required (not just oper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te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uclear 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uclear Response to Dispat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ferred last resort for balancing down (done by OO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operation limited by license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ater Turbi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HydroElectric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Hydro Generating Pla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capability depends on two fac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ydro 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l fuel c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ds itself to automatic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ydro disadvanta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ydro Ope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34880" y="4811760"/>
            <a:ext cx="49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Power (kW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848 * Flow (ft3/sec * gross head (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0.0848 * 75 * 500 = 3168.75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ydro Respon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ad reduction – fairly quick respon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ad increase – fairly slow response (safe increase in water flo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limited by available head (penstock pressur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indmil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515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512720" y="6361200"/>
            <a:ext cx="51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awea.org/faq/tutorial/wwt_basic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e the purpose of an electrical generato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 Mechanical energy into Electrical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 controlled by strength of magnetic field (usually in the rotor) (exci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controlled by speed of rotation of the ro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determined by connected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ind power, the good and the b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ind Response to Dispat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reliable for increased output instr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quickly respond to decreased output instr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648320" cy="3157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esel Eng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9528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energy sou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d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dfill g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581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it works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08520" y="228600"/>
            <a:ext cx="4106880" cy="647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4680" y="1828800"/>
            <a:ext cx="421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magnet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nd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urpose Of A “Prime Mover”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ypes Of Prime Mov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nergy Conver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666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e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e M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21:53:18Z</dcterms:created>
  <dc:creator>Jim Bowles</dc:creator>
  <dc:description/>
  <dc:language>en-US</dc:language>
  <cp:lastModifiedBy>vweldon</cp:lastModifiedBy>
  <dcterms:modified xsi:type="dcterms:W3CDTF">2007-02-07T15:49:54Z</dcterms:modified>
  <cp:revision>17</cp:revision>
  <dc:subject/>
  <dc:title>Power Plant Operation</dc:title>
</cp:coreProperties>
</file>