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69B-405E-47E7-BCED-248ECDB4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855-D7FB-4AC0-9D26-F8D09949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477-1233-45F0-8065-B50118E5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F0D-C3E1-45B1-9BFD-9E301CEB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D1F-72F5-465A-9FB2-7584C976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809-D466-4C18-B26E-E89627D5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C3A-E526-4E64-96C2-BFADA303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F32-0E47-48AB-9666-FD49664D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0D3-C9F8-4B2E-9186-B00DAC85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9AC-27C5-4890-84DB-3D8409A9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405-DE19-4A38-90D9-79C07C9B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3D4-55E5-411D-86C7-B75625EC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108C-15B2-4EF9-B5AC-81B669821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962520" y="6213600"/>
            <a:ext cx="1245960" cy="64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omm/mkt_notices/pobs/2006/Power_Operations_Bulletin_266.pdf" TargetMode="External"/><Relationship Id="rId2" Type="http://schemas.openxmlformats.org/officeDocument/2006/relationships/hyperlink" Target="http://oldercot.ercot.com/tmaps/ListMaps.cfm?GroupID=6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people.com/people/package/sma2006/gallery/0,,1539441_1559557_2,00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 And Energizing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. Curtis Crews, PE,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’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ering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Mode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50E-BD1C-4DB1-9945-1791A1E99A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od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33cc33"/>
                </a:solidFill>
                <a:uFillTx/>
                <a:latin typeface="Arial"/>
              </a:rPr>
              <a:t>30-day minimum not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a a Service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EN (more details)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eeded for Real-time operations- Think SCADA/ICCP 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imeline is not met an Incident Report may be gene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8F4-D8DF-4549-8942-C14C17560979}" type="slidenum">
              <a:t>10</a:t>
            </a:fld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imelin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Today-Operat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746800" y="1742760"/>
            <a:ext cx="4412160" cy="3820680"/>
            <a:chOff x="2746800" y="1742760"/>
            <a:chExt cx="4412160" cy="3820680"/>
          </a:xfrm>
        </p:grpSpPr>
        <p:sp>
          <p:nvSpPr>
            <p:cNvPr id="67" name="_s66565"/>
            <p:cNvSpPr/>
            <p:nvPr/>
          </p:nvSpPr>
          <p:spPr>
            <a:xfrm flipV="1">
              <a:off x="4401360" y="1742760"/>
              <a:ext cx="1102680" cy="955440"/>
            </a:xfrm>
            <a:custGeom>
              <a:avLst/>
              <a:gdLst>
                <a:gd name="textAreaLeft" fmla="*/ 395640 w 1102680"/>
                <a:gd name="textAreaRight" fmla="*/ 707040 w 1102680"/>
                <a:gd name="textAreaTop" fmla="*/ 342720 h 955440"/>
                <a:gd name="textAreaBottom" fmla="*/ 61272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a50021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Mode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Update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66566"/>
            <p:cNvSpPr/>
            <p:nvPr/>
          </p:nvSpPr>
          <p:spPr>
            <a:xfrm flipV="1">
              <a:off x="3849480" y="2698560"/>
              <a:ext cx="2206440" cy="955440"/>
            </a:xfrm>
            <a:custGeom>
              <a:avLst/>
              <a:gdLst>
                <a:gd name="textAreaLeft" fmla="*/ 485280 w 2206440"/>
                <a:gd name="textAreaRight" fmla="*/ 1721160 w 2206440"/>
                <a:gd name="textAreaTop" fmla="*/ 209880 h 955440"/>
                <a:gd name="textAreaBottom" fmla="*/ 7455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ergi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pd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66567"/>
            <p:cNvSpPr/>
            <p:nvPr/>
          </p:nvSpPr>
          <p:spPr>
            <a:xfrm flipV="1">
              <a:off x="3297960" y="3653640"/>
              <a:ext cx="3309480" cy="953640"/>
            </a:xfrm>
            <a:custGeom>
              <a:avLst/>
              <a:gdLst>
                <a:gd name="textAreaLeft" fmla="*/ 574560 w 3309480"/>
                <a:gd name="textAreaRight" fmla="*/ 2734920 w 3309480"/>
                <a:gd name="textAreaTop" fmla="*/ 165600 h 953640"/>
                <a:gd name="textAreaBottom" fmla="*/ 788040 h 95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5050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ergize Date Up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66568"/>
            <p:cNvSpPr/>
            <p:nvPr/>
          </p:nvSpPr>
          <p:spPr>
            <a:xfrm flipV="1">
              <a:off x="2746800" y="4608000"/>
              <a:ext cx="4412160" cy="955440"/>
            </a:xfrm>
            <a:custGeom>
              <a:avLst/>
              <a:gdLst>
                <a:gd name="textAreaLeft" fmla="*/ 663840 w 4412160"/>
                <a:gd name="textAreaRight" fmla="*/ 3748320 w 4412160"/>
                <a:gd name="textAreaTop" fmla="*/ 143640 h 955440"/>
                <a:gd name="textAreaBottom" fmla="*/ 81180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9900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0 Days prior to energiz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placing into servic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066680" y="1828800"/>
            <a:ext cx="26672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 occur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presents a rolling 30 day requirement.  Model updates today are on a bi-weekly schedule. Model Change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ergize date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57913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e color scheme…as you get closer to something real, Maroon and White appear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B82-577E-499D-8C96-1FCB7A7DCA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oday (Planning)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Rules are in sprinkled throughout the Protocol (no specific sec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references of Who? What?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ng Guide Section 5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Planning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een (14) pages of Who? What?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SSWG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4F6-0181-4B8D-AEE4-20A7AEB8BE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od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EN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SSWG Procedural Manual.. Seasonal updates t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F74-58BF-49E2-8741-D44C096168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imelin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Today-Plann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280" y="1316880"/>
            <a:ext cx="8762400" cy="4191480"/>
            <a:chOff x="152280" y="1316880"/>
            <a:chExt cx="8762400" cy="4191480"/>
          </a:xfrm>
        </p:grpSpPr>
        <p:sp>
          <p:nvSpPr>
            <p:cNvPr id="79" name="_s40967"/>
            <p:cNvSpPr/>
            <p:nvPr/>
          </p:nvSpPr>
          <p:spPr>
            <a:xfrm flipV="1">
              <a:off x="3658680" y="1316520"/>
              <a:ext cx="1749600" cy="838800"/>
            </a:xfrm>
            <a:custGeom>
              <a:avLst/>
              <a:gdLst>
                <a:gd name="textAreaLeft" fmla="*/ 627840 w 1749600"/>
                <a:gd name="textAreaRight" fmla="*/ 1121760 w 1749600"/>
                <a:gd name="textAreaTop" fmla="*/ 300960 h 838800"/>
                <a:gd name="textAreaBottom" fmla="*/ 537840 h 83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ne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40968"/>
            <p:cNvSpPr/>
            <p:nvPr/>
          </p:nvSpPr>
          <p:spPr>
            <a:xfrm flipV="1">
              <a:off x="2779920" y="2155320"/>
              <a:ext cx="3507120" cy="837360"/>
            </a:xfrm>
            <a:custGeom>
              <a:avLst/>
              <a:gdLst>
                <a:gd name="textAreaLeft" fmla="*/ 771120 w 3507120"/>
                <a:gd name="textAreaRight" fmla="*/ 2736000 w 3507120"/>
                <a:gd name="textAreaTop" fmla="*/ 183960 h 837360"/>
                <a:gd name="textAreaBottom" fmla="*/ 653400 h 83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o 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ears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40969"/>
            <p:cNvSpPr/>
            <p:nvPr/>
          </p:nvSpPr>
          <p:spPr>
            <a:xfrm flipV="1">
              <a:off x="1905120" y="2993400"/>
              <a:ext cx="5256720" cy="838800"/>
            </a:xfrm>
            <a:custGeom>
              <a:avLst/>
              <a:gdLst>
                <a:gd name="textAreaLeft" fmla="*/ 912600 w 5256720"/>
                <a:gd name="textAreaRight" fmla="*/ 4344120 w 5256720"/>
                <a:gd name="textAreaTop" fmla="*/ 145440 h 838800"/>
                <a:gd name="textAreaBottom" fmla="*/ 693360 h 83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ree (3) Years O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40976"/>
            <p:cNvSpPr/>
            <p:nvPr/>
          </p:nvSpPr>
          <p:spPr>
            <a:xfrm flipV="1">
              <a:off x="1027080" y="3831480"/>
              <a:ext cx="7012800" cy="839160"/>
            </a:xfrm>
            <a:custGeom>
              <a:avLst/>
              <a:gdLst>
                <a:gd name="textAreaLeft" fmla="*/ 1055160 w 7012800"/>
                <a:gd name="textAreaRight" fmla="*/ 5957640 w 7012800"/>
                <a:gd name="textAreaTop" fmla="*/ 126000 h 839160"/>
                <a:gd name="textAreaBottom" fmla="*/ 713160 h 83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our (4) Years O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40977"/>
            <p:cNvSpPr/>
            <p:nvPr/>
          </p:nvSpPr>
          <p:spPr>
            <a:xfrm flipV="1">
              <a:off x="152280" y="4670640"/>
              <a:ext cx="8762400" cy="837000"/>
            </a:xfrm>
            <a:custGeom>
              <a:avLst/>
              <a:gdLst>
                <a:gd name="textAreaLeft" fmla="*/ 1196640 w 8762400"/>
                <a:gd name="textAreaRight" fmla="*/ 7565760 w 8762400"/>
                <a:gd name="textAreaTop" fmla="*/ 114120 h 837000"/>
                <a:gd name="textAreaBottom" fmla="*/ 722880 h 83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Five (5 ) Years Ou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5181480" y="1752480"/>
            <a:ext cx="1447920" cy="76320"/>
          </a:xfrm>
          <a:prstGeom prst="rightArrow">
            <a:avLst>
              <a:gd name="adj1" fmla="val 50000"/>
              <a:gd name="adj2" fmla="val 474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175248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lide looks a little closer at updates to time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143000"/>
            <a:ext cx="19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“generalization” for illustrative purposes only.  The SSWG Manual has discrete times li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56386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e DHS color scheme……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B80C-3C12-4F21-85CF-C35E4FF7CF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imelin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Today-Plann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752200" y="1323360"/>
            <a:ext cx="5010480" cy="4338720"/>
            <a:chOff x="2752200" y="1323360"/>
            <a:chExt cx="5010480" cy="4338720"/>
          </a:xfrm>
        </p:grpSpPr>
        <p:sp>
          <p:nvSpPr>
            <p:cNvPr id="90" name="_s44038"/>
            <p:cNvSpPr/>
            <p:nvPr/>
          </p:nvSpPr>
          <p:spPr>
            <a:xfrm flipV="1">
              <a:off x="4631400" y="1323360"/>
              <a:ext cx="1252440" cy="1085040"/>
            </a:xfrm>
            <a:custGeom>
              <a:avLst/>
              <a:gdLst>
                <a:gd name="textAreaLeft" fmla="*/ 449280 w 1252440"/>
                <a:gd name="textAreaRight" fmla="*/ 803160 w 1252440"/>
                <a:gd name="textAreaTop" fmla="*/ 389160 h 1085040"/>
                <a:gd name="textAreaBottom" fmla="*/ 695880 h 108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as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pdate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44039"/>
            <p:cNvSpPr/>
            <p:nvPr/>
          </p:nvSpPr>
          <p:spPr>
            <a:xfrm flipV="1">
              <a:off x="4004640" y="2408760"/>
              <a:ext cx="2505600" cy="1085040"/>
            </a:xfrm>
            <a:custGeom>
              <a:avLst/>
              <a:gdLst>
                <a:gd name="textAreaLeft" fmla="*/ 550800 w 2505600"/>
                <a:gd name="textAreaRight" fmla="*/ 1954800 w 2505600"/>
                <a:gd name="textAreaTop" fmla="*/ 238680 h 1085040"/>
                <a:gd name="textAreaBottom" fmla="*/ 846360 h 108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Next Seas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pdat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44040"/>
            <p:cNvSpPr/>
            <p:nvPr/>
          </p:nvSpPr>
          <p:spPr>
            <a:xfrm flipV="1">
              <a:off x="3378600" y="3493800"/>
              <a:ext cx="3758040" cy="1082880"/>
            </a:xfrm>
            <a:custGeom>
              <a:avLst/>
              <a:gdLst>
                <a:gd name="textAreaLeft" fmla="*/ 652320 w 3758040"/>
                <a:gd name="textAreaRight" fmla="*/ 3105720 w 3758040"/>
                <a:gd name="textAreaTop" fmla="*/ 187920 h 1082880"/>
                <a:gd name="textAreaBottom" fmla="*/ 894960 h 108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xt Season Up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44041"/>
            <p:cNvSpPr/>
            <p:nvPr/>
          </p:nvSpPr>
          <p:spPr>
            <a:xfrm flipV="1">
              <a:off x="2752200" y="4577040"/>
              <a:ext cx="5010480" cy="1085040"/>
            </a:xfrm>
            <a:custGeom>
              <a:avLst/>
              <a:gdLst>
                <a:gd name="textAreaLeft" fmla="*/ 753840 w 5010480"/>
                <a:gd name="textAreaRight" fmla="*/ 4256640 w 5010480"/>
                <a:gd name="textAreaTop" fmla="*/ 163080 h 1085040"/>
                <a:gd name="textAreaBottom" fmla="*/ 921960 h 108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8080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Next Season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pd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066680" y="22860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s occur on all the rest of the year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3352680"/>
            <a:ext cx="19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“generalization” for illustrative purposes only.  The SSWG Manual has discrete times li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2819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3657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4648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5DB-D8DB-4346-BE08-B79A14985B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Sea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WG Seasons are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, April,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, July, August, Sept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, Nov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, January, Febr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19A-4851-482B-99C9-CE76888827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Consistenc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el Idea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to OGRR 181 there was NO requirement to ensure that data provided in Planning Models was consistent to the extent practicable with data provided for Operation Models (or vice-ver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270-D2A2-40D9-BCED-8C3279B9BB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 Tomorr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280" y="5546880"/>
            <a:ext cx="8153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Well, thank God we all made it out in time.  . . .  ‘Course now we’re equally challeng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E37-D2E6-40C4-BE22-C8848E616A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omorr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Rules are in Nodal Protocol Section 3.10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twork Operations Modeling and Telemetry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other implicit requirements are sprinkled throughout Nodal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nty-two (22) pages of Who? What? W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Guide Section 8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Operational Metering and Communication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D pages of Who? What? W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208-83CD-4271-9B53-FFB28E6956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oles of ERCOT Modeling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benefits of accurate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reliability issue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and Identify the Model schedules at a high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necessary modeling steps to energize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51E3-12B5-42A9-B3C7-DEA6F49138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omorr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SPs for changes in Transmission Grid  QSEs/PGC for changes i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quipment such as Electrical Busses, Transmission lines, circuit breakers, transformers, disconnects, reactive devices, protection and control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E3F-A8CD-45A7-A2DF-BC4B490350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omorr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33cc33"/>
                </a:solidFill>
                <a:uFillTx/>
                <a:latin typeface="Arial"/>
              </a:rPr>
              <a:t>Three (3) month minimum not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a a Network Operations Model Change Request (NOMC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EN- Summer months require more notification time (refer to Nodal Protocols 3.10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EN (more details)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eeded for Real-time operations Think ICCP 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B63-DEF2-481E-9185-00591D2EFDF3}" type="slidenum">
              <a:t>21</a:t>
            </a:fld>
          </a:p>
        </p:txBody>
      </p:sp>
    </p:spTree>
  </p:cSld>
  <p:transition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762120" y="40384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54864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changes past Jan 1 for model representing April REQUIRE a report to PUCT and WE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325-31AE-4534-A5C8-927B5D0F6F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omorr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timeline is not m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Report to PUCT and Wholesale Electric Market Monitor (WEMM) per Texas Nodal Protocol 3.10.4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24F-B800-4044-AB24-30309C2725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Comparis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Operations Today vs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morr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-  Usual Suspects remain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- Core basic elements remain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w” Electrical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tional Telemetry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- 30 days v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 mont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imum notification with more notification required for summer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708-D084-44B4-B108-9D0BD8FF10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omorr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as Nodal Protocols Section 3.10.2 and 3.11 give outline and refer to Operation Guid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298-CB0F-4036-B57A-6DEA819AAD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Comparis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lanning Today vs Tomorr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but details are T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safe to say that the Network Model Management System (NMMS) will play a significant role in all Model creation and maintenance in the future.  For more on that vis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nodal.ercot.com/projects/nmms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061-7D4C-4E86-BD70-DCC55DF23A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ization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Rules are in Protocol Section 8.8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ordination with ERCO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ior to energizing and placing into service any new or relocated Facility connected to the ERCOT Transmission Grid, TSPs shall coordinate with and receive approval from ERCO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202-E6E1-47BF-B66F-48F232DC1B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ization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by Power Operations Bulletin #266 (loca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services/comm/mkt_notices/pobs/2006/Power_Operations_Bulletin_266.pd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Procedure titled “Transmission and Generation Energize Approval Procedure”  (located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ldercot.ercot.com/tmaps/ListMaps.cfm?GroupID=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50B-C088-4442-A8BF-B78FDA1442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ization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s-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Communicate and Plan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A Service Request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Communicate and check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Communicate and call for Approval to energize (communic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Receive “OK”  a verbal approval based on Model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Energize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Follow-up with faxed form (Approval To Energize 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1D4-0FC1-420A-AFC0-17ACB567F3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 / WHO? / WHAT? /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ing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ing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ing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ization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ization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94B-D176-40F7-97AA-96DD25295F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0744200" cy="566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5D5E-B953-4CB6-84C1-C1AA3C4338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2120" y="123840"/>
            <a:ext cx="8181720" cy="6734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81680" y="6858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changes but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236232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ize Date of “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505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ize date of “X plus 2 week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257440" y="2895480"/>
            <a:ext cx="2438280" cy="9907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4760" y="4121280"/>
            <a:ext cx="4897440" cy="2730240"/>
          </a:xfrm>
          <a:custGeom>
            <a:avLst/>
            <a:gdLst/>
            <a:ahLst/>
            <a:rect l="l" t="t" r="r" b="b"/>
            <a:pathLst>
              <a:path w="3085" h="1720">
                <a:moveTo>
                  <a:pt x="2193" y="252"/>
                </a:moveTo>
                <a:cubicBezTo>
                  <a:pt x="2168" y="215"/>
                  <a:pt x="2186" y="232"/>
                  <a:pt x="2130" y="213"/>
                </a:cubicBezTo>
                <a:cubicBezTo>
                  <a:pt x="2121" y="210"/>
                  <a:pt x="2115" y="201"/>
                  <a:pt x="2106" y="197"/>
                </a:cubicBezTo>
                <a:cubicBezTo>
                  <a:pt x="2012" y="155"/>
                  <a:pt x="1909" y="170"/>
                  <a:pt x="1807" y="166"/>
                </a:cubicBezTo>
                <a:cubicBezTo>
                  <a:pt x="1722" y="138"/>
                  <a:pt x="1626" y="133"/>
                  <a:pt x="1538" y="118"/>
                </a:cubicBezTo>
                <a:cubicBezTo>
                  <a:pt x="1481" y="98"/>
                  <a:pt x="1416" y="99"/>
                  <a:pt x="1357" y="87"/>
                </a:cubicBezTo>
                <a:cubicBezTo>
                  <a:pt x="1270" y="117"/>
                  <a:pt x="1193" y="113"/>
                  <a:pt x="1097" y="118"/>
                </a:cubicBezTo>
                <a:cubicBezTo>
                  <a:pt x="1031" y="131"/>
                  <a:pt x="966" y="139"/>
                  <a:pt x="899" y="150"/>
                </a:cubicBezTo>
                <a:cubicBezTo>
                  <a:pt x="789" y="143"/>
                  <a:pt x="686" y="132"/>
                  <a:pt x="576" y="126"/>
                </a:cubicBezTo>
                <a:cubicBezTo>
                  <a:pt x="506" y="103"/>
                  <a:pt x="471" y="113"/>
                  <a:pt x="386" y="118"/>
                </a:cubicBezTo>
                <a:cubicBezTo>
                  <a:pt x="268" y="149"/>
                  <a:pt x="167" y="230"/>
                  <a:pt x="47" y="260"/>
                </a:cubicBezTo>
                <a:cubicBezTo>
                  <a:pt x="24" y="283"/>
                  <a:pt x="11" y="300"/>
                  <a:pt x="0" y="331"/>
                </a:cubicBezTo>
                <a:cubicBezTo>
                  <a:pt x="6" y="391"/>
                  <a:pt x="3" y="413"/>
                  <a:pt x="31" y="458"/>
                </a:cubicBezTo>
                <a:cubicBezTo>
                  <a:pt x="37" y="489"/>
                  <a:pt x="44" y="531"/>
                  <a:pt x="55" y="560"/>
                </a:cubicBezTo>
                <a:cubicBezTo>
                  <a:pt x="70" y="598"/>
                  <a:pt x="94" y="640"/>
                  <a:pt x="110" y="679"/>
                </a:cubicBezTo>
                <a:cubicBezTo>
                  <a:pt x="136" y="743"/>
                  <a:pt x="110" y="710"/>
                  <a:pt x="150" y="750"/>
                </a:cubicBezTo>
                <a:cubicBezTo>
                  <a:pt x="158" y="774"/>
                  <a:pt x="165" y="797"/>
                  <a:pt x="173" y="821"/>
                </a:cubicBezTo>
                <a:cubicBezTo>
                  <a:pt x="178" y="870"/>
                  <a:pt x="183" y="925"/>
                  <a:pt x="205" y="970"/>
                </a:cubicBezTo>
                <a:cubicBezTo>
                  <a:pt x="259" y="1079"/>
                  <a:pt x="362" y="1146"/>
                  <a:pt x="457" y="1215"/>
                </a:cubicBezTo>
                <a:cubicBezTo>
                  <a:pt x="494" y="1242"/>
                  <a:pt x="527" y="1274"/>
                  <a:pt x="568" y="1294"/>
                </a:cubicBezTo>
                <a:cubicBezTo>
                  <a:pt x="613" y="1361"/>
                  <a:pt x="555" y="1284"/>
                  <a:pt x="607" y="1326"/>
                </a:cubicBezTo>
                <a:cubicBezTo>
                  <a:pt x="614" y="1332"/>
                  <a:pt x="616" y="1342"/>
                  <a:pt x="623" y="1349"/>
                </a:cubicBezTo>
                <a:cubicBezTo>
                  <a:pt x="658" y="1383"/>
                  <a:pt x="701" y="1409"/>
                  <a:pt x="741" y="1436"/>
                </a:cubicBezTo>
                <a:cubicBezTo>
                  <a:pt x="768" y="1454"/>
                  <a:pt x="810" y="1495"/>
                  <a:pt x="836" y="1507"/>
                </a:cubicBezTo>
                <a:cubicBezTo>
                  <a:pt x="859" y="1517"/>
                  <a:pt x="886" y="1518"/>
                  <a:pt x="907" y="1531"/>
                </a:cubicBezTo>
                <a:cubicBezTo>
                  <a:pt x="958" y="1563"/>
                  <a:pt x="1000" y="1575"/>
                  <a:pt x="1057" y="1594"/>
                </a:cubicBezTo>
                <a:cubicBezTo>
                  <a:pt x="1066" y="1597"/>
                  <a:pt x="1072" y="1606"/>
                  <a:pt x="1081" y="1610"/>
                </a:cubicBezTo>
                <a:cubicBezTo>
                  <a:pt x="1096" y="1617"/>
                  <a:pt x="1114" y="1616"/>
                  <a:pt x="1128" y="1625"/>
                </a:cubicBezTo>
                <a:cubicBezTo>
                  <a:pt x="1136" y="1630"/>
                  <a:pt x="1143" y="1637"/>
                  <a:pt x="1152" y="1641"/>
                </a:cubicBezTo>
                <a:cubicBezTo>
                  <a:pt x="1176" y="1653"/>
                  <a:pt x="1205" y="1656"/>
                  <a:pt x="1231" y="1665"/>
                </a:cubicBezTo>
                <a:cubicBezTo>
                  <a:pt x="1261" y="1686"/>
                  <a:pt x="1290" y="1692"/>
                  <a:pt x="1325" y="1704"/>
                </a:cubicBezTo>
                <a:cubicBezTo>
                  <a:pt x="1341" y="1709"/>
                  <a:pt x="1373" y="1720"/>
                  <a:pt x="1373" y="1720"/>
                </a:cubicBezTo>
                <a:cubicBezTo>
                  <a:pt x="1544" y="1714"/>
                  <a:pt x="1715" y="1712"/>
                  <a:pt x="1886" y="1704"/>
                </a:cubicBezTo>
                <a:cubicBezTo>
                  <a:pt x="1940" y="1701"/>
                  <a:pt x="1994" y="1674"/>
                  <a:pt x="2051" y="1673"/>
                </a:cubicBezTo>
                <a:cubicBezTo>
                  <a:pt x="2159" y="1670"/>
                  <a:pt x="2267" y="1668"/>
                  <a:pt x="2375" y="1665"/>
                </a:cubicBezTo>
                <a:cubicBezTo>
                  <a:pt x="2482" y="1651"/>
                  <a:pt x="2582" y="1632"/>
                  <a:pt x="2690" y="1625"/>
                </a:cubicBezTo>
                <a:cubicBezTo>
                  <a:pt x="2754" y="1616"/>
                  <a:pt x="2816" y="1605"/>
                  <a:pt x="2880" y="1594"/>
                </a:cubicBezTo>
                <a:cubicBezTo>
                  <a:pt x="2931" y="1576"/>
                  <a:pt x="2957" y="1539"/>
                  <a:pt x="3006" y="1523"/>
                </a:cubicBezTo>
                <a:cubicBezTo>
                  <a:pt x="3043" y="1486"/>
                  <a:pt x="3040" y="1453"/>
                  <a:pt x="3053" y="1404"/>
                </a:cubicBezTo>
                <a:cubicBezTo>
                  <a:pt x="3062" y="1371"/>
                  <a:pt x="3074" y="1335"/>
                  <a:pt x="3085" y="1302"/>
                </a:cubicBezTo>
                <a:cubicBezTo>
                  <a:pt x="3079" y="1207"/>
                  <a:pt x="3085" y="1102"/>
                  <a:pt x="3061" y="1010"/>
                </a:cubicBezTo>
                <a:cubicBezTo>
                  <a:pt x="3085" y="937"/>
                  <a:pt x="3072" y="985"/>
                  <a:pt x="3061" y="828"/>
                </a:cubicBezTo>
                <a:cubicBezTo>
                  <a:pt x="3057" y="768"/>
                  <a:pt x="3050" y="678"/>
                  <a:pt x="3022" y="623"/>
                </a:cubicBezTo>
                <a:cubicBezTo>
                  <a:pt x="3006" y="592"/>
                  <a:pt x="2979" y="559"/>
                  <a:pt x="2959" y="529"/>
                </a:cubicBezTo>
                <a:cubicBezTo>
                  <a:pt x="2936" y="494"/>
                  <a:pt x="2921" y="456"/>
                  <a:pt x="2880" y="442"/>
                </a:cubicBezTo>
                <a:cubicBezTo>
                  <a:pt x="2805" y="367"/>
                  <a:pt x="2900" y="455"/>
                  <a:pt x="2832" y="410"/>
                </a:cubicBezTo>
                <a:cubicBezTo>
                  <a:pt x="2803" y="391"/>
                  <a:pt x="2788" y="367"/>
                  <a:pt x="2753" y="355"/>
                </a:cubicBezTo>
                <a:cubicBezTo>
                  <a:pt x="2677" y="302"/>
                  <a:pt x="2536" y="301"/>
                  <a:pt x="2446" y="284"/>
                </a:cubicBezTo>
                <a:cubicBezTo>
                  <a:pt x="2404" y="276"/>
                  <a:pt x="2362" y="269"/>
                  <a:pt x="2320" y="260"/>
                </a:cubicBezTo>
                <a:cubicBezTo>
                  <a:pt x="2309" y="258"/>
                  <a:pt x="2277" y="249"/>
                  <a:pt x="2288" y="252"/>
                </a:cubicBezTo>
                <a:cubicBezTo>
                  <a:pt x="2327" y="262"/>
                  <a:pt x="2367" y="269"/>
                  <a:pt x="2406" y="276"/>
                </a:cubicBezTo>
                <a:cubicBezTo>
                  <a:pt x="2425" y="279"/>
                  <a:pt x="2443" y="281"/>
                  <a:pt x="2462" y="284"/>
                </a:cubicBezTo>
                <a:cubicBezTo>
                  <a:pt x="2507" y="300"/>
                  <a:pt x="2557" y="300"/>
                  <a:pt x="2604" y="308"/>
                </a:cubicBezTo>
                <a:cubicBezTo>
                  <a:pt x="2694" y="303"/>
                  <a:pt x="2750" y="296"/>
                  <a:pt x="2832" y="284"/>
                </a:cubicBezTo>
                <a:cubicBezTo>
                  <a:pt x="2858" y="275"/>
                  <a:pt x="2903" y="245"/>
                  <a:pt x="2903" y="245"/>
                </a:cubicBezTo>
                <a:cubicBezTo>
                  <a:pt x="2918" y="170"/>
                  <a:pt x="2922" y="168"/>
                  <a:pt x="2911" y="71"/>
                </a:cubicBezTo>
                <a:cubicBezTo>
                  <a:pt x="2909" y="52"/>
                  <a:pt x="2908" y="31"/>
                  <a:pt x="2896" y="16"/>
                </a:cubicBezTo>
                <a:cubicBezTo>
                  <a:pt x="2890" y="8"/>
                  <a:pt x="2872" y="0"/>
                  <a:pt x="2872" y="0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F39-64AE-4C42-8177-AA703D81EE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52440" y="0"/>
            <a:ext cx="8791560" cy="642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5BA-CC1E-47C4-83F6-AF1B98EEF4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458200" cy="6629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9880" y="54864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 MW could not flow in the SE because model was inconsist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5B8-0E26-46F1-9CE7-0B6A507063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ization Tomorr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Rules are in Protocol Section 3.10.1 Time Line for Network Operations Model Change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RCOT shall only approve energization requests when the Transmission Element is satisfactorily modeled in the Network Operations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03F-44A5-4480-AB1E-E7EE9C4AC3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ization Tomorr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procedure is pe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to be similar to today’s process with the following cave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ize Date changes generate a PUCT/WEMM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o fax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CCE-F757-4043-9AB7-3A52EC3BF86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Mini Me - Goldmember Stand Up"/>
          <p:cNvPicPr/>
          <p:nvPr/>
        </p:nvPicPr>
        <p:blipFill>
          <a:blip r:embed="rId1"/>
          <a:stretch/>
        </p:blipFill>
        <p:spPr>
          <a:xfrm>
            <a:off x="838080" y="1447920"/>
            <a:ext cx="2076480" cy="4047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Johanna Jonsson "/>
          <p:cNvPicPr/>
          <p:nvPr/>
        </p:nvPicPr>
        <p:blipFill>
          <a:blip r:embed="rId2"/>
          <a:stretch/>
        </p:blipFill>
        <p:spPr>
          <a:xfrm>
            <a:off x="4640400" y="1519200"/>
            <a:ext cx="3512880" cy="4653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808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morous…..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0D8-B4BC-4910-A705-572903F35A58}" type="slidenum">
              <a:t>36</a:t>
            </a:fld>
          </a:p>
        </p:txBody>
      </p:sp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GEORGE CLOONEY  pho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75248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257800" y="1676520"/>
            <a:ext cx="3105000" cy="3809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676520" y="571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to have equal time 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452-0264-4682-91C0-262051620DA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138480" y="1376280"/>
            <a:ext cx="2867040" cy="4105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352680" y="57150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Complianc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73E-9E0A-450E-9898-1960CEA7C63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SSWG- Plann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DSW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perations Model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eneral benefits of accurate modeling: better result, better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issues:  Inaccurate Model produces inaccurate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reli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- Quarterly updates/Yea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-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30 days prior/3 to 6 months p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363-823E-4E51-BCDD-3EE3121C3AF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76480" y="1295280"/>
            <a:ext cx="67896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22440" y="586728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morous……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78B-C1B7-4590-B766-291E4B65D2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al to Energize Key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Communicate and Plan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A Service Request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Communicate and check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Communicate and call for Approval to energize (communic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Receive “OK”  a verbal approval based on Model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Energize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Follow-up with form (Approval To Energize Fo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0B4-13FF-4C9D-ABFF-E1A17B6B981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47920" y="5943600"/>
            <a:ext cx="19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lamorous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D4F0-95B7-40EA-B0F8-3A0FD87AE1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curate timely model of the transmission grid is required to determine current and near future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 rel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(most important!!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ecurity of the ERCOT Transmission gr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Generally speaking….Outage Scheduling/Coordination, State Estimator, Contingency Analysis, and other power application software packages depend upon an accurate model to produce better results and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C75-C374-4935-9D76-21599D919D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Steady State Working Group (SSWG) for Annual Planning Model(s)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SWG is a group of Market Participants providing the most accurate and timely model data to effectively represent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u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mission Grid.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etwork Data Support Working Group (NDSWG) for Operations Model(s).  The NDSWG is a group of Market Participants providing the most accurate and timely model data to effectively represent the ever changing Transmission Gr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0FE-EBE6-4147-BACD-1114757E02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od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and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SPs for changes in Transmission Grid  QSEs/PGC for changes i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quipment such as Transmission lines, generators, circuit breakers, transformers, disconnects, reactive devices, protection and control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81F-C519-41ED-9F8A-2AE433600E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oday (Operations)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Rules are in Protocol Section 8.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ordination for System Topology Modific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(3) pages of Who? What?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ng Guide Section 8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Operational Metering and Communication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en (11) pages of Who? What?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DSW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61C-0705-4A8C-B7CC-7C444BC652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7:43:02Z</dcterms:created>
  <dc:creator>ccrews</dc:creator>
  <dc:description/>
  <dc:language>en-US</dc:language>
  <cp:lastModifiedBy>vweldon</cp:lastModifiedBy>
  <dcterms:modified xsi:type="dcterms:W3CDTF">2007-03-09T18:57:40Z</dcterms:modified>
  <cp:revision>33</cp:revision>
  <dc:subject/>
  <dc:title>Modeling And Energizing Equipment</dc:title>
</cp:coreProperties>
</file>