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7C6-876F-41D1-9BE0-BC60C3ED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FC0-E3B3-4976-B28C-90CF4C53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FB1-85CA-4CD7-AEEA-76F1D18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E36-F4B0-4A62-891E-BA69881B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796-45AF-4803-89EE-47DDAC90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95F-A341-4109-A468-8D7E5FC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5F2-807D-4480-A263-ED5D82C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98B-70C7-4130-AE3A-467E1BFE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351-D6FF-4DEE-96D6-02DF1731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DEE-39B0-45F3-A7CA-D1DB944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FF9-E4AB-4526-B18F-1427612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A23-79FF-423C-819F-5A91803A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D7EA-3335-4BA2-8077-ADA58381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6934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eneration Dispatch in a De-Regulated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9760" y="487692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arry Gurley, P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3962160" cy="27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E63-C9DD-4404-877E-BC613BCE84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conomic Dispatch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ow assume that you know the incremental costs of each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it A – Incremental Cost = $9/MW/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it B – Incremental Cost = $10/MW/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: Which unit would you dispatch to serve the next MW of l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: Unit A, because it’s incremental cost is the 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FD5-B820-4DFD-AA33-5A2917ED01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74200" cy="59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52480" y="4608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0920" y="2932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4760" y="178920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unit should be dispatc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4A9-DF95-4DC1-87C7-9CFE78BF8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080" y="46656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304812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263-BD84-42AF-94A8-793EC4AF5D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1523880"/>
            <a:ext cx="4876920" cy="4496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86000" y="2895480"/>
            <a:ext cx="4648320" cy="152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4191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cremental Hea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60480" y="4191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807880" y="34153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7D0-8CB1-40A8-BDF7-522673803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cremental Heat Rate (or Cost)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13372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878360" y="3962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Un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1160" y="2438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ni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60948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257440" y="3657240"/>
            <a:ext cx="152280" cy="3049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429000"/>
            <a:ext cx="0" cy="16002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429000"/>
            <a:ext cx="0" cy="1600200"/>
          </a:xfrm>
          <a:prstGeom prst="line">
            <a:avLst/>
          </a:prstGeom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87720" y="5057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86440" y="5057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14880" y="3400560"/>
            <a:ext cx="1066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0D4-3CDE-4F3D-8A1D-249051860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Good Old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193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tilities operated as “control are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spatched units economically within the contro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-calculated economics every 5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-Dispatched units every 4 seconds using participation factors until new calculation wa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nually modified dispatch as necessary to deal with transmission con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485-EDAA-4D8E-AFEC-D588263758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day’s Zonal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SEs dispatch their resources economically based on their estimate of market p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SEs will buy from the market if prices are lower than their costs or will sell to the market if prices are higher than their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RCOT operates Balancing Market using economic dispatch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RCOT manages transmission congestion through Balancing Market and unit-specific OOM deploy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ECD-F7A0-41CF-BA99-48DE7854F0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morrow’s Nodal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ack to the Fu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patch all units economically within ERC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-calculate economics every 5 minutes and establish new generator set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-Dispatch units every 4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utomatically (and more precisely) modify dispatch as necessary to deal with transmission cong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020-89D7-4530-BBD3-437DD47C72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erform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30440"/>
            <a:ext cx="838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instructed Deviation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 the Zonal Market: by QSE (i.e., portfol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 the Nodal Market: unit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673-9ABC-4C6B-BB8E-4E355D8FC8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conomic dispatch is based on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heat rate (or cost), not average heat rate (or co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Zonal market dispatch is optimized by QS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using incremental cost.  ERCOT optimizes the balancing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dal market dispatch is optimized system wide by ERCOT using incremental cost of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ach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it performance changes from portfolio in the zonal market to unit-specific in the nodal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CAC-8F3E-4B4F-BC77-DFB64EC86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s section on Economic Dispatch is intended to provide the student with a basic understanding of classical economic dispatch theory and how generating units will be dispatched in both the existing ERCOT zonal market and the new ERCOT nodal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071-D7B0-4E39-800C-DD58C0644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1676520"/>
            <a:ext cx="6705720" cy="4190760"/>
            <a:chOff x="1295280" y="1676520"/>
            <a:chExt cx="6705720" cy="41907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600200" y="1752480"/>
              <a:ext cx="6172200" cy="39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95280" y="1676520"/>
              <a:ext cx="45720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5410080"/>
              <a:ext cx="6400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1676520"/>
              <a:ext cx="304560" cy="39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E1F-F9F2-4946-9A2D-D40F00645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 the completion of this course of instruction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ummarize economic dispatch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plain how units are dispatched in the current ERCOT zon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plain how units are dispatched in the new ERCOT nod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scribe the basis of  performance monitoring of generating units in the zonal and nodal market desig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892-E173-408A-9015-02CDE904C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conomic dispatch has been around for over 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ory has not changed; only the way it 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esterday: done by slid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day: done by high-spe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sults are still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A73-5CD2-448F-807E-1F33D66D9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Unit Commitmen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Deciding which units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Unit Dispatch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Deciding what MW level to move operating uni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715-BC44-4E77-974D-146F4D18D2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verage Heat Rat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the average amount of fuel used to generate a uni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cremental Heat Rate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the amount of fuel necessary to generate one additional uni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27B-A0BF-488D-8ED4-BB81EB7337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verage Cos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the average cost to generate a uni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cremental Cos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– the cost necessary to generate one additional uni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D41-8E00-42FF-B546-EDFEEECCE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conomic Disp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ased only on incremental cost or incremental heat rate (i.e., the cost to produce the next MW of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9D5-F302-47AE-B941-30C32A732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conomic Dispatch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21932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el Cost = $1/MMB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nit A = 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verage Cost of Unit A = $11/MW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nit B = 10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verage Cost of Unit B = $10/MW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oth units currently operating at 50 MW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: Which unit would you dispatch to serve the next MW of l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: You don’t know!  You need to know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incremental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cost of each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BEF-1054-4E29-B4CA-4F5F7D807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vweldon</cp:lastModifiedBy>
  <dcterms:modified xsi:type="dcterms:W3CDTF">2007-03-20T18:48:20Z</dcterms:modified>
  <cp:revision>13</cp:revision>
  <dc:subject/>
  <dc:title>Slide 1</dc:title>
</cp:coreProperties>
</file>