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4C8A-B98A-4542-8308-FC59FDD6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D225-0A49-44D9-B3F4-D1AF4FD9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9F45-ECAC-4611-BC4A-B36F4622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7AD3-F517-4744-B35E-D78D4BF0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AFD8-224C-4D20-B10D-2C87452B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D8BD-6E89-428F-99CE-ECCF08C6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7090-51DB-4DAC-AB07-69E1B202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04D2-F855-4C19-B0D8-B9080815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F9B3-0CDA-4F23-9062-FEC55640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80B8-5593-40D4-B570-A2FEED82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0635-8FBA-40C5-8602-20ED7B4B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AC39-620D-415D-BD6F-4332D9B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093C-4C24-4ACC-8AF2-4987A2348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066320" y="645804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1981080"/>
            <a:ext cx="60199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lock Load Transfers (BLTs) and other Important Stuf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Require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40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6600" y="1816200"/>
          <a:ext cx="7930800" cy="414360"/>
        </p:xfrm>
        <a:graphic>
          <a:graphicData uri="http://schemas.openxmlformats.org/drawingml/2006/table">
            <a:tbl>
              <a:tblPr/>
              <a:tblGrid>
                <a:gridCol w="2693520"/>
                <a:gridCol w="1795680"/>
                <a:gridCol w="344160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0948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n ERCOT the services a LaaR can provide is based on their qualifi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561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768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6600" y="2341440"/>
          <a:ext cx="7930800" cy="2884680"/>
        </p:xfrm>
        <a:graphic>
          <a:graphicData uri="http://schemas.openxmlformats.org/drawingml/2006/table">
            <a:tbl>
              <a:tblPr/>
              <a:tblGrid>
                <a:gridCol w="2693520"/>
                <a:gridCol w="1795680"/>
                <a:gridCol w="3441600"/>
              </a:tblGrid>
              <a:tr h="288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errupti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1108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R Settlement 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1108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me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864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 Lo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864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er 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864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Value (MW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1108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qualification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1108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d within 30 minutes of dispatch 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1108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Require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40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6600" y="1816200"/>
          <a:ext cx="8080200" cy="414360"/>
        </p:xfrm>
        <a:graphic>
          <a:graphicData uri="http://schemas.openxmlformats.org/drawingml/2006/table">
            <a:tbl>
              <a:tblPr/>
              <a:tblGrid>
                <a:gridCol w="2543400"/>
                <a:gridCol w="1571040"/>
                <a:gridCol w="396576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0948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n ERCOT the services a LaaR can provide is based on their qualifi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561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768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6600" y="2266920"/>
          <a:ext cx="8080200" cy="3556080"/>
        </p:xfrm>
        <a:graphic>
          <a:graphicData uri="http://schemas.openxmlformats.org/drawingml/2006/table">
            <a:tbl>
              <a:tblPr/>
              <a:tblGrid>
                <a:gridCol w="2543040"/>
                <a:gridCol w="1573200"/>
                <a:gridCol w="3963960"/>
              </a:tblGrid>
              <a:tr h="356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-frequenc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P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4520" indent="-171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R Settlement 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171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-frequency Relay (59.7 h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171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86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34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 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86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34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er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86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34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R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86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34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Value (MW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171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qualification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171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d within 10 minutes of  dispatch i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Require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40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6600" y="1816200"/>
          <a:ext cx="8080200" cy="414360"/>
        </p:xfrm>
        <a:graphic>
          <a:graphicData uri="http://schemas.openxmlformats.org/drawingml/2006/table">
            <a:tbl>
              <a:tblPr/>
              <a:tblGrid>
                <a:gridCol w="2543400"/>
                <a:gridCol w="1571040"/>
                <a:gridCol w="396576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60948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n ERCOT the services a LaaR can provide is based on their qualifi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61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768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3520" y="2286000"/>
          <a:ext cx="8229600" cy="3505320"/>
        </p:xfrm>
        <a:graphic>
          <a:graphicData uri="http://schemas.openxmlformats.org/drawingml/2006/table">
            <a:tbl>
              <a:tblPr/>
              <a:tblGrid>
                <a:gridCol w="2590560"/>
                <a:gridCol w="1602000"/>
                <a:gridCol w="4037040"/>
              </a:tblGrid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rolla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S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S 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4520" indent="-171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R Settlement 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171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C Like”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171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le to respond automatically to frequency changes similar to governor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171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31800" indent="1126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 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31800" indent="1126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Value (MW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1713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qualification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0" y="838080"/>
          <a:ext cx="91440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724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Clearing Prices for RRS Servi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699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40384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244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79440" y="4456080"/>
            <a:ext cx="7178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 only represents that procured in the AS Market and excludes all self arranged quant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rricane effect on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erall cost reduction to the market from 2005 reflects significant shift to self arra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Deploy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20772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aaRs Providing RRS can be deploy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3812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trip based on UFR settings (2 trip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3812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al dispatch by ERCOT during EECP event (deployed as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3812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al dispatch by ERCOT during low frequency event reportable to NERC (deployed as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3812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al dispatch by ERCOT to solve a local congestion issue (location-specif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20772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aaRs were deployed three times in 2006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381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17 EECP Event (Manually Deploy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381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. 3 Low frequency Event (Manually Deploy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381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. 22 Under-frequency Event (Automatic &amp; Manually Deploy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17680" y="31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38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491652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" y="1066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2240" y="76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04920" y="1258920"/>
            <a:ext cx="8610480" cy="4114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52280" y="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Deployment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RRS Deploy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5328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74880" y="1560600"/>
            <a:ext cx="283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768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533412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932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lock Load Transfers (BL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74880" y="1560600"/>
            <a:ext cx="283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768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33412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00816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ntrollable Load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5560" y="133524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hat is a Controllable Load Resou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9960" y="2322360"/>
            <a:ext cx="79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Resource capable of providing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gulation Servic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by controllably reducing or increasing consumption under dispatch control (similar to AGC) and that immediately responds proportionally to frequency changes (similar to generator governor ac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0200" y="1106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tatus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676520"/>
            <a:ext cx="830592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d pilot project in Octo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imit potential disruption to ERCOT frequency control only one Load Resource and was allowed to participate up to 10 M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concluded successfully in early January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PUCT Ope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directed to open service up to all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estimates up to 150 MWs of load could participate as Controllable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720" y="76212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ilot 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371600"/>
            <a:ext cx="8229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 all requirements for participation as a L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R 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Time telemetry at the controllable load installed and 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essfully complete qualification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le to respond proportionately to frequency changes (similar to generator governo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ble of reducing or increasing consumption in response to dispatch instruction (similar to AG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has to “look”, “act”, and “smell” like a generation resource (eg; power flow at point of the settlement meter shall be a net generation point while providing services as a controllable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bid in as a “GEN” type and not “CLD” Resource (for RRS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agrees to waive its right to receive any resource-specific premium payments that would result from a unit specific instruction (OO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996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1154160"/>
            <a:ext cx="79405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trollable Load can prov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 Up, Regulation Down,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ve Reserve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capacity from a Controllable Load providing RRS would not be included  in the ERCOT established limit for LaaRs providing R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trollable Load Resou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7680" y="609480"/>
            <a:ext cx="8896320" cy="578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74880" y="1560600"/>
            <a:ext cx="283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768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533412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24382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oad Participation In RPRS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74880" y="1560600"/>
            <a:ext cx="283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768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533412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0600" y="9907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tatus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676520"/>
            <a:ext cx="8016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Reserve Service (RPRS) implemented in March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aRs were disabled from providing RPRS due to some network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issues resolved and LaaRs enabled on Februar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74880" y="1560600"/>
            <a:ext cx="283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36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1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2560" y="1001880"/>
            <a:ext cx="43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hings a QSE should know/pre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600200"/>
            <a:ext cx="794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31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ally Transmitted via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31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s of Capacity Dispatch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a QSE do when RPRS is procured from the Q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31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and XML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31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Resource Plan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31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ire capacity of RPRS Resource into Up Balancing Energy Bid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31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Resource Ready for dispatch for specific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Participation in RP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hanges Coming down the Roa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538920" y="838080"/>
            <a:ext cx="74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9 ERCOT changing from existing Zonal Market to a Nodal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7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74880" y="1560600"/>
            <a:ext cx="283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768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33412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6600" y="1106640"/>
            <a:ext cx="56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hat is a Block Load Transfer (BLT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865160"/>
            <a:ext cx="7924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ansfer of load normally located in the ERCOT Control Area to a Non-ERCOT Contro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ansfer of load from Non-ERCOT Control Areas to the ERCOT Contro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lock Load Transf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432080" y="491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989600"/>
            <a:ext cx="579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transfers between ERCOT and Non-ERCOT Control Areas must be dead-line pickup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505320" y="1676520"/>
            <a:ext cx="2247840" cy="3809880"/>
            <a:chOff x="3505320" y="1676520"/>
            <a:chExt cx="2247840" cy="38098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3505320" y="1676520"/>
              <a:ext cx="224784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343400" y="2209680"/>
              <a:ext cx="91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43400" y="4343400"/>
              <a:ext cx="91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74880" y="1560600"/>
            <a:ext cx="283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768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33412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996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840" y="76212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Requirements for Registering a B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447920"/>
            <a:ext cx="8169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BLT is to block ERCOT load into a Non-ERCOT control are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an ERCOT registered Resource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Entity / QSE affiliation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BLT Registration form (assign R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ering design documentation provided to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BLT is to block Non-ERCOT load into ERCOT control are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an ERCOT registered Load Serving Entity (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SE / QSE affiliation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BLT Registration form (assign ESI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DSP associated with BLT point responsible for the creation and maintenance of BLT ESI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lock Load Transf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486400"/>
            <a:ext cx="778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Some BLT’s can be bi-directional and therefore must meet the requirements for transferring load in either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74880" y="1560600"/>
            <a:ext cx="283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533412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7320" y="76212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ndition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143000"/>
            <a:ext cx="697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798480">
              <a:tabLst>
                <a:tab algn="l" pos="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  <a:tab algn="l" pos="2665440"/>
                <a:tab algn="l" pos="2781360"/>
                <a:tab algn="l" pos="2897280"/>
                <a:tab algn="l" pos="3013200"/>
                <a:tab algn="l" pos="31291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om ERCOT to Non-ERCOT Contro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798480">
              <a:buClr>
                <a:srgbClr val="000000"/>
              </a:buClr>
              <a:buFont typeface="Wingdings" charset="2"/>
              <a:buChar char=""/>
              <a:tabLst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  <a:tab algn="l" pos="2665440"/>
                <a:tab algn="l" pos="2781360"/>
                <a:tab algn="l" pos="2897280"/>
                <a:tab algn="l" pos="3013200"/>
                <a:tab algn="l" pos="312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Alert or EECP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798480">
              <a:buClr>
                <a:srgbClr val="000000"/>
              </a:buClr>
              <a:buFont typeface="Wingdings" charset="2"/>
              <a:buChar char=""/>
              <a:tabLst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  <a:tab algn="l" pos="2433600"/>
                <a:tab algn="l" pos="2549520"/>
                <a:tab algn="l" pos="2665440"/>
                <a:tab algn="l" pos="2781360"/>
                <a:tab algn="l" pos="2897280"/>
                <a:tab algn="l" pos="3013200"/>
                <a:tab algn="l" pos="312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specific Dispatch Instruction from ERCOT and permission of the affected Non-ERCOT Contro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3124080"/>
            <a:ext cx="763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9800" indent="-73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om Non-ERCOT Control Area in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9800" indent="-7398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Non-ERCOT Control Areas experience certain transmission contingencies or short suppl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9800" indent="-7398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specific Dispatch Instruction from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334120"/>
            <a:ext cx="79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mportant No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cessary Market Participant agreements, metering, and ERCOT settlement system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re to 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place prior to implementation of any B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lock Load Transf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74880" y="1560600"/>
            <a:ext cx="283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768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533412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996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914400"/>
            <a:ext cx="7772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elpful Preparation T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(prior to impending event or hurricane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057400"/>
            <a:ext cx="7635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discussions with adjacent TDSPs outside ERCOT contro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opies of transmission and distribution one-lin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your ERCOT Client Representative and communicate possible need for creating a BLT to help in storm restoration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lock Load Transf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74880" y="1560600"/>
            <a:ext cx="283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768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533412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9322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oad Participation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mand Response:  Pres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382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restructured market, interruptible tariffs have been replaced by market-based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cting as a Resource (L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ing Up Load (B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urrent subscr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-responsive load (volunt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participation &amp; strike prices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3505320"/>
          <a:ext cx="8305920" cy="2666880"/>
        </p:xfrm>
        <a:graphic>
          <a:graphicData uri="http://schemas.openxmlformats.org/drawingml/2006/table">
            <a:tbl>
              <a:tblPr/>
              <a:tblGrid>
                <a:gridCol w="2286000"/>
                <a:gridCol w="2819520"/>
                <a:gridCol w="3200400"/>
              </a:tblGrid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Provi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d Acting as a Resource (La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rious Ancillary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R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leme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ual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lancing Up Load (BU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lancing Energy Services (U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R 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ual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luntary Load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urtailment or reduction in response to market prices or other fa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tering and/or curtailment technology defined in contract with LSE &amp; Q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aR Require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40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n ERCOT the services a LaaR can provide is based on their qualifi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2280" y="2209680"/>
            <a:ext cx="416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12680"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Types of Qualification for La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12680"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buClr>
                <a:srgbClr val="000000"/>
              </a:buClr>
              <a:buFont typeface="Arial"/>
              <a:buChar char="—"/>
              <a:tabLst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ible Load (I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buClr>
                <a:srgbClr val="000000"/>
              </a:buClr>
              <a:buFont typeface="Arial"/>
              <a:buChar char="—"/>
              <a:tabLst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-frequency Load (UF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buClr>
                <a:srgbClr val="000000"/>
              </a:buClr>
              <a:buFont typeface="Arial"/>
              <a:buChar char="—"/>
              <a:tabLst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able Load (C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th Annual ERCOT Operations Training Semin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vweldon</cp:lastModifiedBy>
  <dcterms:modified xsi:type="dcterms:W3CDTF">2007-04-10T12:54:43Z</dcterms:modified>
  <cp:revision>71</cp:revision>
  <dc:subject/>
  <dc:title>Instructions</dc:title>
</cp:coreProperties>
</file>