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media/image22.wmf" ContentType="image/x-wmf"/>
  <Override PartName="/ppt/media/image6.png" ContentType="image/png"/>
  <Override PartName="/ppt/media/image11.png" ContentType="image/png"/>
  <Override PartName="/ppt/media/image4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4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F99C-FCA4-401A-8F0C-C0FB39CEB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88AF-D73C-4772-B90A-956AB378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5492-19C5-4FC4-AA01-6A6B8523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1568-8666-4DD0-A46F-B36269ADC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67BB-F27C-458E-AEC2-868107BD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A9E9-0558-432B-9FAD-F4728A33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B05A-7F6D-44EE-8377-2AC2A35E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41BD-B42F-458A-B987-B4AB2397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5012-AA67-42D5-871D-9C3BDAED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56B0-9B49-48B6-8C19-3F0F0757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1224-4EFC-4373-817B-B0B17FFD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D150-BACC-483B-8C69-F1D9F47B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/12/2006 Ken Donoho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3EA7-C597-4B71-AE42-6607493F1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95280" cy="66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1066680"/>
            <a:ext cx="7925040" cy="37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GUST 17, 2006 PEAK DAY POST-MOR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 AND PLANNING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 PROJECTION 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nneth A. Donohoo, P.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, Transmission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92FD-53C0-421C-B009-85579A3C91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AUGUST 17 PEAK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s and Planning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52280" y="1371600"/>
          <a:ext cx="8686800" cy="4824360"/>
        </p:xfrm>
        <a:graphic>
          <a:graphicData uri="http://schemas.openxmlformats.org/drawingml/2006/table">
            <a:tbl>
              <a:tblPr/>
              <a:tblGrid>
                <a:gridCol w="2819520"/>
                <a:gridCol w="1219320"/>
                <a:gridCol w="1447560"/>
                <a:gridCol w="1463760"/>
                <a:gridCol w="173664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R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S Data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 from CDR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6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8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3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4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s between NDC and Resource Plan val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% in C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d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 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 in C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 Netw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12EB-524E-4FEF-93C4-EE80FC8EAF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AUGUST 17 PEAK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s and Planning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5800" y="1066680"/>
          <a:ext cx="7620120" cy="5207040"/>
        </p:xfrm>
        <a:graphic>
          <a:graphicData uri="http://schemas.openxmlformats.org/drawingml/2006/table">
            <a:tbl>
              <a:tblPr/>
              <a:tblGrid>
                <a:gridCol w="3505320"/>
                <a:gridCol w="1523880"/>
                <a:gridCol w="2590920"/>
              </a:tblGrid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S 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EMS Peak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2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taneous 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atchable Gen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3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3 MW Forced 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 Network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 Tie Cap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 Capacit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 % of Lo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ser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% of Load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2,300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C736-2038-48FA-B2C8-0A29977E4E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AUGUST 17 PEAK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k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447920" y="2514600"/>
          <a:ext cx="5943600" cy="1549440"/>
        </p:xfrm>
        <a:graphic>
          <a:graphicData uri="http://schemas.openxmlformats.org/drawingml/2006/table">
            <a:tbl>
              <a:tblPr/>
              <a:tblGrid>
                <a:gridCol w="3504960"/>
                <a:gridCol w="2438640"/>
              </a:tblGrid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EMS Peak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259 M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Settlement 15 Min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429 M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Settlement H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334 M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9224-E824-4664-9A15-25A94B02E6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2895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 FORECAST BACK 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D595-7A05-4426-9AC3-CDE2CA44FE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AUGUST 17 PEAK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k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923760"/>
            <a:ext cx="8677440" cy="593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16EB-3106-468F-9304-99E383B264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02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A2CB-A38E-4F71-948E-4A970700D3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ther Zone Forecast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05520" y="685800"/>
            <a:ext cx="396216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33399"/>
                </a:solidFill>
                <a:latin typeface="Arial"/>
              </a:rPr>
              <a:t>1. Obtain weather and economic variables by weather  zone (historic and forecast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33399"/>
                </a:solidFill>
                <a:latin typeface="Arial"/>
              </a:rPr>
              <a:t>2. Develop regression equations by weather zone describing the historic actual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33399"/>
                </a:solidFill>
                <a:latin typeface="Arial"/>
              </a:rPr>
              <a:t>--Monthly Energy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700" spc="-1" strike="noStrike">
                <a:solidFill>
                  <a:srgbClr val="333399"/>
                </a:solidFill>
                <a:latin typeface="Arial"/>
              </a:rPr>
              <a:t>* Using a different equation for each seas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33399"/>
                </a:solidFill>
                <a:latin typeface="Arial"/>
              </a:rPr>
              <a:t>-- Hourly Load Shap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700" spc="-1" strike="noStrike">
                <a:solidFill>
                  <a:srgbClr val="333399"/>
                </a:solidFill>
                <a:latin typeface="Arial"/>
              </a:rPr>
              <a:t>* Using a different equation for each seas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33399"/>
                </a:solidFill>
                <a:latin typeface="Arial"/>
              </a:rPr>
              <a:t>3. Incorporate forecasted values of economic and normalized temperatures for 2006-2011 by weather zone  into monthly energy equation to produce forecasted monthly energ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33399"/>
                </a:solidFill>
                <a:latin typeface="Arial"/>
              </a:rPr>
              <a:t>4. Incorporate normalized temperatures for 2006-2011 by weather zone into monthly energy equation to produce forecasted load shap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33399"/>
                </a:solidFill>
                <a:latin typeface="Arial"/>
              </a:rPr>
              <a:t>5. Produce hourly demand forecast by weather zone by fitting forecasted monthly energy under projected hourly load shap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-227880" y="1319040"/>
            <a:ext cx="8635320" cy="5539680"/>
            <a:chOff x="-227880" y="1319040"/>
            <a:chExt cx="8635320" cy="5539680"/>
          </a:xfrm>
        </p:grpSpPr>
        <p:grpSp>
          <p:nvGrpSpPr>
            <p:cNvPr id="84" name=""/>
            <p:cNvGrpSpPr/>
            <p:nvPr/>
          </p:nvGrpSpPr>
          <p:grpSpPr>
            <a:xfrm>
              <a:off x="3298320" y="2781000"/>
              <a:ext cx="5109120" cy="3584160"/>
              <a:chOff x="3298320" y="2781000"/>
              <a:chExt cx="5109120" cy="3584160"/>
            </a:xfrm>
          </p:grpSpPr>
          <p:sp>
            <p:nvSpPr>
              <p:cNvPr id="85" name="_s1031"/>
              <p:cNvSpPr/>
              <p:nvPr/>
            </p:nvSpPr>
            <p:spPr>
              <a:xfrm>
                <a:off x="7180200" y="4101840"/>
                <a:ext cx="1227240" cy="66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RCOT Aggregated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Weather Z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ystem Hourly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oad Forecas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_s1031"/>
              <p:cNvSpPr/>
              <p:nvPr/>
            </p:nvSpPr>
            <p:spPr>
              <a:xfrm>
                <a:off x="5565600" y="2781000"/>
                <a:ext cx="739800" cy="712800"/>
              </a:xfrm>
              <a:prstGeom prst="flowChartConnector">
                <a:avLst/>
              </a:prstGeom>
              <a:solidFill>
                <a:srgbClr val="99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0" bIns="0" anchor="ctr" anchorCtr="1">
                <a:noAutofit/>
              </a:bodyPr>
              <a:p>
                <a:pPr marL="343080" indent="-343080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lloca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nerg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_s1031"/>
              <p:cNvSpPr/>
              <p:nvPr/>
            </p:nvSpPr>
            <p:spPr>
              <a:xfrm>
                <a:off x="5602320" y="4086000"/>
                <a:ext cx="739800" cy="712800"/>
              </a:xfrm>
              <a:prstGeom prst="flowChartConnector">
                <a:avLst/>
              </a:prstGeom>
              <a:solidFill>
                <a:srgbClr val="99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0" bIns="0" anchor="ctr" anchorCtr="1">
                <a:noAutofit/>
              </a:bodyPr>
              <a:p>
                <a:pPr marL="343080" indent="-343080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lloca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nerg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_s1031"/>
              <p:cNvSpPr/>
              <p:nvPr/>
            </p:nvSpPr>
            <p:spPr>
              <a:xfrm>
                <a:off x="5556240" y="5376600"/>
                <a:ext cx="739800" cy="712800"/>
              </a:xfrm>
              <a:prstGeom prst="flowChartConnector">
                <a:avLst/>
              </a:prstGeom>
              <a:solidFill>
                <a:srgbClr val="99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0" bIns="0" anchor="ctr" anchorCtr="1">
                <a:noAutofit/>
              </a:bodyPr>
              <a:p>
                <a:pPr marL="343080" indent="-343080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lloca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nerg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9" name=""/>
              <p:cNvCxnSpPr>
                <a:stCxn id="90" idx="3"/>
                <a:endCxn id="86" idx="2"/>
              </p:cNvCxnSpPr>
              <p:nvPr/>
            </p:nvCxnSpPr>
            <p:spPr>
              <a:xfrm>
                <a:off x="3298320" y="3133080"/>
                <a:ext cx="2267640" cy="5400"/>
              </a:xfrm>
              <a:prstGeom prst="bentConnector3">
                <a:avLst>
                  <a:gd name="adj1" fmla="val 4992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" name=""/>
              <p:cNvCxnSpPr>
                <a:stCxn id="92" idx="3"/>
                <a:endCxn id="86" idx="2"/>
              </p:cNvCxnSpPr>
              <p:nvPr/>
            </p:nvCxnSpPr>
            <p:spPr>
              <a:xfrm flipV="1">
                <a:off x="4814640" y="3137760"/>
                <a:ext cx="751680" cy="642240"/>
              </a:xfrm>
              <a:prstGeom prst="bentConnector3">
                <a:avLst>
                  <a:gd name="adj1" fmla="val 4988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3" name=""/>
              <p:cNvCxnSpPr>
                <a:stCxn id="94" idx="3"/>
                <a:endCxn id="87" idx="2"/>
              </p:cNvCxnSpPr>
              <p:nvPr/>
            </p:nvCxnSpPr>
            <p:spPr>
              <a:xfrm flipV="1">
                <a:off x="4814640" y="4442400"/>
                <a:ext cx="788400" cy="626040"/>
              </a:xfrm>
              <a:prstGeom prst="bentConnector3">
                <a:avLst>
                  <a:gd name="adj1" fmla="val 49977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5" name=""/>
              <p:cNvCxnSpPr>
                <a:stCxn id="96" idx="3"/>
                <a:endCxn id="87" idx="2"/>
              </p:cNvCxnSpPr>
              <p:nvPr/>
            </p:nvCxnSpPr>
            <p:spPr>
              <a:xfrm>
                <a:off x="3301920" y="4442760"/>
                <a:ext cx="2300760" cy="10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7" name=""/>
              <p:cNvCxnSpPr>
                <a:stCxn id="98" idx="3"/>
                <a:endCxn id="88" idx="2"/>
              </p:cNvCxnSpPr>
              <p:nvPr/>
            </p:nvCxnSpPr>
            <p:spPr>
              <a:xfrm>
                <a:off x="3350880" y="5730120"/>
                <a:ext cx="2205720" cy="3960"/>
              </a:xfrm>
              <a:prstGeom prst="bentConnector3">
                <a:avLst>
                  <a:gd name="adj1" fmla="val 49951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9" name=""/>
              <p:cNvCxnSpPr>
                <a:stCxn id="100" idx="3"/>
                <a:endCxn id="88" idx="2"/>
              </p:cNvCxnSpPr>
              <p:nvPr/>
            </p:nvCxnSpPr>
            <p:spPr>
              <a:xfrm flipV="1">
                <a:off x="4814640" y="5733000"/>
                <a:ext cx="742320" cy="632520"/>
              </a:xfrm>
              <a:prstGeom prst="bentConnector3">
                <a:avLst>
                  <a:gd name="adj1" fmla="val 49878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1" name=""/>
              <p:cNvCxnSpPr>
                <a:stCxn id="86" idx="6"/>
                <a:endCxn id="85" idx="1"/>
              </p:cNvCxnSpPr>
              <p:nvPr/>
            </p:nvCxnSpPr>
            <p:spPr>
              <a:xfrm>
                <a:off x="6305400" y="3137760"/>
                <a:ext cx="875520" cy="1299240"/>
              </a:xfrm>
              <a:prstGeom prst="bentConnector3">
                <a:avLst>
                  <a:gd name="adj1" fmla="val 49897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2" name=""/>
              <p:cNvCxnSpPr>
                <a:stCxn id="87" idx="6"/>
                <a:endCxn id="85" idx="1"/>
              </p:cNvCxnSpPr>
              <p:nvPr/>
            </p:nvCxnSpPr>
            <p:spPr>
              <a:xfrm flipV="1">
                <a:off x="6342120" y="4436280"/>
                <a:ext cx="838800" cy="7200"/>
              </a:xfrm>
              <a:prstGeom prst="bentConnector3">
                <a:avLst>
                  <a:gd name="adj1" fmla="val 49978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3" name=""/>
              <p:cNvCxnSpPr>
                <a:stCxn id="88" idx="6"/>
                <a:endCxn id="85" idx="1"/>
              </p:cNvCxnSpPr>
              <p:nvPr/>
            </p:nvCxnSpPr>
            <p:spPr>
              <a:xfrm flipV="1">
                <a:off x="6296040" y="4435920"/>
                <a:ext cx="884880" cy="1297800"/>
              </a:xfrm>
              <a:prstGeom prst="bentConnector3">
                <a:avLst>
                  <a:gd name="adj1" fmla="val 49898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04" name=""/>
            <p:cNvGrpSpPr/>
            <p:nvPr/>
          </p:nvGrpSpPr>
          <p:grpSpPr>
            <a:xfrm>
              <a:off x="7180200" y="4771800"/>
              <a:ext cx="1227240" cy="963360"/>
              <a:chOff x="7180200" y="4771800"/>
              <a:chExt cx="1227240" cy="963360"/>
            </a:xfrm>
          </p:grpSpPr>
          <p:sp>
            <p:nvSpPr>
              <p:cNvPr id="105" name="_s1031"/>
              <p:cNvSpPr/>
              <p:nvPr/>
            </p:nvSpPr>
            <p:spPr>
              <a:xfrm>
                <a:off x="7180200" y="5100120"/>
                <a:ext cx="1227240" cy="635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RCOT Aggregated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Weather Zone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eak and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nergy Forecas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6" name=""/>
              <p:cNvCxnSpPr>
                <a:stCxn id="85" idx="2"/>
                <a:endCxn id="105" idx="0"/>
              </p:cNvCxnSpPr>
              <p:nvPr/>
            </p:nvCxnSpPr>
            <p:spPr>
              <a:xfrm flipV="1" rot="10800000">
                <a:off x="7793640" y="4771440"/>
                <a:ext cx="1080" cy="3290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07" name=""/>
            <p:cNvGrpSpPr/>
            <p:nvPr/>
          </p:nvGrpSpPr>
          <p:grpSpPr>
            <a:xfrm>
              <a:off x="1568160" y="1552320"/>
              <a:ext cx="3384720" cy="1079280"/>
              <a:chOff x="1568160" y="1552320"/>
              <a:chExt cx="3384720" cy="1079280"/>
            </a:xfrm>
          </p:grpSpPr>
          <p:sp>
            <p:nvSpPr>
              <p:cNvPr id="108" name="_s1031"/>
              <p:cNvSpPr/>
              <p:nvPr/>
            </p:nvSpPr>
            <p:spPr>
              <a:xfrm>
                <a:off x="2949480" y="1699920"/>
                <a:ext cx="786960" cy="370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343080" indent="-343080" algn="ctr"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conomic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_s1031"/>
              <p:cNvSpPr/>
              <p:nvPr/>
            </p:nvSpPr>
            <p:spPr>
              <a:xfrm>
                <a:off x="1858680" y="1699920"/>
                <a:ext cx="798480" cy="370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343080" indent="-343080" algn="ctr"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Weathe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_s1031"/>
              <p:cNvSpPr/>
              <p:nvPr/>
            </p:nvSpPr>
            <p:spPr>
              <a:xfrm>
                <a:off x="4029120" y="1698120"/>
                <a:ext cx="799560" cy="370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343080" indent="-343080" algn="ctr"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alenda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727280" y="1552320"/>
                <a:ext cx="3225600" cy="66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568160" y="2228400"/>
                <a:ext cx="2457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Weather Zone Forecasted 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06840" y="2225160"/>
                <a:ext cx="418680" cy="4064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-227880" y="2444400"/>
              <a:ext cx="2343600" cy="3286080"/>
              <a:chOff x="-227880" y="2444400"/>
              <a:chExt cx="2343600" cy="328608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317880" y="2631600"/>
                <a:ext cx="1130040" cy="3098880"/>
                <a:chOff x="317880" y="2631600"/>
                <a:chExt cx="1130040" cy="3098880"/>
              </a:xfrm>
            </p:grpSpPr>
            <p:sp>
              <p:nvSpPr>
                <p:cNvPr id="116" name="_s1031"/>
                <p:cNvSpPr/>
                <p:nvPr/>
              </p:nvSpPr>
              <p:spPr>
                <a:xfrm>
                  <a:off x="516240" y="4403160"/>
                  <a:ext cx="787320" cy="3700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Load 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_s1031"/>
                <p:cNvSpPr/>
                <p:nvPr/>
              </p:nvSpPr>
              <p:spPr>
                <a:xfrm>
                  <a:off x="516240" y="3607920"/>
                  <a:ext cx="787320" cy="3700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Economic 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_s1031"/>
                <p:cNvSpPr/>
                <p:nvPr/>
              </p:nvSpPr>
              <p:spPr>
                <a:xfrm>
                  <a:off x="500400" y="2810880"/>
                  <a:ext cx="798480" cy="3700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Weather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_s1031"/>
                <p:cNvSpPr/>
                <p:nvPr/>
              </p:nvSpPr>
              <p:spPr>
                <a:xfrm>
                  <a:off x="498600" y="5200200"/>
                  <a:ext cx="800280" cy="3700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Calendar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17880" y="2631600"/>
                  <a:ext cx="1130040" cy="3098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"/>
              <p:cNvSpPr/>
              <p:nvPr/>
            </p:nvSpPr>
            <p:spPr>
              <a:xfrm>
                <a:off x="-227880" y="2444400"/>
                <a:ext cx="234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Weather Zone Historical 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6200000">
                <a:off x="1460520" y="3850560"/>
                <a:ext cx="419400" cy="4064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1841400" y="2619000"/>
              <a:ext cx="3073320" cy="4239720"/>
              <a:chOff x="1841400" y="2619000"/>
              <a:chExt cx="3073320" cy="4239720"/>
            </a:xfrm>
          </p:grpSpPr>
          <p:sp>
            <p:nvSpPr>
              <p:cNvPr id="92" name="_s1031"/>
              <p:cNvSpPr/>
              <p:nvPr/>
            </p:nvSpPr>
            <p:spPr>
              <a:xfrm>
                <a:off x="3481200" y="3455640"/>
                <a:ext cx="1307880" cy="6476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RCOT Total System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ummer Hourly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oad Shape Model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y weather z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_s1031"/>
              <p:cNvSpPr/>
              <p:nvPr/>
            </p:nvSpPr>
            <p:spPr>
              <a:xfrm>
                <a:off x="3481200" y="4750920"/>
                <a:ext cx="1307880" cy="6350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RCOT Total Syste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Winter Hourly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oad Shape Model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y weather z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_s1031"/>
              <p:cNvSpPr/>
              <p:nvPr/>
            </p:nvSpPr>
            <p:spPr>
              <a:xfrm>
                <a:off x="3481200" y="6033600"/>
                <a:ext cx="1307880" cy="6620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RCOT Total Syste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pring/Fall Hourl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oad Shape Model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y weather z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_s1031"/>
              <p:cNvSpPr/>
              <p:nvPr/>
            </p:nvSpPr>
            <p:spPr>
              <a:xfrm>
                <a:off x="1982520" y="4183200"/>
                <a:ext cx="1292040" cy="519120"/>
              </a:xfrm>
              <a:prstGeom prst="roundRect">
                <a:avLst>
                  <a:gd name="adj" fmla="val 16667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RCOT Winter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nthly Energy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del by weather z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_s1031"/>
              <p:cNvSpPr/>
              <p:nvPr/>
            </p:nvSpPr>
            <p:spPr>
              <a:xfrm>
                <a:off x="1968120" y="5357520"/>
                <a:ext cx="1366920" cy="745560"/>
              </a:xfrm>
              <a:prstGeom prst="roundRect">
                <a:avLst>
                  <a:gd name="adj" fmla="val 16667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343080" indent="-343080" algn="ctr"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RCOT Spring/Fall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onthly Energ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odel by weather zo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_s1031"/>
              <p:cNvSpPr/>
              <p:nvPr/>
            </p:nvSpPr>
            <p:spPr>
              <a:xfrm>
                <a:off x="1985760" y="2875320"/>
                <a:ext cx="1285920" cy="519120"/>
              </a:xfrm>
              <a:prstGeom prst="roundRect">
                <a:avLst>
                  <a:gd name="adj" fmla="val 16667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RCOT Summe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nthly Energy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del by weather z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841400" y="2619000"/>
                <a:ext cx="3073320" cy="421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942920" y="6584040"/>
                <a:ext cx="1803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343080" indent="-343080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Six Regression Equations by weather z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2041920" y="1319040"/>
              <a:ext cx="1951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ather Zone Forecasted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80" y="5832360"/>
              <a:ext cx="1837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ather Zone Historical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27C3-265E-4478-9CCA-A3119B85AD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423720"/>
          <a:ext cx="9144000" cy="643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23720"/>
                    <a:ext cx="9144000" cy="64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7E24-355A-47D1-B0A9-B13845CD29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ion of Peak Dem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Upon Settlemen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133640"/>
          <a:ext cx="9144000" cy="57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33640"/>
                    <a:ext cx="9144000" cy="57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2828-75EA-446E-BCBB-7869DD1F36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ther Zone Forecast Valid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685800"/>
            <a:ext cx="39625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Forecast Validation Summary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1.  Use the same historical data up to December 31, 2005, as in the weather normalized forecast, to calculate the coefficients for validating the forecast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 </a:t>
            </a: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2.  Produce the new forecast using actual 2006 temperatures and humidity (as contrasted with normalized weather profiles) but keep the same economic and other non-economic variables as used to produce the weather normalized long-term forecast by weather zone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Forecast Validation Process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1. Produce regression equations by weather zone describing the historic actual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--Monthly Energy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   </a:t>
            </a: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* Using a different equation for each seas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-- Hourly Load Shap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   </a:t>
            </a: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* Using a different equation for each seas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2. Incorporate forecasted values for economic variables and actual values for temperatures and humidity for 2006 by weather zone  into monthly energy equation to produce forecasted monthly energ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3. Incorporate actual temperatures and humidity for 2006 by weather zone into load shape equation to produce forecasted load shap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a9020"/>
                </a:solidFill>
                <a:latin typeface="Arial"/>
              </a:rPr>
              <a:t>4. Produce hourly demand forecast by weather zone by fitting forecasted monthly energy under projected hourly load shap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-227880" y="1319040"/>
            <a:ext cx="8635320" cy="5539680"/>
            <a:chOff x="-227880" y="1319040"/>
            <a:chExt cx="8635320" cy="5539680"/>
          </a:xfrm>
        </p:grpSpPr>
        <p:grpSp>
          <p:nvGrpSpPr>
            <p:cNvPr id="137" name=""/>
            <p:cNvGrpSpPr/>
            <p:nvPr/>
          </p:nvGrpSpPr>
          <p:grpSpPr>
            <a:xfrm>
              <a:off x="3298320" y="2781000"/>
              <a:ext cx="5109120" cy="3584160"/>
              <a:chOff x="3298320" y="2781000"/>
              <a:chExt cx="5109120" cy="3584160"/>
            </a:xfrm>
          </p:grpSpPr>
          <p:sp>
            <p:nvSpPr>
              <p:cNvPr id="138" name="_s1031"/>
              <p:cNvSpPr/>
              <p:nvPr/>
            </p:nvSpPr>
            <p:spPr>
              <a:xfrm>
                <a:off x="7180200" y="4101840"/>
                <a:ext cx="1227240" cy="66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RCOT Aggregated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Weather Z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ystem Hourly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oad Forecas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_s1031"/>
              <p:cNvSpPr/>
              <p:nvPr/>
            </p:nvSpPr>
            <p:spPr>
              <a:xfrm>
                <a:off x="5565600" y="2781000"/>
                <a:ext cx="739800" cy="712800"/>
              </a:xfrm>
              <a:prstGeom prst="flowChartConnector">
                <a:avLst/>
              </a:prstGeom>
              <a:solidFill>
                <a:srgbClr val="99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0" bIns="0" anchor="ctr" anchorCtr="1">
                <a:noAutofit/>
              </a:bodyPr>
              <a:p>
                <a:pPr marL="343080" indent="-343080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lloca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nerg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_s1031"/>
              <p:cNvSpPr/>
              <p:nvPr/>
            </p:nvSpPr>
            <p:spPr>
              <a:xfrm>
                <a:off x="5602320" y="4086000"/>
                <a:ext cx="739800" cy="712800"/>
              </a:xfrm>
              <a:prstGeom prst="flowChartConnector">
                <a:avLst/>
              </a:prstGeom>
              <a:solidFill>
                <a:srgbClr val="99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0" bIns="0" anchor="ctr" anchorCtr="1">
                <a:noAutofit/>
              </a:bodyPr>
              <a:p>
                <a:pPr marL="343080" indent="-343080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lloca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nerg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_s1031"/>
              <p:cNvSpPr/>
              <p:nvPr/>
            </p:nvSpPr>
            <p:spPr>
              <a:xfrm>
                <a:off x="5556240" y="5376600"/>
                <a:ext cx="739800" cy="712800"/>
              </a:xfrm>
              <a:prstGeom prst="flowChartConnector">
                <a:avLst/>
              </a:prstGeom>
              <a:solidFill>
                <a:srgbClr val="99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0" bIns="0" anchor="ctr" anchorCtr="1">
                <a:noAutofit/>
              </a:bodyPr>
              <a:p>
                <a:pPr marL="343080" indent="-343080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lloca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nerg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2" name=""/>
              <p:cNvCxnSpPr>
                <a:stCxn id="143" idx="3"/>
                <a:endCxn id="139" idx="2"/>
              </p:cNvCxnSpPr>
              <p:nvPr/>
            </p:nvCxnSpPr>
            <p:spPr>
              <a:xfrm>
                <a:off x="3298320" y="3133080"/>
                <a:ext cx="2267640" cy="5400"/>
              </a:xfrm>
              <a:prstGeom prst="bentConnector3">
                <a:avLst>
                  <a:gd name="adj1" fmla="val 4992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44" name=""/>
              <p:cNvCxnSpPr>
                <a:stCxn id="145" idx="3"/>
                <a:endCxn id="139" idx="2"/>
              </p:cNvCxnSpPr>
              <p:nvPr/>
            </p:nvCxnSpPr>
            <p:spPr>
              <a:xfrm flipV="1">
                <a:off x="4814640" y="3137760"/>
                <a:ext cx="751680" cy="642240"/>
              </a:xfrm>
              <a:prstGeom prst="bentConnector3">
                <a:avLst>
                  <a:gd name="adj1" fmla="val 4988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46" name=""/>
              <p:cNvCxnSpPr>
                <a:stCxn id="147" idx="3"/>
                <a:endCxn id="140" idx="2"/>
              </p:cNvCxnSpPr>
              <p:nvPr/>
            </p:nvCxnSpPr>
            <p:spPr>
              <a:xfrm flipV="1">
                <a:off x="4814640" y="4442400"/>
                <a:ext cx="788400" cy="626040"/>
              </a:xfrm>
              <a:prstGeom prst="bentConnector3">
                <a:avLst>
                  <a:gd name="adj1" fmla="val 49977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48" name=""/>
              <p:cNvCxnSpPr>
                <a:stCxn id="149" idx="3"/>
                <a:endCxn id="140" idx="2"/>
              </p:cNvCxnSpPr>
              <p:nvPr/>
            </p:nvCxnSpPr>
            <p:spPr>
              <a:xfrm>
                <a:off x="3301920" y="4442760"/>
                <a:ext cx="2300760" cy="10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50" name=""/>
              <p:cNvCxnSpPr>
                <a:stCxn id="151" idx="3"/>
                <a:endCxn id="141" idx="2"/>
              </p:cNvCxnSpPr>
              <p:nvPr/>
            </p:nvCxnSpPr>
            <p:spPr>
              <a:xfrm>
                <a:off x="3350880" y="5730120"/>
                <a:ext cx="2205720" cy="3960"/>
              </a:xfrm>
              <a:prstGeom prst="bentConnector3">
                <a:avLst>
                  <a:gd name="adj1" fmla="val 49951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52" name=""/>
              <p:cNvCxnSpPr>
                <a:stCxn id="153" idx="3"/>
                <a:endCxn id="141" idx="2"/>
              </p:cNvCxnSpPr>
              <p:nvPr/>
            </p:nvCxnSpPr>
            <p:spPr>
              <a:xfrm flipV="1">
                <a:off x="4814640" y="5733000"/>
                <a:ext cx="742320" cy="632520"/>
              </a:xfrm>
              <a:prstGeom prst="bentConnector3">
                <a:avLst>
                  <a:gd name="adj1" fmla="val 49878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54" name=""/>
              <p:cNvCxnSpPr>
                <a:stCxn id="139" idx="6"/>
                <a:endCxn id="138" idx="1"/>
              </p:cNvCxnSpPr>
              <p:nvPr/>
            </p:nvCxnSpPr>
            <p:spPr>
              <a:xfrm>
                <a:off x="6305400" y="3137760"/>
                <a:ext cx="875520" cy="1299240"/>
              </a:xfrm>
              <a:prstGeom prst="bentConnector3">
                <a:avLst>
                  <a:gd name="adj1" fmla="val 49897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55" name=""/>
              <p:cNvCxnSpPr>
                <a:stCxn id="140" idx="6"/>
                <a:endCxn id="138" idx="1"/>
              </p:cNvCxnSpPr>
              <p:nvPr/>
            </p:nvCxnSpPr>
            <p:spPr>
              <a:xfrm flipV="1">
                <a:off x="6342120" y="4436280"/>
                <a:ext cx="838800" cy="7200"/>
              </a:xfrm>
              <a:prstGeom prst="bentConnector3">
                <a:avLst>
                  <a:gd name="adj1" fmla="val 49978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56" name=""/>
              <p:cNvCxnSpPr>
                <a:stCxn id="141" idx="6"/>
                <a:endCxn id="138" idx="1"/>
              </p:cNvCxnSpPr>
              <p:nvPr/>
            </p:nvCxnSpPr>
            <p:spPr>
              <a:xfrm flipV="1">
                <a:off x="6296040" y="4435920"/>
                <a:ext cx="884880" cy="1297800"/>
              </a:xfrm>
              <a:prstGeom prst="bentConnector3">
                <a:avLst>
                  <a:gd name="adj1" fmla="val 49898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57" name=""/>
            <p:cNvGrpSpPr/>
            <p:nvPr/>
          </p:nvGrpSpPr>
          <p:grpSpPr>
            <a:xfrm>
              <a:off x="7180200" y="4771800"/>
              <a:ext cx="1227240" cy="963360"/>
              <a:chOff x="7180200" y="4771800"/>
              <a:chExt cx="1227240" cy="963360"/>
            </a:xfrm>
          </p:grpSpPr>
          <p:sp>
            <p:nvSpPr>
              <p:cNvPr id="158" name="_s1031"/>
              <p:cNvSpPr/>
              <p:nvPr/>
            </p:nvSpPr>
            <p:spPr>
              <a:xfrm>
                <a:off x="7180200" y="5100120"/>
                <a:ext cx="1227240" cy="635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RCOT Aggregated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Weather Zone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eak and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nergy Forecas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59" name=""/>
              <p:cNvCxnSpPr>
                <a:stCxn id="138" idx="2"/>
                <a:endCxn id="158" idx="0"/>
              </p:cNvCxnSpPr>
              <p:nvPr/>
            </p:nvCxnSpPr>
            <p:spPr>
              <a:xfrm flipV="1" rot="10800000">
                <a:off x="7793640" y="4771440"/>
                <a:ext cx="1080" cy="3290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60" name=""/>
            <p:cNvGrpSpPr/>
            <p:nvPr/>
          </p:nvGrpSpPr>
          <p:grpSpPr>
            <a:xfrm>
              <a:off x="1568160" y="1552320"/>
              <a:ext cx="3384720" cy="1079280"/>
              <a:chOff x="1568160" y="1552320"/>
              <a:chExt cx="3384720" cy="1079280"/>
            </a:xfrm>
          </p:grpSpPr>
          <p:sp>
            <p:nvSpPr>
              <p:cNvPr id="161" name="_s1031"/>
              <p:cNvSpPr/>
              <p:nvPr/>
            </p:nvSpPr>
            <p:spPr>
              <a:xfrm>
                <a:off x="2949480" y="1699920"/>
                <a:ext cx="786960" cy="370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343080" indent="-343080" algn="ctr"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conomic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_s1031"/>
              <p:cNvSpPr/>
              <p:nvPr/>
            </p:nvSpPr>
            <p:spPr>
              <a:xfrm>
                <a:off x="1858680" y="1699920"/>
                <a:ext cx="798480" cy="3700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343080" indent="-343080" algn="ctr"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ctual Tem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_s1031"/>
              <p:cNvSpPr/>
              <p:nvPr/>
            </p:nvSpPr>
            <p:spPr>
              <a:xfrm>
                <a:off x="4029120" y="1698120"/>
                <a:ext cx="799560" cy="370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343080" indent="-343080" algn="ctr"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alenda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27280" y="1552320"/>
                <a:ext cx="3225600" cy="66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568160" y="2228400"/>
                <a:ext cx="2457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Weather Zone Forecasted 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606840" y="2225160"/>
                <a:ext cx="418680" cy="4064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-227880" y="2444400"/>
              <a:ext cx="2343600" cy="3286080"/>
              <a:chOff x="-227880" y="2444400"/>
              <a:chExt cx="2343600" cy="328608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317880" y="2631600"/>
                <a:ext cx="1130040" cy="3098880"/>
                <a:chOff x="317880" y="2631600"/>
                <a:chExt cx="1130040" cy="3098880"/>
              </a:xfrm>
            </p:grpSpPr>
            <p:sp>
              <p:nvSpPr>
                <p:cNvPr id="169" name="_s1031"/>
                <p:cNvSpPr/>
                <p:nvPr/>
              </p:nvSpPr>
              <p:spPr>
                <a:xfrm>
                  <a:off x="516240" y="4403160"/>
                  <a:ext cx="787320" cy="3700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Load 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_s1031"/>
                <p:cNvSpPr/>
                <p:nvPr/>
              </p:nvSpPr>
              <p:spPr>
                <a:xfrm>
                  <a:off x="516240" y="3607920"/>
                  <a:ext cx="787320" cy="3700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Economic 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_s1031"/>
                <p:cNvSpPr/>
                <p:nvPr/>
              </p:nvSpPr>
              <p:spPr>
                <a:xfrm>
                  <a:off x="500400" y="2810880"/>
                  <a:ext cx="798480" cy="3700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Weather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_s1031"/>
                <p:cNvSpPr/>
                <p:nvPr/>
              </p:nvSpPr>
              <p:spPr>
                <a:xfrm>
                  <a:off x="498600" y="5200200"/>
                  <a:ext cx="800280" cy="3700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Calendar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 algn="ctr">
                    <a:spcBef>
                      <a:spcPts val="2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17880" y="2631600"/>
                  <a:ext cx="1130040" cy="3098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>
                <a:off x="-227880" y="2444400"/>
                <a:ext cx="234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Weather Zone Historical 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6200000">
                <a:off x="1460520" y="3850560"/>
                <a:ext cx="419400" cy="4064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1841400" y="2619000"/>
              <a:ext cx="3073320" cy="4239720"/>
              <a:chOff x="1841400" y="2619000"/>
              <a:chExt cx="3073320" cy="4239720"/>
            </a:xfrm>
          </p:grpSpPr>
          <p:sp>
            <p:nvSpPr>
              <p:cNvPr id="145" name="_s1031"/>
              <p:cNvSpPr/>
              <p:nvPr/>
            </p:nvSpPr>
            <p:spPr>
              <a:xfrm>
                <a:off x="3481200" y="3455640"/>
                <a:ext cx="1307880" cy="6476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RCOT Total System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ummer Hourly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oad Shape Model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y weather z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_s1031"/>
              <p:cNvSpPr/>
              <p:nvPr/>
            </p:nvSpPr>
            <p:spPr>
              <a:xfrm>
                <a:off x="3481200" y="4750920"/>
                <a:ext cx="1307880" cy="6350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RCOT Total Syste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Winter Hourly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oad Shape Model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y weather z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_s1031"/>
              <p:cNvSpPr/>
              <p:nvPr/>
            </p:nvSpPr>
            <p:spPr>
              <a:xfrm>
                <a:off x="3481200" y="6033600"/>
                <a:ext cx="1307880" cy="6620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RCOT Total Syste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pring/Fall Hourl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oad Shape Model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y weather z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_s1031"/>
              <p:cNvSpPr/>
              <p:nvPr/>
            </p:nvSpPr>
            <p:spPr>
              <a:xfrm>
                <a:off x="1982520" y="4183200"/>
                <a:ext cx="1292040" cy="519120"/>
              </a:xfrm>
              <a:prstGeom prst="roundRect">
                <a:avLst>
                  <a:gd name="adj" fmla="val 16667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RCOT Winter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nthly Energy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del by weather z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_s1031"/>
              <p:cNvSpPr/>
              <p:nvPr/>
            </p:nvSpPr>
            <p:spPr>
              <a:xfrm>
                <a:off x="1968120" y="5357520"/>
                <a:ext cx="1366920" cy="745560"/>
              </a:xfrm>
              <a:prstGeom prst="roundRect">
                <a:avLst>
                  <a:gd name="adj" fmla="val 16667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343080" indent="-343080" algn="ctr"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RCOT Spring/Fall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onthly Energ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odel by weather zo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_s1031"/>
              <p:cNvSpPr/>
              <p:nvPr/>
            </p:nvSpPr>
            <p:spPr>
              <a:xfrm>
                <a:off x="1985760" y="2875320"/>
                <a:ext cx="1285920" cy="519120"/>
              </a:xfrm>
              <a:prstGeom prst="roundRect">
                <a:avLst>
                  <a:gd name="adj" fmla="val 16667"/>
                </a:avLst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RCOT Summe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nthly Energy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del by weather z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841400" y="2619000"/>
                <a:ext cx="3073320" cy="421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942920" y="6584040"/>
                <a:ext cx="1803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marL="343080" indent="-343080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Six Regression Equations by weather zon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2041560" y="1319040"/>
              <a:ext cx="258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ather Zone Actual and Forecasted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80" y="5832360"/>
              <a:ext cx="1837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ather Zone Historical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D72A-C0A9-4895-8981-9544519C0C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Peak Day August 17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ettlement Data by Fuel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817560"/>
            <a:ext cx="9144000" cy="6040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6A0D-D606-47E0-91F1-3753994B1B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87C9-CB18-4667-81EF-A783CD5BA4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AUGUST 17 PEAK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28600" y="1371600"/>
          <a:ext cx="8763120" cy="4613400"/>
        </p:xfrm>
        <a:graphic>
          <a:graphicData uri="http://schemas.openxmlformats.org/drawingml/2006/table">
            <a:tbl>
              <a:tblPr/>
              <a:tblGrid>
                <a:gridCol w="4141800"/>
                <a:gridCol w="1828800"/>
                <a:gridCol w="2792520"/>
              </a:tblGrid>
              <a:tr h="50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EMS Peak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2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Settlement 15 Min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4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Settlement H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3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.10%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ifference from 2006 Normal Peak Proj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Normal Peak Proj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6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Validation Actual Te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6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0.46%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ifference from Initial Settlement Ho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Normal Peak Proj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2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Extreme Peak Proj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0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309B-65A4-4AE0-9FE6-E477EF8257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2895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S and NO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682B-3F65-42D3-BE1D-4E224D4F85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8836200" cy="645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6F09-FD6C-4ED4-A549-74383BF34A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8937720" cy="640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F3EE-60ED-4AB6-B77E-B9198508AF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2895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09F4-2C6D-4D68-9B02-63142650C7D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492120"/>
            <a:ext cx="9144000" cy="6251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9F04-5A3C-4552-B61A-D25A904CEAF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492120"/>
            <a:ext cx="9144000" cy="6251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1B0F-2B06-4D23-A534-AAEA40AAD67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64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E9C6-FE01-4191-9669-6C11AB81EEA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35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59B1-A888-4DF7-8CA9-7CA82654300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471680"/>
            <a:ext cx="9144000" cy="5414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AUGUST 17 PEAK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86600" y="990720"/>
            <a:ext cx="1065240" cy="298080"/>
          </a:xfrm>
          <a:prstGeom prst="wedgeRoundRectCallout">
            <a:avLst>
              <a:gd name="adj1" fmla="val -89018"/>
              <a:gd name="adj2" fmla="val 15916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,731 M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96080" y="1828800"/>
            <a:ext cx="1065240" cy="298080"/>
          </a:xfrm>
          <a:prstGeom prst="wedgeRoundRectCallout">
            <a:avLst>
              <a:gd name="adj1" fmla="val -146990"/>
              <a:gd name="adj2" fmla="val -5807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,259 M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0" y="3276720"/>
            <a:ext cx="1065240" cy="298080"/>
          </a:xfrm>
          <a:prstGeom prst="wedgeRoundRectCallout">
            <a:avLst>
              <a:gd name="adj1" fmla="val -69050"/>
              <a:gd name="adj2" fmla="val -3185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,376 M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6FE0-869D-49ED-BF6E-B440BEB9BD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63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DA23-8328-4CB9-8F38-3D83E22151A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227160"/>
            <a:ext cx="9144000" cy="647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F50F-C86E-470B-A660-4F4638D922E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175248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tter than normal summer season and everyone did wel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Resources ~65,000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atchable Generation ~57,400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Network Resources ~6,400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 Load Projection is Hourly (not 15 minute or Instantaneo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ial Peak 62,334 MW (subject to change based upon settle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ed Planning Load 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Variability Significant (much more that load vari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73E7-6F1D-409B-8A9F-49C9322628B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4240" y="380880"/>
            <a:ext cx="8975520" cy="6116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0FE7-7163-4EA0-B0D4-5F10EC96A2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6680" y="1368360"/>
            <a:ext cx="8977320" cy="5489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AUGUST 17 PEAK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572000"/>
            <a:ext cx="1446480" cy="298080"/>
          </a:xfrm>
          <a:prstGeom prst="wedgeRoundRectCallout">
            <a:avLst>
              <a:gd name="adj1" fmla="val -66791"/>
              <a:gd name="adj2" fmla="val 28051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2 MW @ 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7360" y="1905120"/>
            <a:ext cx="30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500 MW Installe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0369-5DEC-4446-BBD7-C929010564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366920"/>
            <a:ext cx="9144000" cy="5491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AUGUST 17 PEAK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4320" y="4191120"/>
            <a:ext cx="1446120" cy="298080"/>
          </a:xfrm>
          <a:prstGeom prst="wedgeRoundRectCallout">
            <a:avLst>
              <a:gd name="adj1" fmla="val -66773"/>
              <a:gd name="adj2" fmla="val 22514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7 MW @ 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70520" y="1752480"/>
            <a:ext cx="28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2 MW Installe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44FB-C0C0-476F-B9B0-891AB1C1AF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336680"/>
            <a:ext cx="9144000" cy="5521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AUGUST 17 PEAK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 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05720" y="2514600"/>
            <a:ext cx="1446120" cy="298080"/>
          </a:xfrm>
          <a:prstGeom prst="wedgeRoundRectCallout">
            <a:avLst>
              <a:gd name="adj1" fmla="val -37282"/>
              <a:gd name="adj2" fmla="val 366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9 MW @ 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46840" y="1523880"/>
            <a:ext cx="28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55 MW Installe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F794-5F7E-4FC8-9A98-E1F0A1EC95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249200"/>
            <a:ext cx="9144000" cy="5608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AUGUST 17 PEAK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atchable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05720" y="3809880"/>
            <a:ext cx="1752480" cy="298080"/>
          </a:xfrm>
          <a:prstGeom prst="wedgeRoundRectCallout">
            <a:avLst>
              <a:gd name="adj1" fmla="val -47023"/>
              <a:gd name="adj2" fmla="val -47870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,376 MW @ 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42280" y="1523880"/>
            <a:ext cx="32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,573 MW Installe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DFCE-8D6C-4136-9CFD-A90281617B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147680"/>
            <a:ext cx="9144000" cy="5710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AUGUST 17 PEAK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Network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0" y="2736720"/>
            <a:ext cx="1752480" cy="495360"/>
          </a:xfrm>
          <a:prstGeom prst="wedgeRoundRectCallout">
            <a:avLst>
              <a:gd name="adj1" fmla="val -53171"/>
              <a:gd name="adj2" fmla="val -2570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397 MW @ 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Settlement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19320" y="563868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,419 MW Reported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66D8-71A1-4E28-89DA-2CA0BBFA12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19:13:42Z</dcterms:created>
  <dc:creator> </dc:creator>
  <dc:description/>
  <dc:language>en-US</dc:language>
  <cp:lastModifiedBy>vweldon</cp:lastModifiedBy>
  <dcterms:modified xsi:type="dcterms:W3CDTF">2007-03-16T21:43:17Z</dcterms:modified>
  <cp:revision>60</cp:revision>
  <dc:subject/>
  <dc:title>Slide 1</dc:title>
</cp:coreProperties>
</file>