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B07-C698-45AC-87C9-A95D1536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20F-4946-474F-99BA-22C4FCAA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A57-95DB-4E86-BD23-6E231CF9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168-442C-4FB4-AFA7-D5334709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F05-5282-48DA-809A-FC8864D4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92C-A362-4E30-A94C-7CD7944E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EEE-3488-4388-A189-0E3AA521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EE3-2F5D-4501-AC41-2CB80BE1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449-AEBD-4380-BC3C-3EDD7AC4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AB0-6A8A-4CFF-AC71-C0FAB71B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083-AA0F-4D3A-A674-676B49DC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D09-17E8-4FA3-A102-94E1974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AB09-7B3A-4518-B986-FE2314653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676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essons Learned from 4/17/06 and changes to EE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3581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wenty-Fourth Annual Operations Training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rch - April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nt Saathoff,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78C-2318-4D51-AF61-F63DA2154F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ril 17 13:45 – 15: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3:45, 94% of available Balancing Energy (BES) used – 680 MW off-line reserves (NSRS) de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3:52 it was found a QSE did not have the 600 MW of available reserve that it was sh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4:20 ERCOT had deployed all Regula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4:29 243 MW of Responsive Reserve on generation automatically de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4:36 another QSE showing available reserve was contacted to provide 3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5:00 99% of BES used – additional 200 MW NSRS de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A02-9CE7-4BDD-9D6C-893BAAEF13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4:00-15:00 Frequency and A/S Deplo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632-68F6-48C8-9310-8CE1E92356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ril 17 15:00 – 16: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5:00 demand was 51,48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the beginning of the hour frequency and regulation briefly recovered but began to decline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5:14 another QSE showing reserves was asked to increase 2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requency continued decline and EECP Step 1 declared at 15: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l capacity available to be brought on line and gene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rranged schedule for emergency assistance over the DC 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requency continued declining and EECP Step 2 declared at 15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terruptible loads tr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0B6-749B-4A06-9EB3-553F503DCA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5:00-16:00 Frequency and A/S Deplo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989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95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29000" y="33526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CP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3581280"/>
            <a:ext cx="76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49528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CP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800600" y="472392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80320" y="3421080"/>
            <a:ext cx="18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2720" y="35053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0 M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010280" y="3200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616-A272-46E2-8A5C-63F9F84FC1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ril 17 16:00 – 17: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6:00 frequency had recovered to 60 Hz and 150 MW emergency schedule began flowing from the East DC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tween 16:01 and 16:07 three units experienced forced outages totaling 1,197 MW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requency went below 59.8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6:13 EECP Step 4 was implemented with a hot-line call to Transmission Operators (TOs) asking for 1,000 MW firm load shed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6:17 another unit with 486 MW capacity tr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t 16:25 EECP Step 3 – Public Appeal for Conservation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requency recovered to 60 HZ by 1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F77-BCF4-4BEA-91D4-94550309D8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ECP Step 4 Load Shed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894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-380880" y="914400"/>
          <a:ext cx="100584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914400"/>
                    <a:ext cx="100584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A68-33B9-4711-A3BF-534D225760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6:00-17:00 Frequency and A/S Deplo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75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305560" cy="5181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7200" y="2362320"/>
            <a:ext cx="101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Tr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132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066680" y="236232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371240" y="2819520"/>
            <a:ext cx="228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819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819520"/>
            <a:ext cx="1219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4864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CP Ste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286000" y="5410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33526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CP 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809880" y="327636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682-1451-47D1-8B52-72230F26E5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ril 17 17:00 – 19: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fter 17:00 frequency began to stabilize around 60 Hz and regulation and responsive reserves started com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tween 17:32 and 18:10 TOs allowed to restore all firm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tween 18:21 and 18:29 QSEs allowed to restore interruptible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nt back to EECP Step 1 at 18:48 and discontinued DC tie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ECP officially cancelled at 19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EF2-6380-4FF5-9A9D-916D07C98D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oad Forecast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oad forecast was lower than actual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eak load would have been ~ 53,817 MW if load had not been interrupted (actual was 51,613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ll-time April peak was 49,280 MW in late April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pril 17 Peak Load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49,018 MW @16:00 April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49,591 MW @01:00 April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51,114 MW @13:00 April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emperature forecast for DFW area was 5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° low (95° vs 10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Accounts for about 1,000 - 1,500 MW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ow load forecast for Coast (Houston) area due to corrupted histor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Accounts for about 3,000 MW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C30-A959-450F-AE72-4B2BF8BCE9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source Plan/Available Capacit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source Plan used for the 13:00 April 17 Replacement Study showed 55,283 MW of maximum generating capacity on-line a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perator saw no problem meeting 51,114 MW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ould have been enough to cover 53,817 MW load plus 1,150 Responsive Reserve on units, but not by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udgment call on whether to call an Alert if forecast had been 53,81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However, Resource Plans at 13:00 for peak (HE 170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howed 793 MW that had tripped before 13:00 or was started late (after 16: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cluded 1,683 MW capacity that tripped between 15:51 and 16: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020-4203-4ADB-BF6C-233844439D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s presentation is intended to describe the events of April 17, 2006 and resulting changes to the ERCOT Emergency Electric Curtailment Plan (EECP) and other ERCOT internal and extern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B39-9029-49D4-97A6-C67F6782C1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ak load forecast used for the 16:00 April 16 Replacement Study had been 53,817 MW instead of 49,018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 additional 1,026 MW of capacity off-line at peak April 17 would have been proc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iven actual unit trips, would have still been in EE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ght have avoided Step 4, but would have been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nits had not tripped or started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ght have avoided EECP altogether, but would have been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F67-4498-4AB9-B053-3990EC0803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6200" y="2514600"/>
            <a:ext cx="723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ril 17 Follow-up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482-98D6-40BF-A115-4FB9CE1938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ssues Addre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ERCOT Load Forecast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hanges to EECP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Need for improved communication procedures with PUCT, Legislature and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perating Res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esirability of more Interruptible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Review Transmission Operator Firm Load shedding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0DB-3630-4193-8809-3F816D45D0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ad Forecast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eceiving second forecast from an independent load forecast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ompare to ERCOT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vestigate reasons for any significant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cide which one is best to use for Operations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ject underway to make enhancements to ERCOT load forecast model – PR 6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pgrade from v2.2 to v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egrate multiple forecast sources into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vide new methods to ensure data quality and reli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easonability lim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ate-of-chang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eather data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814-B69F-4708-A00D-DF21D6BEFD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990720" y="990720"/>
          <a:ext cx="7543800" cy="5422680"/>
        </p:xfrm>
        <a:graphic>
          <a:graphicData uri="http://schemas.openxmlformats.org/drawingml/2006/table">
            <a:tbl>
              <a:tblPr/>
              <a:tblGrid>
                <a:gridCol w="2253960"/>
                <a:gridCol w="2563920"/>
                <a:gridCol w="2725920"/>
              </a:tblGrid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Absolute Percent Difference for MTLF run at 16:00 Day Ahead (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Absolute Percent Difference for MTLF run at 16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Ahead (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verage for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mprovement in Mid-Term Load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579-9B72-4AA7-B6BA-41AC7CB529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ECP Procedure Chan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pproved by Board in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mplemented December 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ases Notices, Advisories, Alerts and initiation of Steps 1 and 2 of EECP on discounted real-time reserves based on pas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ublic appeal for conservation can be made Pre-EECP, but no later than EECP Step 2 (when interruptible load is 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ew Procedures in place for purposes of external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DC4-CA51-4D9A-8FB1-DDFE308D22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RCOT External Communications and EE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838080"/>
          <a:ext cx="7315200" cy="586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1520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07C-56C8-475E-AB7F-F037C13712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munications:  Pre-EECP and EE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495680"/>
            <a:ext cx="152388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ll EECP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0384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084320"/>
            <a:ext cx="18288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-Commissio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-Exec. 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-Media 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-Infrastructure/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-Govt. 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106668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gislative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overnor’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C Ho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191120"/>
            <a:ext cx="441936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l of the above PLUS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legi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market participants &amp; other interested pa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ate ERCOT.com web page for public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2133720"/>
            <a:ext cx="19047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rket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- Subscriber list screened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-- ROS on System Operations “PUCT Daily Report” em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5120" y="4572000"/>
            <a:ext cx="533160" cy="507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1143000"/>
            <a:ext cx="1600200" cy="642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Notif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81080" y="1244520"/>
            <a:ext cx="533520" cy="507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705720" y="10843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RCOT Officer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ard, &amp; Clie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308-0260-4F5F-BED4-D2CB320B17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ECP revision changes how reserves are monitored in real time and base notices and EECP implementation on discounted value (Physical Responsive Capability – P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vised criteria for Non-Spinning Reserve procurement approved by Board in November with Ancillary Services requirements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pen second market for additional reserves based on analysis of next day’s Resourc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79440" y="36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304920"/>
            <a:ext cx="51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perating Reser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CFC-1EEA-4BE1-B32E-6E7D2BFBDF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creased Interruptible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72920"/>
            <a:ext cx="77724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ERCOT Staff proposed an Emergency Interruptible Load Program (EILP) to obtain additional interruptible load that can be interrupted after EECP Step 2 and before Step 3 (firm load shed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MS set up a special task force to develop PRR for submittal to 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 PRRs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ubmitted for PRS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wo PRRs rejected, two PRRs still under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UCT proceeded with interim rule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806-FD2E-4A2B-B612-69D04BEB72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t the completion of this course of instruction you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mmarize the events that led up to the 4/17 EE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st the load forecast issues that may have contributed to the EE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st the issues that have been addressed to try to alleviate another inci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plain the procedure changes to the EE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B4F-5330-43AC-B968-216A972FE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401760"/>
            <a:ext cx="8001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irm Load Shedding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RCOT sets the amount (MW) of load shed for each Transmission Operator (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rotocols only have general requirement for TOs to keep in mind “the need to protect the safety and health of the community and the essential human needs of the citizen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RCOT conducted survey of TO firm load shedding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0C0-AC2A-4F27-8391-F7B04F9329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oad Shedding Survey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esponses from 15 of 17 TOs (Non-responders ~ 1% of load shed responsi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ll TOs have established firm load shedding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ll TOs rotate customer ou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inimum 1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aximum 4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verage 18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eighted average time to shed load depends on amount requested by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0 minutes for 1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7 minutes for 10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ll but one TO has procedure for exempting or prioritizing critical customers (that TO has 15 minute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A7D-1A57-459E-A18A-309C263AA4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  ERCOT Protocols Section 5.6.6.1, Emergency Electric Curtail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 ERCOT Operating Guides Section 4.5 Emergency Electric Curtail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ECD-16A9-4AFF-88E9-81C7F0D306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A66-9CA8-4B70-BB23-5B4D799225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066680"/>
            <a:ext cx="8229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mergency Electric Curtailment Plan (EECP) – Procedure followed by ERCOT during periods of capacity short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2  Replacement Study – A study done by ERCOT to determine which off-line generating units need to brought on line for reliability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  Resource Plans – Data provided by QSEs showing what units they plan to have on-line and how they plan to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4  Balancing Energy Service (BES) – Available energy bid in by QSEs and deployed by ERCOT to make up the difference between QSE scheduled generation and the short term load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C18-BCFD-4EF5-9532-9D8341C57F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tio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5  Non-Spinning Reserve (NSRS) – Off-line generating capacity provided by QSEs that can be brought on line and provide energy within 3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6  Responsive Reserve  – Generating Capacity or Interruptible load provided by QSEs used to help restore the frequency of the interconnected transmission system within the first few minutes of an event that causes a significant deviation from the standard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7  Qualified Scheduling Entity (QSE) – A market participant representing generation and/or load qualified to submit Balanced Schedules and Ancillary Services bids and settle payments with ER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8  PUCT – Public Utility Commission of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9  SOC – State (Emergency) Operations C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42B-52C4-45EB-AFCF-2F4A53A15C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ronological Review of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ril 17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68C-96A0-41A4-9638-7CEF837013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ril 16 Day Ahead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6:00 April 16 Replacemen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ak load forecast – 49,018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n-line peak capacity scheduled – 50,661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RCOT procured additional 2,542 MW capacity for HE 16 and 17 on April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01:00 April 17 Replacemen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ak load forecast – 49,591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n-line peak capacity scheduled – 54,382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o need seen for additional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9E9-A899-425C-85CA-9D115D2D57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ril 17 – EE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ad tracking abov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3:00 Replacemen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ak load forecast – 51,11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n-line peak capacity scheduled – 55,23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cluded 490 MW that tripped between 12:00 and 13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ource Plans also showed 1,800 MW off-line capacity available within 3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o need seen for additional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ctual demand at 14:00 was 49,19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54C-2FD4-4C3B-AFFD-3963D0F803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mmary of Load/Capacity Out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559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998640"/>
            <a:ext cx="8763120" cy="5478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507000" y="243828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Est. Actual pea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9528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5257800"/>
            <a:ext cx="60984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62320" y="5181120"/>
            <a:ext cx="3808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43200" y="480060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48120" y="4647960"/>
            <a:ext cx="3045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52680" y="4495680"/>
            <a:ext cx="30492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57600" y="4343040"/>
            <a:ext cx="3808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038120" y="411480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343040" y="38098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48320" y="35053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952520" y="312408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57800" y="2895480"/>
            <a:ext cx="3808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638320" y="2743200"/>
            <a:ext cx="3049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943240" y="274320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248520" y="27432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629040" y="2743200"/>
            <a:ext cx="30492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934320" y="28195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238520" y="3124080"/>
            <a:ext cx="30492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543800" y="3200040"/>
            <a:ext cx="3808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7924320" y="3352680"/>
            <a:ext cx="3049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943240" y="251460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248520" y="2514240"/>
            <a:ext cx="380880" cy="152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666880"/>
            <a:ext cx="304920" cy="1526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324480" y="2514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6324480"/>
            <a:ext cx="152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79840" y="624852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 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268-8C05-4BE3-A00E-8D2E42BF8E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vweldon</cp:lastModifiedBy>
  <dcterms:modified xsi:type="dcterms:W3CDTF">2007-03-16T21:35:33Z</dcterms:modified>
  <cp:revision>21</cp:revision>
  <dc:subject/>
  <dc:title>Slide 1</dc:title>
</cp:coreProperties>
</file>