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FDD-4EF9-465B-AE47-68C2EA83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745-9758-42B6-9552-B5536EF9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8AD-87BA-4E90-BA0B-0EB99C9A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D87-A4DD-4CAE-828A-5CB3450A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E6C-F4ED-4825-A8C4-F250242B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6C4-3CF4-4CD0-A9D8-E8DA5AC1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B19-234E-4733-968F-A1AAA790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9D3-82FE-47FF-A68C-3537D5A3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518-11DC-4349-8890-ABD987B3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D3D-4809-4B63-BF43-85D088F7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761-1DBF-4E84-B35F-789734F5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6A1-3F65-4344-AAC1-F4AF130B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B512-2000-48E5-8675-3DA6C0BA9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 15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5638680" y="380880"/>
            <a:ext cx="266724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Twelve Month rolling Average CPS1 = 123.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762120" y="380880"/>
            <a:ext cx="2209680" cy="58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CPS1 for APRIL 2008 = 12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7620120" y="228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1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7620120" y="228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1.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267080" y="3170160"/>
          <a:ext cx="609840" cy="51768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Chart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630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met on May 13 and 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to do some high level analysis of control performance during periods with low CPS1 sc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G continues to discuss potential Nodal market control performanc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meeting is June 10 and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Bob Green</dc:creator>
  <dc:description/>
  <dc:language>en-US</dc:language>
  <cp:lastModifiedBy>Green, Bob</cp:lastModifiedBy>
  <dcterms:modified xsi:type="dcterms:W3CDTF">2008-05-09T22:23:57Z</dcterms:modified>
  <cp:revision>46</cp:revision>
  <dc:subject/>
  <dc:title>ROS Report</dc:title>
</cp:coreProperties>
</file>