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2C301-08A0-4C1E-9BDB-AEDE05D1D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660C-EC6B-427C-AAF4-534C88DA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85999-25D3-4FBC-AD09-5977ACF2F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49D77-41D9-41A2-81EC-8E6C5B75C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EAF08-AB10-40F3-934E-8445B6B14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C93C-EA2D-47FD-A8D1-3148F5C3D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19DB6-73D4-4CD1-984A-BD60BE350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F7994-4AE8-4E75-9EDE-834FDA998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90696-F1C7-42ED-B840-662D3B1C0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CD19D-4264-4BF0-B5A1-830BE5C38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DD973-E356-4297-9FF9-6CD11AD7D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110C-566C-4D26-B0BD-E8680CFFC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ACEEA-0E77-4B45-A36B-7A800BFB0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C8BA8-31CD-4099-8C74-22661380F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A9A00-B87F-4301-B777-26B439CB4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41A2A-7C58-4E3E-AB7B-03BC64B2E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83B62-B861-4C36-844E-E3A79D75E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896EB-24B6-4260-B6A9-D65A23A2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99C0-7BA3-4890-B494-8A0C0C1A1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8E8D3-58C4-47CB-9759-1B9CC2C7E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B419-CF8F-45A3-9EF1-14DD44534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9D6E-8579-488B-9247-6E4ECB5D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8B97-881B-4E2A-9ACB-874BE3402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FC34-D19C-4B18-8D35-B5DB997F0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0536-67D8-4748-9B36-849AAA8E42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7250-3620-4979-8346-C82FABCBC77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8,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ced Metering Implementation Team</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al Approach Discuss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ntral Repository or Multiple TDU Location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 Portal Host(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terim and Long term considerations</a:t>
            </a:r>
            <a:endParaRPr b="0" lang="en-US" sz="24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Case and Task Assignment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 Education Workshop</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Settlement Discussion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 Automation Network</a:t>
            </a:r>
            <a:endParaRPr b="0" lang="en-US" sz="28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5"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pril 9 RMS Meeting:</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trust Training </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MS Voting Items:</a:t>
            </a:r>
            <a:endParaRPr b="0" lang="en-US" sz="24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PRR097Changes to Section 8 to Incorporate Role of TRE, the IMM, and the Concept of Market Compliance</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of Task Force comments deleting language in 8.3(1)(e) to remove posting requirement of TSP charges for ESI Ids</a:t>
            </a:r>
            <a:endParaRPr b="0" lang="en-US" sz="18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R759, Changes to Notification to Customer of Service Establishment</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with concern stated that cost savings represented in this PRR (over $450K annual savings) be reflected in the O&amp;M budget and System Administration Fee in a future year.</a:t>
            </a:r>
            <a:endParaRPr b="0" lang="en-US" sz="1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ed Exception to SLA to perform upgrades to Storage Area Network</a:t>
            </a:r>
            <a:endParaRPr b="0" lang="en-US" sz="3200" spc="-1" strike="noStrike">
              <a:solidFill>
                <a:srgbClr val="ffffff"/>
              </a:solidFill>
              <a:latin typeface="Tahoma"/>
            </a:endParaRPr>
          </a:p>
          <a:p>
            <a:pPr lvl="1" marL="705600" indent="-2714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SLA for Retail Transaction Processing: 99.9%</a:t>
            </a:r>
            <a:endParaRPr b="0" lang="en-US" sz="24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utage regardless of duration</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 Proxy Servers</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a:t>
            </a:r>
            <a:endParaRPr b="0" lang="en-US" sz="20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ages greater than 15 minutes</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ic Data Interchange (ED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Application Integration (EA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er Registration Database</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RCOT maintained infrastructure supporting retail transaction process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SLA Exceptions</a:t>
            </a:r>
            <a:endParaRPr b="0" lang="en-US" sz="28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enance Window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en-US" sz="2000" spc="-1" strike="noStrike" baseline="30000">
                <a:solidFill>
                  <a:srgbClr val="ffffff"/>
                </a:solidFill>
                <a:latin typeface="Tahoma"/>
              </a:rPr>
              <a:t>st</a:t>
            </a:r>
            <a:r>
              <a:rPr b="0" lang="en-US" sz="2000" spc="-1" strike="noStrike">
                <a:solidFill>
                  <a:srgbClr val="ffffff"/>
                </a:solidFill>
                <a:latin typeface="Tahoma"/>
              </a:rPr>
              <a:t>,3</a:t>
            </a:r>
            <a:r>
              <a:rPr b="0" lang="en-US" sz="2000" spc="-1" strike="noStrike" baseline="30000">
                <a:solidFill>
                  <a:srgbClr val="ffffff"/>
                </a:solidFill>
                <a:latin typeface="Tahoma"/>
              </a:rPr>
              <a:t>rd</a:t>
            </a:r>
            <a:r>
              <a:rPr b="0" lang="en-US" sz="2000" spc="-1" strike="noStrike">
                <a:solidFill>
                  <a:srgbClr val="ffffff"/>
                </a:solidFill>
                <a:latin typeface="Tahoma"/>
              </a:rPr>
              <a:t> and 4</a:t>
            </a:r>
            <a:r>
              <a:rPr b="0" lang="en-US" sz="2000" spc="-1" strike="noStrike" baseline="30000">
                <a:solidFill>
                  <a:srgbClr val="ffffff"/>
                </a:solidFill>
                <a:latin typeface="Tahoma"/>
              </a:rPr>
              <a:t>th</a:t>
            </a:r>
            <a:r>
              <a:rPr b="0" lang="en-US" sz="2000" spc="-1" strike="noStrike">
                <a:solidFill>
                  <a:srgbClr val="ffffff"/>
                </a:solidFill>
                <a:latin typeface="Tahoma"/>
              </a:rPr>
              <a:t> Sunday of each month-8am until 8pm</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ase Window</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en-US" sz="2000" spc="-1" strike="noStrike" baseline="30000">
                <a:solidFill>
                  <a:srgbClr val="ffffff"/>
                </a:solidFill>
                <a:latin typeface="Tahoma"/>
              </a:rPr>
              <a:t>nd</a:t>
            </a:r>
            <a:r>
              <a:rPr b="0" lang="en-US" sz="2000" spc="-1" strike="noStrike">
                <a:solidFill>
                  <a:srgbClr val="ffffff"/>
                </a:solidFill>
                <a:latin typeface="Tahoma"/>
              </a:rPr>
              <a:t> weekend each month-12:00pm Saturday until 12:00am Monday (36 hours)</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ption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wide releases involving all Market Participants</a:t>
            </a:r>
            <a:endParaRPr b="0" lang="en-US" sz="20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tended maintenance and release windows requested at RMS prior to extended outag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05600" indent="-2714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rns expressed at RMS</a:t>
            </a:r>
            <a:endParaRPr b="0" lang="en-US" sz="28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rst weekend of month high volume and imposes manual processes on Market Participant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quent requests for exception from SLA dilute the value of having the SLA</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needs to be revisited and reviewed to determine if adequate time is allowed for maintenance window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ice of request provided &lt;2 days prior to RM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not reviewed with TDTWG where expertise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Request for Exception to SLA </a:t>
            </a:r>
            <a:endParaRPr b="0" lang="en-US" sz="28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 the past 8 months ERCOT has requested multiple SLA exceptions that have been approved by RMS.   </a:t>
            </a:r>
            <a:endParaRPr b="0" lang="en-US" sz="24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gust 25 – 27,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15 – 17, 2007 (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22 – 24, 2007 (Migration of Databases to AIX) </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0 – 22,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7-29, 2007 (Migration of Databases)</a:t>
            </a:r>
            <a:endParaRPr b="0" lang="en-US" sz="20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 to SLA Not Granted</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to perform the Storage Area Network upgrades during normal maintenance on May 4</a:t>
            </a:r>
            <a:endParaRPr b="0" lang="en-US" sz="2800" spc="-1" strike="noStrike">
              <a:solidFill>
                <a:srgbClr val="ffffff"/>
              </a:solidFill>
              <a:latin typeface="Tahoma"/>
            </a:endParaRPr>
          </a:p>
          <a:p>
            <a:pPr lvl="2" marL="1119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7"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rak slow system performance and failures</a:t>
            </a:r>
            <a:endParaRPr b="0" lang="en-US" sz="24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ses:</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 </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ngle vs. multi-threading processing abiliti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 sessions management capabilities</a:t>
            </a:r>
            <a:endParaRPr b="0" lang="en-US" sz="1600" spc="-1" strike="noStrike">
              <a:solidFill>
                <a:srgbClr val="ffffff"/>
              </a:solidFill>
              <a:latin typeface="Tahoma"/>
            </a:endParaRPr>
          </a:p>
          <a:p>
            <a:pPr lvl="4" marL="1830960" indent="-203400">
              <a:lnSpc>
                <a:spcPct val="90000"/>
              </a:lnSpc>
              <a:spcBef>
                <a:spcPts val="400"/>
              </a:spcBef>
              <a:buClr>
                <a:srgbClr val="ffffff"/>
              </a:buClr>
              <a:buSzPct val="80000"/>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pplication does not consistently release HTTP sessions, the current version does not allow for adjustment of timeout parameters</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en the storage area network </a:t>
            </a:r>
            <a:r>
              <a:rPr b="1" lang="en-US" sz="1600" spc="-1" strike="noStrike">
                <a:solidFill>
                  <a:srgbClr val="ffffff"/>
                </a:solidFill>
                <a:latin typeface="Tahoma"/>
              </a:rPr>
              <a:t>(SAN)</a:t>
            </a:r>
            <a:r>
              <a:rPr b="0" lang="en-US" sz="1600" spc="-1" strike="noStrike">
                <a:solidFill>
                  <a:srgbClr val="ffffff"/>
                </a:solidFill>
                <a:latin typeface="Tahoma"/>
              </a:rPr>
              <a:t> fails, the MarkeTrak application fails as well</a:t>
            </a:r>
            <a:endParaRPr b="0" lang="en-US" sz="16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lution:</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ersion upgrade that will address these issues has been in process since late ’07, two versions of the upgrade have failed ERCOT testing and have had to be returned to the vendor for fix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st recent version upgrade is in ERCOT testing and if successful it will be promoted to production during the May release</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ject to replace aged hardware has been in progress since late ’07 and is scheduled for implementation during the first weekend in May</a:t>
            </a:r>
            <a:endParaRPr b="0" lang="en-US" sz="1600" spc="-1" strike="noStrike">
              <a:solidFill>
                <a:srgbClr val="ffffff"/>
              </a:solidFill>
              <a:latin typeface="Tahoma"/>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ation of Market Impact Assessment Task Force</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rpose: Assess and quantify impacts to Market Participants and End-use Consumers from ERCOT service degradation issues in March.</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pe:  Create a thorough report on the cause, severity and impacts. </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 Formal report to RMS inclusive of definition of opportunities to mitigate market impact through refinement of SLA and  inclusion of Market Impacts in the ERCOT Incident Log.</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AC of findings in June if comple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Leadership Meet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TAC and Subcommittee Procedur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Rules Presentation/Discussion</a:t>
            </a:r>
            <a:endParaRPr b="0" lang="en-US" sz="24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Leadership Roles  and Responsibiliti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CS Presentation/Discussion with process recommendations for Leadership and ERCOT Meeting Facilitator, SME , support roles and processes.</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5-02T18:21:10Z</dcterms:modified>
  <cp:revision>47</cp:revision>
  <dc:subject/>
  <dc:title>RMS Update to TAC</dc:title>
</cp:coreProperties>
</file>