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F74D-3E78-40AA-919B-B9F852291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8FB0-F8C0-4232-85E6-2609344DF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30FA-D27A-4988-AAF3-53B915788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F72D0-73E7-4543-96F6-F5178FD72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FD5D-5493-4702-BC1D-D2232604D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C1EB-AE5E-450B-9722-C333696DE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37E70-0FF1-4779-9907-8F0ADAD093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E5A5-A27B-435F-AB84-B24BADDA8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B9EB-90A1-4C05-ACD5-EFA749E84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C5387-5B5F-410A-AC5A-36860BA03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A494-AB02-4EE2-81EA-BE3187F58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5F557-9E60-43E7-8D0D-D0100E9DB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73C7-BDFF-4FDB-AD6A-8AF917A50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7D8DA-925D-4318-A038-B2EB7E4DA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BD22-631E-4B5E-A726-3B75EC4DF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2"/>
          </p:nvPr>
        </p:nvSpPr>
        <p:spPr>
          <a:xfrm>
            <a:off x="2333520" y="5466960"/>
            <a:ext cx="36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vember 6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3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ket Coordination Team 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5"/>
          <p:cNvSpPr/>
          <p:nvPr/>
        </p:nvSpPr>
        <p:spPr>
          <a:xfrm>
            <a:off x="1676520" y="4648320"/>
            <a:ext cx="6048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ail Market Subcommitt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y 14th,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COT Project Upd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457200" y="31240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60008 Ts &amp; Cs and Performanc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60008 Project Statu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Rectangle 151"/>
          <p:cNvSpPr/>
          <p:nvPr/>
        </p:nvSpPr>
        <p:spPr>
          <a:xfrm>
            <a:off x="304920" y="838080"/>
            <a:ext cx="8534160" cy="53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Status – Execution Ph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itiation – Complete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ning – Complete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 _Started 01/11/20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-Live  – 06/14/2008 *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(UPDATED)*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Fall back contingency date due to issues encountered in iTE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nt  Accomplish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grated Code to iTES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ted all Test Scripting and Data Prepa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lved application issues in iTEST found during smoke test (details on next slid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te Testing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6/06/20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 Liv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6/14/20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bilization En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7/11/20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60008 Project Status Continu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09680" y="22860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13573080" y="5896080"/>
            <a:ext cx="819360" cy="742680"/>
          </a:xfrm>
          <a:prstGeom prst="wedgeRectCallout">
            <a:avLst>
              <a:gd name="adj1" fmla="val -46513"/>
              <a:gd name="adj2" fmla="val 8076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0" tIns="23040" bIns="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2/06/2008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lease  PROD (tent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13649400" y="8105760"/>
            <a:ext cx="1276200" cy="1181160"/>
          </a:xfrm>
          <a:prstGeom prst="rightArrow">
            <a:avLst>
              <a:gd name="adj1" fmla="val 50000"/>
              <a:gd name="adj2" fmla="val 270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0" tIns="23040" bIns="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abiliza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0"/>
          <p:cNvSpPr/>
          <p:nvPr/>
        </p:nvSpPr>
        <p:spPr>
          <a:xfrm>
            <a:off x="228600" y="990720"/>
            <a:ext cx="868680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isks / Issues / Updat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sue 1: Slow TIBCO performance found in iTEST–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Resolv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Cause Environment Issue –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ution:  Storage I/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sue 2: TIBCO message memory errors found in iTEST–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Resolv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Cause: Application Issue isolated to iTEST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ution:  Configuration setting in iTEST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 Delay - PR60008 Ts and Cs and Performance Measures moved to contingency date of 06/14/2008 due to time needed to complete testing – </a:t>
            </a: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LOW RISK between PR60008 and PR70007 MarkeTrak Enhanc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isk Mitig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 resources for DEV, Business, and Operations.  Mitigating resource impacts with tes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5228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60008 Project Status Continu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hsatterfield</cp:lastModifiedBy>
  <dcterms:modified xsi:type="dcterms:W3CDTF">2008-05-05T16:22:02Z</dcterms:modified>
  <cp:revision>70</cp:revision>
  <dc:subject/>
  <dc:title>Instructions</dc:title>
</cp:coreProperties>
</file>