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DFB-7711-44E4-8A64-491AF02C0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B78-D78A-4E40-85F3-DB0A77E4E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57A-5AAD-4841-B588-771ABA226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679-BEF7-4830-B4C9-F62A73BBC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0598-B1F1-4331-990F-8946E3774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5C6A-6AD6-426F-B6A6-2B517BADE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066E-A859-4593-8C1C-C1B69A89D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1768-777F-4BCF-84A4-1E02A95EF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77E-2566-43AD-9348-767DABD0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EE8-C1AF-43CE-83E3-344C49C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DF7-CF5E-45BD-8BF0-58DAFFC7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10A-1297-4134-9931-BB6825AC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5CAE-F476-4053-BD55-738D6EA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E9EC-7FD0-46C2-9C29-2AFBD2C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798-C553-49AE-A57B-C99A470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3AD-A4EA-474D-8F0A-56600CBB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FA4-2BDB-444C-A558-353FC3A3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D2C1-8A16-4947-A4B8-A6525CE3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4ED9-27CF-432D-8362-410F42E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2BE-F583-40FD-A365-32CF00E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461B-5E72-4F23-8E14-3955CB5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67BA-6BC7-4DE7-A45C-5D48766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A93B-6B64-4859-B66D-CE2F47D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F065-3693-426F-AEAF-139DBAAA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035F-01D8-4582-B563-28EDD888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01A-9DE3-4F32-B3AC-EF4D057A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870-0336-4AFF-B900-506B71A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F1D-5CEB-4323-8411-A7808F62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B4F-F432-46ED-AC86-9D240E9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A56-3B0C-4ED1-B275-207532A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2D9-96FA-4BB6-AEB7-F092945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6EE-A8F7-4177-A7EA-08DD0BA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46A-3159-4271-B1A1-F2E056F36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7A4F-9BF4-4BE9-A5DA-F0D4371CC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318-947F-4467-912A-41F605AF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keTrak Trends and Analysis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1/01/2007 to 12/31/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1/01/2008 to 04/01/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4FA-F898-4977-89EF-77E812027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y to Day Issues – Volume Summa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609480" y="1371600"/>
            <a:ext cx="8053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1143000"/>
          <a:ext cx="7010280" cy="4800600"/>
        </p:xfrm>
        <a:graphic>
          <a:graphicData uri="http://schemas.openxmlformats.org/drawingml/2006/table">
            <a:tbl>
              <a:tblPr/>
              <a:tblGrid>
                <a:gridCol w="2931840"/>
                <a:gridCol w="1141560"/>
                <a:gridCol w="1562040"/>
                <a:gridCol w="137484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 Unicode MS"/>
                        </a:rPr>
                        <a:t>Subty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 Unicode MS"/>
                        </a:rPr>
                        <a:t>Avg Q 2007 vs. Q1 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Q1 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g  Q 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Chan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 With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 Without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ni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TX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 TX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el CHG/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rand 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3,7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6,9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8.7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C97E-1843-4F3A-999D-4393BC7F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y to Day Issue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‘Negative Transition’ Summa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3808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-where Negative Transition is any step in an issue lifecycle which does not progress an issue towards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2057400"/>
          <a:ext cx="7543800" cy="4092480"/>
        </p:xfrm>
        <a:graphic>
          <a:graphicData uri="http://schemas.openxmlformats.org/drawingml/2006/table">
            <a:tbl>
              <a:tblPr/>
              <a:tblGrid>
                <a:gridCol w="1887480"/>
                <a:gridCol w="2154240"/>
                <a:gridCol w="1614600"/>
                <a:gridCol w="1887480"/>
              </a:tblGrid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ub-Ty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ran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vg Q 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1-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 With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ready Canc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Avg Days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xecu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Avg Days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 Days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el CHG/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xecu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Avg Days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xecu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Avg Days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D69-BFEF-4F7B-B8CA-022E91719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9320" y="91440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cella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s should perform Service Order cancellations transactionally whenever poss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/16/08:  MarkeTrak will evaluate the Scheduled Meter Read Date on cancel requests and provide feedback during the issue submiss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DSPs should monitor those Cancel Requests which they have indicated will be completed via a TDSP generated trans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/16/08:  Workflow efficiencies have been designed to route Cancellation issues to either the TDSP or ERCOT eliminating the need to monitor issues in other que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advertent Gai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s should have a thorough understanding of What  Constitutes an Inadvertent Gain prior to sub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MarkeTrak User’s Guide has been updated and improved with additional IAG consideration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1.2 Definition of Inadvertent Swit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.1.2.2 Examples of Invalid Inadvertent Switch Iss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ncel and Inadvertent Switch Issu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8413-1400-4E3F-8DEA-84C3738D3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ebel Change/Usage Billing Issu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219320" y="106668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ebel Change Request/Usage Billing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rak issue submitter requesting changes to Service Orders for which they are not the initiator or Assigning an MP that is not the init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8/16/08:  MarkeTrak will compare the initiator DUNs number of the MarkeTrak user and Submitting MP of the Service Order during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tter should use all available data before creation of MarkeTrak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rvice Orders processed by ERCOT should be validated in the 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port Explorer should be reviewed for an explanation of Siebel Status (i.e. RCSO Report, Missing 867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nsactions provide cycle dates for switches (814_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MarkeTrak Users Guide has been updated to further emphasize the responsibilities of Submitters before issues are cre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3EC-0AD6-4960-A06D-D9D8FE208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VLSE Issues – Volume Summa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609480" y="1371600"/>
            <a:ext cx="8053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1447920"/>
          <a:ext cx="7010640" cy="4186080"/>
        </p:xfrm>
        <a:graphic>
          <a:graphicData uri="http://schemas.openxmlformats.org/drawingml/2006/table">
            <a:tbl>
              <a:tblPr/>
              <a:tblGrid>
                <a:gridCol w="2932200"/>
                <a:gridCol w="1141560"/>
                <a:gridCol w="1562040"/>
                <a:gridCol w="1374840"/>
              </a:tblGrid>
              <a:tr h="782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 Unicode MS"/>
                        </a:rPr>
                        <a:t>Subty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ffffff"/>
                          </a:solidFill>
                          <a:uFillTx/>
                          <a:latin typeface="Arial Unicode MS"/>
                        </a:rPr>
                        <a:t>Avg Q 2007 vs. Q1 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Q1 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g  Q 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Chan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E Date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E in MP System Not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rand 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,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,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57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F92-7602-4643-9A2C-2F8152392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tting MP should NOT adjust StopTimes for ERCOT’s date rollback process.  Date requested should equal the date which would have been requested on a Move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MarkeTrak Users Guide – Data Extract Variance section is being expanded to give further instruction with regard to date field expect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History with DUNs for Affected Period should be a complete Rep of Record history of any time period approved for manual removal from ERCOT’s Registrat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 of Record history should be updated to appropriate field; not placed in the Comments s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is process has been dramatically overhauled with the MarkeTrak Phase 2 Projec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rkeTrak will systematically determine with issues require Service History and make it a required fi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rvice History will be entered in a consistent, reportable predefined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nly the TDSP and ERCOT will have visibility to the relationship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Extract Variance Issu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19:52Z</dcterms:created>
  <dc:creator>dmichelsen</dc:creator>
  <dc:description/>
  <dc:language>en-US</dc:language>
  <cp:lastModifiedBy>dmichelsen</cp:lastModifiedBy>
  <dcterms:modified xsi:type="dcterms:W3CDTF">2008-05-13T22:11:33Z</dcterms:modified>
  <cp:revision>94</cp:revision>
  <dc:subject/>
  <dc:title>Slide 1</dc:title>
</cp:coreProperties>
</file>