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53E-493C-46F7-82D6-8B44A05C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6FC-D44B-4E4A-A695-B78EDBAD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3AF-17C6-450C-B783-3CA8C0AF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2DB-1B91-4383-85B1-6A6F3844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1F3-DEAF-4BCB-B540-847F4C38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8C6-19EA-4D21-B2B2-C3B166D6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F83-3157-4B49-A094-32F1B53B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C51-AF93-47CB-8892-2E142FE4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471-8EA4-4F8B-B198-8712364D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5C9-4AF0-4FEB-8397-4BF92D79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A0A-F481-437D-8614-5F498988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65A-8C89-41BD-B2E8-9ECFB1E5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9705-E1A1-4FDA-A703-A615BADD0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054-1883-49D5-96A8-51FAD80293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07F-7D81-44C4-9EB1-BF30D2F6D4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7080" y="1868400"/>
            <a:ext cx="8902800" cy="302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718-4233-4AC2-BB7B-47020C547B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1AA-86A2-4762-AE74-250B77069A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5000" y="1833480"/>
            <a:ext cx="8875800" cy="24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F97-6E94-4006-8BBD-72B0104AFF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F45-933D-4076-9085-8462667912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9160" y="1733400"/>
            <a:ext cx="8948520" cy="314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269-DB44-49E8-A5FE-F5F1B425D6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FD7-99D8-4BD3-8B18-506F7D6F59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A38-5ECE-452D-B295-64279431FA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E10-76C3-4398-956F-3A592C6A7E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371600"/>
          <a:ext cx="7772400" cy="4857840"/>
        </p:xfrm>
        <a:graphic>
          <a:graphicData uri="http://schemas.openxmlformats.org/drawingml/2006/table">
            <a:tbl>
              <a:tblPr/>
              <a:tblGrid>
                <a:gridCol w="2643120"/>
                <a:gridCol w="828720"/>
                <a:gridCol w="1071720"/>
                <a:gridCol w="1081080"/>
                <a:gridCol w="1079280"/>
                <a:gridCol w="1068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"/>
                          <a:ea typeface="Arial"/>
                        </a:rPr>
                        <a:t>Cancel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. '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. '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. '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. '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Obj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RCOT Operation R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,3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mit no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jected by T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execu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/Exce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"/>
                          <a:ea typeface="Arial"/>
                        </a:rPr>
                        <a:t>T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. '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. '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. '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. '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er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C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y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N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e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TU-T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15B-F7C0-438F-987A-8FE94E86F9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126-A8A1-4D08-A981-0F7CD6F28F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" y="3662280"/>
            <a:ext cx="8829720" cy="21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C0F-B80E-47F6-BF39-F054C7427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838080" y="1905120"/>
          <a:ext cx="7467840" cy="38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46784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01D-FEB6-49A2-AFF1-272E1E2CAE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58E-E9F3-4A22-AAD6-714069D0EC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7360" y="1863720"/>
            <a:ext cx="8902800" cy="33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B86-30AF-4B24-8070-7908A67F61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tstewart</cp:lastModifiedBy>
  <cp:lastPrinted>2002-09-24T18:27:58Z</cp:lastPrinted>
  <dcterms:modified xsi:type="dcterms:W3CDTF">2008-05-08T16:50:28Z</dcterms:modified>
  <cp:revision>745</cp:revision>
  <dc:subject/>
  <dc:title>PowerPoint Presentation</dc:title>
</cp:coreProperties>
</file>