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9C4C-2637-4BF8-84B8-9051309BD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DE6E-A7D0-4714-8FFF-0A5705AD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2122-3041-4DE2-A17C-873BB4CE8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282A-DF2C-4B05-A06B-8F803B12F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1F062-934F-4A72-9C26-9EEC69AE6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ADD6F-0412-4348-B159-FF292075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0A052-A781-4E62-8391-52807405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46169-71E5-4971-902F-B3CF2D46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DAF50-EEC1-47A0-B0E8-70CE2CC5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80F4F-8F9C-4352-BA01-98566681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56E5F-A4AD-465D-890A-9C89EE49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1087-4449-4676-B06B-35371409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9F9DE-4BC4-42CB-9F66-EC9779C9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F6AED-2CC4-435F-9BA1-7BA84A69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FF354-0D67-4413-A25C-6540E9A1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7FCFC-6296-4067-A555-B2F4E7C57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FD1E4-CB82-4022-A25C-3184256B6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04A8-03C3-4C39-BB4E-75CC9908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6AC8-1776-4C3F-AC67-9868FDD4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2E34-C074-4ED2-8E10-74BA000A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03A6-820B-4583-BD6E-0695DDEF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935E-6A5A-43E3-ABE6-CC9C295E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423F-F78D-4429-8495-28E8450D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BBC8-B2F7-45F8-B168-0E0D5029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BB74-3D93-4077-A927-DF4B91F3C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8A80-7A6E-4086-A512-F3BBA3929E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B46A-34A3-4274-9428-4DB0895875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TX SET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Update to RM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14,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Line 4"/>
          <p:cNvSpPr/>
          <p:nvPr/>
        </p:nvSpPr>
        <p:spPr>
          <a:xfrm>
            <a:off x="380880" y="6400800"/>
            <a:ext cx="830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323C-745B-48F9-83D2-1C6D5C6ABF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ssues Under Re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075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SA-By Pass flag is being used by CRs when they do not have a CSA establish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nguage in the 814_24 Move-out guide stat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e owner of CSA could use the code to de-energize a premise (Only if the CSA REP is also the REP of Record at the time of the Move-Out effective date)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Line 4"/>
          <p:cNvSpPr/>
          <p:nvPr/>
        </p:nvSpPr>
        <p:spPr>
          <a:xfrm>
            <a:off x="380880" y="6400800"/>
            <a:ext cx="830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ssue I075 (continued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BFEF-4FA1-45B9-AF3F-785BBFA65A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33520" y="1676520"/>
          <a:ext cx="8001000" cy="4635360"/>
        </p:xfrm>
        <a:graphic>
          <a:graphicData uri="http://schemas.openxmlformats.org/drawingml/2006/table">
            <a:tbl>
              <a:tblPr/>
              <a:tblGrid>
                <a:gridCol w="1866960"/>
                <a:gridCol w="998280"/>
                <a:gridCol w="1135080"/>
                <a:gridCol w="930240"/>
                <a:gridCol w="1131840"/>
                <a:gridCol w="866880"/>
                <a:gridCol w="1071720"/>
              </a:tblGrid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/29/08 – 01/31/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2/13/08 – 03/23/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4/01/08 – 04/20/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Total MVOs submitted with bypass fla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,5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4,86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7,3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MVOs with flag from CSA C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6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9.1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6,2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2.1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,78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7.9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MVOs with flag and no CSA CR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8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56.1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8,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53.8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,1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56.9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MVOs with flag from another C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.7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5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.0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5.1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ssue I075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(continued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312120" indent="-312120">
              <a:spcBef>
                <a:spcPts val="601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COT conducted an impact analysis on setting up validation to limit the use of the CSA By-Pass code (REF~2W) under two scenar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12120" indent="-312120">
              <a:spcBef>
                <a:spcPts val="34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676080" indent="-312120">
              <a:spcBef>
                <a:spcPts val="601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 of Record DUNS only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67608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0 Hours – Project Requi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676080" indent="-312120">
              <a:spcBef>
                <a:spcPts val="24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2" marL="676080" indent="-312120">
              <a:spcBef>
                <a:spcPts val="601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DUNS associated with the REP of Record (for REPs that use multiple DUNS numbers)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67608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40 Hours – Project Requi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looks to be prohibitively hig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7904-E39B-4986-BC15-94E66B2A50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Line 4"/>
          <p:cNvSpPr/>
          <p:nvPr/>
        </p:nvSpPr>
        <p:spPr>
          <a:xfrm>
            <a:off x="380880" y="6400800"/>
            <a:ext cx="830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ssue I075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(continued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75% of issues traced to a single R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4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COT Client Services has escalated the issue to the R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4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P has indicated that they are taking steps to stop this pract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4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X SET will continue to monitor volu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0FCD-20DC-4C33-A219-E11FA75C66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hange Controls in Queu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b1f"/>
                </a:solidFill>
                <a:latin typeface="Tahoma"/>
              </a:rPr>
              <a:t>2 Change Controls Approved for a Future TX SET Rele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24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b1f"/>
                </a:solidFill>
                <a:latin typeface="Tahoma"/>
              </a:rPr>
              <a:t>16 Change Controls Pending Approval to be Addressed on a Change Control Call on Thursday, May 22 (Day 2 of TX SET Meetin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24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b1f"/>
                </a:solidFill>
                <a:latin typeface="Tahoma"/>
              </a:rPr>
              <a:t>See TX SET website to see Change Control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3508-7217-4FFB-8EB6-32E6CFB1BF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380880" y="6400800"/>
            <a:ext cx="830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018E-5AE0-45A8-A9F3-AA74615AAA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ther Work in Progre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Renewable Generation RMGR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Guide Examp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586800" indent="-2257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ransaction Examples and Prepare to Pull Examples Out of I.G.s at Next Rele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view/Clean-up of RMG Section 7 to ensure consistency with TX SET v3.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Advanced Metering Project for TX SET Chan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586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380880" y="6400800"/>
            <a:ext cx="830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56B5-0109-4D21-8210-D159DDCCE4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Questions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380880" y="6400800"/>
            <a:ext cx="830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7:54:20Z</dcterms:created>
  <dc:creator>rbevill</dc:creator>
  <dc:description/>
  <dc:language>en-US</dc:language>
  <cp:lastModifiedBy>rob.bevill</cp:lastModifiedBy>
  <dcterms:modified xsi:type="dcterms:W3CDTF">2008-05-07T21:29:19Z</dcterms:modified>
  <cp:revision>55</cp:revision>
  <dc:subject/>
  <dc:title>TX SET  Update to RMS</dc:title>
</cp:coreProperties>
</file>