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3483-7A51-4C36-AE73-C73A5D2A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04B9-0216-45E9-85EA-667234C8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0768-2D05-4E62-98DB-69222D8B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CDFC-A643-4AB6-8826-8FC533B1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B558-4989-4190-A5A3-0B1024B8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60B0-F5D6-49C6-8CE7-521C08FA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F8F3-5C2F-4AD9-BFAD-88328272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0016-FB3F-4FF4-B841-D5AEF8E6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72F0-BE9A-4D52-AE30-34313999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8C3D-DD08-42EB-BE1D-CCEA64DE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0E34-CB37-46F5-B00E-27C254A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1207-369D-4B3C-A18A-FAF2FD6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4EFF-1BC6-4C8F-8DD2-21657CE5A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890640"/>
          <a:ext cx="84931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90640"/>
                    <a:ext cx="84931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79560"/>
          <a:ext cx="845820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79560"/>
                    <a:ext cx="84582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896760"/>
          <a:ext cx="810108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96760"/>
                    <a:ext cx="810108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974880"/>
          <a:ext cx="807408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74880"/>
                    <a:ext cx="80740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5040" y="1066680"/>
          <a:ext cx="73339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066680"/>
                    <a:ext cx="73339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5-12T14:41:25Z</dcterms:modified>
  <cp:revision>133</cp:revision>
  <dc:subject/>
  <dc:title>Instructions</dc:title>
</cp:coreProperties>
</file>