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2B6A6-CC59-4B73-97F8-5BAD1B105CF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7D4F9-B1B9-45C8-9C30-DCE80AD678F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FB0E5-619A-4406-8A86-9E4D91CF0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A4B96-3A3B-49EB-BDC6-EF15BE1BE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39A9B-69DA-4D06-8E5A-BCE9E682D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F6972-BD89-4BE9-9D60-45FAC01C3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629AD-EBBF-42AE-8498-E2AD766B6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F0C47-61E0-4F68-8F9F-77BC5634E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38A47-769F-47ED-BB23-B25E181AD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CE108-4E92-4237-AEA0-EE76AD707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8DB64-A17C-4F76-95F6-E07EA5825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4F347-8D3B-4878-A8E3-D686D638A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86135-6BC5-4752-B8A3-A42A5DEA2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C2BEA-F5DE-49C7-95BF-75BD7CAAD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71343-98B3-44A7-99E2-1B9F276DA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C6738-4B0A-413C-8DEA-560DB29CB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48ECE-291D-4993-89EC-BD20B72AF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25D55-EBD6-4DD2-8CB5-F7D448A88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8F83D-C330-42C8-8C1A-FD8DB2F22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4F07D-E52D-41D3-8D40-087B54DD1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BF729-E417-4773-8515-41A708881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0D139-73C1-4A89-BF4B-61D18FB40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F7C91-A577-43A0-AD87-997C362A5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9739F-44E5-48A8-8C50-5095F2F53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93C0D-7071-4460-9ED9-4B582D1EF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D8906-6883-4369-A7BA-B77E79E6E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2263E-FF40-4442-BBEE-3A3AFFF661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3385B-044A-46D1-9F00-4CAD8F0201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F595E-44E0-4842-BA25-9CB67C3DC4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2"/>
          <p:cNvSpPr/>
          <p:nvPr/>
        </p:nvSpPr>
        <p:spPr>
          <a:xfrm>
            <a:off x="0" y="1295280"/>
            <a:ext cx="914400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MarkeTrak Impact of Processing Issues re: Market Notice M-A031208-0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457200" y="3962520"/>
            <a:ext cx="807732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AA03D-3A27-432E-8CFC-6096EAB497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ay to Day Issues - Summary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Rectangle 4"/>
          <p:cNvSpPr/>
          <p:nvPr/>
        </p:nvSpPr>
        <p:spPr>
          <a:xfrm>
            <a:off x="0" y="1415880"/>
            <a:ext cx="54864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5"/>
          <p:cNvSpPr/>
          <p:nvPr/>
        </p:nvSpPr>
        <p:spPr>
          <a:xfrm>
            <a:off x="914400" y="1371600"/>
            <a:ext cx="54864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838080" y="1522440"/>
          <a:ext cx="7543800" cy="4538520"/>
        </p:xfrm>
        <a:graphic>
          <a:graphicData uri="http://schemas.openxmlformats.org/drawingml/2006/table">
            <a:tbl>
              <a:tblPr/>
              <a:tblGrid>
                <a:gridCol w="2268720"/>
                <a:gridCol w="2255760"/>
                <a:gridCol w="1006560"/>
                <a:gridCol w="1006560"/>
                <a:gridCol w="1006200"/>
              </a:tblGrid>
              <a:tr h="76356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port Subtyp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 No. Submitted YTD (Jan -Dec '08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 No. Submitted  Mar '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 No. Submitted  Feb '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 No. Submitted  Jan '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1896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7 Issu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3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932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ncel With Approv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7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2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5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2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896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ncel Without Approv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896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advertent Switc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3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932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ssing TX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2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124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896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th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896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ject TX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932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p of Recor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896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ebel CHG/Inf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932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age/Billing Issu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43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7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7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8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428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RCOT Initiat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13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696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/Av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7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2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1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</a:tbl>
          </a:graphicData>
        </a:graphic>
      </p:graphicFrame>
      <p:sp>
        <p:nvSpPr>
          <p:cNvPr id="98" name="AutoShape 2"/>
          <p:cNvSpPr/>
          <p:nvPr/>
        </p:nvSpPr>
        <p:spPr>
          <a:xfrm>
            <a:off x="609480" y="1371600"/>
            <a:ext cx="805356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10A8E-77C7-4AFA-B929-901837261C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997 Issue Detai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670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333 Issues Submitted in Marc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crease from January and Februar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333 contained 1,349 .edi file level requests for researc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317 Indicating a Transaction Processing Date of 3/12 or 3/1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mainder were normal daily researc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urrent state of the issu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active/Resolved – 31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scalated - 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0" y="1415880"/>
            <a:ext cx="54864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5"/>
          <p:cNvSpPr/>
          <p:nvPr/>
        </p:nvSpPr>
        <p:spPr>
          <a:xfrm>
            <a:off x="914400" y="1371600"/>
            <a:ext cx="54864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D4ADB-E2BA-4D26-BA8E-4EB5006472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Missing Transaction Issue Detai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295280"/>
            <a:ext cx="670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1,241 Issues Submitted in Marc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25 increase from Februar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2 Assigned or Reassigned to ERCO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11 Indicating a Transaction Processing Date of 3/12 or 3/1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219 Point to Point – assigned to M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o additional transaction level requests embedded in the MarkeTrak Issues or contained in attachme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urrent state of the issu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ll 22 - Inactive/Resolved Stat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0" y="1415880"/>
            <a:ext cx="54864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5"/>
          <p:cNvSpPr/>
          <p:nvPr/>
        </p:nvSpPr>
        <p:spPr>
          <a:xfrm>
            <a:off x="914400" y="1371600"/>
            <a:ext cx="54864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EB452-E1F7-48F5-95B7-2A323FA2F5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ERCOT Initiated (EI) Issue Detai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294920" y="1905120"/>
            <a:ext cx="6705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7 Issues Submitted in March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16,867 individual requests for approval to resend or reprocess 867 d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jority created 3/17 for 867 reprocess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urrent State of issu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ll 7-  Inactive/Resolved Stat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Rectangle 4"/>
          <p:cNvSpPr/>
          <p:nvPr/>
        </p:nvSpPr>
        <p:spPr>
          <a:xfrm>
            <a:off x="0" y="1415880"/>
            <a:ext cx="54864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5"/>
          <p:cNvSpPr/>
          <p:nvPr/>
        </p:nvSpPr>
        <p:spPr>
          <a:xfrm>
            <a:off x="914400" y="1371600"/>
            <a:ext cx="54864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5T15:19:52Z</dcterms:created>
  <dc:creator>dmichelsen</dc:creator>
  <dc:description/>
  <dc:language>en-US</dc:language>
  <cp:lastModifiedBy>dmichelsen</cp:lastModifiedBy>
  <dcterms:modified xsi:type="dcterms:W3CDTF">2008-04-28T17:30:20Z</dcterms:modified>
  <cp:revision>34</cp:revision>
  <dc:subject/>
  <dc:title>Slide 1</dc:title>
</cp:coreProperties>
</file>