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E761436-E8A2-4EFD-B574-8D9C49EFFF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38320" y="687240"/>
            <a:ext cx="4592520" cy="3445200"/>
          </a:xfrm>
          <a:prstGeom prst="rect">
            <a:avLst/>
          </a:prstGeom>
          <a:ln w="0">
            <a:noFill/>
          </a:ln>
        </p:spPr>
      </p:sp>
      <p:sp>
        <p:nvSpPr>
          <p:cNvPr id="7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CC865F4-576E-4435-B2E3-3A76824CC1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38320" y="687240"/>
            <a:ext cx="4592520" cy="3445200"/>
          </a:xfrm>
          <a:prstGeom prst="rect">
            <a:avLst/>
          </a:prstGeom>
          <a:ln w="0">
            <a:noFill/>
          </a:ln>
        </p:spPr>
      </p:sp>
      <p:sp>
        <p:nvSpPr>
          <p:cNvPr id="7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79D6F43-32D7-4A97-9662-F0BEEF15553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38320" y="687240"/>
            <a:ext cx="4592520" cy="3445200"/>
          </a:xfrm>
          <a:prstGeom prst="rect">
            <a:avLst/>
          </a:prstGeom>
          <a:ln w="0">
            <a:noFill/>
          </a:ln>
        </p:spPr>
      </p:sp>
      <p:sp>
        <p:nvSpPr>
          <p:cNvPr id="7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0B69A34-52CC-4F44-90CF-C8F4715A37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38320" y="687240"/>
            <a:ext cx="4592520" cy="3445200"/>
          </a:xfrm>
          <a:prstGeom prst="rect">
            <a:avLst/>
          </a:prstGeom>
          <a:ln w="0">
            <a:noFill/>
          </a:ln>
        </p:spPr>
      </p:sp>
      <p:sp>
        <p:nvSpPr>
          <p:cNvPr id="8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6D1D1DD-F735-4822-A42A-9017740E72C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27EECB2-3AC6-4D01-90DE-A651CBF6F1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497CB8B-AE61-421F-8498-0913BD378D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CA4470A-BCF7-4E3E-880D-7D2531728A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F9FCF-F889-4514-9E07-3DDD6597E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061E0-30DA-4D71-8AEF-7F5C33DDD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58651-88AA-46DE-A44B-446187150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0D65F-F959-4EFF-8C32-AF9EC3B9B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EDBA9-0976-4F5D-A67A-5D7286ED4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A5187-A69D-4925-AE42-D5618E608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3E554-FAE7-4C4C-A9C8-D38344C97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74F78-BF6A-4A3D-8399-055AEFA0E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3F012-0358-45BA-AAAF-05473D03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7979-BB13-4528-89C9-A7A5BB0B5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CDBA-C841-4643-AF4C-CCE9B99D3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3F8F1-C8B3-4469-91A4-5B77ABCBD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A2C1-D2A6-40E0-B8BC-D3A60B930EF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5700-B3DC-4561-BB31-5082B69F6CB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14, 2008</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5EA6-328F-4E08-9BCA-137199D17F3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a:t>
            </a:r>
            <a:endParaRPr b="0" lang="en-US" sz="2800" spc="-1" strike="noStrike">
              <a:solidFill>
                <a:srgbClr val="000000"/>
              </a:solidFill>
              <a:latin typeface="Arial"/>
            </a:endParaRPr>
          </a:p>
        </p:txBody>
      </p:sp>
      <p:sp>
        <p:nvSpPr>
          <p:cNvPr id="56" name="PlaceHolder 2"/>
          <p:cNvSpPr>
            <a:spLocks noGrp="1"/>
          </p:cNvSpPr>
          <p:nvPr>
            <p:ph/>
          </p:nvPr>
        </p:nvSpPr>
        <p:spPr>
          <a:xfrm>
            <a:off x="380520" y="1295280"/>
            <a:ext cx="8610840" cy="5105520"/>
          </a:xfrm>
          <a:prstGeom prst="rect">
            <a:avLst/>
          </a:prstGeom>
          <a:noFill/>
          <a:ln w="0">
            <a:noFill/>
          </a:ln>
        </p:spPr>
        <p:txBody>
          <a:bodyPr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ing ERCOT System Outages and system failures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ed current status of SCR748 and SCR745</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ed Timestamp issue from March ERCOT Outages presentation</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IT Task - 95 Discussions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9334-5147-4244-9A23-5609FE0C2A8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10480" cy="4876920"/>
          </a:xfrm>
          <a:prstGeom prst="rect">
            <a:avLst/>
          </a:prstGeom>
          <a:noFill/>
          <a:ln w="0">
            <a:noFill/>
          </a:ln>
        </p:spPr>
        <p:txBody>
          <a:bodyPr anchor="t">
            <a:normAutofit fontScale="96000"/>
          </a:bodyPr>
          <a:p>
            <a:pPr marL="493560" indent="-493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working with the ERCOT Manager of Operations to address each system incident. </a:t>
            </a:r>
            <a:endParaRPr b="0" lang="en-US" sz="2800" spc="-1" strike="noStrike">
              <a:solidFill>
                <a:srgbClr val="000000"/>
              </a:solidFill>
              <a:latin typeface="Arial"/>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ian Brennan presented the outage report. There were a few comments regarding the recurring TML outages, Christian explained this to the group’s satisfaction.</a:t>
            </a:r>
            <a:endParaRPr b="0" lang="en-US" sz="2400" spc="-1" strike="noStrike">
              <a:solidFill>
                <a:srgbClr val="000000"/>
              </a:solidFill>
              <a:latin typeface="Arial"/>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ian mentioned the SLA Review. This is scheduled for discussion at the June 4</a:t>
            </a:r>
            <a:r>
              <a:rPr b="1" lang="en-US" sz="2400" spc="-1" strike="noStrike" baseline="30000">
                <a:solidFill>
                  <a:srgbClr val="000000"/>
                </a:solidFill>
                <a:latin typeface="Arial"/>
              </a:rPr>
              <a:t>th</a:t>
            </a:r>
            <a:r>
              <a:rPr b="1" lang="en-US" sz="2400" spc="-1" strike="noStrike">
                <a:solidFill>
                  <a:srgbClr val="000000"/>
                </a:solidFill>
                <a:latin typeface="Arial"/>
              </a:rPr>
              <a:t> TDTWG meeting in Austin.</a:t>
            </a:r>
            <a:endParaRPr b="0" lang="en-US" sz="2400" spc="-1" strike="noStrike">
              <a:solidFill>
                <a:srgbClr val="000000"/>
              </a:solidFill>
              <a:latin typeface="Arial"/>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4"/>
          <p:cNvSpPr/>
          <p:nvPr/>
        </p:nvSpPr>
        <p:spPr>
          <a:xfrm>
            <a:off x="3048120" y="441360"/>
            <a:ext cx="2743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endParaRPr b="1" lang="en-US" sz="4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7A75-98D2-4512-A806-D43BB5D7009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63"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2</a:t>
            </a:r>
            <a:r>
              <a:rPr b="1" lang="en-US" sz="3600" spc="-1" strike="noStrike">
                <a:solidFill>
                  <a:srgbClr val="000000"/>
                </a:solidFill>
                <a:latin typeface="Arial"/>
              </a:rPr>
              <a:t>. </a:t>
            </a:r>
            <a:r>
              <a:rPr b="1" lang="en-US" sz="2400" spc="-1" strike="noStrike">
                <a:solidFill>
                  <a:srgbClr val="003300"/>
                </a:solidFill>
                <a:latin typeface="Arial"/>
              </a:rPr>
              <a:t>TDTWG continue working with ERCOT to clarify  the status SCR748 and SCR745.</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pe Parrish gave a project review of PR70006_02 of SCR748. Project has been initiated and is in the planning stages. There are some resource </a:t>
            </a:r>
            <a:r>
              <a:rPr b="1" lang="en-US" sz="2400" spc="-1" strike="noStrike">
                <a:solidFill>
                  <a:srgbClr val="000000"/>
                </a:solidFill>
                <a:latin typeface="Arial"/>
              </a:rPr>
              <a:t>constraints</a:t>
            </a:r>
            <a:r>
              <a:rPr b="1" lang="en-US" sz="2400" spc="-1" strike="noStrike">
                <a:solidFill>
                  <a:srgbClr val="003300"/>
                </a:solidFill>
                <a:latin typeface="Arial"/>
              </a:rPr>
              <a:t> due to the nodal project but contract resources may be used for developmen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pe also gave a presentation for PR60006_01 of SCR745. Two options to proceed with the project were reviewed. After some discussion TDTWG ask for more detail to be presented in June before a </a:t>
            </a:r>
            <a:r>
              <a:rPr b="1" lang="en-US" sz="2400" spc="-1" strike="noStrike">
                <a:solidFill>
                  <a:srgbClr val="000000"/>
                </a:solidFill>
                <a:latin typeface="Arial"/>
              </a:rPr>
              <a:t>recommendation</a:t>
            </a:r>
            <a:r>
              <a:rPr b="1" lang="en-US" sz="2400" spc="-1" strike="noStrike">
                <a:solidFill>
                  <a:srgbClr val="003300"/>
                </a:solidFill>
                <a:latin typeface="Arial"/>
              </a:rPr>
              <a:t> could be made </a:t>
            </a:r>
            <a:r>
              <a:rPr b="1" lang="en-US" sz="2400" spc="-1" strike="noStrike">
                <a:solidFill>
                  <a:srgbClr val="000000"/>
                </a:solidFill>
                <a:latin typeface="Arial"/>
              </a:rPr>
              <a:t>to RMS.</a:t>
            </a:r>
            <a:endParaRPr b="0" lang="en-US" sz="24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4643-E800-420B-8510-151707990BA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6"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3</a:t>
            </a:r>
            <a:r>
              <a:rPr b="1" lang="en-US" sz="4000" spc="-1" strike="noStrike">
                <a:solidFill>
                  <a:srgbClr val="000000"/>
                </a:solidFill>
                <a:latin typeface="Arial"/>
              </a:rPr>
              <a:t>. </a:t>
            </a:r>
            <a:r>
              <a:rPr b="1" lang="en-US" sz="2800" spc="-1" strike="noStrike">
                <a:solidFill>
                  <a:srgbClr val="000000"/>
                </a:solidFill>
                <a:latin typeface="Arial"/>
              </a:rPr>
              <a:t>Discussed Timestamp issue from March ERCOT Outages presentation</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ael Matlock gave an update from the Outage Impact meetings that are on going.  The issue with the NAESB Time Stamps from ERCOT was resolved.  This was just a clarification of processes and time stamps and how NAESB relates to downstream applications once a file has been posted to ERCOT.  The NAESB time stamps were/are correct. Delays occurred further down in the processing due to ERCOT outages during 3/12 – 3/20.</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E2F1-5E98-4F67-9FDB-8D6BDE2C772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000000"/>
              </a:solidFill>
              <a:latin typeface="Arial"/>
            </a:endParaRPr>
          </a:p>
        </p:txBody>
      </p:sp>
      <p:sp>
        <p:nvSpPr>
          <p:cNvPr id="69" name="PlaceHolder 2"/>
          <p:cNvSpPr>
            <a:spLocks noGrp="1"/>
          </p:cNvSpPr>
          <p:nvPr>
            <p:ph/>
          </p:nvPr>
        </p:nvSpPr>
        <p:spPr>
          <a:xfrm>
            <a:off x="304920" y="1447920"/>
            <a:ext cx="853416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MIT Task - 95  Discussion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T Task – 95. </a:t>
            </a:r>
            <a:r>
              <a:rPr b="1" lang="en-US" sz="2000" spc="-1" strike="noStrike">
                <a:solidFill>
                  <a:srgbClr val="000000"/>
                </a:solidFill>
                <a:latin typeface="Arial"/>
              </a:rPr>
              <a:t>“Choose the X ML format ( X ML or Binary X ML) for TA-001 Machine to Machine Large Volumes of Data and TA – 002 Machine to Machine Small Volumes of Data. Determine if a published WSDL is appropriate for automated delivery of the data and if so creat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iven the information provided, the recommendations TDTWG can make at this time were documented and sent to Christine Wright and  Kathy Scott of the AMIT group.  As new business rules are formalized by AMIT, TDTWG would be glad to offer further review/comments. TDTWG recommendations will be posted with the TDTWG meeting Notes of 5/7.   </a:t>
            </a: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20E2-C76B-4BAE-83AD-C0564A10566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8-05-08T20:55:24Z</dcterms:modified>
  <cp:revision>455</cp:revision>
  <dc:subject/>
  <dc:title>PowerPoint Presentation</dc:title>
</cp:coreProperties>
</file>