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3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7FB6-440B-42AA-8215-8021E2001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F920-2E9F-4E68-83F8-F2D0A67DC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25EC-BF6D-49E9-969C-989D8A733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4963-D19B-49F7-8AC6-23147B513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639-FF4F-4CA1-ABAE-59DC61DF4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CC2B-5A17-42A1-B41D-A148A8133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465-218E-4047-BD1E-6784CE1E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2A2-F7F3-4E43-98B4-B35A7FF9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FBD-6600-4FE2-8E0E-CDD2DE27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002-6527-4B3C-B8B9-5542AB4E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2709-D516-4FB2-9262-0CD2064A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CADC-DC74-4148-AD36-10A1393B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6914-33B8-4F7D-A997-94478C2D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781E-1BB4-4C3C-A071-94913FFC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4482-A7ED-4416-8CE5-296CD8AB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E0B1-A5FB-4D3A-9269-34349E93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5FEC-09AD-455A-BEC4-FE9260E3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0AB-D9E0-4F79-BCEF-8DBFDF4D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2139-ED90-4D13-BDCC-3183AFE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BD7B-A3B1-474B-812C-B5445449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680A-4884-469E-A594-2DA4BDCA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1762-5B64-4C32-A021-8E21D83E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3A2C-5409-47DD-B977-91C750A1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A7FE-FCFB-4A61-B7D5-E98A2648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4E45-2C75-405E-8513-B64461BF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DD35-8793-48D6-8D73-17879872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2555-AC02-44FE-9B53-5B3318A7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03AC-C25B-4FDB-B4DD-F97A99C3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BC7-2BC5-4A65-9660-D5F40A0B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99AF-8B07-408B-A455-0D421662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54F7-4136-4FBC-90D1-61434132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DD6D-D453-437E-B092-B1B4CE2F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0FBB-F00E-4315-A888-CC34150B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CA69-218D-4FCC-9C7D-EC2FCF83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D1B6-92AC-49B3-B249-7FC3DEE4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7EE3-D36C-4A66-B772-B49D54FB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3135B-527A-48C0-9C8E-5812A27A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96B9-3BAF-4745-BD10-5B129EEA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8AA4C-6EB9-4E15-AFB1-18E3C0E2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B7A-9245-4406-9AC2-6D1CB490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99FBD-7C4A-47DD-AC1C-D8D5842F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78522-2C5B-4EA7-80F0-5CE89CB0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B3959-0AC5-43CB-9853-8CB8F695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6A752-E2FD-47A8-915D-160AEA3A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CDC1-03D0-46E5-8B87-D2087953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70F2-8DEA-4865-8F47-6F5A2114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3EC80-518A-488D-B0FF-761C0715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55F02-C849-4AEB-8143-2C4EC3C2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D14C-A63F-4FDA-8989-FD57C5D2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81AE7-1298-4696-B9E7-066D1274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F42-0D6A-44BD-988C-A69979C7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95909-9E80-4B79-9C34-822F2E4A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E8DF-0074-494E-83E1-D0812060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5FF66-EF7E-4113-AAA1-13CAB383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1448C-1632-4816-9187-DFED3789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CC307-CEE3-4161-B728-BDF6C092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87B7A-A44B-4E97-9C76-C2DF762E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2C7ED-952B-49B6-8277-C0C58C7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521A-1F3A-4756-8453-185A88A8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4A449-D20C-4E83-A416-3D3D29F5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1BDF-22F6-46B3-A7D3-854FF3D0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8B5-7BC7-4886-9D9C-33351491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87488-9FB2-4474-9C98-D5A77A27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8911F-620A-45B7-8750-999779A4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426A8-1ED4-4C0B-9C9A-2099C46A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9704B-AD98-417F-87FE-D0B850FF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F11BE-EA64-4A6F-A026-CE1602E4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0D6FA-8E87-4149-A7CC-4961FBC1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8A08-6C14-403D-B2D4-37BE51B2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A9D03-BE2B-4F10-9CC0-D11D3CF9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C1786-3BC6-4262-82F9-3A4C8409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ECA11-4894-49BF-BBCC-A0A7BC8A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8DC-D143-4C0B-98CF-EF9D23A2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082B2-36AA-4712-8446-9A246F1F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6160-B70B-4B6B-9028-8D63A7C5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49EBC-D6A6-45F2-80FD-D1FC8CB2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463EA-BFF1-4290-B5F4-956EF7AE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54160-F2D5-4C8D-9134-87961F1F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8A323-6E83-43FA-9791-44CC6DDC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9D4C9-0F54-4F75-BF1E-40BE3482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8F690-5355-4EBA-A547-4B460FA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4B927-2CEE-45CB-B652-AE5AF064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6C150-E774-432D-8ED7-3ACBE262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BD1-7606-4F10-9511-B84AB6A1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B9BF6-BA50-4B6D-A923-FE57700D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C5518-2678-4F21-B408-739E8235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5F50F-2047-47DF-9E76-B01520C4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27DA7-DEB9-46C5-A118-70F5E3CE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A73BD-ACB9-4ADF-86F6-9AF8A35E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0B382-0657-4BCB-BC7C-06EA8838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CAF02-64C1-42DB-906E-5A4532D5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DC873-929E-4AC6-BDCC-96CDCBDD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2FB02-212F-42DB-A1EB-757CD8BC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593BF-C708-419B-8178-FD69C24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A55-87DE-41DC-AE96-64D8459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9BDBC-C5B5-4263-844A-8E10AFFD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4DF61-5369-4DB9-85F7-01A70FA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3C911-23F0-490A-8EA4-4A7963A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90625-D547-46CA-BB16-2E199D7F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385FE-F55F-4C4D-AA55-3019DCFC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B58D0-CA16-4756-BD63-A9BE85BC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AD4A7-CCF3-4510-A122-E9604E75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CD81-CCBA-409B-B807-825929ADE0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58A0-1674-4471-9A68-765C0CE040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F0E2-98A2-4668-8C36-DB0435C89B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2893-431F-46B5-9904-99979FDEE9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A92C-D68C-4EDE-822A-243147D4F4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90E0-85FE-4190-97DA-5B128D7381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A499-0992-45D9-9100-B8EA44B01B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820B-0CFB-42F7-A784-8B36C090A2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663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May 14, 2008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ccomplishment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st Scripts have been completed and posted to Retail Testing Websi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visions to User Guide are underway to incorporate changes for Release and 1 and 2 implement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parations are underway for testing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7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7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7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7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70000"/>
              </a:lnSpc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4a7b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est Scripts completed and posted to websi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DSL/ XSD for Release 1 sent out on April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– Market Notifi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gistration for MarkeTrak testing closed Ma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– 8 CR’s and 5 TDSP’s have signed up for tes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aining material for Release 1 has been posted to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www.ercot.com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and distributed to via Market Not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y May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 Test Digital Certificates will be issu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y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  CR’s and TDSP’s send esiid test bed for Sandbox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y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– ERCOT will conduct MarkeTrak training which will incorporate Release 1 chan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y 20 – Connectivity Test and Sandbox open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y 22 – Complete revision discussions of the User’s Guide – deadline for updates to be submit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09120" y="137124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ject Status - Execution Phase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itiation - Completed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anning - Completed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xecution _Started 03/21/200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o-Live Release 1 - 06/14/200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o-Live Release 2 - 08/16/200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o-Live Release 3 - 12/06/200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osing - 02/2009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609120" y="137124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nternal Requirements, Conceptual Design, Detail Designs, Security Assessment all complet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elease 1 Development @ 90% Complete(100% pending completion of UAT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elease 2A Development @ 30% Complet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Next Step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elease 1 Test Script Completion = 05/01/2008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elease 1 UAT = 05/19/2008 - 06/06/2008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andbox Open = 05/20/2008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228600" y="533520"/>
            <a:ext cx="8229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Lucida Sans Unicode"/>
              </a:rPr>
              <a:t>Next meeting:  May 22n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609480" y="1447920"/>
            <a:ext cx="7162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cation  - Austin ( hotel near ERCO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r Guide discu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Must have all updates by close of meet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762120" y="1523880"/>
            <a:ext cx="71625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MCj04042630000[1]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  <p:pic>
        <p:nvPicPr>
          <p:cNvPr id="393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00017167</cp:lastModifiedBy>
  <dcterms:modified xsi:type="dcterms:W3CDTF">2008-05-03T20:26:42Z</dcterms:modified>
  <cp:revision>67</cp:revision>
  <dc:subject/>
  <dc:title>MarkeTrak Task Force</dc:title>
</cp:coreProperties>
</file>