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58750348-1D9C-4722-9F0E-CBDE35E04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010280" y="6305400"/>
            <a:ext cx="21337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nodal.ercot.com/readiness/eds4/documents/index.html" TargetMode="External"/><Relationship Id="rId2" Type="http://schemas.openxmlformats.org/officeDocument/2006/relationships/hyperlink" Target="http://nodal.ercot.com/readiness/eds4/documents/index.html" TargetMode="External"/><Relationship Id="rId3" Type="http://schemas.openxmlformats.org/officeDocument/2006/relationships/hyperlink" Target="http://nodal.ercot.com/readiness/eds4/documents/index.html" TargetMode="External"/><Relationship Id="rId4" Type="http://schemas.openxmlformats.org/officeDocument/2006/relationships/hyperlink" Target="http://nodal.ercot.com/readiness/eds4/documents/index.html" TargetMode="External"/><Relationship Id="rId5" Type="http://schemas.openxmlformats.org/officeDocument/2006/relationships/hyperlink" Target="http://nodal.ercot.com/readiness/eds4/documents/r9/ercot_eds_issue_submission_form.xls" TargetMode="External"/><Relationship Id="rId6" Type="http://schemas.openxmlformats.org/officeDocument/2006/relationships/hyperlink" Target="http://nodal.ercot.com/docs/pd/eip/od/misp/eip_external_interfaces_specification_v1_11.zip" TargetMode="External"/><Relationship Id="rId7" Type="http://schemas.openxmlformats.org/officeDocument/2006/relationships/hyperlink" Target="http://nodal.ercot.com/readiness/eds4/documents/index.html" TargetMode="Externa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nodal.ercot.com/docs/po/pd/ntp/ERCOT_Nodal_Transition_Plan_110305.doc" TargetMode="External"/><Relationship Id="rId2" Type="http://schemas.openxmlformats.org/officeDocument/2006/relationships/hyperlink" Target="http://nodal.ercot.com/readiness/eds4/documents/index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DS 4 Updat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P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4800600"/>
            <a:ext cx="64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13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elease 8 – May Activiti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ck RTM Initial Settlement Invoices and RTM Late Fee Invoices with input data to Readiness Center. 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ck RTM Settlement Statement in which there is no DAM for the Operating Day with input data to Readiness Center. 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R Auction Invoices – EDS 3 Release 7.4 Auction Results (2 business days after auction clea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tatements or Invoices posted for DAM Executions in EDS due to open SP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elease 8 – Verifiable Cos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92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93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6120" y="828720"/>
            <a:ext cx="761076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window is open for Verifiabl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taff will begin reviewing submitted VC for simple cycle generators greater than 90MW (5/1/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VC are approved for Nodal, they will be replicated into the ED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il submitted VC are approved, ERCOT will develop and enter “temporary” VC in EDS for the units we have already received an intent via 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wait for MMS4 to be available in 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” VC are “ball park” values and should be on the high side for each of the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 to “go live”, all “temporary” verifiable costs will be removed from the EDS/Production environments ----- (only the officially approved VC will be in the system and used at “go-liv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Nodal Verifiable Cost Implementation Plan on Readiness Center at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http://nodal.ercot.com/readiness/golive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DS 4 – Communication Channel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iness Ce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Q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n Issues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ach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ekly EDS 4 Conference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30am Central via Web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S 4 Mailbox: eds4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19320" y="2362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DS 4 Relevant Documen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3520" y="1057320"/>
          <a:ext cx="8089920" cy="4881600"/>
        </p:xfrm>
        <a:graphic>
          <a:graphicData uri="http://schemas.openxmlformats.org/drawingml/2006/table">
            <a:tbl>
              <a:tblPr/>
              <a:tblGrid>
                <a:gridCol w="2361960"/>
                <a:gridCol w="57279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4.9.1 – DAM/RUC/SASM Test Pack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http://nodal.ercot.com/readiness/eds4/documents/index.html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lement Point Li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http://nodal.ercot.com/readiness/eds4/documents/index.html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SE Short Name Li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http://nodal.ercot.com/readiness/eds4/documents/index.html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hboard of Metrics and Sche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http://nodal.ercot.com/readiness/eds4/documents/index.html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Issue Submission Fo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http://nodal.ercot.com/readiness/eds4/documents/r9/ercot_eds_issue_submission_form.xls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P External Interface Spec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http://nodal.ercot.com/docs/pd/eip/od/misp/eip_external_interfaces_specification_v1_11.zip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 of Market Submissions v0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http://nodal.ercot.com/readiness/eds4/documents/index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DS 4 Relevant Documen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773280"/>
          <a:ext cx="8089920" cy="5327640"/>
        </p:xfrm>
        <a:graphic>
          <a:graphicData uri="http://schemas.openxmlformats.org/drawingml/2006/table">
            <a:tbl>
              <a:tblPr/>
              <a:tblGrid>
                <a:gridCol w="2361960"/>
                <a:gridCol w="5727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Nodal Transition 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http://nodal.ercot.com/docs/po/pd/ntp/ERCOT_Nodal_Transition_Plan_110305.doc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4 Approach v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http://nodal.ercot.com/readiness/eds4/documents/index.html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4 - DAM/RUC/SASM Market Participant Handbook v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http://nodal.ercot.com/docs/pd/eds/eds4/eds4damrucsasm/eds4_dam_ruc_sasm_mp_handbook_v2_0.d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Management System User Gu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nodal.ercot.com/docs/pd/eds/eds4/eds4mmsuidum/eds_4_mms_ui_draft_user_manual_20080403.do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4 – COMS Market Participant Handbook v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http://nodal.ercot.com/docs/pd/eds/eds4/eds4coms/eds_coms_mp_handbook_v1.0.d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4 – FA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http://nodal.ercot.com/docs/pd/eds/eds4/eds4faq/eds4_faq.d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S 4 – Known Issu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http://nodal.ercot.com/readiness/eds4/documents/r9/eds4_known_issues_compiled_20080502.x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able Costs Implementation 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http://nodal.ercot.com/readiness/golive/kd/nodal_verifiable_cost_implementation_plan_v15.d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able Costs Submission Temp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http://nodal.ercot.com/readiness/golive/kd/Nodal%20Verifiable%20Costs%20Submission%20Template_v2.x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DAM execu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coming acti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 Exec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 8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abl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vant Docu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AM Summar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ru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18- (120% scenario- DAM Energy Bids of forecasted Lo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QSE bids/offers lost in moving to Austin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LMP = $70.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A/S Cleared was Regulation Up for 7 hours (A/S insufficienc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data pricing errors in DAM clearing f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ments and Invoices posted to M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23- (80% scenari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LMP = $12.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/S insufficient – Reduced A/S Plan and cleared for all 4 services (MCPC hig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esults deemed invalid due to system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ments and Invoices posted to M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25- (120% scenari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LMP = $41.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/S insufficient – Reduced A/S Plan and cleared for all 4 services (MCPC hig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data pricing errors in DAM clearing f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ments and Invoices posted to M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AM Summary - continue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30- (80% scenar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was down part of the mo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LMP = $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/S Cleared for all 4 services (RRS insuffici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issue of Load Resources not modeled properly in 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ured hourly average of 22,000 MW/hour of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ments and Invoices posted to 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2- (120% scenar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LMP = $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/S Cleared for all 4 services (RRS insuffici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pricing for AS (RegUp $7, RegDown $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ured hourly average of 32,000 MW/hour of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AM Summary - Continue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7- (80% scenario, with constrai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LMP = $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/S Insufficient for RRS and RegDn for several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ured hourly average of 22,000 MW/hour of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eemed invalid due to model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QSEs particip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9- (120% scenario, with constrai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LMP = $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/S insufficient for RegDn for one h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ured hourly average of 36,000 MW/hour of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eemed invalid due to model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4 QSEs particip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AM Issu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Resources not model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 Resources were submitting, but DAM was not procuring due to modeling iss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has updated (via email) to Load Resources the proper network model name to use in DAM (reminder that a COP is necessary for DAM consider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 in next DAM should procure Load Resources submitting on updated na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rds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awards were not properly publis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ue fixed and available for DAM execution as of May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ng issues are excluding certain Resources and Settlement Points in DAM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intly-Owned 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B_HUBAVG,  HB_BUSAVG, LZ_BEPC, LZ_VFT_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oad Resources workaround found as discussed abo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ctional MW in awards (not a short-term f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AM Executions through Ma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 two DAMs/week through Ma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 of May 5- run DAM with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 of May 12- target initial SASM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 of May 19- target initial run DRU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elease 8 – COMS Statements and Invoices Poste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92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93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6120" y="828720"/>
            <a:ext cx="7610760" cy="52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Statements and Invoices posted to Readiness Cen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Statements and Inv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ck CARD Inv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ck CRR Balancing Account Inv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ck DAM Late Fee Inv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ck DAM Settlement Statements and Inv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7.2 CRR Auction Inv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MIS Certified Are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 Statements and Invoices for Operating Days 4/18/08, 4/23/08, 4/25/08 and 4/30/08 (DAM awards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7.3 CRR Auction Inv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elease 8 – COMS Reports poste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92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93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6120" y="828720"/>
            <a:ext cx="7610760" cy="39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Mock Reports, DDLs, XSDs posted to Readiness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M Credit Standing to ERCOT Counterpart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M Total Potential Exposure Detail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W – PRDE Draft D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W – Settlements Draft DD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W – PRDE Draft X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W – Settlements Draft X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S – Market Data Transparency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37:36Z</dcterms:created>
  <dc:creator>Kristen McGettigan</dc:creator>
  <dc:description/>
  <dc:language>en-US</dc:language>
  <cp:lastModifiedBy>kmcgettigan</cp:lastModifiedBy>
  <dcterms:modified xsi:type="dcterms:W3CDTF">2008-05-12T22:27:51Z</dcterms:modified>
  <cp:revision>536</cp:revision>
  <dc:subject/>
  <dc:title>EDS4 COPS Update</dc:title>
</cp:coreProperties>
</file>