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5E9A-F5D2-4DB9-907C-6E183F68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5150-6DAA-48B1-953C-DC9499F1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4E5F-A478-45B3-8D3A-0E522675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252D-CFDC-4128-A515-F0A203FD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7765-E607-45CA-8070-82EC0152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AFDB-79B5-48DB-94A1-8606E7EE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A707-18C7-421F-A6D0-6C04DB35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851B-6635-4249-898E-4FE05852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C292-FCB7-4F8E-8642-0D6EFAB5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90E2-30CE-40E5-98E6-2D7EE4EC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3CA5-4CA6-4792-9221-F19D14D1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3F15-06A2-4D74-8758-B9FF2E73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B6F-5568-4B1E-BA4C-1C6B59DB1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B1BB-33B5-4DB4-B355-6D52A6B64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obertsrules.com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ommercial Operations Subcommittee (COPS) Procedures Review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Market Ru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sumer Market Segment Exce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umer Market Segment is divided into three sub-segment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ia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;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umer Market Segment holds 1.0 segment votes, with each sub-segment holding 1/3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ial Consumer Market Segment voting participation is limited to standing representatives or designated alter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t sub-segment fractional votes are allocated equally to participating sub-seg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entions are not re-allocated and are not included in the vote tal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o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oting items must be properly notic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genda items requiring a vote of COPS must be published at least one week prior to the meeting unless an emergency condition suggests otherwi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ve of each Voting Entity present at the meeting may vot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tion passes when a majority of the aggregate of the fractional Segment votes 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affirmati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a minimum total of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votes require eight affirmative votes of Standing Members to pas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all votes taken will be reported to TAC, whether or not the vote pas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lternates and Prox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Representatives and Proxies must be designated in writing and sent to the Stakeholder Services Mailbox: StakeholderServices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Represent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ing Representative may designate in writing an Alternate Representative who may attend meetings, vote on his/her behalf and be counted toward establishing a quoru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ing Representative may designate in writing a Proxy who may attend meetings, vote on his/her behalf, but not be counted toward establishing a quor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lephone and Email Vo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-mail vote may only be initiated by chair or vice chai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ust include a detailed description of the issue or propos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votes are primarily conducted for administrative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s shall be submitted for tallying by the close of two Business Days after Notification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votes require eight affirmative votes to p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does not allow telephone vo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tice and Agenda Set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eeting announcements and agendas must be properly noticed at least one week prior to the meeting date, unless an emergency condition requires shorter notice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 emergency condition is a condition that threatens the public health or safety, or a reasonably unforeseen situ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notices shall be sent to the subcommittee distribution list and posted on the ERCOT websi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PS Chair and Vice Chair set the agenda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tems requiring a vote that were not properly noticed will require a vote to declare them an emergency condition. Once an emergency condition has been declared, COPS can vote on an iss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Meeting Manage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meeting to or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e Anti-Trust Admon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 any Proxie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 not count towards a quo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Alternate Representative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unt towards a quo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a quorum is pre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genda and announce any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 through agenda - all submitted written comments to pending issues should be addres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issues to a vote.  Each motion must be secon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becomes subject to deb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 vote or show of hands – used when there is a clear consen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-call vote – used when a voting record is desired or when there is no clear consensus on the issue. Any participant may request a roll-call v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ment of vote results – the Chair must always announce the results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-Trust Admon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’s Amended and Restated By-Law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about/governan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Advisory Committee Procedur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committees/board/tac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committee Procedures (COPS, PRS, WMS, RMS, and RO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committees/board/tac/cops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rotocols (Section 21, Process for Protocol Revision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mktrules/protocols/current/21-020108.d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membershi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rcot.com/about/governance/member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erts Rules of Order Newly Revised (RONR),10th ed. (Cambridge, Mass.: Perseus Publishing, 2000) or simply Robert’s Rul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obertsrules.com/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http://www.robertsrules.org/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http://www.rulesonline.com/ ;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http://www.roberts-rules.com/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Procedure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Governance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 and Function of C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Groups and Task Fo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ship and Market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 Representatives and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and E-Mail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and Agenda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Governance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Advisory Committee (TA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ing Subcommitt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Revision Subcommittee (P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 and Operations Subcommittee (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Market Subcommittee (W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Market Subcommittee (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 Communication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Extracts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 and Data Aggregation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cope of CO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cope and functions of COPS are prescribed in the Commercial Operations Subcommittee Procedures.  The COPS wil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current commercial operations processe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the Retail variance process and the Wholesale Market Settlements Processes, including dispute resolution;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the overall settlements calendar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the Commercial Operations Market Guide and Load Profiling Guide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market participant communication needs for commercial operations issue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comments as appropriate on System Change Requests (SCRs), Protocol Revision Requests (PRRs) and other projects with respect to impacts on commercial operation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implications to commercial operations associated with changing market features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market participant data needs for shadow settlem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overall market data extract, data delivery and data presentation need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forum for implementation of ERCOT Protocol revisions that have commercial implications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settlement related processes performance metrics and tracking through reporting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forum for discussion of commercial operations issues and make appropriate recommendations; 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profi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ponsibilities of CO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committee shal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and submit a Protocol Revision Request for any issues identified that require a change to the ERCOT Protocol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liaisons to the other TAC subcommittees, who shall report back to the COPS on a regular basi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rotocol Revision Requests for effects on the commercial settlement proces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to TAC on a regular basis or as otherwise directed by TAC.  The subcommittee chair or vice chair shall normally attend TAC meeting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Working Groups and Task For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may form standing working groups and task forces to assist in carrying out its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bers of the working group shall elect from amongst themselves a chair and vice chair, subject to confirmation by the COPS, for a one-year term on a calendar year basis or until the working group is no longer requir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uration and activities of the working groups and task forces are limited to tasks assigned by CO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working groups and task forc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ting bodies – The chairs of these bodies must report recommendations to COPS, including all minority pos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 submitted by working groups that require COPS approval will be submitted to COPS members for review one week prior to the scheduled COPS mee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mbershi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Representatives shall be elected or appointed according to the provisions of the TAC Procedures related to Standing TAC Subcommitte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Representatives shall be selected annually in December of each year for service in the following calendar yea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 shall be comprised of two Standing Representatives of members from each Market Segment appointed or elected from within the Seg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cancy shall be filled by the same means used to elect or appoint the previous COPS Representati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rson (other than the Residential Consumers Representative) serving on COP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st be an employee or agent of a Me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employee/agent of a Member is elected or appointed to serve on COPS, such a person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 eligible to serve in such capacity so long as he/she is an employee/agent of the same Member as he/she was at the time of such election or appoin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Seg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oting Entity belongs to a Market Segment and may not change Market Segment alignment during the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Seg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Gen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Power Mark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Electric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ly Owned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Owned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o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orum and Voting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take action, a quorum must be present.  A quorum is defined as at least one Standing Representative in each of at least four Market Seg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arket Segment has one segment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igible Voting Entity receives one vote (i.e. one company/one vote). Voting Entities are ERCOT Corporate Members, ERCOT Associate Members, and ERCOT Adjunct Member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rticipating Voting Entity receives an equal fraction of its Segment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entions are allocated to the Voting Entities within that Market Seg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te Consumer Market Segment exce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May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. Boren</cp:lastModifiedBy>
  <dcterms:modified xsi:type="dcterms:W3CDTF">2008-05-13T12:28:07Z</dcterms:modified>
  <cp:revision>50</cp:revision>
  <dc:subject/>
  <dc:title>Instructions</dc:title>
</cp:coreProperties>
</file>