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AADA-B33B-4838-995D-4C0D3651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64B7-0704-403C-9391-8E09583A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D159-1C0B-457D-8866-7535FA6D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F65C-CAD4-4E80-AF58-AFC36D70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A77D-2086-4570-96F2-4C0DF4D7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C2E67-6D67-4FA4-9099-A49A8693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F3BAF-D88C-4D3A-95BD-F7D602CC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33C67-F77B-4B55-BCB2-B8B9365D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A180D-207C-4CDC-93E6-5BC0778F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89CA6-7049-4A98-869C-925D9896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693E-0FD1-4448-AD87-77E234C7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75AC0-8B23-49CE-AC2D-56536F0B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59714-8CCB-4E50-81DD-BA44DFE0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BE887-E1D1-4C85-A996-526585BE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9776C-90CE-4DCC-85E2-D61D1B8A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4BF0F-0152-4A37-B463-DF2ECEAC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A498F2-5913-4251-9C4A-B5AB32BF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B0585-6396-4ED9-9709-D6BB2BF3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BA35-A0E0-4B12-A3AC-FADDED73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E291-ACD3-4D1D-83D1-4C427305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DEA8-6702-4004-8551-AE472E03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8B8C-C061-4A45-9750-79DD4DF5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7C62-F749-4AA1-A2B5-1099FAC4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5B69-DE82-4261-9F05-8156FB6F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D0C0-D734-4BDD-BCC4-142AA3084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572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D641-5C5E-499F-B642-8A67F15C4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222F-A073-43DB-A8E1-8DCB70EA6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4960" y="1905120"/>
            <a:ext cx="647676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4960" y="5466960"/>
            <a:ext cx="627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43240" y="5067360"/>
            <a:ext cx="6278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929E-895C-49A3-86E6-FFBA803C6BA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2306-4E8A-4477-A2D4-38A47277B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odal.ercot.com/docs/pd/coms/pd/energy/coms_dam_energy_settlements_req_b2_v3_0.doc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1920" y="1905120"/>
            <a:ext cx="691524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verview of 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Overview of Mock DAM Settlement Posting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EDS4 Release 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99840" y="3790800"/>
            <a:ext cx="634356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29th,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53BD0DA-9ED6-435F-92C4-5141E105D9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90560" y="2038320"/>
            <a:ext cx="7153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B4E7-0E6B-4B53-B09F-4B02D4DA9810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DB591A-D8CA-4B78-92B8-C3612CA504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titrust Admoni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33320" y="1695600"/>
            <a:ext cx="7207200" cy="36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98A4-ED4C-4D8E-97AA-3EC5CC0F7F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5D4744-4693-42CE-BA2D-3114870F8B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Antitrust Admonition/Introductions 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avigation of Documentation 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Review example 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Questions 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0CA0-DFB1-4868-AD25-8BEE44EC5B6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D4E883-33D6-4992-BB2D-81992ECC94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Navigation of Document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804960"/>
            <a:ext cx="4390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/readiness/reports/si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1162080"/>
            <a:ext cx="8229600" cy="509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86040" y="4476600"/>
            <a:ext cx="952560" cy="2286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DAB9-F8DA-4182-8C3E-832E79D3C9B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431A10-8B28-48EF-A15F-8C6B1E89BF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ements and Invoice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809640"/>
            <a:ext cx="4819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/readiness/reports/si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22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28C3-0403-4132-8374-04C996572E0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4F443B-222F-46FA-8E01-EC5BAE7E1A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nput, output and xml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838080"/>
            <a:ext cx="3924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/readiness/reports/si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076400"/>
            <a:ext cx="8229600" cy="5162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981160" y="5410080"/>
            <a:ext cx="1943280" cy="36216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A9CE-533D-47A7-A10A-5462702DAC3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FB3A13-4984-4B3E-9AC7-466CD150C3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tents of zip fil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Bed QS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shows QSE ID, QSE name and DUNS numbe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Inp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val data cuts from source systems used as input to Settlement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and settlementpoint information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table data that would be supplied in extracts. Ex: RMR Contract, Generator table,  Factor table, Factor Value table . This shows values and resources along with the unit types and the verifiable cost heat rate curve  to allow shadow settlement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emetered Resource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 on and off times which are used as an input to eligibility calcul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R Outp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 of DAM CRR Settlem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_EnergyOfferBlocks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Part Energy Offer Blocks used by Settlements to calculate DA AIE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 Output 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 of DAM Settlem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roc Output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-Process Outputs (Outputs of intermediate calculations used to settle the DA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fi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ing xml files for statement and invoice htmls posted on the Readiness Cente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91CB-4A6A-400F-A578-751F02C94D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1938C1-2FA3-4159-AF0C-A46FD7642D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view Example – how to verify the Day Ahead Energy calc?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4724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2905200"/>
            <a:ext cx="5076720" cy="99036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776160"/>
            <a:ext cx="44006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776160"/>
            <a:ext cx="6715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/readiness/reports/si/ms/DAM_Statement_20080101_006979876_D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3E26-9244-414E-98EE-3C01E3FC883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C08E4A-F887-4B49-940D-3ECC641D6E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ind formula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 the COMS DAM Energy Settlements Requirements posted to the ERCOT websi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odal.ercot.com/docs/pd/coms/pd/energy/coms_dam_energy_settlements_req_b2_v3_0.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Day-Ahead Energy Payment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AESAMT_&lt;Q&gt;_&lt;SP&gt; = (-1) * DASPP_&lt;SP&gt; * DAES_&lt;Q&gt;_&lt;SP&gt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Day-Ahead Energy Charge Calculation</a:t>
            </a:r>
            <a:br>
              <a:rPr sz="2000"/>
            </a:b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AEPAMT_&lt;Q&gt;_&lt;SP&gt; = DASPP_&lt;SP&gt; * DAEP_&lt;Q&gt;_&lt;SP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e the determinants and associated intervals on the Market Input spreadsheet for the QSE ID and Settlement Point desi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step by step calculations of each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6DEB-B7A7-4B6D-B01D-5401EFEFBA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F834DE-01B9-40FE-AB8B-BB734FC2E8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risten McGettigan</dc:creator>
  <dc:description/>
  <dc:language>en-US</dc:language>
  <cp:lastModifiedBy>kmcgettigan</cp:lastModifiedBy>
  <dcterms:modified xsi:type="dcterms:W3CDTF">2008-04-29T13:11:32Z</dcterms:modified>
  <cp:revision>585</cp:revision>
  <dc:subject/>
  <dc:title>Release 8 Update</dc:title>
</cp:coreProperties>
</file>