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C7D1-A38F-444B-BE3A-52A4A317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9D00-6082-487D-9012-9B8A600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04F2-ACC2-4F36-956E-7394BED2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7445-EF24-4874-8E5F-9EFA67B7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1DF8-2002-4FE0-827E-3CC72AB6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43CD-A132-4BF3-A3AD-AF8B5CD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E13F-B082-4969-83DE-8141DBE3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9AD5-4B3D-4669-9E57-79FBA84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D0FC-26E1-4380-9803-31936BD1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AC00-8382-4928-86D5-502A02FA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832D-4067-499B-9372-831B910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553C-A034-43A6-A3BA-FC5AB7D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6569-D657-44EA-A2DD-448D73B4E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390680" cy="53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PTF Updat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 Noti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42667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am Martinez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ypes of Notices in Scope for M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-generated notices fro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s Notices created by op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, Secure and Cert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572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not in scope are those generated manually, such as market notices and legal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, NMMS, CRR and OS Not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ified notices will display on respective system’s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nd Public notices will display on MIS portal because MPs may not have access to all source syste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notices will also display on 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 and OS notices also accessible via web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S Not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S has no market-facing user interface, so EMS notices will display on MIS UI for Certified, Secure and Public no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notices will also display on 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rms generated by EMS will also display on MIS 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SE’s COP shows a unit on, telemetry shows uni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SE’s RRS is too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S notices also accessible via web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erations Not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ces created by operators to comply with Section 6.5.9 include Operations Notices, Advisories, Alerts and Emergency No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 team is developing a user interface for operators to create these notices, which display on M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public notices will also display on 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914400"/>
          <a:ext cx="8229600" cy="4921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totype of MIS Notices pag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81200" y="1209600"/>
            <a:ext cx="758160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/3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ERCOT staff</cp:lastModifiedBy>
  <dcterms:modified xsi:type="dcterms:W3CDTF">2008-04-18T01:00:06Z</dcterms:modified>
  <cp:revision>35</cp:revision>
  <dc:subject/>
  <dc:title>ERCOT Template</dc:title>
</cp:coreProperties>
</file>