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D1E8-3CFE-4465-8C5E-F83D54C4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D7BF-0190-4430-AA51-D7527C3A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FA41-0200-49D6-BEC0-AB92CCEB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5ABB-434C-47C3-8B2F-AD5D2FC2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13D4-B5D0-4021-B799-71D2EBE3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C478-8041-44BE-B6F2-C2C222B8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BFC2-9CAA-4FAB-87CA-34DD4C96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4337-7070-4E6F-8B42-3F211455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DD5A-F988-4E98-B6A8-D70B951E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E46A-4DFF-4FD7-949F-184B9FFD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F043-7A65-484D-B243-D3296252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BC66-394F-4011-BC6B-AB45E5EA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E8BB-2CE2-4959-8923-5E913BDFD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960C-1EA5-4163-BE36-4507E00D7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projects/index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pril 18, 200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ject Priori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unded Project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7F9D-530F-47CA-A769-F6828008D4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 2009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revise 2009 Initiative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pri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32F8-D0A8-4D94-995D-DB15B48CA2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Budgets and Counts by Program Are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1600200"/>
          <a:ext cx="8077320" cy="3430440"/>
        </p:xfrm>
        <a:graphic>
          <a:graphicData uri="http://schemas.openxmlformats.org/drawingml/2006/table">
            <a:tbl>
              <a:tblPr/>
              <a:tblGrid>
                <a:gridCol w="2017800"/>
                <a:gridCol w="2225880"/>
                <a:gridCol w="2085840"/>
                <a:gridCol w="1747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Started in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2009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– Met C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3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7,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1C19-52ED-46E5-8B11-F96467EAE6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Unfunded Project Lis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funded Project List (Protocol Section 2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tocols require quarterly reporting to the Board of Directors on the projects on the “Unfunded Project List”  (see Section 21.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 have not been delivering thi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ct: No new market projects have been approved that are unfunded since the adoption of this rule early i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reate “Unfunded Project List” as a separate tab on the 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MO reports status to PRS each 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S chair to report status to TAC quart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AC chair to report status to the Board quart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ted PPL now contains the “Unfunded Projects”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services/projects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“Key Documents”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t any unfunded projects at thi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96D6-7221-4CE5-B645-11F08EFD18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8-04-10T20:20:31Z</dcterms:modified>
  <cp:revision>203</cp:revision>
  <dc:subject/>
  <dc:title>Instructions</dc:title>
</cp:coreProperties>
</file>