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C55-9374-4369-84D6-04721FF6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337-4559-49E2-9CD2-63433789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327-C7B9-47C4-AAB3-96740711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220-B5F2-464F-BB65-1C4F5603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5AD-1106-4D3D-8E39-33D09CF1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3E2-AF89-455B-82C9-CB251F98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D37-FA70-4969-BF70-4BFD4DD8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9B7-A564-48BB-89B6-392F7DC3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E07-45AC-4C8A-9613-92360E67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91B-E2E6-4E08-B303-6AC98219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196-C835-4514-8D5E-0374E651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177-3BE3-493B-85B9-0F6C1929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9469-F7D8-4FAD-ACA9-D56C91EC7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5960" y="2122560"/>
            <a:ext cx="7758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Renewable Gen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file Implement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880" y="1355760"/>
            <a:ext cx="837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B 3693 requires that ERCOT implement the settlement of distributed renewable generation as of 1/1/2009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, during their Feb 7, 2008 meeting, directed PWG to develop a profiling solution to address recommendation #3 of the Distributed Generation Task Force (DG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G has developed Load Profile ID assignments and Profile Models to be applied to small distributed renewable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Load Profiles require a market notice of at least 150 days prior to their implementa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044-ED1A-4D70-8F1B-D9EE1A8313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Future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3760" y="1123920"/>
            <a:ext cx="7988400" cy="54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GRR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 Timeli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by 3/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G Review 4/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G IA Review 5/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S Review 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Review 6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 Review 7/15 (if there are impacts to ERC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rgent Timeline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commended approach to meet deadline for 150 day notice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WG Review and send to post 3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rgency Request/Email Vo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PS Review (with IA) 4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AC Review 5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ard Review 5/20 (if there are impacts to ERC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Notice announcing DRG Profile Segments 08-03-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31-2008 150 day notice 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-01-2009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-29-2008 ERCOT will begin posting Forecasted Load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-02-2009 ERCOT will begin posting Backcast Load Pro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8E2-2CF5-4F75-8C4E-972B938D0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Future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3760" y="1130400"/>
            <a:ext cx="729648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R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S Granted Urgency 3/20/2008 and recommended approval of amended 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S Review (IA and CBA) 4/8 – this step is only because there is a CBA associated with this PRR and COPS will probably want to review it prior to going to PRS.  It does not slow down the timeline.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S Review (IA and CBA; assign priority and rank) 4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Review 5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ard Review 5/20 (meets deadline for 150 day notic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Notice announcing DRG Profile Segments 08-03-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31-2008 150 day notice 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-01-2009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-29-2008 ERCOT will begin posting Forecasted Load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-02-2009 ERCOT will begin posting Backcast Load Pro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AA1-7FCF-44DF-8D7A-2BE40938DE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1880" y="1123920"/>
            <a:ext cx="822024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01-2008 TDSP’s to begin sending in documentation to ERCOT initiating DRG Profile Segment assig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7-01-2008 to 12-31-2008 ERCOT will accumulate and validate change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notify submitter of any invalid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ERCOT will send files of change requests to TD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TDSPs can begin to submit 814-20 transactions changing to DRG Profile Segments with effective date of a meter reading on or after 01-01-20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8320" y="1314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Trans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B61-774E-4053-9D99-90B13787FC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320" y="202680"/>
            <a:ext cx="6700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Ongo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1880" y="1123920"/>
            <a:ext cx="83343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02-2009 TDSP’s continue sending in documentation to ERCOT initiating DRG Profile Segment assig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ERCOT begins sending validated change requests to TD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notify submitter of any invalid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-02-2009 After receipt of requests, TDSPs will submit 814-20 transactions on or before the second regularly scheduled meter read 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il 2009 ERCOT will begin performing quarterly validations of DRG Profile Segment assign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verify that profile segment assignments for ESIIDs in Lodestar are consistent with documentation submit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E4D-3935-4C42-8953-C7DB22C19C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1480" y="1123920"/>
            <a:ext cx="818064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REP of record discovers that a previously approved ESI ID has become ineligible to be served under a DRG Profile Segment, the REP of record shall notify the TDSP and ERCOT that a Profile Segment change is 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TDSP discovers that a previously approved ESI ID has become ineligible to be served under a DRG Profile Segment, the TDSP of record shall notify ERCOT and also change the Profile Segment to the appropriate default Profile Segment as if the ESI ID represented a new premise without DRG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s shall make reasonable effort to effect the change using the appropriate Texas SET process as soon a possible after they become aware that the premise is no longer eligible to be served under a DRG Profile Segmen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3320" y="202680"/>
            <a:ext cx="6700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Ongo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43C-39E2-442C-B745-9491D84D50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1480" y="1123920"/>
            <a:ext cx="81806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pecified in LPG Section 8.1 Routine and Non-Routine Profile Model Evaluations, on an annual basis ERCOT shall review DRG profile segments to determine whether model updates are appropriate and make recommendations to the PW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will be based on usage level characteristics and information sub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3320" y="202680"/>
            <a:ext cx="6700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G Profile Ongo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53E-D17F-4697-8F47-4DED7C7F2D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craish</cp:lastModifiedBy>
  <cp:lastPrinted>2002-05-17T20:57:43Z</cp:lastPrinted>
  <dcterms:modified xsi:type="dcterms:W3CDTF">2008-03-26T20:26:56Z</dcterms:modified>
  <cp:revision>299</cp:revision>
  <dc:subject/>
  <dc:title>Retail Transactions Report</dc:title>
</cp:coreProperties>
</file>