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ABB-7673-403E-8E26-B8829485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9CC8-F9BE-4707-B0A1-6BC2B7BE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4D74-D677-4217-B069-C5B5A88C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9AC-D4B1-489D-85D7-76CB77E2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AFC3-B314-4872-AC9F-5F131741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7A5-2D26-408B-A4C8-0C6FAE94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659-A642-4124-A428-B29A132A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ABC1-D068-4758-9225-B4887D2E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607-1C5F-4BCD-8D13-18B41030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916-9E40-42F7-A830-553DF964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20E4-4477-4342-8CAD-8799ADD3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EE91-A541-4544-A48A-6797DC3D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8839-E7E5-47E0-B58F-ED49B4C9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ril 11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6720" y="717480"/>
            <a:ext cx="78105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April 8 and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o some high level analysis of control performance during periods with low CPS1 sc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G continues to discuss potential Nodal market control performanc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May 13 and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86400" y="380880"/>
            <a:ext cx="281952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Twelve Month rolling Average CPS1 = 124.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880"/>
            <a:ext cx="220968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CPS1 for March 2008 = 111.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1.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3760" y="0"/>
            <a:ext cx="9191520" cy="6705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2.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3.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67080" y="3170160"/>
          <a:ext cx="609480" cy="51768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0" y="152280"/>
          <a:ext cx="9144000" cy="659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9144000" cy="65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Bob Green</cp:lastModifiedBy>
  <dcterms:modified xsi:type="dcterms:W3CDTF">2008-04-06T21:01:42Z</dcterms:modified>
  <cp:revision>37</cp:revision>
  <dc:subject/>
  <dc:title>RO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23202813</vt:r8>
  </property>
  <property fmtid="{D5CDD505-2E9C-101B-9397-08002B2CF9AE}" pid="3" name="_AuthorEmail">
    <vt:lpwstr>bobG@gplops.org</vt:lpwstr>
  </property>
  <property fmtid="{D5CDD505-2E9C-101B-9397-08002B2CF9AE}" pid="4" name="_AuthorEmailDisplayName">
    <vt:lpwstr>Green, Bob</vt:lpwstr>
  </property>
  <property fmtid="{D5CDD505-2E9C-101B-9397-08002B2CF9AE}" pid="5" name="_EmailSubject">
    <vt:lpwstr>PDCWG Report to ROS April 11,2008</vt:lpwstr>
  </property>
</Properties>
</file>