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7B4D-4A20-4DA8-9686-B85EB788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AF10-454E-4CFB-846D-6C949699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4A25-F132-4E25-BBEB-62E279D4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0410-1EF1-48E9-B686-859B1031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BDF73-15E9-4A00-9421-3260BC0D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4CE4-21E1-479B-AB37-C823DE5D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FA2F-E0C7-4637-98B4-F2C37D4A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D2D0B-50C3-4EB1-9DB6-41844F7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DA0C-AE38-4A0E-BF8C-181CB91F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C44E-297B-4505-9042-FE0BBB0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FCAC5-AA5A-4560-94FD-4F51FE5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AF529-0973-4634-8923-62896EE2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E56E-BC2E-4139-A287-28EB85B39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983F-E2DD-49AD-A651-6F346883D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robertsrules.com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ROS Procedures Review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ieves López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Market Ru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nsumer Market Segment Excep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umer Market Segment is divided in three sub-segment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enti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rcial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sumer Market Segment holds 1.5 segment votes, with each sub-segment holding 0.5 segment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ent sub-segment fractional votes are allocated equally to participating sub-segmen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entions are not re-allocated and are not included in the vote tal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Alternates and Proxi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609480"/>
            <a:ext cx="8001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s and Proxies must be designated in writing and sent to the Stakeholder Services Mailbox: StakeholderServices@erco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ing Representative may designate in writing an Alternate Representative who may attend meetings, vote on his/her behalf and be counted toward establishing a quoru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nding Representative may designate in writing a proxy who may attend meetings, vote on his/her behalf, but not be counted toward establishing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ot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ll voting items must be properly noticed -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 requiring a vote of ROS must be published at least one week prior to the meeting unless an emergency condition suggests otherwis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tems requiring a vote that were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properly noticed will require a vote to declare them an emergency condition. An emergency condition is a condition that threatens the public health or safety, or a reasonably unforeseen situation.  Once an emergency condition has been declared, ROS can vote on an issu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tanding Representatives, their designated Alternate Representative, or Proxy may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otion passes when a majority of the Fractional Segment Votes 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affirmative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a minimu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thre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Votes Cont’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lephone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Representatives may participate in the meeting and vote via telephone, but participation via telephone shall not count towards a quor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Vo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-mail vote may only be initiated by Chair or Vice Chai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ust include a detailed description of the issue or propos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orum of Standing Representatives must participate in the e-mail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s shall be submitted for tallying by the close of two Business Days after Notification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es are tallied in the same manner as regular vot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Notice and Agenda Set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eeting announcements and agendas must be properly noticed at least one week prior to the meeting date, unless an emergency condition requires shorter notice.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tems requiring a vote that were not properly noticed will require a vote to declare them an emergency condit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notices shall be sent to each Standing Representative, the subcommittee distribution list, and posted on the ERCOT websit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es should propose agenda items well before the posting deadline.  Drafting of the agenda for the following meeting starts at the end of each meetin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S Chair and Vice Chair set the agenda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Meeting Manag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68580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meeting to ord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e Anti-Trust Admoni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 any proxi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o not count towards a quo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alternative representatives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unt towards a quo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a quorum is pre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agenda and announce any chang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 through agenda - all submitted written comments to pending issues should be addres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issues to a vote.  Each motion must be second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becomes subject to deb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o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ice vote or show of hands – used when there is a clear cons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l-call vote – used when an individual vote record is desired or when there is no clear consensus on the issue. Any participant may request a roll-call vo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uncement of vote results – the Chair must always announce the results of the vo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-Trust Admoni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’s Amended and Restated By-Law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about/governance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Advisory Committee Procedur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committees/board/tac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committee Procedures (COPS, PRS, WMS, RMS, and RO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committees/board/tac/ros/index.htm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rotocols (Section 21, Process for Protocol Revision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rcot.com/mktrules/protocols/current/21-020108.do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membershi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ttp://www.ercot.com/about/governance/members/index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erts Rules of Order Newly Revised (RONR),10th ed. (Cambridge, Mass.: Perseus Publishing, 2000) or simply Robert’s Rul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obertsrules.com/</a:t>
            </a: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obertsrules.org/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ulesonline.com/ ;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"/>
              </a:rPr>
              <a:t>http://www.roberts-rules.com/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S Procedure Re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Governance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pe and Function of 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groups and Taskfor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ership and Market Seg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 and Prox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ephone and E-Mail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ce and Agenda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Governance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Board of Dir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 (TA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ing subcommitte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Operations Subcommittee (CO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Revision Subcommittee (P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 Market Subcommittee (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 Market Subcommittee (W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Reliability and Operations Subcommittee (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s Working Group (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 Data Support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rations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formance Disturbance Compliance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eady State W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Reviewed by TASOR 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cope of RO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cope and functions of ROS are prescribed in the Reliability and Operations Subcommittee Procedures.  The R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s, and reviews ERCOT system studi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s operations of ERCOT in relation to system security, Operating Guide application and Emergency opera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the Public Utility Commission (PUC) rulings as they would apply to Market Participants responsible for reliability and ensure that PUC requirements are reflected in the Operating Guides and Protocol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s and makes recommendations to the TA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unctions of RO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, review and maintenance of the Operating Guide and planning crite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ERCOT reports and operations related to the reliable operation of the ERCOT Syste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Ancillary Services provision and Commercially Significant Constraints (CSC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ERCOT reports and procedures relating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 assess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out restoration procedu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of protective relay setting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al communication faciliti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reserve oblig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y opera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normal system condi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interconnections to generation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on of outage sched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ERCOT Protocols as they may impact ERCOT system reliability and operation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Working Groups and Task For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may form working groups and task forces to assist in carrying out its func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presentation on each working group and task force is appointed or approved by ROS for a one-year term on a calendar year basis or until the work group is no longer requir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uration and activities of the working groups and task forces are limited to tasks assigned by R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working groups and task forces ar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oting bodies – The Chairs of these bodies must report recommendations to ROS, including all minority positio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mbership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Representatives shall be elected or appointed according to the provisions of the TAC Procedures related to Standing TAC Subcommitte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Representatives shall be selected annually in December of each year for service in the following calendar year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S shall be comprised of 1 to 4 Standing Representatives of Members from each Market Segment appointed or elected from within the Seg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cancy shall be filled by the same means used to elect or appoint the previous ROS Representativ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on (other than the Residential Consumers Representative) serving on RO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t be an employee or agent of a Me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employee/agent of a Member is elected or appointed to serve on ROS, such a person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ly eligible to serve in such capacity so long as he/she is an employee/agent of the same Member as he/she was at the time of such election or appoint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ket Seg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oting Entity belongs to a Market Segment and may not change Market Segment alignment during the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ting Seg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Power Mark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Electric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nicipally Own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or Owned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Cooper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orum and Voting Structur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Standing Representative from each of four Market Segments and a majority of Standing Representatives must be present to form a quorum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Market Segment has a segment vote of 1.0, except for the Consumer Market Segment has a segment vote of 1.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 votes are equally divided into fractional segment votes among Standing Representatives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eligible Representative is not present during the vote or abstains, that vote will be reallocated equally among the voting members within a segment, except for the Consumer Seg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ote Consumer Market Segment exce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11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P Wattles</cp:lastModifiedBy>
  <dcterms:modified xsi:type="dcterms:W3CDTF">2008-04-11T02:48:24Z</dcterms:modified>
  <cp:revision>42</cp:revision>
  <dc:subject/>
  <dc:title>Instructions</dc:title>
</cp:coreProperties>
</file>