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65320" y="6432480"/>
            <a:ext cx="783576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 Meeting – 04/11/0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EB1BC411-9EB8-4A5D-A8A0-9772FB4EA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 Program - TPTF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08/03/20080303-TPTF.html" TargetMode="External"/><Relationship Id="rId2" Type="http://schemas.openxmlformats.org/officeDocument/2006/relationships/hyperlink" Target="http://www.ercot.com/calendar/2008/03/20080320-TPTF.html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rcot.com/calendar/2008/03/20080331-TPTF.html" TargetMode="External"/><Relationship Id="rId2" Type="http://schemas.openxmlformats.org/officeDocument/2006/relationships/hyperlink" Target="http://www.ercot.com/calendar/2008/04/20080421-TPTF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odal.ercot.com/about/po/sch/index.html" TargetMode="External"/><Relationship Id="rId2" Type="http://schemas.openxmlformats.org/officeDocument/2006/relationships/hyperlink" Target="http://scorecard.ercot.com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1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Transition Plan Task Force</a:t>
            </a:r>
            <a:br>
              <a:rPr sz="2800"/>
            </a:b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ROS Meeting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tacy Bridges, ERCOT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Friday, 04/11/08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s month at TPTF / April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547120" cy="57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oming Agenda Items / April 21 – 22, 2008 (cont’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al Project Updates (continu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gestion Revenue Rights (CRR)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imelines for ERCOT Response to Outage Requ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111, Timelines for Response by ERCOT to TSP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ion of CRR Network Model (Section 3.10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line Diagram / Outages in Network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ation of Outages in Common Information Model (CIM) Format for the Network Operations Model (Section 4.2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Integration Project (EIP)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EIP External Interfaces Spec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Market Information System (MIS) External Interfaces Spec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methodology for setting Maximum Shadow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s month at TPTF / April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oming Agenda Items / April 21 – 22, 2008 (cont’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group Upd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d-Cycle Subgroup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Combined-Cycle Subgroup revisions to RUC clawback factors in the COMS white paper Details on the Settlement of Combined-Cycle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Agenda I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future subgroup to address Operations and Market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Issue Response Tim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current governance timelines and whether special processes are needed to accelerate go-live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15200" y="5857920"/>
            <a:ext cx="303480" cy="303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uture TPTF Meetings / May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TPTF Meetings / May 2008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5 – 7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2 – 23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15200" y="5857920"/>
            <a:ext cx="303480" cy="303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5471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 / March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March 2008, TPTF convened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rch 3 – 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rch 20 –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 / March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54712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/ March 3 – 5, 2008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Delivery Systems (EDS) Project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4 - Release 9 Day-Ahead Market (DAM)/Reliability Unit Commitment (RUC)/Supplemental Ancillary Services Market (SASM) Market Participant (MP) Handbook v1.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Management System (EMS) / Market Management System (MMS) Projects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S-MMS Market Operations Test Environment (MOTE) Requirements (B2) v0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 / March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54712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/ March 3 – 5, 2008 (cont’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MS Project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changes to incorporate NPRR102, Implementation of PUC Subst. R. 25.505(f), Publication of Resource and Load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S Overall MMS System and Other Processes Requirements (B2) v2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S DAM and SASM Requirements (B2) v2.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S Security Constrained Economic Dispatch (SCED) and Real-Time MMS Processes Requirements (B2) v3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Management Office (PMO)—Approvals of Readiness Metr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 to Metric CO1, Settle Market for Seven Days and Provide Appropriate Ex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 / March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/ March 3 – 5, 2008 (cont’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—Endorsement/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 Subgroup comments to the MMS DAM and SASM Requirements (B2) v2.0 (on March 3, 2008, TPTF identified these changes as “needed for go-live” and requested that ERCOT would provide a schedule/cost impact analysis by May 15, 2008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to address STEC comments in NPRR097, Changes to Section 8 to Incorporate Role of Texas Regional Entity (TRE), the Independent Market Monitor (IMM), and the Concept of Market Compli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ion and Design Authority (IDA) White Paper- IDA003 Combined-Cycle Unit Modeling in the Nodal Design v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rcial Systems (COMS) White Paper: Details on the Settlement of Combined-Cycle Plants v1.3 (revisions to Section 12, Eligibility for DAM Settl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15200" y="5857920"/>
            <a:ext cx="303480" cy="303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 / March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54712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/ March 20 – 21, 2008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S Project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Outage Scheduler MP Handbook v0.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S Project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S Disputes Management System Conceptual System Design (CSD) v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MO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s for Metric E5, Nodal Statement on Auditing Standards (SAS) 70 Read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—Endorsement/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113, Load Resource Type Indicator for Ancillary                  Service (AS) Trades and Self-Arrang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15200" y="5857920"/>
            <a:ext cx="303480" cy="303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s month at TPTF / April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240" y="1028880"/>
            <a:ext cx="8366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April 2008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TF met o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rch 31 – Apri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TF will meet agai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pril 21 –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s month at TPTF / April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/ March 31 – April 2, 2008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orsement/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s to synchronize Zonal Protoc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105, Section 23, Texas Test Plan Team – Retail Market Tes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106, Section 24, Retail Point-to-Point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109, Section 18, Load Profi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110, Section 20, Alternative Dispute Resolution Proced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15200" y="5857920"/>
            <a:ext cx="303480" cy="303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s month at TPTF / April 2008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547120" cy="57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coming Agenda Items / April 21 – 22, 2008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al Program Upd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ogram Up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Timeline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DS Timeline and Milestones Descri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O Readines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odal Readiness Scorecar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nd metric revisions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8, ERCOT Staffed for Texas Nodal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O5, MP Ability to Submit Ou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al Project Upd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S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NPRR119, Resource Limit Calculat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for the EDS 3 Load Frequency Control (LFC) Testing MP Handbook v1.0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disposition of comments for the EDS Emergency Electric Curtailment Plan (EECP) Hand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approach to telemetry issue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3:33:38Z</dcterms:created>
  <dc:creator/>
  <dc:description/>
  <dc:language>en-US</dc:language>
  <cp:lastModifiedBy/>
  <dcterms:modified xsi:type="dcterms:W3CDTF">2008-04-07T15:58:41Z</dcterms:modified>
  <cp:revision>223</cp:revision>
  <dc:subject/>
  <dc:title>Texas Nodal</dc:title>
</cp:coreProperties>
</file>