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22.wmf" ContentType="image/x-wmf"/>
  <Override PartName="/ppt/media/image5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0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400" y="353484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308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876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608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4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876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608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6840" y="75960"/>
            <a:ext cx="83818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308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14400" y="353484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308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876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608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144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876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608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6840" y="75960"/>
            <a:ext cx="83818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6308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914400" y="353484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6308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3876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8608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9144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3876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8608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6840" y="75960"/>
            <a:ext cx="83818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6308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914400" y="353484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6308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3876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8608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9144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3876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58608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6840" y="75960"/>
            <a:ext cx="83818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308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99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66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248160" y="6171840"/>
            <a:ext cx="251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3205F-BA97-4AAF-8157-B57C0DFF00B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77376-A664-4CDE-971F-766BF6CE2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822240"/>
            <a:ext cx="9144000" cy="92160"/>
          </a:xfrm>
          <a:prstGeom prst="rect">
            <a:avLst/>
          </a:prstGeom>
          <a:gradFill rotWithShape="0">
            <a:gsLst>
              <a:gs pos="0">
                <a:srgbClr val="adadad"/>
              </a:gs>
              <a:gs pos="100000">
                <a:srgbClr val="0032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049800"/>
            <a:ext cx="9144000" cy="46080"/>
          </a:xfrm>
          <a:prstGeom prst="rect">
            <a:avLst/>
          </a:prstGeom>
          <a:gradFill rotWithShape="0">
            <a:gsLst>
              <a:gs pos="0">
                <a:srgbClr val="adadad"/>
              </a:gs>
              <a:gs pos="100000">
                <a:srgbClr val="0032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304920" y="6135840"/>
            <a:ext cx="1752480" cy="722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1905120"/>
            <a:ext cx="731520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2"/>
          </p:nvPr>
        </p:nvSpPr>
        <p:spPr>
          <a:xfrm>
            <a:off x="456840" y="6324120"/>
            <a:ext cx="24382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29B23-8FE0-4E2C-9D61-39E89639653E}" type="datetime">
              <a:rPr b="1" lang="en-US" sz="18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3"/>
          </p:nvPr>
        </p:nvSpPr>
        <p:spPr>
          <a:xfrm>
            <a:off x="6400800" y="6286680"/>
            <a:ext cx="22860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019920"/>
            <a:ext cx="9144000" cy="46080"/>
          </a:xfrm>
          <a:prstGeom prst="rect">
            <a:avLst/>
          </a:prstGeom>
          <a:gradFill rotWithShape="0">
            <a:gsLst>
              <a:gs pos="0">
                <a:srgbClr val="adadad"/>
              </a:gs>
              <a:gs pos="100000">
                <a:srgbClr val="0032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57200" y="142920"/>
            <a:ext cx="3048120" cy="1257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1600200"/>
            <a:ext cx="9144000" cy="92160"/>
          </a:xfrm>
          <a:prstGeom prst="rect">
            <a:avLst/>
          </a:prstGeom>
          <a:gradFill rotWithShape="0">
            <a:gsLst>
              <a:gs pos="0">
                <a:srgbClr val="adadad"/>
              </a:gs>
              <a:gs pos="100000">
                <a:srgbClr val="0032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99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66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4"/>
          </p:nvPr>
        </p:nvSpPr>
        <p:spPr>
          <a:xfrm>
            <a:off x="6858000" y="6171840"/>
            <a:ext cx="1905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799BD-BC97-43B4-8DF6-3AD53092558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C1B22-239D-49EB-99EA-E1FD5D582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822240"/>
            <a:ext cx="9144000" cy="92160"/>
          </a:xfrm>
          <a:prstGeom prst="rect">
            <a:avLst/>
          </a:prstGeom>
          <a:gradFill rotWithShape="0">
            <a:gsLst>
              <a:gs pos="0">
                <a:srgbClr val="adadad"/>
              </a:gs>
              <a:gs pos="100000">
                <a:srgbClr val="0032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6049800"/>
            <a:ext cx="9144000" cy="46080"/>
          </a:xfrm>
          <a:prstGeom prst="rect">
            <a:avLst/>
          </a:prstGeom>
          <a:gradFill rotWithShape="0">
            <a:gsLst>
              <a:gs pos="0">
                <a:srgbClr val="adadad"/>
              </a:gs>
              <a:gs pos="100000">
                <a:srgbClr val="0032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304920" y="6135840"/>
            <a:ext cx="1752480" cy="722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1905120"/>
            <a:ext cx="731520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dt" idx="5"/>
          </p:nvPr>
        </p:nvSpPr>
        <p:spPr>
          <a:xfrm>
            <a:off x="456840" y="6324120"/>
            <a:ext cx="24382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CA055-350D-443E-A534-CB5B950E7881}" type="datetime">
              <a:rPr b="1" lang="en-US" sz="18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19920"/>
            <a:ext cx="9144000" cy="46080"/>
          </a:xfrm>
          <a:prstGeom prst="rect">
            <a:avLst/>
          </a:prstGeom>
          <a:gradFill rotWithShape="0">
            <a:gsLst>
              <a:gs pos="0">
                <a:srgbClr val="adadad"/>
              </a:gs>
              <a:gs pos="100000">
                <a:srgbClr val="0032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457200" y="142920"/>
            <a:ext cx="3048120" cy="12571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0" y="1600200"/>
            <a:ext cx="9144000" cy="92160"/>
          </a:xfrm>
          <a:prstGeom prst="rect">
            <a:avLst/>
          </a:prstGeom>
          <a:gradFill rotWithShape="0">
            <a:gsLst>
              <a:gs pos="0">
                <a:srgbClr val="adadad"/>
              </a:gs>
              <a:gs pos="100000">
                <a:srgbClr val="0032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52680" y="640080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521E8-1B8A-4A23-910A-1221909E4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0" y="6172200"/>
            <a:ext cx="1905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38CC2-7748-4DCD-BA09-3DD562E25AE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Click to edit the outline text format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cc9900"/>
              </a:buClr>
              <a:buFont typeface="Arial"/>
              <a:buChar char="♦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6699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rcot.com/mktrules/compliance/tre/enforcement/doc/NERC_CEP_Flowcharts.pdf" TargetMode="External"/><Relationship Id="rId3" Type="http://schemas.openxmlformats.org/officeDocument/2006/relationships/hyperlink" Target="http://www.ercot.com/mktrules/compliance/keydocs/Compliance_Processes_Flowcharts.pdf" TargetMode="External"/><Relationship Id="rId4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rcot.com/mktrules/compliance/tre/enforcement/doc/2008_Audit_Schedule_TexasRE.xls" TargetMode="External"/><Relationship Id="rId3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rcot.com/mktinfo/reports/sce_qse/index.html" TargetMode="External"/><Relationship Id="rId3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" y="198108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Arial Black"/>
              </a:rPr>
              <a:t>Texas Regional Entity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04920" y="3733920"/>
            <a:ext cx="822960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296"/>
                </a:solidFill>
                <a:latin typeface="Arial Black"/>
              </a:rPr>
              <a:t>Larry Grim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296"/>
                </a:solidFill>
                <a:latin typeface="Arial Black"/>
              </a:rPr>
              <a:t>April 4, 2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1600200"/>
            <a:ext cx="9144000" cy="92160"/>
          </a:xfrm>
          <a:prstGeom prst="rect">
            <a:avLst/>
          </a:prstGeom>
          <a:gradFill rotWithShape="0">
            <a:gsLst>
              <a:gs pos="0">
                <a:srgbClr val="adadad"/>
              </a:gs>
              <a:gs pos="100000">
                <a:srgbClr val="0032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6095880"/>
            <a:ext cx="9144000" cy="46080"/>
          </a:xfrm>
          <a:prstGeom prst="rect">
            <a:avLst/>
          </a:prstGeom>
          <a:gradFill rotWithShape="0">
            <a:gsLst>
              <a:gs pos="0">
                <a:srgbClr val="adadad"/>
              </a:gs>
              <a:gs pos="100000">
                <a:srgbClr val="0032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457200" y="142920"/>
            <a:ext cx="3048120" cy="1257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AC Meeting - April 4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QSE PRR 525 10-Minute Interval Scoring</a:t>
            </a:r>
            <a:endParaRPr b="0" lang="en-US" sz="28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762120" y="1066680"/>
            <a:ext cx="8153280" cy="4724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AC Meeting - April 4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ebruary 2008 – SCPS2 Scores</a:t>
            </a:r>
            <a:endParaRPr b="0" lang="en-US" sz="32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685800" y="1219320"/>
            <a:ext cx="7848720" cy="456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AC Meeting - April 4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February 2008 Resource Plan Performance Metrics</a:t>
            </a:r>
            <a:endParaRPr b="0" lang="en-US" sz="22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380880" y="1066680"/>
            <a:ext cx="8458200" cy="4724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AC Meeting - April 4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egistration Activities</a:t>
            </a:r>
            <a:endParaRPr b="0" lang="en-US" sz="32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ity Registration issues continue to be address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-Serving Entity (LSE) registration is to be addressed – on hold until FERC Order Directives related to LSE registration issues are fully addressed by NER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RC made a LSE compliance Filing on March 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RC has proposed a two-step process to address (short-term &amp; longer-term step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registration of some entities remains like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AC Meeting - April 4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NERC Functional Entity Types</a:t>
            </a:r>
            <a:endParaRPr b="0" lang="en-US" sz="32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914400" y="1066680"/>
            <a:ext cx="3581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P – Distribution Provid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– Generator Own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P – Generator 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– Transmission Own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P – Transmission Plann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E – Purchasing-Selling Ent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648320" y="1066680"/>
            <a:ext cx="3581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C – Reliability Coordin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 – Balancing Author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P – Transmission 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 – Planning Author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SP – Transmission Service Provid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P – Resource Plann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AC Meeting - April 4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mpliance Process Flowcharts</a:t>
            </a:r>
            <a:endParaRPr b="0" lang="en-US" sz="32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RC Compliance Monitoring and Enforcement Program – Reliability Standar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Link to NERC Reliability Flowch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COT Compliance Process – ERCOT Protocols and Operating Guid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Link to Protocols &amp; Guides Flowch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AC Meeting - April 4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2008 Audits by Registered Function</a:t>
            </a:r>
            <a:endParaRPr b="0" lang="en-US" sz="32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380880" y="1143000"/>
            <a:ext cx="838224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AC Meeting - April 4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2008 Compliance Audits Scheduled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by Entity</a:t>
            </a:r>
            <a:endParaRPr b="0" lang="en-US" sz="20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304920" y="1143000"/>
            <a:ext cx="8381880" cy="457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AC Meeting - April 4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2008 Audit Schedule</a:t>
            </a:r>
            <a:endParaRPr b="0" lang="en-US" sz="32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2008 Texas RE Audit Schedule is available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er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AC Meeting - April 4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mpliance Reviews of Events by Month</a:t>
            </a:r>
            <a:endParaRPr b="0" lang="en-US" sz="28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457200" y="1143000"/>
            <a:ext cx="8305920" cy="457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AC Meeting - April 4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rformance Highlights</a:t>
            </a:r>
            <a:endParaRPr b="0" lang="en-US" sz="40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20840" y="1066680"/>
            <a:ext cx="65023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RCOT’s Control Performance Standard (NERC CPS1) score for February– 112.4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itial scores for February indicate all 34 non-wind-only QSEs passed the PRR 525 meas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ve wind-only QSEs or sub-QSEs have increased from 9 to 1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AC Meeting - April 4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Violations of ERCOT Protocols</a:t>
            </a:r>
            <a:endParaRPr b="0" lang="en-US" sz="32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457200" y="1181160"/>
            <a:ext cx="822960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AC Meeting - April 4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Violations of NERC Standards Reported by Month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457200" y="1219320"/>
            <a:ext cx="8229600" cy="457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AC Meeting - April 4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NERC Standards Self-Certification</a:t>
            </a:r>
            <a:endParaRPr b="0" lang="en-US" sz="32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RC Registered Entities not audited in 2007 required to self-certify to the actively monitored Reliability Standards applicable to their Registration(s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79 Total Registered Function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5 violations identifi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 FAC-008 – lack documented process (3 G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 FAC-009 – lack documented process (3 G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CIP-001 – lack documented process (1 G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IRO-004 – lack documented process (2 GOs; 1 G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PRC-005 – relay maintenance delinquent (1 TO; 2 G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AC Meeting - April 4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NERC Standards Self-Certificatio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Violation Status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8001000" cy="457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AC Meeting - April 4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NERC Standards Self-Certification Violation Details</a:t>
            </a:r>
            <a:endParaRPr b="0" lang="en-US" sz="22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1905120" y="1066680"/>
            <a:ext cx="5503680" cy="20574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4572000" y="3276720"/>
            <a:ext cx="4419720" cy="2590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152280" y="3276720"/>
            <a:ext cx="4343400" cy="25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AC Meeting - April 4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NERC Standards Self-Reported Violations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re-June 1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endParaRPr b="0" lang="en-US" sz="20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457200" y="1066680"/>
            <a:ext cx="815328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AC Meeting - April 4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isk Factors for Self-Reported NERC Standards Violations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Pre-June 18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endParaRPr b="0" lang="en-US" sz="16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457200" y="1143000"/>
            <a:ext cx="8153280" cy="457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AC Meeting - April 4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Black"/>
              </a:rPr>
              <a:t>NERC Standards Self-Reported Violation Categorization </a:t>
            </a: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Pre-June 18</a:t>
            </a:r>
            <a:r>
              <a:rPr b="0" lang="en-US" sz="1600" spc="-1" strike="noStrike" baseline="30000">
                <a:solidFill>
                  <a:srgbClr val="333399"/>
                </a:solidFill>
                <a:latin typeface="Arial Black"/>
              </a:rPr>
              <a:t>th</a:t>
            </a:r>
            <a:endParaRPr b="0" lang="en-US" sz="16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533520" y="1143000"/>
            <a:ext cx="80769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AC Meeting - April 4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xas RE Monthly Summary</a:t>
            </a:r>
            <a:endParaRPr b="0" lang="en-US" sz="40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Februar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……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&amp; Operating Guides vio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new vio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RC Standards vio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 alleged from a Self-Cer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able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 new events rep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AC Meeting - April 4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95280" y="2209680"/>
            <a:ext cx="6391440" cy="12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Arial Black"/>
              </a:rPr>
              <a:t>Texas Regional Entity</a:t>
            </a:r>
            <a:endParaRPr b="0" lang="en-US" sz="40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143000" y="3733560"/>
            <a:ext cx="650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296"/>
                </a:solidFill>
                <a:latin typeface="Arial Black"/>
              </a:rPr>
              <a:t>Report Details</a:t>
            </a:r>
            <a:endParaRPr b="0" lang="en-US" sz="3600" spc="-1" strike="noStrike">
              <a:solidFill>
                <a:srgbClr val="00329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ERC CPS1 Performance</a:t>
            </a:r>
            <a:endParaRPr b="0" lang="en-US" sz="40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RCOT’s CPS1 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bruary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thl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00"/>
              </a:spcBef>
              <a:buClr>
                <a:srgbClr val="cc9900"/>
              </a:buClr>
              <a:buFont typeface="Arial"/>
              <a:buChar char="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8:  112.4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00"/>
              </a:spcBef>
              <a:buClr>
                <a:srgbClr val="cc9900"/>
              </a:buClr>
              <a:buFont typeface="Arial"/>
              <a:buChar char="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7:  126.9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 month rolling average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00"/>
              </a:spcBef>
              <a:buClr>
                <a:srgbClr val="cc9900"/>
              </a:buClr>
              <a:buFont typeface="Arial"/>
              <a:buChar char="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ch 2007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ebruary 2008:  125.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00"/>
              </a:spcBef>
              <a:buClr>
                <a:srgbClr val="cc9900"/>
              </a:buClr>
              <a:buFont typeface="Arial"/>
              <a:buChar char="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ch 2006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ebruary 2007:  141.4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R 525 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ores for February indicate all 34 non-wind-only QSEs passed the mea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ores posted on the ERCOT Compliance 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66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CE Performance Sc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AC Meeting - April 4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ERCOT CPS1 Performance Comparison</a:t>
            </a:r>
            <a:endParaRPr b="0" lang="en-US" sz="30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457200" y="1079640"/>
            <a:ext cx="8229600" cy="469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AC Meeting - April 4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ERCOT CPS1 Year-to-Year Comparison</a:t>
            </a:r>
            <a:endParaRPr b="0" lang="en-US" sz="30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380880" y="1143000"/>
            <a:ext cx="838224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AC Meeting - April 4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RCOT’s CPS1 Monthly Performance</a:t>
            </a:r>
            <a:endParaRPr b="0" lang="en-US" sz="32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380880" y="1076400"/>
            <a:ext cx="8458200" cy="470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AC Meeting - April 4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RCOT CPS1 by Interval</a:t>
            </a:r>
            <a:endParaRPr b="0" lang="en-US" sz="3200" spc="-1" strike="noStrike">
              <a:solidFill>
                <a:srgbClr val="003296"/>
              </a:solidFill>
              <a:latin typeface="Arial Black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380880" y="1098720"/>
            <a:ext cx="8458200" cy="466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AC Meeting - April 4,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mhenry</cp:lastModifiedBy>
  <dcterms:modified xsi:type="dcterms:W3CDTF">2008-04-08T23:52:16Z</dcterms:modified>
  <cp:revision>242</cp:revision>
  <dc:subject/>
  <dc:title>Instructions</dc:title>
</cp:coreProperties>
</file>