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897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8B5C5-27A3-4AB6-BBB9-FD6B9570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324120"/>
            <a:ext cx="2438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/10/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ECP Event 2/26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ECP Event 2/26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6000"/>
            <a:ext cx="639144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4487"/>
                </a:solidFill>
                <a:latin typeface="Arial Black"/>
              </a:rPr>
              <a:t>Collected Comments For Possible Further Action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004487"/>
                </a:solidFill>
                <a:latin typeface="Arial Black"/>
              </a:rPr>
              <a:t>EECP Step#2 Event/2-26-2008</a:t>
            </a:r>
            <a:endParaRPr b="0" lang="en-US" sz="28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8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the amount of machine inertia or substitutable response needed for the various amounts of wind penetration and begin a discussion of how to manage unit commitment in zonal and nodal to achieve the minimu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9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209320"/>
            <a:ext cx="7315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the concept of requiring storage companion capabilities (i.e., similar to pumped hydro) for any new wind beyond the legislative RPS lev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/10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ECP Event 2/26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question-mark-button-thumb304974"/>
          <p:cNvPicPr/>
          <p:nvPr/>
        </p:nvPicPr>
        <p:blipFill>
          <a:blip r:embed="rId2"/>
          <a:stretch/>
        </p:blipFill>
        <p:spPr>
          <a:xfrm>
            <a:off x="2971800" y="2438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Request to RO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March ROS meeting, Texas RE requested that ROS develop recommendations for further action, study or follow-up related to this even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 collected comments for ROS to discuss at their April mee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S is asked to review items on the list, modify as necessary, and vote approval for those items meriting additional follow-up by working groups, ERCOT staff or other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1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6002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how the wind generation forecast that will be a part of Nodal can be integrated into current Zonal operations planning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2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gin modifying the handling of the day-ahead and the short-term load forecasting process by building an hourly load and weather database and using days other than yesterday to forecast tomorrow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3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re an experienced energy market meteorologist to work with ERCOT ISO on daily wind and load forecasting and to be on call for weekend weather ev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4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ure blocks of NSRS on a day-ahead basis to cover only certain hours of forecasted major weather frontal pass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5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ew the expectations on Resource Plan updates for uncontrollable renewable resources and provide additional guidanc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QSEs, including wind QSEs, MUST be vigilant in updating their Resource Plan and keeping it accurat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6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6761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a prescribed ramp rate for wind farms’ ramping up production after completion of an OOM-E Down instruction in order to apply controls to the near term frequency oscillations seen in the system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6248520" y="6172200"/>
            <a:ext cx="2514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ECP Event 2/26/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/10/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ossible Recommendation 7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examine the exclusion from SCE performance metrics granted to wind farms and determine an alternative to these metrics and penalties.  Possibilities to consider inclu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 a realistic 10-minute performance metric for Wind-Only QSEs in the range of 50-60 perc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liminate the Wind-Only QSE Categ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ablish a methodology for purchase of supplemental regulation service from another QSE through the existing Responsibility Transfer provision already in the Protocols.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Mark</dc:creator>
  <dc:description/>
  <dc:language>en-US</dc:language>
  <cp:lastModifiedBy>mhenry</cp:lastModifiedBy>
  <dcterms:modified xsi:type="dcterms:W3CDTF">2008-04-09T14:37:57Z</dcterms:modified>
  <cp:revision>60</cp:revision>
  <dc:subject/>
  <dc:title>Texas Regional Entity Presentation</dc:title>
</cp:coreProperties>
</file>