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CE23-E594-4920-A38E-356D5011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6012-FB3B-4118-819C-50409FAA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0771-18DB-4BD5-8451-795F4ED6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066A-985B-4840-B569-51D1F778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5627-8F78-4870-92B1-9502FD88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FD24F-D738-48E0-B927-5AED7B75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A8235-86F7-424B-A971-DCF5AB86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01A8C-0A88-4C60-A386-D4B90276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8AF20-0C2A-4619-97D4-59AB4310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4F1A0-D495-4E06-848F-BE9FC8B4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0415-A26E-47DC-B631-E5B8D2A9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C01A8-89A7-4D63-B5D9-B8002C70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268EC-557F-44EF-8714-C2A01D07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6AB2B-AE6F-4C04-8B64-9CBBFF1A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2275A-BCA2-487A-9385-13D1B8A2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AD66F-E956-4207-AE46-5A8321BE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D9A3A-20D4-47F5-BADC-98B08EE2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CCBDF-F75A-44BE-9CB3-E135483E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5D90-8D48-4CD8-9AC7-ED38BD33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CC9F-8AFE-4E97-8164-581AC991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3049-3A87-4616-AB31-7BC4992B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D834-F9F1-466C-82D7-939E327B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47F1-D8B3-4B29-9B16-4BDE326F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9940-7A86-41DA-8229-06AF6B90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7110-6A25-4610-B5A2-5AF6B7793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572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C708-F3C2-418E-8EE5-4720C4E9A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7415-3185-4F82-95BB-24104C0A9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4960" y="1905120"/>
            <a:ext cx="647676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4960" y="5466960"/>
            <a:ext cx="627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43240" y="5067360"/>
            <a:ext cx="6278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2CD9-CEEF-42A0-854D-4AED6E1FAFC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21F4-BB10-4B62-8C8A-597DCCC56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1920" y="1905120"/>
            <a:ext cx="691524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7.4: Mock Annual Allocation/Auc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Un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ructured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99840" y="3790800"/>
            <a:ext cx="634356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S 3 Release 7 (CRR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1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87CEE56-8BAA-42F6-9F86-FCE882494E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able of conten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mination window exten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ction window exten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7.4 source-sink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l iss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 week: auction bid and credit limit submi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E4B9-07C8-403B-8B16-5D3CED2A4C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1208E1-091C-4CFE-AB3C-CFEE0D9BFA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nouncemen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878040"/>
            <a:ext cx="7831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RR allocation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mination submission window extended till 11:59PM Sun 4/13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ekly status update postponed next week (due to abo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have allocations results (PCRR and MCFRI) by Tues next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R au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of now, we aim to open bid submission window 4/16 (weds) and close 4/20 (sun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will extend submission window further if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-sink names available for CRR AHs to start preparing b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7.4 source-sink lis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as EDS 4 (DAM) list, excep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following settlement points ar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luded in the R7.4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TSW_BC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DPW_G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SC_CSECG1_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AS_EN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EC_G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KWSW_CH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KWSW_ROSC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C_WECG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DPW_PU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veat on Horse Hollow #3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ill try to use HHOLL3_WND1 (as currently shown in file posted). 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weve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there is a chance that we may have to use the name that was given to us earlier this week and was used by the R7.4 allocation, which is HHOLL3_WIND_1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A5D4-5E8C-4E93-9CBE-B678D89A49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C69199-32F2-4430-A799-42341C3117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ral issue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vigation around the nominations screen – painfully sl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have gathered data-points; working to resolve that 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ew nomination uploads had to be repeate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our effort to accommodate late-start NOIEs in this allocation, nomination data was accidentally refresh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changed candidate IDs (causing re-work for at least one NOI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ose MPs that already submitted nominations have sent us their nomination files – we have/will upload them on their behal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9FD3-B573-42AB-84A2-C39C535923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9A13FF-5C7C-4BB7-A469-ED0FA5ACAF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ext week: annual auction credit limits and bid submiss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9240" y="5114880"/>
            <a:ext cx="822960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s previously mentioned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 aim to have allocation results posted on Tues. If so, bid submission window opens Wed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the meantime – strongly encourage starting to create bids using R7.4 source-sink list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7032600" cy="422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CC3E-646C-4CB4-918A-212637A393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2515F5-D575-4F78-97CA-E87D6C37FD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Cheng</cp:lastModifiedBy>
  <dcterms:modified xsi:type="dcterms:W3CDTF">2008-04-11T12:23:24Z</dcterms:modified>
  <cp:revision>741</cp:revision>
  <dc:subject/>
  <dc:title>Texas Nodal Market Implementation ERCOT Board of Directors Meeting Budget Rationale October 17, 2006  Kathy Hager, Market Redesign Program Director </dc:title>
</cp:coreProperties>
</file>