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F967-7DE1-45E7-9BE8-EC33C262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6CFA-6CE6-4C30-BDFA-92302DE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F0BB-0323-4A78-A4DB-92E1623A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9FBC-035D-49BD-B674-37C10B7C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C9D0-8525-4AC0-8B50-E3031873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C891-89FA-4777-953C-BB61F5D5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DE1C-3A9C-4709-BBE5-5E50BB2A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F06E-C8C2-44F4-BAE2-14FD6DC7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AB0F-0BD8-414E-B813-AE9D096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92A9-44A7-4BA2-870C-D6656EB8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4C90-86D2-4B42-81D9-7FE7D3B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B3D6-8DEC-421F-917C-C74C2E2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50C-664D-4457-8492-8E2F06941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DEF-8447-48E6-A2FB-F892AC23A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4F7-A72D-4568-A583-F7768756E7DF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390680" cy="53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MS Updat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, TML and ERCOT.co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42667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am Martinez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ate Hor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6224C21-2325-40EF-ABC4-8F3B09066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895320"/>
          <a:ext cx="8229600" cy="4978440"/>
        </p:xfrm>
        <a:graphic>
          <a:graphicData uri="http://schemas.openxmlformats.org/drawingml/2006/table">
            <a:tbl>
              <a:tblPr/>
              <a:tblGrid>
                <a:gridCol w="1600200"/>
                <a:gridCol w="4343400"/>
                <a:gridCol w="228600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fr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- Jul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ctionality to support EDS testing requirements/timeline and delivery of required portal function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al builds planned leading to 168-hr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s in 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1, 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support of Nodal 168-Hour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1,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Go-l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8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in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L in parallel production for Retail and Zonal Settl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9 or a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2009 RO project – TML Transition to M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9 or a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of 2009 TML Transition to MIS 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ctivation of TML po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908123-4220-45FA-B881-B9039305F1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6760" y="838080"/>
            <a:ext cx="87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95360" indent="-3808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types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-led and Web-Based introduction to the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, Organization, Security Levels, Functionality, High-Level tasks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access, navigate, view, customize, query, download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based tutorial on the MIS port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tour of the MIS landing pages and portlets customized for each Market Participant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each portlet, its content and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access the market user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Based User Interfac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Revenue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age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280" y="4930920"/>
          <a:ext cx="8762760" cy="1164960"/>
        </p:xfrm>
        <a:graphic>
          <a:graphicData uri="http://schemas.openxmlformats.org/drawingml/2006/table">
            <a:tbl>
              <a:tblPr/>
              <a:tblGrid>
                <a:gridCol w="3083400"/>
                <a:gridCol w="1811880"/>
                <a:gridCol w="1271160"/>
                <a:gridCol w="1325160"/>
                <a:gridCol w="127116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ngth, day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Sub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System (TB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38DE3-58B2-48B3-8872-2B39F5D80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Websites: MIS, TML and ERCOT.co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S Portal provides the framework for the single point of access for Market Participants, PUC, and ERCOT staff to market information and to ERCOT market-facing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 will eventually replace TML as the Market-facing portal to ERCOT systems 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L will run in parallel with MIS after nodal go-live and continue to provide access to retail applications, reports and applications unti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o longer settles the zonal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etail applications and information have been tested on 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at time, TML will be decommissio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 will provide access to all information, as required by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ed, Secure, and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will need a digital certificate to access 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ublic information required by protocols will also be accessible through ERCO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A502D6-7037-4F95-BDAE-7D989DFCC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ess to ERCOT Websi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1511280"/>
            <a:ext cx="236232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45000"/>
          <a:stretch/>
        </p:blipFill>
        <p:spPr>
          <a:xfrm>
            <a:off x="3057480" y="1512720"/>
            <a:ext cx="2438280" cy="134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80880" y="9907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8380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 and System Plann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958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6120" y="3809880"/>
          <a:ext cx="8410680" cy="2562480"/>
        </p:xfrm>
        <a:graphic>
          <a:graphicData uri="http://schemas.openxmlformats.org/drawingml/2006/table">
            <a:tbl>
              <a:tblPr/>
              <a:tblGrid>
                <a:gridCol w="2619360"/>
                <a:gridCol w="2819520"/>
                <a:gridCol w="2971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one can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user name and password (or digital certifica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digital certif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(MIS Publ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not required in Protoc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e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 Energy Infrastructure Information (CEII) that requires reg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s to MIS Public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Secure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Certifie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715000" y="54259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ML Portal will continue to host Retail applications and Wholesale zonal settlements data post go-live, but will eventually be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1490760"/>
            <a:ext cx="281916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867280" y="1719360"/>
            <a:ext cx="281952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74AB1-1A56-44B6-A702-F76940DF08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000" y="766800"/>
            <a:ext cx="8658000" cy="5324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fter Nodal Go-L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819520"/>
            <a:ext cx="82296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048120"/>
            <a:ext cx="7848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formation on TML that will be obsolete after nodal go-live will be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tail information and applications will remain on TML until after zonal settlements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settlements information will be accessible through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settlements information will be accessible through 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will contain a link to MIS; MIS will contain a link to 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95022-47F4-4F79-9471-451FDD50B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UI – Landing P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68281"/>
          <a:stretch/>
        </p:blipFill>
        <p:spPr>
          <a:xfrm>
            <a:off x="1371600" y="1066680"/>
            <a:ext cx="6524640" cy="4800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B5D62-5682-4779-81C3-413443637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UI – Repo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15080" cy="528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03177-7AD8-4709-B42A-15CF54D275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UI – Applic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12678"/>
          <a:stretch/>
        </p:blipFill>
        <p:spPr>
          <a:xfrm>
            <a:off x="1447920" y="838080"/>
            <a:ext cx="6486480" cy="5105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0F6282-25F7-400E-B68E-75CE5F664D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UI – View by Protoco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610400" cy="37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30A750-B278-489D-B800-F71125428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– Other Functiona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– adding search/query engine to the portal that is more robust than the current ERCOT.com function.  More indices, larger search results, deeper dives into cont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is improvement will also be seen on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Page – providing a configurable ‘My Page’ that provides for content access according to user preferen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hboards – providing real-time graphical displays of information/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s – delivering display page of System-generated notices from MMS, NMMS, OS, EMS, CRR and manually-created Operations notices created by ERCOT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include Public, Secure and Certified no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not include: notices typically created by Client Services, such as market notices and legal notices and the Retail System Outage Notices displayed on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62EE1-DF77-46AA-822C-27786DA03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8-04-08T20:35:39Z</dcterms:modified>
  <cp:revision>37</cp:revision>
  <dc:subject/>
  <dc:title>ERCOT Template</dc:title>
</cp:coreProperties>
</file>