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7566-207F-4C78-831E-D35359C2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F11-C4B2-4773-BEB6-0386EE15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3FA7-600D-43D3-9786-FBA81E36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7E7D-46B1-4125-9C09-ACED594D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D21A-B479-4FC4-82F4-353E4D89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C62C-B46A-4A66-9370-24F6AA72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280C-9C2D-484B-A2A6-1C0297A7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50DB-CE24-48B8-864F-884899C1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FCF4-5BB4-4662-8EBB-0B63B57A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E20F-AFFB-45A5-B8FE-C80C717B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AA93-685B-4125-968B-B6B08C9E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DD1-D607-4AF0-9F22-8A562B6F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2D3D-BBF2-43A3-9E84-8CB6215E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9D78-2194-42E8-9129-8AF49A1A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6E9A-7371-4CB7-9944-863CDB51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B22F-AF7E-40CA-9330-B76B8D48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8DCE-6A8A-4F05-BEAC-FB8B039E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619-C3B2-46CC-B43F-92156DA8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1487-06A4-4840-B932-789DA9FF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1C6-3715-41B3-AC64-48F9046E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247-1E13-4165-9103-80C0526B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121-11FF-48EC-9FD0-E889C06D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08B4-E9B4-4DC9-9589-328F42A6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5EA-2540-48A6-94AE-CCEA8FE2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634C-0166-429A-894C-60A72F3358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496E-8FCA-4DE5-89AC-FC67D76BDCA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RMS Update to TAC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il 4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MS Update to TAC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March 12 RMS Meet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MS endorsement of 2008 PPL and 2009 PPL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ed NPRR’s  to Sections 23 and 24 as they related to Retail. Recommendations to retain TDSP as descriptor and specify ERCOT as test flight administra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dit Working Group Risk Appetite discussion and creation of interim RMS Task Force to develop proposal/recommend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 of MarkeTrak service degradation issue. Tasked TDTWG to work with ERC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MS Update to TAC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RMS April 9 Meet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trust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 proposed action on PRR759 Move-In Notif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PRR097 relating to passing transmission related fees to ESI 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 SLA and receive follow up on MarkeTrak service degrad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date from Nodal MIS Project Mana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date on status of Mandatory IDR Install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E: Update from CWG deferred until following the April 25 meeting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133720" y="1612800"/>
            <a:ext cx="49528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21:28:43Z</dcterms:created>
  <dc:creator>AEP</dc:creator>
  <dc:description/>
  <dc:language>en-US</dc:language>
  <cp:lastModifiedBy>balbracht</cp:lastModifiedBy>
  <dcterms:modified xsi:type="dcterms:W3CDTF">2008-04-03T20:07:55Z</dcterms:modified>
  <cp:revision>30</cp:revision>
  <dc:subject/>
  <dc:title>RMS Update to TAC</dc:title>
</cp:coreProperties>
</file>