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AE65-50A2-4FDF-AC77-6D0B62E7F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0342-97DA-4D13-906D-9CDAD0E55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420A-CE78-406C-B1BF-4F660ED40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8FD3-CFCE-4230-9135-6C752FA89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B90A-FD08-489D-9E9A-D353EDDE0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C35F8-D203-4968-8A90-BF92FE66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E3938-2C7A-42C7-B9A8-2B5C1F78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67983-9782-4878-96A5-7F6A9AA3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ED351-1AB2-4401-BD88-91BE54E7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09C0E-8C3D-4828-9B2E-FE83A400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8442-B1AA-48E5-B2E7-1EFA04C4CA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79B3F-FB6B-4A62-8C3F-3DB29EEC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687A0-5F82-451A-89FE-8CCA6774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DB264-42D3-434E-9181-4469DFD8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D5436-6D52-4946-AE31-CAE669E8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932B3-84CA-48FD-86CC-9595A7E9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AC8AD-C092-4E18-A781-22BDBFCC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4323A-62A4-4690-916B-8C159D86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D284-0CF9-4D8E-98DE-6387F69FE1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64DA-64C3-4DDB-BB4A-54D9E21A3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3AF4-10C4-441F-9AEF-FE77D752B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CA15-CAA0-43B2-A801-A3AB539FF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7468-40F7-4952-8C29-5BA8C04AB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C17D-0B28-4047-B1E3-B528C58F9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2233-B25B-41CE-A9CF-3BA8E7584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8576-9EF0-4905-B36F-63F4DB215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1373-8F28-414B-A7B5-0B6C424FE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dt" idx="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8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9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81532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SCR745 Upda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Outage Evaluation Phase 1 and Phase 2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599840" y="35809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9,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0" y="-3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60006_01 ERCOT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ckgroun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45:  To achieve improved Market performance and reliability through a reduction of ERCOT Retail Systems unplanned outages.  Achieve 99.99% Availability within Paperfree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ffort was planned to be implemented in two subproject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60006_01:  ERCOT Outage Evaluation Phase I and Phas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, NAESB and Proxy Clustered (Delivered 02/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hase II, Paperfree Clustered environment with File Server Redund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60006_02:  Phase III, Database Clustered environment (below PPL cut line for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 II Current Statu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/27/2008 – Integration, Performance/Volume and Failover Test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3/08/2009 – Production Imple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3/22/2008 – Rollback to previous Paperfree Infrastructure due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Performance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sting Resul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High Availability / Fault tolerance tests - comple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related open defect; to be addressed in future release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de Fencing on shutdown from RSA results in application failur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ady transaction flow volume test – comple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open defect with PolyServe software, the advantages provided would includ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Server Redunda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es the identified single point of failure for loss of Mapping for users and application process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for maintenance capabilities without affecting all nodes in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Availability / Fault Tole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ustered Load Bal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60006_01 ERCOT Update - Continu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60006_01 ERCOT Update - Continued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2280" y="762120"/>
          <a:ext cx="8839440" cy="5732280"/>
        </p:xfrm>
        <a:graphic>
          <a:graphicData uri="http://schemas.openxmlformats.org/drawingml/2006/table">
            <a:tbl>
              <a:tblPr/>
              <a:tblGrid>
                <a:gridCol w="1378080"/>
                <a:gridCol w="2270160"/>
                <a:gridCol w="2514600"/>
                <a:gridCol w="2676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Ca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12/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ail Application Ou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rt processes in 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Error  (See SLA Updat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12/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7 files not loading into L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ssions were gran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ssions issue (See SLA Updat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19/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 Crash of Polyserve Cluster due to SAN Switch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d Polyserve cluster to different s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Switch Failure caused Node Fencing:  If polyserve loses connectivity to SAN, the cluster will lock.  HP Ticket logged 12/11/2007 (see slide 3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12/2008 – 03/22/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free Performance degra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19/2008 Implemented SIR 11823 to add additional transaction processing enhancem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22/20008 Rollback to old infrastructure until performance tuning recommendations from HP can be implemented / t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60006_01 ERCOT Update - 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97000" indent="-2970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ll iTEST back to old infrastructure of Paperfree Fan Out (Blades).  Required to mitigate impact to PR60008:  Ts&amp;Cs and PUCT 33049 Performance Measures – Comple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-2970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DTWG Meeting to discuss issues – Complet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-2970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ze performance tuning options provided by HP for feasibilit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-2970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 Plans to move forward with effort on SCR745 and re-implementation of Polyserve at ERCOT with TDTWG May, 200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ngs to take consider for future discussion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aperFree Availability Metrics (Prior to March 2008 Incident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-2970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ious Logged incident for PaperFree file server – 02/2007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-2970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2/2008 – 100% availability (meeting SCR Goal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007 Intermediate Resolu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-2970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Cha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2970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e Management (Copy / Move / Delete) R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2970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-Map drives before processing vs. application start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-2970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rdware Replac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2970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tion of 3950 (4-Way) server for 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-2970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reased Train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-2970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reased Monito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ture discussion at TDTWG - Does the 2007 Intermediate Resolutions meet the objective of the SCR745 Phase II Goals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60006_02:  Phase III, Database Clustered environme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ation from ERCOT to TDTWG to Cancel this project – Resolved with AIX deploy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Incident logged – 01/05/2008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2/2008 – 100% Avail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60006_02 ERCOT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20:17:36Z</dcterms:created>
  <dc:creator>dmoldenhour</dc:creator>
  <dc:description/>
  <dc:language>en-US</dc:language>
  <cp:lastModifiedBy>hsatterfield</cp:lastModifiedBy>
  <dcterms:modified xsi:type="dcterms:W3CDTF">2008-04-07T19:10:29Z</dcterms:modified>
  <cp:revision>89</cp:revision>
  <dc:subject/>
  <dc:title>Tollgate /  SRT Slide 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7-10-02T00:00:00Z</vt:lpwstr>
  </property>
  <property fmtid="{D5CDD505-2E9C-101B-9397-08002B2CF9AE}" pid="3" name="GUID">
    <vt:lpwstr>{20070423-2051-04AE-92AF-CDDFA9751F5E}</vt:lpwstr>
  </property>
  <property fmtid="{D5CDD505-2E9C-101B-9397-08002B2CF9AE}" pid="4" name="Owner">
    <vt:lpwstr>1002</vt:lpwstr>
  </property>
  <property fmtid="{D5CDD505-2E9C-101B-9397-08002B2CF9AE}" pid="5" name="Status">
    <vt:lpwstr>Final</vt:lpwstr>
  </property>
</Properties>
</file>