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D5DC-5364-4949-A01F-681AB7B54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D0FE-1EF8-49BE-A5EA-9FF45F64B23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264B-536C-474F-AD43-3DB65C94B08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4323-D5C2-42A2-A5D7-9BA619D55E6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5000-3262-49D1-84F4-31F1DB817FF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8F73-B6DA-4545-A28E-97C9C542318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0F0-0A93-4C3A-81CE-2A5F5C26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BE7-EA6A-4E46-B6B6-51F17E0B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3A2-4F4C-4B77-B5DE-2C0CEF75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2B2-47B5-45F8-B6FA-53ADD2E3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4FFB-DB42-4E80-8352-10B006A6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AB20-80C7-44AE-86BF-1A7A0DD0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4BA5-8E6D-4FF7-BDCC-027FDF1C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EBC0-8246-4986-BE1B-5BCDDC20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17BC-B09F-48B4-9114-13D15D2A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7006-937B-495F-B1B6-9EB30A59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A396-B25A-4A92-ABD5-E712D0EF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B2B-BD9C-425D-879A-E2AF3DB1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AD0E-3622-4BAB-AA6B-D873308F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F987-13B6-4015-8F63-AA071525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5721-6CB1-49EF-BEDE-A4D74D52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CF54-00FA-486C-91BF-F9B67558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3DAA-0D1D-496B-A55C-2383DE52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A84-8F56-47D3-85F6-1843F582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4A8-6C88-4FC5-AFE7-40B95BF4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162-006F-475C-969B-5C83F47A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231-BC16-4823-A89D-30583DDF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A5E-A98A-4F49-80C2-EFC42BEB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60C-B482-47B4-8384-0ACEBB3E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673-812A-43D5-BB0A-7573ED51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4C93-5CBD-4866-8CBC-E05996A95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2685-C257-433D-BAB7-D684B0EB97D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MarkeTrak Phase II Task Forc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date to R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ril 9, 200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rch 26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omplishment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viewed several MarkeTrak test scripts in detail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re the scripts clear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as there enough detail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cer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ction item: 10 scripts were written for the new IAG process – the market was asked to review the scripts and choose 5 to 6 scripts to be used for testing.  Comments due by March 30</a:t>
            </a:r>
            <a:r>
              <a:rPr b="0" lang="en-US" sz="20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ction Item:  Market Participants and ERCOT to review all scripts and provide comments for the joint meeting  - TTPT and MarkeTrak Taskforce team on March 31</a:t>
            </a:r>
            <a:r>
              <a:rPr b="0" lang="en-US" sz="20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pleted Technical Review for Release 1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rch 31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oint Meeting TTPT and MarkeTrak Taskforce 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following IAG scripts were selected for testing.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advertent Gain - CR1 (Gaining CR) Submi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advertent Gain - CR1 (Losing CR) Submit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RCOT selects Invalid IAG - Inadvertent Gain - CR1 (Gaining CR) Submi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aining CR Disagrees - Inadvertent Gain - CR1 (Losing CR) Submi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aining CR Confirms that an Authorized Enrollment Was Received - Inadvertent Gain - CR1 (Losing CR) Submits MarkeTrak Issu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uplicate Issue Scenario - Inadvertent Gain - CR1 (Losing CR) Submi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rch 3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cont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oint Meeting TTPT and MarkeTrak Taskforce Te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ll scripts were reviewed.  Updates were made to enhance the testing flow of the script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RCOT provided a review of the scripts to confirm the flow, state names, and transition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inal scripts to be posted the week of April 7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xt Mee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pril 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– Holiday Inn Express -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7601 E. Ben White Blv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stin, TX 7874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cussion item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pdate on Test Scrip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lk Insert Scrip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sting Orient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r Guid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ctions 1, 3, 4 and 8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mind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aining Announcement - Resolving Inadvertent Gain Issues – April 17</a:t>
            </a:r>
            <a:r>
              <a:rPr b="0" lang="en-US" sz="20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in Dall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aining Announcement - Retail Market Participant Workshop - Resolving Inadvertent Gain Issues – May 16</a:t>
            </a:r>
            <a:r>
              <a:rPr b="0" lang="en-US" sz="20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at ERCOT (half day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aining Announcement - Retail Market Participant Workshop – MarkeTrak – May 16</a:t>
            </a:r>
            <a:r>
              <a:rPr b="0" lang="en-US" sz="20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-including MarkeTrak Enhancements implemented in Release 1 (half day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4" descr="MCj04042630000[1]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00017167</cp:lastModifiedBy>
  <dcterms:modified xsi:type="dcterms:W3CDTF">2008-04-04T03:41:09Z</dcterms:modified>
  <cp:revision>59</cp:revision>
  <dc:subject/>
  <dc:title>MarkeTrak Task Force</dc:title>
</cp:coreProperties>
</file>