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8DA0CEF-7CEE-446D-8462-07BB8F7396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49EE30-75B1-4485-8D87-58AB158C8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50B8B70-1983-43D4-94F8-40084A93CF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34641D8-B2DE-448C-9807-FECC5350F7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6DA47D1-5357-482A-BCB5-0636635C0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277A14-86EA-4FB4-BE09-1C340DB33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6D73D97-29B5-4B5C-9A72-61552A77B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C812435-D65D-4141-A8EF-D83F12B31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197AE57-1201-47C8-B83B-85713407A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023C55-40FC-4E96-8F03-A41B6EB3C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A4F509E-BCB1-49D9-B7D3-852080E7A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7F6804-C005-48E4-B127-0B9322E496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23D9-ABBD-4804-B99C-97437243E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5867280" y="6458040"/>
            <a:ext cx="28958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2343240" y="3580920"/>
            <a:ext cx="53337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ril 2008</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6"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graphicFrame>
        <p:nvGraphicFramePr>
          <p:cNvPr id="117" name=""/>
          <p:cNvGraphicFramePr/>
          <p:nvPr/>
        </p:nvGraphicFramePr>
        <p:xfrm>
          <a:off x="228600" y="863640"/>
          <a:ext cx="8340840" cy="5156280"/>
        </p:xfrm>
        <a:graphic>
          <a:graphicData uri="http://schemas.openxmlformats.org/presentationml/2006/ole">
            <p:oleObj r:id="rId1" spid="">
              <p:embed/>
              <p:pic>
                <p:nvPicPr>
                  <p:cNvPr id="118" name="" descr=""/>
                  <p:cNvPicPr/>
                  <p:nvPr/>
                </p:nvPicPr>
                <p:blipFill>
                  <a:blip r:embed="rId2"/>
                  <a:stretch/>
                </p:blipFill>
                <p:spPr>
                  <a:xfrm>
                    <a:off x="228600" y="863640"/>
                    <a:ext cx="834084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nt IT Issues &amp; Updates</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Market IT Servic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Processing Outages &amp; Delay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rak Perform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tracts &amp; Report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ed Extracts &amp; Repor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 Prog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Metrics Review</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Outages &amp; Delays</a:t>
            </a:r>
            <a:endParaRPr b="1" lang="en-US" sz="16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s:</a:t>
            </a:r>
            <a:endParaRPr b="0" lang="en-US" sz="14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iled Production Release</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R-745, a market request to improve reliability, related production implementation caused delays and failures resulting in the decision to rollback to pre-implementation state</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orage Hardware Failures</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ilures in the storage area network caused unplanned outages, compounding transaction processing delays already slowed by the failed production release</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uman Error</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ring troubleshooting efforts, a computer operator started a session of a process that was already running, causing significant duplicate transactions to be generated and requiring the manual cleanup of transactions</a:t>
            </a:r>
            <a:endParaRPr b="0" lang="en-US" sz="1300" spc="-1" strike="noStrike">
              <a:solidFill>
                <a:srgbClr val="000000"/>
              </a:solidFill>
              <a:latin typeface="Arial"/>
            </a:endParaRPr>
          </a:p>
          <a:p>
            <a:pPr lvl="3" marL="16002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tion:</a:t>
            </a:r>
            <a:endParaRPr b="0" lang="en-US" sz="14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iled Production Release</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slow performance and crashes, an outage outside of the standard maintenance windows was utilized to rollback to pre-implementation state </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analysis and discussions with TDTWG are ongoing to determine next steps regarding this phase of SCR-745</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orage Hardware Failures</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to replace aged hardware has been in progress since late ’07 and is scheduled for implementation during the first weekend in May</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uman Error</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ducation and training  </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ng procedure revisions to prevent future occurrenc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slow system performance and failures</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nstability and limitations: </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vs. multi-threading processing abilities</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 sessions management capabilities</a:t>
            </a:r>
            <a:endParaRPr b="0" lang="en-US" sz="1400" spc="-1" strike="noStrike">
              <a:solidFill>
                <a:srgbClr val="000000"/>
              </a:solidFill>
              <a:latin typeface="Arial"/>
            </a:endParaRPr>
          </a:p>
          <a:p>
            <a:pPr lvl="4" marL="2057400" indent="-228600">
              <a:lnSpc>
                <a:spcPct val="9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does not consistently release HTTP sessions, the current version does not allow for adjustment of timeout parameters</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hardware failures</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orage area network fails, the MarkeTrak application fails as well</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nstability and limitations:</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upgrade that will address these issues has been in process since late ’07, two versions of the upgrade have failed ERCOT testing and have had to be returned to the vendor for fixes</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recent version upgrade is in ERCOT testing and if successful it will be promoted to production during the May release</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hardware failures</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o replace aged hardware has been in progress since late ’07 and is scheduled for implementation during the first weekend in May</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Extracts &amp; Reports Delay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s delayed batch processing which in turn delayed reports and extract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error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leanup activities inadvertently caused incorrect data to be generated during the batch process, the remediation efforts required the backout and rerun of three operating days, much of which had to be performed manually</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ssions not granted properly during the March retail release, causing files to not be able to flow where they needed to for report generation</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to replace aged hardware has been in progress since ’07 and is scheduled for implementation during the first weekend in May</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error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8 Net Service Availability</a:t>
            </a:r>
            <a:endParaRPr b="0" lang="en-US" sz="2000" spc="-1" strike="noStrike">
              <a:solidFill>
                <a:srgbClr val="ffffff"/>
              </a:solidFill>
              <a:latin typeface="Arial Black"/>
            </a:endParaRPr>
          </a:p>
        </p:txBody>
      </p:sp>
      <p:sp>
        <p:nvSpPr>
          <p:cNvPr id="100"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graphicFrame>
        <p:nvGraphicFramePr>
          <p:cNvPr id="101" name=""/>
          <p:cNvGraphicFramePr/>
          <p:nvPr/>
        </p:nvGraphicFramePr>
        <p:xfrm>
          <a:off x="228600" y="884160"/>
          <a:ext cx="8372520" cy="4907160"/>
        </p:xfrm>
        <a:graphic>
          <a:graphicData uri="http://schemas.openxmlformats.org/presentationml/2006/ole">
            <p:oleObj r:id="rId1" spid="">
              <p:embed/>
              <p:pic>
                <p:nvPicPr>
                  <p:cNvPr id="102" name="" descr=""/>
                  <p:cNvPicPr/>
                  <p:nvPr/>
                </p:nvPicPr>
                <p:blipFill>
                  <a:blip r:embed="rId2"/>
                  <a:stretch/>
                </p:blipFill>
                <p:spPr>
                  <a:xfrm>
                    <a:off x="228600" y="884160"/>
                    <a:ext cx="8372520" cy="490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ch 2008 Net Service Availability</a:t>
            </a:r>
            <a:endParaRPr b="0" lang="en-US" sz="2000" spc="-1" strike="noStrike">
              <a:solidFill>
                <a:srgbClr val="ffffff"/>
              </a:solidFill>
              <a:latin typeface="Arial Black"/>
            </a:endParaRPr>
          </a:p>
        </p:txBody>
      </p:sp>
      <p:sp>
        <p:nvSpPr>
          <p:cNvPr id="104"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graphicFrame>
        <p:nvGraphicFramePr>
          <p:cNvPr id="105" name=""/>
          <p:cNvGraphicFramePr/>
          <p:nvPr/>
        </p:nvGraphicFramePr>
        <p:xfrm>
          <a:off x="228600" y="936720"/>
          <a:ext cx="8458200" cy="4814640"/>
        </p:xfrm>
        <a:graphic>
          <a:graphicData uri="http://schemas.openxmlformats.org/presentationml/2006/ole">
            <p:oleObj r:id="rId1" spid="">
              <p:embed/>
              <p:pic>
                <p:nvPicPr>
                  <p:cNvPr id="106" name="" descr=""/>
                  <p:cNvPicPr/>
                  <p:nvPr/>
                </p:nvPicPr>
                <p:blipFill>
                  <a:blip r:embed="rId2"/>
                  <a:stretch/>
                </p:blipFill>
                <p:spPr>
                  <a:xfrm>
                    <a:off x="228600" y="936720"/>
                    <a:ext cx="8458200" cy="48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08"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graphicFrame>
        <p:nvGraphicFramePr>
          <p:cNvPr id="109" name=""/>
          <p:cNvGraphicFramePr/>
          <p:nvPr/>
        </p:nvGraphicFramePr>
        <p:xfrm>
          <a:off x="380880" y="914400"/>
          <a:ext cx="8382240" cy="5105520"/>
        </p:xfrm>
        <a:graphic>
          <a:graphicData uri="http://schemas.openxmlformats.org/presentationml/2006/ole">
            <p:oleObj r:id="rId1" spid="">
              <p:embed/>
              <p:pic>
                <p:nvPicPr>
                  <p:cNvPr id="110" name="" descr=""/>
                  <p:cNvPicPr/>
                  <p:nvPr/>
                </p:nvPicPr>
                <p:blipFill>
                  <a:blip r:embed="rId2"/>
                  <a:stretch/>
                </p:blipFill>
                <p:spPr>
                  <a:xfrm>
                    <a:off x="380880" y="914400"/>
                    <a:ext cx="83822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2" name=""/>
          <p:cNvSpPr/>
          <p:nvPr/>
        </p:nvSpPr>
        <p:spPr>
          <a:xfrm>
            <a:off x="8229600" y="640080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graphicFrame>
        <p:nvGraphicFramePr>
          <p:cNvPr id="113" name=""/>
          <p:cNvGraphicFramePr/>
          <p:nvPr/>
        </p:nvGraphicFramePr>
        <p:xfrm>
          <a:off x="380880" y="990720"/>
          <a:ext cx="8150400" cy="4876560"/>
        </p:xfrm>
        <a:graphic>
          <a:graphicData uri="http://schemas.openxmlformats.org/presentationml/2006/ole">
            <p:oleObj r:id="rId1" spid="">
              <p:embed/>
              <p:pic>
                <p:nvPicPr>
                  <p:cNvPr id="114" name="" descr=""/>
                  <p:cNvPicPr/>
                  <p:nvPr/>
                </p:nvPicPr>
                <p:blipFill>
                  <a:blip r:embed="rId2"/>
                  <a:stretch/>
                </p:blipFill>
                <p:spPr>
                  <a:xfrm>
                    <a:off x="380880" y="990720"/>
                    <a:ext cx="815040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smallwood</cp:lastModifiedBy>
  <dcterms:modified xsi:type="dcterms:W3CDTF">2008-04-08T18:32:40Z</dcterms:modified>
  <cp:revision>130</cp:revision>
  <dc:subject/>
  <dc:title>Instructions</dc:title>
</cp:coreProperties>
</file>