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4945-0792-4AA8-A427-5B59208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C898-D47C-41CC-B10D-9EDBCF77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4428-FFA7-4BAB-AA05-32595E50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C60F-428A-47ED-9567-CFD6F5B7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B801-FFAC-4CBF-8888-8F5FCFF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952A-C20C-4B55-98C8-911D99A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3819-65F5-40D2-B25E-E95CE63B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2113-1D47-4923-A64D-16B9154D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C971-ED68-46A2-A7EF-098A0D5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F4A2-3CBE-4091-BED0-4B98D164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F76C-46BD-4876-BE36-E546BB4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968B-C475-4C72-A04B-3683D7F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7CD-5465-4EED-A7A8-A75E5EF5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ail1.ercot.com/exchweb/bin/redir.asp?URL=http://www.ercot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LA Exception Requ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y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&amp;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588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ron Smallw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nager, IT Business &amp; Customer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LA Exception Reques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quests the following time period be excluded from the retail transaction processing service availability metri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noon May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11:59pm Ma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use this time to perform needed infrastructure chang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infrastructur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switch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also use the normally scheduled retail release window the following weekend, beginning May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will services be impacted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Participants utilizing NAESB to send/receive transactions to/from ERCOT will NOT be able to send/receive transactions to/from ERCOT during the outage.  This includes all retail transaction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67 Transactions will NOT be forwarded during the outag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7 Functional Acknowledgements will NOT be sent during the outag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f TML and the Commercial API will NOT be available includin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ESI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Trans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 Trans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 Functiona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 Explorer, inclu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Stat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Schedu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 Data Reque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ternet Services wi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available, including but not limited 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rak - https://marketrak.ercot.com:8443/tmtrack.dll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 - https://tcr.erco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Renewables – www.texasrenewables.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forfia</cp:lastModifiedBy>
  <dcterms:modified xsi:type="dcterms:W3CDTF">2008-04-08T21:43:24Z</dcterms:modified>
  <cp:revision>76</cp:revision>
  <dc:subject/>
  <dc:title>Instructions</dc:title>
</cp:coreProperties>
</file>