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67080" y="456840"/>
            <a:ext cx="4191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67080" y="456840"/>
            <a:ext cx="4191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exabackground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Gexa Powerpoint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048120" y="640044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ge </a:t>
            </a:r>
            <a:fld id="{1379CFA9-D832-4657-BFE7-4F4EA0D9AA1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09588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pyright © 2007, Gexa Energy L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vision 1.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5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Revised:  </a:t>
            </a:r>
            <a:fld id="{364358C2-12D5-4862-8181-F97DFAED57F8}" type="datetime2">
              <a:rPr b="1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/12/2008 to 3/20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Scoo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12/2008 for 3/14/2008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otched 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14/2008 was a Friday; Monday 3/17/2008 the next available busines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18/2008 for 3/20/2008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otched 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20/2008 was a Thursday; due to Good Friday Holiday on 3/21/2008; Monday 3/24/2008 was the next available busines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19/2008 for 3/24/2008 Action; and 3/20/2008 for 3/25/2008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otched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at risk for no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MVI/MVO times do not correspond to customer requested dates; billing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Safety Ne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Scootched MVI and re-issue PMVI for customers that will not ha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Manual Spreadsheet Enrollment Process with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market synch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ved via backdated MVI transactions after event is re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to the 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Move-in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-offs on disputed usage tied to late MV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E’s to work manu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all Center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ment for lodging, spoiled food, meals ou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to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to have no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usage charged to account after requested MV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2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lanned Outage from 9:08AM to 10:15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Outage from 7:00PM to 12:00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3/14/2008 Notice sent of post-outage impacts to transac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9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lanned Outage from 9:35AM to 12:0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20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lanned Outage from 8:20AM to 10:02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ed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4_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4_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failed to recognize receipt of some inbound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a measure of how long it took them to process the transaction but how long it took their systems to recognize they had a transaction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Rectangle 4"/>
          <p:cNvGraphicFramePr/>
          <p:nvPr/>
        </p:nvGraphicFramePr>
        <p:xfrm>
          <a:off x="685800" y="1414440"/>
          <a:ext cx="777240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14440"/>
                    <a:ext cx="77724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371240"/>
            <a:ext cx="777240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685800" y="1414440"/>
          <a:ext cx="7772400" cy="479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14440"/>
                    <a:ext cx="77724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Rectangle 4"/>
          <p:cNvGraphicFramePr/>
          <p:nvPr/>
        </p:nvGraphicFramePr>
        <p:xfrm>
          <a:off x="91440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15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Rectangle 4"/>
          <p:cNvGraphicFramePr/>
          <p:nvPr/>
        </p:nvGraphicFramePr>
        <p:xfrm>
          <a:off x="91440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15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impacted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 defined as anything greater than 129 minutes to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4% of the 5000 (72) transactions fell into outlie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ed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 defined as anything greater than 152 minutes to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of the 1760 (270) transactions fell into outlie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% of the 1760 (294) transactions fell outside the 129 minutes to post n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Outage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degradation/ou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ound Timestamp reflects incorrect receipt time at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did not process transactions until after TDSP 5:00PM cut-off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I requests scoo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expecting power left without power until next business day after requeste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/TDSP charges left on previous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O requests scoo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responsible for Usage/TDSP charges until next business day after requested MV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5:55:56Z</dcterms:created>
  <dc:creator>michael.matlock</dc:creator>
  <dc:description/>
  <dc:language>en-US</dc:language>
  <cp:lastModifiedBy>michael.matlock</cp:lastModifiedBy>
  <dcterms:modified xsi:type="dcterms:W3CDTF">2008-04-07T15:23:33Z</dcterms:modified>
  <cp:revision>27</cp:revision>
  <dc:subject/>
  <dc:title>Slide 1</dc:title>
</cp:coreProperties>
</file>