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86BB-0CF2-429D-987A-6A11CA72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3622-9B54-4745-971C-D7B1F34A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4F39-0C90-4CF7-BDC5-98300691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398E-22FC-43E9-B5A7-7CADCEFC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AC1E-BF51-4756-8AE8-26C37582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A965-19D7-4694-A1FE-72314A6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9D44-D164-4F99-ACE5-725ABC8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7B0D-F915-43E5-8210-997342DE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6B2C-77FC-4561-B79D-AD56D479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4C62-907E-4627-8327-BC63F21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74E8-D8D6-4C05-A1C5-CBF779AD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390B-1CC7-45E1-9094-C8D9F34B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28A-2A46-4215-9879-C5F6A896A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15200" y="66290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3000" y="6419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B81E-08E8-45DA-B2FD-2BEB2166203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F3CB-1464-4E63-9224-14325751A3C3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390680" cy="53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 Participant Identity Management (MPI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ristian Brenn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T Commercial Operations Manag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RCOT 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AAF79C-22D8-4A1C-A004-2613E3DF38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 Information (PR60013/MPI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 of the MPIM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 of the MPIM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9D91-39D9-4704-ACE2-8505CFBA11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0/8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60013 Background Inform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gn Digital Certificates secure the majority of sensitive information available through ERCOT internet applications (PRR60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gital Certificate process includes; create, renew, revoke, and aud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60013 created to automate the creation, revocation, audit, and delivery of Digital Certific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741 (Enhanced Digital Certificate) modified for PR60013 (approved by PRS on 11/15/200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418E-4431-47ED-9FA3-B5DD2CF885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4ACEDA-35F0-417B-9DD9-E247B85A74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PIM Background Inform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project team analysis indicated that the VeriSign Digital Certificate Delivery system (aka Access Control System) was not scalable to meet the needs of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project chartered to architect, design and build a new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project delivered a prototype Dec 7, 2007 to Nodal Sandbo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085 modified for MPIM implementation (approved by PRS on 11/26/200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requirement to reduce market impact triggered merge of MPIM/PR 60013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ingle access control system for both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Market face of the system only once (Training, documentation, transition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released to production Mar 31, 200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F710-1658-4D79-9940-50088869E8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C10343-4CBD-4747-B24B-1D7198177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 of MPIM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ze Sun Identity Manager 7.1 to build an Identity Management application that manages access to the market systems (Zonal and Noda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Market Participant User Security Administrators (USA) to create/modify/terminate user accoun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User Security Administrators to assign/unassign roles which grant specific access to nodal applic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User Security Administrators to request/revoke digital certificates for their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 the audit process for Market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users will be able to retrieve certificates within 5 – 10 minutes from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CE77-4654-4232-9017-592370CA7C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29637C-1628-4D17-9BFC-1D4C0E6E0E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vantages of the MPIM Sys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066680"/>
          <a:ext cx="8305920" cy="4395960"/>
        </p:xfrm>
        <a:graphic>
          <a:graphicData uri="http://schemas.openxmlformats.org/drawingml/2006/table">
            <a:tbl>
              <a:tblPr/>
              <a:tblGrid>
                <a:gridCol w="5619600"/>
                <a:gridCol w="1338480"/>
                <a:gridCol w="1347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Participant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d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oke Certific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use User ID on revoked certific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iminate the need to FedEx MP USA certific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load MP USA Certific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 USA creates user certificates without LRAA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 USA has reporting 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ct Help Desk for Digital Certificate issue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roductivity by streamlining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User ID’s are created, action on multiple User IDs is possible (Create Certificates, Revoke Certificates, and Terminate Us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ort Nodal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ubl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06E6-95C0-41D8-9A64-E9DF6EBBFB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E252A-8A34-4831-B61E-E8B54152C7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600200"/>
            <a:ext cx="65534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ubl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BDA7-44BF-4115-857A-A9EE3FDE38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A0714E-8EB9-497D-878D-C125561B15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Christian Brennan</cp:lastModifiedBy>
  <dcterms:modified xsi:type="dcterms:W3CDTF">2008-04-09T14:37:27Z</dcterms:modified>
  <cp:revision>38</cp:revision>
  <dc:subject/>
  <dc:title>ERCOT Template</dc:title>
</cp:coreProperties>
</file>