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662-4011-4428-9B5D-9AEAB2E9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94B-67B3-4E84-ACE7-2F574F00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FF9-8D50-4373-99A5-1EF73492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325-9A8C-49AF-903B-D85625C0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2D6-F9B4-47AB-926D-3B9A5177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621-E8AA-4A8B-9B73-71372966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8F5-03FC-4F93-8A66-3E0F5E70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6E2-CFBD-4045-8E5F-F8E38FDB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602-89F5-477F-8D26-EC11CA0B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5AC-9DD2-4719-BAD7-1A383E01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7CE-CB07-4733-B19C-00E00FDA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32C-01E3-4710-AE47-4389748F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1F5B-7D8B-4635-91A3-430E4C405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995-7A3E-4E46-B9FA-71ACC6FE1C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676520"/>
          <a:ext cx="8229600" cy="4573440"/>
        </p:xfrm>
        <a:graphic>
          <a:graphicData uri="http://schemas.openxmlformats.org/drawingml/2006/table">
            <a:tbl>
              <a:tblPr/>
              <a:tblGrid>
                <a:gridCol w="2178000"/>
                <a:gridCol w="6051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 has inadvertently gained or lost (or is pending the gain/loss) an LSE Relationship to another CR in err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requesting cancellation of an initiating transaction in instances submitting an 814_08 would result in a rej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o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requesting cancellation of an initiating transaction for market defined reasons that do not require approval from the C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ng Trans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is missing any expected 814, 867_04 or 867_03 Fi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point-to-point transactions excluding the 867 Contingency Pl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rejected transactions or reject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ERCOT LSE or TDSP LSE relationship histo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issues pertaining to internal/market projects, system trouble, or related problems as defined by the submit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bel/Chg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questioning a discrepancy pertaining to Siebel service order status changes and Start/Stop time issues when transactions are present in ERCOT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verification of a 997 sent/receiv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Day to Day issues that do not fit one of the Sub Types indicated above such as: Siebel/997 reports, CSA’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56120" y="13716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5800" y="13716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3F2-7CA4-44F4-A0CD-40FC51E521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s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601120" cy="29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716-8664-4A4A-9B6F-CD4F53FE69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0880" y="1523880"/>
          <a:ext cx="8305920" cy="4738680"/>
        </p:xfrm>
        <a:graphic>
          <a:graphicData uri="http://schemas.openxmlformats.org/drawingml/2006/table">
            <a:tbl>
              <a:tblPr/>
              <a:tblGrid>
                <a:gridCol w="2176560"/>
                <a:gridCol w="612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ERCOT or returned to ERCOT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rovide necessary information to move the issue towards resolution including IAS data and assistance with market guidelin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CR2 – the non submitting CR involved in the issues resol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ting CR, CR2, and TDSP have simultaneous access to view, comment and ultimately vote on the resolution to the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issue has or will be resolved per the information agreed upon in the Vote state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IAS or cannot be resolved as submitted per market guidelines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176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52E-97E4-4F38-9C00-EEDC3D690B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574120" cy="23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806-4080-472D-BBF5-6BE5ED8943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544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523880"/>
          <a:ext cx="8077320" cy="4711680"/>
        </p:xfrm>
        <a:graphic>
          <a:graphicData uri="http://schemas.openxmlformats.org/drawingml/2006/table">
            <a:tbl>
              <a:tblPr/>
              <a:tblGrid>
                <a:gridCol w="2117880"/>
                <a:gridCol w="595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the TDSP or returned to TDSP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to provide ERCOT with agreement with cancel request or CR indication that request is already complete / unable to be comple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erform agreed upon cancels in the Registration System, request additional information or indicate that cancel cannot be performed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l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requested service order has or will be cancelled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ble to Cancel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Cancel w Approval issue or cannot be cancelled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68C-934E-4CED-B5BF-651FA576C1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 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2824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3BF-023F-4BC5-A68E-B70DA1957B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2133720"/>
          <a:ext cx="8305920" cy="3543120"/>
        </p:xfrm>
        <a:graphic>
          <a:graphicData uri="http://schemas.openxmlformats.org/drawingml/2006/table">
            <a:tbl>
              <a:tblPr/>
              <a:tblGrid>
                <a:gridCol w="3000600"/>
                <a:gridCol w="53053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In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In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ERCOT System not 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do not show an LSE relationship which is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initiation/enrollment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and 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initiation/enrollment and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79800" y="1752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4240" y="175248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784-62AA-445B-9A2B-5001357684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0765-B9DC-4E53-BA37-E3148F800E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38A-45B4-4A74-B112-145D923B0E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109760" cy="318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A3F-3D9C-4370-93A3-B10708E27F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66D-87DA-494E-894F-DCB9C0E9C7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8439120" cy="22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929-3C48-4217-85D8-A88926CE9A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97040" y="-150192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97040" y="-130500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740800" cy="409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053-A2F3-452B-A4C9-883365236C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68C-B128-46FF-97B3-AD80AA7558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- 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805356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CEB-2BCB-4EA7-9502-DF182316CC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host</cp:lastModifiedBy>
  <cp:lastPrinted>2002-09-24T18:27:58Z</cp:lastPrinted>
  <dcterms:modified xsi:type="dcterms:W3CDTF">2008-04-07T21:38:06Z</dcterms:modified>
  <cp:revision>743</cp:revision>
  <dc:subject/>
  <dc:title>PowerPoint Presentation</dc:title>
</cp:coreProperties>
</file>