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ED81-0B6D-42C0-BDF9-33FD2B22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4BCE-8D57-42D4-AA3D-BAE4FE0B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0175-CF35-4249-A2A7-6A30DD639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802A-E2F3-44E7-8886-EE4BC397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1FA13-DA61-4D26-BDC4-0C50D203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36674-9957-4E77-9577-6780BE46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2B8EF-C91E-400B-A9DE-90AA08B6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ED9D5-DA65-4B4C-B7F2-7BD40425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566C7-6818-41C1-A20E-F2FED3B6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E898F-722A-48CD-9C70-A91774A0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50D2C-118D-49C3-B40C-EB6613DA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2701-33B1-4FC0-A6FC-D78E4DBE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2E67C-9800-4300-A057-E7BA1BBD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4AB39-78D4-4EDA-83F5-4857FEA5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1F2F8-ED9A-4500-9197-908AC113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74790-FDD3-4C2C-98F5-DC7B01E1A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161D7-0ABF-417C-9BC3-64FDA414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9101-9CED-4AF1-BDB9-E1DDE764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DB6B-BDDA-4892-A0BA-54E1375E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BAF7-D380-4BC4-8A8B-8E8CC1DC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7BE5-8E55-4511-8222-ACCFCD75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47FB-3816-4AB7-AAC7-5062A275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8015-6A9F-48EC-A904-49E3FFBB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C30F-16F4-4055-B81A-4E6BABD4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C069-7190-4F3F-A2A7-A48E973B6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85B7-0176-481A-8EE8-847557E7E3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FA91-E170-4942-94C6-26F396146D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X SET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Update to RM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9,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C16F-2C11-4A46-9CEF-7CFE44FD78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ssues Under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075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SA-By Pass flag is being used by CRs when they do not have a CSA establish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nguage in the 814_24 Move-out guide stat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 owner of CSA could use the code to de-energize a premise (Only if the CSA REP is also the REP of Record at the time of the Move-Out effective date)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COT will conduct an impact analysis on setting up validation to limit the use of the CSA By-Pass code to the REP of Record (including REPs with multiple DUN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29AA-50BC-4425-A57A-14CE074555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istributed Generation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Wh Gen. for Excess Pow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X SET has started drafting an RMGRR in support of PRR756 and LPGRR030 with a focus 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ing the REF~JH~I for kWh Gen. on the 867_03 Monthly Usage and 867_02 Historical Usage transac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X SET will be waiting for an approved PUCT Rule, PRR and LPGRR before finalizing the RMGR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22C2-77A3-416D-AFF1-EF48A465BF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ther Work in Progr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Guide Examp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ransaction Examples and Prepare to Pull Examples Out of I.G.s at Next Rel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view/Clean-up of RMG Section 7 to ensure consistency with TX SET v3.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D7AC-FFB0-46A7-B094-1E0C0C6BB9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uture Activ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talog the changes in queue for a future rel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talog any additional anticipated chan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inue to monitor sources of potential TX SET chan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ced Metering Implem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Gene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ture Regulatory Ac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4C1C-52CE-420B-BFE2-F49A8DBA85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Upcoming Meeting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ch 27 – 28, ERCOT Met Ce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3 – 24, Houston at Direct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20 – 21, Downtown Austin at A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ne 17 – 18, Downtown Austin at Green Mountain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FBEB-DC4B-4045-9047-8C79E26F11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Questions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914400" y="6477120"/>
            <a:ext cx="7391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7:54:20Z</dcterms:created>
  <dc:creator>rbevill</dc:creator>
  <dc:description/>
  <dc:language>en-US</dc:language>
  <cp:lastModifiedBy>rob.bevill</cp:lastModifiedBy>
  <dcterms:modified xsi:type="dcterms:W3CDTF">2008-04-02T22:43:28Z</dcterms:modified>
  <cp:revision>17</cp:revision>
  <dc:subject/>
  <dc:title>TX SET  Update to RMS</dc:title>
</cp:coreProperties>
</file>