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CE8E-BE40-4B4F-898B-1708FF54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DA31-ACFD-48E6-862C-A95CC10C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64C7-1C06-430F-843C-5CBFCA74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2A7C-3DA3-40C9-89F9-5BD0B6E6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F060-F56F-485A-B769-E3676B5E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C920-0CB3-4D49-B754-3A32EA86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CA03-8FA0-4DEC-8F06-EF2C6388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ABA2-D3E0-4F2B-ABD9-BA5DE6F2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38B1-233F-41AC-BD29-09DD7726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0320-1E0F-4DC3-8509-CD3C0E9E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1EA2-BE8A-4C1C-B3AB-78DDC41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1EBA-1F7F-4F33-B719-2F3D28BC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B7CA-CACD-4625-A5F8-38CF2067E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4EBE-8EBE-4C27-BA73-C757C3E84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6A68-B011-4FE0-A7EF-D7BBF4BCE95F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390680" cy="533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MS Updat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S, TML and ERCOT.co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42667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am Martinez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Kate Hor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F6EF698-0E5E-444D-A5C2-70B09CE0AC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, TML and ERCOT.co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S Portal provides the framework for the single point of access for Market Participants, PUC, and ERCOT staff to market information and to ERCOT market-facing applic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 will eventually replace TML as the Market-facing portal to ERCOT systems an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L will run in parallel with MIS after nodal go-live and continue to provide access to retail applications, reports and applications unti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no longer settles the zonal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etail applications and information have been tested on 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at time, TML will be decommissio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 will provide access to all information, as required by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ed, secure an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will need a digital certificate to access 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ublic information required by protocols will also be accessible through ERCO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20D771-862A-4D0D-A634-DB6D7E8A28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000" y="766800"/>
            <a:ext cx="8658000" cy="532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fter Nodal Go-Liv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819520"/>
            <a:ext cx="822960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048120"/>
            <a:ext cx="78487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nformation on TML that will be obsolete after nodal go-live will be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etail information and applications will remain on TML until after zonal settlements i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settlements information will be accessible through 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settlements information will be accessible through 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L will contain a link to MIS; MIS will contain a link to 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A2A0C9-42F9-4C1D-8A8A-E222F9EDB9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– Landing Pa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68281"/>
          <a:stretch/>
        </p:blipFill>
        <p:spPr>
          <a:xfrm>
            <a:off x="1371600" y="1066680"/>
            <a:ext cx="6524640" cy="4800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7AD703-0451-4278-805A-46F7F98B93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– Repor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715080" cy="528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4CE475-29BC-4189-AD9E-AA485262FF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Applic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2678"/>
          <a:stretch/>
        </p:blipFill>
        <p:spPr>
          <a:xfrm>
            <a:off x="1447920" y="838080"/>
            <a:ext cx="6486480" cy="5105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AD95A6-DB5E-4AA3-9D0D-32FF0F80D1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– View by Protoco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610400" cy="370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38BAF3-7000-4B58-A67E-5DF9618E1C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amartinez</cp:lastModifiedBy>
  <dcterms:modified xsi:type="dcterms:W3CDTF">2008-04-03T20:56:04Z</dcterms:modified>
  <cp:revision>34</cp:revision>
  <dc:subject/>
  <dc:title>ERCOT Template</dc:title>
</cp:coreProperties>
</file>