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D709-0A4C-4F67-BF87-271F1F52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BFDF-8EF3-448D-933D-56839D9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8AA3-D61D-4272-B726-6000FC9B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5748-C9D9-46FA-AD39-5BB1975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90C3-3580-47AA-B2BB-CE0BE05A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0131-19BA-4E23-8E0A-FF0A8E01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CFCE-4D73-4478-9E9A-389475A2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2423-0030-4891-91E4-BF081AB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221B-CD3F-49A0-B952-C2FAD26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BD02-F3E6-4522-94F3-049EED5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4645-5E5E-4901-B390-C21E01A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4469-4D8C-4701-B396-456060E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A436-AB29-402F-B9D7-9D020247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9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208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was utilized for completing outstanding transactions as well as ad hoc testing for one existing CR testing bank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ew CRs, 2 Existing CRs added new territories, 1 Existing CR tested bank change, 2 Existing CRs changed to established Service Providers and 2 Existing CRs changed to non-established SP (In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6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5/14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5/20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6/13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6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7/29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scheduled for 08/06/08-08/19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4-03T13:56:22Z</dcterms:modified>
  <cp:revision>95</cp:revision>
  <dc:subject/>
  <dc:title>Instructions</dc:title>
</cp:coreProperties>
</file>