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191-3B03-4B78-9944-535ADB9A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042-1768-4F12-A471-11B42AC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BFF-0492-40D3-BE01-AA9E6611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E79-D63F-4D48-B39A-9319A541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880D-DBE1-4D76-A146-929B14EE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43A-5E6E-4035-8C69-057EFA57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273-17A2-45DD-91F0-71DD2D9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1A5-2959-4E9C-8141-13270A8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10E-8908-41FC-973C-EBBF13B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180-A05E-42EB-A529-DAFA6EF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77F-0FF8-4A96-A4C5-00C1C99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B92-E68E-46C3-BB44-6FB710D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36E-0336-4601-8CE5-738B7E6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030-B322-41BF-8B4F-9F0365E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E3D6-67A1-4E1D-82B2-97BB7CA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1CC-F590-4BA9-81AB-005C880D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8E74-C4FE-43BD-BD75-D4325CD2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71A-DAC7-4FDB-82A0-87E41724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642-625E-46E6-86A4-E88EB0B3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972-3C1C-46D9-8820-0DC7CDA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0BB-D030-4689-B95F-08A74A79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1E8-3E46-409D-A671-27D46B5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62E-18FE-45A5-9C1A-D30B658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E41-8AFC-48CB-A554-C852FC5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6EC-B9EB-4C46-BF22-23262ECF2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8C0-CEBF-4D10-936A-8F68475D7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pril 4, 200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Highlights of the COPS 3/11/08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and endorsed changes 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R7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RO Fee Assessment and Collection Guide”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ed to PRS for their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d to endorse the 2008 MO Project Priority List as submit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 expressed related to funding needs fo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usin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quirements of Nodal design, especially syst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now cannot be implemented in time for “go liv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ewed COPS request for a listing of what applications will not be available and projected delivery timetable after “Go L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nodal Sections in the Commercial Operations Market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ing Service Level Agreement – communication for Data Extrac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discussed recent issues with Data Extract delays and errors that occurred beginning in Februa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ssue root caus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maintenance on storage of data and data clean-u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rors in manual proces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issing data on DST trade da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permissions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continues to work to resolve these issues and achieve timely posting of extrac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ny key extracts have posted within the 48-hour timeline; however, certain key extracts (such as forecasted losses) are delayed beyond the time where they can be used for Day Ahead and/or day of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staff introduced a format for more detailed information and tracking of Extract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has adopted this format, similar to format utilized in Retail Systems repor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and DEWG will continue to address issues and track them in more detai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cus going forward will be to continue to improve on communication to Market Participants and on communicating issues to the appropriate Stakeholder committe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and SDAWG will continue to focus on fine-tuning the Extract requirements for the current market and apply the same principles to Extracts and Reports for the Nodal Marke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LPGRR filed March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“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rgency Requ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to Vote by e-mail on Urgency 3/31 (48h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128 IDR and non-IDR Photovoltaic (PV) and non-PV Load Profi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PGRR and PRR756 need Board approval prior to August to ensure 150 day notice required for 1/01/09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Urgent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approved April 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April 8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May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Ma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mal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F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June 10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June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July 15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balbracht</cp:lastModifiedBy>
  <dcterms:modified xsi:type="dcterms:W3CDTF">2008-04-03T20:53:37Z</dcterms:modified>
  <cp:revision>4</cp:revision>
  <dc:subject/>
  <dc:title>Slide 1</dc:title>
</cp:coreProperties>
</file>