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C7EF6F4-2363-4284-85E6-890F9B888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10280" y="6305400"/>
            <a:ext cx="2133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20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Quality Center Update</a:t>
            </a:r>
            <a:br>
              <a:rPr sz="3200"/>
            </a:b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Eileen Hall</a:t>
            </a:r>
            <a:br>
              <a:rPr sz="1600"/>
            </a:br>
            <a:r>
              <a:rPr b="1" lang="en-US" sz="1600" spc="-1" strike="noStrike">
                <a:solidFill>
                  <a:srgbClr val="808080"/>
                </a:solidFill>
                <a:latin typeface="Arial Black"/>
              </a:rPr>
              <a:t>Ken Kasparian</a:t>
            </a:r>
            <a:br>
              <a:rPr sz="1600"/>
            </a:b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March 4, 2008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ality center reports will demonstrate the following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results per project across nodal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ects per project by seve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ect tre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S defect 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Test Results per Project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71560" y="1576440"/>
            <a:ext cx="74008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FAT Active Defects by Severity by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791320"/>
            <a:ext cx="85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e - Does not include Closed and Defer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2286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001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400880" cy="4267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Active Defects by Severity Tre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547120" cy="44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2057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34290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57840" y="4495680"/>
            <a:ext cx="5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809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verage Days to Fix Defect by Vendor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548640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71560" y="1371600"/>
            <a:ext cx="7400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% Reopened Defects by Vendor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6705720" cy="3962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5345280"/>
            <a:ext cx="740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what percentage of fixes delivered by a vendor retested unsuccessful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DS Defect Summar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the majority of EDS defects originated from 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01028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06:41Z</dcterms:created>
  <dc:creator>acoln</dc:creator>
  <dc:description/>
  <dc:language>en-US</dc:language>
  <cp:lastModifiedBy>ehall2</cp:lastModifiedBy>
  <dcterms:modified xsi:type="dcterms:W3CDTF">2008-03-04T19:22:34Z</dcterms:modified>
  <cp:revision>442</cp:revision>
  <dc:subject/>
  <dc:title>Texas Nodal Nodal Risk Management Process, Manner, Communication ID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652FF286CB2F614AB3E154A65540FF2D0700A9C85CA3032C284AB9952FEBBA58370E000001C7621500008709731C744CC74792CB9098115638B0000000BF495B0000</vt:lpwstr>
  </property>
  <property fmtid="{D5CDD505-2E9C-101B-9397-08002B2CF9AE}" pid="3" name="_NewReviewCycle">
    <vt:lpwstr/>
  </property>
  <property fmtid="{D5CDD505-2E9C-101B-9397-08002B2CF9AE}" pid="4" name="_ReviewCycleID">
    <vt:r8>-1124673567</vt:r8>
  </property>
  <property fmtid="{D5CDD505-2E9C-101B-9397-08002B2CF9AE}" pid="5" name="_TentativeReviewCycleID">
    <vt:r8>-1124673567</vt:r8>
  </property>
</Properties>
</file>