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3A2E-77B1-4E8A-969E-7B84DA05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DB1B-F4A0-42F0-925A-5D55E665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09C2-D151-4BCE-A30D-C145837B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43C0-95C9-4665-85EF-EA2633B8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BE93-8DEF-4F83-B609-0B34937C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018C-3197-4548-BE3E-BD2E6C46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838-6BC2-47DB-9BDB-391FEF71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4FF-8599-452E-8108-1DCAD7B3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2241-FE93-4764-A8D1-4741103D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CF4F-4C3E-48C6-AB44-77A38D79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8FE8-6836-4414-9E32-E2B328D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43E3-080C-4030-BD2D-D7D5791C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9C7A-E554-4DE1-85FA-3E4B5D8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5048-4B62-4CB9-9E0A-3F6C6286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71C-210D-4E48-B4AB-FB3D94D7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34D8-F439-46E9-AD86-F20A5B1A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2D9-FC49-4405-9923-A82789B5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D55B-6504-4382-B576-1154CCA9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3F8A-99EA-427F-A084-F023B16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C84B-0836-4BEE-B07A-9097CDC6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2D2B-BDF0-4D44-9C7C-9F51160A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0FC6-57D6-4DB1-A1DF-82F8C22F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16EA-E5C4-4157-813E-F5AB6F3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FDC3-1B0F-4404-8505-265A5A5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63D-D7D6-4DC4-9F16-F373FDBAE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ED7A-F9E8-4DBE-B400-8E29C1423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il 4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vision Requests Recommended for Approv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R 758 – Clarification of Language Related to Generation Netting for ERCOT Polled Settlement Me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092 – Remove Voltage Schedules Requir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099 – RMR Incentive Factor Pay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00 – PCRR Release Mechan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01 – Modify Time Requirements for Entry of Equipment in the Outage Schedul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03 – Settlement of Power Imported via DC Ties and Block Load Transfers Under a Declared Emergency Cond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 Withdraw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S accepted PRR withdrawal requests for the followi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R 755 – Demand Response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PRRs for Approval (IAs on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Withdrawal Requ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8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Clarification of Language Related to Generation Netting for ERCOT Polled Settlement Meters --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752480"/>
          <a:ext cx="8076960" cy="409896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Lumina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Protocol Section 10.3.2.3, Generation Netting for ERCOT Polled Settlement Meters, relating to net metering for generation and Loads associated with Generation Resource Facilities (includes construction and maintenance loa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Protocol te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y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8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Clarification of Language Related to Generation Netting for ERCOT Polled Settlement Meters --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092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Remove Voltage Schedule Requirem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828800"/>
          <a:ext cx="8229600" cy="40863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ves requirement for ERCOT to post hourly voltage schedules on the MIS Secure A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 avoid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opposing vote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099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 – RMR Incentive Factor Pay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828800"/>
          <a:ext cx="8001000" cy="405756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ves language that would allow the Incentive Factor payment in Reliability Must Run (RMR) Agreements to be reduced if, in ERCOT’s determination, the reduction in capacity materially affects reliability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2 opposing votes and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0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PCRR Release Mechanis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828800"/>
          <a:ext cx="8229600" cy="47973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ves the Pre-Assigned Congestion Revenue Right (PCRR) release concept, replacing it with a process in which a fraction of the previously allocated or awarded CRRs are factored into the determination of available network capacity for a CRR auction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y lower operating costs by not having to manage “releases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wer development cost by not including the customizations that would have been required to implement the PCRR ‘release’ conce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01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Modify Time Requirements for Entry of Equipment in the Outage Schedule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reases the time window from one minute to 60 minutes for requiring entries of equipment outages in the Outage Schedu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gnificant reduction in workload for all Market Participants and ERC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opposing vote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03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Settlement of Power Imported Via DC Ties and Block Load Transfer Under a Declared Emergency Condi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5038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visions add Settlement formulas to pay a QSE for emergency energy imported over the DC Ties and for energy supplied to BLT Load moved from the ERCOT Control Area to a non-ERCOT Control Area during a declared Emergency Condition.  These payments may only be made for actions taken by the QSE in response to an ERCOT Dispatch Instruction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courage availability of an alternative source of energy during an Emergency Electric Curtailment Plan (EECP) and thus increase grid and system rel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s of emergency power would be uplif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8-04-03T14:36:59Z</dcterms:modified>
  <cp:revision>211</cp:revision>
  <dc:subject/>
  <dc:title>Protocol Revision Subcommittee</dc:title>
</cp:coreProperties>
</file>