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2DA5-422F-41D7-8BEE-04EB1BFE82D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7696-1936-4255-8B0B-7ADD9700D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905120"/>
            <a:ext cx="7315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58C6-1EDA-4BA3-A37B-F424620E97F1}" type="datetime">
              <a:rPr b="1" lang="en-US" sz="18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4"/>
          </p:nvPr>
        </p:nvSpPr>
        <p:spPr>
          <a:xfrm>
            <a:off x="6858000" y="617184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AD50-7658-4EE1-81CC-B7B90F48309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F236-3D7D-4E71-86CD-468094F6D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905120"/>
            <a:ext cx="7315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5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77CF-D003-4591-B8E2-E09DBCDF9116}" type="datetime">
              <a:rPr b="1" lang="en-US" sz="18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2226-298D-4204-B407-7EE4E29CD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61722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147B-2FC3-4EB4-8209-5A90EA3BB8E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NERC_CEP_Flowcharts.pdf" TargetMode="External"/><Relationship Id="rId3" Type="http://schemas.openxmlformats.org/officeDocument/2006/relationships/hyperlink" Target="http://www.ercot.com/mktrules/compliance/keydocs/Compliance_Processes_Flowcharts.pdf" TargetMode="External"/><Relationship Id="rId4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2008_Audit_Schedule_TexasRE.xls" TargetMode="External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9810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exas Regional Entity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733920"/>
            <a:ext cx="82296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296"/>
                </a:solidFill>
                <a:latin typeface="Arial Black"/>
              </a:rPr>
              <a:t>Larry Gri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296"/>
                </a:solidFill>
                <a:latin typeface="Arial Black"/>
              </a:rPr>
              <a:t>April 4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09588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SE PRR 525 10-Minute Interval Scoring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815328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ebruary 2008 – SCPS2 Scor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84872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February 2008 Resource Plan Performance Metrics</a:t>
            </a:r>
            <a:endParaRPr b="0" lang="en-US" sz="2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45820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istration Activiti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Registration issues continue to be addr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-Serving Entity (LSE) registration is to be addressed – on hold until FERC Order Directives related to LSE registration issues are fully addressed by N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made a LSE compliance Filing on March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has proposed a two-step process to address (short-term &amp; longer-term ste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registration of some entities remains lik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RC Functional Entity Typ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14400" y="1066680"/>
            <a:ext cx="358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 – Distribution 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– Generator Ow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P – Generator 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– Transmission Ow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 – Transmission Pl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 – Purchasing-Selling Ent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1066680"/>
            <a:ext cx="358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 – Reliability Coordin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 – Balancing Auth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– Transmission 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 – Planning Auth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P – Transmission Service 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P – Resource Pl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liance Process Flowchart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C Compliance Monitoring and Enforcement Program – Reliability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 to NERC Reliability Flow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ompliance Process – ERCOT Protocols and Operating Gu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nk to Protocols &amp; Guides Flow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008 Audits by Registered Function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008 Compliance Audits Scheduled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y Entity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38188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008 Audit Schedule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008 Texas RE Audit Schedule is availabl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liance Reviews of Events by Month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3059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formance Highlights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20840" y="1066680"/>
            <a:ext cx="6502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’s Control Performance Standard (NERC CPS1) score for February– 112.4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scores for February indicate all 34 non-wind-only QSEs passed the PRR 525 mea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wind-only QSEs or sub-QSEs have increased from 9 to 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olations of ERCOT Protocol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57200" y="118116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olations of NERC Standards Reported by Month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RC Standards Self-Certification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C Registered Entities not audited in 2007 required to self-certify to the actively monitored Reliability Standards applicable to their Registration(s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79 Total Registered Function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5 violations ident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FAC-008 – lack documented process (3 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FAC-009 – lack documented process (3 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IP-001 – lack documented process (1 G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IRO-004 – lack documented process (2 GOs; 1 G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C-005 – relay maintenance delinquent (1 TO; 2 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RC Standards Self-Certific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olation Statu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0010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NERC Standards Self-Certification Violation Details</a:t>
            </a:r>
            <a:endParaRPr b="0" lang="en-US" sz="2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503680" cy="20574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572000" y="3276720"/>
            <a:ext cx="4419720" cy="2590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52280" y="3276720"/>
            <a:ext cx="434340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RC Standards Self-Reported Violation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e-June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1532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isk Factors for Self-Reported NERC Standards Violations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re-June 1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1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15328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ERC Standards Self-Reported Violation Categorization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e-June 18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 Black"/>
              </a:rPr>
              <a:t>th</a:t>
            </a:r>
            <a:endParaRPr b="0" lang="en-US" sz="1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076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xas RE Monthly Summary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Febru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&amp; Operating Guides vio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w vio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C Standards vio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alleged from a Self-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abl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new event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2209680"/>
            <a:ext cx="639144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exas Regional Entity</a:t>
            </a:r>
            <a:endParaRPr b="0" lang="en-US" sz="40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143000" y="3733560"/>
            <a:ext cx="65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296"/>
                </a:solidFill>
                <a:latin typeface="Arial Black"/>
              </a:rPr>
              <a:t>Report Details</a:t>
            </a:r>
            <a:endParaRPr b="0" lang="en-US" sz="3600" spc="-1" strike="noStrike">
              <a:solidFill>
                <a:srgbClr val="0032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RC CPS1 Performance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’s CPS1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:  112.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:  126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h 2007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ebruary 2008:  125.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h 2006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ebruary 2007:  141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R 525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es for February indicate all 34 non-wind-only QSEs passed th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RCOT CPS1 Performance Comparison</a:t>
            </a:r>
            <a:endParaRPr b="0" lang="en-US" sz="3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7200" y="1079640"/>
            <a:ext cx="8229600" cy="469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RCOT CPS1 Year-to-Year Comparison</a:t>
            </a:r>
            <a:endParaRPr b="0" lang="en-US" sz="3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RCOT’s CPS1 Monthly Performance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80880" y="1076400"/>
            <a:ext cx="8458200" cy="47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RCOT CPS1 by Interval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80880" y="1098720"/>
            <a:ext cx="8458200" cy="466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LGrimm</cp:lastModifiedBy>
  <dcterms:modified xsi:type="dcterms:W3CDTF">2008-03-28T19:13:02Z</dcterms:modified>
  <cp:revision>242</cp:revision>
  <dc:subject/>
  <dc:title>Instructions</dc:title>
</cp:coreProperties>
</file>