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97188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0" y="883116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872A-4ED5-4002-ADC2-F1123F70D8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90D2-5144-49F0-85C4-5C0BDB025E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69CE-8955-472F-871D-88CA1D2A8E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1B3E-02D5-42FD-8911-632181C35F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571F-6F49-4539-824F-182C19B14A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A7CC-31EB-4085-8CFD-2FCD70A5D9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34DD-5391-4CA5-8BD5-EAFC32EE53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19E7-617A-442F-8BFB-49C3E18BD3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9931-87C3-4E4F-94AB-0A0203EE51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4F81-F169-467F-B76B-45886816AB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4A81-680C-4E65-8FF4-192ED10B25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BDB6-C1B7-4F1C-B188-C2651EB070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5273-2A4E-4683-87E8-926E092EAA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F353-736A-487A-B516-F7430A22A7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10BF-1F3A-44B2-BABB-297ABA5FB8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BF10-E709-41A8-BBA6-7088C2179F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CFD3-1E65-4058-8925-C1A089B53B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1EAA-5BF3-4310-9EE8-D381F1F8B3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6914-6E17-467A-9CD2-84FE4C2B2E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98F7-58A6-4FC8-8C96-D2355E3871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8853-03F2-4FF4-B3DD-F54856C92B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E1B9AB0-FD22-4B3C-8A24-8DA0AF283AD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635D721-4128-4425-A16F-5665A3F90DA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April 4, 2008</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55" name="Picture 5" descr="logo"/>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50EDD66-AF28-425B-93D4-5FD427737F6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20 (continued)</a:t>
            </a:r>
            <a:endParaRPr b="0" lang="en-US" sz="1800" spc="-1" strike="noStrike">
              <a:solidFill>
                <a:srgbClr val="000000"/>
              </a:solidFill>
              <a:latin typeface="Arial"/>
            </a:endParaRPr>
          </a:p>
        </p:txBody>
      </p:sp>
      <p:sp>
        <p:nvSpPr>
          <p:cNvPr id="89" name="Text Box 6"/>
          <p:cNvSpPr/>
          <p:nvPr/>
        </p:nvSpPr>
        <p:spPr>
          <a:xfrm>
            <a:off x="380880" y="770040"/>
            <a:ext cx="8077320" cy="1845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20,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13, Load Resource Type Indicator for AS Trades and Self-Arranged A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ion Paper “Ancillary Service Supply Responsibility Issue – MM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02 MMS Data Requirements for Publication of Resource and Load Information v0.1 </a:t>
            </a:r>
            <a:endParaRPr b="0" lang="en-US" sz="1600" spc="-1" strike="noStrike">
              <a:solidFill>
                <a:srgbClr val="000000"/>
              </a:solidFill>
              <a:latin typeface="Arial"/>
            </a:endParaRPr>
          </a:p>
        </p:txBody>
      </p:sp>
      <p:sp>
        <p:nvSpPr>
          <p:cNvPr id="9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899510F-2C78-4C29-AFE8-B5EA053E378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21</a:t>
            </a:r>
            <a:endParaRPr b="0" lang="en-US" sz="1800" spc="-1" strike="noStrike">
              <a:solidFill>
                <a:srgbClr val="000000"/>
              </a:solidFill>
              <a:latin typeface="Arial"/>
            </a:endParaRPr>
          </a:p>
        </p:txBody>
      </p:sp>
      <p:sp>
        <p:nvSpPr>
          <p:cNvPr id="93" name="Text Box 6"/>
          <p:cNvSpPr/>
          <p:nvPr/>
        </p:nvSpPr>
        <p:spPr>
          <a:xfrm>
            <a:off x="380880" y="770040"/>
            <a:ext cx="8077320" cy="4087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2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Shortfall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Shortfall Scenario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tions for equalizing revenue imbalances resulting from CRR shortfall scenario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13, Load Resource Type Indicator for AS Trades and Self-Arranged A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21, TPTF endorsed forwarding TPTF comments to PRS for NPRR113, Load Resource Type Indicator for Ancillary Service (AS) Trades and Self-Arranged AS, as discussed by TPTF on March 21, 2008. The motion carried by roll-call vote, with 100% in favor and one abstention (Exelon). The Consumer Market Segment was not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bined Cycle Unit (CCU)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roach to calculating clawback factors for CCU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to clawback factors in COMs whitepaper “Details on the Settlement of Combined-Cycle Plant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72FEE70-2CFA-4558-A919-7767815BFA1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21 (continued)</a:t>
            </a:r>
            <a:endParaRPr b="0" lang="en-US" sz="1800" spc="-1" strike="noStrike">
              <a:solidFill>
                <a:srgbClr val="000000"/>
              </a:solidFill>
              <a:latin typeface="Arial"/>
            </a:endParaRPr>
          </a:p>
        </p:txBody>
      </p:sp>
      <p:sp>
        <p:nvSpPr>
          <p:cNvPr id="97" name="Text Box 6"/>
          <p:cNvSpPr/>
          <p:nvPr/>
        </p:nvSpPr>
        <p:spPr>
          <a:xfrm>
            <a:off x="380880" y="770040"/>
            <a:ext cx="8077320" cy="5479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2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 104, Corrections and Clarifications for Real-Time Settlements and Ancillary Service Net Obligation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Simplify Ancillary Services Settlement Formula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 Subgroup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Disputes Management System CSD v0.02</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rch 21, TPTF approved the COMS Disputes Management System CSD v0.03 as submitted. The motion carried by roll-call vote, with 100% in favor and three abstentions (City of Eastland, City of Allen, and Reliant).  The Independent Generator Segment was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us of the COMS Projec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to Metric E5, Nodal Statement on Auditing Standards (SAS) 70 Readines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rch 21, TPTF endorsed ERCOT moving forward with the revisions to Metric E5, Nodal Statement on Auditing Standards (SAS) 70 Readiness, as modified by TPTF on March 21, 2008. The motion carried by roll-call vote, with 100% in favor and no abstentions.  The Independent Generator Segment was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BM Report on ERCOT and Market Participant Readiness</a:t>
            </a:r>
            <a:endParaRPr b="0" lang="en-US" sz="1600" spc="-1" strike="noStrike">
              <a:solidFill>
                <a:srgbClr val="000000"/>
              </a:solidFill>
              <a:latin typeface="Arial"/>
            </a:endParaRPr>
          </a:p>
        </p:txBody>
      </p:sp>
      <p:sp>
        <p:nvSpPr>
          <p:cNvPr id="9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CD6BF47-6F80-40BE-A80B-1872065CB4F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21 (continued)</a:t>
            </a:r>
            <a:endParaRPr b="0" lang="en-US" sz="1800" spc="-1" strike="noStrike">
              <a:solidFill>
                <a:srgbClr val="000000"/>
              </a:solidFill>
              <a:latin typeface="Arial"/>
            </a:endParaRPr>
          </a:p>
        </p:txBody>
      </p:sp>
      <p:sp>
        <p:nvSpPr>
          <p:cNvPr id="101" name="Text Box 6"/>
          <p:cNvSpPr/>
          <p:nvPr/>
        </p:nvSpPr>
        <p:spPr>
          <a:xfrm>
            <a:off x="380880" y="770040"/>
            <a:ext cx="8077320" cy="1715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2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Update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 Artifact Schedul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Readiness Scorecard</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P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P External Interfaces Specification</a:t>
            </a:r>
            <a:endParaRPr b="0" lang="en-US" sz="1600" spc="-1" strike="noStrike">
              <a:solidFill>
                <a:srgbClr val="000000"/>
              </a:solidFill>
              <a:latin typeface="Arial"/>
            </a:endParaRPr>
          </a:p>
        </p:txBody>
      </p:sp>
      <p:sp>
        <p:nvSpPr>
          <p:cNvPr id="10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F6C3648-217F-48A4-A4CF-A7140DBEEC7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05" name="Text Box 6"/>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March 31 through Wednesday April 2</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April 21 and Tuesday April 22</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May 5 through Wednesday May 7</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rsday May 22 and Friday May 23</a:t>
            </a:r>
            <a:endParaRPr b="0" lang="en-US" sz="1800" spc="-1" strike="noStrike">
              <a:solidFill>
                <a:srgbClr val="000000"/>
              </a:solidFill>
              <a:latin typeface="Arial"/>
            </a:endParaRPr>
          </a:p>
        </p:txBody>
      </p:sp>
      <p:sp>
        <p:nvSpPr>
          <p:cNvPr id="10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FDAD333-5D55-4F64-8381-0478605ABE7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10" name="Text Box 6"/>
          <p:cNvSpPr/>
          <p:nvPr/>
        </p:nvSpPr>
        <p:spPr>
          <a:xfrm>
            <a:off x="380880" y="765000"/>
            <a:ext cx="8610840" cy="5343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March 31 through April 2</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MM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nslating the zonal network model to nodal</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RCOT Business Processe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orecard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NPRR102, MMS Data Requirements for Publication of Resource and Load Information v0.1</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ifiable Cost Subgroup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comments for the draft NPRR</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comments for the Verifiable Cost Manual</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Rule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market comments for recently “nodalized” protocol section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09 - Section 18, Load Profiling</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10 - Section 20, Alternative Dispute Resolution Procedure</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05 - Section 23, Texas Test Plan Team – Retail Market Testing</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06 - Section 24, Retail Point-to-Point Communications</a:t>
            </a:r>
            <a:endParaRPr b="0" lang="en-US" sz="1600" spc="-1" strike="noStrike">
              <a:solidFill>
                <a:srgbClr val="000000"/>
              </a:solidFill>
              <a:latin typeface="Arial"/>
            </a:endParaRPr>
          </a:p>
        </p:txBody>
      </p:sp>
      <p:sp>
        <p:nvSpPr>
          <p:cNvPr id="111"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FE32F66-808F-4B74-B8F7-3808C90DD72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15" name="Text Box 6"/>
          <p:cNvSpPr/>
          <p:nvPr/>
        </p:nvSpPr>
        <p:spPr>
          <a:xfrm>
            <a:off x="380880" y="765000"/>
            <a:ext cx="8610840" cy="5550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March 31 through April 2</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Status Update</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 SLA Availability Metrics Summary</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NPRR for Resource Limit Calculator to revise LDL equation per SPR 1643</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the EDS 3 LFC Testing Market Participant Handbook v1.02</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rastructure capacity and disaster recovery</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alth check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r Interface Subgroup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Assuranc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ice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DR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status of staging table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est clarification to update frequency for AS Capacity Monitor data</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entify items that have duplicative posting requirements</a:t>
            </a:r>
            <a:endParaRPr b="0" lang="en-US" sz="1600" spc="-1" strike="noStrike">
              <a:solidFill>
                <a:srgbClr val="000000"/>
              </a:solidFill>
              <a:latin typeface="Arial"/>
            </a:endParaRPr>
          </a:p>
        </p:txBody>
      </p:sp>
      <p:sp>
        <p:nvSpPr>
          <p:cNvPr id="11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954A3ED-A1A1-4E90-81B0-E1B8E0FA736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20" name="Text Box 6"/>
          <p:cNvSpPr/>
          <p:nvPr/>
        </p:nvSpPr>
        <p:spPr>
          <a:xfrm>
            <a:off x="380880" y="765000"/>
            <a:ext cx="8610840" cy="3929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March 31 through April 2</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Future Subgroup to address Operations and Market Issues such a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bility to block offer off-line Non-Spin from Generation Resource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tential for reduced AS Offers into a SASM given the AS Offer re-submittal rules for un-struck DAM AS Offers linked to a 3-part offer</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R25.505 SWCAP issu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nd-Powered Generation Resource (WGR) Issue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3 Release 7 Status and vendor discussion</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process for PCRR and MCFRI allocation</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 Overview</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the processes and tools of the Day-Ahead Market</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8FDC9BD-0F4C-4031-B46E-9A3569ACA41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Rectangle 2"/>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a:t>
            </a:r>
            <a:endParaRPr b="0" lang="en-US" sz="1800" spc="-1" strike="noStrike">
              <a:solidFill>
                <a:srgbClr val="000000"/>
              </a:solidFill>
              <a:latin typeface="Arial"/>
            </a:endParaRPr>
          </a:p>
        </p:txBody>
      </p:sp>
      <p:sp>
        <p:nvSpPr>
          <p:cNvPr id="125"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Rectangle 5"/>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6"/>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7"/>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 Box 8"/>
          <p:cNvSpPr/>
          <p:nvPr/>
        </p:nvSpPr>
        <p:spPr>
          <a:xfrm>
            <a:off x="380880" y="914400"/>
            <a:ext cx="8458200" cy="329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3, TPTF endorsed moving forward with the revision to Metric CO1, Settle Market for Seven Days and Provide Appropriate Extracts, as submitted to TPTF on March 3, 2008. The motion carried by roll-call vote, with 100% in favor and one abstention (J. Aron and Co.). The Consumer Market Segment was not represented for the vote.</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21, TPTF endorsed ERCOT moving forward with the revisions to Metric E5, Nodal Statement on Auditing Standards (SAS) 70 Readiness, as modified by TPTF on March 21, 2008. The motion carried by roll-call vote, with 100% in favor and no abstentions.  The Independent Generator Segment was not represented for the vote.</a:t>
            </a: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est TAC approval for ERCOT to move forward with revisions to metric CO1, Settle Market for Seven Days and Provide Appropriate Extracts, as submitted to TPTF on March 3, 2008 and revisions to Metric E5, Nodal Statement on Auditing Standards (SAS) 70 Readiness, as modified by TPTF on March 21,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90AB5FD-0710-46AE-88C6-739A4E883F3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Milestones</a:t>
            </a:r>
            <a:endParaRPr b="0" lang="en-US" sz="1800" spc="-1" strike="noStrike">
              <a:solidFill>
                <a:srgbClr val="000000"/>
              </a:solidFill>
              <a:latin typeface="Arial"/>
            </a:endParaRPr>
          </a:p>
        </p:txBody>
      </p:sp>
      <p:sp>
        <p:nvSpPr>
          <p:cNvPr id="133"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Text Box 9"/>
          <p:cNvSpPr/>
          <p:nvPr/>
        </p:nvSpPr>
        <p:spPr>
          <a:xfrm>
            <a:off x="380880" y="781200"/>
            <a:ext cx="8458200" cy="4243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March 4, TPTF approved the EMS-MMS MOTE Requirements (B2) v0.12 as submitted. The motion carried by unanimous roll-call vote. The Independent Generator and Consumer Market Segments were not represented for the vote.</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21, TPTF approved the COMS Disputes Management System CSD v0.03 as submitted. The motion carried by roll-call vote, with 100% in favor and three abstentions (City of Eastland, City of Allen, and Reliant).  The Independent Generator Segment was not represented for the vote.</a:t>
            </a: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est TAC acknowledge TPTF completion of the following Milestones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S-MMS MOTE Requirements (B2) v0.12 comple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Disputes Management System CSD v0.03 comple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36DED73-6BA8-43C9-8691-B2D7E3448F9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762120"/>
          <a:ext cx="8763120" cy="4498920"/>
        </p:xfrm>
        <a:graphic>
          <a:graphicData uri="http://schemas.openxmlformats.org/drawingml/2006/table">
            <a:tbl>
              <a:tblPr/>
              <a:tblGrid>
                <a:gridCol w="2133720"/>
                <a:gridCol w="548640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37320">
                <a:tc>
                  <a:txBody>
                    <a:bodyPr lIns="90000" rIns="90000" tIns="46800" bIns="46800" anchor="ctr">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eeting Summary</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ctr">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Next Meetings</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coming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14236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pproval of Readiness Metric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pproval for ERCOT to move forward with changes to:</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ric CO1, Settle Market for Seven Days and Provide Appropriate Extracts, as submitted to TPTF on March 3, 2008.</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ric E5, Nodal Statement on Auditing Standards (SAS) 70 Readiness, as submitted to TPTF on March 21, 2008.</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Vote</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41228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pproval of Milestone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cknowledge TPTF completion of the following Milestone–</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S-MMS MOTE Requirements (B2) v0.12 complete</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Disputes Management System CSD v0.03 complete</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Vote</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007DC51-3A94-4524-997E-F85372E56B7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42"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90BAB8F-9E57-4F84-86E0-27748735F53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3</a:t>
            </a:r>
            <a:endParaRPr b="0" lang="en-US" sz="1800" spc="-1" strike="noStrike">
              <a:solidFill>
                <a:srgbClr val="000000"/>
              </a:solidFill>
              <a:latin typeface="Arial"/>
            </a:endParaRPr>
          </a:p>
        </p:txBody>
      </p:sp>
      <p:sp>
        <p:nvSpPr>
          <p:cNvPr id="61" name="Text Box 6"/>
          <p:cNvSpPr/>
          <p:nvPr/>
        </p:nvSpPr>
        <p:spPr>
          <a:xfrm>
            <a:off x="380880" y="770040"/>
            <a:ext cx="8077320" cy="5353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Meetings March 3-5 and March 20-21. </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3,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Metric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3, TPTF endorsed moving forward with the revision to Metric CO1, Settle Market for Seven Days and Provide Appropriate Extracts, as submitted to TPTF on March 3, 2008. The motion carried by roll-call vote, with 100% in favor and one abstention (J. Aron and Co.). The Consumer Market Segment was not represented for the vote.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ss for Managing Protocol Conten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04 - Corrections and Clarifications for Real Time Settlements and Ancillary Service Net Obligation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 Subgroup Issu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3, TPTF approved the TPTF changes to the DAM Subgroup comments to the MMS DAM and SASM Requirements (B2) v2.0, as modified on March 3, 2008, and to assign a preliminary status to these changes of “needed for go-live functionality.”  TPTF requests ERCOT to provide an impact analysis on the project schedule and cost to make these changes to the DAM and report back to TPTF no later than May 15, 2008. The motion carried by unanimous roll-call vote. The Independent Generator and Consumer Market Segments were not represented for the vote.</a:t>
            </a:r>
            <a:endParaRPr b="0" lang="en-US" sz="1600" spc="-1" strike="noStrike">
              <a:solidFill>
                <a:srgbClr val="000000"/>
              </a:solidFill>
              <a:latin typeface="Arial"/>
            </a:endParaRPr>
          </a:p>
        </p:txBody>
      </p:sp>
      <p:sp>
        <p:nvSpPr>
          <p:cNvPr id="6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CD0637D-0F5A-4A14-866E-1F3DA8BA2DA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4</a:t>
            </a:r>
            <a:endParaRPr b="0" lang="en-US" sz="1800" spc="-1" strike="noStrike">
              <a:solidFill>
                <a:srgbClr val="000000"/>
              </a:solidFill>
              <a:latin typeface="Arial"/>
            </a:endParaRPr>
          </a:p>
        </p:txBody>
      </p:sp>
      <p:sp>
        <p:nvSpPr>
          <p:cNvPr id="65" name="Text Box 6"/>
          <p:cNvSpPr/>
          <p:nvPr/>
        </p:nvSpPr>
        <p:spPr>
          <a:xfrm>
            <a:off x="380880" y="770040"/>
            <a:ext cx="8077320" cy="5034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4,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us of State Estimator</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Operation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sses for Voltage Studie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age Scheduler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Dual-Entry OS Issue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us of EMS CIM Importer</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97, Changes to Section 8 to Incorporate Role of TRE, the IMM, and the Concept of Market Complianc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07, Nodal Emergency Interruptible Load Servic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 on Market Participant CRR Testing</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WMS-approved proposal for CRR naming convention</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 on RARF obligations for QSEs</a:t>
            </a:r>
            <a:endParaRPr b="0" lang="en-US" sz="1600" spc="-1" strike="noStrike">
              <a:solidFill>
                <a:srgbClr val="000000"/>
              </a:solidFill>
              <a:latin typeface="Arial"/>
            </a:endParaRPr>
          </a:p>
        </p:txBody>
      </p:sp>
      <p:sp>
        <p:nvSpPr>
          <p:cNvPr id="6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27550CD-9EBF-4B8A-86E7-8252A288351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4 (continued)</a:t>
            </a:r>
            <a:endParaRPr b="0" lang="en-US" sz="1800" spc="-1" strike="noStrike">
              <a:solidFill>
                <a:srgbClr val="000000"/>
              </a:solidFill>
              <a:latin typeface="Arial"/>
            </a:endParaRPr>
          </a:p>
        </p:txBody>
      </p:sp>
      <p:sp>
        <p:nvSpPr>
          <p:cNvPr id="69" name="Text Box 6"/>
          <p:cNvSpPr/>
          <p:nvPr/>
        </p:nvSpPr>
        <p:spPr>
          <a:xfrm>
            <a:off x="380880" y="770040"/>
            <a:ext cx="8077320" cy="1486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4,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S/MMS Market Operations Testing Environment Requirement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4, TPTF approved the EMS-MMS MOTE Requirements (B2) v0.12 as submitted. The motion carried by unanimous roll-call vote. The Independent Generator and Consumer Market Segments were not represented for the vote.</a:t>
            </a:r>
            <a:endParaRPr b="0" lang="en-US" sz="1600" spc="-1" strike="noStrike">
              <a:solidFill>
                <a:srgbClr val="000000"/>
              </a:solidFill>
              <a:latin typeface="Arial"/>
            </a:endParaRPr>
          </a:p>
        </p:txBody>
      </p:sp>
      <p:sp>
        <p:nvSpPr>
          <p:cNvPr id="7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0E101B8-BEE9-4B38-9B92-B9880A3C7B4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5</a:t>
            </a:r>
            <a:endParaRPr b="0" lang="en-US" sz="1800" spc="-1" strike="noStrike">
              <a:solidFill>
                <a:srgbClr val="000000"/>
              </a:solidFill>
              <a:latin typeface="Arial"/>
            </a:endParaRPr>
          </a:p>
        </p:txBody>
      </p:sp>
      <p:sp>
        <p:nvSpPr>
          <p:cNvPr id="73" name="Text Box 6"/>
          <p:cNvSpPr/>
          <p:nvPr/>
        </p:nvSpPr>
        <p:spPr>
          <a:xfrm>
            <a:off x="380880" y="770040"/>
            <a:ext cx="8077320" cy="4729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5,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Rule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izing of Zonal Protocol Sections 18, 20, 23, and 24:</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09 - Section 18, Load Profiling</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10 - Section 20, Alternative Dispute Resolution Procedure</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05 - Section 23, Texas Test Plan Team - Retail Market Testing</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06 - Section 24, Retail Point-to-Point Communicat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hedule for nodalizing Section 11, Data Acquisition and Data Aggregation Processes for Voltage Studie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DAM/RUC/SASM MP Handbook</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5, TPTF approved the EDS 4 Release 9 DAM/RUC/SASM Market Participant Handbook v1.03 as modified by TPTF March 5, 2008.  The motion carried by unanimous roll-call vote. The Consumer Market Segment was not represented for the vote.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ad Resource Flag for AS Trade Submission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Removal of Partial Assignment of CRR Shortfall to Real-Time</a:t>
            </a:r>
            <a:endParaRPr b="0" lang="en-US" sz="1600" spc="-1" strike="noStrike">
              <a:solidFill>
                <a:srgbClr val="000000"/>
              </a:solidFill>
              <a:latin typeface="Arial"/>
            </a:endParaRPr>
          </a:p>
        </p:txBody>
      </p:sp>
      <p:sp>
        <p:nvSpPr>
          <p:cNvPr id="74"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2716044-9970-41C2-A10F-09FF38F9D34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5 (continued)</a:t>
            </a:r>
            <a:endParaRPr b="0" lang="en-US" sz="1800" spc="-1" strike="noStrike">
              <a:solidFill>
                <a:srgbClr val="000000"/>
              </a:solidFill>
              <a:latin typeface="Arial"/>
            </a:endParaRPr>
          </a:p>
        </p:txBody>
      </p:sp>
      <p:sp>
        <p:nvSpPr>
          <p:cNvPr id="77" name="Text Box 6"/>
          <p:cNvSpPr/>
          <p:nvPr/>
        </p:nvSpPr>
        <p:spPr>
          <a:xfrm>
            <a:off x="380880" y="770040"/>
            <a:ext cx="8077320" cy="391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5,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97, Changes to Section 8 to Incorporate Role of TRE, the IMM, and the Concept of Market Complianc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5, TPTF endorsed forwarding TPTF recommended changes to PRS for NPRR097.  The motion carried by roll-call vote, with 100% in favor and three abstentions (Coral Power, Exelon, and BP Energy). The Independent Generator and Consumer Market Segments were not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 – Incorporating PUC Subst. R. 25.505(f)</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5, TPTF approved the TPTF changes to the Requirements documents: MMS Overall Processes; MMS DAM and SASM; and MMS SCED and Real-Time Processes as submitted on March 5, 2008. TPTF requests ERCOT to provide an impact analysis on the project schedule and cost to make these changes and report back to TPTF. The motion carried by roll-call vote, with 100% in favor and two abstentions (Coral Power and Exelon). The Independent Generator and Consumer Market Segments were not represented for the vote.</a:t>
            </a:r>
            <a:endParaRPr b="0" lang="en-US" sz="1600" spc="-1" strike="noStrike">
              <a:solidFill>
                <a:srgbClr val="000000"/>
              </a:solidFill>
              <a:latin typeface="Arial"/>
            </a:endParaRPr>
          </a:p>
        </p:txBody>
      </p:sp>
      <p:sp>
        <p:nvSpPr>
          <p:cNvPr id="7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05F6E4-20CD-4488-AED1-7283E059347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5 (continued)</a:t>
            </a:r>
            <a:endParaRPr b="0" lang="en-US" sz="1800" spc="-1" strike="noStrike">
              <a:solidFill>
                <a:srgbClr val="000000"/>
              </a:solidFill>
              <a:latin typeface="Arial"/>
            </a:endParaRPr>
          </a:p>
        </p:txBody>
      </p:sp>
      <p:sp>
        <p:nvSpPr>
          <p:cNvPr id="81" name="Text Box 6"/>
          <p:cNvSpPr/>
          <p:nvPr/>
        </p:nvSpPr>
        <p:spPr>
          <a:xfrm>
            <a:off x="380880" y="770040"/>
            <a:ext cx="8077320" cy="3781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5,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ion of Combined-Cycle White Paper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bined-Cycle Unit Modeling in the Nodal Design</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rch 5, TPTF approved the white paper IDA003: Combined-Cycle Unit Modeling in the Nodal Design v2.1 as submitted. The motion carried by roll-call vote, with 75% in favor and two abstentions (Exelon and BP Energy).  The Consumer Market Segment was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ails on the Settlement of Combined-Cycle Plant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rch 5, TPTF approved the proposed changes only in Section 12 of the COMS White Paper Details on the Settlement of Combined Cycle Plants v1.3.  The motion carried by roll-call vote, with 79.2% in favor and nine abstentions (CPS San Antonio, Stream Energy, StarTex Power, Strategic Energy, Accent Energy, Cirro Group, Green Mountain Energy, Integrys Energy, and BP Energy).  The Consumer Market Segment was not represented for the vote.   </a:t>
            </a:r>
            <a:endParaRPr b="0" lang="en-US" sz="1600" spc="-1" strike="noStrike">
              <a:solidFill>
                <a:srgbClr val="000000"/>
              </a:solidFill>
              <a:latin typeface="Arial"/>
            </a:endParaRPr>
          </a:p>
        </p:txBody>
      </p:sp>
      <p:sp>
        <p:nvSpPr>
          <p:cNvPr id="8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898785F-7AB6-467F-971E-59CC67ECC8F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rch 20</a:t>
            </a:r>
            <a:endParaRPr b="0" lang="en-US" sz="1800" spc="-1" strike="noStrike">
              <a:solidFill>
                <a:srgbClr val="000000"/>
              </a:solidFill>
              <a:latin typeface="Arial"/>
            </a:endParaRPr>
          </a:p>
        </p:txBody>
      </p:sp>
      <p:sp>
        <p:nvSpPr>
          <p:cNvPr id="85" name="Text Box 6"/>
          <p:cNvSpPr/>
          <p:nvPr/>
        </p:nvSpPr>
        <p:spPr>
          <a:xfrm>
            <a:off x="380880" y="770040"/>
            <a:ext cx="8077320" cy="5066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rch 20,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age Scheduler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tions for Outage Scheduler dual-entry issu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s to the EDS Outage Scheduler MP Handbook</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rch 20, TPTF approved the EDS Outage Scheduler Market Participant Handbook v0.05 as modified by TPTF on March 20, 2008. The motion carried by roll-call vote, with 70% in favor and 14 abstentions (LCRA, Austin Energy, City of Garland, CPS San Antonio, City of Dallas, Town of Flower Mound, Stream Energy, StarTex Power, Strategic Energy, Accent Energy, Cirro Group, Green Mountain Energy, Integrys Energy, and Coral Power).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11, Timelines for Response by ERCOT to Transmission Service Provider Request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Common Information Model (CIM)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FA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Deferral Item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p:txBody>
      </p:sp>
      <p:sp>
        <p:nvSpPr>
          <p:cNvPr id="8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8-03-26T19:06:49Z</dcterms:modified>
  <cp:revision>1110</cp:revision>
  <dc:subject/>
  <dc:title>TAC Update</dc:title>
</cp:coreProperties>
</file>