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73A-896E-4F2B-84B0-D7BBC1AA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EDD-6CB0-48C2-808B-0418213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7D1-22D2-4311-A493-0BDFBE66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712-8329-4F2D-B535-8F64D1F0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7B1F-E0E1-4BDE-AE50-E6A70638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0C0-4799-4C80-BF6E-94A9E90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C87C-833C-4986-A1EB-430879F8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9710-B5EA-4CB9-BB01-FBBD734B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8F7-DD70-457C-A098-4DE68AF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500-C1F8-4E26-BED4-DB0A34E5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8EB5-4A62-4D49-A1EF-B5DAD61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10F-DB78-49BD-8500-7F80D6BD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6EF-F4F4-4FBC-820A-4ACC9C3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972-DE56-4704-87D8-DEB6320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C3C2-FEA1-4518-A1C1-E35B8AC6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1DED-7F34-466F-AD01-3D3CE1F9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D115-E3BE-4CBE-9B4A-F8D75C15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70-8981-42CD-AE09-BED31655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E14-7988-47B0-8E84-6E2B5A77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546-1B28-4B38-AC2B-B1A397B1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D00-8AC2-4976-983F-B6190CA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D30-E24B-4BBD-81CB-3200B19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751-F598-46C7-9736-E377361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493-2DA5-4073-90FB-43919E7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ECD-872C-4613-AE9F-2834B606A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095F-809C-4D6D-994E-395091E2D2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4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March 12 RMS Meet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MS endorsement of 2008 PPL and 2009 PPL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ed NPRR’s  to Sections 23 and 24 as they related to Retail. Recommendations to retain TDSP as descriptor and specify ERCOT as test flight administr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dit Working Group Risk Appetite discussion and creation of interim RMS Task Force to develop proposal/recommend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of MarkeTrak service degradation issue. Tasked TDTWG to work with ERC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RMS April 9 Mee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trus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proposed action on PRR759 Move-In No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RR097 relating to passing transmission related fees to ESI 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SLA and receive follow up on MarkeTrak service degra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from Nodal MIS Projec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on status of Mandatory IDR Instal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Update from CWG deferred until following the April 25 meeting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133720" y="161280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AEP</cp:lastModifiedBy>
  <dcterms:modified xsi:type="dcterms:W3CDTF">2008-03-28T20:13:04Z</dcterms:modified>
  <cp:revision>30</cp:revision>
  <dc:subject/>
  <dc:title>RMS Update to TAC</dc:title>
</cp:coreProperties>
</file>