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378D-545B-4DD0-9A6B-B315622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41F-E933-4FDB-B941-CDB884A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B295-A089-469D-A776-0FC55207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759E-0E25-4501-BA5C-D675129C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C13A-13DA-4DDF-AA03-23DBD889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58C7-EB40-4A94-9E7E-FE52907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C8CC-B6C0-4F59-A7C2-C808563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2A04-21A7-456D-8EDB-A986B1E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CEB6-0BB2-4CCE-A4F9-4668943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5DA1-968F-45EB-95D1-59B091D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865-698A-4D07-B1F2-97D4D40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59AA-1ACD-4276-B143-8E31337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A2FC-3F31-4595-A372-1BC9CCD50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edit Work Group Update</a:t>
            </a: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pril 4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it Work Group met on Friday, March 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Ethics Training from ERCOT Leg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Credit Scoring Model used by 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an additional metric and changes to weightings that will be considered once YE data is available and results are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approach to address ‘Credit Risk Appetite’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next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upcoming Financial Statements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CRR weighting factors strawman for Nodal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G Chair and / or ERCOT staff met with RM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arch 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WM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arch 1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amiliarize them with the OW results generally and to determine how they would like to participate with the developing a Credit Risk Appetite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and RMS agreed to participate with CW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ntative timeline attached came out of those discussions and is set in Austin to ensure interested individuals can participate in th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Credit Risk Appetite stat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April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Credit Risk Appetite statement “strawm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riday, April 2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– CWG meeting at the Met Center (Rm 20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ssumptions used in OW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on CRA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pril 3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revised CRA statement dra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Ma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mments due on CRA statement draft and assumptions used in OW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May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com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uesday, May 1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or Thursday, May 1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–CWG meeting in Austin (Met Center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comments 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 on CRA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May 1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Monday, May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revised CRA statement dra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Credit Risk Appetite statement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May 21st – Final comments due on CRA statement dra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May 2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ERCOT staff distribute final com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May 2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emorial Day holi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dnesday, May 28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or Friday, May 30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– CWG meeting in Austin (Met Center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any final changes from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e on proposed CRA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dnesday, June 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special meeting?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or Thursday, June 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– present proposed CRA statement at TA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June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nclude in mail out to F&amp;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uesday, June 1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– F&amp;A to review draft CRA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yager_</cp:lastModifiedBy>
  <dcterms:modified xsi:type="dcterms:W3CDTF">2008-04-03T12:49:48Z</dcterms:modified>
  <cp:revision>29</cp:revision>
  <dc:subject/>
  <dc:title>Instructions</dc:title>
</cp:coreProperties>
</file>