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48D-5128-41AD-9AEB-96D7B626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2E7-20BE-48CB-963A-8C2CD9D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DED-1B4E-4C13-A9A2-5DF19059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A19-D698-40AA-9D7C-E0C8519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C3A-5B6D-403E-9E56-C098BB2B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5384-2B50-4F40-A618-A6C5270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3AFE-AE73-4F16-AA39-07D4130E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71DD-7EFB-4F65-B2B3-4B3830B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74C2-D87C-46E2-AF84-726FC767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0AC2-9C6D-41C3-BBB2-8F4B275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5B0-BD4C-4398-8922-E559C03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60C-8129-464C-ADC6-5682FC0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879-4CD0-42DA-A40E-0ABCE92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6095-6DAE-4943-AF2E-37EB624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861-BE17-4AA4-A8D2-682E29B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9EC-DEE6-432B-B774-A7D0783F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FE1F-A328-4408-99DA-02CE01E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B1F-2368-4C48-89ED-3B60402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7D0-2EC3-43DD-94E4-DD215F73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AB5-1B95-4B59-9A3B-A1DEF875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1A3-FB57-433E-A2E2-E6B1781A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C85-B0E9-4E15-A159-E4F8AC4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EBA-DBA3-4151-B609-DFB48DC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2FA-45B7-46BD-9B2D-CD4FA37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77DA-BECB-417B-9713-400C5D0B4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450-904B-42F8-B7BB-D33FCD5A2C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pril 4, 200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Highlights of the COPS 3/11/08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and endorsed changes 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R7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RO Fee Assessment and Collection Guide”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ed to PRS for their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d to endorse the 2008 MO Project Priority List as submit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 expressed related to funding needs fo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usin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quirements of Nodal design, especially syst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now cannot be implemented in time for “go liv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ewed COPS request for a listing of what applications will not be available and projected delivery timetable after “Go L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nodal Sections in the Commercial Operations Market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ing Service Level Agreement – communication for Data Extrac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discussed recent issues with Data Extract delays and errors that occurred beginning in Februa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ssue root caus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maintenance on storage of data and data clean-u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rors in manual proces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issing data on DST trade da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base permissions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RCOT continues to work to resolve these issues and achieve timely posting of extrac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ny key extracts have posted within the 48-hour timeline; however, certain key extracts (such as forecasted losses) are delayed beyond the time where they can be used for Day Ahead and/or day of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DAWG &amp; D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staff introduced a format for more detailed information and tracking of Extract Issu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has adopted this format, similar to format utilized in Retail Systems repor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RCOT and DEWG will continue to address issues and track them in more detai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cus going forward will be to continue to improve on communication to Market Participants and on communicating issues to the appropriate Stakeholder committe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WG and SDAWG will continue to focus on fine-tuning the Extract requirements for the current market and apply the same principles to Extracts and Reports for the Nodal Marke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LPGRR filed March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“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rgency Requ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to Vote by e-mail on Urgency 3/31 (48h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128 IDR and non-IDR Photovoltaic (PV) and non-PV Load Profi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PGRR and PRR756 need Board approval prior to August to ensure 150 day notice required for 1/01/09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Urgent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approved April 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April 8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May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Ma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istributed Renewable Generation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Time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mal Tim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Urgency Request/e-mail Vote F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S Review (with IA) and Vote June 10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Review and Consideration June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 Review and Consideration July 15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Notice of Implementation August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9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3-28T12:58:45Z</dcterms:modified>
  <cp:revision>4</cp:revision>
  <dc:subject/>
  <dc:title>Slide 1</dc:title>
</cp:coreProperties>
</file>