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E0D5-7AFB-4349-B1B9-A3A51D74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7DDC-DCE7-4A5E-99D5-A012DCDA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BCE0-60E4-4C49-AC2D-D8BCA44E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3542-19F7-4301-A48B-2ED35974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72AF-68CE-4985-A1A6-FFFACA9F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7C45-5E5B-4E45-B3EB-034B44BF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7DE8-20FB-4ADF-A566-565129F7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AB76-420B-4918-8EF6-E4BD0758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8C6CE-FD22-4AF9-B19B-47A2F5DF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08E4-ABDB-4C6B-BE16-3D871211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CD27-BD17-4025-9623-EC4AF8B2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6F86-D2ED-4245-8BD2-42A25F6A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18B9-3275-4409-98C8-10A5153E7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23A2-7E9F-45D8-A314-209FEA59F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28880" y="1904760"/>
            <a:ext cx="63770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09 Project Prioritiz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38240" y="3580920"/>
            <a:ext cx="57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4,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Budget History by Program Are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1523880"/>
          <a:ext cx="8153280" cy="3883320"/>
        </p:xfrm>
        <a:graphic>
          <a:graphicData uri="http://schemas.openxmlformats.org/drawingml/2006/table">
            <a:tbl>
              <a:tblPr/>
              <a:tblGrid>
                <a:gridCol w="1295280"/>
                <a:gridCol w="1917720"/>
                <a:gridCol w="1647720"/>
                <a:gridCol w="1646280"/>
                <a:gridCol w="16462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Budget 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8,4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,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,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 - Met Cen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12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3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6,4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5,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7,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,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,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,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6,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7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6,7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,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5,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5,3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21,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10,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7,6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39,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44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34,3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4503600" y="1536840"/>
            <a:ext cx="344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vious Year Budge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5638680"/>
            <a:ext cx="739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Portion of Nodal project funded by Zonal project budget as approved by the Board in 200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2F42-BDC4-4E21-85C3-B72AE11534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6019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5E850-B9AD-45DF-AE16-8BA3AA9ECD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 Project Financi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Project Priorit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DA12-BA7B-4985-BDDB-F03E135997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– 2007 Resul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7 CART Funding Status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** 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Unaudited– Updated 2/27/08 *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0880" y="1523880"/>
          <a:ext cx="8458200" cy="3851280"/>
        </p:xfrm>
        <a:graphic>
          <a:graphicData uri="http://schemas.openxmlformats.org/drawingml/2006/table">
            <a:tbl>
              <a:tblPr/>
              <a:tblGrid>
                <a:gridCol w="854280"/>
                <a:gridCol w="1550880"/>
                <a:gridCol w="1552680"/>
                <a:gridCol w="1628640"/>
                <a:gridCol w="150012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2007 Fu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2007 Fu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Act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,883,6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33,6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33,6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9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,190,9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85,4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86,6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98,7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0,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9,9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3,898,5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01,4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01,4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,776,0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23,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23,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455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455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435,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9,5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291,7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08,2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152280" y="5638680"/>
            <a:ext cx="876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spcBef>
                <a:spcPts val="349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xcess funding transfers that were not utilized have been returned to the originating C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CD5C-C73E-4DE5-8230-4474CC8D5D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 2009 Project Prioritization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Prioritization Schedule - 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revise 2009 Initiative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4 / February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3 / March 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pri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ril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ril 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1D11-6A9F-4025-8676-A4FAA374DB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 Project Approval Status by Program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5 lists have been reviewed and approved by ERCOT Strategic Review Team (SRT) and Executive Committee (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   (Corporate Operations) - Modified &amp; approved by ERCOT EC on 3/1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   (IT Operation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pproved by ERCOT EC on 3/1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   (Market Operations) - Modified and approved by COPS on 3/1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   (Retail Operations) - Approved by RMS on 3/1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(System Oper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by ROS on 3/13/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 didn’t formally approve the list – they think it is premature to estimate the post-Nodal effort and fear the recommended funding might not be suffic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 did not identify any efforts to be added to the 2009 li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 did not identify any projects on the list that are not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S did not suggest any modifications on 3/19/08 – they concur with the reservations noted by ROS that the funding level for post-Nodal Go-Live might not be suffic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reviewed all lists on 3/20/08 – they expressed the same reservations about post-Nodal Go-Live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5CDF-DEA2-4C39-81CE-5C4121309F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 Project Budgets and Counts by Program Are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600200"/>
          <a:ext cx="8077320" cy="3430440"/>
        </p:xfrm>
        <a:graphic>
          <a:graphicData uri="http://schemas.openxmlformats.org/drawingml/2006/table">
            <a:tbl>
              <a:tblPr/>
              <a:tblGrid>
                <a:gridCol w="2017800"/>
                <a:gridCol w="2225880"/>
                <a:gridCol w="2085840"/>
                <a:gridCol w="1747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Started in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2009 Pro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 – Met Ce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3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7,6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61EA-B848-40AE-99D2-704CBD897C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 Project Prioritization Notes by Program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23.95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, multi-year project to replace the Met Cen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$20.40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d by Board of Directors on 2/19/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projects limited to most critical nee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$ 3.55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8.35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ing up with computing infrastructure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4.30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funding request for post-Nodal Go-Live enhanc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3.50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funding request compared to previous years (but in line with prior year actual spend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ral projects in support of PUCT rulemak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7.50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funding request for post-Nodal Go-Live enhanc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funds for implementing functionality that will be developed by the Nodal team in 2008 but won’t be included in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5E1F-8EAF-4187-B68A-D9DAB821CF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 Project Prioritization – Nodal Stabil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has budge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6.5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Nodal stabilization i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ill fund O&amp;M efforts to resolve post-Go-Live Nodal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se funds are separate and distinct from project funding on the P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has been noted that market input will be needed to assist ERCOT in prioritizing Nodal stabilization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2009 ERCOT budget is not yet complete and appr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 of funds available for post-Go-Liv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al Stabilization O&amp;M Fun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  6.5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CART Project Fun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  7.5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CART Project Fun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$  4.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18.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, significant stabilization effort is expected to come from ERCOT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is committed to the proper operation of the Nodal system.  We will address concerns of the market as quickly as possible and work to resolve issues that are identif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360D-7A6F-45DC-9052-5379A68510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 Project Prioritization – Additional Com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tion complet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 document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$29.4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document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$18.2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possible, ERCOT is working to reduce the limited documentation amount by completing required documents prior to final Board and PUCT consid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mpact of the Met Center Disposition project on the System Admin Fee is not yet known because various financing options are being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reported previously, the project lists will be revisited later in 2008 to complete remaining documentation, consider new additions to the lists, and reprioritize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03D5-6A16-4866-8DDA-F415180AF4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8-03-28T17:26:22Z</dcterms:modified>
  <cp:revision>219</cp:revision>
  <dc:subject/>
  <dc:title>Instructions</dc:title>
</cp:coreProperties>
</file>