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55600" y="6445080"/>
            <a:ext cx="494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pril 4, 200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914400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453360"/>
            <a:ext cx="4191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AC Meeting –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374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95280" y="64008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776000" y="6475320"/>
            <a:ext cx="1372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440C3491-37C1-4AE9-BC71-578756A39C7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dtaylor@ercot.com" TargetMode="External"/><Relationship Id="rId2" Type="http://schemas.openxmlformats.org/officeDocument/2006/relationships/hyperlink" Target="mailto:dgoodman@ercot.com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286000" cy="91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0"/>
            <a:ext cx="8229600" cy="32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pdate on 2008 ERCOT Market Participant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ril 4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AC Meeting – ERCOT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320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and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90720"/>
            <a:ext cx="883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2003, Opinion Dynamics was engaged to conduct a primary research effort to measure Market Participant perceptions of ERCOT’s performance with respect to meeting its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urvey of 2004 was used to establish a basel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equent 2006 survey was used to track against this baseline and to specific functions and issues of particular interest to ERCOT management and Market Particip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of 2008 survey will allow for continued tracking against the baseline established through the 2004 surv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245592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0" y="123840"/>
            <a:ext cx="77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ket Participant Survey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927520"/>
            <a:ext cx="861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1674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1286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7720" y="3353760"/>
            <a:ext cx="548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ask 1:  Convene a project kickoff meeting with key ERCOT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85800"/>
            <a:ext cx="889632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anuary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t with ERCOT CEO to discuss survey objectives, deliverables, and proposed time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bru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ducted in-depth interviews with key ERCOT stakeholders &amp; department heads to review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evant sections of survey instrument &amp; identify necessary revisio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efed Chairman, HR and Governance Committ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RCOT staff presentations sent to TAC, PRS, COPS, RMS, WMS, and 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r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inion Dynamics completed necessary revisions to existing modular survey instrument &amp; delivere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ft to key ERCOT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efed HR and Governance Committ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inion Dynamics notified potential respon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pril/M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inions Dynamics has begun fielding the survey to identified market participants &amp; stakeholders via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une/Ju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inion Dynamics will analyze all quantitative data obtained &amp; provide report with key finding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amp; trend analysis to ERCOT Board of Directors comparing results to the 2004 &amp; 2006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inion Dynamics will provide final survey results to ERCOT on or about July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3320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 More Information,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600200"/>
            <a:ext cx="86108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ise E. Taylor, Sr. Business Project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Operations Divisional Project Organ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12) 248-3932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dtaylor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le Goodman, Director, Mark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12) 248-3966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dgoodman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04920" y="228600"/>
            <a:ext cx="3538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dgoodman</cp:lastModifiedBy>
  <dcterms:modified xsi:type="dcterms:W3CDTF">2008-03-28T14:57:49Z</dcterms:modified>
  <cp:revision>824</cp:revision>
  <dc:subject/>
  <dc:title>Role of Account Management at ERCOT</dc:title>
</cp:coreProperties>
</file>