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0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5B90C-C637-431C-8D9F-C481AF98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46FBC-2C4D-4BAC-A885-31E6036B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1977A-C2A6-4ECD-BD75-030BB280B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2BF0C-FCDC-438A-A34F-4FB6786FB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EC8F0-BBCD-43D6-B363-036FF9FE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20EA6E-BE0C-4080-8A2B-B0CC20876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3C896E-B7AA-4BF2-8294-CDD0C3D5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CC7C71-9C29-4A9B-B98E-4DAC2CB6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919B07-3907-4956-AF7A-6D48CD3C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B9ADC0-E489-4210-818D-E605C532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96573-E28B-42B9-A80F-D364A7B9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3B1940-F167-4B68-B2E5-A747D55A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8242E6-B6D7-4343-81F7-A823C576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A74AB6-9C24-4BCD-8D7D-BB40E44D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A6403F-2636-4662-B873-0AC9AF04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C9CADF-C859-43AB-84A9-E309092C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20A585-05B7-42F9-8DB9-378CB5911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26D57B-970A-4DB3-AF51-C1B05FCBE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53613-6981-441C-A3A4-F816F7FF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A0E4D-A6F0-4921-A654-1D123862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8068E-8EAB-4790-970C-C212AD46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1F92D-3A35-4BCE-A60B-155D8C5F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B361D-EE26-4F21-8BB8-EB8C7EF6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4C4DA-7006-495F-BCFF-9FFA56A0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F282-5677-4F1B-94D1-BD03C8C9A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il 4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87B6-5A9F-4DE6-98F5-4772124E4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pril 4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E06B-2E2B-4B01-A06D-A04662E88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24160" y="2247840"/>
            <a:ext cx="579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Texas Nodal Market Implementation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Data Center Data Migrat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22716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20760" indent="-320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65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5240" indent="-212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9220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9"/>
          </p:nvPr>
        </p:nvSpPr>
        <p:spPr>
          <a:xfrm>
            <a:off x="1153800" y="6431040"/>
            <a:ext cx="7837560" cy="426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marL="216000" indent="0">
              <a:buNone/>
              <a:tabLst>
                <a:tab algn="l" pos="0"/>
                <a:tab algn="ctr" pos="3241800"/>
                <a:tab algn="r" pos="7545240"/>
                <a:tab algn="l" pos="7672320"/>
                <a:tab algn="l" pos="8524800"/>
                <a:tab algn="l" pos="9377280"/>
                <a:tab algn="l" pos="102297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ctr" pos="3241800"/>
                <a:tab algn="r" pos="75452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ebruary, 2008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A2BFCA6E-0FEF-4A6E-9EB7-AFCBA8A117E1}" type="slidenum"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dal Up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"/>
          <p:cNvSpPr/>
          <p:nvPr/>
        </p:nvSpPr>
        <p:spPr>
          <a:xfrm>
            <a:off x="106848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tlp040f:9000/eds/metrics/1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itlp040f:9000/eds/metrics/2" TargetMode="External"/><Relationship Id="rId4" Type="http://schemas.openxmlformats.org/officeDocument/2006/relationships/image" Target="../media/image10.png"/><Relationship Id="rId5" Type="http://schemas.openxmlformats.org/officeDocument/2006/relationships/hyperlink" Target="http://itlp040f:9000/eds/metrics/4" TargetMode="External"/><Relationship Id="rId6" Type="http://schemas.openxmlformats.org/officeDocument/2006/relationships/image" Target="../media/image10.png"/><Relationship Id="rId7" Type="http://schemas.openxmlformats.org/officeDocument/2006/relationships/hyperlink" Target="http://itlp040f:9000/eds/metrics/3" TargetMode="External"/><Relationship Id="rId8" Type="http://schemas.openxmlformats.org/officeDocument/2006/relationships/image" Target="../media/image11.png"/><Relationship Id="rId9" Type="http://schemas.openxmlformats.org/officeDocument/2006/relationships/hyperlink" Target="http://itlp040f:9000/eds/metrics/2" TargetMode="External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nodal.ercot.com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xas Nodal Market Implementation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gram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erry Sulliva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Deferred Items: Categorization and Description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11040" y="10900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EDW reports arising from draft NPR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Operations Test Environment (MOTE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776160"/>
            <a:ext cx="647856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spAutoFit/>
          </a:bodyPr>
          <a:p>
            <a:pPr marL="146160" indent="-146160">
              <a:spcBef>
                <a:spcPts val="876"/>
              </a:spcBef>
              <a:tabLst>
                <a:tab algn="l" pos="0"/>
                <a:tab algn="l" pos="573120"/>
                <a:tab algn="l" pos="1146240"/>
                <a:tab algn="l" pos="1719360"/>
                <a:tab algn="l" pos="2292480"/>
                <a:tab algn="l" pos="2865600"/>
                <a:tab algn="l" pos="3438360"/>
                <a:tab algn="l" pos="4011480"/>
                <a:tab algn="l" pos="4584600"/>
                <a:tab algn="l" pos="5157720"/>
                <a:tab algn="l" pos="5730840"/>
                <a:tab algn="l" pos="6303960"/>
                <a:tab algn="l" pos="6877080"/>
                <a:tab algn="l" pos="7450200"/>
                <a:tab algn="l" pos="8023320"/>
                <a:tab algn="l" pos="8596440"/>
                <a:tab algn="l" pos="9169560"/>
                <a:tab algn="l" pos="9742320"/>
                <a:tab algn="l" pos="10315440"/>
                <a:tab algn="l" pos="10888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ems to be implemented before go–live, but after 168 hour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920" y="1851120"/>
            <a:ext cx="77166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spAutoFit/>
          </a:bodyPr>
          <a:p>
            <a:pPr marL="146160" indent="-146160">
              <a:spcBef>
                <a:spcPts val="876"/>
              </a:spcBef>
              <a:tabLst>
                <a:tab algn="l" pos="0"/>
                <a:tab algn="l" pos="573120"/>
                <a:tab algn="l" pos="1146240"/>
                <a:tab algn="l" pos="1719360"/>
                <a:tab algn="l" pos="2292480"/>
                <a:tab algn="l" pos="2865600"/>
                <a:tab algn="l" pos="3438360"/>
                <a:tab algn="l" pos="4011480"/>
                <a:tab algn="l" pos="4584600"/>
                <a:tab algn="l" pos="5157720"/>
                <a:tab algn="l" pos="5730840"/>
                <a:tab algn="l" pos="6303960"/>
                <a:tab algn="l" pos="6877080"/>
                <a:tab algn="l" pos="7450200"/>
                <a:tab algn="l" pos="8023320"/>
                <a:tab algn="l" pos="8596440"/>
                <a:tab algn="l" pos="9169560"/>
                <a:tab algn="l" pos="9742320"/>
                <a:tab algn="l" pos="10315440"/>
                <a:tab algn="l" pos="10888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ems to be developed by Nodal before go–live, ready for subsequent production rel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8800" y="3602160"/>
            <a:ext cx="84502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spAutoFit/>
          </a:bodyPr>
          <a:p>
            <a:pPr marL="146160" indent="-146160">
              <a:spcBef>
                <a:spcPts val="876"/>
              </a:spcBef>
              <a:tabLst>
                <a:tab algn="l" pos="0"/>
                <a:tab algn="l" pos="573120"/>
                <a:tab algn="l" pos="1146240"/>
                <a:tab algn="l" pos="1719360"/>
                <a:tab algn="l" pos="2292480"/>
                <a:tab algn="l" pos="2865600"/>
                <a:tab algn="l" pos="3438360"/>
                <a:tab algn="l" pos="4011480"/>
                <a:tab algn="l" pos="4584600"/>
                <a:tab algn="l" pos="5157720"/>
                <a:tab algn="l" pos="5730840"/>
                <a:tab algn="l" pos="6303960"/>
                <a:tab algn="l" pos="6877080"/>
                <a:tab algn="l" pos="7450200"/>
                <a:tab algn="l" pos="8023320"/>
                <a:tab algn="l" pos="8596440"/>
                <a:tab algn="l" pos="9169560"/>
                <a:tab algn="l" pos="9742320"/>
                <a:tab algn="l" pos="10315440"/>
                <a:tab algn="l" pos="10888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ems to be deferred to business as usual prioritization (Project Prioritization List (PPL) proce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4520" y="2208240"/>
            <a:ext cx="3984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S multiple network models (no capability to currently support separate network mode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ment &amp; Billing Information only calc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ally scheduled resources incremental and decremental energy offer cur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1800" y="3943440"/>
            <a:ext cx="3832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PI to CR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-enabled regi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MMS API upg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Participant Identity Management (MPIM) integration with Sie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acing alarm handling/presentation - control room/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acing UIs – Control room/E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ration of non-Nodal TML functionality to M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ration of content form nodal.ercot.com website to ERCOT.com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43480" y="2236680"/>
            <a:ext cx="376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or Training Simu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fiable cost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optimizing energy and AS for self-committed resources in the 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484520" y="3965400"/>
            <a:ext cx="38325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for Disputes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 &amp; ERCOT Market Operations support study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S A/S Deliverability Evaluation Function (DEF) enhan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S Weekly RUC enhan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S Save Case format enhan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C CCT data enhan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S credit check performance enhan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age scheduler enhan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32120" y="1706400"/>
            <a:ext cx="23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884320" y="3382920"/>
            <a:ext cx="233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7AA11-DB6A-4F41-99D5-D05C70D4320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chedule:  CIM Health Check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3" name=""/>
          <p:cNvSpPr/>
          <p:nvPr/>
        </p:nvSpPr>
        <p:spPr>
          <a:xfrm>
            <a:off x="120600" y="727200"/>
            <a:ext cx="86868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CIM health check was recently comple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523880" y="1450800"/>
            <a:ext cx="7496280" cy="152640"/>
            <a:chOff x="1523880" y="1450800"/>
            <a:chExt cx="7496280" cy="152640"/>
          </a:xfrm>
        </p:grpSpPr>
        <p:grpSp>
          <p:nvGrpSpPr>
            <p:cNvPr id="275" name=""/>
            <p:cNvGrpSpPr/>
            <p:nvPr/>
          </p:nvGrpSpPr>
          <p:grpSpPr>
            <a:xfrm>
              <a:off x="1523880" y="1450800"/>
              <a:ext cx="3125520" cy="152640"/>
              <a:chOff x="1523880" y="1450800"/>
              <a:chExt cx="3125520" cy="152640"/>
            </a:xfrm>
          </p:grpSpPr>
          <p:sp>
            <p:nvSpPr>
              <p:cNvPr id="276" name=""/>
              <p:cNvSpPr/>
              <p:nvPr/>
            </p:nvSpPr>
            <p:spPr>
              <a:xfrm>
                <a:off x="1523880" y="1450800"/>
                <a:ext cx="623160" cy="152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marL="233280" indent="-2332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Ja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147040" y="1450800"/>
                <a:ext cx="626040" cy="152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marL="233280" indent="-2332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e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773440" y="1450800"/>
                <a:ext cx="623160" cy="152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marL="233280" indent="-2332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M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396600" y="1450800"/>
                <a:ext cx="626760" cy="152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marL="233280" indent="-2332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p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023360" y="1450800"/>
                <a:ext cx="626040" cy="152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marL="233280" indent="-2332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Ma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4643280" y="1450800"/>
              <a:ext cx="3127320" cy="152640"/>
              <a:chOff x="4643280" y="1450800"/>
              <a:chExt cx="3127320" cy="152640"/>
            </a:xfrm>
          </p:grpSpPr>
          <p:sp>
            <p:nvSpPr>
              <p:cNvPr id="282" name=""/>
              <p:cNvSpPr/>
              <p:nvPr/>
            </p:nvSpPr>
            <p:spPr>
              <a:xfrm>
                <a:off x="4643280" y="1450800"/>
                <a:ext cx="623520" cy="152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marL="233280" indent="-2332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Ju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266800" y="1450800"/>
                <a:ext cx="626400" cy="152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marL="233280" indent="-2332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Ju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893560" y="1450800"/>
                <a:ext cx="623520" cy="152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marL="233280" indent="-2332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517080" y="1450800"/>
                <a:ext cx="627120" cy="152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marL="233280" indent="-2332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e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144200" y="1450800"/>
                <a:ext cx="626400" cy="152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marL="233280" indent="-2332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c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7770960" y="1450800"/>
              <a:ext cx="620640" cy="152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391600" y="1450800"/>
              <a:ext cx="628560" cy="152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152280" y="1603440"/>
            <a:ext cx="1371600" cy="246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52280" y="1603440"/>
            <a:ext cx="544680" cy="393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52280" y="1996920"/>
            <a:ext cx="544680" cy="495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52280" y="2475000"/>
            <a:ext cx="544680" cy="836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S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52280" y="3311640"/>
            <a:ext cx="544680" cy="761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S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93720" y="1996920"/>
            <a:ext cx="832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9040" y="2468520"/>
            <a:ext cx="833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98400" y="3306600"/>
            <a:ext cx="832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04880" y="4073400"/>
            <a:ext cx="831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697400" y="4145040"/>
            <a:ext cx="102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01880" y="2335320"/>
            <a:ext cx="1841400" cy="152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P Trials &amp; NM Ver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86160" y="2762280"/>
            <a:ext cx="3406680" cy="1490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CED &amp; LMP Posting for 6 mont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1746360"/>
            <a:ext cx="623880" cy="14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ICCP / P2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536840" y="2133720"/>
            <a:ext cx="1873080" cy="1299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E Tu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93720" y="1666800"/>
            <a:ext cx="6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1 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96960" y="2060640"/>
            <a:ext cx="6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2 R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96960" y="2263680"/>
            <a:ext cx="6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2 R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96960" y="2658960"/>
            <a:ext cx="6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3 R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96960" y="2879640"/>
            <a:ext cx="6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3 R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536840" y="2960640"/>
            <a:ext cx="3730320" cy="139680"/>
          </a:xfrm>
          <a:custGeom>
            <a:avLst/>
            <a:gdLst>
              <a:gd name="textAreaLeft" fmla="*/ 0 w 3730320"/>
              <a:gd name="textAreaRight" fmla="*/ 3730680 w 3730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LFC Tes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96960" y="3100320"/>
            <a:ext cx="6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3 R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536840" y="3154320"/>
            <a:ext cx="3730320" cy="154080"/>
          </a:xfrm>
          <a:custGeom>
            <a:avLst/>
            <a:gdLst>
              <a:gd name="textAreaLeft" fmla="*/ 0 w 3730320"/>
              <a:gd name="textAreaRight" fmla="*/ 3730680 w 373032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RR Tes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96960" y="3708360"/>
            <a:ext cx="6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4 R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773440" y="3559320"/>
            <a:ext cx="3743280" cy="152280"/>
          </a:xfrm>
          <a:custGeom>
            <a:avLst/>
            <a:gdLst>
              <a:gd name="textAreaLeft" fmla="*/ 0 w 3743280"/>
              <a:gd name="textAreaRight" fmla="*/ 3743640 w 3743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MM, DAM &amp; RT Settlements, Verifiable Costs &amp; Dispu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773360" y="3813120"/>
            <a:ext cx="4740120" cy="152280"/>
          </a:xfrm>
          <a:custGeom>
            <a:avLst/>
            <a:gdLst>
              <a:gd name="textAreaLeft" fmla="*/ 0 w 4740120"/>
              <a:gd name="textAreaRight" fmla="*/ 4740480 w 4740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M, SASM &amp; RUC execution, DAM Stability Test, EECP, DST, Compli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96960" y="3460680"/>
            <a:ext cx="6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4 R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08240" y="1514520"/>
            <a:ext cx="0" cy="276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510240" y="1500120"/>
            <a:ext cx="0" cy="2768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188960" y="4149720"/>
            <a:ext cx="145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-6480" y="4449600"/>
            <a:ext cx="1824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ealth Checks –  measure of schedule viabil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512040" y="5008680"/>
            <a:ext cx="2039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ctated by PRR 727: Market Readiness Certific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551640" y="4707000"/>
            <a:ext cx="62856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168 Hr 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73360" y="4707000"/>
            <a:ext cx="477828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DS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180200" y="4707000"/>
            <a:ext cx="127800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Go Live Sequ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645000" y="4705200"/>
            <a:ext cx="233280" cy="228600"/>
          </a:xfrm>
          <a:prstGeom prst="diamond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849920" y="4692600"/>
            <a:ext cx="233280" cy="228600"/>
          </a:xfrm>
          <a:prstGeom prst="diamond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494320" y="4702320"/>
            <a:ext cx="233280" cy="228600"/>
          </a:xfrm>
          <a:prstGeom prst="diamond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062840" y="4387680"/>
            <a:ext cx="233280" cy="228600"/>
          </a:xfrm>
          <a:prstGeom prst="diamond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418440" y="4362480"/>
            <a:ext cx="233280" cy="228600"/>
          </a:xfrm>
          <a:prstGeom prst="diamond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336480" y="4219560"/>
            <a:ext cx="83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644640" y="4343400"/>
            <a:ext cx="1310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996800" y="4327560"/>
            <a:ext cx="1052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e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964040" y="4417920"/>
            <a:ext cx="0" cy="21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706800" y="4162320"/>
            <a:ext cx="1912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o-Live (Go/No-Go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38640" y="4707000"/>
            <a:ext cx="233280" cy="228600"/>
          </a:xfrm>
          <a:prstGeom prst="diamond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5603760" y="454824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4354560" y="4591080"/>
            <a:ext cx="0" cy="8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776760" y="4443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95120" y="5664240"/>
            <a:ext cx="2832120" cy="20304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027240" y="5664240"/>
            <a:ext cx="2832120" cy="20304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859360" y="5664240"/>
            <a:ext cx="2832120" cy="20304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v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745240" y="5689440"/>
            <a:ext cx="228600" cy="177840"/>
          </a:xfrm>
          <a:prstGeom prst="star5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916760" y="5689440"/>
            <a:ext cx="228600" cy="177840"/>
          </a:xfrm>
          <a:prstGeom prst="star5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027240" y="5689440"/>
            <a:ext cx="228600" cy="177840"/>
          </a:xfrm>
          <a:prstGeom prst="star5">
            <a:avLst/>
          </a:prstGeom>
          <a:solidFill>
            <a:srgbClr val="33cc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81600" y="5689440"/>
            <a:ext cx="228600" cy="177840"/>
          </a:xfrm>
          <a:prstGeom prst="star5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194760" y="4935600"/>
            <a:ext cx="6356520" cy="72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458200" y="4935600"/>
            <a:ext cx="233280" cy="72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459800" y="5931000"/>
            <a:ext cx="169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C Meeting: 10/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422880" y="5313240"/>
            <a:ext cx="175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BoD: 10/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29400" y="5931000"/>
            <a:ext cx="209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rst Market Notice: 10/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923800" y="5931000"/>
            <a:ext cx="22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Market Notice: 11/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155600" y="6175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155600" y="6175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32200" y="6073920"/>
            <a:ext cx="18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914400" y="5351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129120" y="5918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854680" y="5931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767560" y="6103800"/>
            <a:ext cx="8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003640" y="5443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903920" y="5443560"/>
            <a:ext cx="8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429760" y="1746360"/>
            <a:ext cx="0" cy="2869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61640" y="5931000"/>
            <a:ext cx="161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8 Hr Test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08080" y="6070680"/>
            <a:ext cx="18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95120" y="5918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195120" y="5443560"/>
            <a:ext cx="0" cy="162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3159000" y="544356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95120" y="5443560"/>
            <a:ext cx="2934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05560" y="5219640"/>
            <a:ext cx="208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32 Days to complete 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031240" y="5918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931160" y="6078600"/>
            <a:ext cx="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52280" y="1255680"/>
            <a:ext cx="2304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66680" y="5122800"/>
            <a:ext cx="23004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4221000"/>
            <a:ext cx="2304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-57240" y="5122800"/>
            <a:ext cx="71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-79560" y="4213080"/>
            <a:ext cx="71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-85680" y="1238400"/>
            <a:ext cx="71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965920" y="4705200"/>
            <a:ext cx="233280" cy="228600"/>
          </a:xfrm>
          <a:prstGeom prst="diamond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524560" y="4043520"/>
            <a:ext cx="1089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usiness Process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068880" y="4443480"/>
            <a:ext cx="0" cy="2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EF207-2944-48EE-8446-BEF0343BF82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chedule: CIM Health Check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M Health check is currently on-going and will be reported to TPTF at end of Apri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of health check will be on the NMMS, EMS, and MMS syste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rther evaluation will be upon process to date, and data iss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st known risk is the EMS importer delivery date, and ERCOT has escalated to AREVA mgm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4495680" y="685800"/>
          <a:ext cx="5964480" cy="557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685800"/>
                    <a:ext cx="5964480" cy="55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"/>
          <p:cNvSpPr/>
          <p:nvPr/>
        </p:nvSpPr>
        <p:spPr>
          <a:xfrm>
            <a:off x="5322960" y="1309680"/>
            <a:ext cx="2281320" cy="3156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FF304-2DDC-4604-B07B-9799712864E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chedule: Single Point Entry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irst piece of the Go Live sequence, Implementation Single Entry Model, is planned for June 2,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Readiness Criteria and additional requirements that ties off to Single Model Entry Go Liv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Model tested successfully and delivered (Market Readiness Criter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 Market Trials completed (currently on-go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al Model conversion to Nodal and validation by 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business process and system readiness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will be working with TPTF, ERCOT staff, TAC, and BoD to obtain certification to comply with Section 21.12.3 of the ERCOT Protocols, for Single Model Entry Go Liv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necessary, due to the tight timelines, ERCOT may request an email vote from TAC for certification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A9136-AC58-4056-AAEF-F1388E3FF31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562040" y="2616120"/>
            <a:ext cx="6000840" cy="17463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o-Live Plan: Will encompass key activities/actions post the successful completion of the 168-Hr test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"/>
          <p:cNvSpPr/>
          <p:nvPr/>
        </p:nvSpPr>
        <p:spPr>
          <a:xfrm>
            <a:off x="439560" y="763560"/>
            <a:ext cx="8310600" cy="19047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ey Elements of the plan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35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COT and Market Participant engagement expec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35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ons and ongoing health checks during the go-live peri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35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sed Staging of production submission during cut-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35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ned regression test of Nodal LF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35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ftware environment controls (migration free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35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ingency planning and guidelines for switch control back to z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879560" y="4481640"/>
          <a:ext cx="4970520" cy="1589040"/>
        </p:xfrm>
        <a:graphic>
          <a:graphicData uri="http://schemas.openxmlformats.org/drawingml/2006/table">
            <a:tbl>
              <a:tblPr/>
              <a:tblGrid>
                <a:gridCol w="3191040"/>
                <a:gridCol w="17794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xt Ste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Completion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 ERCOT revi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 7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to TPTF for Vo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5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9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to TAC for Vo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5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to B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17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A5B25-66FA-4F65-9141-E5583CCCF3D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chedule: Metric status for each of the Early Delivery Systems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"/>
          <p:cNvSpPr/>
          <p:nvPr/>
        </p:nvSpPr>
        <p:spPr>
          <a:xfrm>
            <a:off x="-143640" y="4416480"/>
            <a:ext cx="410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xx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Number of metrics associated with a particular Rel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68360" y="4660920"/>
            <a:ext cx="64879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DS1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DS2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resulting from ongoing issues with State Estim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DS3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resulting from ACE testing.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return to Yellow if TPTF approves revised testing approa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DS4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ly unmeasured at this point, but inheriting Red status from recently moved Alarms Processing metric. Commercial Ops metrics being measured are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verall Readiness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 due to open issues on telemetry, modeling, and C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469880" y="1473120"/>
            <a:ext cx="7204320" cy="152640"/>
            <a:chOff x="1469880" y="1473120"/>
            <a:chExt cx="7204320" cy="152640"/>
          </a:xfrm>
        </p:grpSpPr>
        <p:grpSp>
          <p:nvGrpSpPr>
            <p:cNvPr id="393" name=""/>
            <p:cNvGrpSpPr/>
            <p:nvPr/>
          </p:nvGrpSpPr>
          <p:grpSpPr>
            <a:xfrm>
              <a:off x="1469880" y="1473120"/>
              <a:ext cx="3003840" cy="152640"/>
              <a:chOff x="1469880" y="1473120"/>
              <a:chExt cx="3003840" cy="152640"/>
            </a:xfrm>
          </p:grpSpPr>
          <p:sp>
            <p:nvSpPr>
              <p:cNvPr id="394" name=""/>
              <p:cNvSpPr/>
              <p:nvPr/>
            </p:nvSpPr>
            <p:spPr>
              <a:xfrm>
                <a:off x="1469880" y="1473120"/>
                <a:ext cx="598680" cy="152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marL="233280" indent="-2332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Ja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068560" y="1473120"/>
                <a:ext cx="601920" cy="152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marL="233280" indent="-2332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e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670480" y="1473120"/>
                <a:ext cx="598680" cy="152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marL="233280" indent="-2332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M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269520" y="1473120"/>
                <a:ext cx="602280" cy="152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marL="233280" indent="-2332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p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871800" y="1473120"/>
                <a:ext cx="601920" cy="152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marL="233280" indent="-2332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Ma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4467600" y="1473120"/>
              <a:ext cx="3005640" cy="152640"/>
              <a:chOff x="4467600" y="1473120"/>
              <a:chExt cx="3005640" cy="152640"/>
            </a:xfrm>
          </p:grpSpPr>
          <p:sp>
            <p:nvSpPr>
              <p:cNvPr id="400" name=""/>
              <p:cNvSpPr/>
              <p:nvPr/>
            </p:nvSpPr>
            <p:spPr>
              <a:xfrm>
                <a:off x="4467600" y="1473120"/>
                <a:ext cx="599040" cy="152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marL="233280" indent="-2332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Ju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066640" y="1473120"/>
                <a:ext cx="602280" cy="152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marL="233280" indent="-2332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Ju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668920" y="1473120"/>
                <a:ext cx="599040" cy="152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marL="233280" indent="-2332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268320" y="1473120"/>
                <a:ext cx="602640" cy="152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marL="233280" indent="-2332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e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870960" y="1473120"/>
                <a:ext cx="602280" cy="152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marL="233280" indent="-2332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c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7473600" y="1473120"/>
              <a:ext cx="596160" cy="152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070120" y="1473120"/>
              <a:ext cx="604080" cy="152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152280" y="1625760"/>
            <a:ext cx="1317600" cy="246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52280" y="1625760"/>
            <a:ext cx="524160" cy="393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D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52280" y="2019240"/>
            <a:ext cx="524160" cy="495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D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52280" y="2496960"/>
            <a:ext cx="524160" cy="836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DS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52280" y="3333600"/>
            <a:ext cx="524160" cy="762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DS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3200" y="201924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68160" y="2490840"/>
            <a:ext cx="800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77880" y="3328920"/>
            <a:ext cx="799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82560" y="4095720"/>
            <a:ext cx="799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567160" y="4168800"/>
            <a:ext cx="102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698920" y="2335320"/>
            <a:ext cx="1769760" cy="152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P Trials &amp; NM Ver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395440" y="2606760"/>
            <a:ext cx="3273480" cy="1490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CED &amp; LMP Posting for 6 mont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469880" y="1768320"/>
            <a:ext cx="600120" cy="1461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ICCP / P2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482840" y="2122560"/>
            <a:ext cx="1800000" cy="1299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E Tu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73200" y="1722600"/>
            <a:ext cx="65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1 R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76440" y="2060640"/>
            <a:ext cx="65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2 R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6440" y="2263680"/>
            <a:ext cx="65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2 R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76440" y="2558880"/>
            <a:ext cx="65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3 R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76440" y="2824200"/>
            <a:ext cx="65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3 R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82840" y="2871720"/>
            <a:ext cx="3584520" cy="139680"/>
          </a:xfrm>
          <a:custGeom>
            <a:avLst/>
            <a:gdLst>
              <a:gd name="textAreaLeft" fmla="*/ 0 w 3584520"/>
              <a:gd name="textAreaRight" fmla="*/ 3584880 w 35845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LFC Tes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76440" y="3122640"/>
            <a:ext cx="65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3 R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482840" y="3154320"/>
            <a:ext cx="3584520" cy="154080"/>
          </a:xfrm>
          <a:custGeom>
            <a:avLst/>
            <a:gdLst>
              <a:gd name="textAreaLeft" fmla="*/ 0 w 3584520"/>
              <a:gd name="textAreaRight" fmla="*/ 3584880 w 358452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RR Tes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76440" y="3797280"/>
            <a:ext cx="65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R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671920" y="3514680"/>
            <a:ext cx="3597120" cy="152280"/>
          </a:xfrm>
          <a:custGeom>
            <a:avLst/>
            <a:gdLst>
              <a:gd name="textAreaLeft" fmla="*/ 0 w 3597120"/>
              <a:gd name="textAreaRight" fmla="*/ 3597480 w 3597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MM, DAM &amp; RT Settlements, Verifiable Costs &amp; Dispu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709640" y="3835440"/>
            <a:ext cx="4556160" cy="152280"/>
          </a:xfrm>
          <a:custGeom>
            <a:avLst/>
            <a:gdLst>
              <a:gd name="textAreaLeft" fmla="*/ 0 w 4556160"/>
              <a:gd name="textAreaRight" fmla="*/ 4556520 w 4556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M, SASM &amp; RUC execution, DAM Stability Test, EECP, DST, Compli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76440" y="3483000"/>
            <a:ext cx="65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R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078000" y="1625760"/>
            <a:ext cx="0" cy="2546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262560" y="1522440"/>
            <a:ext cx="0" cy="257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302520" y="4140360"/>
            <a:ext cx="60300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168 Hr 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05520" y="4140360"/>
            <a:ext cx="122868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Go Live Sequ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107200" y="1768320"/>
            <a:ext cx="0" cy="2327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850760" y="1722600"/>
            <a:ext cx="146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 EDS, 2 M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012720" y="3475080"/>
            <a:ext cx="109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3 E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790880" y="3103560"/>
            <a:ext cx="146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5 EDS, 1 M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789440" y="2809800"/>
            <a:ext cx="146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2 EDS, 1 M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200120" y="2298600"/>
            <a:ext cx="102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3 M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408280" y="2550960"/>
            <a:ext cx="146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2 EDS, 2 M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995800" y="3782880"/>
            <a:ext cx="153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2 EDS, 2 M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000240" y="2058840"/>
            <a:ext cx="146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5 EDS, 3 M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" descr="gre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1646280"/>
            <a:ext cx="536400" cy="34272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re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48280" y="2082960"/>
            <a:ext cx="595440" cy="38088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red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394400" y="3481560"/>
            <a:ext cx="594000" cy="3808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5962320" y="4511520"/>
            <a:ext cx="248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verall Readines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(15 metrics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amber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177040" y="4444920"/>
            <a:ext cx="595440" cy="38124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7120080" y="5467320"/>
            <a:ext cx="1768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</a:rPr>
              <a:t>http://.scorecard.erco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82560" y="1425600"/>
            <a:ext cx="747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" descr="red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799320" y="2741760"/>
            <a:ext cx="595080" cy="3808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120600" y="727200"/>
            <a:ext cx="86868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 change* in EDS status since last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356240" y="5940360"/>
            <a:ext cx="1425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* As of 3.27.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9BF20-F8E3-47D3-86D5-2F3D08BA02D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st Element Summary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60000" y="806400"/>
            <a:ext cx="84675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AC Revised Budget and Forecast remain consta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pending in January* was lower and reversed overrun through Dec.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dd’l $1.2 M in contingency earmarked (Testing  and MPIM vendor extensio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074600" y="1905120"/>
            <a:ext cx="6858000" cy="406404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212400" y="5934240"/>
            <a:ext cx="3055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*February actuals not available as of 3.27.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725C8-23CD-4E2A-8050-7AB86CF99DB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336320"/>
            <a:ext cx="822960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Stat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erred I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M Health 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Point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-Liv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287F8-C867-4490-AD70-8DFC18BD7A9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rogram Status: Nodal Delivery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"/>
          <p:cNvSpPr/>
          <p:nvPr/>
        </p:nvSpPr>
        <p:spPr>
          <a:xfrm>
            <a:off x="120600" y="833400"/>
            <a:ext cx="8686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dal Delivery status remains </a:t>
            </a: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ambe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; health checks starting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515280" y="1600200"/>
            <a:ext cx="2155680" cy="3524400"/>
          </a:xfrm>
          <a:prstGeom prst="rect">
            <a:avLst/>
          </a:prstGeom>
          <a:gradFill rotWithShape="0">
            <a:gsLst>
              <a:gs pos="0">
                <a:srgbClr val="f8fafb"/>
              </a:gs>
              <a:gs pos="100000">
                <a:srgbClr val="739bc4"/>
              </a:gs>
            </a:gsLst>
            <a:lin ang="5400000"/>
          </a:gradFill>
          <a:ln w="3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13200" y="1612800"/>
            <a:ext cx="2347920" cy="3511800"/>
          </a:xfrm>
          <a:prstGeom prst="rect">
            <a:avLst/>
          </a:prstGeom>
          <a:gradFill rotWithShape="0">
            <a:gsLst>
              <a:gs pos="0">
                <a:srgbClr val="f8fafb"/>
              </a:gs>
              <a:gs pos="100000">
                <a:srgbClr val="739bc4"/>
              </a:gs>
            </a:gsLst>
            <a:lin ang="5400000"/>
          </a:gradFill>
          <a:ln w="3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00040" y="1612800"/>
            <a:ext cx="3240000" cy="3511800"/>
          </a:xfrm>
          <a:prstGeom prst="rect">
            <a:avLst/>
          </a:prstGeom>
          <a:gradFill rotWithShape="0">
            <a:gsLst>
              <a:gs pos="0">
                <a:srgbClr val="f8fafb"/>
              </a:gs>
              <a:gs pos="100000">
                <a:srgbClr val="739bc4"/>
              </a:gs>
            </a:gsLst>
            <a:lin ang="5400000"/>
          </a:gradFill>
          <a:ln w="3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ope /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759720" y="2720880"/>
            <a:ext cx="163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6040" indent="-115560">
              <a:spcBef>
                <a:spcPts val="75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ing PUCT approval of 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6040" indent="-115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 request filed w/  PUC on 6 Mar 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6040" indent="-1155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0560" y="2695680"/>
            <a:ext cx="158112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6040" indent="-115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gned with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6040" indent="-115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6040" indent="-1155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PTF is addressing issue where MPs not in complete agreement, e.g., self-committed resources in D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36720" y="2684520"/>
            <a:ext cx="15778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0480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030560" y="2676600"/>
            <a:ext cx="209232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6040" indent="-115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points in place to ensure ongoing viability of 12/1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6040" indent="-115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M Health Check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6040" indent="-1155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S 3 and 4 still red (ACE testing and Alarm Processing, respectiv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6040" indent="-1155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016000" y="2698920"/>
            <a:ext cx="168120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6040" indent="-1155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ieving quality standards to date; upcoming months will be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6040" indent="-1155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ing increased efforts to identify and resolve defects in pre-FAT and 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3640" y="2135160"/>
            <a:ext cx="1416240" cy="3538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44600" y="2135160"/>
            <a:ext cx="1140120" cy="353880"/>
          </a:xfrm>
          <a:prstGeom prst="rect">
            <a:avLst/>
          </a:prstGeom>
          <a:solidFill>
            <a:srgbClr val="ffcc66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30920" y="2135160"/>
            <a:ext cx="1683000" cy="353880"/>
          </a:xfrm>
          <a:prstGeom prst="rect">
            <a:avLst/>
          </a:prstGeom>
          <a:solidFill>
            <a:srgbClr val="ff572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259240" y="111240"/>
            <a:ext cx="3434040" cy="528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259240" y="27000"/>
            <a:ext cx="833760" cy="785880"/>
          </a:xfrm>
          <a:prstGeom prst="ellipse">
            <a:avLst/>
          </a:prstGeom>
          <a:noFill/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398840" y="2135160"/>
            <a:ext cx="1366920" cy="353880"/>
          </a:xfrm>
          <a:prstGeom prst="rect">
            <a:avLst/>
          </a:prstGeom>
          <a:solidFill>
            <a:srgbClr val="ffcc66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50520" y="124776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dal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360" y="4957920"/>
            <a:ext cx="8607600" cy="1131840"/>
          </a:xfrm>
          <a:prstGeom prst="rect">
            <a:avLst/>
          </a:prstGeom>
          <a:solidFill>
            <a:srgbClr val="ddddd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1960" y="5224320"/>
            <a:ext cx="8791560" cy="247680"/>
          </a:xfrm>
          <a:prstGeom prst="rect">
            <a:avLst/>
          </a:prstGeom>
          <a:solidFill>
            <a:srgbClr val="cc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1960" y="5224320"/>
            <a:ext cx="555840" cy="247680"/>
          </a:xfrm>
          <a:prstGeom prst="rect">
            <a:avLst/>
          </a:prstGeom>
          <a:solidFill>
            <a:srgbClr val="cc00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1960" y="5494320"/>
            <a:ext cx="555840" cy="247680"/>
          </a:xfrm>
          <a:prstGeom prst="rect">
            <a:avLst/>
          </a:prstGeom>
          <a:solidFill>
            <a:srgbClr val="ffcc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1960" y="5765760"/>
            <a:ext cx="555840" cy="222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0240" y="5765760"/>
            <a:ext cx="8423280" cy="247680"/>
          </a:xfrm>
          <a:prstGeom prst="rect">
            <a:avLst/>
          </a:prstGeom>
          <a:solidFill>
            <a:srgbClr val="0099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7280" y="5486400"/>
            <a:ext cx="8796240" cy="247680"/>
          </a:xfrm>
          <a:prstGeom prst="rect">
            <a:avLst/>
          </a:prstGeom>
          <a:solidFill>
            <a:srgbClr val="ff9933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93040" y="5770440"/>
            <a:ext cx="246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timate at Complete = </a:t>
            </a: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&lt;$319.5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593040" y="5494320"/>
            <a:ext cx="246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timate at Complete = </a:t>
            </a: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&lt; $319.5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+ 1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589800" y="5218200"/>
            <a:ext cx="218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timate at Complete = </a:t>
            </a: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&gt;$319.5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+ 1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89640" y="5770440"/>
            <a:ext cx="140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o-live = 12/1/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0560" y="5504040"/>
            <a:ext cx="142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o-live = &lt;30 days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5227560"/>
            <a:ext cx="142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o-live = &gt;30 days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61840" y="5722920"/>
            <a:ext cx="133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 is aligned with current protoc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53920" y="5421240"/>
            <a:ext cx="150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 is aligned to previous protocol ver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68320" y="5157720"/>
            <a:ext cx="12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 is not aligned to protoc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84480" y="5176800"/>
            <a:ext cx="151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rrent product quality is not sufficient for Nodal laun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01760" y="5450040"/>
            <a:ext cx="16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t Nodal products currently achieve quality stand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01760" y="5722920"/>
            <a:ext cx="16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 Nodal products currently achieve quality stand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188200" y="722160"/>
            <a:ext cx="35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ACA0D-CC63-42BA-AA43-6D515A47150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rogram Status: ERCOT Readines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259240" y="111240"/>
            <a:ext cx="3434040" cy="5284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132600" y="27000"/>
            <a:ext cx="833400" cy="785880"/>
          </a:xfrm>
          <a:prstGeom prst="ellipse">
            <a:avLst/>
          </a:prstGeom>
          <a:noFill/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52280" y="809640"/>
            <a:ext cx="86551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RCOT Readiness status is </a:t>
            </a: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a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1501920"/>
            <a:ext cx="853416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4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Readiness Survey to move to monthly upd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4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4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ition plans recently developed (Feb. 29) and scheduled for updates in April and Ju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4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Process model was completed and provides a top-down view and low-level operational det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dures being developed for each department based on Business Process model; Procedure scorecard in development and available at end of Apr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ady progress on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ffing plans developed; recruiting ongoing; timeframes establ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ffing metric definition is a codification of long-standing practice, not a new met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3A151-1D06-4896-A5B8-B2EE773F000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rogram Status: ERCOT / Market Readines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259240" y="111240"/>
            <a:ext cx="3434040" cy="5284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008840" y="1440"/>
            <a:ext cx="833400" cy="785880"/>
          </a:xfrm>
          <a:prstGeom prst="ellipse">
            <a:avLst/>
          </a:prstGeom>
          <a:noFill/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66760" y="1479600"/>
            <a:ext cx="7948440" cy="45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ngagement [amber]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Still remains an area of conc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Clr>
                <a:srgbClr val="0000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t Participant survey (third round) closed March 31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available mid-Apr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1049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gistration and Qualific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[green]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1049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nnectivity and Telemetr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green] – Connectivity metrics complete for most MPs.  Outliers are new to the program and need to go through EDS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1049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rain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[green] – Training metrics will be updated by survey resul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1049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rials Particip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green] – Actively measuring EDS3 and EDS4 trial participation met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oking 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iness Metric for Resource Entity review of Resources to Resource Nodes and Resources to EPS Meters (MP10) is due by April 15, 2008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erous metric milestones are upcoming in next two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ll of Fame Scorecard and Wall of Shame metrics will be prime motiv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odal.ercot.com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for schedule of upcoming met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4480" y="950760"/>
            <a:ext cx="8654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rket Participant Readines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atus remains </a:t>
            </a:r>
            <a:r>
              <a:rPr b="1" i="1" lang="en-US" sz="1600" spc="-1" strike="noStrike">
                <a:solidFill>
                  <a:srgbClr val="ffcc66"/>
                </a:solidFill>
                <a:latin typeface="Arial"/>
              </a:rPr>
              <a:t>a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142AD-2A86-45A7-A5D5-2B08DA46C89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Quality - Summary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nt Suc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R1 has exited F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S3 has exited F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S3B and EMS4.1 have exited FA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as of Concer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ngthy defect resolu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te detection of detects exacerbates defect resolu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tigation Measu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sive data center site with live data feed will allow for earlier defect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tional measures (e.g., key vendor resource retention) in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6000" y="804960"/>
            <a:ext cx="857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dal Quality effort  experienced recent successes but concerns rema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010C5-8C52-45D5-9CD7-53955C61F4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ality Details: 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odal FAT Active Defects by Severity by Projec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955880"/>
            <a:ext cx="5262480" cy="30556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6039000" y="2116080"/>
            <a:ext cx="2739960" cy="28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all, active defects are being tracked by project and by classification.  Problems area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1620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odel Management System (NMMS) has 14 Severity 1 de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1620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age Scheduler (OS) has 6 Severity 2 de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1620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estion Revenue Rights (CRR) has 1 Severity 1 and 5 Severity 2 de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" y="5624640"/>
            <a:ext cx="436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 - Does not include closed and deferred defects; data as of 3.27.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-64440" y="785880"/>
            <a:ext cx="775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relative low number of Severity 1 and 2 defects in FAT is encoura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950080" y="1978200"/>
            <a:ext cx="2889000" cy="292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B7F0D-60DC-4421-936E-B04ADB5A61B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Quality Assurance: EDS Active Defects Per Release by Severity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"/>
          <p:cNvSpPr/>
          <p:nvPr/>
        </p:nvSpPr>
        <p:spPr>
          <a:xfrm>
            <a:off x="981000" y="4772160"/>
            <a:ext cx="7364520" cy="97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spAutoFit/>
          </a:bodyPr>
          <a:p>
            <a:pPr marL="463680" indent="-463680">
              <a:tabLst>
                <a:tab algn="l" pos="0"/>
                <a:tab algn="l" pos="573120"/>
                <a:tab algn="l" pos="1146240"/>
                <a:tab algn="l" pos="1719360"/>
                <a:tab algn="l" pos="2292480"/>
                <a:tab algn="l" pos="2865600"/>
                <a:tab algn="l" pos="3438360"/>
                <a:tab algn="l" pos="4011480"/>
                <a:tab algn="l" pos="4584600"/>
                <a:tab algn="l" pos="5157720"/>
                <a:tab algn="l" pos="5730840"/>
                <a:tab algn="l" pos="6303960"/>
                <a:tab algn="l" pos="6877080"/>
                <a:tab algn="l" pos="7450200"/>
                <a:tab algn="l" pos="8023320"/>
                <a:tab algn="l" pos="8596440"/>
                <a:tab algn="l" pos="9169560"/>
                <a:tab algn="l" pos="9742320"/>
                <a:tab algn="l" pos="10315440"/>
                <a:tab algn="l" pos="10888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: 1) Data only includes defects identified in EDS testing (i.e., defects that migrated into EDS from FAT are exclud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573120"/>
                <a:tab algn="l" pos="1146240"/>
                <a:tab algn="l" pos="1719360"/>
                <a:tab algn="l" pos="2292480"/>
                <a:tab algn="l" pos="2865600"/>
                <a:tab algn="l" pos="3438360"/>
                <a:tab algn="l" pos="4011480"/>
                <a:tab algn="l" pos="4584600"/>
                <a:tab algn="l" pos="5157720"/>
                <a:tab algn="l" pos="5730840"/>
                <a:tab algn="l" pos="6303960"/>
                <a:tab algn="l" pos="6877080"/>
                <a:tab algn="l" pos="7450200"/>
                <a:tab algn="l" pos="8023320"/>
                <a:tab algn="l" pos="8596440"/>
                <a:tab algn="l" pos="9169560"/>
                <a:tab algn="l" pos="9742320"/>
                <a:tab algn="l" pos="10315440"/>
                <a:tab algn="l" pos="10888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Data does not include closed or deferred def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573120"/>
                <a:tab algn="l" pos="1146240"/>
                <a:tab algn="l" pos="1719360"/>
                <a:tab algn="l" pos="2292480"/>
                <a:tab algn="l" pos="2865600"/>
                <a:tab algn="l" pos="3438360"/>
                <a:tab algn="l" pos="4011480"/>
                <a:tab algn="l" pos="4584600"/>
                <a:tab algn="l" pos="5157720"/>
                <a:tab algn="l" pos="5730840"/>
                <a:tab algn="l" pos="6303960"/>
                <a:tab algn="l" pos="6877080"/>
                <a:tab algn="l" pos="7450200"/>
                <a:tab algn="l" pos="8023320"/>
                <a:tab algn="l" pos="8596440"/>
                <a:tab algn="l" pos="9169560"/>
                <a:tab algn="l" pos="9742320"/>
                <a:tab algn="l" pos="10315440"/>
                <a:tab algn="l" pos="10888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Release 8 (Credit, Settlement and Billing) not yet in EDS; no EDS-identified defects in Release 4 (NM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11360" y="1073160"/>
            <a:ext cx="7213320" cy="3662280"/>
            <a:chOff x="711360" y="1073160"/>
            <a:chExt cx="7213320" cy="3662280"/>
          </a:xfrm>
        </p:grpSpPr>
        <p:grpSp>
          <p:nvGrpSpPr>
            <p:cNvPr id="242" name=""/>
            <p:cNvGrpSpPr/>
            <p:nvPr/>
          </p:nvGrpSpPr>
          <p:grpSpPr>
            <a:xfrm>
              <a:off x="711360" y="1073160"/>
              <a:ext cx="7213320" cy="3662280"/>
              <a:chOff x="711360" y="1073160"/>
              <a:chExt cx="7213320" cy="366228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11360" y="1073160"/>
                <a:ext cx="7213320" cy="366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"/>
              <p:cNvSpPr/>
              <p:nvPr/>
            </p:nvSpPr>
            <p:spPr>
              <a:xfrm>
                <a:off x="1320840" y="4003200"/>
                <a:ext cx="4063680" cy="59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1424520" y="4048560"/>
              <a:ext cx="3736080" cy="383760"/>
              <a:chOff x="1424520" y="4048560"/>
              <a:chExt cx="3736080" cy="383760"/>
            </a:xfrm>
          </p:grpSpPr>
          <p:sp>
            <p:nvSpPr>
              <p:cNvPr id="246" name=""/>
              <p:cNvSpPr/>
              <p:nvPr/>
            </p:nvSpPr>
            <p:spPr>
              <a:xfrm>
                <a:off x="2724840" y="4230720"/>
                <a:ext cx="1072080" cy="20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4080" rIns="64080" tIns="32040" bIns="32040" anchor="t">
                <a:spAutoFit/>
              </a:bodyPr>
              <a:p>
                <a:pPr marL="146160" indent="-146160" algn="ctr">
                  <a:tabLst>
                    <a:tab algn="l" pos="0"/>
                    <a:tab algn="l" pos="573120"/>
                    <a:tab algn="l" pos="1146240"/>
                    <a:tab algn="l" pos="1719360"/>
                    <a:tab algn="l" pos="2292480"/>
                    <a:tab algn="l" pos="2865600"/>
                    <a:tab algn="l" pos="3438360"/>
                    <a:tab algn="l" pos="4011480"/>
                    <a:tab algn="l" pos="4584600"/>
                    <a:tab algn="l" pos="5157720"/>
                    <a:tab algn="l" pos="5730840"/>
                    <a:tab algn="l" pos="6303960"/>
                    <a:tab algn="l" pos="6877080"/>
                    <a:tab algn="l" pos="7450200"/>
                    <a:tab algn="l" pos="8023320"/>
                    <a:tab algn="l" pos="8596440"/>
                    <a:tab algn="l" pos="9169560"/>
                    <a:tab algn="l" pos="9742320"/>
                    <a:tab algn="l" pos="10315440"/>
                    <a:tab algn="l" pos="1088856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Release No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983240" y="4048560"/>
                <a:ext cx="485280" cy="20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4080" rIns="64080" tIns="32040" bIns="32040" anchor="t">
                <a:spAutoFit/>
              </a:bodyPr>
              <a:p>
                <a:pPr marL="146160" indent="-146160" algn="ctr">
                  <a:tabLst>
                    <a:tab algn="l" pos="0"/>
                    <a:tab algn="l" pos="573120"/>
                    <a:tab algn="l" pos="1146240"/>
                    <a:tab algn="l" pos="1719360"/>
                    <a:tab algn="l" pos="2292480"/>
                    <a:tab algn="l" pos="2865600"/>
                    <a:tab algn="l" pos="3438360"/>
                    <a:tab algn="l" pos="4011480"/>
                    <a:tab algn="l" pos="4584600"/>
                    <a:tab algn="l" pos="5157720"/>
                    <a:tab algn="l" pos="5730840"/>
                    <a:tab algn="l" pos="6303960"/>
                    <a:tab algn="l" pos="6877080"/>
                    <a:tab algn="l" pos="7450200"/>
                    <a:tab algn="l" pos="8023320"/>
                    <a:tab algn="l" pos="8596440"/>
                    <a:tab algn="l" pos="9169560"/>
                    <a:tab algn="l" pos="9742320"/>
                    <a:tab algn="l" pos="10315440"/>
                    <a:tab algn="l" pos="1088856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424520" y="4048560"/>
                <a:ext cx="485280" cy="20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4080" rIns="64080" tIns="32040" bIns="32040" anchor="t">
                <a:spAutoFit/>
              </a:bodyPr>
              <a:p>
                <a:pPr marL="146160" indent="-146160" algn="ctr">
                  <a:tabLst>
                    <a:tab algn="l" pos="0"/>
                    <a:tab algn="l" pos="573120"/>
                    <a:tab algn="l" pos="1146240"/>
                    <a:tab algn="l" pos="1719360"/>
                    <a:tab algn="l" pos="2292480"/>
                    <a:tab algn="l" pos="2865600"/>
                    <a:tab algn="l" pos="3438360"/>
                    <a:tab algn="l" pos="4011480"/>
                    <a:tab algn="l" pos="4584600"/>
                    <a:tab algn="l" pos="5157720"/>
                    <a:tab algn="l" pos="5730840"/>
                    <a:tab algn="l" pos="6303960"/>
                    <a:tab algn="l" pos="6877080"/>
                    <a:tab algn="l" pos="7450200"/>
                    <a:tab algn="l" pos="8023320"/>
                    <a:tab algn="l" pos="8596440"/>
                    <a:tab algn="l" pos="9169560"/>
                    <a:tab algn="l" pos="9742320"/>
                    <a:tab algn="l" pos="10315440"/>
                    <a:tab algn="l" pos="1088856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049920" y="4048560"/>
                <a:ext cx="485280" cy="20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4080" rIns="64080" tIns="32040" bIns="32040" anchor="t">
                <a:spAutoFit/>
              </a:bodyPr>
              <a:p>
                <a:pPr marL="146160" indent="-146160" algn="ctr">
                  <a:tabLst>
                    <a:tab algn="l" pos="0"/>
                    <a:tab algn="l" pos="573120"/>
                    <a:tab algn="l" pos="1146240"/>
                    <a:tab algn="l" pos="1719360"/>
                    <a:tab algn="l" pos="2292480"/>
                    <a:tab algn="l" pos="2865600"/>
                    <a:tab algn="l" pos="3438360"/>
                    <a:tab algn="l" pos="4011480"/>
                    <a:tab algn="l" pos="4584600"/>
                    <a:tab algn="l" pos="5157720"/>
                    <a:tab algn="l" pos="5730840"/>
                    <a:tab algn="l" pos="6303960"/>
                    <a:tab algn="l" pos="6877080"/>
                    <a:tab algn="l" pos="7450200"/>
                    <a:tab algn="l" pos="8023320"/>
                    <a:tab algn="l" pos="8596440"/>
                    <a:tab algn="l" pos="9169560"/>
                    <a:tab algn="l" pos="9742320"/>
                    <a:tab algn="l" pos="10315440"/>
                    <a:tab algn="l" pos="1088856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541960" y="4048560"/>
                <a:ext cx="485280" cy="20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4080" rIns="64080" tIns="32040" bIns="32040" anchor="t">
                <a:spAutoFit/>
              </a:bodyPr>
              <a:p>
                <a:pPr marL="146160" indent="-146160" algn="ctr">
                  <a:tabLst>
                    <a:tab algn="l" pos="0"/>
                    <a:tab algn="l" pos="573120"/>
                    <a:tab algn="l" pos="1146240"/>
                    <a:tab algn="l" pos="1719360"/>
                    <a:tab algn="l" pos="2292480"/>
                    <a:tab algn="l" pos="2865600"/>
                    <a:tab algn="l" pos="3438360"/>
                    <a:tab algn="l" pos="4011480"/>
                    <a:tab algn="l" pos="4584600"/>
                    <a:tab algn="l" pos="5157720"/>
                    <a:tab algn="l" pos="5730840"/>
                    <a:tab algn="l" pos="6303960"/>
                    <a:tab algn="l" pos="6877080"/>
                    <a:tab algn="l" pos="7450200"/>
                    <a:tab algn="l" pos="8023320"/>
                    <a:tab algn="l" pos="8596440"/>
                    <a:tab algn="l" pos="9169560"/>
                    <a:tab algn="l" pos="9742320"/>
                    <a:tab algn="l" pos="10315440"/>
                    <a:tab algn="l" pos="1088856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08640" y="4048560"/>
                <a:ext cx="485280" cy="20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4080" rIns="64080" tIns="32040" bIns="32040" anchor="t">
                <a:spAutoFit/>
              </a:bodyPr>
              <a:p>
                <a:pPr marL="146160" indent="-146160" algn="ctr">
                  <a:tabLst>
                    <a:tab algn="l" pos="0"/>
                    <a:tab algn="l" pos="573120"/>
                    <a:tab algn="l" pos="1146240"/>
                    <a:tab algn="l" pos="1719360"/>
                    <a:tab algn="l" pos="2292480"/>
                    <a:tab algn="l" pos="2865600"/>
                    <a:tab algn="l" pos="3438360"/>
                    <a:tab algn="l" pos="4011480"/>
                    <a:tab algn="l" pos="4584600"/>
                    <a:tab algn="l" pos="5157720"/>
                    <a:tab algn="l" pos="5730840"/>
                    <a:tab algn="l" pos="6303960"/>
                    <a:tab algn="l" pos="6877080"/>
                    <a:tab algn="l" pos="7450200"/>
                    <a:tab algn="l" pos="8023320"/>
                    <a:tab algn="l" pos="8596440"/>
                    <a:tab algn="l" pos="9169560"/>
                    <a:tab algn="l" pos="9742320"/>
                    <a:tab algn="l" pos="10315440"/>
                    <a:tab algn="l" pos="1088856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675320" y="4048560"/>
                <a:ext cx="485280" cy="20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4080" rIns="64080" tIns="32040" bIns="32040" anchor="t">
                <a:spAutoFit/>
              </a:bodyPr>
              <a:p>
                <a:pPr marL="146160" indent="-146160" algn="ctr">
                  <a:tabLst>
                    <a:tab algn="l" pos="0"/>
                    <a:tab algn="l" pos="573120"/>
                    <a:tab algn="l" pos="1146240"/>
                    <a:tab algn="l" pos="1719360"/>
                    <a:tab algn="l" pos="2292480"/>
                    <a:tab algn="l" pos="2865600"/>
                    <a:tab algn="l" pos="3438360"/>
                    <a:tab algn="l" pos="4011480"/>
                    <a:tab algn="l" pos="4584600"/>
                    <a:tab algn="l" pos="5157720"/>
                    <a:tab algn="l" pos="5730840"/>
                    <a:tab algn="l" pos="6303960"/>
                    <a:tab algn="l" pos="6877080"/>
                    <a:tab algn="l" pos="7450200"/>
                    <a:tab algn="l" pos="8023320"/>
                    <a:tab algn="l" pos="8596440"/>
                    <a:tab algn="l" pos="9169560"/>
                    <a:tab algn="l" pos="9742320"/>
                    <a:tab algn="l" pos="10315440"/>
                    <a:tab algn="l" pos="1088856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167720" y="4048560"/>
                <a:ext cx="485280" cy="20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4080" rIns="64080" tIns="32040" bIns="32040" anchor="t">
                <a:spAutoFit/>
              </a:bodyPr>
              <a:p>
                <a:pPr marL="146160" indent="-146160" algn="ctr">
                  <a:tabLst>
                    <a:tab algn="l" pos="0"/>
                    <a:tab algn="l" pos="573120"/>
                    <a:tab algn="l" pos="1146240"/>
                    <a:tab algn="l" pos="1719360"/>
                    <a:tab algn="l" pos="2292480"/>
                    <a:tab algn="l" pos="2865600"/>
                    <a:tab algn="l" pos="3438360"/>
                    <a:tab algn="l" pos="4011480"/>
                    <a:tab algn="l" pos="4584600"/>
                    <a:tab algn="l" pos="5157720"/>
                    <a:tab algn="l" pos="5730840"/>
                    <a:tab algn="l" pos="6303960"/>
                    <a:tab algn="l" pos="6877080"/>
                    <a:tab algn="l" pos="7450200"/>
                    <a:tab algn="l" pos="8023320"/>
                    <a:tab algn="l" pos="8596440"/>
                    <a:tab algn="l" pos="9169560"/>
                    <a:tab algn="l" pos="9742320"/>
                    <a:tab algn="l" pos="10315440"/>
                    <a:tab algn="l" pos="1088856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"/>
          <p:cNvSpPr/>
          <p:nvPr/>
        </p:nvSpPr>
        <p:spPr>
          <a:xfrm>
            <a:off x="203040" y="853920"/>
            <a:ext cx="756936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spAutoFit/>
          </a:bodyPr>
          <a:p>
            <a:pPr>
              <a:tabLst>
                <a:tab algn="l" pos="0"/>
                <a:tab algn="l" pos="573120"/>
                <a:tab algn="l" pos="1146240"/>
                <a:tab algn="l" pos="1719360"/>
                <a:tab algn="l" pos="2292480"/>
                <a:tab algn="l" pos="2865600"/>
                <a:tab algn="l" pos="3438360"/>
                <a:tab algn="l" pos="4011480"/>
                <a:tab algn="l" pos="4584600"/>
                <a:tab algn="l" pos="5157720"/>
                <a:tab algn="l" pos="5730840"/>
                <a:tab algn="l" pos="6303960"/>
                <a:tab algn="l" pos="6877080"/>
                <a:tab algn="l" pos="7450200"/>
                <a:tab algn="l" pos="8023320"/>
                <a:tab algn="l" pos="8596440"/>
                <a:tab algn="l" pos="9169560"/>
                <a:tab algn="l" pos="9742320"/>
                <a:tab algn="l" pos="10315440"/>
                <a:tab algn="l" pos="1088856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DS active critical (Severity 1 and 2) defects are concentrated in Releases 3, 5, and 9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4840" y="5891040"/>
            <a:ext cx="8211960" cy="1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spAutoFit/>
          </a:bodyPr>
          <a:p>
            <a:pPr marL="79200" indent="-79200">
              <a:tabLst>
                <a:tab algn="l" pos="0"/>
                <a:tab algn="l" pos="573120"/>
                <a:tab algn="l" pos="1146240"/>
                <a:tab algn="l" pos="1719360"/>
                <a:tab algn="l" pos="2292480"/>
                <a:tab algn="l" pos="2865600"/>
                <a:tab algn="l" pos="3438360"/>
                <a:tab algn="l" pos="4011480"/>
                <a:tab algn="l" pos="4584600"/>
                <a:tab algn="l" pos="5157720"/>
                <a:tab algn="l" pos="5730840"/>
                <a:tab algn="l" pos="6303960"/>
                <a:tab algn="l" pos="6877080"/>
                <a:tab algn="l" pos="7450200"/>
                <a:tab algn="l" pos="8023320"/>
                <a:tab algn="l" pos="8596440"/>
                <a:tab algn="l" pos="9169560"/>
                <a:tab algn="l" pos="9742320"/>
                <a:tab algn="l" pos="10315440"/>
                <a:tab algn="l" pos="10888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State Estimator (SE)  tuning, Security Constrained Economic Dispatch (SCED) and Locational Marginal Price (LMP) posting, and Day Ahead Market (DAM), et.al., respective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89440" y="2436840"/>
            <a:ext cx="2997360" cy="17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spAutoFit/>
          </a:bodyPr>
          <a:p>
            <a:pPr marL="160200" indent="-160200">
              <a:spcAft>
                <a:spcPts val="62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573120"/>
                <a:tab algn="l" pos="1146240"/>
                <a:tab algn="l" pos="1719360"/>
                <a:tab algn="l" pos="2292480"/>
                <a:tab algn="l" pos="2865600"/>
                <a:tab algn="l" pos="3438360"/>
                <a:tab algn="l" pos="4011480"/>
                <a:tab algn="l" pos="4584600"/>
                <a:tab algn="l" pos="5157720"/>
                <a:tab algn="l" pos="5730840"/>
                <a:tab algn="l" pos="6303960"/>
                <a:tab algn="l" pos="6877080"/>
                <a:tab algn="l" pos="7450200"/>
                <a:tab algn="l" pos="8023320"/>
                <a:tab algn="l" pos="8596440"/>
                <a:tab algn="l" pos="9169560"/>
                <a:tab algn="l" pos="9742320"/>
                <a:tab algn="l" pos="10315440"/>
                <a:tab algn="l" pos="10888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rent testing in EDS represents approximately 25 - 30% of code to be tested in E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0200" indent="-160200">
              <a:spcAft>
                <a:spcPts val="62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573120"/>
                <a:tab algn="l" pos="1146240"/>
                <a:tab algn="l" pos="1719360"/>
                <a:tab algn="l" pos="2292480"/>
                <a:tab algn="l" pos="2865600"/>
                <a:tab algn="l" pos="3438360"/>
                <a:tab algn="l" pos="4011480"/>
                <a:tab algn="l" pos="4584600"/>
                <a:tab algn="l" pos="5157720"/>
                <a:tab algn="l" pos="5730840"/>
                <a:tab algn="l" pos="6303960"/>
                <a:tab algn="l" pos="6877080"/>
                <a:tab algn="l" pos="7450200"/>
                <a:tab algn="l" pos="8023320"/>
                <a:tab algn="l" pos="8596440"/>
                <a:tab algn="l" pos="9169560"/>
                <a:tab algn="l" pos="9742320"/>
                <a:tab algn="l" pos="10315440"/>
                <a:tab algn="l" pos="10888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number of defects associated with remaining EDS testing is expected to increase significantly due to the increasing complexity associated with systems’ integ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0200" indent="-160200">
              <a:spcAft>
                <a:spcPts val="56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573120"/>
                <a:tab algn="l" pos="1146240"/>
                <a:tab algn="l" pos="1719360"/>
                <a:tab algn="l" pos="2292480"/>
                <a:tab algn="l" pos="2865600"/>
                <a:tab algn="l" pos="3438360"/>
                <a:tab algn="l" pos="4011480"/>
                <a:tab algn="l" pos="4584600"/>
                <a:tab algn="l" pos="5157720"/>
                <a:tab algn="l" pos="5730840"/>
                <a:tab algn="l" pos="6303960"/>
                <a:tab algn="l" pos="6877080"/>
                <a:tab algn="l" pos="7450200"/>
                <a:tab algn="l" pos="8023320"/>
                <a:tab algn="l" pos="8596440"/>
                <a:tab algn="l" pos="9169560"/>
                <a:tab algn="l" pos="9742320"/>
                <a:tab algn="l" pos="10315440"/>
                <a:tab algn="l" pos="10888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ly fixes to the currently unknown number of defects in the code remaining to be tested in EDS represents a major project challenge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587920" y="2322360"/>
            <a:ext cx="3149640" cy="199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EF898-441A-4C3C-A8D8-8DEE2BCCEF1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Deferred Item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904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erred items fall into one of three different categor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ms to b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mplement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efore go–live, but after 168 hour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ms to b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velop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efore go–live, and ready for subsequent production rel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ms to be deferred to business as usual prioritization, i.e., Project Priority List (PPL)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deferred items will be funded through one or a combination of the following sources/actions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isting Nodal budgetary allow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projects implemented/developed before go-l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dal Contingency allowance (as necessar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projects implemented/developed before go-l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ing allowance in ERCOT’s 2009 bud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projects implemented post-Go-L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ing sources include specific project allocation and/or general allowance (total of both: ~$18M); includes capital and O&amp;M allo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rioritization of projects i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erred projects may (or may not) be funded based on project priorit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ly deferred items will be funded through one of the above identified mechanism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03040" y="853920"/>
            <a:ext cx="8361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spAutoFit/>
          </a:bodyPr>
          <a:p>
            <a:pPr>
              <a:tabLst>
                <a:tab algn="l" pos="0"/>
                <a:tab algn="l" pos="573120"/>
                <a:tab algn="l" pos="1146240"/>
                <a:tab algn="l" pos="1719360"/>
                <a:tab algn="l" pos="2292480"/>
                <a:tab algn="l" pos="2865600"/>
                <a:tab algn="l" pos="3438360"/>
                <a:tab algn="l" pos="4011480"/>
                <a:tab algn="l" pos="4584600"/>
                <a:tab algn="l" pos="5157720"/>
                <a:tab algn="l" pos="5730840"/>
                <a:tab algn="l" pos="6303960"/>
                <a:tab algn="l" pos="6877080"/>
                <a:tab algn="l" pos="7450200"/>
                <a:tab algn="l" pos="8023320"/>
                <a:tab algn="l" pos="8596440"/>
                <a:tab algn="l" pos="9169560"/>
                <a:tab algn="l" pos="9742320"/>
                <a:tab algn="l" pos="10315440"/>
                <a:tab algn="l" pos="1088856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eferred items are separated into multiple categories with potentially different funding sour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2773A-959B-489B-92E4-DA732F36955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rry Sullivan, Executive Director</dc:creator>
  <dc:description/>
  <dc:language>en-US</dc:language>
  <cp:lastModifiedBy>rchudgar</cp:lastModifiedBy>
  <dcterms:modified xsi:type="dcterms:W3CDTF">2008-03-28T14:43:13Z</dcterms:modified>
  <cp:revision>1007</cp:revision>
  <dc:subject>Monthly Board update</dc:subject>
  <dc:title>Texas Nodal Market Implementation ERCOT Board of Directors Meeting Budget Rationale October 17, 2006  Jerry Sullivan, Market Redesign Program Director </dc:title>
</cp:coreProperties>
</file>