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63C1-DFAB-4225-9294-D7A79450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8836-E17D-46B7-B35D-DC5D63E5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9192-A579-408D-BA82-6A0E3B07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24AE-EEC3-4FE2-B566-EE089345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B05B-128F-4B54-8D8F-01D4843B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22A5-6B20-4054-A06D-D0A12FFF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D974-19CF-4F8B-BD0F-F2707488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0377-5F7B-4AFD-9FB9-76379BA9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2D13-768D-43DF-967C-5A931CEE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9D1C-9081-4001-B940-5D26765F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A63C-3440-4314-B446-56EF353C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12EA-5C9A-4428-8EE6-9D8C700D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3469-A6DD-4634-9C0C-107AB5358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ch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920" y="928800"/>
          <a:ext cx="829620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28800"/>
                    <a:ext cx="829620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bruary 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955800"/>
          <a:ext cx="8458200" cy="48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55800"/>
                    <a:ext cx="8458200" cy="48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912960"/>
          <a:ext cx="8123400" cy="48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2960"/>
                    <a:ext cx="812340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3400" y="1066680"/>
          <a:ext cx="74772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66680"/>
                    <a:ext cx="74772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870120"/>
          <a:ext cx="7180560" cy="49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70120"/>
                    <a:ext cx="718056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8-03-06T22:20:06Z</dcterms:modified>
  <cp:revision>106</cp:revision>
  <dc:subject/>
  <dc:title>Instructions</dc:title>
</cp:coreProperties>
</file>