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B08-03EF-40CA-B598-A13F669A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BC3-3A28-411B-B950-AF2CDADB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97C-56A7-45B1-BFAF-70D788A5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804-2A5B-48E3-845C-5D4C49DF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43707-551B-44CA-AF94-685F797D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07BBF-5F39-4337-96F8-648C10B1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808B9-80EA-484F-A4D8-88FC35B7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D5D82-A2D4-4BBF-A170-2DB16ECA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4CAB0-9F5B-4F1A-9691-E5E06AC9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8D2AE-17F1-4A8A-ADA1-BD110829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2C33C-AAFA-4599-9AD5-7723543E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9F6-D805-4BC6-A381-67C7307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DF218-1EA1-4393-B81C-5EC83908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51BFE-2CFC-4972-8A6E-E6330940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42D39-8AA1-4241-9CE4-B123B431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B5728-0CD1-4D9B-88EC-4B886C4A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1BB6F-B4EA-4155-8ABD-019DABE9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3F7-103D-4A2C-B81D-BD6C1602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D69-45CC-4923-8B97-16EBB1FA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81C-C29A-4CEB-8C20-7D60F6A9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CBF-EEDC-47C6-B8CC-2E162872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8D3-2ADD-40A8-BC8D-32F5411F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67F-98C1-43D3-8B65-A3ABA778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AA4-25F8-4809-B2DB-D38DD895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320" y="6400440"/>
            <a:ext cx="266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943240" y="6400800"/>
            <a:ext cx="3048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809880" y="6400800"/>
            <a:ext cx="13716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BD8A-483B-499D-BFD7-3D62A40F9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6680" y="6324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DE11-FF22-4231-A40E-D6DA350AF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CP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dt" idx="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9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33AF-E051-48E2-8284-0C72085F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1600200"/>
            <a:ext cx="658188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R Naming Conven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609200" y="3323880"/>
            <a:ext cx="65725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pril 4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th Garz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rotocols require a CRR naming Conven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320004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evious action, WMS has requested that ERCOT staff develop a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ve vs.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2.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RR Naming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TAC subcommittee shall establish a task force that is open to Market Participants, comprised of technical experts, to develop a naming convention for CRRs consistent with the requirements of the Protocols.  The naming convention must be approved by TAC before implemen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08D-889C-4E54-89E5-0E4CFDC05F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4, 2008 / 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Rs have multiple attribut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838080"/>
          <a:ext cx="8140680" cy="30481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762120"/>
                <a:gridCol w="533160"/>
                <a:gridCol w="685800"/>
                <a:gridCol w="978120"/>
                <a:gridCol w="685800"/>
                <a:gridCol w="533160"/>
                <a:gridCol w="838440"/>
                <a:gridCol w="533160"/>
                <a:gridCol w="508320"/>
                <a:gridCol w="547560"/>
                <a:gridCol w="468360"/>
              </a:tblGrid>
              <a:tr h="78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R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ment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u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l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d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R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w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unt Holder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_SOU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Z_NOR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ak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unt Holder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K_GT1__8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Z_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ak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unt Holder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G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LK4A _ L_NORTM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ak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0" y="439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038480"/>
            <a:ext cx="8076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ingle attribute can guarantee uniqu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RR system initially assigns a unique identifier (CRR_ID) to each CR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gmentID may be assigned when a portion of a CRR (capacity or time period) is sold either in a subsequent auction or via bilateral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2A5-89EC-4340-B5BE-5A08D459F3D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4, 2008 / 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urther Explanation of Attribut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R ID: unique identifier for each awarded/allocated CRR per mar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gment ID: differentiates CRRs that are broken out after auction (during trades, et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 Holder : name as registe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egory: PTP (Point to Point) or FGR (Flowgate Righ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dge Type: Obligation or O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R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LOAD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R Types, prior to payment, after payment switch to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R Types, prior to payment, after payment switch to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U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R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AWAR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s that have not yet been paid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s that have been paid fo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 source name (settlement poi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k: sink name (settlement poi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gate: flowgate name, if applic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 Date: mm/dd/yyy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Date: mm/dd/yyy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of Use: PeakWD (Peak Weekday), PeakWE (Peak Weekend) or Off-peak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W: MW amount, per ho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B85-68A6-4975-82F5-34E09E49A2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4, 2008 / 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rtunately the CRR system handles i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R system users are not required to keep track of unique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ystem presents each user with all of their CR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action that a user takes with an existing CRR is handled via dragging and dropping from their CRR inventory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77C-D95A-4167-AE9B-C797B31E1F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4, 2008 / 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MS action – February 20,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unique CRR_ID and SegmentID combination, coupled with various descriptive CRR attributes meets the Nodal Protocol requirement for a CRR naming conven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possible CRR na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P-OBL-From-HB_SOUTH-To-LZ_NORTH-362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P-OPT-From-AK_GT1__8040-To-LZ_WEST-363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631-C059-405B-94ED-788B03018A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4, 2008 / 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5:39:53Z</dcterms:created>
  <dc:creator/>
  <dc:description/>
  <dc:language>en-US</dc:language>
  <cp:lastModifiedBy/>
  <dcterms:modified xsi:type="dcterms:W3CDTF">2008-03-28T04:50:13Z</dcterms:modified>
  <cp:revision>11</cp:revision>
  <dc:subject/>
  <dc:title>CRR Naming Convention</dc:title>
</cp:coreProperties>
</file>