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49B0-3BCE-41B2-B04B-1C52E4E7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1F8F-85A5-4FEF-AA09-A83FEA70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D80C-287A-45C8-A7E5-DB6710B5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0503-601E-4828-A70E-CBB3A4E2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6264-1C45-451F-B3C5-81B251FE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C435-F096-4D5E-B242-60046195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E4C5-3258-4E83-8F7E-BE9947E7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BBD8-2E50-46F7-BDEA-12A1E27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31AA-3B5B-486B-89B5-540E67D0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68F8-F0FD-4BFF-BF4F-44F3FC83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74E0-16A1-42A4-95E0-E20AF33B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B913-B8DC-4E75-B967-8CE8EDD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4E8D-EC42-4E1B-AE5A-35D52A1A4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C4BE-9B65-4CA7-B15C-506F16B3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C Update on Wind Worksho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1280"/>
            <a:ext cx="6343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4,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jective of the Wind Worksho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common understanding of the Impact of wind generation on the operation of the ERCOT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roblem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hallenges will additional wind capacity pres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hanges do we make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hanges do we incorporate into No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dentified Needs and Proxy Solutions prior to the Worksho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 needs identified by ERC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ind resource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to use Wind Forecast in place of Wind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instantaneous ramps associated with congestion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Ramp Rat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gulation requirement to account for wi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rporate effect of incremental increases in installed wind capacity into current 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needs identified by AS study – multiple solution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amping flexibility in ERCOT “fle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ck start/response service?? (what requirement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 ramping capability and increase during times of added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reg/responsive/non-spin during these periods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lts of the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st of issues were developed and placed in one of four categ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/Performanc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to Protocols/Gu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will assign the issues to ROS &amp; W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5:15:22Z</dcterms:created>
  <dc:creator>Chad Thompson</dc:creator>
  <dc:description/>
  <dc:language>en-US</dc:language>
  <cp:lastModifiedBy>remote</cp:lastModifiedBy>
  <dcterms:modified xsi:type="dcterms:W3CDTF">2008-04-04T20:09:26Z</dcterms:modified>
  <cp:revision>16</cp:revision>
  <dc:subject/>
  <dc:title>Balancing Energy and Schedule Changes </dc:title>
</cp:coreProperties>
</file>