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BD2B600-7F4E-4739-9FD9-C03181E8E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E1C55EF-857A-44B4-957C-C772926B0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9F3026-13EA-4309-AF69-BDE078FB7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56C960-B959-42A0-8F59-10468A700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4800DF-A4FE-449C-B90F-39DA31339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517B07-F76F-4C75-B90A-0B6C8803D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B476D4-4A54-4CDB-9330-B67CCD4FB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51EF33-5549-4886-8DB2-9B5982B23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3DE276A-AE60-48AD-BB85-5543F3654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FB1DB2-B636-4BB4-992F-6FFCCE85C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3A62B9-9F0E-4784-97FA-790C768E2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0DFF62-B9D4-4B8A-AAD7-2D31DE6C8A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A8DD-174B-46D6-A936-1D8421EA5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1102-5EC0-48F8-B7B1-4967FA885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Update</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aron Smallwood</a:t>
            </a:r>
            <a:endParaRPr b="0" lang="en-US" sz="2000" spc="-1" strike="noStrike">
              <a:solidFill>
                <a:srgbClr val="ffffff"/>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nager, IT Business &amp; Customer Services</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IT Issues &amp; Updates</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Market IT Servic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Processing Outages &amp; Dela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ak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mp; Repor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 Extracts &amp; Repo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 Prog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IT Services</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Processing Outages &amp; Delays</a:t>
            </a:r>
            <a:endParaRPr b="1" lang="en-US" sz="16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R-745 related production implementation caused delays and failures resulting in the decision to rollback to pre-implementation state</a:t>
            </a:r>
            <a:endParaRPr b="0" lang="en-US" sz="13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ultiple storage hardware failures caused unplanned outages, compounding transaction processing delays already slowed by the failed production release</a:t>
            </a:r>
            <a:endParaRPr b="0" lang="en-US" sz="13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ing troubleshooting efforts, a computer operator started a session of a process that was already running, causing significant duplicate transactions to be generated and requiring the manual cleanup of transactions</a:t>
            </a:r>
            <a:endParaRPr b="0" lang="en-US" sz="1300" spc="-1" strike="noStrike">
              <a:solidFill>
                <a:srgbClr val="000000"/>
              </a:solidFill>
              <a:latin typeface="Arial"/>
            </a:endParaRPr>
          </a:p>
          <a:p>
            <a:pPr lvl="3" marL="158400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a:t>
            </a:r>
            <a:endParaRPr b="0" lang="en-US" sz="14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iled Production Release</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slow performance and crashes, an outage outside of the standard maintenance windows was utilized to rollback to pre-implementation state </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analysis and discussions with TDTWG are ongoing to determine next steps regarding this phase of SCR-745</a:t>
            </a:r>
            <a:endParaRPr b="0" lang="en-US" sz="13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orage Hardware Failures</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to replace aged hardware has been in progress since late ’07 and is scheduled for implementation during the first weekend in May</a:t>
            </a:r>
            <a:endParaRPr b="0" lang="en-US" sz="1300" spc="-1" strike="noStrike">
              <a:solidFill>
                <a:srgbClr val="000000"/>
              </a:solidFill>
              <a:latin typeface="Arial"/>
            </a:endParaRPr>
          </a:p>
          <a:p>
            <a:pPr lvl="2" marL="113148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 Error</a:t>
            </a:r>
            <a:endParaRPr b="0" lang="en-US" sz="1300" spc="-1" strike="noStrike">
              <a:solidFill>
                <a:srgbClr val="000000"/>
              </a:solidFill>
              <a:latin typeface="Arial"/>
            </a:endParaRPr>
          </a:p>
          <a:p>
            <a:pPr lvl="3" marL="1584000" indent="-226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ducation and training as well as procedure revisions to prevent future occurrences</a:t>
            </a:r>
            <a:endParaRPr b="0" lang="en-US" sz="1300" spc="-1" strike="noStrike">
              <a:solidFill>
                <a:srgbClr val="000000"/>
              </a:solidFill>
              <a:latin typeface="Arial"/>
            </a:endParaRPr>
          </a:p>
          <a:p>
            <a:pPr lvl="3" marL="158400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3" marL="1584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31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584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IT Services</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rak slow system performance and failur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stability and limitation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vs. multi-threading processing abiliti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 sessions management capabil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AN fails, the MarkeTrak application fails as well</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instability and limitation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 upgrade that will address these issues has been in process since late ’07, two versions of the upgrade have failed ERCOT testing and have had to be returned to the vendor for fix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recent version upgrade is in ERCOT testing and if successful it will be promoted to production during the May releas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late ’07 and is scheduled for implementation during the first weekend in May</a:t>
            </a: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Extracts &amp; Reports</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Extracts &amp; Reports Delay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delayed batch processing which in turn delayed reports and extrac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leanup activities inadvertently caused incorrect data to be generated during the batch process, the remediation efforts required the backout and rerun of three operating days, much of which had to be performed manually</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ssions not granted properly during the March retail release, causing files to not be able to flow where they needed to for report gener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Hardware Failure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to replace aged hardware has been in progress since ’07 and is scheduled for implementation during the first weekend in Ma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error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Extracts &amp; Reports SLA - Update</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mp; Reports SLA</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DEWG to formalize an SLA with COPS for Data Extracts &amp; Repor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approval at May COPS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oi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27 ‘Priority 1’ extracts &amp; reports to be included in SL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will be provided monthly to COPS and TAC, likely beginning in June and will includ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liness (did it get there in tim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ness (was all the data there that was supposed to b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was the data correc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vailability:</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L Report Explorer</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API (application programmatic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smallwood</cp:lastModifiedBy>
  <dcterms:modified xsi:type="dcterms:W3CDTF">2008-04-03T03:15:21Z</dcterms:modified>
  <cp:revision>42</cp:revision>
  <dc:subject/>
  <dc:title>Instructions</dc:title>
</cp:coreProperties>
</file>