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E56E-2C1D-42ED-AFD5-E50CAADB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E30F-BE3E-424D-964C-9F4039C6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44B0-0C77-4448-B51B-D83E67BC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84C7-FFF9-4D49-A459-ED586948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99B0-D07E-4226-AB52-9C870712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CA2F-7358-490B-A3EC-7C85EDB6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7FB0-B2BD-41EF-A043-A151FFC6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53F4-738D-4A04-BA44-36A6775B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0B37-A3E0-4F00-BE66-449A4626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9A8C-BD5D-4209-87D7-CA15DE72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5649-5743-4A02-805F-9D8346B3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453-99A5-4FC6-B61C-945E3C5E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E891-4C8F-4D13-B994-45703FAB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C6C2-CE22-4874-9F4C-D4F9773D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F645-50BA-438B-B69F-7D311CEC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2CE0-F2AE-43B1-B676-915446BB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017B-70D2-4EF6-B983-E53D2504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608-F11F-42BB-B3C3-D48DDCCD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184B-3CDB-4602-920C-19C70EC4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A0A8-087C-49CB-AD88-FA96BF21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F5C-E9BF-4927-997C-D9AB0746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91A-C71A-421A-A1CE-5F920FCD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15D6-2ED6-4CE1-8E8A-40522882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A404-20EC-4B69-B21F-427218BE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28DE-D705-4F85-9EB7-8E009272CB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F4A6-FC5E-4ABF-B48E-551200E56B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RMS Update to TAC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il 4,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MS Update to TAC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March 12 RMS Meet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MS endorsement of 2008 PPL and 2009 PPL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ed NPRR’s  to Sections 23 and 24 as they related to Retail. Recommendations to retain TDSP as descriptor and specify ERCOT as test flight administra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dit Working Group Risk Appetite discussion and creation of interim RMS Task Force to develop proposal/recommend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 of MarkeTrak service degradation issue. Tasked TDTWG to work with ERC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MS Update to TAC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RMS April 9 Meet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trust 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 proposed action on PRR759 Move-In Notif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PRR097 relating to passing transmission related fees to ESI 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 SLA and receive follow up on MarkeTrak service degrad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date from Nodal MIS Project Manag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date on status of Mandatory IDR Install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E: Update from CWG deferred until following the April 25 meeting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133720" y="1612800"/>
            <a:ext cx="49528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21:28:43Z</dcterms:created>
  <dc:creator>AEP</dc:creator>
  <dc:description/>
  <dc:language>en-US</dc:language>
  <cp:lastModifiedBy>balbracht</cp:lastModifiedBy>
  <dcterms:modified xsi:type="dcterms:W3CDTF">2008-04-03T20:11:14Z</dcterms:modified>
  <cp:revision>30</cp:revision>
  <dc:subject/>
  <dc:title>RMS Update to TAC</dc:title>
</cp:coreProperties>
</file>