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35A4-E353-4182-AE2D-6A6A8E85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9C4C-6ED6-4641-9A64-68D5440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15D9-7297-4DC2-8764-AA4DCA80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FF97-DEAE-4544-BF29-A0E5717A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CA4C-BC56-472A-9064-BD7F30BE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464C-E0DE-40DB-8791-0EE8B731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BCC1-B753-445F-9926-5D2AF252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71F2-C6E4-497F-AB0C-EDC8DA1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5062-5CCB-4EDE-9186-6B22E39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8C9F-49B3-4F78-A0F2-3E264D3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DD46-75D6-40A3-A838-A42FE83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73BA-3B7F-4006-951E-5D4D9274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3515-B8B8-43AA-A8B4-55EEB036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66F-D844-4722-8EA0-D3695D16C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__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C96-D21A-4E7C-BFA4-2850DFD8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3387-866C-4DAE-BDD5-A5CFE82031D5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P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7 UFE Updat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vin Ophe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ssible Options /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Lagged Dynam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15-min Settlement of ESI-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Profil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a time series type model or multiple models much like has been done in ERCOT’s load forecas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coming Discussions at P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B7EB-084B-4545-83AD-BF59267421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2286000"/>
            <a:ext cx="1484280" cy="2514600"/>
            <a:chOff x="3505320" y="2286000"/>
            <a:chExt cx="1484280" cy="25146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2286000"/>
              <a:ext cx="1484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059720" y="263808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9720" y="404604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0224-E5FD-4150-9257-30F7548AF5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 UFE Using Final Settlemen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E Duration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Changes that Occurred in 200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Discontinu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Options /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60D9-E977-4F32-927C-93DE1D40FF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1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080" y="676440"/>
            <a:ext cx="905184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9814-F064-4E14-A78D-84383DD56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bsolute Value of UF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10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080" y="676440"/>
            <a:ext cx="905184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DEC2-96B0-4E46-B23D-A8EA419C7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Duration Curve fo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1023840"/>
            <a:ext cx="883944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1B77-C006-4746-B94F-0EA650A8B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Duration Curve for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020600"/>
            <a:ext cx="8839440" cy="48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F70C-0101-4C6D-8782-FD6B68A34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Duration Curve Compari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1020600"/>
            <a:ext cx="8839440" cy="481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24280" y="5867280"/>
            <a:ext cx="182520" cy="18252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5867280"/>
            <a:ext cx="182520" cy="182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803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803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AC74-5611-441E-ADF6-B6E2CABE7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serv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E increased in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 related / Profile Mod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ity of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 are created independently from one day to the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have significant differences between the last interval of the previous day and the first interval of a 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ofile Models were implemented on 5/15/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istribution Loss Factor methodology was implemented on 5/1/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the Absolute value of UFE decreased slightly in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E075-BD57-4D64-A5A3-27A3713CA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scontinuity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394000"/>
            <a:ext cx="304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394000"/>
            <a:ext cx="304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534520" cy="5021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2340000"/>
            <a:ext cx="3047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340000"/>
            <a:ext cx="304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0368-C618-4BC2-8391-B5EBFB6EF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opheim</cp:lastModifiedBy>
  <dcterms:modified xsi:type="dcterms:W3CDTF">2008-04-01T15:18:06Z</dcterms:modified>
  <cp:revision>265</cp:revision>
  <dc:subject/>
  <dc:title>Instructions</dc:title>
</cp:coreProperties>
</file>