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9F3-D63C-4C96-A877-76B88047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C49-C345-4F87-BA21-7D8E060C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E21-6E81-4245-B13B-8662A336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AC3-FD40-4FB5-8134-F69172EA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2F4-C756-4FE8-B952-22210F5D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76D7-5240-47B9-995D-937AD78D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F05A-52ED-4798-A2F9-CC23E237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100C-8A64-49D3-B994-90C38A39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DDA5-7EFF-454E-A919-B795787E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390B-4E6B-4A56-A9FA-3DA0FDF7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E512-8A5B-4CC2-802C-D7812BAA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FC7-7704-4749-82D1-ACFBDCBD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D407-276E-427E-B268-8F8D051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037F-881C-4701-8737-781C42CC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69BE-FCB5-4A74-816F-6FE07540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85CD-C939-4930-81DE-552E4D88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A5C8-CD8C-4C7E-B884-59A07ABC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99B-AAF2-45F5-A9D0-03B7B77E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D1B-654F-4860-9FAE-E09D0715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4B6-9472-4637-A60E-06B353DF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398-FE90-4D5E-BE8C-41B60594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8B9-0913-4E39-BDE7-638A68A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87C-1423-4CF5-8C99-57F2221B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210-5BA7-4121-95C9-2E404A4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E997-CDD3-4FF9-A201-85BF7EB1F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EAE4-0D5C-4FCE-9770-D12E3DF91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WG Up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 Approach and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work on COP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 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PMG should be a summary of what is going on in the Protocols for the benefit of new (and existing) Market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 Approach and Out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 functional format under broad headings such as ‘Day-Ahead Market’, ‘CRRs’, and ‘Real-Time Mark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index to allow MPs to look up a specific subject, such as ‘Invoice' or ‘Statement’, and be directed to the proper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2, 2008 at ERC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1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Data Extract SLA Communications – Perform Gap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8-04-01T21:01:25Z</dcterms:modified>
  <cp:revision>55</cp:revision>
  <dc:subject/>
  <dc:title>CCWG 2006 Accomplishments</dc:title>
</cp:coreProperties>
</file>