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CD1-BCF9-4E86-B1D7-C6856EB2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9A9-426F-4B8C-94F4-2206C38C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DB0-51C2-4E91-B3FC-3668ACE9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2A0-9E77-4309-B674-7BE8D6A5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B9A-8B41-41CC-9A60-8C5D3750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F2B-F4B2-43F8-AD40-E1575661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F7C-D025-420C-9D55-B2759EFB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4B0-62E3-479C-A9C8-E94A2FFB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11A-27DD-44E2-93C9-6EAF06AC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D67-9128-4710-BE78-5ED13342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5F1-184F-4111-8EA9-FD879E8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B95-BC99-46FB-896C-5DBB3D5D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530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03FB-045D-462A-B9D6-3AD5BD511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-11160"/>
            <a:ext cx="1308240" cy="98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45680" y="1892160"/>
            <a:ext cx="69519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Slides for PWG Update to CO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22360" y="125280"/>
            <a:ext cx="652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energy will a PV array produ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9640" y="1355760"/>
            <a:ext cx="748836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currently known average Residential PV generation capacity of 3.5 kW (AC), at 100% capacity factor there would be (3.5 * 24 =) 84 kWh generated per da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utilize the Interstate Renewable Energy Council’s irradiance estimate of 20% from its presentation to the DGTF on 12/04/07, the estimated yield would be 16.8 kWh per 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the above to the average Business PV generation capacity of 8.9 kW (AC) yields an estimated 42.7 kWh per da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implicity, the energy produced by a PV array is presented in most of the slides as a sine wave spanning 9:00 AM to 5:00 P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605-FB44-4C08-AFA4-05BC354CC8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123560"/>
            <a:ext cx="795672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ed using Sin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/End Times for PV Generation are day of year &amp; weather zone 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hour after sunri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hour  before sun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ily kWh Generation for Residential is based on 3.5 kW with a 20% capacity fa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daily PV Generation is 16.8 kW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daily PV produces output for 10.2 hours  (range: 7.9 – 12.4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ly PV Generation is prorated based on hours of generation for the day compared to an average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ple day with 8 hours of Gener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728800" y="5310360"/>
                <a:ext cx="35388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VGe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422360" y="125280"/>
            <a:ext cx="5645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V Generation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665-B0BF-4871-8A11-6E5B1285C8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5960" y="1123560"/>
            <a:ext cx="78739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ial PV Model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080" indent="-4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Profile multiplied by 1.1215 to adjust to average usage level for PV ESI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080" indent="-4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ract PV Generation from scaled up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esult in an interval is negative, set to zero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V Model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080" indent="-4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Profile multiplied by 2.7633 to adjust to average usage level for PV ESI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080" indent="-4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ract PV Generation from scaled up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esult in an interval is negative, set to ze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ial and Business Wind/Other Model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080" indent="-4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Profile used – the interaction between wind generation and load is unpredic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642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22360" y="125280"/>
            <a:ext cx="5645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G - KWh Loa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AC5-D885-4CFB-B665-EAE4F8BDB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882800" y="6040440"/>
            <a:ext cx="5454720" cy="307080"/>
            <a:chOff x="1882800" y="6040440"/>
            <a:chExt cx="5454720" cy="307080"/>
          </a:xfrm>
        </p:grpSpPr>
        <p:sp>
          <p:nvSpPr>
            <p:cNvPr id="71" name=""/>
            <p:cNvSpPr/>
            <p:nvPr/>
          </p:nvSpPr>
          <p:spPr>
            <a:xfrm>
              <a:off x="1882800" y="6040440"/>
              <a:ext cx="54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V Gen                    PV Profile                   Standard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27360" y="6194160"/>
              <a:ext cx="4604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45240" y="6194160"/>
              <a:ext cx="460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7920" y="6194160"/>
              <a:ext cx="4604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960" y="1123920"/>
            <a:ext cx="8142120" cy="483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22360" y="125280"/>
            <a:ext cx="5645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ial HIWR North 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98E-A66A-4413-BF8B-AAE19C44CE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15960" y="1123560"/>
            <a:ext cx="791208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 generation is the energy flowing into ERCOT from the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756 - Credit for excess generation handled as an adjustment to load in settlement pro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-60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V assumption: Flat line from 11am to 3p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-6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d/Other assumption: Flat line for entire d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ment adjustment is triggered by a DRG Profile I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22360" y="125280"/>
            <a:ext cx="5645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ing Excess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440-68AE-4090-8086-FDAEC574FF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22360" y="125280"/>
            <a:ext cx="5645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ial PV – Applying the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3720" y="870120"/>
            <a:ext cx="7934400" cy="59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06F-F305-4C50-9F05-B732403B31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22360" y="125280"/>
            <a:ext cx="5645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Proposed DRG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75040" y="1152360"/>
            <a:ext cx="4975200" cy="2922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61920" y="4351320"/>
            <a:ext cx="71820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odels per Profile Type to represent Weather Z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DRRG and RESIDRRG are not generation type speci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 ID assignment is used to trigger settlement adjustment for excess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h Load and kWh Gen are settled with actual interval 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1CA-522A-4359-B1E0-6C01459A3C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22360" y="125280"/>
            <a:ext cx="5645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G Profile ID Assig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432080"/>
            <a:ext cx="8142480" cy="40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SPs submit documentation to ERCOT to initiate a change to a DRG Profile ID ass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validates requests within 5 Business Days and notifies to initiate the 814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ormation required from T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irmation of Interconnection Agreement with customer and effectiv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Type, and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ing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er information if applicable (DC Gene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A2E-312B-4B67-94E0-C3A2BFF116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08240" y="165240"/>
            <a:ext cx="633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.2.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uidelines for Development of Load Profil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23920"/>
            <a:ext cx="7988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developing Load Profiles, ERCOT shall strive to achieve an optimal combination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no unfair advantage to any 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 usability by minimizing the total number of Load Profiles without compromising accuracy and cost effectivenes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the Load Profiles’ contribution to UFE over all Settlement Intervals, paying particular attention to higher cost period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 reasonably homogenous groups, with respect to load shape and likely supply co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Load Profiles that are distinctly diffe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Load Profiles for areas with incomplete load data utilizing data from other sources, taking into account similarities and differences in lo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most accurate load research data available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Load Profiles based on readily identifiable parameters that are not subject to frequent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F89-500F-497E-9E83-464587C7B4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08240" y="165240"/>
            <a:ext cx="633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Renewable Generation Modif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3920"/>
            <a:ext cx="798840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rporates kWh load modifications resulting from PV Generation behind the 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 and Non-PV DRG Profile ID assignments results in specific settlement cuts, and supports the reporting of load by Profile 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G Profile ID assignments trigger settlement for kWh Gen specific to the DRG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forecasting systems to track customers by their DRG Profile ID to better forecast the balancing market sche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dow settlement systems perform the same basic evaluation as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(128) increase in the number of Profile IDs used in ERCOT and Market Participants settlement and forecas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413-9CEE-41E8-A81B-C44D7E1D15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22360" y="125280"/>
            <a:ext cx="65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s from the DGTF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ation -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47760" y="1315800"/>
            <a:ext cx="84484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DRG applies to generation less than 50 k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ing is applicable provided a readily available profile has been accepted and validated by ER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sensus on specific methodology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ss generation should be profiled in a type-specific mann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ad profile should reflect solar output during daylight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ssigning solar profile development to P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570-C7A2-4203-9386-EF04017C18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08240" y="165240"/>
            <a:ext cx="633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s for DRG - LPGRR0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23920"/>
            <a:ext cx="79884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rns were raised at the March 26, 2008 PWG meeting about the large number of new Profile IDs being introduced for D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alternatives were discussed and then narrowed to three o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GRR030 as drafted - 128 new Profile 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G Profile IDs only for PV - 72 new Profile I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V, BUSPV, RESW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WD, RESIDR, BUSIDR * 8 WZones – 48 new Profile 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WG did not have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n a single o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7A9-D334-4A9A-85A8-A279CFBD44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08240" y="165240"/>
            <a:ext cx="633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G Profile IDs only for PV 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920" y="1085760"/>
            <a:ext cx="8372160" cy="52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2 Profile IDs instead of 128 – eliminated the requirement for Non-PV DRG Profile 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G Profile ID assignments trigger settlement for kWh Gen specific to PV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ettlement cuts for Non-PV ESIIDs with DRG; increases the difficulty to report NonPV DRG metr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rigger for settlement for kWh Gen specific to Non-PV  (requires an assumption that data in the meter-loop for ESIIDs with standard profiles are for Non-PV D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difficulty to perform required quarterly and annual validations for Non-PV ESII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s continuing manual validation of usage records with meter-loop information to confirm they are correctly associated with DRG ESIIDs and use of MarkeTrak to resolves discrepa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difficulty for forecasting systems to track customers by their DRG Profile 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Protocols Section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R756 will need to be am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F8F-3A88-4631-A374-14187BB9C7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08240" y="165240"/>
            <a:ext cx="633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V, BUSPV, RESWD, BUSWD, RESIDR, BUSIDR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on 3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1085760"/>
            <a:ext cx="791208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 Profile IDs instead of 12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G Profile ID assignments trigger settlement for kWh Gen specific to DRG ty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 cuts with DRG Profile IDs will be creat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ome PV and Wind ESIIDs the Load shape will be inconsistent with the ESIIDs usage pattern (e.g. RESLOWR settled with RESHIP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possibility of gaming (e.g. Adoption of DRG to obtain a more advantageous settlement sha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Protocols Section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disincentives for some categories of ESIIDs to adopt DRG (e.g. Adoption of DRG would result in a less advantageous settlement sha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CFA-E117-4114-BEA0-9318934FD1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22360" y="125280"/>
            <a:ext cx="583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 Instructions to COPS/P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54120" y="131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January 3,2008 COPS reviewed the DGTF recommend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C requested that PWG/COPs assess and further develop profiling options for consideration to address small distributed renewabl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C members indicated that PWG should take into consideration the generation characteristics specific to the renewable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9C5-C982-44BD-B363-B78439D3E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2360" y="125280"/>
            <a:ext cx="583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ment of Outflow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2354400"/>
            <a:ext cx="74516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ossibilities for allocating the PV-generated outf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pread the energy evenly over daylight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pread the energy evenly over the peak PV generating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pread the energy using a PV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pread the energy using both a PV model and the existing settlement load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0040" y="1393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the outflow for residential photovoltaic (PV) arrays as measured at the point of interconnection be settl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4B2-0E26-4D16-B11E-D25C8333D4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22360" y="125280"/>
            <a:ext cx="583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TF Attachm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725400"/>
            <a:ext cx="8126640" cy="58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BB9-A6AC-44F3-A28E-2F40F3C3AE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22360" y="125280"/>
            <a:ext cx="583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TF Attachme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731880"/>
            <a:ext cx="8126280" cy="57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718-CA8A-42CC-89EC-F2E1558D49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22360" y="125280"/>
            <a:ext cx="583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TF Attachmen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1880" y="731880"/>
            <a:ext cx="8126640" cy="569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AD8-CFE1-4FF3-9620-E7FB68410C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22360" y="125280"/>
            <a:ext cx="583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TF Attachmen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1880" y="731880"/>
            <a:ext cx="8126640" cy="57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4D5-93E7-40AF-8BF8-AFB301FAB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22360" y="125280"/>
            <a:ext cx="583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Renewable Generation (D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63520"/>
            <a:ext cx="791064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s responded to ERCOT’s request for information on premises that have DRG with a generation capacity &lt; 50 k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out the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f the ESI IDs included above have PV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 generation.  This means there are currently 87 unique ESI IDs known to have one or more type of DRG (&lt; 50 k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14640" y="2468520"/>
            <a:ext cx="4378320" cy="265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47E-5BD5-4AA7-BA24-E78AEAAAE3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epodraza</cp:lastModifiedBy>
  <cp:lastPrinted>2002-05-17T20:57:43Z</cp:lastPrinted>
  <dcterms:modified xsi:type="dcterms:W3CDTF">2008-03-31T13:36:06Z</dcterms:modified>
  <cp:revision>415</cp:revision>
  <dc:subject/>
  <dc:title>Retail Transactions Report</dc:title>
</cp:coreProperties>
</file>