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502-84B2-41B4-B99D-1D048B88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E05-A7AE-4731-8980-C53625F3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EF6-816D-4F1A-AC3C-631F1D66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82F-BDD3-4C32-A52B-D65A7464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01D-D07B-46E3-AFFE-F64E0F37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7A6-EE86-48F6-9C09-64A83E1F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FE8-FF6E-44BC-84B2-868E8445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A78-55E7-4011-B899-C3B4E96F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0F3-FC1F-4007-9E35-C8DB2FA2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166-55B8-4C4A-AF21-0E9B09DD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D91-17B1-46D6-97B1-2FC71DF3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1B0-E72A-4FB4-8E5E-5C2B47C0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CB4D-98AA-4F86-9522-29DBCB2DD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5960" y="2122560"/>
            <a:ext cx="7758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Renewable Gen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file Implement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880" y="1355760"/>
            <a:ext cx="83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B 3693 requires that ERCOT implement the settlement of distributed renewable generation as of 1/1/2009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, during their Feb 7, 2008 meeting, directed PWG to develop a profiling solution to address recommendation #3 of the Distributed Generation Task Force (DG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G has developed Load Profile ID assignments and Profile Models to be applied to small distributed renewable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Load Profiles require a market notice of at least 150 days prior to their implementa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B90-E9A2-4200-91F2-2BC3880CE8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Future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3760" y="1123920"/>
            <a:ext cx="7988400" cy="54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GRR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 Timeli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by 3/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G Review 4/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G IA Review 5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 Review 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Review 6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 Review 7/15 (if there are impacts to ERC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rgent Timeline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ommended approach to meet deadline for 150 day notice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WG Review and send to post 3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rgency Request/Email Vo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PS Review (with IA) 4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AC Review 5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ard Review 5/20 (if there are impacts to ERC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otice announcing DRG Profile Segments 08-03-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31-2008 150 day notice 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-01-2009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-29-2008 ERCOT will begin posting Forecasted Load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-02-2009 ERCOT will begin posting Backcast Load Pro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572-1B6C-41D7-9515-B4F0D24EC3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Future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3760" y="1130400"/>
            <a:ext cx="729648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R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S Granted Urgency 3/20/2008 and recommended approval of amended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 Review (IA and CBA) 4/8 – this step is only because there is a CBA associated with this PRR and COPS will probably want to review it prior to going to PRS.  It does not slow down the timeline.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S Review (IA and CBA; assign priority and rank) 4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Review 5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ard Review 5/20 (meets deadline for 150 day notic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otice announcing DRG Profile Segments 08-03-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31-2008 150 day notice 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-01-2009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-29-2008 ERCOT will begin posting Forecasted Load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-02-2009 ERCOT will begin posting Backcast Load Pro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775-2EBF-45C8-B365-25C5C9B51F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1880" y="1123920"/>
            <a:ext cx="822024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01-2008 TDSP’s to begin sending in documentation to ERCOT initiating DRG Profile Segment assig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7-01-2008 to 12-31-2008 ERCOT will accumulate and validate change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notify submitter of any invalid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ERCOT will send files of change requests to TD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TDSPs can begin to submit 814-20 transactions changing to DRG Profile Segments with effective date of a meter reading on or after 01-01-20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Trans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D83-6520-4F94-B804-227E51F42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1880" y="1123920"/>
            <a:ext cx="83343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02-2009 TDSP’s continue sending in documentation to ERCOT initiating DRG Profile Segment assig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ERCOT begins sending validated change requests to TD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notify submitter of any invalid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After receipt of requests, TDSPs will submit 814-20 transactions on or before the second regularly scheduled meter read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2009 ERCOT will begin performing quarterly validations of DRG Profile Segment assign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verify that profile segment assignments for ESIIDs in Lodestar are consistent with documentation submit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6A1-1CF0-4C7B-AF83-2695896C22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1480" y="1123920"/>
            <a:ext cx="818064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REP of record discovers that a previously approved ESI ID has become ineligible to be served under a DRG Profile Segment, the REP of record shall notify the TDSP and ERCOT that a Profile Segment change is 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TDSP discovers that a previously approved ESI ID has become ineligible to be served under a DRG Profile Segment, the TDSP of record shall notify ERCOT and also change the Profile Segment to the appropriate default Profile Segment as if the ESI ID represented a new premise without DRG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s shall make reasonable effort to effect the change using the appropriate Texas SET process as soon a possible after they become aware that the premise is no longer eligible to be served under a DRG Profile Segmen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BB9-E526-40B1-89A0-7BBCE4EB94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1480" y="1123920"/>
            <a:ext cx="8180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pecified in LPG Section 8.1 Routine and Non-Routine Profile Model Evaluations, on an annual basis ERCOT shall review DRG profile segments to determine whether model updates are appropriate and make recommendations to the PW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will be based on usage level characteristics and information sub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CE7-14F9-4117-9EEE-43FF87B5D3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craish</cp:lastModifiedBy>
  <cp:lastPrinted>2002-05-17T20:57:43Z</cp:lastPrinted>
  <dcterms:modified xsi:type="dcterms:W3CDTF">2008-03-26T20:26:56Z</dcterms:modified>
  <cp:revision>299</cp:revision>
  <dc:subject/>
  <dc:title>Retail Transactions Report</dc:title>
</cp:coreProperties>
</file>