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144A0-E77D-4300-A584-6FB4C573F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AB837-8B41-4572-BDAB-AD431C4C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B1868-9520-4250-9842-EC5C0E218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083B7-0B92-46FD-B85A-EB0601AB0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70C1A-C289-4944-8D4A-875A8C76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FDB1E-3AA3-4C98-9738-2A70280D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F6A9F-D0E6-4AE4-91B7-75B7717F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FAC77-1533-4214-8086-081344EC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2131B-48F9-4558-9F97-0B0BD199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B4F2F-CD45-4B26-8F80-798717B9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1FBE9-2735-47E1-8EB8-ABEE8D93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7B63F-BAE9-48C9-9B44-2A8E8809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B65C-99A9-450B-A603-29DBE957C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9D7E-D4CA-46C1-A6F7-43CCA7321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robertsrules.com/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Commercial Operations Subcommittee (COPS) Procedures Review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 Market Rul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April 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nsumer Market Segment Excep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sumer Market Segment is divided into three sub-segments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ential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ercial;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sumer Market Segment holds 1.0 segment votes, with each sub-segment holding 1/3 of the vo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ential Consumer Market Segment voting participation is limited to standing representatives or designated alterna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ent sub-segment fractional votes are allocated equally to participating sub-segmen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tentions are not re-allocated and are not included in the vote tall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ot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Voting items must be properly notic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agenda items requiring a vote of COPS must be published at least one week prior to the meeting unless an emergency condition suggests otherwis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tanding Representatives, their designated Alternate Representative, or Proxy may vo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otion passes when a majority of the aggregate of the fractional Segment votes ar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) affirmativ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i) a minimum total of thr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 votes require eight affirmative votes to pa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of all votes taken will be reported to TAC, whether or not the vote pass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Alternates and Proxi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609480"/>
            <a:ext cx="8001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ernate Representatives and Proxies must be designated in writing and sent to the Stakeholder Services Mailbox: StakeholderServices@erco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ernate Representat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anding Representative may designate in writing an Alternate Representative who may attend meetings, vote on his/her behalf and be counted toward establishing a quorum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anding Representative may designate in writing a Proxy who may attend meetings, vote on his/her behalf, but not be counted toward establishing a quoru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elephone and Email Vot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ail Vo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-mail vote may only be initiated by Chair or Vice Chair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must include a detailed description of the issue or proposi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ail votes are primarily conducted for administrative purpos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tes shall be submitted for tallying by the close of two Business Days after Notification of the vo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 votes require eight affirmative votes to pa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lephone Vo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S does not allow telephone vot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otice and Agenda Sett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meeting announcements and agendas must be properly noticed at least one week prior to the meeting date, unless an emergency condition requires shorter notice.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n emergency condition is a condition that threatens the public health or safety, or a reasonably unforeseen situatio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ting notices shall be sent to the subcommittee distribution list and posted on the ERCOT websit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PS Chair and Vice Chair set the agenda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tems requiring a vote that were not properly noticed will require a vote to declare them an emergency condition. Once an emergency condition has been declared, COPS can vote on an issu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Meeting Managemen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meeting to ord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the Anti-Trust Admoni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nowledge any Proxies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o not count towards a quor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r Alternate Representatives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unt towards a quor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rm that a quorum is pres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agenda and announce any chang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ed through agenda - all submitted written comments to pending issues should be address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ng issues to a vote.  Each motion must be second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on becomes subject to deba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vot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ce vote or show of hands – used when there is a clear consens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ll-call vote – used when a voting record is desired or when there is no clear consensus on the issue. Any participant may request a roll-call vo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ouncement of vote results – the Chair must always announce the results of the vo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sourc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-Trust Admoni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’s Amended and Restated By-Law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rcot.com/about/governance/index.htm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Advisory Committee Procedur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rcot.com/committees/board/tac/index.htm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committee Procedures (COPS, PRS, WMS, RMS, and RO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rcot.com/committees/board/tac/cops/index.htm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Protocols (Section 21, Process for Protocol Revision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rcot.com/mktrules/protocols/current/21-020108.do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membershi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ttp://www.ercot.com/about/governance/members/index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erts Rules of Order Newly Revised (RONR),10th ed. (Cambridge, Mass.: Perseus Publishing, 2000) or simply Robert’s Rul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robertsrules.com/</a:t>
            </a:r>
            <a:r>
              <a:rPr b="0" lang="en" sz="14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000000"/>
                </a:solidFill>
                <a:latin typeface="Arial"/>
              </a:rPr>
              <a:t>http://www.robertsrules.org/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000000"/>
                </a:solidFill>
                <a:latin typeface="Arial"/>
              </a:rPr>
              <a:t>http://www.rulesonline.com/ ;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000000"/>
                </a:solidFill>
                <a:latin typeface="Arial"/>
              </a:rPr>
              <a:t>http://www.roberts-rules.com/</a:t>
            </a:r>
            <a:r>
              <a:rPr b="0" lang="e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En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PS Procedure Re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Governance 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ope and Function of CO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ing Groups and Task Fo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bership and Market Seg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et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e Representatives and Prox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ephone and E-Mail Vo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ce and Agenda Se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ting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 Governance Structur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Board of Direc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ical Advisory Committee (TA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ing Subcommitt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 Revision Subcommittee (P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ility and Operations Subcommittee (R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lesale Market Subcommittee (W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ail Market Subcommittee (R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ercial Operations Subcommittee (CO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S Communication Working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Extracts Working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ling Working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lement and Data Aggregation Working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cope of COP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cope and functions of COPS are prescribed in the Commercial Operations Subcommittee Procedures.  The COPS will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the current commercial operations processes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the Retail variance process and the Wholesale Market Settlements Processes, including dispute resolution;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 the overall settlements calendar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tain the Commercial Operations Market Guide and Load Profiling Guide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 market participant communication needs for commercial operations issues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comments as appropriate on System Change Requests (SCRs), Protocol Revision Requests (PRRs) and other projects with respect to impacts on commercial operations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y implications to commercial operations associated with changing market features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 market participant data needs for shadow settlemen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 overall market data extract, data delivery and data presentation needs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a forum for implementation of ERCOT Protocol revisions that have commercial implications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y settlement related processes performance metrics and tracking through reporting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a forum for discussion of commercial operations issues and make appropriate recommendations; a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 profiling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sponsibilities of COP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ubcommittee shall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and submit a Protocol Revision Request for any issues identified that require a change to the ERCOT Protocols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liaisons to the other TAC subcommittees, who shall report back to the COPS on a regular basi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Protocol Revision Requests for effects on the commercial settlement proces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 to TAC on a regular basis or as otherwise directed by TAC.  The subcommittee chair or vice chair shall normally attend TAC meetings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Working Groups and Task Forc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S may form standing working groups and task forces to assist in carrying out its func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mbers of the working group shall elect from amongst themselves a chair and vice chair, subject to confirmation by the COPS, for a one-year term on a calendar year basis or until the working group is no longer required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uration and activities of the working groups and task forces are limited to tasks assigned by COP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S working groups and task forces ar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oting bodies – The Chairs of these bodies must report recommendations to COPS, including all minority posi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s submitted by working groups that require COPS approval will be submitted to COPS members for review one week prior to the scheduled COPS meet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embership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S Representatives shall be elected or appointed according to the provisions of the TAC Procedures related to Standing TAC Subcommittee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S Representatives shall be selected annually in December of each year for service in the following calendar year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S shall be comprised of two Standing Representatives of members from each Market Segment appointed or elected from within the Segm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acancy shall be filled by the same means used to elect or appoint the previous COPS Representativ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erson (other than the Residential Consumers Representative) serving on COP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ust be an employee or agent of a Me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 employee/agent of a Member is elected or appointed to serve on COPS, such a person 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nly eligible to serve in such capacity so long as he/she is an employee/agent of the same Member as he/she was at the time of such election or appoint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ket Segmen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Voting Entity belongs to a Market Segment and may not change Market Segment alignment during the yea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ting Segment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pendent Gene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pendent Power Mark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ail Electric Prov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nicipally Owned Ut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or Owned Ut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ic Cooper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um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d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e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orum and Voting Structur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or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order to take action, a quorum must be present.  A quorum is defined as at least one Standing Representative in each of at least four Market Segmen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Market Segment has one segment vo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eligible voting entity receives one vote (i.e. one company/one vote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articipating voting entity receives an equal fraction of its Segment Vo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tentions are allocated to the voting entities within that Market Segm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ote Consumer Market Segment excep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ERCOT</cp:lastModifiedBy>
  <dcterms:modified xsi:type="dcterms:W3CDTF">2008-04-04T12:48:32Z</dcterms:modified>
  <cp:revision>48</cp:revision>
  <dc:subject/>
  <dc:title>Instructions</dc:title>
</cp:coreProperties>
</file>