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DDF-2D91-496F-BE89-2C6331B5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6DDE-2EBB-4AD0-8DB0-94E5418F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C3B-27AA-4E05-90C9-F22B46F1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F23-DAC1-457E-8362-8352875A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019-8164-437D-B0A6-67978C06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FB2-E403-4A70-9B27-E8967C26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2A97-A014-4080-8D6B-B42CE6EC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5D1D-1DE2-41D1-A8A1-EA9A8B79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A8A-8D54-4D7B-AA92-ACE2D931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3A1-86DA-4995-89A5-B2FFF231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456-708D-48A1-A1F1-14B6EA75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2E5D-73C0-4788-95AD-A9CD6DEB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362B-7EDF-481F-A507-6C274A4C1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5960" y="2122560"/>
            <a:ext cx="7758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Renewable Gene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file Implementati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98320" y="13140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1880" y="1355760"/>
            <a:ext cx="8372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B 3693 requires that ERCOT implement the settlement of distributed renewable generation as of 1/1/2009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, during their Feb 7, 2008 meeting, directed PWG to develop a profiling solution to address recommendation #3 of the Distributed Generation Task Force (DGT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WG has developed Load Profile ID assignments and Profile Models to be applied to small distributed renewable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Load Profiles require a market notice of at least 150 days prior to their implementatio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FFC-6ECD-4357-95FD-A5E6EEC813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8320" y="13140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Future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3760" y="1123920"/>
            <a:ext cx="7988400" cy="54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GRR Tim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 Timeli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 by 3/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G Review 4/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G IA Review 5/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S Review 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 Review 6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D Review 7/15 (if there are impacts to ERC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rgent Timeline: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commended approach to meet deadline for 150 day notice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WG Review and send to post 3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rgency Request/Email Vo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PS Review (with IA) 4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AC Review 5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oard Review 5/20 (if there are impacts to ERC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Notice announcing DRG Profile Segments 08-03-200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-31-2008 150 day notice 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-01-2009 Implement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-29-2008 ERCOT will begin posting Forecasted Load 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-02-2009 ERCOT will begin posting Backcast Load Pro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A82-AED7-438E-B86C-8A3E974A04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8320" y="13140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Future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23760" y="1130400"/>
            <a:ext cx="729648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R Tim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S Granted Urgency 3/20/2008 and recommended approval of amended langu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S Review (IA and CBA) 4/8 – this step is only because there is a CBA associated with this PRR and COPS will probably want to review it prior to going to PRS.  It does not slow down the timeline.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S Review (IA and CBA; assign priority and rank) 4/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 Review 5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oard Review 5/20 (meets deadline for 150 day notic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Notice announcing DRG Profile Segments 08-03-200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-31-2008 150 day notice 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-01-2009 Implement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-29-2008 ERCOT will begin posting Forecasted Load 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-02-2009 ERCOT will begin posting Backcast Load Pro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E152-D682-47FD-9B1D-E6F6E3A804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1880" y="1123920"/>
            <a:ext cx="822024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01-2008 TDSP’s to begin sending in documentation to ERCOT initiating DRG Profile Segment assign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7-01-2008 to 12-31-2008 ERCOT will accumulate and validate change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notify submitter of any invalid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1-02-2009 ERCOT will send files of change requests to TDS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1-02-2009 TDSPs can begin to submit 814-20 transactions changing to DRG Profile Segments with effective date of a meter reading on or after 01-01-200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8320" y="13140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Profile Transi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6DD-59C3-425B-B533-85DF1F31FC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3320" y="202680"/>
            <a:ext cx="6700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Profile Ongo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1880" y="1123920"/>
            <a:ext cx="833436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02-2009 TDSP’s continue sending in documentation to ERCOT initiating DRG Profile Segment assign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1-02-2009 ERCOT begins sending validated change requests to TDS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notify submitter of any invalid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1-02-2009 After receipt of requests, TDSPs will submit 814-20 transactions on or before the second regularly scheduled meter read d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il 2009 ERCOT will begin performing quarterly validations of DRG Profile Segment assign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verify that profile segment assignments for ESIIDs in Lodestar are consistent with documentation submit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09D-B6D1-40AF-8CB4-6423D77435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01480" y="1123920"/>
            <a:ext cx="818064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REP of record discovers that a previously approved ESI ID has become ineligible to be served under a DRG Profile Segment, the REP of record shall notify the TDSP and ERCOT that a Profile Segment change is 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TDSP discovers that a previously approved ESI ID has become ineligible to be served under a DRG Profile Segment, the TDSP of record shall notify ERCOT and also change the Profile Segment to the appropriate default Profile Segment as if the ESI ID represented a new premise without DRG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SPs shall make reasonable effort to effect the change using the appropriate Texas SET process as soon a possible after they become aware that the premise is no longer eligible to be served under a DRG Profile Segmen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3320" y="202680"/>
            <a:ext cx="6700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Profile Ongo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0AD4-1140-41BB-B33E-1AA438444B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1480" y="1123920"/>
            <a:ext cx="81806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pecified in LPG Section 8.1 Routine and Non-Routine Profile Model Evaluations, on an annual basis ERCOT shall review DRG profile segments to determine whether model updates are appropriate and make recommendations to the PW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will be based on usage level characteristics and information sub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3320" y="202680"/>
            <a:ext cx="6700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Profile Ongo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DB5-491E-4F26-9D6A-FC405221DB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craish</cp:lastModifiedBy>
  <cp:lastPrinted>2002-05-17T20:57:43Z</cp:lastPrinted>
  <dcterms:modified xsi:type="dcterms:W3CDTF">2008-03-26T20:26:56Z</dcterms:modified>
  <cp:revision>299</cp:revision>
  <dc:subject/>
  <dc:title>Retail Transactions Report</dc:title>
</cp:coreProperties>
</file>