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4E5B29-17A6-47BE-9604-38D012ED7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FEE63C-E446-4362-932F-284E749B7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71AC16A-C803-499E-BE1B-3B16EAD83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18E1C3D-6BE4-4162-AC61-2D910C432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D259E3-8241-4838-BBF4-86AA72F09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14C489F-E42E-4654-87BA-3441A41D0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0FEB37-4EA8-4A4D-874F-1D6725AC7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C9FC9A-0E76-41F3-9126-1B466ABED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DE7413-D3CF-476E-9B23-450486335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3EE1AB-F7D9-4CB1-B4D7-546E0A6DC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037209-CC24-41B6-9C61-B8C150BEB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F51B82-71CD-42FC-8426-73EA687BCA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619E-ECB8-4268-914E-C6112D0CB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8C9A-2B1A-4018-AFDA-097BA3769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Update</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aron Smallwood</a:t>
            </a:r>
            <a:endParaRPr b="0" lang="en-US" sz="2000" spc="-1" strike="noStrike">
              <a:solidFill>
                <a:srgbClr val="ffffff"/>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nager, IT Business &amp; Customer Services</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Extracts &amp; Reports</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320"/>
            <a:ext cx="82296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Data Extracts &amp; Reports Delay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delayed batch processing which in turn delayed reports and extrac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leanup activities inadvertently caused incorrect data to be generated during the batch process, the remediation efforts required the backout and rerun of three operating days, much of which had to be performed manually</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ssions not granted properly during the March retail release, causing files to not be able to flow where they needed to for report gener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07 and is scheduled for implementation during the first weekend in Ma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Issues</a:t>
            </a:r>
            <a:endParaRPr b="0" lang="en-US" sz="2000" spc="-1" strike="noStrike">
              <a:solidFill>
                <a:srgbClr val="ffffff"/>
              </a:solidFill>
              <a:latin typeface="Arial Black"/>
            </a:endParaRPr>
          </a:p>
        </p:txBody>
      </p:sp>
      <p:sp>
        <p:nvSpPr>
          <p:cNvPr id="95" name=""/>
          <p:cNvSpPr/>
          <p:nvPr/>
        </p:nvSpPr>
        <p:spPr>
          <a:xfrm>
            <a:off x="457200" y="838080"/>
            <a:ext cx="8229600" cy="4724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022008-01 – Delayed ESI_ID Service History and Usage Extracts</a:t>
            </a:r>
            <a:endParaRPr b="0" lang="en-US" sz="16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 database rollback segment error, ESI ID service history and usage extract was delayed on February 19</a:t>
            </a:r>
            <a:r>
              <a:rPr b="0" lang="en-US" sz="1200" spc="-1" strike="noStrike" baseline="30000">
                <a:solidFill>
                  <a:srgbClr val="000000"/>
                </a:solidFill>
                <a:latin typeface="Arial"/>
              </a:rPr>
              <a:t>th</a:t>
            </a:r>
            <a:r>
              <a:rPr b="0" lang="en-US" sz="1200" spc="-1" strike="noStrike">
                <a:solidFill>
                  <a:srgbClr val="000000"/>
                </a:solidFill>
                <a:latin typeface="Arial"/>
              </a:rPr>
              <a:t> and February 20</a:t>
            </a:r>
            <a:r>
              <a:rPr b="0" lang="en-US" sz="1200" spc="-1" strike="noStrike" baseline="30000">
                <a:solidFill>
                  <a:srgbClr val="000000"/>
                </a:solidFill>
                <a:latin typeface="Arial"/>
              </a:rPr>
              <a:t>th</a:t>
            </a:r>
            <a:r>
              <a:rPr b="0" lang="en-US" sz="1200" spc="-1" strike="noStrike">
                <a:solidFill>
                  <a:srgbClr val="000000"/>
                </a:solidFill>
                <a:latin typeface="Arial"/>
              </a:rPr>
              <a:t>, 2008 and was posted on February 21</a:t>
            </a:r>
            <a:r>
              <a:rPr b="0" lang="en-US" sz="1200" spc="-1" strike="noStrike" baseline="30000">
                <a:solidFill>
                  <a:srgbClr val="000000"/>
                </a:solidFill>
                <a:latin typeface="Arial"/>
              </a:rPr>
              <a:t>st</a:t>
            </a:r>
            <a:r>
              <a:rPr b="0" lang="en-US" sz="1200" spc="-1" strike="noStrike">
                <a:solidFill>
                  <a:srgbClr val="000000"/>
                </a:solidFill>
                <a:latin typeface="Arial"/>
              </a:rPr>
              <a:t>, 2008</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Database size continues to grow due to the increasing volume of data, and maintenance activities failed due to space allocation </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Additional space was allocated and extracts were rerun</a:t>
            </a:r>
            <a:endParaRPr b="0" lang="en-US" sz="12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031208-01 – 867_03 Activity reports for 3/10 – 3/12 were delayed</a:t>
            </a:r>
            <a:endParaRPr b="0" lang="en-US" sz="16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 permissions issue, some 867 usage files were not picked up via the automated process.  Manual intervention was required to complete the usage processing which caused multiple reports to be created  </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Permissions issues following a hardware change during a Retail Release the previous weekend  </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ermissions were granted  </a:t>
            </a:r>
            <a:endParaRPr b="0" lang="en-US" sz="12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B031408-01 – Mapping Status Reject Report for 3/10 – 3/12 was delayed</a:t>
            </a:r>
            <a:endParaRPr b="0" lang="en-US" sz="16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failure to restart a retail process correctly following a hardware change during a Retail Release the previous weekend, the Mapping Status Reject Reports for 3/10 – 3/12 were delayed  </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Human Error  </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Education &amp; Training</a:t>
            </a:r>
            <a:endParaRPr b="0" lang="en-US" sz="12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031708-01 – Delays in Posting Several Reports &amp; Extracts</a:t>
            </a:r>
            <a:endParaRPr b="0" lang="en-US" sz="16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anup activities inadvertently caused incorrect data to be generated during the batch process.  Remediation efforts required the backout and rerun of three operating days, much of which had to be performed manually.  Additionally, the data cleanup activities caused the database statistics to become stale off-cycle, which significantly increased batch processing time.  Subsequent reports and extracts were delayed due to the delayed batch process</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Inadvertently caused by data cleanup</a:t>
            </a:r>
            <a:endParaRPr b="0" lang="en-US" sz="1200" spc="-1" strike="noStrike">
              <a:solidFill>
                <a:srgbClr val="000000"/>
              </a:solidFill>
              <a:latin typeface="Arial"/>
            </a:endParaRPr>
          </a:p>
          <a:p>
            <a:pPr lvl="1" marL="713160" indent="-2743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Rerun statistics on the database</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97280" indent="-21924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Issues</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031708-01 – Delays in Posting Several Reports &amp; Extracts (cont…)</a:t>
            </a:r>
            <a:endParaRPr b="1"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ing to this market notice, a hardware failure hung the batch process requiring restart of the settlements and billing database and server </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Hardware failure</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R70055 was initiated in November 2007 to replace these infrastructure components, expected completion is April 2008</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031708-01 – Reposting of Settlements &amp; Billing Extract</a:t>
            </a:r>
            <a:endParaRPr b="1"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s and billing extracts for March 9</a:t>
            </a:r>
            <a:r>
              <a:rPr b="0" lang="en-US" sz="1200" spc="-1" strike="noStrike" baseline="30000">
                <a:solidFill>
                  <a:srgbClr val="000000"/>
                </a:solidFill>
                <a:latin typeface="Arial"/>
              </a:rPr>
              <a:t>th</a:t>
            </a:r>
            <a:r>
              <a:rPr b="0" lang="en-US" sz="1200" spc="-1" strike="noStrike">
                <a:solidFill>
                  <a:srgbClr val="000000"/>
                </a:solidFill>
                <a:latin typeface="Arial"/>
              </a:rPr>
              <a:t> contained incomplete data</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Missing data was due to an hour being skipped due to the Daylight Savings Time transition</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Backout and rerun of that settlement date</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Extracts &amp; Reports SLA - Update</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mp; Reports SLA</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DEWG to formalize an SLA with COPS for Data Extracts &amp; Repor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approval at May COPS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oi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27 ‘Priority 1’ extracts &amp; reports to be included in SL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will be provided monthly to COPS and TAC, likely beginning in June and will includ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liness (did it get there in tim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ness (was all the data there that was supposed to b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was the data correc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vailability:</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L Report Explorer</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API (application programmatic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smallwood</cp:lastModifiedBy>
  <dcterms:modified xsi:type="dcterms:W3CDTF">2008-04-07T21:13:05Z</dcterms:modified>
  <cp:revision>43</cp:revision>
  <dc:subject/>
  <dc:title>Instructions</dc:title>
</cp:coreProperties>
</file>