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7AD-69E4-4051-912B-394F2E76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051-3769-42FB-B5C2-036CCF1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A33-64AF-4C29-8C7D-41D6BD9C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D2F-FE91-4F78-AB75-373F51DE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870-96D8-4C46-9CE8-0AA56F8A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7770-2EEF-4384-8B88-532C94C0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185-E3C4-45FF-BF43-DAAF4714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0DC-2E02-4868-B5D2-9159C1B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EB1E-F12A-4D40-A9A0-64B013A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EC00-7C2A-4D8F-85D3-95DFB6C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33B-25CA-4B0E-865B-94874FA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3F3-CE9C-4214-9960-3ED09F08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18D9-0145-4F90-9366-7293353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BE7-0342-48F5-B177-F8F46E2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58F1-2FE4-4E4D-8C91-5441010E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67C-41D5-4D21-9D05-380469A9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8D25-4BCA-4B15-A2BB-0A4A0998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AB2-51A3-4611-ABC6-FCB8CE1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445-38B2-4C29-A74B-E4D53F15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E80-F044-491D-A384-8285529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754-E2AF-4270-B820-F733C3CB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094-5A7C-4BD6-95B5-FB32628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6E7-23A5-420D-9E3D-E80FF19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958-0CEE-4BF6-9558-51E8D05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D7D-0C9A-4F63-94CC-57D5D0B89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27B-4DDE-4985-A53F-F0FFF2A8F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pril 4, 200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Highlights of the COPS 3/11/08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and endorsed changes 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R7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RO Fee Assessment and Collection Guide”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ed to PRS for their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d to endorse the 2008 MO Project Priority List as submit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 expressed related to funding needs fo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usin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quirements of Nodal design, especially syst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now cannot be implemented in time for “go liv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ewed COPS request for a listing of what applications will not be available and projected delivery timetable after “Go L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nodal Sections in the Commercial Operations Market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ing Service Level Agreement – communication for Data Extrac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discussed recent issues with Data Extract delays and errors that occurred beginning in Februa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ssue root caus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maintenance on storage of data and data clean-u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rors in manual proces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issing data on DST trade da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permissions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continues to work to resolve these issues and achieve timely posting of extrac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ny key extracts have posted within the 48-hour timeline; however, certain key extracts (such as forecasted losses) are delayed beyond the time where they can be used for Day Ahead and/or day of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staff introduced a format for more detailed information and tracking of Extract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has adopted this format, similar to format utilized in Retail Systems repor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and DEWG will continue to address issues and track them in more detai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cus going forward will be to continue to improve on communication to Market Participants and on communicating issues to the appropriate Stakeholder committe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and SDAWG will continue to focus on fine-tuning the Extract requirements for the current market and apply the same principles to Extracts and Reports for the Nodal Marke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LPGRR filed March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“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rgency Requ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to Vote by e-mail on Urgency 3/31 (48h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128 IDR and non-IDR Photovoltaic (PV) and non-PV Load Profi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PGRR and PRR756 need Board approval prior to August to ensure 150 day notice required for 1/01/09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Urgent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approved April 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April 8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May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Ma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mal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F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June 10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June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July 15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balbracht</cp:lastModifiedBy>
  <dcterms:modified xsi:type="dcterms:W3CDTF">2008-04-03T20:07:16Z</dcterms:modified>
  <cp:revision>4</cp:revision>
  <dc:subject/>
  <dc:title>Slide 1</dc:title>
</cp:coreProperties>
</file>