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8A8-026B-43F9-A5AA-AD97CAC2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4E7-269A-4654-871A-251C797F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D6D-A446-4D86-A6C6-6CDE5827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609-4C67-462E-A142-DA2B469D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C112-5A9B-4F64-B7F5-0C7E29AB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7A41-17A1-4BD4-8182-86C5BE78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B979-27AF-4B17-8213-FE01000E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3897-33AC-475A-9E72-46531F11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EFED-3FA9-4852-A178-D2ED915A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1AD8-3A1C-4EB7-932E-CB5C1658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D02A-B48F-4E02-BB98-B9A70530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19A-DBA0-4B62-9FAF-72DB9E79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E865-BFAB-41ED-9153-85095EF0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0594-47D7-448E-8124-AE92A83F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0193-75F1-47C1-83F5-D36D6936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C8C4-D62F-4DCA-8DB5-D02487A9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115B-1BEC-48BF-9D9E-1D571E03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1D7-1408-4F14-8CE1-E0A46B0E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6FD-83FA-4E68-8D36-087B9F3D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2CE-ACC8-4EDA-8731-86B98684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150-E64A-483E-8FC7-D69A7958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C7D-0ED3-4FD2-951B-E323E27A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DBB-79AE-4072-9849-DE011501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C37-7F7E-4C13-93D0-AAC396D2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F44D-9A46-4A0E-9340-D1E2C1C2D5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CD46-DC1B-4C50-8E7E-894CBC8A18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WG Up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 Approach and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work on COP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 V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PMG should be a summary of what is going on in the Protocols for the benefit or new (and existing) Market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 Approach and Out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 functional format under broad headings such as ‘Day-Ahead Market’, ‘CRRs’, and ‘Real-Time Mark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 index to allow MPs to look up a specific subject, such as ‘Invoice' or ‘Statement’, and be directed to the proper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2, 2008 at ERC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am – 1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tion of COPM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Data Extract SLA Communications – Perform Gap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8-04-01T18:05:02Z</dcterms:modified>
  <cp:revision>54</cp:revision>
  <dc:subject/>
  <dc:title>CCWG 2006 Accomplishments</dc:title>
</cp:coreProperties>
</file>