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59681E-6AE6-4771-9E43-B7C2D56BD5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F684AB-CA38-44C7-B690-EB9BFC83D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71906AC-1D7A-4718-826B-564EED06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14D56D9-EA1A-4739-809D-6A034D9C4F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B69DBE-CECF-40DA-8035-AB2430B3CA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89C000-F0E9-42C0-A1DA-9ED9B024E8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65E115-B6EB-4AC3-A343-4117B79C8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5841F78-5430-41F8-A443-4EC313B95F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644A1A4-15D4-41A5-B581-B4F2E78A3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26A50DC-9A95-46F8-A326-6D818C0DA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FE12577-B3F0-41BC-A3CB-FCE9A1B3B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D5EB5-6B62-43BA-9275-912ABADB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D5D2A06-77C5-4CA6-B6DA-055E601B8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11AD88C-0C62-444A-8EA3-7CD62E3A8B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F25BBD2-5DCA-4D8D-92C4-4AA8B5A752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F960187-A5EA-4DB9-8615-42A9810C8D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AF509C4-0A9E-4D55-A291-00DA5F6298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335F2B-49D8-4E6C-AECE-AD68038E509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239205F-892F-4F0D-B364-5FDE3B27E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D2C218B-AB01-4B8C-B1C5-26ECB5DA1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2FBDE52-7419-4851-922E-F7670555A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23EA7EF-11A4-4A09-AF11-BA3089933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924E67-F232-40C7-87CE-360B810C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2292761-F5A6-4189-87BE-37EBC3190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88CBA6B-1793-4AA1-8DAE-4145F065F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C7FDD73-B80C-45F3-995F-D05A8AA7E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D115042-34A8-45EE-881A-06FCDB30B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E98D97A-F87B-4187-BD58-348AF4F19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10493FE1-6B9D-4BCE-8D3E-D095CD0F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26935D9-7078-43AB-A2C9-477693045B0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FE761F-96E7-4545-90DD-0F039B23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7DA02C-A250-4529-9525-6AA55830D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C0B5C7-E692-4F63-8C03-06DC506D9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A7F655-78CD-4443-B56D-F1EF88629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A61B59-9EA0-429C-9321-0AD17E6CB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7F7812-6081-43AB-ABC6-A1EF681C9EC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9B97-EB65-4488-B1BE-1773A07D66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85E0-827F-493C-8417-ED65CE5D2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21C3-A6FD-4605-9EF6-7362B7B1C24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Direc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pril 8, 2008</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0F1571-DC4F-43D8-8E27-20AB229FC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393920"/>
            <a:ext cx="8610480" cy="2361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meeting March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thir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Tree latest draft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preadsheets being develop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ta test of MetrixND project file has been develop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B473E1B-58FE-4CB0-AA1E-78A67A282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8600" y="1393920"/>
            <a:ext cx="8610480" cy="3035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meeting March 26</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latest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Tree latest draft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preadsheet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30 filed on March 27</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to present LPGRR030 to the COPS with pros and cons on Options 1, 2 and 3 (to be explained in separate present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0DBB21A-4D73-402E-B13B-C59D7A1C6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1393920"/>
            <a:ext cx="8610480" cy="45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PRR756</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Urgent resolution filed 2/28/200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3 market notice to PRS initiating urgent vote</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5 PRS request to grant Urgent status fail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20 PRS passed Urgent Status and files recommendation report</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8 the COPS vote on IA and CBA recommendation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8 at the PRS review of IA and CBA</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8 at the TAC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0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mpact analysis is anticipated to be within $500,000 budge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75DA7DF-BF6C-48E1-98AD-3B336B51D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393920"/>
            <a:ext cx="8610480" cy="4939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LPGRR030</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nt resolution targeted to be filed 3/26/200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urgent approved;</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8 at the COP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8 at the TAC</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0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mpact analysis is anticipated to be within $500,000 budget</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ERCOT Board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ust approve no later than August 3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the 150 day notice to allow for 1/1/2009 implement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8FEB563-B267-4E10-ACD5-D2C605F78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981080" y="1828800"/>
            <a:ext cx="4876920" cy="2590920"/>
          </a:xfrm>
          <a:prstGeom prst="rect">
            <a:avLst/>
          </a:prstGeom>
          <a:ln w="0">
            <a:noFill/>
          </a:ln>
        </p:spPr>
      </p:pic>
      <p:sp>
        <p:nvSpPr>
          <p:cNvPr id="150" name=""/>
          <p:cNvSpPr/>
          <p:nvPr/>
        </p:nvSpPr>
        <p:spPr>
          <a:xfrm>
            <a:off x="609480" y="4495680"/>
            <a:ext cx="8001000" cy="1572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8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3</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4</a:t>
            </a:r>
            <a:r>
              <a:rPr b="0" lang="en-US" sz="2400" spc="-1" strike="noStrike" baseline="30000">
                <a:solidFill>
                  <a:srgbClr val="000000"/>
                </a:solidFill>
                <a:latin typeface="Arial"/>
              </a:rPr>
              <a:t>th</a:t>
            </a:r>
            <a:r>
              <a:rPr b="0" lang="en-US" sz="2400" spc="-1" strike="noStrike">
                <a:solidFill>
                  <a:srgbClr val="000000"/>
                </a:solidFill>
                <a:latin typeface="Arial"/>
              </a:rPr>
              <a:t> Wednesday of the month for Mar. – Oc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2B888BE-164F-43BD-BAFB-826563140C1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1371600"/>
            <a:ext cx="8458200" cy="737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Updated PWG 2008 Goals </a:t>
            </a:r>
            <a:endParaRPr b="0" lang="en-US" sz="24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ranked by Target Date)</a:t>
            </a:r>
            <a:endParaRPr b="0" lang="en-US" sz="1200" spc="-1" strike="noStrike">
              <a:solidFill>
                <a:srgbClr val="000000"/>
              </a:solidFill>
              <a:latin typeface="Times New Roman"/>
            </a:endParaRPr>
          </a:p>
        </p:txBody>
      </p:sp>
      <p:pic>
        <p:nvPicPr>
          <p:cNvPr id="133" name="" descr=""/>
          <p:cNvPicPr/>
          <p:nvPr/>
        </p:nvPicPr>
        <p:blipFill>
          <a:blip r:embed="rId1"/>
          <a:stretch/>
        </p:blipFill>
        <p:spPr>
          <a:xfrm>
            <a:off x="581040" y="2217600"/>
            <a:ext cx="7983360" cy="3497400"/>
          </a:xfrm>
          <a:prstGeom prst="rect">
            <a:avLst/>
          </a:prstGeom>
          <a:ln w="0">
            <a:noFill/>
          </a:ln>
        </p:spPr>
      </p:pic>
      <p:sp>
        <p:nvSpPr>
          <p:cNvPr id="2" name="PlaceHolder 1"/>
          <p:cNvSpPr>
            <a:spLocks noGrp="1"/>
          </p:cNvSpPr>
          <p:nvPr>
            <p:ph type="sldNum" idx="2"/>
          </p:nvPr>
        </p:nvSpPr>
        <p:spPr/>
        <p:txBody>
          <a:bodyPr/>
          <a:p>
            <a:fld id="{65FC4EDE-40D7-4543-B2D7-9FDCB82566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9920" y="1590840"/>
            <a:ext cx="6972480" cy="73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 </a:t>
            </a:r>
            <a:br>
              <a:rPr sz="1800"/>
            </a:br>
            <a:r>
              <a:rPr b="1" lang="en-US" sz="1800" spc="-1" strike="noStrike">
                <a:solidFill>
                  <a:srgbClr val="000000"/>
                </a:solidFill>
                <a:latin typeface="Arial"/>
              </a:rPr>
              <a:t>Percent New Installations as of March 26, 2008</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5" name="" descr=""/>
          <p:cNvPicPr/>
          <p:nvPr/>
        </p:nvPicPr>
        <p:blipFill>
          <a:blip r:embed="rId1"/>
          <a:stretch/>
        </p:blipFill>
        <p:spPr>
          <a:xfrm>
            <a:off x="1481040" y="2486160"/>
            <a:ext cx="6181920" cy="3609720"/>
          </a:xfrm>
          <a:prstGeom prst="rect">
            <a:avLst/>
          </a:prstGeom>
          <a:ln w="0">
            <a:noFill/>
          </a:ln>
        </p:spPr>
      </p:pic>
      <p:sp>
        <p:nvSpPr>
          <p:cNvPr id="3" name="PlaceHolder 2"/>
          <p:cNvSpPr>
            <a:spLocks noGrp="1"/>
          </p:cNvSpPr>
          <p:nvPr>
            <p:ph type="sldNum" idx="2"/>
          </p:nvPr>
        </p:nvSpPr>
        <p:spPr/>
        <p:txBody>
          <a:bodyPr/>
          <a:p>
            <a:fld id="{FB8B79A3-BE6A-4995-96CA-F0CC64B60D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9560" y="1423800"/>
            <a:ext cx="6945480" cy="77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 </a:t>
            </a:r>
            <a:br>
              <a:rPr sz="1800"/>
            </a:br>
            <a:r>
              <a:rPr b="1" lang="en-US" sz="1800" spc="-1" strike="noStrike">
                <a:solidFill>
                  <a:srgbClr val="000000"/>
                </a:solidFill>
                <a:latin typeface="Arial"/>
              </a:rPr>
              <a:t>Percent New Installations Plus Retained Sample Pts</a:t>
            </a:r>
            <a:endParaRPr b="0" lang="en-US" sz="1800" spc="-1" strike="noStrike">
              <a:solidFill>
                <a:srgbClr val="000000"/>
              </a:solidFill>
              <a:latin typeface="Arial"/>
            </a:endParaRPr>
          </a:p>
        </p:txBody>
      </p:sp>
      <p:pic>
        <p:nvPicPr>
          <p:cNvPr id="137" name="" descr=""/>
          <p:cNvPicPr/>
          <p:nvPr/>
        </p:nvPicPr>
        <p:blipFill>
          <a:blip r:embed="rId1"/>
          <a:stretch/>
        </p:blipFill>
        <p:spPr>
          <a:xfrm>
            <a:off x="1467000" y="2428920"/>
            <a:ext cx="6210000" cy="3591000"/>
          </a:xfrm>
          <a:prstGeom prst="rect">
            <a:avLst/>
          </a:prstGeom>
          <a:ln w="0">
            <a:noFill/>
          </a:ln>
        </p:spPr>
      </p:pic>
      <p:sp>
        <p:nvSpPr>
          <p:cNvPr id="3" name="PlaceHolder 2"/>
          <p:cNvSpPr>
            <a:spLocks noGrp="1"/>
          </p:cNvSpPr>
          <p:nvPr>
            <p:ph type="sldNum" idx="2"/>
          </p:nvPr>
        </p:nvSpPr>
        <p:spPr/>
        <p:txBody>
          <a:bodyPr/>
          <a:p>
            <a:fld id="{79F51A24-4C73-4B47-9484-7AAEA9EF2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393920"/>
            <a:ext cx="8610480" cy="1257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Report</a:t>
            </a:r>
            <a:endParaRPr b="0" lang="en-US" sz="28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argeted for April 2007 PWG Meeting</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C39B8A5-6F53-4CEB-93D3-8A6ACE334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8600" y="1393920"/>
            <a:ext cx="8610480" cy="5486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atus after the PWG meeting Jan. 23</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reviewed the DGTF recommendation 3</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channel capable meters (inflow and outflow readings) assum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67 “information only” field shall be used for the outflow energy</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ossible short term solutions pending ERCOT final review</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possible PWG suggestion which ERCOT is investigating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everal new residential profiles based on the size of the installed solar panel</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separate solar profile for the outflow energy</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needed PRR and LPGRR language</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shall submit to ERCOT the Interconnect Agreement to be used for ESIID identification, verification, and solar panel kW</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lide previously presented at the COPS February meeting.</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C571926-F36D-4575-AAA4-D17340736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393920"/>
            <a:ext cx="8610480" cy="5181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atus after the PWG conference call Feb.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proposal not viable by 1/1/2009</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possible PWG suggestion which ERCOT is investigating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everal new residential profiles based on the size of the installed solar panel</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ar outflow energy would be a negative load deduction</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needed PRR and LPGRR language</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shall submit to ERCOT the ESIID identification, Distributive Generation (DG) Type and kW capacity</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solution to include solar, wind or other DG options</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lide previously presented at the COPS February meeting.</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F14971D-D8A1-4C0F-97D9-798CFDE07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1393920"/>
            <a:ext cx="8610480" cy="2666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conference call Feb. 1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d the fifth option proposed on Feb.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le Miller Chairs a sub-team to keep TEX Set 867 language in sync with the PWG ac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first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first draft was review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AB98386-35F1-40FC-AA45-89B5FFDA3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1393920"/>
            <a:ext cx="8610480" cy="4813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conference call Feb. 2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tial Profile design discuss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files to be developed PRR secon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756 Distributed Renewable Generation Modifications filed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secon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Tree and Model Spreadsheets being develop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KWH_Gen and KWH_Loa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DWG need to determine COPMGRR language for determinant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 Set 867 language ‘ignore loop’ discuss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PWG would like to know if there is any concern from PUCT Staff or other Market Participants for the current design so these concerns can be met now without delay in the timeline?</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A12463D-7D50-4523-B719-E2DBC75AD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8-03-28T11:31:39Z</dcterms:modified>
  <cp:revision>300</cp:revision>
  <dc:subject/>
  <dc:title>PowerPoint Presentation</dc:title>
</cp:coreProperties>
</file>