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1366-387F-4181-BDC6-CB8BA95C0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5E61-5971-4C51-83DD-6944BC2D3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8B5B-A2FB-4F1E-9846-B25AF5BD0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A5A9-8A61-4CC2-83B8-2462EC964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31CD-11BA-4A08-9076-2E1E8F96F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1A02-6E4C-4194-A4E1-392901361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F417-9DEF-4CCC-8136-ADBF2F556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6253-A20A-469D-80A0-5ECE1EFC8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7315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740E-80ED-47CC-94C1-5A0CB9237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9C24-0400-43F5-A61C-BC47BE8F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55E3-264E-4259-A3CC-BBB8E839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1A17-5CF6-434F-9A92-30A15967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2B31F-8DB2-47B1-A306-DE6EB2FB94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15200" y="76320"/>
            <a:ext cx="1752480" cy="9414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5960" y="2122560"/>
            <a:ext cx="77580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Renewable Gener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file Implementation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98320" y="13140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G Backgr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61880" y="1355760"/>
            <a:ext cx="83725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B 3693 requires that ERCOT implement the settlement of distributed renewable generation as of 1/1/2009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C, during their Feb 7, 2008 meeting, directed PWG to develop a profiling solution to address recommendation #3 of the Distributed Generation Task Force (DGT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WG has developed Load Profile ID assignments and Profile Models to be applied to small distributed renewable gen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Load Profiles require a market notice of at least 150 days prior to their implementation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3E69-5F3A-43F5-9CA8-F3564907E4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98320" y="13140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G Future Tim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23760" y="1123920"/>
            <a:ext cx="7988400" cy="54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PGRR Time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rmal Timelin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 by 3/2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WG Review 4/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WG IA Review 5/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S Review 6/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C Review 6/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D Review 7/15 (if there are impacts to ERCO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Urgent Timeline: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ecommended approach to meet deadline for 150 day notice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WG Review and send to post 3/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Urgency Request/Email Vot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COPS Review (with IA) 4/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TAC Review 5/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Board Review 5/20 (if there are impacts to ERCO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Notice announcing DRG Profile Segments 08-03-200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-31-2008 150 day notice e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1-01-2009 Implementation 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-29-2008 ERCOT will begin posting Forecasted Load Profi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1-02-2009 ERCOT will begin posting Backcast Load Pro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39C2-EF04-4469-B666-F0D0BC1688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98320" y="13140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G Future Tim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23760" y="1130400"/>
            <a:ext cx="7296480" cy="44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R Time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S Granted Urgency 3/20/2008 and recommended approval of amended langu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S Review (IA and CBA) 4/8 – this step is only because there is a CBA associated with this PRR and COPS will probably want to review it prior to going to PRS.  It does not slow down the timeline. 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S Review (IA and CBA; assign priority and rank) 4/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C Review 5/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Board Review 5/20 (meets deadline for 150 day notice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Notice announcing DRG Profile Segments 08-03-200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-31-2008 150 day notice e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1-01-2009 Implementation 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-29-2008 ERCOT will begin posting Forecasted Load Profi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1-02-2009 ERCOT will begin posting Backcast Load Pro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CFC7-E19A-4143-AF05-4C3C5601F01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61880" y="1123920"/>
            <a:ext cx="8220240" cy="47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7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01-2008 TDSP’s to begin sending in documentation to ERCOT initiating DRG Profile Segment assignment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07-01-2008 to 12-31-2008 ERCOT will accumulate and validate change reques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will notify submitter of any invalid 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01-02-2009 ERCOT will send files of change requests to TDSP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01-02-2009 TDSPs can begin to submit 814-20 transactions changing to DRG Profile Segments with effective date of a meter reading on or after 01-01-200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98320" y="13140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G Profile Transi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86CD-5AB0-4832-9D5E-F49B2487C7B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3320" y="202680"/>
            <a:ext cx="6700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G Profile Ongoing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1880" y="1123920"/>
            <a:ext cx="8334360" cy="54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02-2009 TDSP’s continue sending in documentation to ERCOT initiating DRG Profile Segment assignment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01-02-2009 ERCOT begins sending validated change requests to TDSP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will notify submitter of any invalid 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01-02-2009 After receipt of requests, TDSPs will submit 814-20 transactions on or before the second regularly scheduled meter read d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ril 2009 ERCOT will begin performing quarterly validations of DRG Profile Segment assign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will verify that profile segment assignments for ESIIDs in Lodestar are consistent with documentation submitte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6FE4-990B-4467-99EE-652334F1142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01480" y="1123920"/>
            <a:ext cx="8180640" cy="48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 REP of record discovers that a previously approved ESI ID has become ineligible to be served under a DRG Profile Segment, the REP of record shall notify the TDSP and ERCOT that a Profile Segment change is requir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 TDSP discovers that a previously approved ESI ID has become ineligible to be served under a DRG Profile Segment, the TDSP of record shall notify ERCOT and also change the Profile Segment to the appropriate default Profile Segment as if the ESI ID represented a new premise without DRG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DSPs shall make reasonable effort to effect the change using the appropriate Texas SET process as soon a possible after they become aware that the premise is no longer eligible to be served under a DRG Profile Segment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3320" y="202680"/>
            <a:ext cx="6700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G Profile Ongoing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9BD9-DDFA-47AC-AA55-C7199E732A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01480" y="1123920"/>
            <a:ext cx="818064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specified in LPG Section 8.1 Routine and Non-Routine Profile Model Evaluations, on an annual basis ERCOT shall review DRG profile segments to determine whether model updates are appropriate and make recommendations to the PWG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will be based on usage level characteristics and information submit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3320" y="202680"/>
            <a:ext cx="6700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G Profile Ongoing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6BCD-B054-4D6C-99F8-DA3056BDDDE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9:23:15Z</dcterms:created>
  <dc:creator>kcotner</dc:creator>
  <dc:description/>
  <dc:language>en-US</dc:language>
  <cp:lastModifiedBy>craish</cp:lastModifiedBy>
  <cp:lastPrinted>2002-05-17T20:57:43Z</cp:lastPrinted>
  <dcterms:modified xsi:type="dcterms:W3CDTF">2008-03-26T20:26:56Z</dcterms:modified>
  <cp:revision>299</cp:revision>
  <dc:subject/>
  <dc:title>Retail Transactions Report</dc:title>
</cp:coreProperties>
</file>