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50929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8EBEA892-3999-44F0-907A-3CCFA376B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010280" y="6305400"/>
            <a:ext cx="21337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MMS Update </a:t>
            </a:r>
            <a:br>
              <a:rPr sz="2400"/>
            </a:br>
            <a:r>
              <a:rPr b="0" lang="en-GB" sz="1800" spc="-1" strike="noStrike">
                <a:solidFill>
                  <a:srgbClr val="808080"/>
                </a:solidFill>
                <a:latin typeface="Arial Black"/>
              </a:rPr>
              <a:t>for TPTF March 20, 2008</a:t>
            </a:r>
            <a:br>
              <a:rPr sz="1800"/>
            </a:br>
            <a:r>
              <a:rPr b="0" lang="en-GB" sz="1800" spc="-1" strike="noStrike">
                <a:solidFill>
                  <a:srgbClr val="808080"/>
                </a:solidFill>
                <a:latin typeface="Arial Black"/>
              </a:rPr>
              <a:t>Murray Nixon</a:t>
            </a:r>
            <a:br>
              <a:rPr sz="1800"/>
            </a:br>
            <a:r>
              <a:rPr b="0" lang="en-GB" sz="1800" spc="-1" strike="noStrike">
                <a:solidFill>
                  <a:srgbClr val="808080"/>
                </a:solidFill>
                <a:latin typeface="Arial Black"/>
              </a:rPr>
              <a:t>Sai Moort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54712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MS release sche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driver for proposed deferrals (remind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d deferrals 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MS3 FAT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MS Release Schedul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914400"/>
          <a:ext cx="8547120" cy="451152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1600200"/>
                <a:gridCol w="1765440"/>
              </a:tblGrid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NED START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N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7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2 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M, DEF, HRUC, DRUC, POD, SFT, SCED extensions, partial implementation of baseline 1&amp;2 i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Dec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: 3Dec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Jan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: 25Jan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3 pre-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SM, DST, S&amp;B snapshots, CIM impor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Feb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: 4Feb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Feb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: 15Feb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3 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SM, DST, S&amp;B snapshots, CIM impor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Feb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: 18Feb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Mar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: 14Mar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4 pre-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T, NSLR, DC Tie, VDI, WRUC, remaining baseline 1&amp;2 items, CIM importer components not available for MMS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Apr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Apr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4 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T, NSLR, DC Tie, VDI, WRUC, remaining baseline 1&amp;2 items, CIM importer components not available for MMS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Apr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Jun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Key Driver for Proposed Deferrals</a:t>
            </a: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e the final MMS FAT completes by 30Jun08, allowing 2 months for integration &amp; EDS4 activities prior to the 168 hour test start on 1Sep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the direction provided to the ERCOT &amp; ABB MMS teams by the Nodal and ABB executives on 28Nov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posed deferrals will help MMS meet the Nodal program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posed Deferrals Upda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790560"/>
          <a:ext cx="8686800" cy="5362560"/>
        </p:xfrm>
        <a:graphic>
          <a:graphicData uri="http://schemas.openxmlformats.org/drawingml/2006/table">
            <a:tbl>
              <a:tblPr/>
              <a:tblGrid>
                <a:gridCol w="1752480"/>
                <a:gridCol w="5639040"/>
                <a:gridCol w="1295280"/>
              </a:tblGrid>
              <a:tr h="500040">
                <a:tc>
                  <a:txBody>
                    <a:bodyPr lIns="64080" rIns="64080" tIns="36720" bIns="3672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mary 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4080" rIns="64080" tIns="36720" bIns="3672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4080" rIns="64080" tIns="36720" bIns="3672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nding 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77040">
                <a:tc>
                  <a:txBody>
                    <a:bodyPr lIns="64080" rIns="64080" tIns="32040" bIns="320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ed interface for QSEs with resources to update resource parameters (e.g. ramp rates) in M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32040" bIns="32040" anchor="t">
                      <a:noAutofit/>
                    </a:bodyPr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longer deferred; will be delivered as part of MMS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ocumentation changes requi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32040" bIns="320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 Docu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64080" rIns="64080" tIns="32040" bIns="320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namically scheduled resource incremental and decremental energy offer cur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32040" bIns="32040" anchor="t">
                      <a:noAutofit/>
                    </a:bodyPr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pretation issue; ERCOT implemented functionality based on their original interpretation; further discussion yielded a new interpretation for ERCOT that will require a change to the requirements and des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 going live with the functionality as designed and implemented; requires no documentation changes until new functionality implement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around extremely labor intensive for Q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to begin as soon as resources are available; continuing to work with ABB to determine feasibility of earlier implement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 document updates will be drafted, reviewed and presented for approval once timeline for implementation is final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rotocol change requi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32040" bIns="320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 Docu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080">
                <a:tc>
                  <a:txBody>
                    <a:bodyPr lIns="64080" rIns="64080" tIns="32040" bIns="320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&amp;B information only calcul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32040" bIns="32040" anchor="t">
                      <a:noAutofit/>
                    </a:bodyPr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roposed worka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will begin as soon as resources are available after the delivery of MMS4 into F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targeted for after go-live; date will be determine by Nodal program and TPT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15 gray-boxing the change in the implementation date of these calculations has been drafted; out for review with target for approval through TPTF &amp; PRS in Ap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32040" bIns="320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c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posed Deferrals Update (cont’d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" y="762120"/>
          <a:ext cx="8686800" cy="5056200"/>
        </p:xfrm>
        <a:graphic>
          <a:graphicData uri="http://schemas.openxmlformats.org/drawingml/2006/table">
            <a:tbl>
              <a:tblPr/>
              <a:tblGrid>
                <a:gridCol w="1676520"/>
                <a:gridCol w="5867280"/>
                <a:gridCol w="1143000"/>
              </a:tblGrid>
              <a:tr h="438840">
                <a:tc>
                  <a:txBody>
                    <a:bodyPr lIns="64080" rIns="64080" tIns="36720" bIns="3672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mary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4080" rIns="64080" tIns="36720" bIns="3672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4080" rIns="64080" tIns="36720" bIns="3672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nding Docu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954880">
                <a:tc>
                  <a:txBody>
                    <a:bodyPr lIns="64080" rIns="64080" tIns="32040" bIns="320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 multiple network mod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32040" bIns="32040" anchor="t">
                      <a:noAutofit/>
                    </a:bodyPr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 does not currently have the capability to concurrently support separate network models for Operating Day and Day-Ahead MMS processes (DAM &amp; RU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will begin as soon as resources are available after the delivery of MMS4 into F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targeted for after go-live; date will be determined by ERCOT, Nodal program and TPT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period between go-live and implementation of multiple network model (Operating Day and Day-Ahead), MMS will use one network model (Operating Day) for both Operating Day and Day-Ahead processes (DAM &amp; RUC). On rare occasions where the impact is deemed significant (new transmission at 345KV level), ERCOT will implement a workaround such as using a combination of incorporating changes earlier into a model and working with TSPs to enter outages for the days prior to actual energization.  The workaround process have been verbally discussed and are pending formalization within ERCOT oper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expected changes to the protoc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32040" bIns="320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col (not explici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240">
                <a:tc>
                  <a:txBody>
                    <a:bodyPr lIns="64080" rIns="64080" tIns="32040" bIns="320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optimizing energy and AS for self-committed resources in D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32040" bIns="32040" anchor="t">
                      <a:noAutofit/>
                    </a:bodyPr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TF has approved requirements to incorporate sub-group items 1 &amp;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TF to review proposed changes for item 3 at 20Mar TPTF meet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 to submit approved requirements for sub-group items 1 &amp; 2 to ABB for evaluation &amp; estim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approved requirements document changes, protocol changes should be drafted for review and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7360" indent="-117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plan is for the work to be prioritized along with other work scheduled to begin as soon as resources are available after the delivery of MMS4 into F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32040" bIns="320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col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 Docu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MMS3 FAT Status</a:t>
            </a: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MS3 FAT started on 18Feb08 with a targeted completion of 14Mar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1 structured tests completed with an 83% pass rat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severity 1 defect remained that was written against the EDS environment; workaround is available but cumbersome; working with ABB to deliver a fix by end of this wee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Mar formal FAT exit approved by Eileen Hall on 18Mar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MS3 was earlier deployed to various downstream systems (e.g., EDS, EIP, INT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7:49:24Z</dcterms:created>
  <dc:creator>Trip Doggett</dc:creator>
  <dc:description/>
  <dc:language>en-US</dc:language>
  <cp:lastModifiedBy>Murray Nixon</cp:lastModifiedBy>
  <dcterms:modified xsi:type="dcterms:W3CDTF">2008-03-21T01:08:00Z</dcterms:modified>
  <cp:revision>919</cp:revision>
  <dc:subject/>
  <dc:title>TAC Update</dc:title>
</cp:coreProperties>
</file>