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16C72-68D9-4D9E-8088-4D8C362ED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A2B82-0FEF-4924-9230-38CA12ACA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A25D6-E0BD-4D00-BA29-478AC7853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F1E24-ED6E-420D-9EF8-DAA609308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092E8-E6C5-421D-AB6F-D41D58032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8BD7F-93EB-4239-B3E8-501274912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7B402-25CD-459F-8B15-275683252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5B3C3-2E2A-4CDA-81BC-D4BDF2C01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02358-5A1C-4456-A88B-B88E210D8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224D2-CE3C-4520-ABE9-39A5261D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DB804-B193-4070-B9ED-BCFB8C88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60374-DFE0-4170-84F5-B9F08869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7E4BB-2A8D-485B-9147-2742F2CF72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949E6-E658-4071-9AB5-C420C29E2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600" y="1904760"/>
            <a:ext cx="698184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CRR Shortfall – Revenue Equalization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Part 3 (Continuation from 3/5/08 TPTF discussion)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342880" y="3809880"/>
            <a:ext cx="63435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Bill Barnes/Sharon Wang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PTF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3/21/2008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RR Settlement Revenue – Shortfall Issue Review – Simple Example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83808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sue: Mathematically possible for ERCOT to pay out more revenue that it collects between the time DAM and RTM are invoic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057400" y="1517760"/>
            <a:ext cx="518148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RR Settlement Revenue – Shortfall Issue Review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00000" y="876240"/>
            <a:ext cx="734400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RR Settlement Revenue – Proposed Solution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51818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posed Solution: Add an accounting provision to guarantee ISO revenue neutrality (or revenue positive) in D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al: Do not impact the outcome of current Nodal Protocol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charge added to DAM statement to deduct CRR shortfall assigned to 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Bill Determinant to track these charges (“I owe you”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R shortfall still assigned to RT CRR A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und RT shortfall portion back to DAM CRR AHs upon CRR BA clo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next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638680" y="762120"/>
            <a:ext cx="160344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RR Settlement Revenue – Proposed Solu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09640" y="660240"/>
            <a:ext cx="772488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0" y="2895120"/>
            <a:ext cx="4648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ppendix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RR Settlement Revenue - Overview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533520" y="838080"/>
          <a:ext cx="8229600" cy="53643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y-Ahead CR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-Time PTP 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-Time PTP Oblig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ded b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M Congestion R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T Congestion Rent or Load (RTR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T Congestion Rent or Load (RTR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 Congestion Rent Shortf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Shor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Impac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ess DA Congestion R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ancing Accou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Balancing Accou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Impac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T Congestion Rent Shortf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Impac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p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p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ess RT Congestion R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mpac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gets pa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gets pa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RR Settlement Revenue - Overview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lancing Account Process – managing CRR revenue adequac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y-Ahead Congestion Rent is compared to total Day-Ahead CRR payments on an hourly basis for the Operating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excess Day-Ahead Congestion Rent exists compared to Day-Ahead CRR payments for the hour, excess added to Balancing Accou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re is not enough Day-Ahead Congestion Rent to cover Day-Ahead CRR payments for the hour, a Day-Ahead shortfall is calculated for the operating day and allocated to DA and RT CRR hold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end of the month, the total shortfall accumulation for the month is compared to Balancing Account accru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BA is non-zero, any CRR holders shorted during the month will be made whole up to BA amou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cess funds in Balancing Account after alleviating CRR shorts will be paid to QSEs based on L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lancing Account clearing process independent of DAM or RTM invoicing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RR Settlement Revenue - Shortfall Allocation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y do we allocate to the Real-Tim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P Section 4.5.1 (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irectional network element flows for PTP Options declared for settlement in Real-Time must be properly accounted for in determining available transmission network capacity in the DAM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lation: DAM clearing engine will make an economic decision to clear a CRR offer (settled in DAM) or reserve the capacity for Real-Time (settled in R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RT CRR capacity is reserved in the DAM, it would not be covered by DAM Congestion R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y do we allocate a shortfall of DAM Congestion Rent compared to DAM CRR payments to RT CRR Account Holder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table treatment of all CRR A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Bill Barnes</cp:lastModifiedBy>
  <dcterms:modified xsi:type="dcterms:W3CDTF">2008-03-24T14:48:01Z</dcterms:modified>
  <cp:revision>108</cp:revision>
  <dc:subject/>
  <dc:title>Instructions</dc:title>
</cp:coreProperties>
</file>