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75AE-3A76-4DED-8021-6E6381B3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84B2-701F-48F3-A8A0-7064FAF1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0777-ACB8-4D22-A652-A0EAE530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9947-AE6B-4586-9E93-6DD8D7CF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3BA7-A01B-46E1-8853-648F145D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B740-8CF7-458E-B400-683F3942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F32C-70A7-49D6-81E2-073F4B48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3E70-13EE-4178-9784-3509080C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CC91-B9AF-4F0E-BD34-443D7EE9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DE15-A54C-445C-804B-097ACFD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A429-C2F9-4CD1-B57F-F5D9766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22EE-6DA3-4770-BB60-4306C0E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A1E-998A-4A20-BDD0-51B4A31B2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72AF-4A08-4DE9-92FB-CF00A503F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IM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j Chudga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Director for Market Redesig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IM data is converted in NMMS to PSS/E for CRR consump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72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838080"/>
            <a:ext cx="4038480" cy="51098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application is in EDS testing mock auctions in Market Tri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, CRR in EDS Market Trials is using a manually augmented PSS/E RAWD file that was derived from the seasonal planning case for Summer ’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business process is that CRR will receive an Augmented PSS/E RAWD file from NMMS for monthly and annual auctions.  Siemens is developing the software for this, and it will be ready for testing in Apri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Go-Live, CRR requires the Augmented PSS/E RAWD file from NMMS in October, to run the first monthly auction in Nov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0" y="762120"/>
          <a:ext cx="441972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44197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 absence of integrated systems, we are introducing a work-around for April 1 commencement of EDS (Release 9.3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24480" y="838080"/>
          <a:ext cx="4467240" cy="3864240"/>
        </p:xfrm>
        <a:graphic>
          <a:graphicData uri="http://schemas.openxmlformats.org/drawingml/2006/table">
            <a:tbl>
              <a:tblPr/>
              <a:tblGrid>
                <a:gridCol w="2235240"/>
                <a:gridCol w="2232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with Market Participants on schedu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Production-Like Network Model than is in EDS to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 Processing Awards and Obligations through E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Es time divided between workaround and permanent 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gin running DAM with Full Network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ly Synchronize EMS and MMS Network Model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Term 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888840" y="3932280"/>
            <a:ext cx="27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-around for 4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797360"/>
            <a:ext cx="8839440" cy="11372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-arou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tubs are required since full integration is not complete for highlighted Yellow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erification is required of the data between systems i.e. comparing the network model in EMS and MMS to ensure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data creation is complete, both Real time and Day Ahead markets will be tested in MMS before exposing to Market Participants in 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066680"/>
          <a:ext cx="38131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8131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ransparency to TPTF about the status of CIM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explanations of issues and difficul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explanations for the workaround planned for 4/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or challenge for Nodal is the successful integration of CIM data between NMMS, EMS, MMS and other Nodal system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410000"/>
            <a:ext cx="8610480" cy="181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M critical dependency is on successful model integration of EMS, MMS and N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llenges for CIM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implementation of CIM model integration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IM extended significantly beyond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 of solution across several project teams and several ven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419720" y="685800"/>
            <a:ext cx="457200" cy="380880"/>
            <a:chOff x="4419720" y="685800"/>
            <a:chExt cx="457200" cy="380880"/>
          </a:xfrm>
        </p:grpSpPr>
        <p:sp>
          <p:nvSpPr>
            <p:cNvPr id="97" name=""/>
            <p:cNvSpPr/>
            <p:nvPr/>
          </p:nvSpPr>
          <p:spPr>
            <a:xfrm>
              <a:off x="4419720" y="68580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5680" y="762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52880" y="2133720"/>
            <a:ext cx="457200" cy="380880"/>
            <a:chOff x="4952880" y="2133720"/>
            <a:chExt cx="457200" cy="380880"/>
          </a:xfrm>
        </p:grpSpPr>
        <p:sp>
          <p:nvSpPr>
            <p:cNvPr id="100" name=""/>
            <p:cNvSpPr/>
            <p:nvPr/>
          </p:nvSpPr>
          <p:spPr>
            <a:xfrm>
              <a:off x="4952880" y="213372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28840" y="22100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362320" y="2133720"/>
            <a:ext cx="457200" cy="380880"/>
            <a:chOff x="2362320" y="2133720"/>
            <a:chExt cx="457200" cy="380880"/>
          </a:xfrm>
        </p:grpSpPr>
        <p:sp>
          <p:nvSpPr>
            <p:cNvPr id="103" name=""/>
            <p:cNvSpPr/>
            <p:nvPr/>
          </p:nvSpPr>
          <p:spPr>
            <a:xfrm>
              <a:off x="2362320" y="213372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2100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480" y="838080"/>
            <a:ext cx="457200" cy="380880"/>
            <a:chOff x="609480" y="838080"/>
            <a:chExt cx="457200" cy="380880"/>
          </a:xfrm>
        </p:grpSpPr>
        <p:sp>
          <p:nvSpPr>
            <p:cNvPr id="106" name=""/>
            <p:cNvSpPr/>
            <p:nvPr/>
          </p:nvSpPr>
          <p:spPr>
            <a:xfrm>
              <a:off x="609480" y="8380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440" y="9144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9480" y="1447920"/>
            <a:ext cx="457200" cy="380880"/>
            <a:chOff x="609480" y="1447920"/>
            <a:chExt cx="457200" cy="380880"/>
          </a:xfrm>
        </p:grpSpPr>
        <p:sp>
          <p:nvSpPr>
            <p:cNvPr id="109" name=""/>
            <p:cNvSpPr/>
            <p:nvPr/>
          </p:nvSpPr>
          <p:spPr>
            <a:xfrm>
              <a:off x="609480" y="144792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440" y="15242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1143000" y="838080"/>
          <a:ext cx="647712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4771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7162920" y="2514600"/>
            <a:ext cx="457200" cy="380880"/>
            <a:chOff x="7162920" y="2514600"/>
            <a:chExt cx="457200" cy="380880"/>
          </a:xfrm>
        </p:grpSpPr>
        <p:sp>
          <p:nvSpPr>
            <p:cNvPr id="114" name=""/>
            <p:cNvSpPr/>
            <p:nvPr/>
          </p:nvSpPr>
          <p:spPr>
            <a:xfrm>
              <a:off x="7162920" y="251460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2590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24280" y="1371600"/>
            <a:ext cx="457200" cy="380880"/>
            <a:chOff x="4724280" y="1371600"/>
            <a:chExt cx="457200" cy="380880"/>
          </a:xfrm>
        </p:grpSpPr>
        <p:sp>
          <p:nvSpPr>
            <p:cNvPr id="117" name=""/>
            <p:cNvSpPr/>
            <p:nvPr/>
          </p:nvSpPr>
          <p:spPr>
            <a:xfrm>
              <a:off x="4724280" y="137160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240" y="1447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for NMMS is currently in progress and we are working on resolving outstanding defect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76920" y="914400"/>
          <a:ext cx="403848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914400"/>
                    <a:ext cx="4038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23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920" y="990720"/>
            <a:ext cx="441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885960"/>
            <a:ext cx="4267440" cy="4374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product deployed to EDS with known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2 Release 4 started Market Trials with NOMCRs testing on March 1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Team working with AREVA for initial load export data since Apri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consuming AREVA Export file from Zonal since 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generates CIM File that can be imported by 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not able to fully import CIM, since it is still und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24280" y="4267080"/>
          <a:ext cx="3886200" cy="1254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ev 1 &amp; 2 defects 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5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1 and Baseline 2  Requirement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35920" y="5749920"/>
            <a:ext cx="71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33"/>
                </a:solidFill>
                <a:latin typeface="Arial"/>
              </a:rPr>
              <a:t>Note: MMS &amp; EMS must be able to consume CIM File prior to June 02, 2008 Single-entry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CIM importer has successfully imported dat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29200" y="914400"/>
          <a:ext cx="403848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14400"/>
                    <a:ext cx="4038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3520" y="137160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34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52280" y="914400"/>
            <a:ext cx="4648320" cy="37170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Management System (MMS) deployed to EDS for SCED, DAM and RUC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bility of MMS CIM importer to process CIM file (V1.8) through application database (RDB) and to solve a power flow in the current MMS has been pr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(e.g., SCED, DAM, RUC) have not been tested using the CIM fi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designs are being reviewed to identify additional issues that may require modeling chan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till data issues with the CIM file as it is processed by the MMS applications, and issues are being passed back to NM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952880" y="3429000"/>
          <a:ext cx="4038840" cy="136692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Pre-FAT test for MMS workflows with CIM fil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FAT test for MMS workflows with C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2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984320" y="5791320"/>
            <a:ext cx="539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33"/>
                </a:solidFill>
                <a:latin typeface="Arial"/>
              </a:rPr>
              <a:t>ABB/MMS team planning to test the CIM data into applications in MM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CIM importer is currently under development with known challeng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52880" y="762120"/>
          <a:ext cx="40388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762120"/>
                    <a:ext cx="40388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43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" y="914400"/>
            <a:ext cx="4114800" cy="3735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 deployed to EDS and testing in progress for SCADA, SE, RLC, TCM LFC, AS Capacity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 CIM Importer currently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va has built 3 out of 7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remaining components are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data issues with the CIM file as it is processed by the EMS applications, and issues are being passed back to NM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CIM XML will be used to build the ERCOT EMS MOMs during Pre-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sources will be onsite at Areva during Pre-FAT of CIM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48320" y="3489480"/>
          <a:ext cx="4038480" cy="2073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1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4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 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4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7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32680" y="574992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33"/>
                </a:solidFill>
                <a:latin typeface="Arial"/>
              </a:rPr>
              <a:t>AREVA management team has committed to deliver the CIM importer on the schedule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utage Scheduler development for application and CIM integration underwa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50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4572000" y="762120"/>
          <a:ext cx="441972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44197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28600" y="914400"/>
            <a:ext cx="4191120" cy="46483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 FAT testing is in progress – expected completion 3/21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sending Equipment List to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 will be tested against the equipment list from NMMS in the last week of March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will use the NMMS equipment list for Market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OS sending Outages to NMMS to be included in data passed to CRR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will be the location for MPs to pick up CIM mode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1066680"/>
          <a:ext cx="403848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066680"/>
                    <a:ext cx="4038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59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0880" y="1066680"/>
            <a:ext cx="4114800" cy="1751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currently deployed to 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has capability of producing CIM/XML model files for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drop off points and folder structure for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eneration data into NMMS comes in through Registration and RARF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64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41360" y="13320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990720"/>
            <a:ext cx="4038480" cy="3934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(Siebel) is deployed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enhancements for integration with NMMS is in iFAT testing (XML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to load additional RARF data through NOMCRs by ERCO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ll RARF data within NMMS, ERCOT is planning to “audit” NMMS to ensure all RARF data is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0" y="762120"/>
          <a:ext cx="441972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44197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rchudgar</cp:lastModifiedBy>
  <dcterms:modified xsi:type="dcterms:W3CDTF">2008-03-21T12:32:59Z</dcterms:modified>
  <cp:revision>31</cp:revision>
  <dc:subject/>
  <dc:title>Instructions</dc:title>
</cp:coreProperties>
</file>