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300FAF5-D3BC-4B20-8007-1C8C32B7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MMS Update </a:t>
            </a:r>
            <a:br>
              <a:rPr sz="24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for TPTF March 20, 2008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Murray Nixon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Sai Moor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712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 releas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driver for proposed deferrals (remin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deferral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FA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Release Schedu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547120" cy="451152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1600200"/>
                <a:gridCol w="17654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STAR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2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M, DEF, HRUC, DRUC, POD, SFT, SCED extensions, partial implementation of baseline 1&amp;2 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ec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3Dec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Jan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25Jan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3 pre-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M, DST, S&amp;B snapshots, CIM im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4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5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3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M, DST, S&amp;B snapshots, CIM im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8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Ma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4Ma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4 pre-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T, NSLR, DC Tie, VDI, WRUC, remaining baseline 1&amp;2 items, CIM importer components not available for MM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4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T, NSLR, DC Tie, VDI, WRUC, remaining baseline 1&amp;2 items, CIM importer components not available for MM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Jun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Key Driver for Proposed Deferrals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the final MMS FAT completes by 30Jun08, allowing 2 months for integration &amp; EDS4 activities prior to the 168 hour test start on 1Sep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direction provided to the ERCOT &amp; ABB MMS teams by the Nodal and ABB executives on 28Nov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deferrals will help MMS meet the Nodal program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posed Deferrals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790560"/>
          <a:ext cx="8686800" cy="5362560"/>
        </p:xfrm>
        <a:graphic>
          <a:graphicData uri="http://schemas.openxmlformats.org/drawingml/2006/table">
            <a:tbl>
              <a:tblPr/>
              <a:tblGrid>
                <a:gridCol w="1752480"/>
                <a:gridCol w="5639040"/>
                <a:gridCol w="1295280"/>
              </a:tblGrid>
              <a:tr h="500040"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 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ding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7704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interface for QSEs with resources to update resource parameters (e.g. ramp rates) in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nger deferred; will be delivered as part of MM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ocumentation changes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ally scheduled resource incremental and decremental energy offer cur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tion issue; ERCOT implemented functionality based on their original interpretation; further discussion yielded a new interpretation for ERCOT that will require a change to the requirements and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 going live with the functionality as designed and implemented; requires no documentation changes until new functionality implemen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around extremely labor intensive for Q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to begin as soon as resources are available; continuing to work with ABB to determine feasibility of earlier implement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 updates will be drafted, reviewed and presented for approval once timeline for implementation is final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tocol change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B information only calc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posed worka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will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argeted for after go-live; date will be determine by Nodal program and TP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15 gray-boxing the change in the implementation date of these calculations has been drafted; out for review with target for approval through TPTF &amp; PRS in Ap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posed Deferrals Update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762120"/>
          <a:ext cx="8686800" cy="5056200"/>
        </p:xfrm>
        <a:graphic>
          <a:graphicData uri="http://schemas.openxmlformats.org/drawingml/2006/table">
            <a:tbl>
              <a:tblPr/>
              <a:tblGrid>
                <a:gridCol w="1676520"/>
                <a:gridCol w="5867280"/>
                <a:gridCol w="1143000"/>
              </a:tblGrid>
              <a:tr h="438840"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ding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5488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multiple network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does not currently have the capability to concurrently support separate network models for Operating Day and Day-Ahead MMS processes (DAM &amp; RU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will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argeted for after go-live; date will be determined by ERCOT, Nodal program and TP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eriod between go-live and implementation of multiple network model (Operating Day and Day-Ahead), MMS will use one network model (Operating Day) for both Operating Day and Day-Ahead processes (DAM &amp; RUC). On rare occasions where the impact is deemed significant (new transmission at 345KV level), ERCOT will implement a workaround such as using a combination of incorporating changes earlier into a model and working with TSPs to enter outages for the days prior to actual energization.  The workaround process have been verbally discussed and are pending formalization within ERCOT oper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pected changes to the protoc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(not explic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24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ptimizing energy and AS for self-committed resources in 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has approved requirements to incorporate sub-group items 1 &amp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to review proposed changes for item 3 at 20Mar TPTF mee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to submit approved requirements for sub-group items 1 &amp; 2 to ABB for evaluation &amp; estim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approved requirements document changes, protocol changes should be drafted for review and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plan is for the work to be prioritized along with other work scheduled to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MMS3 FAT Status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FAT started on 18Feb08 with a targeted completion of 14Mar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1 structured tests completed with an 83% pass r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everity 1 defect remained that was written against the EDS environment; workaround is available but cumbersome; working with ABB to deliver a fix by end of this we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Mar formal FAT exit approved by Eileen Hall on 18Mar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was earlier deployed to various downstream systems (e.g., EDS, EIP, IN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Murray Nixon</cp:lastModifiedBy>
  <dcterms:modified xsi:type="dcterms:W3CDTF">2008-03-21T01:08:00Z</dcterms:modified>
  <cp:revision>919</cp:revision>
  <dc:subject/>
  <dc:title>TAC Update</dc:title>
</cp:coreProperties>
</file>