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9253-5941-4BCB-A3B0-D1F70E7E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7415-51B6-4691-AAC8-850F1C99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41DC-49BB-4797-B552-C7785055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F9C8-F011-48A1-8C9C-80578CE9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47C5-B7AC-4923-84DE-1A0057D7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340C-B9C6-4F5A-AAC2-4F523D4B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457C-9C50-4941-B05E-E512D569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30D2-068F-435E-8B19-42382B30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3C61-3AF9-4F63-9313-0F3F3E6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8AB8-FE33-4CC9-9D6A-8F6DEC8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9518-B6F0-43AB-B8BF-4084584A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6038-F8EF-4204-A525-D22CF9CD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D83F-ECC6-476C-820C-E09685064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E35-A1D1-4A32-ADF8-298C5E55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6981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RR Shortfall – Revenue Equalization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Part 3 (Continuation from 3/5/08 TPTF discussion)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809880"/>
            <a:ext cx="6343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ll Barnes/Sharon Wa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PT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21/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– Shortfall Issue Review – Simple Exampl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8380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Mathematically possible for ERCOT to pay out more revenue that it collects between the time DAM and RTM are invoi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517760"/>
            <a:ext cx="51814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R Settlement Revenue – Shortfall Issue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876240"/>
            <a:ext cx="73440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– Proposed Solu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5181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Solution: Add an accounting provision to guarantee ISO revenue neutrality (or revenue positive) in D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Do not impact the outcome of current Nodal Protoco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rge added to DAM statement to deduct CRR shortfall assigned to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Bill Determinant to track these charges (“I owe you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shortfall still assigned to RT CRR A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und RT shortfall portion back to DAM CRR AHs upon CRR BA 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603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R Settlement Revenue – Proposed Solu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09640" y="660240"/>
            <a:ext cx="7724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0" y="28951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pend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-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838080"/>
          <a:ext cx="8229600" cy="5364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-Ahead CR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 PTP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 PTP Oblig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ed 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Congestion 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Congestion Rent or Load (RTR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Congestion Rent or Load (RTR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Congestion Rent Short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h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mp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 DA Congestion 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ing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alancing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mp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Congestion Rent Short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mp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 RT Congestion 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gets p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gets p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-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ancing Account Process – managing CRR revenue adequ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Congestion Rent is compared to total Day-Ahead CRR payments on an hourly basis for the Operat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xcess Day-Ahead Congestion Rent exists compared to Day-Ahead CRR payments for the hour, excess added to Balancing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not enough Day-Ahead Congestion Rent to cover Day-Ahead CRR payments for the hour, a Day-Ahead shortfall is calculated for the operating day and allocated to DA and RT CRR hol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month, the total shortfall accumulation for the month is compared to Balancing Account accr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A is non-zero, any CRR holders shorted during the month will be made whole up to BA am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 funds in Balancing Account after alleviating CRR shorts will be paid to QSEs based on L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ing Account clearing process independent of DAM or RTM invoic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- Shortfall Alloc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we allocate to the Real-Ti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 Section 4.5.1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ional network element flows for PTP Options declared for settlement in Real-Time must be properly accounted for in determining available transmission network capacity in the DAM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: DAM clearing engine will make an economic decision to clear a CRR offer (settled in DAM) or reserve the capacity for Real-Time (settled in 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RT CRR capacity is reserved in the DAM, it would not be covered by DAM Congestion 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we allocate a shortfall of DAM Congestion Rent compared to DAM CRR payments to RT CRR Account Hold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able treatment of all CRR A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ill Barnes</cp:lastModifiedBy>
  <dcterms:modified xsi:type="dcterms:W3CDTF">2008-03-24T14:48:01Z</dcterms:modified>
  <cp:revision>108</cp:revision>
  <dc:subject/>
  <dc:title>Instructions</dc:title>
</cp:coreProperties>
</file>