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9945-12F2-4C0A-AB91-0AE1A9EB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D9B5-B1E6-48D4-B3A4-F2B6866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D9DF-E909-4A47-9286-3A893A55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7FE0-A447-4C42-89E3-8F8DD8C3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C2E2-1841-4866-B282-EF5E175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74206-6FCB-4550-B48D-95D5F231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4B62B-82A4-455C-B3F8-C6392FC1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2C7EC-2C58-4828-A02A-1ECA5E62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F16FC-C621-455A-9F0A-009C4C55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5C264-48D4-463F-BA7E-355A0EA3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78F3-2FBF-42A0-B4AB-6F59E93B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E13F5-3C1A-4BF2-823F-E79AC4B9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9981C-5436-4D67-AAFE-899F442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DF152-12C2-4417-886F-1FF3276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27EF7-9F89-45FA-AADC-70F21F0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59D3F-5678-481A-9792-C2A4066D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412AB-BFF3-43DF-A36A-4FDB5564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E2005-CAB6-4169-9977-92B55F8F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E1A-0697-496A-A929-908DBC7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5C97-8914-46AE-81CB-4924C8C5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6DFD-F266-49D8-B1DC-08F7582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6955-11E7-40F9-B860-244C513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EB7E-7271-4AD3-966E-9146BFE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A2F1-952C-4D1E-B36D-D8EFB05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AA71-8858-4D9A-9C3C-6D103C9F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57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3973-3A5C-4448-A852-6A239B8EF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DA3-8379-4974-896F-6CD8834C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49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4960" y="5466960"/>
            <a:ext cx="62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8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E30-19EA-4075-A880-D4B39C2ABB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574F-23E2-4E91-B318-E86BA8C81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crrinfo@erco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hyperlink" Target="mailto:crrinfo@ercot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crrinfo@ercot.com" TargetMode="External"/><Relationship Id="rId2" Type="http://schemas.openxmlformats.org/officeDocument/2006/relationships/hyperlink" Target="http://nodal.ercot.com/readiness/eds3/documents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1920" y="1905120"/>
            <a:ext cx="69152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7.3: Mock Monthly Allocation/Au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ructured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ek 3 instruc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3790800"/>
            <a:ext cx="63435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S 3 Release 7 (CR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2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E5FBF93-5630-42CA-93EE-A8DCA0A88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5&amp;6. screenshot – how to create a bilateral trade posting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9079" r="0" b="14774"/>
          <a:stretch/>
        </p:blipFill>
        <p:spPr>
          <a:xfrm>
            <a:off x="457200" y="1495440"/>
            <a:ext cx="8229600" cy="3597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591240" y="3828960"/>
            <a:ext cx="809640" cy="46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10160" y="3781440"/>
            <a:ext cx="571680" cy="324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E3C4-79BC-4D47-A68D-B43EB472564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ACDEF2-232F-4ADC-953A-D74F6AD5D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5&amp;6. screenshot – how to create a bilateral trade posting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3435" t="12132" r="3973" b="15660"/>
          <a:stretch/>
        </p:blipFill>
        <p:spPr>
          <a:xfrm>
            <a:off x="109440" y="1376280"/>
            <a:ext cx="8991720" cy="4025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3048120"/>
            <a:ext cx="914400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D87E-1DB7-4AD3-9CB9-D690DDB2DE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A487C1-94B7-497E-861C-569F546B1F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5&amp;6. screenshot – how to accept a bilateral trade posting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413" t="13785" r="4906" b="16618"/>
          <a:stretch/>
        </p:blipFill>
        <p:spPr>
          <a:xfrm>
            <a:off x="0" y="846000"/>
            <a:ext cx="9144000" cy="5316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86280" y="5610240"/>
            <a:ext cx="106668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1040" y="2124000"/>
            <a:ext cx="106668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67560" y="1257480"/>
            <a:ext cx="106668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48F2-D7E9-435A-AB2B-0D811762064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5E2B7F-386F-48B2-9CB9-BA3869DB1B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vea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 with Source/Sink download recently identified.  Analysis is ongo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earing price information in common or private download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B40A-061B-4B95-85B2-5F9542E554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8834E-C53D-4CAA-89FF-C568184B4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ssue submission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ny issues arise during R7, please send email t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rinfo@ercot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info bel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 DUNS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used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eenshot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issue occurred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s to reproduce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Matter Expert (SME) support will be available during workshop days (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business ho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internal testing will occur in parallel with R7 testing activities. ERCOT will communicate known defects whenever possible, and log any previously unknown defects reported by participant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DA9C-B8BC-4664-8F00-B1204B1792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7D907-9370-4E09-96A8-F774697CEC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ing up - R7.4: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ructured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 Black"/>
              </a:rPr>
              <a:t>annual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allocation/auc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81040" y="787320"/>
            <a:ext cx="5676480" cy="3412800"/>
            <a:chOff x="581040" y="787320"/>
            <a:chExt cx="5676480" cy="34128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81040" y="888840"/>
              <a:ext cx="5676480" cy="33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rcRect l="0" t="0" r="0" b="94319"/>
            <a:stretch/>
          </p:blipFill>
          <p:spPr>
            <a:xfrm>
              <a:off x="581040" y="787320"/>
              <a:ext cx="5676480" cy="11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8572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Objectiv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COT conducts mock 24-month allocation (NOIEs submit self-created nominations)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COT conducts mock 24-month auction (CRR AHs submit self-created bids; NOIE offers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 assign credit limit to CRR market; CRR AH submits self-imposed credit lim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R AHs bilaterally trade CR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Exit Criteri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ub-release is complete when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allocation successfully optimizes all submitted nomination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ction successfully optimizes all submitted bids/offers within required time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ction results are successfully downloaded by CRR AHs who wish to view the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*Completion of this sub-release will meet </a:t>
            </a:r>
            <a:r>
              <a:rPr b="1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Market Readiness Criteria CRR3</a:t>
            </a: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– Operation of Monthly CRR Auction and Allocation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91040" y="4919760"/>
            <a:ext cx="313884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Completion of this sub-release will mee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rket Readiness Criteria CRR5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– Operation of Annual CRR Auction and Al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58080" y="888840"/>
            <a:ext cx="2971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*Note: there is 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no scheduled activity next week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(1</a:t>
            </a:r>
            <a:r>
              <a:rPr b="1" lang="en-US" sz="1400" spc="-1" strike="noStrike" baseline="30000">
                <a:solidFill>
                  <a:srgbClr val="009999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week of R7.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is time is set aside for MPs if they would like 1-on-1 time with an ERCOT SME to clarify questions concerning R7.1-R7.3 or R7.4 (CRR annual auc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Email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rinfo@ercot.co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 to schedule time with S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1066680"/>
            <a:ext cx="3632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*No scheduled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1800" y="1066680"/>
            <a:ext cx="8542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7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ick-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9337-852C-474F-871A-CF909C16C8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740D8D-FE93-48E5-8E8E-412DFA9284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ble of cont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7.3: week 3 schedule &amp; test 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 sub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ing up - R7.4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B1B1-2891-449C-8720-C030285952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9C382E-5165-490C-9ABC-8273300A80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70000" contrast="-70000"/>
          </a:blip>
          <a:srcRect l="0" t="5696" r="0" b="0"/>
          <a:stretch/>
        </p:blipFill>
        <p:spPr>
          <a:xfrm>
            <a:off x="152280" y="776160"/>
            <a:ext cx="8591760" cy="3767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7.3: week 3 schedule and test scrip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06280" y="1133640"/>
            <a:ext cx="13464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R7.2 overvie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974880"/>
            <a:ext cx="2762280" cy="69192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NOIEs: Submit nomin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**submission window en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Mar 13th 11:59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6920" y="2386080"/>
            <a:ext cx="1346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Overview of wee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ctivities 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6920" y="3683160"/>
            <a:ext cx="1346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verview of wee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ctivities 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1000" y="2233440"/>
            <a:ext cx="2752920" cy="68112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ll: Submit bids (&amp; SIC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**submission window en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Mar 20</a:t>
            </a:r>
            <a:r>
              <a:rPr b="1" i="1" lang="en-US" sz="11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 11:59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89600" y="1004760"/>
            <a:ext cx="1346400" cy="8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Discuss PCRR &amp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MCFRI alloca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results; revie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ctivities/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25760" y="2233440"/>
            <a:ext cx="1352520" cy="70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ll: Downlo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pre-auction inf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(OPTIONAL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80240" y="2395440"/>
            <a:ext cx="1346040" cy="6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Review activit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nd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35120" y="3529080"/>
            <a:ext cx="1343160" cy="94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Downlo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uction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amp; invoice (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3519360"/>
            <a:ext cx="2752560" cy="95724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Initiate and acce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bilateral tra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70520" y="3654360"/>
            <a:ext cx="1346400" cy="69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7.3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34040" y="4659480"/>
            <a:ext cx="45720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est scripts for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R7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1. Download pre-auc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2. Submit bid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3. Submit Self-Imposed Credit Limit (SI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Download auction market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. Create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. Accept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000" y="4573440"/>
            <a:ext cx="4572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Test scripts for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eligible NOIEs only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. Submit PCRR nom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b. Download PCRR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Test script for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McCamey WGRs only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. Download MCFRI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Test script for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Counter Parties (CP)* only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  <a:ea typeface="Arial"/>
              </a:rPr>
              <a:t>d. Submit CRR Market Credit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25760" y="2955960"/>
            <a:ext cx="4174920" cy="28404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CP: submit credit lim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41600" y="1735200"/>
            <a:ext cx="4041720" cy="27936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(Latecomers only) R7.1 catch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3997-1EF3-40B5-8AFB-30A1AEDCBF0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6A2EE1-3693-4A98-8AA5-402ABD29E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4. Download auction resul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799920"/>
            <a:ext cx="8229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**Run this test script on 3/25/08 onwar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Download Reports”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Downloads”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R7.3 auction 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-&gt; “Market result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ype -&gt; Au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erm -&gt; Month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-&gt; EDS 7.3 A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d – do NOT send this information to ERC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send any questions to 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crrinfo@ercot.com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94080" y="2549520"/>
            <a:ext cx="5114880" cy="1751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6: Downloads Manager (Page 37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Download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304800" y="21812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E222-FCB5-4DD6-BBA6-DB438AE755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8511D3-8486-455D-A212-86D2A4803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4600" y="685800"/>
            <a:ext cx="7113600" cy="5707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4. screenshot – how to download auction results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71680" y="3670200"/>
            <a:ext cx="59688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4600" y="2057400"/>
            <a:ext cx="609588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8E3C-E623-4BDE-942E-95AA122DDD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D11F88-464C-4A1C-A087-F37F733D9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5 &amp; 6. Create/accept a buy or sell bilateral trade posting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799920"/>
            <a:ext cx="86868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**Run this test script on 3/26/08-3/27/08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View Bilateral Market”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Bilateral Market”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in R7.2, initiate a buy or sell bilateral trade pos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no bilateral trades assigned in R7.3 – CRR AH decides who/what to t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des can be “private” (target to another CRR AH) or “public” (all other CRR Ahs can view 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 using real contact information (so CRR AHs can communicate with one ano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in R7.2, accept a buy or sell bilateral trade pos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C485-5399-4BAE-882A-6BB39AB118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0EBA69-80DD-4DD9-909A-19BB598FA2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5&amp;6. screenshot – how to view bilateral market screen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0730" t="20062" r="13733" b="14027"/>
          <a:stretch/>
        </p:blipFill>
        <p:spPr>
          <a:xfrm>
            <a:off x="749160" y="1341360"/>
            <a:ext cx="7353360" cy="4595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73080" y="2965320"/>
            <a:ext cx="1325520" cy="222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5873-A0A4-4329-9655-6BFB72D566A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33AE18-0D65-48A9-A9FE-473E40E5F4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5&amp;6. screenshot – how to create a bilateral trade posting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2961" t="13785" r="2961" b="13785"/>
          <a:stretch/>
        </p:blipFill>
        <p:spPr>
          <a:xfrm>
            <a:off x="304920" y="914400"/>
            <a:ext cx="8534160" cy="5086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58040" y="1266840"/>
            <a:ext cx="107640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63040" y="4048200"/>
            <a:ext cx="107604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67360" y="5038560"/>
            <a:ext cx="1076400" cy="40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638600"/>
            <a:ext cx="615312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972-C704-45F5-93D2-76E4D463069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FA792-D903-45F6-98B9-F613B03AF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[5&amp;6. screenshot – how to create a bilateral trade posting]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12108" r="51908" b="18052"/>
          <a:stretch/>
        </p:blipFill>
        <p:spPr>
          <a:xfrm>
            <a:off x="138240" y="1176480"/>
            <a:ext cx="8867520" cy="51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848120"/>
            <a:ext cx="5257800" cy="40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67600" y="5048280"/>
            <a:ext cx="101916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3440" y="5610240"/>
            <a:ext cx="106704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814B-F4E7-43B1-8887-BAADBF7FDEA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69CB2-D4A2-48AB-9E55-1E63A0CB1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reedy</cp:lastModifiedBy>
  <dcterms:modified xsi:type="dcterms:W3CDTF">2008-03-24T19:57:56Z</dcterms:modified>
  <cp:revision>736</cp:revision>
  <dc:subject/>
  <dc:title>Texas Nodal Market Implementation ERCOT Board of Directors Meeting Budget Rationale October 17, 2006  Kathy Hager, Market Redesign Program Director </dc:title>
</cp:coreProperties>
</file>