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D369-6E5F-473F-A1C6-CD5B448C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ED23-B305-4418-9C75-41DC4FB7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4C43-B62E-425E-85EB-D7EC604E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3A08-6EC7-4FB0-8D96-C772C9A3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D5C4-284B-4793-855D-73606BB9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D37B-AA68-4120-95CE-F6874FFC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295B-55F8-4F42-AA12-6013EA13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034F-CD74-4E45-ABE4-F8206C39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256D-59CD-4ED7-A4C2-285602B0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D3D3-4CE5-4A1C-855A-47C249F6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3C9D-D9FE-4ECC-A167-4A83FAF2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FFD5-9138-40FB-8394-424880F6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BE22-F891-4ABC-8D35-2C475B66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7C16-A858-4922-8267-AFA7BEAE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14D0-8BC3-4E3C-9847-DCCF2C51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3435-CCDF-4099-B54E-7B8AF166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EF6C-2094-400A-B8EE-1C8535CE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1802-E6CB-483C-B4FC-62AB134F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22C4-A31F-4DD5-9B72-9C13508E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72CF-E694-4FD4-878F-3BCAF7B3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C13A-6AA9-4702-A182-7DDDE7AA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E8A4-EE21-44EC-881D-DCB02431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D69B-993F-4B7C-9C73-BDB13EB9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0B90-2027-4A7B-8AF5-8B6DC090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9B28-5E0B-43E6-A2AC-34B4C9ABD2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4B71-7CD5-4E29-A2B4-763A26BDAA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PTF Verifiable Cost Sub-group Summar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l Rep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/xx/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im Galvin- TPTF VC Sub-group Ch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rospective and Voluntary- (Principle 8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827360"/>
            <a:ext cx="81536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oup agreed that the process was prospective and that only anomalous events would be considered under “Exceptional Events” for cost recove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rrent protocols reference a single RUC event as the trigger for a resource entity to be required to submit Verifiable Co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C group recommends that the trigger of the mandatory submittal for Verifiable Costs be 5 RUC ev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mendation relaxes the restriction for resources that are RUC’d infrequently and reduces the administrative burden on those entities and on ERC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ther Issues- CCP’s and SGR’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827360"/>
            <a:ext cx="76201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d Cycle Plants may submit Verifiable Costs by registered configu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ies must submit for any configuration that meets the RUC trig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lit Generation Resources may submit individually or through a Management Q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GR’s may submit by set percentages that may differ from percentage of ownershi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may require all owners of SGR’s to submit costs if the assignment of cost to the unit cannot be verifi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on-consensus Item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827360"/>
            <a:ext cx="79246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Purchase Agreements, arguments for and against included, but not limited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ities represented that PPA’s are a realized cost to the QSE to operate the resource in ERCOT and should be included in the VC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Markets do include these elements as a form of Verifiable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ities opposed indicated the difficulty in managing and verifying that these are true incremental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rns expressed in having PPA’s set up to raise cost lev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nsensus from the Sub-group; however, we have encouraged the supporters of including PPA’s to continue discussions with WMS and/or TPT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827360"/>
            <a:ext cx="79246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 on Emissions rate using Index or Histor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 of “Exceptional Events” and defining a cost recovery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with ERCOT Staff to develop an implementation p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RR’s needed to clarify issues vetted and resolved in the VC Sub-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Report to TPTF and W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additional “To Do’s” for the VC Sub-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71800" y="2895480"/>
            <a:ext cx="29718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ces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1827360"/>
            <a:ext cx="769284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C Sub-group drafted a set of 9-principles to guide the discus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principles identified multiple issues for which the group discussed resolv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issues that received  consensus are brought forth from the group to identify as res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oup will report on items that did not receive consens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’s report summarizes the group’s find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1532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tart-up and Minimum Energy- (Principle 1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1827360"/>
            <a:ext cx="769284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iable Start-up and Min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ing Costs from Breaker Close to LSL (resolv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ing Shut-down Costs in Start-up (resolv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ing Start Costs when RUC is cancelled (by ERCOT) and Cost recovery during S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are occurrences will be noted in Protocols and cost recovery through dispute proc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Auxiliary Equipment for Start-up (resolv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Incremental Heat Rate- (Principle 2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827000"/>
            <a:ext cx="80010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iable Incremental Heat 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monotonically non-decreasing Incremental Heat Rate Curve (resolv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ual System design will change a decreasing curve in MMS, setting a segment of the curve that is less than the previous segment, equal to that previous seg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verification of the Incremental Heat Rate, the submitting entity may utilize data from a Heat Rate Test, or Historical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ariable O&amp;M (Principle 3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827000"/>
            <a:ext cx="80010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iable O&amp;M Co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-year requirement for data/evidence of 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or submitting entities who do not have 10-years worth of data, they may submit all the history they ha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tion rate will utilize the Handy-Whitman Ind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nual will reference types of Verifiable O&amp;M; however, submitting entities will have the ability to submit O&amp;M costs based on their formats and data sources (extremely difficult to create a O&amp;M standard across the marke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C Sub-group agrees with ERCOT in having a stakeholder group track O&amp;M types and/or issues over the course of the Nodal Mark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isk by Resource Owners- (Principle 4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ual Principle that was define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re is a level of risk that Resource owners take in the recovery of Start-up and Minimum Energy costs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discussions centered around that there will be days when a Generator recovers costs and days when they may n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arket participants requested that this Principle is not appropriate and is contrary to Principle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ystematic or procedural issues were brought up under this Princi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ake Generators Whole at Min Cost to Load (Principle 5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ver-riding theme throughout all discus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issues were presented under this Princi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Use of FIP and FOP (Principle 6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pricing for fuel using Fuel Index Price and Fuel Oil Price was agreed upon by the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ions around fuel costs during exceptional events, such 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balance F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ng 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t Gas (gas purchased at close of Day Ahead that diverges significantly from Inde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C Group agrees that cost recover mechanism will be needed for “Exceptional Events” that significantly harm a resource ent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al Events will also have to be def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missions Costs- (Principle 7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1827360"/>
            <a:ext cx="769284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tting entities may submit verifiable incremental emissions costs for Start-up and Minimum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emissions costs were included in discus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items around emis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pplicable rate for emissions costs was discussed as using Index or historical costs to come up with a $/MWh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concern expressed about discussing opportunity costs as they are more complex than incremental historical 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5:41:07Z</dcterms:created>
  <dc:creator>Registered User</dc:creator>
  <dc:description/>
  <dc:language>en-US</dc:language>
  <cp:lastModifiedBy>Registered User</cp:lastModifiedBy>
  <dcterms:modified xsi:type="dcterms:W3CDTF">2008-03-10T22:50:00Z</dcterms:modified>
  <cp:revision>22</cp:revision>
  <dc:subject/>
  <dc:title>DEWG Meeting Summary</dc:title>
</cp:coreProperties>
</file>