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A2653-25F3-4989-997D-509A70896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47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.505 (g) (6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ystem-wide offer caps shall be as follow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47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47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w system offer cap (LCAP) shall be set on a daily basis at the higher of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47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500 per MWh and $500 per MW per hour; 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47680" indent="-247680">
              <a:spcBef>
                <a:spcPts val="451"/>
              </a:spcBef>
              <a:buClr>
                <a:srgbClr val="000000"/>
              </a:buClr>
              <a:buFont typeface="Arial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times the daily Houston Ship Channel gas price index of the previous business day, expressed in dollars per MWh and dollars per MW per ho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47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47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ning March 1, 2008, the HCAP shall be $2,250 per MWh and $2,250 per MW per ho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47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ning  two months after the opening of the nodal market, the HCAP shall be $3,000 per MWh and $3,000 per MW per ho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D179-4463-400B-B7C9-66D9FDCBF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54C6-DC89-40AF-BF16-8186D3D0C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F9F3-1152-41CB-8EA5-CC89C7E7B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1E3F-75DB-473A-A34B-4FAF0430A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1CEC-FC3B-4A5D-80A3-E9CD536BB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9CF9-3B7F-405F-B042-194F611F4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40EF-692F-4287-A476-F70A1F8CF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DE1C-0A1E-447C-8C71-C24FAB9E7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838188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74F9-8EEA-41F6-9A21-F04C6AE3D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F08B-A266-4A3F-8FBD-C48DDA7D6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C0F5-EE4F-4F96-9A2C-855DE7526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640C-A054-47A6-B7BD-DD58D086C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85AD5-0B74-4AE5-956F-40AADE9B6E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5737320"/>
            <a:ext cx="1447920" cy="1120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gestion Management Work Group Up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ed to WMS 3-19-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guerite Wagner, Reliant Energy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08 Acti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etitiveness Constraint Test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dal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dow Price Cap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SCs for 2009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 Competitiveness Test (CC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o determine mitigation in RT S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energy offers in SCED are subject to Offer Caps and Floors in PUCT Rule 25.505 and the Protoc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ED Texas Two Step uses Energy Offers to dispatch energy to serve load and solve cong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y Offers used to solve congestion on competitive constraints are not mitigated through S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y Offers used to solve congestion on non-competitive constraints are mitigated under Protocols 4.4.9.4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ication of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petitive Constra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tion 3.19 of the Nodal Protocols describes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evaluates capacity availability and concentration of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 is competitive if there are sufficient Generation Resource MW to resolve constraint, controlled by a sufficient number of different Q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MWG will work with ERCOT t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process used to set up base case for CCT annual eval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sure that QSE - Resource mappings are up to date so that the Resource ‘control’ can be identif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list of potential Competitiv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line Now-Sum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stop for C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stop: CSCs are deemed to be competitive 3.19(1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determine CSCs for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line: late Summer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ing may require PRRs to amend timeline for CSC deter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al Protocols (Section 7.2) requi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analysis complete: 8/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Cs &amp; CREs determined by 11/1 (means Oct TAC &amp; BO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y will not have analysis done by 8/1, targeting 9/1 with CMWG consideration early Sept and Sept W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dal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dow Price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ocols 6.5.7.1.11 require ERCOT to “establish a maximum Shadow Price for each constraint…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contingency used in SCED must have a max SP c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WG will develop proposals for how to establish SP cap and bring to WMS for consideration and recommendation to T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rget completion of draft by start of 168 hr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C approval by Oct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ept WMS consid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14:19:45Z</dcterms:created>
  <dc:creator>Reliant-mw</dc:creator>
  <dc:description/>
  <dc:language>en-US</dc:language>
  <cp:lastModifiedBy>Reliant-mw</cp:lastModifiedBy>
  <dcterms:modified xsi:type="dcterms:W3CDTF">2008-03-18T18:08:37Z</dcterms:modified>
  <cp:revision>8</cp:revision>
  <dc:subject/>
  <dc:title>Congestion Management Work Group Update</dc:title>
</cp:coreProperties>
</file>