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245C-AE75-4C7F-9128-15F1EA35E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C69C-9E27-487F-B3FD-6E2C314A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1E535-52E4-4458-8A18-69696F94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A151-0DE9-4D90-94DE-83A7CCDA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4EED-7D47-49AF-AE3E-23579C7C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A73A6-78D4-4D9E-937D-E0CE7960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E355D-6430-437D-8B5F-4ED4047C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2C73D-83F5-4A9D-8568-E90B4161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8821EA-B560-48D3-A08D-1E06C3F7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9C877-B821-424E-9E50-0A1BF033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345F-7EFE-4A49-BF1F-9A077913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A26F7-2903-497B-80E4-300A3C23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D1DF5-DAF6-41E0-B8C1-2617AB34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88158-49C9-415B-8B5F-F048137B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E2C63-93AC-42B9-BFBB-02D14003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F21C0-0EE1-4390-B2EF-B3336085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6CD0A-25E7-4C32-B685-61CE2D0E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CE532-A351-4841-A76A-4E66451B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2431-0901-4ACB-A816-10CE9DE5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3B30-7003-430B-8202-48EA7F2C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05EE-6553-4434-BF46-9FD0F170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9AD3-AEA7-44A7-A1AA-944B8C7E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19A8-9275-402E-AC43-F43F02B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56BE-938B-4275-9F7E-4450ABD3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0CBD-3DBA-44BC-8D5C-E3414E37A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572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C52D-01C8-4E40-B8F4-DAEA76ABD1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6628-A5DB-422C-9AB4-55BC478E9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496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4960" y="5466960"/>
            <a:ext cx="627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43240" y="5067360"/>
            <a:ext cx="6278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2028-4532-4D12-AC6D-1D2DDCF384A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61A2-B7E3-4F14-8EC8-9DF7D8B90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24160" y="2247840"/>
            <a:ext cx="5791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Texas Nodal Market Implementation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Data Center Data Migr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1920" y="1905120"/>
            <a:ext cx="691524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7.3: Mock Monthly Allocation/Auc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Black"/>
              </a:rPr>
              <a:t>Un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ructured)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 update (week 1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99840" y="3790800"/>
            <a:ext cx="634356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S 3 Release 7 (CRR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ch 1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2008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0D55BAE-B23A-444B-A02C-F1DE3E2BE8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able of conten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on R7.2 auction 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 of R7.3 activity – week 1 (PCRR/MCFRI allocation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ussion on PCRR and MCFRI allocation result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 iss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xt week: credit limits (NEW!) and MP-created bid submis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0343-3C9D-48FF-9057-E31C947C58C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EB0F4D-7C7E-4012-9F9C-3CCC22E6CF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pdate on R7.2 auction resul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results are pos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me discussion next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8D43-4263-4908-8993-32241301C84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7F0E0B-59C2-4494-9B8A-9878FE42F8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tus of R7.3 activity – week 1 (nominations)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804960"/>
            <a:ext cx="600084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8 participants successfully submitted self-created PCRR nomination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Times New Roman"/>
              </a:rPr>
              <a:t>(89% participa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azos Electric Power Co Op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yan Texas Ut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ity of Austin dba Austin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ity of Garl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PS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EU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 Colorado River Autho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uth Texas Electric Coopera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3120" y="895320"/>
            <a:ext cx="2809800" cy="1638360"/>
          </a:xfrm>
          <a:prstGeom prst="rect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 new participants completed R7.1 catch-up activity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participants completed R7.1 = 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8014-6F7A-4DE5-B62A-8A80C7B88A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15F422-F2DA-44A6-AEEE-55795519C7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iscussion of PCRR and MCFRI allocation result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45A3-F531-4979-9C9E-B9E02A0C80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9C8E8E-EACF-463F-BB72-30902CE7CC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ral issue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dow Price didn’t show up in the repo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will provide shadow price information in EDS 7 documentation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wgate Ratings are being swapp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ndor is working on this iss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“Save Portfolio” error is fixed in the installed releas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15A3-CFED-451E-A8C9-0BD9257A86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34CDFA-E25F-48B5-9D62-3472D9ADB6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>
            <a:lum bright="70000" contrast="-70000"/>
          </a:blip>
          <a:srcRect l="0" t="5696" r="0" b="0"/>
          <a:stretch/>
        </p:blipFill>
        <p:spPr>
          <a:xfrm>
            <a:off x="152280" y="776160"/>
            <a:ext cx="8591760" cy="376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ext week: credit limits (NEW!) and MP-created bid submissions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206280" y="1133640"/>
            <a:ext cx="134640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R7.2 overview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&amp; dem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974880"/>
            <a:ext cx="2762280" cy="69192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NOIEs: Submit nomin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aeaea"/>
                </a:solidFill>
                <a:latin typeface="Arial"/>
              </a:rPr>
              <a:t>**submission window end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eaeaea"/>
                </a:solidFill>
                <a:latin typeface="Arial"/>
              </a:rPr>
              <a:t>Mar 13th 11:59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6920" y="2386080"/>
            <a:ext cx="134604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Overview of wee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ctivities &amp; dem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6920" y="3683160"/>
            <a:ext cx="1346040" cy="53316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Overview of week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activities &amp; dem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51000" y="2233440"/>
            <a:ext cx="2752920" cy="68112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ll: Submit bids (&amp; SIC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Arial"/>
              </a:rPr>
              <a:t>**submission window end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0000"/>
                </a:solidFill>
                <a:latin typeface="Arial"/>
              </a:rPr>
              <a:t>Mar 20</a:t>
            </a:r>
            <a:r>
              <a:rPr b="1" i="1" lang="en-US" sz="11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i="1" lang="en-US" sz="1100" spc="-1" strike="noStrike">
                <a:solidFill>
                  <a:srgbClr val="ff0000"/>
                </a:solidFill>
                <a:latin typeface="Arial"/>
              </a:rPr>
              <a:t> 11:59P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89600" y="1004760"/>
            <a:ext cx="1346400" cy="88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Discuss PCRR &amp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MCFRI alloca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results; review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activities/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25760" y="2233440"/>
            <a:ext cx="1352520" cy="709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ll: Downlo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pre-auction inf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(OPTIONAL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80240" y="2395440"/>
            <a:ext cx="1346040" cy="67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Review activitie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and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5120" y="3529080"/>
            <a:ext cx="1343160" cy="94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All: Downlo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auction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&amp; invoice (?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3519360"/>
            <a:ext cx="2752560" cy="957240"/>
          </a:xfrm>
          <a:custGeom>
            <a:avLst/>
            <a:gdLst>
              <a:gd name="textAreaLeft" fmla="*/ 0 w 2752560"/>
              <a:gd name="textAreaRight" fmla="*/ 2752920 w 275256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All: Initiate and accep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bilateral tra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70520" y="3654360"/>
            <a:ext cx="1346400" cy="69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R7.3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34040" y="4659480"/>
            <a:ext cx="45720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Test scripts for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R7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Download pre-auction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Submit bid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72f"/>
                </a:solidFill>
                <a:latin typeface="Arial"/>
                <a:ea typeface="Arial"/>
              </a:rPr>
              <a:t>3. Submit Self-Imposed Credit Limit (SIC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4. Download auction market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5. Create a sell/buy bilateral trade po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6. Accept a sell/buy bilateral trade po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7000" y="4573440"/>
            <a:ext cx="457200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Test scripts for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eligible NOIEs only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. Submit PCRR nom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b. Download PCRR allocation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Test script for </a:t>
            </a: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McCamey WGRs only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c. Download MCFRI allocation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Test script for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Counter Parties (CP)* only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d. Submit CRR Market Credit 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25760" y="2955960"/>
            <a:ext cx="2635200" cy="28404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284040"/>
              <a:gd name="textAreaBottom" fmla="*/ 284040 h 28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cc99"/>
                </a:solidFill>
                <a:latin typeface="Arial"/>
              </a:rPr>
              <a:t>CP: submit credit lim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41600" y="1735200"/>
            <a:ext cx="4041720" cy="279360"/>
          </a:xfrm>
          <a:custGeom>
            <a:avLst/>
            <a:gdLst>
              <a:gd name="textAreaLeft" fmla="*/ 0 w 4041720"/>
              <a:gd name="textAreaRight" fmla="*/ 4042080 w 40417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eaeaea"/>
                </a:solidFill>
                <a:latin typeface="Arial"/>
              </a:rPr>
              <a:t>(Latecomers only) R7.1 catch-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6273720"/>
            <a:ext cx="2681280" cy="41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3280" indent="-2332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*ERCOT will email CP digital certificates to MP USA by 3/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978280" y="6011640"/>
            <a:ext cx="0" cy="23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7DC4-7C11-408C-81AD-EA780D266C7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121F08-8BB2-4C55-8E94-1AEAA677A0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reedy</cp:lastModifiedBy>
  <dcterms:modified xsi:type="dcterms:W3CDTF">2008-03-14T16:44:25Z</dcterms:modified>
  <cp:revision>716</cp:revision>
  <dc:subject/>
  <dc:title>Texas Nodal Market Implementation ERCOT Board of Directors Meeting Budget Rationale October 17, 2006  Kathy Hager, Market Redesign Program Director </dc:title>
</cp:coreProperties>
</file>