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6D98-0F53-40DC-B95E-3A2710E1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6143-0601-4B54-B9AA-AB3B859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EBF9-00DB-451C-B1EE-3ED398F9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BA9F-C238-450A-9FF9-D8435070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CDDF-46B9-4635-99B7-4F26726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1C62-06F0-4547-B622-9254769A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BAB2-CD21-4FC3-9D9F-3D6D2CB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DF5E-A61B-4990-9315-1DB6CE46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2CB6-992D-47D8-B09E-D7839F08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9500-D194-4B36-BF48-8F353E4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641D-97E5-4C83-9921-8E9922E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8F03-69BD-4E07-B3AF-554B7CD5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C40-76FF-4B28-A178-BEDE80FF7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3B2-455E-40C1-9DDE-FCCD614BD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20,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ject 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1683-598D-475A-8155-4DE015A07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 -  2009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Project Prioritization Schedule - 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revise 2009 Initiative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bruary 14 / Februar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rch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13 / March 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rch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ril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3C6D-CCB1-40A6-A84C-22EE8BAD80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 Project Approval Status by Program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5 lists have been reviewed and approved by ERCOT Strategic Review Team (SRT) and Executive Committee (E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to change at 3/17 E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to change at 3/17 E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and approved by COPS on 3/11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 by RMS on 3/12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ied by ROS on 3/13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didn’t formally approve the list – they think it is premature to estimate the post-Nodal effort and fear the recommended funding might not be su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did not identify any efforts to be added to the 2009 li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 did not identify any projects on the list that are not impor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d for review by WMS on 3/19/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5E77-76F9-4BB5-ACAB-F7353D7169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Budgets and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8077320" cy="343044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09 Pro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2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– Met C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5,6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94BE-D49A-4581-B9A8-622A796A10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Budget History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496880"/>
          <a:ext cx="7924680" cy="3411720"/>
        </p:xfrm>
        <a:graphic>
          <a:graphicData uri="http://schemas.openxmlformats.org/drawingml/2006/table">
            <a:tbl>
              <a:tblPr/>
              <a:tblGrid>
                <a:gridCol w="990360"/>
                <a:gridCol w="2132280"/>
                <a:gridCol w="1601640"/>
                <a:gridCol w="1600200"/>
                <a:gridCol w="160020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Budget Requ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72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2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8,4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,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8,3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4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7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4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1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2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3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7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6,7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l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  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5,3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21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10,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5,6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27,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44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34,3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495680" y="1515960"/>
            <a:ext cx="344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vious Year Budg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18148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Portion of Nodal project funded by Zonal as approved by the Board in 200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9DB2-BDB6-4835-B718-3E14BCCC5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Notes by Program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22.0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multi-year project to replace the Met C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$20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by Board of Directors in Feb.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projects limited to most critical nee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$ 2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8.35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ing up with computing infrastructur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4.3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unding request for post-Nodal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3.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funding request compared to previous years (but in line with prior year actual spe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projects in support of PUCT rulemak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$7.5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unding request for post-Nodal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funds for implementing functionality that will be developed by the Nodal team in 2008 but won’t be included in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F973-74FF-4FB5-B62E-35DB3CEE8E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Project Priority List / Funding Level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 Project Prioritization – Additional Com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budgeted $12.5M for Nodal stabilization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fund O&amp;M efforts to resolve post-Go-Live Nodal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2009 ERCOT budget is not yet complete and 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 complet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document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$27.4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document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$18.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O is working to reduce the limited documentation amount prior to final Board and PUCT consid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act of the Met Center Disposition project on the System Admin Fee is not yet known because various financing options are being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reported previously, the project lists will be revisited later in 2008 to complete remaining documentation, consider new additions to the lists, and reprioritize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98C4-E9A9-43D1-974C-1AA42889C5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8-03-14T16:18:59Z</dcterms:modified>
  <cp:revision>188</cp:revision>
  <dc:subject/>
  <dc:title>Instructions</dc:title>
</cp:coreProperties>
</file>